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camera.wav" ContentType="audio/x-wav"/>
  <Override PartName="/ppt/media/type.wav" ContentType="audio/x-wav"/>
  <Override PartName="/ppt/media/projctor.wav" ContentType="audio/x-wav"/>
  <Override PartName="/ppt/media/chimes.wav" ContentType="audio/x-wav"/>
  <Override PartName="/ppt/media/cashreg.wav" ContentType="audio/x-wav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9C4B-5888-4A2E-8A4D-E95895D5F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78487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750840"/>
            <a:ext cx="78487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B1D3-38F4-487B-A3E5-06D247FC8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5052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2CB0-A69A-4D94-B438-47D94BDE8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82520" y="68580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36440" y="68580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75084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82520" y="375084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36440" y="375084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214E-4F93-4228-BF1D-36D03A66A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E8AB6-8693-45C1-88DF-64F313EBC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F41F4-3786-4267-B7C7-3C30149A6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DA25A-BEC9-472C-A1EA-29467217C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077B0-F9CA-4C6E-A21E-2424B13EE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4828D-FDC7-4448-BF5C-26C4DEABD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78487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C9740-1ADE-46D3-BAFC-93712CDD2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DEEF0-201A-4117-BD5B-ED55B806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4772-AC68-4BD3-9B68-044085FFD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25052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D58DF-34A6-4C59-B858-FF1812BF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750840"/>
            <a:ext cx="78487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2B973-08E6-46E8-89A7-0160E009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78487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750840"/>
            <a:ext cx="78487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3A59C-908D-413A-8BBA-BFF6A8F52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25052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1854E-2921-4F08-B681-B64097322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882520" y="68580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536440" y="68580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75084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882520" y="375084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536440" y="375084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253CD-E4D9-4C14-9D8E-39C02B2E7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573A3-0848-445C-80F8-D8D41C09D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691EE-2717-41A5-8D48-032B82D8B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2B192-DFB7-4BE1-9E53-6E4297736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2DD01-B9CB-41B2-BDB3-D96B46EF7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70D79-876A-4D38-8DD3-29C85C5F8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1582-752B-449E-B6FB-468C6EB6F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78487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44D3F-25D2-4A7A-BFF2-3FAA0E001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92A1C-E489-431E-A725-24135385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25052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6A10D-9E44-480F-B215-0EBA45D6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3750840"/>
            <a:ext cx="78487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48683-BBFF-4E4A-A59E-E4B9B166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78487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3750840"/>
            <a:ext cx="78487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D2884-3345-4024-8BDE-0F5B49592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25052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8C302-AADF-4A61-8410-0B3F37491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882520" y="68580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536440" y="68580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375084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2882520" y="375084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536440" y="375084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5FECA-ABAE-4B48-B00A-D70070A65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C08E-0E73-4AAC-B88F-59BF70A23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E66E-A64B-466F-A6B7-82382840E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78487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FB60-002D-4CF6-92FF-F3B52DBFD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2510-92E6-4DE1-9444-37916152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5052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1459-D2A1-4AB5-9E06-287EBB1C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750840"/>
            <a:ext cx="78487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1037-C594-4E84-9C23-28D9EFB0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Franklin Gothic Medium"/>
              </a:rPr>
              <a:t>Click to edit the title text format</a:t>
            </a: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80"/>
              </a:buClr>
              <a:buSzPct val="20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SzPct val="20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SzPct val="20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SzPct val="20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SzPct val="200000"/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200000"/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200000"/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85120"/>
            <a:ext cx="2133720" cy="19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1320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1320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42D8E-961C-47CD-A6A4-D763E2BD13B5}" type="slidenum">
              <a:rPr b="0" lang="zh-CN" sz="10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A819A-9BDF-4CCE-A2E7-244FCBD1E39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Franklin Gothic Medium"/>
              </a:rPr>
              <a:t>Click to edit the title text format</a:t>
            </a: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80"/>
              </a:buClr>
              <a:buSzPct val="20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SzPct val="20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SzPct val="20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SzPct val="20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SzPct val="200000"/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200000"/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200000"/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-360" y="661320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61320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009920" y="661320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0808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8134D-3C10-4DAD-8E0E-AB577B31ACAF}" type="slidenum">
              <a:rPr b="0" lang="zh-CN" sz="1000" spc="-1" strike="noStrike">
                <a:solidFill>
                  <a:srgbClr val="80808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shreg.wav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2"/>
          <p:cNvSpPr txBox="1"/>
          <p:nvPr/>
        </p:nvSpPr>
        <p:spPr>
          <a:xfrm>
            <a:off x="1274760" y="1197000"/>
            <a:ext cx="6553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尊重和维护隐私权</a:t>
            </a:r>
            <a:r>
              <a:rPr b="1" lang="en-US" sz="40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PPT</a:t>
            </a:r>
            <a:r>
              <a:rPr b="1" lang="zh-CN" sz="40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课件免费下载</a:t>
            </a:r>
            <a:endParaRPr b="1" lang="en-US" sz="4000" spc="-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24" name="Object 3" descr=""/>
          <p:cNvPicPr/>
          <p:nvPr/>
        </p:nvPicPr>
        <p:blipFill>
          <a:blip r:embed="rId1"/>
          <a:stretch/>
        </p:blipFill>
        <p:spPr>
          <a:xfrm>
            <a:off x="1203480" y="2565360"/>
            <a:ext cx="6696000" cy="3257640"/>
          </a:xfrm>
          <a:prstGeom prst="rect">
            <a:avLst/>
          </a:prstGeom>
          <a:ln w="0">
            <a:noFill/>
          </a:ln>
        </p:spPr>
      </p:pic>
      <p:sp>
        <p:nvSpPr>
          <p:cNvPr id="12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6"/>
          <p:cNvSpPr/>
          <p:nvPr/>
        </p:nvSpPr>
        <p:spPr>
          <a:xfrm>
            <a:off x="900000" y="2637000"/>
            <a:ext cx="51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黑体"/>
                <a:ea typeface="黑体"/>
              </a:rPr>
              <a:t>甲方：告诉别人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900000" y="342900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黑体"/>
                <a:ea typeface="黑体"/>
              </a:rPr>
              <a:t>乙方：不能告诉别人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395280" y="4292640"/>
            <a:ext cx="5398920" cy="14346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3d4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2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、尊重他人隐私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需要强化责任与信誉意识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1187280" y="1700280"/>
            <a:ext cx="55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隶书"/>
                <a:ea typeface="隶书"/>
              </a:rPr>
              <a:t>展开辩论，阐明理由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3276720" y="765000"/>
            <a:ext cx="2087280" cy="642600"/>
          </a:xfrm>
          <a:prstGeom prst="rect">
            <a:avLst/>
          </a:prstGeom>
          <a:gradFill rotWithShape="0">
            <a:gsLst>
              <a:gs pos="0">
                <a:srgbClr val="ffffff">
                  <a:alpha val="74117"/>
                </a:srgbClr>
              </a:gs>
              <a:gs pos="100000">
                <a:srgbClr val="767676">
                  <a:alpha val="7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教师评解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79280" y="1773360"/>
            <a:ext cx="84600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、尊重他人隐私，需要强化责任与信誉意识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1114560" y="2997360"/>
            <a:ext cx="54734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2001"/>
              </a:spcBef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责任保证个人隐私的安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1114560" y="4071960"/>
            <a:ext cx="54734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2001"/>
              </a:spcBef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信誉体现对他人的忠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7"/>
          <p:cNvSpPr/>
          <p:nvPr/>
        </p:nvSpPr>
        <p:spPr>
          <a:xfrm>
            <a:off x="3121200" y="2832120"/>
            <a:ext cx="86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Times New Roman"/>
                <a:ea typeface="隶书"/>
              </a:rPr>
              <a:t>2</a:t>
            </a:r>
            <a:r>
              <a:rPr b="0" lang="zh-CN" sz="4000" spc="-1" strike="noStrike">
                <a:solidFill>
                  <a:srgbClr val="cc0099"/>
                </a:solidFill>
                <a:latin typeface="Times New Roman"/>
                <a:ea typeface="隶书"/>
              </a:rPr>
              <a:t>、你如何评价薇薇的行为？</a:t>
            </a:r>
            <a:r>
              <a:rPr b="0" lang="zh-CN" sz="2400" spc="-1" strike="noStrike">
                <a:solidFill>
                  <a:srgbClr val="cc00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2291760" y="3894120"/>
            <a:ext cx="4569840" cy="119124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保护公民的隐私权，是道德的呼唤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有助于树立良好的社会道德风尚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0" y="922320"/>
            <a:ext cx="82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薇薇最终告诉了好朋友冰冰，冰冰又告诉了自己的好朋友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6"/>
          <p:cNvSpPr/>
          <p:nvPr/>
        </p:nvSpPr>
        <p:spPr>
          <a:xfrm>
            <a:off x="4319640" y="2151000"/>
            <a:ext cx="86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Times New Roman"/>
                <a:ea typeface="隶书"/>
              </a:rPr>
              <a:t>1</a:t>
            </a:r>
            <a:r>
              <a:rPr b="0" lang="zh-CN" sz="4000" spc="-1" strike="noStrike">
                <a:solidFill>
                  <a:srgbClr val="cc0099"/>
                </a:solidFill>
                <a:latin typeface="Times New Roman"/>
                <a:ea typeface="隶书"/>
              </a:rPr>
              <a:t>、假如你是蔻蔻，你有哪些心理感受？</a:t>
            </a:r>
            <a:r>
              <a:rPr b="0" lang="zh-CN" sz="2400" spc="-1" strike="noStrike">
                <a:solidFill>
                  <a:srgbClr val="cc00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299880" y="1830240"/>
            <a:ext cx="748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“日记教学”，老师要求学生上交自己的日记用来进行教学，以提高学生的写作能力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250920" y="62064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请你判断一下，哪些是尊重他人隐私的行为，哪些不是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249120" y="3502080"/>
            <a:ext cx="741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、李某在实施手术过程中，发现有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名实习医生在观摩自己的手术过程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324000" y="494172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警方对犯罪嫌疑人的住宅电话进行了监听。发现了犯罪事实，法院对其进行了公开审理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24000" y="549360"/>
            <a:ext cx="77040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银行柜台前设置一米线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　　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我们的习惯用语：你多大了？你多重？谈恋爱了吗？每月收入是多少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　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网站将其注册会员的照片、电话号码、家庭住址等信息整理成册卖给某信息公司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　　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因为有人曾将厂里的产品藏在厕所里，所以工厂在厕所安装监视器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　　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警方对犯罪嫌疑人的住宅电话进行监听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　　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进他人房间先敲门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　　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上述行为哪些是尊重他人隐私的行为？哪些是不尊重他人隐私的行为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Franklin Gothic Medium"/>
                <a:ea typeface="华文楷体"/>
              </a:rPr>
              <a:t>二、依法维护隐私权</a:t>
            </a:r>
            <a:endParaRPr b="1" lang="en-US" sz="44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72388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20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华文楷体"/>
                <a:ea typeface="华文楷体"/>
              </a:rPr>
              <a:t>阅读教材</a:t>
            </a:r>
            <a:r>
              <a:rPr b="1" lang="en-US" sz="2400" spc="-1" strike="noStrike">
                <a:solidFill>
                  <a:srgbClr val="3333cc"/>
                </a:solidFill>
                <a:latin typeface="华文楷体"/>
                <a:ea typeface="华文楷体"/>
              </a:rPr>
              <a:t>53</a:t>
            </a:r>
            <a:r>
              <a:rPr b="1" lang="zh-CN" sz="2400" spc="-1" strike="noStrike">
                <a:solidFill>
                  <a:srgbClr val="3333cc"/>
                </a:solidFill>
                <a:latin typeface="华文楷体"/>
                <a:ea typeface="华文楷体"/>
              </a:rPr>
              <a:t>页小松和小旺的故事，思考：</a:t>
            </a: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457200" y="19051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是什么原因导致小松如此委屈、痛苦？小旺的想法有道理吗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609480" y="297324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小旺的理由不合法。他的行为是侵犯他人隐私权的行为，因为小松的病史是个人隐私，受法律保护。任何人都负有不得侵害他人隐私权的义务，即未经他人同意不得传播、扩散其隐私。小旺在班上传播小松隐私的行为尽管不是出于故意，但有过失，是侵害小松隐私权的行为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文本框 8199"/>
          <p:cNvSpPr/>
          <p:nvPr/>
        </p:nvSpPr>
        <p:spPr>
          <a:xfrm>
            <a:off x="1724040" y="3049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240" y="76212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、你希望老师如何处理这件事情？</a:t>
            </a:r>
            <a:endParaRPr b="1" lang="en-US" sz="40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914400" y="21333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buClr>
                <a:srgbClr val="808080"/>
              </a:buClr>
              <a:buSzPct val="20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808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808080"/>
                </a:solidFill>
                <a:latin typeface="Times New Roman"/>
                <a:ea typeface="华文楷体"/>
              </a:rPr>
              <a:t>应当支持小松的请求。因为小旺传播小松曾患过肝炎，给小松精神上造成很大的刺激，身心受到侵害，所以小旺应当承担其行为造成损害的责任，即赔礼道歉，消除影响并支付精神损害赔偿金。</a:t>
            </a:r>
            <a:endParaRPr b="1" lang="en-US" sz="36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Franklin Gothic Medium"/>
                <a:ea typeface="华文隶书"/>
              </a:rPr>
              <a:t>法官观点：</a:t>
            </a:r>
            <a:endParaRPr b="1" lang="en-US" sz="40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990720" y="2285640"/>
            <a:ext cx="68580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80808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  <a:ea typeface="华文楷体"/>
              </a:rPr>
              <a:t>——</a:t>
            </a:r>
            <a:r>
              <a:rPr b="1" lang="zh-CN" sz="3600" spc="-1" strike="noStrike">
                <a:solidFill>
                  <a:srgbClr val="808080"/>
                </a:solidFill>
                <a:latin typeface="Times New Roman"/>
                <a:ea typeface="华文楷体"/>
              </a:rPr>
              <a:t>公民个人隐私受法律保护。侵扰他人私生活、公开他人隐私的行为，既是违反社会道德的行为，也是违法行为。</a:t>
            </a:r>
            <a:endParaRPr b="1" lang="en-US" sz="36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5"/>
          <p:cNvSpPr/>
          <p:nvPr/>
        </p:nvSpPr>
        <p:spPr>
          <a:xfrm>
            <a:off x="1763640" y="763560"/>
            <a:ext cx="5040360" cy="642600"/>
          </a:xfrm>
          <a:prstGeom prst="rect">
            <a:avLst/>
          </a:prstGeom>
          <a:gradFill rotWithShape="0">
            <a:gsLst>
              <a:gs pos="0">
                <a:srgbClr val="ffffff">
                  <a:alpha val="74117"/>
                </a:srgbClr>
              </a:gs>
              <a:gs pos="100000">
                <a:srgbClr val="767676">
                  <a:alpha val="7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侵害隐私权的具体行为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684360" y="1627200"/>
            <a:ext cx="72738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749"/>
              </a:spcBef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监视、窥视他人私生活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684360" y="2203560"/>
            <a:ext cx="77040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749"/>
              </a:spcBef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以偷看民、私拆信件等手段剌探他人私生活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684360" y="2779560"/>
            <a:ext cx="71294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749"/>
              </a:spcBef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道听途说传播他人的隐私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684360" y="3284640"/>
            <a:ext cx="71294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749"/>
              </a:spcBef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非法利用他人的个人信息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324000" y="4003560"/>
            <a:ext cx="1726920" cy="520560"/>
          </a:xfrm>
          <a:prstGeom prst="rect">
            <a:avLst/>
          </a:prstGeom>
          <a:gradFill rotWithShape="0">
            <a:gsLst>
              <a:gs pos="0">
                <a:srgbClr val="ffffff">
                  <a:alpha val="74117"/>
                </a:srgbClr>
              </a:gs>
              <a:gs pos="100000">
                <a:srgbClr val="767676">
                  <a:alpha val="7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特别说明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468360" y="4508640"/>
            <a:ext cx="7416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为了社会公共利益，执法机关依法调查和公开当事人的有关信息，则不属于侵权行为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17600" y="10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Franklin Gothic Medium"/>
              </a:rPr>
              <a:t>1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·</a:t>
            </a:r>
            <a:r>
              <a:rPr b="1" lang="zh-CN" sz="2400" spc="-1" strike="noStrike">
                <a:solidFill>
                  <a:srgbClr val="336699"/>
                </a:solidFill>
                <a:latin typeface="Franklin Gothic Medium"/>
              </a:rPr>
              <a:t>你认为教室里应不应该安装监控器？</a:t>
            </a:r>
            <a:br>
              <a:rPr sz="2400"/>
            </a:br>
            <a:r>
              <a:rPr b="1" lang="en-US" sz="2400" spc="-1" strike="noStrike">
                <a:solidFill>
                  <a:srgbClr val="336699"/>
                </a:solidFill>
                <a:latin typeface="Franklin Gothic Medium"/>
              </a:rPr>
              <a:t>2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·</a:t>
            </a:r>
            <a:r>
              <a:rPr b="1" lang="zh-CN" sz="2400" spc="-1" strike="noStrike">
                <a:solidFill>
                  <a:srgbClr val="336699"/>
                </a:solidFill>
                <a:latin typeface="Franklin Gothic Medium"/>
              </a:rPr>
              <a:t>对于在银行和超市安装监控器的现象，你怎么看？</a:t>
            </a:r>
            <a:endParaRPr b="1" lang="en-US" sz="24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0" y="2204640"/>
            <a:ext cx="802800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20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在教室安装监控器不可以对学生构成侵权。因为教室属于公众场所，不属于私人空间。考场监视器只是监考的一种形式。这样做有其合理性，也有其弊端，如反映出对学生的不信任，易挫伤学生的自尊心，使学生无安全感，有压力等。因此，在教室安装监视器应慎重，特别是对监控系统中收集到的有关学生隐私的信息，学校不得擅自公开、披露，否则将构成侵犯隐私权的行为。</a:t>
            </a: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417600" y="50133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银行、超市属于公共活动空间，从行业特点出发，安装监视器合理合法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755640" y="1700280"/>
            <a:ext cx="7416720" cy="360"/>
            <a:chOff x="755640" y="1700280"/>
            <a:chExt cx="7416720" cy="360"/>
          </a:xfrm>
        </p:grpSpPr>
        <p:sp>
          <p:nvSpPr>
            <p:cNvPr id="127" name="Line 2"/>
            <p:cNvSpPr/>
            <p:nvPr/>
          </p:nvSpPr>
          <p:spPr>
            <a:xfrm>
              <a:off x="755640" y="1700280"/>
              <a:ext cx="7416720" cy="0"/>
            </a:xfrm>
            <a:prstGeom prst="line">
              <a:avLst/>
            </a:prstGeom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 txBox="1"/>
            <p:nvPr/>
          </p:nvSpPr>
          <p:spPr>
            <a:xfrm>
              <a:off x="755640" y="1700280"/>
              <a:ext cx="741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Text Box 3"/>
          <p:cNvSpPr/>
          <p:nvPr/>
        </p:nvSpPr>
        <p:spPr>
          <a:xfrm>
            <a:off x="2484360" y="836640"/>
            <a:ext cx="3959280" cy="703440"/>
          </a:xfrm>
          <a:prstGeom prst="rect">
            <a:avLst/>
          </a:prstGeom>
          <a:gradFill rotWithShape="0">
            <a:gsLst>
              <a:gs pos="0">
                <a:srgbClr val="07ddf3">
                  <a:alpha val="81176"/>
                </a:srgbClr>
              </a:gs>
              <a:gs pos="100000">
                <a:srgbClr val="036670">
                  <a:alpha val="7725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本课要点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1187280" y="227664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幼圆"/>
              </a:rPr>
              <a:t>第一目　尊重隐私是道德的期盼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1258920" y="3508200"/>
            <a:ext cx="68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幼圆"/>
              </a:rPr>
              <a:t>第二目　依法维护隐私权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895120" y="304560"/>
            <a:ext cx="312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Franklin Gothic Medium"/>
                <a:ea typeface="方正舒体"/>
              </a:rPr>
              <a:t>你来当法官</a:t>
            </a:r>
            <a:endParaRPr b="1" lang="en-US" sz="44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801720" y="148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808080"/>
              </a:buClr>
              <a:buSzPct val="20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Times New Roman"/>
                <a:ea typeface="华文楷体"/>
              </a:rPr>
              <a:t>你认为教室里应不应该安装监视器？</a:t>
            </a: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buClr>
                <a:srgbClr val="808080"/>
              </a:buClr>
              <a:buSzPct val="20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Times New Roman"/>
                <a:ea typeface="华文楷体"/>
              </a:rPr>
              <a:t>你如何看待银行和超市安装监视器的现象？</a:t>
            </a: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611280" y="278136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在教室安装监视器有其弊病，比如反映出对学生的不信任，易挫伤学生的自尊心，使学生无安全感、有压力等。因此，在教室安装应慎重，即使安装了，也必须依法使用监控系统中的信息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457200" y="487692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银行、超市属于公共活动空间，从行业特点出发安装监视器合理合法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华文楷体"/>
                <a:ea typeface="华文楷体"/>
              </a:rPr>
              <a:t>2</a:t>
            </a:r>
            <a:r>
              <a:rPr b="1" lang="zh-CN" sz="4000" spc="-1" strike="noStrike">
                <a:solidFill>
                  <a:srgbClr val="3333cc"/>
                </a:solidFill>
                <a:latin typeface="华文楷体"/>
                <a:ea typeface="华文楷体"/>
              </a:rPr>
              <a:t>、如何做到依法维护隐私权？</a:t>
            </a:r>
            <a:endParaRPr b="1" lang="en-US" sz="40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219320" y="19807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20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）运用法律保护隐私权。</a:t>
            </a: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900000" y="328464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当隐私权受到侵害时，我们应勇敢地拿起法律武器，采取自行与侵权人协商，请求司法保护等方式，要求侵权人停止侵害、赔礼道歉；若因此造成较大的精神痛苦，还有权要求精神赔偿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784872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（</a:t>
            </a:r>
            <a:r>
              <a:rPr b="1" lang="en-US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）增强自我保护意识，给自己的隐私上把锁。</a:t>
            </a:r>
            <a:endParaRPr b="1" lang="en-US" sz="40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755640" y="27082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20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面对熟人敞开心扉时：</a:t>
            </a: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20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楷体"/>
              </a:rPr>
              <a:t>——</a:t>
            </a:r>
            <a:r>
              <a:rPr b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要认真选择倾诉对象。</a:t>
            </a: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20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上网时：</a:t>
            </a: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20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华文楷体"/>
                <a:ea typeface="华文楷体"/>
              </a:rPr>
              <a:t>     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楷体"/>
              </a:rPr>
              <a:t>——</a:t>
            </a:r>
            <a:r>
              <a:rPr b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要掌握网上安全运行的知识，  以免个人信息被浏览和扩散。</a:t>
            </a: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914400" y="1676520"/>
            <a:ext cx="1371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Times New Roman"/>
                <a:ea typeface="华文楷体"/>
              </a:rPr>
              <a:t>尊重和维护隐私权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AutoShape 3"/>
          <p:cNvSpPr/>
          <p:nvPr/>
        </p:nvSpPr>
        <p:spPr>
          <a:xfrm>
            <a:off x="2362320" y="1523880"/>
            <a:ext cx="304560" cy="3200400"/>
          </a:xfrm>
          <a:custGeom>
            <a:avLst/>
            <a:gdLst>
              <a:gd name="textAreaLeft" fmla="*/ 194760 w 304560"/>
              <a:gd name="textAreaRight" fmla="*/ 304920 w 30456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2590920" y="14479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华文楷体"/>
              </a:rPr>
              <a:t>尊重隐私是道德的期盼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utoShape 5"/>
          <p:cNvSpPr/>
          <p:nvPr/>
        </p:nvSpPr>
        <p:spPr>
          <a:xfrm>
            <a:off x="5257800" y="1219320"/>
            <a:ext cx="228600" cy="1523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5410080" y="114300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华文楷体"/>
              </a:rPr>
              <a:t>树立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  <a:ea typeface="华文楷体"/>
              </a:rPr>
              <a:t>隐私意识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5486400" y="19051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华文楷体"/>
              </a:rPr>
              <a:t>强化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  <a:ea typeface="华文楷体"/>
              </a:rPr>
              <a:t>责任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华文楷体"/>
              </a:rPr>
              <a:t>和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  <a:ea typeface="华文楷体"/>
              </a:rPr>
              <a:t>信誉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华文楷体"/>
              </a:rPr>
              <a:t>意识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2666880" y="373392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华文楷体"/>
              </a:rPr>
              <a:t>依法维护隐私权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AutoShape 9"/>
          <p:cNvSpPr/>
          <p:nvPr/>
        </p:nvSpPr>
        <p:spPr>
          <a:xfrm>
            <a:off x="4495680" y="3124080"/>
            <a:ext cx="228600" cy="2057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4648320" y="304812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华文楷体"/>
              </a:rPr>
              <a:t>侵害隐私权的表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4648320" y="380988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华文楷体"/>
              </a:rPr>
              <a:t>法律保护的方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4800600" y="47242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华文楷体"/>
              </a:rPr>
              <a:t>其他的保护方法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dur="indefinite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dur="indefinite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3500"/>
                            </p:stCondLst>
                            <p:childTnLst>
                              <p:par>
                                <p:cTn id="292" dur="indefinite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0"/>
                            </p:stCondLst>
                            <p:childTnLst>
                              <p:par>
                                <p:cTn id="297" dur="indefinite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6500"/>
                            </p:stCondLst>
                            <p:childTnLst>
                              <p:par>
                                <p:cTn id="302" dur="indefinite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8000"/>
                            </p:stCondLst>
                            <p:childTnLst>
                              <p:par>
                                <p:cTn id="307" dur="indefinite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9500"/>
                            </p:stCondLst>
                            <p:childTnLst>
                              <p:par>
                                <p:cTn id="312" dur="indefinite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7" dur="indefinite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500"/>
                            </p:stCondLst>
                            <p:childTnLst>
                              <p:par>
                                <p:cTn id="322" dur="indefinite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7" dur="indefinite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Franklin Gothic Medium"/>
                <a:ea typeface="方正舒体"/>
              </a:rPr>
              <a:t>活动与探究</a:t>
            </a:r>
            <a:endParaRPr b="1" lang="en-US" sz="48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323640" y="1557000"/>
            <a:ext cx="84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200000"/>
              <a:buFont typeface="华文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小孙和小林是同班同学，两人由于性格不合发生争吵。小孙在日记中写下了很多侮辱小林的，与实际不符合的语言。一天小孙不小心将日记放在教室的课桌上，被小王看到，小王便把日记的内容泄露出去，给小林在精神上造成了极大的伤害。小林一气之下，将小孙打了一顿。吵到老师处还都认为自己有理。班主任老师耐心地进行教育，作了有说服力的分析。结果三人都认错并言归于好。</a:t>
            </a:r>
            <a:endParaRPr b="1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94920" y="691920"/>
            <a:ext cx="792468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Franklin Gothic Medium"/>
                <a:ea typeface="华文楷体"/>
              </a:rPr>
              <a:t>假设你是班主任，你会作出怎样的分析？</a:t>
            </a:r>
            <a:endParaRPr b="1" lang="en-US" sz="32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-360" y="1523520"/>
            <a:ext cx="25909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ff0000"/>
              </a:buClr>
              <a:buSzPct val="20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小孙的行为：</a:t>
            </a: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SzPct val="20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小王的行为：</a:t>
            </a: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SzPct val="20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小林的行为：</a:t>
            </a: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2514600" y="1523880"/>
            <a:ext cx="63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小孙的行为不违法。因为日记是个人的隐私，尽管小孙在日记中有对小林的侮辱，不实之词，但由于日记不具有公开性，而且小孙也没有将日记的内容公开，所以不构成侵权行为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2514600" y="3336840"/>
            <a:ext cx="64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小王的行为是违法行为，侵犯小孙的隐私权，又侵犯了小林的名誉权。小王偷看日记侵犯了小孙的隐私权，同时将日记的内容公开，造成了对小林名誉权的侵害，因此小王应承担相应的法律责任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2514600" y="5029200"/>
            <a:ext cx="64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小林的行为是侵犯小孙的人身权利的行为，打人是侵犯生命健康权的行为。小林应依法维护自己的合法权益，可以通过法院解决矛盾，或通过老师进行调解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4"/>
          <p:cNvSpPr/>
          <p:nvPr/>
        </p:nvSpPr>
        <p:spPr>
          <a:xfrm>
            <a:off x="250920" y="1893960"/>
            <a:ext cx="779436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听了同学们的建议，蔻蔻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恍然大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了：我应该学会依法维护隐私权，增强自我保护意识，给自己的隐私上把锁，把自己封闭起来，与世隔绝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1484640" y="429264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保护隐私不等于自我封闭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1214640" y="836640"/>
            <a:ext cx="2619000" cy="581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情景故事四：感悟隐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4.MP3" descr=""/>
          <p:cNvPicPr/>
          <p:nvPr/>
        </p:nvPicPr>
        <p:blipFill>
          <a:blip r:embed="rId2"/>
          <a:stretch/>
        </p:blipFill>
        <p:spPr>
          <a:xfrm>
            <a:off x="7956720" y="6219720"/>
            <a:ext cx="88560" cy="88920"/>
          </a:xfrm>
          <a:prstGeom prst="rect">
            <a:avLst/>
          </a:prstGeom>
          <a:ln w="0">
            <a:noFill/>
          </a:ln>
        </p:spPr>
      </p:pic>
      <p:pic>
        <p:nvPicPr>
          <p:cNvPr id="232" name="4.MP3" descr=""/>
          <p:cNvPicPr/>
          <p:nvPr/>
        </p:nvPicPr>
        <p:blipFill>
          <a:blip r:embed="rId3"/>
          <a:stretch/>
        </p:blipFill>
        <p:spPr>
          <a:xfrm>
            <a:off x="8101080" y="5950080"/>
            <a:ext cx="71280" cy="71280"/>
          </a:xfrm>
          <a:prstGeom prst="rect">
            <a:avLst/>
          </a:prstGeom>
          <a:ln w="0">
            <a:noFill/>
          </a:ln>
        </p:spPr>
      </p:pic>
      <p:sp>
        <p:nvSpPr>
          <p:cNvPr id="233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ppt</a:t>
            </a: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/>
              </a:rPr>
              <a:t>模版免费下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0" dur="19224" fill="hold"/>
                                        <p:tgtEl>
                                          <p:spTgt spid="2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250920" y="2060640"/>
            <a:ext cx="7634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　　尊重他人隐私，给隐私一个自由的空间，这是道德的期盼，更是法律的要求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让我们行动起来，强化自我保护意识，依法维护自身的隐私权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WordArt 3"/>
          <p:cNvSpPr txBox="1"/>
          <p:nvPr/>
        </p:nvSpPr>
        <p:spPr>
          <a:xfrm>
            <a:off x="952560" y="981000"/>
            <a:ext cx="2592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ff3399"/>
                  </a:solidFill>
                  <a:round/>
                </a:ln>
                <a:solidFill>
                  <a:srgbClr val="ffcc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彩云"/>
              </a:rPr>
              <a:t>教师赠言：</a:t>
            </a:r>
            <a:endParaRPr b="1" lang="en-US" sz="2400" spc="1" strike="noStrike">
              <a:ln w="12600">
                <a:solidFill>
                  <a:srgbClr val="ff3399"/>
                </a:solidFill>
                <a:round/>
              </a:ln>
              <a:solidFill>
                <a:srgbClr val="ffcc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彩云"/>
              <a:ea typeface="华文彩云"/>
            </a:endParaRPr>
          </a:p>
        </p:txBody>
      </p:sp>
    </p:spTree>
  </p:cSld>
  <p:transition spd="med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3200400" y="152280"/>
            <a:ext cx="32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华文行楷"/>
                <a:ea typeface="华文行楷"/>
              </a:rPr>
              <a:t>做  一  做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380880" y="380880"/>
            <a:ext cx="800100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判断题：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（       ）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、确保隐私不泄漏的最好办法是自我封闭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380880" y="12952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（       ）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、任何侵犯他人隐私的行为都要受到法律制裁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380880" y="167652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（       ）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、好朋友之间也应当有隐私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762120" y="13716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宋体"/>
              </a:rPr>
              <a:t>√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747720" y="9144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宋体"/>
                <a:ea typeface="Times New Roman"/>
              </a:rPr>
              <a:t>ⅹ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8"/>
          <p:cNvSpPr/>
          <p:nvPr/>
        </p:nvSpPr>
        <p:spPr>
          <a:xfrm>
            <a:off x="747720" y="1676520"/>
            <a:ext cx="380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9"/>
          <p:cNvSpPr/>
          <p:nvPr/>
        </p:nvSpPr>
        <p:spPr>
          <a:xfrm>
            <a:off x="228600" y="2057400"/>
            <a:ext cx="794376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选择题：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cc3300"/>
                </a:solidFill>
                <a:latin typeface="宋体"/>
              </a:rPr>
              <a:t>、尊重他人隐私，就要（   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宋体"/>
              </a:rPr>
              <a:t>(1)</a:t>
            </a:r>
            <a:r>
              <a:rPr b="1" lang="zh-CN" sz="2000" spc="-1" strike="noStrike">
                <a:solidFill>
                  <a:srgbClr val="cc3300"/>
                </a:solidFill>
                <a:latin typeface="宋体"/>
              </a:rPr>
              <a:t>树立隐私意识  </a:t>
            </a:r>
            <a:r>
              <a:rPr b="1" lang="en-US" sz="2000" spc="-1" strike="noStrike">
                <a:solidFill>
                  <a:srgbClr val="cc3300"/>
                </a:solidFill>
                <a:latin typeface="宋体"/>
              </a:rPr>
              <a:t>(2)</a:t>
            </a:r>
            <a:r>
              <a:rPr b="1" lang="zh-CN" sz="2000" spc="-1" strike="noStrike">
                <a:solidFill>
                  <a:srgbClr val="cc3300"/>
                </a:solidFill>
                <a:latin typeface="宋体"/>
              </a:rPr>
              <a:t>强化责任与信誉意识   </a:t>
            </a:r>
            <a:r>
              <a:rPr b="1" lang="en-US" sz="2000" spc="-1" strike="noStrike">
                <a:solidFill>
                  <a:srgbClr val="cc3300"/>
                </a:solidFill>
                <a:latin typeface="宋体"/>
              </a:rPr>
              <a:t>(3)</a:t>
            </a:r>
            <a:r>
              <a:rPr b="1" lang="zh-CN" sz="2000" spc="-1" strike="noStrike">
                <a:solidFill>
                  <a:srgbClr val="cc3300"/>
                </a:solidFill>
                <a:latin typeface="宋体"/>
              </a:rPr>
              <a:t>不干涉他人私人空间  </a:t>
            </a:r>
            <a:r>
              <a:rPr b="1" lang="en-US" sz="2000" spc="-1" strike="noStrike">
                <a:solidFill>
                  <a:srgbClr val="cc3300"/>
                </a:solidFill>
                <a:latin typeface="宋体"/>
              </a:rPr>
              <a:t>(4)</a:t>
            </a:r>
            <a:r>
              <a:rPr b="1" lang="zh-CN" sz="2000" spc="-1" strike="noStrike">
                <a:solidFill>
                  <a:srgbClr val="cc3300"/>
                </a:solidFill>
                <a:latin typeface="宋体"/>
              </a:rPr>
              <a:t>不搬弄是非、揭人短处、扰人安宁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宋体"/>
              </a:rPr>
              <a:t>A</a:t>
            </a:r>
            <a:r>
              <a:rPr b="1" lang="zh-CN" sz="2000" spc="-1" strike="noStrike">
                <a:solidFill>
                  <a:srgbClr val="cc3300"/>
                </a:solidFill>
                <a:latin typeface="宋体"/>
              </a:rPr>
              <a:t>、</a:t>
            </a:r>
            <a:r>
              <a:rPr b="1" lang="en-US" sz="2000" spc="-1" strike="noStrike">
                <a:solidFill>
                  <a:srgbClr val="cc3300"/>
                </a:solidFill>
                <a:latin typeface="宋体"/>
              </a:rPr>
              <a:t>(1)(2)(3)(4)   B</a:t>
            </a:r>
            <a:r>
              <a:rPr b="1" lang="zh-CN" sz="2000" spc="-1" strike="noStrike">
                <a:solidFill>
                  <a:srgbClr val="cc3300"/>
                </a:solidFill>
                <a:latin typeface="宋体"/>
              </a:rPr>
              <a:t>、</a:t>
            </a:r>
            <a:r>
              <a:rPr b="1" lang="en-US" sz="2000" spc="-1" strike="noStrike">
                <a:solidFill>
                  <a:srgbClr val="cc3300"/>
                </a:solidFill>
                <a:latin typeface="宋体"/>
              </a:rPr>
              <a:t>(1)(2)(3)   C</a:t>
            </a:r>
            <a:r>
              <a:rPr b="1" lang="zh-CN" sz="2000" spc="-1" strike="noStrike">
                <a:solidFill>
                  <a:srgbClr val="cc3300"/>
                </a:solidFill>
                <a:latin typeface="宋体"/>
              </a:rPr>
              <a:t>、</a:t>
            </a:r>
            <a:r>
              <a:rPr b="1" lang="en-US" sz="2000" spc="-1" strike="noStrike">
                <a:solidFill>
                  <a:srgbClr val="cc3300"/>
                </a:solidFill>
                <a:latin typeface="宋体"/>
              </a:rPr>
              <a:t>(2)(3)(4)   D</a:t>
            </a:r>
            <a:r>
              <a:rPr b="1" lang="zh-CN" sz="2000" spc="-1" strike="noStrike">
                <a:solidFill>
                  <a:srgbClr val="cc3300"/>
                </a:solidFill>
                <a:latin typeface="宋体"/>
              </a:rPr>
              <a:t>、</a:t>
            </a:r>
            <a:r>
              <a:rPr b="1" lang="en-US" sz="2000" spc="-1" strike="noStrike">
                <a:solidFill>
                  <a:srgbClr val="cc3300"/>
                </a:solidFill>
                <a:latin typeface="宋体"/>
              </a:rPr>
              <a:t>(1) (3)(4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228600" y="3886200"/>
            <a:ext cx="7810560" cy="11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、在同学交往中，私拆他人的信件，属于（          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cc3300"/>
                </a:solidFill>
                <a:latin typeface="Arial"/>
              </a:rPr>
              <a:t>A</a:t>
            </a:r>
            <a:r>
              <a:rPr b="1" lang="zh-CN" sz="1900" spc="-1" strike="noStrike">
                <a:solidFill>
                  <a:srgbClr val="cc3300"/>
                </a:solidFill>
                <a:latin typeface="Arial"/>
              </a:rPr>
              <a:t>、好奇心强的表现，是青少年的正常现象         </a:t>
            </a:r>
            <a:r>
              <a:rPr b="1" lang="en-US" sz="1900" spc="-1" strike="noStrike">
                <a:solidFill>
                  <a:srgbClr val="cc3300"/>
                </a:solidFill>
                <a:latin typeface="Arial"/>
              </a:rPr>
              <a:t>B</a:t>
            </a:r>
            <a:r>
              <a:rPr b="1" lang="zh-CN" sz="1900" spc="-1" strike="noStrike">
                <a:solidFill>
                  <a:srgbClr val="cc3300"/>
                </a:solidFill>
                <a:latin typeface="Arial"/>
              </a:rPr>
              <a:t>、违法行为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cc3300"/>
                </a:solidFill>
                <a:latin typeface="Arial"/>
              </a:rPr>
              <a:t>C</a:t>
            </a:r>
            <a:r>
              <a:rPr b="1" lang="zh-CN" sz="1900" spc="-1" strike="noStrike">
                <a:solidFill>
                  <a:srgbClr val="cc3300"/>
                </a:solidFill>
                <a:latin typeface="Arial"/>
              </a:rPr>
              <a:t>、仅是不道德行为         </a:t>
            </a:r>
            <a:r>
              <a:rPr b="1" lang="en-US" sz="1900" spc="-1" strike="noStrike">
                <a:solidFill>
                  <a:srgbClr val="cc3300"/>
                </a:solidFill>
                <a:latin typeface="Arial"/>
              </a:rPr>
              <a:t>D</a:t>
            </a:r>
            <a:r>
              <a:rPr b="1" lang="zh-CN" sz="1900" spc="-1" strike="noStrike">
                <a:solidFill>
                  <a:srgbClr val="cc3300"/>
                </a:solidFill>
                <a:latin typeface="Arial"/>
              </a:rPr>
              <a:t>、同学之间的小事，对方不应斤斤计较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1"/>
          <p:cNvSpPr/>
          <p:nvPr/>
        </p:nvSpPr>
        <p:spPr>
          <a:xfrm>
            <a:off x="228600" y="5029200"/>
            <a:ext cx="82296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宋体"/>
              </a:rPr>
              <a:t>3</a:t>
            </a:r>
            <a:r>
              <a:rPr b="1" lang="zh-CN" sz="2000" spc="-1" strike="noStrike">
                <a:solidFill>
                  <a:srgbClr val="cc3300"/>
                </a:solidFill>
                <a:latin typeface="宋体"/>
              </a:rPr>
              <a:t>、尊重他人隐私，就要树立隐私观念，需要摈弃的观念和陋习是（   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宋体"/>
              </a:rPr>
              <a:t>(1)</a:t>
            </a:r>
            <a:r>
              <a:rPr b="1" lang="zh-CN" sz="2000" spc="-1" strike="noStrike">
                <a:solidFill>
                  <a:srgbClr val="cc3300"/>
                </a:solidFill>
                <a:latin typeface="宋体"/>
              </a:rPr>
              <a:t>每个人都是独立的个体  </a:t>
            </a:r>
            <a:r>
              <a:rPr b="1" lang="en-US" sz="2000" spc="-1" strike="noStrike">
                <a:solidFill>
                  <a:srgbClr val="cc3300"/>
                </a:solidFill>
                <a:latin typeface="宋体"/>
              </a:rPr>
              <a:t>(2)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“</a:t>
            </a:r>
            <a:r>
              <a:rPr b="1" lang="zh-CN" sz="2000" spc="-1" strike="noStrike">
                <a:solidFill>
                  <a:srgbClr val="cc3300"/>
                </a:solidFill>
                <a:latin typeface="宋体"/>
              </a:rPr>
              <a:t>父为子纲、夫为妻纲</a:t>
            </a: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”</a:t>
            </a:r>
            <a:r>
              <a:rPr b="1" lang="zh-CN" sz="2000" spc="-1" strike="noStrike">
                <a:solidFill>
                  <a:srgbClr val="cc3300"/>
                </a:solidFill>
                <a:latin typeface="宋体"/>
              </a:rPr>
              <a:t>   </a:t>
            </a:r>
            <a:r>
              <a:rPr b="1" lang="en-US" sz="2000" spc="-1" strike="noStrike">
                <a:solidFill>
                  <a:srgbClr val="cc3300"/>
                </a:solidFill>
                <a:latin typeface="宋体"/>
              </a:rPr>
              <a:t>(3)</a:t>
            </a:r>
            <a:r>
              <a:rPr b="1" lang="zh-CN" sz="2000" spc="-1" strike="noStrike">
                <a:solidFill>
                  <a:srgbClr val="cc3300"/>
                </a:solidFill>
                <a:latin typeface="宋体"/>
              </a:rPr>
              <a:t>搬弄是非、揭人短处、扰人安宁  </a:t>
            </a:r>
            <a:r>
              <a:rPr b="1" lang="en-US" sz="2000" spc="-1" strike="noStrike">
                <a:solidFill>
                  <a:srgbClr val="cc3300"/>
                </a:solidFill>
                <a:latin typeface="宋体"/>
              </a:rPr>
              <a:t>(4)</a:t>
            </a:r>
            <a:r>
              <a:rPr b="1" lang="zh-CN" sz="2000" spc="-1" strike="noStrike">
                <a:solidFill>
                  <a:srgbClr val="cc3300"/>
                </a:solidFill>
                <a:latin typeface="宋体"/>
              </a:rPr>
              <a:t>因好奇而热衷于打听别人的私事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宋体"/>
              </a:rPr>
              <a:t>A</a:t>
            </a:r>
            <a:r>
              <a:rPr b="1" lang="zh-CN" sz="2000" spc="-1" strike="noStrike">
                <a:solidFill>
                  <a:srgbClr val="cc3300"/>
                </a:solidFill>
                <a:latin typeface="宋体"/>
              </a:rPr>
              <a:t>、</a:t>
            </a:r>
            <a:r>
              <a:rPr b="1" lang="en-US" sz="2000" spc="-1" strike="noStrike">
                <a:solidFill>
                  <a:srgbClr val="cc3300"/>
                </a:solidFill>
                <a:latin typeface="宋体"/>
              </a:rPr>
              <a:t>(1)(2)(3)(4)   B</a:t>
            </a:r>
            <a:r>
              <a:rPr b="1" lang="zh-CN" sz="2000" spc="-1" strike="noStrike">
                <a:solidFill>
                  <a:srgbClr val="cc3300"/>
                </a:solidFill>
                <a:latin typeface="宋体"/>
              </a:rPr>
              <a:t>、</a:t>
            </a:r>
            <a:r>
              <a:rPr b="1" lang="en-US" sz="2000" spc="-1" strike="noStrike">
                <a:solidFill>
                  <a:srgbClr val="cc3300"/>
                </a:solidFill>
                <a:latin typeface="宋体"/>
              </a:rPr>
              <a:t>(1)(2)(3)   C</a:t>
            </a:r>
            <a:r>
              <a:rPr b="1" lang="zh-CN" sz="2000" spc="-1" strike="noStrike">
                <a:solidFill>
                  <a:srgbClr val="cc3300"/>
                </a:solidFill>
                <a:latin typeface="宋体"/>
              </a:rPr>
              <a:t>、</a:t>
            </a:r>
            <a:r>
              <a:rPr b="1" lang="en-US" sz="2000" spc="-1" strike="noStrike">
                <a:solidFill>
                  <a:srgbClr val="cc3300"/>
                </a:solidFill>
                <a:latin typeface="宋体"/>
              </a:rPr>
              <a:t>(2)(3)(4)   D</a:t>
            </a:r>
            <a:r>
              <a:rPr b="1" lang="zh-CN" sz="2000" spc="-1" strike="noStrike">
                <a:solidFill>
                  <a:srgbClr val="cc3300"/>
                </a:solidFill>
                <a:latin typeface="宋体"/>
              </a:rPr>
              <a:t>、</a:t>
            </a:r>
            <a:r>
              <a:rPr b="1" lang="en-US" sz="2000" spc="-1" strike="noStrike">
                <a:solidFill>
                  <a:srgbClr val="cc3300"/>
                </a:solidFill>
                <a:latin typeface="宋体"/>
              </a:rPr>
              <a:t>(1)(3)(4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12"/>
          <p:cNvSpPr/>
          <p:nvPr/>
        </p:nvSpPr>
        <p:spPr>
          <a:xfrm>
            <a:off x="3276720" y="2438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13"/>
          <p:cNvSpPr/>
          <p:nvPr/>
        </p:nvSpPr>
        <p:spPr>
          <a:xfrm>
            <a:off x="5519880" y="391464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4"/>
          <p:cNvSpPr/>
          <p:nvPr/>
        </p:nvSpPr>
        <p:spPr>
          <a:xfrm>
            <a:off x="7848720" y="51055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15"/>
          <p:cNvSpPr/>
          <p:nvPr/>
        </p:nvSpPr>
        <p:spPr>
          <a:xfrm>
            <a:off x="826920" y="177336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宋体"/>
              </a:rPr>
              <a:t>√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25D93-558D-4C48-B8D4-C68BB6ED826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1260360" y="105876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幼圆"/>
              </a:rPr>
              <a:t>第一目　尊重隐私是道德的期盼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1403280" y="264312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树立尊重他人隐私意识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1403280" y="365112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强化责任与信誉意识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7308720" y="4653000"/>
            <a:ext cx="719280" cy="576360"/>
          </a:xfrm>
          <a:custGeom>
            <a:avLst/>
            <a:gdLst>
              <a:gd name="textAreaLeft" fmla="*/ 37080 w 719280"/>
              <a:gd name="textAreaRight" fmla="*/ 682200 w 719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553" y="1400"/>
                </a:lnTo>
                <a:lnTo>
                  <a:pt x="1400" y="140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553" y="20200"/>
                </a:lnTo>
                <a:lnTo>
                  <a:pt x="25553" y="140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3" y="2020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3" h="21600">
                <a:moveTo>
                  <a:pt x="6470" y="10800"/>
                </a:moveTo>
                <a:lnTo>
                  <a:pt x="20483" y="3794"/>
                </a:lnTo>
                <a:lnTo>
                  <a:pt x="20483" y="17806"/>
                </a:lnTo>
                <a:close/>
              </a:path>
            </a:pathLst>
          </a:custGeom>
          <a:gradFill rotWithShape="0">
            <a:gsLst>
              <a:gs pos="0">
                <a:srgbClr val="66ff33">
                  <a:alpha val="84313"/>
                </a:srgbClr>
              </a:gs>
              <a:gs pos="100000">
                <a:srgbClr val="2f7618">
                  <a:alpha val="6705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2"/>
          <p:cNvSpPr/>
          <p:nvPr/>
        </p:nvSpPr>
        <p:spPr>
          <a:xfrm>
            <a:off x="228600" y="912960"/>
            <a:ext cx="79437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Arial"/>
              </a:rPr>
              <a:t>4</a:t>
            </a:r>
            <a:r>
              <a:rPr b="1" lang="zh-CN" sz="2200" spc="-1" strike="noStrike">
                <a:solidFill>
                  <a:srgbClr val="cc3300"/>
                </a:solidFill>
                <a:latin typeface="Arial"/>
              </a:rPr>
              <a:t>、在我国报道未成年人的案件时，皆用方格阴影隐去未成年人的头像，这是保护他们的（          ）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cc3300"/>
                </a:solidFill>
                <a:latin typeface="Arial"/>
              </a:rPr>
              <a:t>A</a:t>
            </a:r>
            <a:r>
              <a:rPr b="1" lang="zh-CN" sz="2200" spc="-1" strike="noStrike">
                <a:solidFill>
                  <a:srgbClr val="cc3300"/>
                </a:solidFill>
                <a:latin typeface="Arial"/>
              </a:rPr>
              <a:t>、肖像权          </a:t>
            </a:r>
            <a:r>
              <a:rPr b="1" lang="en-US" sz="2200" spc="-1" strike="noStrike">
                <a:solidFill>
                  <a:srgbClr val="cc3300"/>
                </a:solidFill>
                <a:latin typeface="Arial"/>
              </a:rPr>
              <a:t>B</a:t>
            </a:r>
            <a:r>
              <a:rPr b="1" lang="zh-CN" sz="2200" spc="-1" strike="noStrike">
                <a:solidFill>
                  <a:srgbClr val="cc3300"/>
                </a:solidFill>
                <a:latin typeface="Arial"/>
              </a:rPr>
              <a:t>、隐私权     </a:t>
            </a:r>
            <a:r>
              <a:rPr b="1" lang="en-US" sz="2200" spc="-1" strike="noStrike">
                <a:solidFill>
                  <a:srgbClr val="cc3300"/>
                </a:solidFill>
                <a:latin typeface="Arial"/>
              </a:rPr>
              <a:t>C</a:t>
            </a:r>
            <a:r>
              <a:rPr b="1" lang="zh-CN" sz="2200" spc="-1" strike="noStrike">
                <a:solidFill>
                  <a:srgbClr val="cc3300"/>
                </a:solidFill>
                <a:latin typeface="Arial"/>
              </a:rPr>
              <a:t>、人身权              </a:t>
            </a:r>
            <a:r>
              <a:rPr b="1" lang="en-US" sz="2200" spc="-1" strike="noStrike">
                <a:solidFill>
                  <a:srgbClr val="cc3300"/>
                </a:solidFill>
                <a:latin typeface="Arial"/>
              </a:rPr>
              <a:t>D</a:t>
            </a:r>
            <a:r>
              <a:rPr b="1" lang="zh-CN" sz="2200" spc="-1" strike="noStrike">
                <a:solidFill>
                  <a:srgbClr val="cc3300"/>
                </a:solidFill>
                <a:latin typeface="Arial"/>
              </a:rPr>
              <a:t>、姓名权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380880" y="2209680"/>
            <a:ext cx="8229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问答题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、</a:t>
            </a:r>
            <a:r>
              <a:rPr b="0" lang="zh-CN" sz="3200" spc="-1" strike="noStrike">
                <a:solidFill>
                  <a:srgbClr val="cc3300"/>
                </a:solidFill>
                <a:latin typeface="隶书"/>
                <a:ea typeface="隶书"/>
              </a:rPr>
              <a:t>如何做到尊重他人隐私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380880" y="388620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隶书"/>
                <a:ea typeface="隶书"/>
              </a:rPr>
              <a:t>2</a:t>
            </a:r>
            <a:r>
              <a:rPr b="0" lang="zh-CN" sz="3200" spc="-1" strike="noStrike">
                <a:solidFill>
                  <a:srgbClr val="cc3300"/>
                </a:solidFill>
                <a:latin typeface="隶书"/>
                <a:ea typeface="隶书"/>
              </a:rPr>
              <a:t>、如何做到依法维护隐私权？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3657600" y="137016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矩形 8"/>
          <p:cNvSpPr/>
          <p:nvPr/>
        </p:nvSpPr>
        <p:spPr>
          <a:xfrm>
            <a:off x="2050920" y="331632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782640" y="98748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幼圆"/>
              </a:rPr>
              <a:t>第二目　依法维护隐私权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711360" y="2351160"/>
            <a:ext cx="66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侵害隐私权的具体行为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711360" y="314784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侵害他人的隐私行为要受到法律制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711360" y="401148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运用法律维护自己隐私权的具体方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784080" y="487512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隐私不等于自我封闭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304920" y="765000"/>
            <a:ext cx="7920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你觉得父母擅自翻阅儿女的日记是天经地义的事情吗？为什么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怎样避免这种事情的发生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403280" y="436572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250920" y="206064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偷看日记是不合法的。未成年人自其出生时起即具有独立的人格，隐私权也受保护。父母偷看孩子的日记，虽然动机是好的，但也在一定程度上侵犯了孩子的隐私权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324000" y="3933720"/>
            <a:ext cx="785016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父母可以和孩子建立一种平等的关系，让孩子在家里有说话和发表意见的地位，避免单纯指责、教训、批评的教育方法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孩子应该主动与父母沟通交流，做让父母放心的事，让父母放心自己的成长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4"/>
          <p:cNvSpPr/>
          <p:nvPr/>
        </p:nvSpPr>
        <p:spPr>
          <a:xfrm>
            <a:off x="1261800" y="1628640"/>
            <a:ext cx="3889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最近一段时间，蔻蔻一回家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就上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QQ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跟网友聊天，妈妈看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后，就马上关掉。老师也反映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开学二个月来，蔻蔻学习不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认真，成绩下降明显。妈妈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此很怀疑，坚持要看蔻蔻的聊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天内容，要求蔻蔻告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QQ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密码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母女俩因此闹翻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……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1367280" y="928800"/>
            <a:ext cx="1906920" cy="581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情景故事一：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QQ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密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8" descr="聊天密码"/>
          <p:cNvPicPr/>
          <p:nvPr/>
        </p:nvPicPr>
        <p:blipFill>
          <a:blip r:embed="rId2"/>
          <a:stretch/>
        </p:blipFill>
        <p:spPr>
          <a:xfrm>
            <a:off x="6186600" y="1989000"/>
            <a:ext cx="2700360" cy="2952720"/>
          </a:xfrm>
          <a:prstGeom prst="rect">
            <a:avLst/>
          </a:prstGeom>
          <a:ln w="0">
            <a:noFill/>
          </a:ln>
        </p:spPr>
      </p:pic>
      <p:pic>
        <p:nvPicPr>
          <p:cNvPr id="149" name="1.MP3" descr=""/>
          <p:cNvPicPr/>
          <p:nvPr/>
        </p:nvPicPr>
        <p:blipFill>
          <a:blip r:embed="rId3"/>
          <a:stretch/>
        </p:blipFill>
        <p:spPr>
          <a:xfrm>
            <a:off x="8388360" y="6308640"/>
            <a:ext cx="144360" cy="1447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34559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5"/>
          <p:cNvSpPr/>
          <p:nvPr/>
        </p:nvSpPr>
        <p:spPr>
          <a:xfrm>
            <a:off x="900000" y="58053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900000" y="5210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395280" y="836640"/>
            <a:ext cx="835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对于蔻蔻妈妈索要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QQ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密码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的做法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说说你的看法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并阐明理由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133200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A.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对的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5"/>
          <p:cNvSpPr/>
          <p:nvPr/>
        </p:nvSpPr>
        <p:spPr>
          <a:xfrm>
            <a:off x="3564000" y="299736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B.</a:t>
            </a:r>
            <a:r>
              <a:rPr b="0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不对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7"/>
          <p:cNvSpPr/>
          <p:nvPr/>
        </p:nvSpPr>
        <p:spPr>
          <a:xfrm>
            <a:off x="1763640" y="3933720"/>
            <a:ext cx="4680000" cy="143460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50000">
                <a:srgbClr val="008000"/>
              </a:gs>
              <a:gs pos="100000">
                <a:srgbClr val="33cc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、尊重他人隐私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就要树立隐私意识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3276720" y="907920"/>
            <a:ext cx="2087280" cy="642600"/>
          </a:xfrm>
          <a:prstGeom prst="rect">
            <a:avLst/>
          </a:prstGeom>
          <a:gradFill rotWithShape="0">
            <a:gsLst>
              <a:gs pos="0">
                <a:srgbClr val="ffffff">
                  <a:alpha val="74117"/>
                </a:srgbClr>
              </a:gs>
              <a:gs pos="100000">
                <a:srgbClr val="767676">
                  <a:alpha val="7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情景评解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900000" y="1844640"/>
            <a:ext cx="6838920" cy="727560"/>
          </a:xfrm>
          <a:prstGeom prst="rect">
            <a:avLst/>
          </a:prstGeom>
          <a:gradFill rotWithShape="0">
            <a:gsLst>
              <a:gs pos="0">
                <a:srgbClr val="141ee6">
                  <a:alpha val="56078"/>
                </a:srgbClr>
              </a:gs>
              <a:gs pos="100000">
                <a:srgbClr val="090e6a">
                  <a:alpha val="5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、尊重他人隐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就要树立隐私意识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250920" y="2725560"/>
            <a:ext cx="64818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破除人格依附的陈旧观念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250920" y="3517920"/>
            <a:ext cx="799128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不干涉他人私人空间，不搬弄是非、揭人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短处、扰人安宁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250920" y="4665600"/>
            <a:ext cx="792144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不因好奇而热忠于打听别人私事、传播别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人的秘密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5"/>
          <p:cNvSpPr/>
          <p:nvPr/>
        </p:nvSpPr>
        <p:spPr>
          <a:xfrm>
            <a:off x="539640" y="2060640"/>
            <a:ext cx="75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蔻蔻把聊天记录让好朋友薇薇看了，并叮嘱薇薇保密，可是薇薇知道了蔻蔻的很多秘密后，却说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: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我心中藏不住秘密，很想告诉我的另一个好朋友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……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1116000" y="532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2.MP3" descr=""/>
          <p:cNvPicPr/>
          <p:nvPr/>
        </p:nvPicPr>
        <p:blipFill>
          <a:blip r:embed="rId1"/>
          <a:stretch/>
        </p:blipFill>
        <p:spPr>
          <a:xfrm>
            <a:off x="7324560" y="5373720"/>
            <a:ext cx="88920" cy="889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11"/>
          <p:cNvSpPr/>
          <p:nvPr/>
        </p:nvSpPr>
        <p:spPr>
          <a:xfrm>
            <a:off x="1612440" y="1360440"/>
            <a:ext cx="3594600" cy="581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情景故事二：我心里有个小秘密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18179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2T08:13:3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8:54Z</dcterms:modified>
  <cp:revision>11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