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F47-B8D9-4000-82E4-D2189FC4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FDD-4125-4301-BAC9-C7FFB08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C77-AF61-453E-B661-8493153B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456-762C-4AC5-9DC6-73FC9A6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D6F-788F-4D9A-AD54-FBBCE167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DC07-B03D-4BAA-8C9F-297A55C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B888-8DCB-4C4B-B6F1-B7CE9FD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107-531D-4A41-A4A8-69A49549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0C9C-3741-4D01-B20C-5648E654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BA11-C668-4D26-8A61-467C5D00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5252-3C1E-4331-8A43-CCA6040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825-0905-452D-8091-43C3513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2298-7F83-4010-9EEE-21E8D42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F96E-714D-45E2-AA11-757B748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5DD-77D4-4C1E-A888-A9E09C56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F73-683D-4796-AD49-B48D6389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2C82-A1D3-41AE-901E-08413AB2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7770-E0E3-4DCB-BC28-23FA742D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64FD-2BE0-4B06-9403-DB80094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905F-E162-4B91-B466-05B1AD7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7103-90AF-4478-8A6B-3B511A77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063E-9822-4CCD-9BE1-596D104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65B-4274-4BD2-9079-C4573C0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6454-4339-40B0-8636-B741496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B319-2D46-4400-B06D-36A4E10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C442-6027-40D8-95DF-0CC4972C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7042-0437-4DA1-8953-08D7B27F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C760-07F7-408A-8AD8-56445097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FFE8-7B86-4710-BAC0-585CE8D1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6422-0A82-40CA-BFFF-23B0EB57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7137-8329-4CE6-86C1-EF345956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206D-E462-4B96-8A79-B6808EC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D308-5E02-486B-B70B-3C5995E4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FA9-F43E-490C-9942-20C5F1F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0681-7F05-4F14-B279-C3FB6653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17B6-1171-42AF-A130-843BDF54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4176-E218-430A-AF00-27C930B4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F281-88F8-4202-904E-041C97C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AC46-76FB-4E2C-8C4F-396B4780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ACCA-A73B-4416-9AED-7CFEF35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8E75-F377-4053-ACCE-871CACFC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A637-1251-4CD2-8CA7-2AB85F14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0BAE-2CE2-45D6-840A-0C10F4C1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EA92-AF7A-4F23-ADFF-EF13C8C5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7E2-3E88-4160-90A1-134F4EB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18AC-9615-49E5-99FF-48985336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8DA0-6D80-491F-98FE-E9BDB305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823F7-A8CA-45BB-A649-E97AF5F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270A0-BAD9-490C-8411-FD378932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914E-7086-4F66-B5D5-139F5E6C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A1777-34CA-4019-A714-EFD33A81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AB9A-4D15-443E-BDDE-143D27EC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1292-9A79-4DA8-8677-9053EA9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DDC0-57BB-4DAF-BB15-7FD1B09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1A0F-8031-4F31-B2B8-5EBCD86A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21A-29F2-4B94-8BDB-546A452A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87EC-A9DB-4701-BFDC-35342EC3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FD3-D004-4617-87D7-2BEA71F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F3A-6408-4501-B167-C66A333C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836-B5E2-48BA-8365-F76EF4A1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8846129_105632225000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39A-252D-4A8A-AC26-3F35A9F2F5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8846129_105632225000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45A9-B6CA-40C9-93D2-DDFEBED202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D24-F31A-4859-B8CF-B5CFD6600E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8846129_105632225000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4A2-AF1A-48D6-A0F1-B7B707DCA3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8846129_105632225000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C04-7520-40FB-8BF3-F984528B6D9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3"/>
          <p:cNvSpPr txBox="1"/>
          <p:nvPr/>
        </p:nvSpPr>
        <p:spPr>
          <a:xfrm>
            <a:off x="900000" y="1206360"/>
            <a:ext cx="72471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6600"/>
                  </a:solidFill>
                  <a:round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种植我们的植物</a:t>
            </a:r>
            <a:r>
              <a:rPr b="1" lang="en-US" sz="4000" spc="1" strike="noStrike">
                <a:ln w="9360">
                  <a:solidFill>
                    <a:srgbClr val="006600"/>
                  </a:solidFill>
                  <a:round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6600"/>
                  </a:solidFill>
                  <a:round/>
                </a:ln>
                <a:solidFill>
                  <a:srgbClr val="00206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9360">
                <a:solidFill>
                  <a:srgbClr val="006600"/>
                </a:solidFill>
                <a:round/>
              </a:ln>
              <a:solidFill>
                <a:srgbClr val="00206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0" name="图片 1" descr=""/>
          <p:cNvPicPr/>
          <p:nvPr/>
        </p:nvPicPr>
        <p:blipFill>
          <a:blip r:embed="rId1"/>
          <a:stretch/>
        </p:blipFill>
        <p:spPr>
          <a:xfrm>
            <a:off x="682560" y="2984400"/>
            <a:ext cx="4035600" cy="26892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" descr=""/>
          <p:cNvPicPr/>
          <p:nvPr/>
        </p:nvPicPr>
        <p:blipFill>
          <a:blip r:embed="rId2"/>
          <a:stretch/>
        </p:blipFill>
        <p:spPr>
          <a:xfrm>
            <a:off x="4718160" y="2984400"/>
            <a:ext cx="3598920" cy="268920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a4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a4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四、浇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1557360"/>
            <a:ext cx="854064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往花盆中浇适量的水，使土壤湿润，将它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温暖的地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9680"/>
            <a:ext cx="362268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e7ff"/>
                </a:solidFill>
                <a:latin typeface="Arial"/>
              </a:rPr>
              <a:t>观察时的注意事项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50920" y="1196640"/>
            <a:ext cx="854064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播种的深度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厘米左右，播种后要把播种后的坑穴用土填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播种后立即浇水。这是播种后的第一次浇水一定要浇透，出苗后一定要放在光照很足的地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观察花盆土不要到太干燥时才浇水，应把其放置于全天直射的太阳光底下。当长出第三对真叶时，就要把凤仙花的头掐掉，让它多发侧枝，植株造型将来才会美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当种子种下后，我们为了能够看到种子的变化，应该怎样做才能看到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文本框 8200"/>
          <p:cNvSpPr/>
          <p:nvPr/>
        </p:nvSpPr>
        <p:spPr>
          <a:xfrm>
            <a:off x="884160" y="3368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4000" y="836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941c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ee941c"/>
                </a:solidFill>
                <a:latin typeface="Arial"/>
              </a:rPr>
              <a:t>在透明玻璃杯的内壁垫几层纸，装进一些土壤，使纸巾贴住杯壁。</a:t>
            </a:r>
            <a:br>
              <a:rPr sz="2800"/>
            </a:br>
            <a:r>
              <a:rPr b="1" lang="zh-CN" sz="2800" spc="-1" strike="noStrike">
                <a:solidFill>
                  <a:srgbClr val="ee941c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ee941c"/>
                </a:solidFill>
                <a:latin typeface="Arial"/>
              </a:rPr>
              <a:t>把凤仙花种子放在杯壁和纸的中间（不同的方向都放置种子）。</a:t>
            </a:r>
            <a:br>
              <a:rPr sz="2800"/>
            </a:br>
            <a:r>
              <a:rPr b="1" lang="zh-CN" sz="2800" spc="-1" strike="noStrike">
                <a:solidFill>
                  <a:srgbClr val="ee941c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ee941c"/>
                </a:solidFill>
                <a:latin typeface="Arial"/>
              </a:rPr>
              <a:t>往土壤中浇适量的水，不要让种子浸在水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1036440" cy="144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2124000" y="3573360"/>
            <a:ext cx="1171800" cy="1441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3"/>
          <a:stretch/>
        </p:blipFill>
        <p:spPr>
          <a:xfrm>
            <a:off x="3708360" y="3573360"/>
            <a:ext cx="1157400" cy="144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4"/>
          <a:stretch/>
        </p:blipFill>
        <p:spPr>
          <a:xfrm>
            <a:off x="5292720" y="3573360"/>
            <a:ext cx="1584360" cy="1465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7"/>
          <p:cNvSpPr/>
          <p:nvPr/>
        </p:nvSpPr>
        <p:spPr>
          <a:xfrm>
            <a:off x="468360" y="522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你还有别的方法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2360" y="333360"/>
            <a:ext cx="4608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7e7ff"/>
                </a:solidFill>
                <a:latin typeface="Arial"/>
              </a:rPr>
              <a:t>种植植物形成认识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子的</a:t>
            </a: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胚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冲破种皮，形成</a:t>
            </a: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胚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也生长和伸长，形成</a:t>
            </a: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茎和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胚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成为连接根和茎的部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子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种子萌发</a:t>
            </a: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提供营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95280" y="2349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们的种植行动现在开始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 rot="363000">
            <a:off x="1258920" y="981000"/>
            <a:ext cx="66261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5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写好我们的观察日记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5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95280" y="1125360"/>
            <a:ext cx="85406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注意观察记录透明玻璃杯中的种子生长变化情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种子先长出什么，再长出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同方向放置的种子根的生长方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每天测量一次根的长度并记录下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注意观察记录花盆中的凤仙花生长变化情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凤仙花种子在第几天破土而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刚出土的凤仙花是什么样子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土两天后的凤仙花是什么样子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定期测量并记录凤仙花的高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●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观察记录凤仙花叶子的形状和数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39640" y="260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观察的内容有哪些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记录的方法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一、表格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27400" y="1911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凤仙花的生长变化记录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0920" y="2435400"/>
          <a:ext cx="8893080" cy="4422600"/>
        </p:xfrm>
        <a:graphic>
          <a:graphicData uri="http://schemas.openxmlformats.org/drawingml/2006/table">
            <a:tbl>
              <a:tblPr/>
              <a:tblGrid>
                <a:gridCol w="1270080"/>
                <a:gridCol w="1271520"/>
                <a:gridCol w="1270080"/>
                <a:gridCol w="1270080"/>
                <a:gridCol w="1269720"/>
                <a:gridCol w="1271520"/>
                <a:gridCol w="127008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我们做的事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观察到的现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根的长度（毫米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植株高度（厘米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叶的形状和数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月  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月    日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文本框 8200"/>
          <p:cNvSpPr/>
          <p:nvPr/>
        </p:nvSpPr>
        <p:spPr>
          <a:xfrm>
            <a:off x="2679840" y="1554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39640" y="54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二、文字图片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763640" y="141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凤仙花生长日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708360" y="2133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姓名：                         时间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79280" y="2708280"/>
          <a:ext cx="8569440" cy="3457440"/>
        </p:xfrm>
        <a:graphic>
          <a:graphicData uri="http://schemas.openxmlformats.org/drawingml/2006/table">
            <a:tbl>
              <a:tblPr/>
              <a:tblGrid>
                <a:gridCol w="2855880"/>
                <a:gridCol w="2857680"/>
                <a:gridCol w="2855880"/>
              </a:tblGrid>
              <a:tr h="17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生长变化记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凤仙花今天又长出了一对叶，这对叶与第一对叶不同，它的形状是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Picture 19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194328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3551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Arial"/>
              </a:rPr>
              <a:t>了解凤仙花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98064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凤仙花 别名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指甲草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透骨草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金凤花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洒金花，因其花头、翅、尾、足俱翘然如凤状，故又名金凤花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凤仙花属凤仙花科一年生草本花卉，产中国和印度。 凤仙花茎高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40-100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厘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3—9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月进行播种，以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月播种最为适宜，移栽不择时间。 生长期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4—9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月份，种子播入盆中后一般一个星期左右即发芽长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凤仙花性喜阳光，怕湿，耐热不耐寒，适生于疏松肥沃微酸土壤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其花形似蝴蝶，花色有粉红、大红、紫、白黄、洒金等，善变异。有的品种同一株上能开数种颜色的花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7e7ff"/>
                </a:solidFill>
                <a:latin typeface="Arial"/>
              </a:rPr>
              <a:t>三、日记式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5520" y="1125360"/>
            <a:ext cx="898848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AEF8-4803-482B-BBCA-186E8557CD6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50920" y="40428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观察时的注意事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95280" y="1484280"/>
            <a:ext cx="828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、从播种开始记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二、一般每周记录一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三、要记录生长变化过程中的几个关键时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播种——生根——发芽——花蕾——开花——结果——成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以上时间要准确记录，最好配有照片或图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四、最好要有自己独特的发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360" y="620640"/>
            <a:ext cx="7647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科学上把种子发芽叫做种子萌发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4000" y="2205000"/>
            <a:ext cx="630684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猜想一下种子萌发需要哪些条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258920" y="3500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阳光、水分、空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24699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练习题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5280" y="2421000"/>
            <a:ext cx="854064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只要种子完好就一定能够萌发。（  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阳光是种子发芽必不可少的条件。（  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多数植物的生命都是从种子开始的。（  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所有植物的生命都是从种子开始的。（  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594480" y="242100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236000" y="4076640"/>
            <a:ext cx="4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6840" y="296712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96360" y="342900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495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怎么播种凤仙花呢？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0000" y="3141360"/>
            <a:ext cx="669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选种        放土       下种        浇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32000" y="2133720"/>
            <a:ext cx="23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a4"/>
                </a:solidFill>
                <a:latin typeface="Arial"/>
              </a:rPr>
              <a:t>播种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00360" y="3429000"/>
            <a:ext cx="576360" cy="1440"/>
            <a:chOff x="2700360" y="3429000"/>
            <a:chExt cx="576360" cy="1440"/>
          </a:xfrm>
        </p:grpSpPr>
        <p:sp>
          <p:nvSpPr>
            <p:cNvPr id="228" name="箭头 90"/>
            <p:cNvSpPr/>
            <p:nvPr/>
          </p:nvSpPr>
          <p:spPr>
            <a:xfrm>
              <a:off x="2700360" y="3429000"/>
              <a:ext cx="576360" cy="1440"/>
            </a:xfrm>
            <a:prstGeom prst="line">
              <a:avLst/>
            </a:prstGeom>
            <a:ln w="93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700360" y="3429000"/>
              <a:ext cx="5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356000" y="3429000"/>
            <a:ext cx="576360" cy="1440"/>
            <a:chOff x="4356000" y="3429000"/>
            <a:chExt cx="576360" cy="1440"/>
          </a:xfrm>
        </p:grpSpPr>
        <p:sp>
          <p:nvSpPr>
            <p:cNvPr id="231" name="箭头 90"/>
            <p:cNvSpPr/>
            <p:nvPr/>
          </p:nvSpPr>
          <p:spPr>
            <a:xfrm>
              <a:off x="4356000" y="3429000"/>
              <a:ext cx="576360" cy="14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4356000" y="3429000"/>
              <a:ext cx="576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012000" y="3429000"/>
            <a:ext cx="576000" cy="3240"/>
            <a:chOff x="6012000" y="3429000"/>
            <a:chExt cx="576000" cy="3240"/>
          </a:xfrm>
        </p:grpSpPr>
        <p:sp>
          <p:nvSpPr>
            <p:cNvPr id="234" name="箭头 90"/>
            <p:cNvSpPr/>
            <p:nvPr/>
          </p:nvSpPr>
          <p:spPr>
            <a:xfrm>
              <a:off x="6012000" y="3429000"/>
              <a:ext cx="576000" cy="32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012000" y="3429000"/>
              <a:ext cx="576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播种前的准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11280" y="1514520"/>
            <a:ext cx="7129440" cy="5343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一、选种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1680" y="1341000"/>
            <a:ext cx="8540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要挑选那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颗粒饱满的、没有受过损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种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这个过程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选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二、花盆和土壤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80" y="1676520"/>
            <a:ext cx="854064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选一个合适的花盆，把一块小瓦片放在花盆的出水孔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95280" y="292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知道盖小瓦片的作用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95280" y="43657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土壤的选择有什么要求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61080" y="4365720"/>
            <a:ext cx="44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941c"/>
                </a:solidFill>
                <a:latin typeface="Arial"/>
              </a:rPr>
              <a:t>（疏松、肥沃、微酸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66560" y="3573360"/>
            <a:ext cx="65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941c"/>
                </a:solidFill>
                <a:latin typeface="Arial"/>
              </a:rPr>
              <a:t>防止花盆内积水使凤仙花种子糜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三、播种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1680" y="1676160"/>
            <a:ext cx="854064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手指在土中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小坑，深度约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厘米，每个小坑里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粒凤仙花的种子，再用土盖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23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