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4D0-9D53-4CDC-AA1F-393C5585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565C-C305-463C-84BF-E36D293A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7AC-7AFC-4F48-BEA5-E9D61C0C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F1D8-1188-4A57-A312-B7055FB1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1569-D6A7-4685-AB52-42604B8B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5B8B-D262-473F-BF67-A2341E5F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AAF2-E661-4B89-BFEA-2C230805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6321-DDFF-4FC9-9497-AABB2427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5734-4B11-4B27-98ED-D780AB98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6072-5AFC-44FD-A1BA-E9F09322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CCC9-9C8B-4534-B008-84E70BEE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F21A-18B0-4AF7-9763-3C305351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302E-6817-4785-923C-3C42C3E7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4A2A-C6B5-4B00-844C-58E64496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0925-D4F2-4D2F-9BC2-BADE228A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F205-65F5-4082-8BE2-76FF65DE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C437-55B1-4FC8-B69A-411643E0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2D96B-A130-451E-A1E9-7661039F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FC8BB-DFB0-4F53-9BC6-1FC05465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18E17-91C9-4276-A89E-1E7787B4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CBD37-2E32-478E-976C-A8B6492B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A3D02-DFA9-44B6-9DAB-A6E75DD9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D3E1-D313-4917-9C69-40389E46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8B394-22B2-4FE0-BCB8-A9B891BE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B749F-F6BB-434B-8B35-13A9E4B3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9B1E5-3260-4362-A400-D0A2A372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225EF-AEF7-4238-9A5E-E553E936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CBDD6-E61A-4C9E-97C8-A9FAE634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CC619-4EE4-47A5-AEFA-B9B699B6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8A045-9A21-403D-AED8-44919D4C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2934-061C-4DA0-B0BA-B1AE53FB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DD8C-3AC4-48B0-AF53-60FFF609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C7F6-628B-4480-AB30-C50597CF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CAEB-B598-480B-AE9B-0ABC60A1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9062-5251-47C5-8B1F-03240237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3A8E-1F39-4D7B-99BB-760ECD24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1030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1031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1032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F7B6-896E-40AB-A8A3-604852A3A649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86AC-C781-4FC3-913E-038572A623C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0F11-986D-4044-8F7F-90E3CE0EEEBA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" descr=""/>
          <p:cNvPicPr/>
          <p:nvPr/>
        </p:nvPicPr>
        <p:blipFill>
          <a:blip r:embed="rId1"/>
          <a:stretch/>
        </p:blipFill>
        <p:spPr>
          <a:xfrm>
            <a:off x="1920960" y="3284640"/>
            <a:ext cx="5275080" cy="2665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e9"/>
                </a:solidFill>
                <a:latin typeface="宋体"/>
                <a:ea typeface="宋体"/>
              </a:rPr>
              <a:t>庄子与惠子游于濠梁课件</a:t>
            </a:r>
            <a:r>
              <a:rPr b="1" lang="en-US" sz="4000" spc="-1" strike="noStrike">
                <a:solidFill>
                  <a:srgbClr val="ffffe9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e9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57200" y="62028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----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264c"/>
                </a:solidFill>
                <a:latin typeface="Times New Roman"/>
              </a:rPr>
              <a:t>庄子 秋水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264c"/>
                </a:solidFill>
                <a:latin typeface="宋体"/>
              </a:rPr>
              <a:t>幻灯片之家 </a:t>
            </a:r>
            <a:r>
              <a:rPr b="1" i="1" lang="en-US" sz="1600" spc="-1" strike="noStrike">
                <a:solidFill>
                  <a:srgbClr val="00264c"/>
                </a:solidFill>
                <a:latin typeface="宋体"/>
              </a:rPr>
              <a:t>http://www.eeppt.com</a:t>
            </a:r>
            <a:endParaRPr b="1" i="1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1038240" y="6080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i="1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i="1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i="1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i="1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i="1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i="1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i="1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i="1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1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8" name="Picture 1028" descr="C:\Documents and Settings\administrator\My Documents\My Pictures\zhuanzi.jpg"/>
          <p:cNvPicPr/>
          <p:nvPr/>
        </p:nvPicPr>
        <p:blipFill>
          <a:blip r:embed="rId1"/>
          <a:stretch/>
        </p:blipFill>
        <p:spPr>
          <a:xfrm>
            <a:off x="0" y="0"/>
            <a:ext cx="482616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29"/>
          <p:cNvSpPr/>
          <p:nvPr/>
        </p:nvSpPr>
        <p:spPr>
          <a:xfrm>
            <a:off x="4932360" y="762120"/>
            <a:ext cx="396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264c"/>
                </a:solidFill>
                <a:latin typeface="Times New Roman"/>
              </a:rPr>
              <a:t>庄周</a:t>
            </a:r>
            <a:endParaRPr b="1" i="1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264c"/>
                </a:solidFill>
                <a:latin typeface="Times New Roman"/>
              </a:rPr>
              <a:t>战国时期</a:t>
            </a:r>
            <a:endParaRPr b="1" i="1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264c"/>
                </a:solidFill>
                <a:latin typeface="Times New Roman"/>
              </a:rPr>
              <a:t>宋国人，</a:t>
            </a:r>
            <a:endParaRPr b="1" i="1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264c"/>
                </a:solidFill>
                <a:latin typeface="Times New Roman"/>
              </a:rPr>
              <a:t>哲学家，</a:t>
            </a:r>
            <a:endParaRPr b="1" i="1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264c"/>
                </a:solidFill>
                <a:latin typeface="Times New Roman"/>
              </a:rPr>
              <a:t>道家代表</a:t>
            </a:r>
            <a:endParaRPr b="1" i="1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264c"/>
                </a:solidFill>
                <a:latin typeface="Times New Roman"/>
              </a:rPr>
              <a:t>人物。与惠子是好友。</a:t>
            </a:r>
            <a:endParaRPr b="1" i="1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33"/>
                </a:solidFill>
                <a:latin typeface="Times New Roman"/>
              </a:rPr>
              <a:t>学习目标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264c"/>
                </a:solidFill>
                <a:latin typeface="Times New Roman"/>
              </a:rPr>
              <a:t>、掌握重点字词，熟练对译课文。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264c"/>
                </a:solidFill>
                <a:latin typeface="Times New Roman"/>
              </a:rPr>
              <a:t>、了解辩论内容，学会感受日常生活中的诗意。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2" name="文本框 8198"/>
          <p:cNvSpPr/>
          <p:nvPr/>
        </p:nvSpPr>
        <p:spPr>
          <a:xfrm>
            <a:off x="1763640" y="47260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598bbd"/>
                </a:solidFill>
                <a:uFillTx/>
                <a:latin typeface="Arial"/>
                <a:hlinkClick r:id="rId3"/>
              </a:rPr>
              <a:t>ppt</a:t>
            </a:r>
            <a:r>
              <a:rPr b="1" i="1" lang="zh-CN" sz="1600" spc="-1" strike="noStrike" u="sng">
                <a:solidFill>
                  <a:srgbClr val="598bbd"/>
                </a:solidFill>
                <a:uFillTx/>
                <a:latin typeface="Arial"/>
                <a:hlinkClick r:id="rId4"/>
              </a:rPr>
              <a:t>模板网站</a:t>
            </a:r>
            <a:r>
              <a:rPr b="1" i="1" lang="en-US" sz="1600" spc="-1" strike="noStrike">
                <a:solidFill>
                  <a:srgbClr val="00264c"/>
                </a:solidFill>
                <a:latin typeface="Arial"/>
              </a:rPr>
              <a:t>http://www.eeppt.com/</a:t>
            </a:r>
            <a:endParaRPr b="1" i="1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33"/>
                </a:solidFill>
                <a:latin typeface="Times New Roman"/>
              </a:rPr>
              <a:t>整体感知：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264c"/>
                </a:solidFill>
                <a:latin typeface="Times New Roman"/>
              </a:rPr>
              <a:t>用自己的话简要概述本文写了什么内容？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33"/>
                </a:solidFill>
                <a:latin typeface="Times New Roman"/>
              </a:rPr>
              <a:t>我会译：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264c"/>
                </a:solidFill>
                <a:latin typeface="Times New Roman"/>
              </a:rPr>
              <a:t>、是鱼之乐也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264c"/>
                </a:solidFill>
                <a:latin typeface="Times New Roman"/>
              </a:rPr>
              <a:t>、安知鱼之乐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00264c"/>
                </a:solidFill>
                <a:latin typeface="Times New Roman"/>
              </a:rPr>
              <a:t>、子之不知鱼之乐全矣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4</a:t>
            </a:r>
            <a:r>
              <a:rPr b="0" lang="zh-CN" sz="4400" spc="-1" strike="noStrike">
                <a:solidFill>
                  <a:srgbClr val="00264c"/>
                </a:solidFill>
                <a:latin typeface="Times New Roman"/>
              </a:rPr>
              <a:t>、请循其本？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5</a:t>
            </a:r>
            <a:r>
              <a:rPr b="0" lang="zh-CN" sz="4400" spc="-1" strike="noStrike">
                <a:solidFill>
                  <a:srgbClr val="00264c"/>
                </a:solidFill>
                <a:latin typeface="Times New Roman"/>
              </a:rPr>
              <a:t>、“汝安知鱼乐”云者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7" name="文本框 8198"/>
          <p:cNvSpPr/>
          <p:nvPr/>
        </p:nvSpPr>
        <p:spPr>
          <a:xfrm>
            <a:off x="3276720" y="11253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598bbd"/>
                </a:solidFill>
                <a:uFillTx/>
                <a:latin typeface="Arial"/>
                <a:hlinkClick r:id="rId6"/>
              </a:rPr>
              <a:t>ppt</a:t>
            </a:r>
            <a:r>
              <a:rPr b="1" i="1" lang="zh-CN" sz="1600" spc="-1" strike="noStrike" u="sng">
                <a:solidFill>
                  <a:srgbClr val="598bbd"/>
                </a:solidFill>
                <a:uFillTx/>
                <a:latin typeface="Arial"/>
                <a:hlinkClick r:id="rId7"/>
              </a:rPr>
              <a:t>模板网站</a:t>
            </a:r>
            <a:r>
              <a:rPr b="1" i="1" lang="en-US" sz="1600" spc="-1" strike="noStrike">
                <a:solidFill>
                  <a:srgbClr val="00264c"/>
                </a:solidFill>
                <a:latin typeface="Arial"/>
              </a:rPr>
              <a:t>http://www.eeppt.com/</a:t>
            </a:r>
            <a:endParaRPr b="1" i="1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33"/>
                </a:solidFill>
                <a:latin typeface="Times New Roman"/>
              </a:rPr>
              <a:t>研读与探究：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264c"/>
                </a:solidFill>
                <a:latin typeface="Times New Roman"/>
              </a:rPr>
              <a:t>、他们各自持什么观点？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264c"/>
                </a:solidFill>
                <a:latin typeface="Times New Roman"/>
              </a:rPr>
              <a:t>、你认为这场辩论的结果是什么？你同意谁的观点？为什么？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00264c"/>
                </a:solidFill>
                <a:latin typeface="Times New Roman"/>
              </a:rPr>
              <a:t>、模拟辩论要求：有明确的观点、立场坚定、必须针对对方论点进行辩论，不能离题</a:t>
            </a:r>
            <a:r>
              <a:rPr b="0" lang="zh-CN" sz="1800" spc="-1" strike="noStrike">
                <a:solidFill>
                  <a:srgbClr val="00264c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33"/>
                </a:solidFill>
                <a:latin typeface="Times New Roman"/>
              </a:rPr>
              <a:t>体验反思：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264c"/>
                </a:solidFill>
                <a:latin typeface="Times New Roman"/>
              </a:rPr>
              <a:t>庄子重视感悟和体会生活中的美，把自我的感情融入万物之中，这种审美追求在古典文学中比比皆是，联系所学文章试举例。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264c"/>
                </a:solidFill>
                <a:latin typeface="Arial"/>
                <a:ea typeface="宋体"/>
              </a:rPr>
              <a:t>www.eeppt.com</a:t>
            </a:r>
            <a:endParaRPr b="1" i="1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771B-F0AF-4C69-96BB-C28C15A97080}" type="slidenum">
              <a:rPr b="0" lang="zh-CN" sz="1400" spc="-1" strike="noStrike">
                <a:solidFill>
                  <a:srgbClr val="00264c"/>
                </a:solidFill>
                <a:latin typeface="Arial"/>
                <a:ea typeface="宋体"/>
              </a:rPr>
              <a:t>&lt;number&gt;</a:t>
            </a:fld>
            <a:endParaRPr b="1" i="1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33"/>
                </a:solidFill>
                <a:latin typeface="Times New Roman"/>
              </a:rPr>
              <a:t>送你一句话：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264c"/>
                </a:solidFill>
                <a:latin typeface="Times New Roman"/>
              </a:rPr>
              <a:t>身在其中，用心体会，发现生活之美。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02:28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9:51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