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0B77-03F1-48AE-9B0E-3AA9F872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E8A-9DE1-42D6-86B1-48B5FC7D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B37B-298F-4EA4-9E2F-10234F27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19A-9B17-4B42-B829-893F26B3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B1FD-7A36-4C6F-8ED0-7159BF0C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6DB8-DF00-4C6C-8DC6-436D1E34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D217-C86F-4E76-9FDA-3A023CF2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8C10-7BD4-4D9B-9E7F-E765500E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C8C6-CE59-4EC9-BCFD-D2F2E655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9088-40E7-46F7-B3F7-932D4135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75B8-0C6C-460A-98C5-8BE3F731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127-F7EE-4101-85F6-48265598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B2C3-4424-4AA1-8DF0-8034A4ED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7F00-9BF9-4A20-BFDB-DB40BDD3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477C-63D2-421F-A080-EA51C72A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3279-076E-4972-A4F4-D68DEED9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384D-DE1E-47AD-A34A-20FA2601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3A9B-7A70-41D1-9DEC-BC1B67A3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49A9-2AB7-46FA-900C-C460FABB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F59-471D-4929-A7FE-6E8838C3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3F62-13E9-40C3-A2AE-B243C5EC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835-6BD3-4ABE-9666-EE5546C9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2FF-13FB-4F7B-87E6-BC310612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8B7-DC9A-4F04-90F5-F23F6CF8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FC9BA3-88EB-4342-A799-560BC35F7D33}" type="slidenum">
              <a:rPr b="0" lang="ja-JP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EB4F6B-925D-4FA8-845D-793326FC9B8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正方形/長方形 3"/>
          <p:cNvSpPr/>
          <p:nvPr/>
        </p:nvSpPr>
        <p:spPr>
          <a:xfrm>
            <a:off x="324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太陽 4"/>
          <p:cNvGrpSpPr/>
          <p:nvPr/>
        </p:nvGrpSpPr>
        <p:grpSpPr>
          <a:xfrm>
            <a:off x="-541440" y="-1684440"/>
            <a:ext cx="10258560" cy="10258560"/>
            <a:chOff x="-541440" y="-1684440"/>
            <a:chExt cx="10258560" cy="10258560"/>
          </a:xfrm>
        </p:grpSpPr>
        <p:pic>
          <p:nvPicPr>
            <p:cNvPr id="83" name="太陽 4" descr=""/>
            <p:cNvPicPr/>
            <p:nvPr/>
          </p:nvPicPr>
          <p:blipFill>
            <a:blip r:embed="rId1"/>
            <a:stretch/>
          </p:blipFill>
          <p:spPr>
            <a:xfrm>
              <a:off x="-541440" y="-1684440"/>
              <a:ext cx="10258560" cy="102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5"/>
            <p:cNvSpPr/>
            <p:nvPr/>
          </p:nvSpPr>
          <p:spPr>
            <a:xfrm>
              <a:off x="4248000" y="3105000"/>
              <a:ext cx="6778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グループ化 106"/>
          <p:cNvGrpSpPr/>
          <p:nvPr/>
        </p:nvGrpSpPr>
        <p:grpSpPr>
          <a:xfrm>
            <a:off x="2052720" y="909720"/>
            <a:ext cx="5038560" cy="5775120"/>
            <a:chOff x="2052720" y="909720"/>
            <a:chExt cx="5038560" cy="5775120"/>
          </a:xfrm>
        </p:grpSpPr>
        <p:pic>
          <p:nvPicPr>
            <p:cNvPr id="86" name="テキスト ボックス 107" descr=""/>
            <p:cNvPicPr/>
            <p:nvPr/>
          </p:nvPicPr>
          <p:blipFill>
            <a:blip r:embed="rId2"/>
            <a:stretch/>
          </p:blipFill>
          <p:spPr>
            <a:xfrm>
              <a:off x="2052720" y="909720"/>
              <a:ext cx="5038560" cy="5775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円/楕円​​ 108"/>
            <p:cNvGrpSpPr/>
            <p:nvPr/>
          </p:nvGrpSpPr>
          <p:grpSpPr>
            <a:xfrm>
              <a:off x="2963520" y="1834200"/>
              <a:ext cx="3213000" cy="4100400"/>
              <a:chOff x="2963520" y="1834200"/>
              <a:chExt cx="3213000" cy="4100400"/>
            </a:xfrm>
          </p:grpSpPr>
          <p:pic>
            <p:nvPicPr>
              <p:cNvPr id="88" name="円/楕円​​ 108" descr=""/>
              <p:cNvPicPr/>
              <p:nvPr/>
            </p:nvPicPr>
            <p:blipFill>
              <a:blip r:embed="rId3"/>
              <a:stretch/>
            </p:blipFill>
            <p:spPr>
              <a:xfrm>
                <a:off x="2963520" y="1834200"/>
                <a:ext cx="3213000" cy="410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Text Box 10"/>
              <p:cNvSpPr/>
              <p:nvPr/>
            </p:nvSpPr>
            <p:spPr>
              <a:xfrm>
                <a:off x="3543840" y="2576520"/>
                <a:ext cx="2048400" cy="261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グループ化 103"/>
          <p:cNvGrpSpPr/>
          <p:nvPr/>
        </p:nvGrpSpPr>
        <p:grpSpPr>
          <a:xfrm>
            <a:off x="2052720" y="909720"/>
            <a:ext cx="5038560" cy="5775120"/>
            <a:chOff x="2052720" y="909720"/>
            <a:chExt cx="5038560" cy="5775120"/>
          </a:xfrm>
        </p:grpSpPr>
        <p:pic>
          <p:nvPicPr>
            <p:cNvPr id="91" name="テキスト ボックス 104" descr=""/>
            <p:cNvPicPr/>
            <p:nvPr/>
          </p:nvPicPr>
          <p:blipFill>
            <a:blip r:embed="rId4"/>
            <a:stretch/>
          </p:blipFill>
          <p:spPr>
            <a:xfrm>
              <a:off x="2052720" y="909720"/>
              <a:ext cx="5038560" cy="5775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円/楕円​​ 105"/>
            <p:cNvGrpSpPr/>
            <p:nvPr/>
          </p:nvGrpSpPr>
          <p:grpSpPr>
            <a:xfrm>
              <a:off x="2963520" y="1834200"/>
              <a:ext cx="3213000" cy="4100400"/>
              <a:chOff x="2963520" y="1834200"/>
              <a:chExt cx="3213000" cy="4100400"/>
            </a:xfrm>
          </p:grpSpPr>
          <p:pic>
            <p:nvPicPr>
              <p:cNvPr id="93" name="円/楕円​​ 105" descr=""/>
              <p:cNvPicPr/>
              <p:nvPr/>
            </p:nvPicPr>
            <p:blipFill>
              <a:blip r:embed="rId5"/>
              <a:stretch/>
            </p:blipFill>
            <p:spPr>
              <a:xfrm>
                <a:off x="2963520" y="1834200"/>
                <a:ext cx="3213000" cy="410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Text Box 15"/>
              <p:cNvSpPr/>
              <p:nvPr/>
            </p:nvSpPr>
            <p:spPr>
              <a:xfrm>
                <a:off x="3543840" y="2576520"/>
                <a:ext cx="2048400" cy="261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グループ化 100"/>
          <p:cNvGrpSpPr/>
          <p:nvPr/>
        </p:nvGrpSpPr>
        <p:grpSpPr>
          <a:xfrm>
            <a:off x="2052720" y="909720"/>
            <a:ext cx="5038560" cy="5775120"/>
            <a:chOff x="2052720" y="909720"/>
            <a:chExt cx="5038560" cy="5775120"/>
          </a:xfrm>
        </p:grpSpPr>
        <p:pic>
          <p:nvPicPr>
            <p:cNvPr id="96" name="テキスト ボックス 101" descr=""/>
            <p:cNvPicPr/>
            <p:nvPr/>
          </p:nvPicPr>
          <p:blipFill>
            <a:blip r:embed="rId6"/>
            <a:stretch/>
          </p:blipFill>
          <p:spPr>
            <a:xfrm>
              <a:off x="2052720" y="909720"/>
              <a:ext cx="5038560" cy="5775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円/楕円​​ 102"/>
            <p:cNvGrpSpPr/>
            <p:nvPr/>
          </p:nvGrpSpPr>
          <p:grpSpPr>
            <a:xfrm>
              <a:off x="2963520" y="1834200"/>
              <a:ext cx="3213000" cy="4100400"/>
              <a:chOff x="2963520" y="1834200"/>
              <a:chExt cx="3213000" cy="4100400"/>
            </a:xfrm>
          </p:grpSpPr>
          <p:pic>
            <p:nvPicPr>
              <p:cNvPr id="98" name="円/楕円​​ 102" descr=""/>
              <p:cNvPicPr/>
              <p:nvPr/>
            </p:nvPicPr>
            <p:blipFill>
              <a:blip r:embed="rId7"/>
              <a:stretch/>
            </p:blipFill>
            <p:spPr>
              <a:xfrm>
                <a:off x="2963520" y="1834200"/>
                <a:ext cx="3213000" cy="410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Text Box 20"/>
              <p:cNvSpPr/>
              <p:nvPr/>
            </p:nvSpPr>
            <p:spPr>
              <a:xfrm>
                <a:off x="3543840" y="2576520"/>
                <a:ext cx="2048400" cy="261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グループ化 97"/>
          <p:cNvGrpSpPr/>
          <p:nvPr/>
        </p:nvGrpSpPr>
        <p:grpSpPr>
          <a:xfrm>
            <a:off x="2052720" y="909720"/>
            <a:ext cx="5038560" cy="5775120"/>
            <a:chOff x="2052720" y="909720"/>
            <a:chExt cx="5038560" cy="5775120"/>
          </a:xfrm>
        </p:grpSpPr>
        <p:pic>
          <p:nvPicPr>
            <p:cNvPr id="101" name="テキスト ボックス 98" descr=""/>
            <p:cNvPicPr/>
            <p:nvPr/>
          </p:nvPicPr>
          <p:blipFill>
            <a:blip r:embed="rId8"/>
            <a:stretch/>
          </p:blipFill>
          <p:spPr>
            <a:xfrm>
              <a:off x="2052720" y="909720"/>
              <a:ext cx="5038560" cy="5775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円/楕円​​ 99"/>
            <p:cNvGrpSpPr/>
            <p:nvPr/>
          </p:nvGrpSpPr>
          <p:grpSpPr>
            <a:xfrm>
              <a:off x="2963520" y="1834200"/>
              <a:ext cx="3213000" cy="4100400"/>
              <a:chOff x="2963520" y="1834200"/>
              <a:chExt cx="3213000" cy="4100400"/>
            </a:xfrm>
          </p:grpSpPr>
          <p:pic>
            <p:nvPicPr>
              <p:cNvPr id="103" name="円/楕円​​ 99" descr=""/>
              <p:cNvPicPr/>
              <p:nvPr/>
            </p:nvPicPr>
            <p:blipFill>
              <a:blip r:embed="rId9"/>
              <a:stretch/>
            </p:blipFill>
            <p:spPr>
              <a:xfrm>
                <a:off x="2963520" y="1834200"/>
                <a:ext cx="3213000" cy="410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Text Box 25"/>
              <p:cNvSpPr/>
              <p:nvPr/>
            </p:nvSpPr>
            <p:spPr>
              <a:xfrm>
                <a:off x="3543840" y="2576520"/>
                <a:ext cx="2048400" cy="261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グループ化 8"/>
          <p:cNvGrpSpPr/>
          <p:nvPr/>
        </p:nvGrpSpPr>
        <p:grpSpPr>
          <a:xfrm>
            <a:off x="2052720" y="909720"/>
            <a:ext cx="5038560" cy="5775120"/>
            <a:chOff x="2052720" y="909720"/>
            <a:chExt cx="5038560" cy="5775120"/>
          </a:xfrm>
        </p:grpSpPr>
        <p:pic>
          <p:nvPicPr>
            <p:cNvPr id="106" name="テキスト ボックス 1" descr=""/>
            <p:cNvPicPr/>
            <p:nvPr/>
          </p:nvPicPr>
          <p:blipFill>
            <a:blip r:embed="rId10"/>
            <a:stretch/>
          </p:blipFill>
          <p:spPr>
            <a:xfrm>
              <a:off x="2052720" y="909720"/>
              <a:ext cx="5038560" cy="5775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円/楕円​​ 2"/>
            <p:cNvGrpSpPr/>
            <p:nvPr/>
          </p:nvGrpSpPr>
          <p:grpSpPr>
            <a:xfrm>
              <a:off x="2963520" y="1834200"/>
              <a:ext cx="3213000" cy="4100400"/>
              <a:chOff x="2963520" y="1834200"/>
              <a:chExt cx="3213000" cy="4100400"/>
            </a:xfrm>
          </p:grpSpPr>
          <p:pic>
            <p:nvPicPr>
              <p:cNvPr id="108" name="円/楕円​​ 2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63520" y="1834200"/>
                <a:ext cx="3213000" cy="410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Text Box 30"/>
              <p:cNvSpPr/>
              <p:nvPr/>
            </p:nvSpPr>
            <p:spPr>
              <a:xfrm>
                <a:off x="3543840" y="2576520"/>
                <a:ext cx="2048400" cy="261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正方形/長方形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"/>
          <p:cNvSpPr/>
          <p:nvPr/>
        </p:nvSpPr>
        <p:spPr>
          <a:xfrm>
            <a:off x="2253240" y="665280"/>
            <a:ext cx="50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5432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倒计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3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7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1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 repeatCount="2000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5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 repeatCount="4000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  <a:ea typeface="MS PGothic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3:05:06Z</dcterms:created>
  <dc:creator/>
  <dc:description/>
  <cp:keywords/>
  <dc:language>en-US</dc:language>
  <cp:lastModifiedBy>a</cp:lastModifiedBy>
  <dcterms:modified xsi:type="dcterms:W3CDTF">2015-07-20T09:39:33Z</dcterms:modified>
  <cp:revision>3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