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666C-5870-46CA-86CA-B06EE4A6F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860-9D26-424F-ACE0-B30001FC2A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C18D-5895-4FF9-B3AA-6CD45785E7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AB8C-A720-4D91-AE71-294BBAD178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3EDE-AD42-40FF-BD8B-D295F7CED5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281-E5CD-4D84-8D7B-7FC626F919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8AD9-7A19-43F0-B7F2-E46E20A49A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BC9D-6607-4C49-AC10-7240960527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E6E-BA34-458C-B04C-8D9FEA4F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352-71C0-4D36-B28F-72D29BCB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7246F-E60C-4946-995A-1077FE6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AC011-70CA-448E-A286-54FAC19A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C2A77-0331-42EF-9D44-BDFC91D7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45DEA-7BBB-4CEE-ABAF-DA625C9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74D4F-DCB2-4FDE-AE88-7F6FB68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0AD95-D0A9-47F5-9743-661E901A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CBFC-DFEC-4F9A-BEAB-C3786974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1148E-9465-43EC-B108-9671851C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BE10-36BA-4D9A-8F37-525F0D47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170-135E-4778-990D-B8C8EA24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F27-1EBD-41C7-8C91-D109F3EF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0CF2-82EB-48F7-86B7-6A704A11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3CD-0000-4933-9FB9-520D3BF5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6B64-2DD1-4456-A556-13E0F821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52FB-3AB4-4EAA-AB3C-1B38A2B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8FFA-3F89-4EF9-A95D-CF822CA2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F290-B00E-476E-9E3E-6B48D44A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B6EF-F290-4E05-9DC6-D4483D8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777-C9EE-46C1-8AB2-DBEE4E2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6321-2C28-438A-BDAE-1CACE2F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CAB6-6211-4397-9470-1443E26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CE5-A38C-4CB5-8077-BBF44515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9885-AF0C-48D8-902D-0AA811D8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4C38-502C-488F-9D28-805852CD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E7C2-FCB5-4B49-937D-F73C0911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28550-250B-4CED-98DE-F8F05C5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192F-A9B2-4A8C-9628-269AAF4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F076-9A86-423C-A644-8BC6FA4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4E06-8BB6-40F2-B897-75B8C4A4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505-9AF0-43BA-A778-1C4C3F78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3CB7-ACEC-468A-A6F5-65C4859D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BE16-645D-48C7-AB39-AA7CEB6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55F5-0335-4081-AE0A-0F64339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72E4-20C6-42DF-9FE8-0FF85B7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C30D-1E2D-4176-B884-4315025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312C-B970-4981-BB7F-45CA650D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FDC2-5ED9-4021-BC77-9C8B60BC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2DD5-2C40-4C30-9727-5173A701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3F9F-1A29-415D-BB6E-407AFAC6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07EF5-17CB-4E57-9256-291E1D79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D0C-A4B1-44D3-A36F-E20A36B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07ADE-CD6A-424D-9AC4-DDB08506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1930-6BBB-4FDA-8E0D-C17DA885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1E008-66F9-4DD6-8363-F05E0B39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C711-5096-4799-8645-871EB57C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298C-22D8-401C-872A-9121116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4D03-EAB0-4B06-AF39-C7EC2D5E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0D66-CFC7-420D-B983-9A29A249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FE0F-1116-490D-8FC1-71C2CED3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FF79E-6FBB-45BB-904D-A99A435C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186F6-4135-44C9-823F-7EAF8E98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221-15C3-4F20-ADC6-FFEA1026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F27C-4FBA-486B-A548-5D1BF6AB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3E64C-7847-4A73-9BC9-D2F5010A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E638-074C-45B1-9AC2-5607F8BE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2B14C-ECC9-4315-A98A-D3A6E2E9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7275-57BE-47D3-9295-0675B73E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6EAA-AC4A-45EC-8AA7-F13EF9D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34B9-DF6D-41B6-ABEE-5C19C2A3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56E0-9381-4808-8F63-C1BE456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FC64-5AB3-4007-A7EB-83EFC68F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408F-FEB3-4AB2-A3A9-303E631A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6B0-91EC-4915-8C47-3BCFB03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7039-39E1-44FA-86B1-13F1679F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1C5E-00E3-46A5-AF4C-BA355055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A25F9-7DB9-471A-9A17-26BC58A4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4350-3499-4211-94C7-CDC71648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AE71B-0A9A-4A53-A084-E81246B6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896E-374A-41FF-B221-1178FCA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B5C8-F79A-49AE-A1B2-C34CFC76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30343-6364-4CD2-9D9B-42462BE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704B-32C1-436D-8F82-7F0676C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29C1-0F2C-4698-BCD6-4294470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162-2A7F-451B-931E-10EC31F6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0B35A-1C02-4363-98A5-379817E5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BC35D-ED6D-4AA3-8598-44BCE39E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D86A2-5400-413D-951D-9230582B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71584-6AEC-4D72-A1CF-83309202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572F-35CC-4E92-B60A-C42469AB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2F03A-83EE-44A5-8AED-A79EA9ED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E0215-5B8C-42AF-9ACB-5BF3EA44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2A6A0-2B28-4423-910F-AD1DB110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1FF07-A5B0-4AD1-B909-D8A6204B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78BEE-3915-4552-AD08-C9CC23C5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BDD-29D4-4543-AA3C-EECF255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7F13E-A302-4F52-8FC8-CF1FDE8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0493-0876-43B9-B084-C7EC829C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E2B43-8A14-487E-B057-111EF30E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7B1D-0948-424B-9BE2-70B31BB0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F4BF8-EE21-4F36-8FF0-21603049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B99D5-66C4-4437-8C69-1E7B0F07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EA12F-63D2-42C5-A851-285AEFB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1886D-B780-487E-AF1C-B39D564A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5D6ED-22CA-42D3-BBBA-83D3E853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BA21D-3E8E-4870-8D78-C8C484F7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CE2-6343-4CE4-B2F8-40A2CAB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103C-4357-4920-9E27-EAD502CE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852E2-25C7-445C-89D2-927D5F7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C0C8B-44CE-4A68-93D6-C039778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D5ABA-7535-4FFC-A000-9156BD6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8A743-5FD2-4D1E-A6D7-AE93FF6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B868-8E55-42D4-8405-E83BFF41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49979-9755-461E-9E6D-D703E535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094F-AE70-4BFA-9FCF-525173E7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5B975-5925-4E0E-B04E-6D04FDCA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4C4E3-C91D-46ED-9F19-C3F65B4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87C-1EBF-4D8B-B694-2F92591C16D7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106F-F4F3-4512-8A01-30ECDD419D09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87A0-014C-45C6-8311-14776FB13C27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6D4-09F8-4369-BC9C-37435AA1251F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96E5-F55D-41C8-8BC8-02456E44A020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A40C-C600-48EB-A781-025B1502D006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0008-D317-41FE-95DE-F69C21A1A247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54D-585D-4B3A-9A0C-17073488B4C8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C13A-6096-470B-9165-7CA3C6CD7590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DD98-CB49-45D3-B7DD-49DC4C41AE55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C54-4941-477E-A17E-85826C51066A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EC58-0901-41FC-B96D-1603E5EB7FD8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BA9E-E671-48B6-9559-D5DE2A8FD71F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901D-9A43-45B5-92AF-7C7B1C1FEEA3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68FE-86DD-4076-A7F5-BBDC960E3B34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D852-1E2F-449C-BB97-17975DC65BA2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C74D-CD0C-49F9-B2DD-0B128B071FC2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30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B63-86FD-4DD6-A067-7C8D348BA63B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" descr=""/>
          <p:cNvPicPr/>
          <p:nvPr/>
        </p:nvPicPr>
        <p:blipFill>
          <a:blip r:embed="rId1"/>
          <a:stretch/>
        </p:blipFill>
        <p:spPr>
          <a:xfrm>
            <a:off x="189000" y="4743360"/>
            <a:ext cx="8650080" cy="1333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公司名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财务绩效概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076120" y="838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策略推荐商务管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重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收益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收入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资产负债表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资产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股票绩效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A. Datum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公司向全世界提供产品和服务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此演示文稿提供了财务绩效概况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除标明“公司机密”以外的所有信息均为公开信息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304920" y="1554120"/>
          <a:ext cx="8686800" cy="2438280"/>
        </p:xfrm>
        <a:graphic>
          <a:graphicData uri="http://schemas.openxmlformats.org/drawingml/2006/table">
            <a:tbl>
              <a:tblPr/>
              <a:tblGrid>
                <a:gridCol w="3619440"/>
                <a:gridCol w="2573280"/>
                <a:gridCol w="2494080"/>
              </a:tblGrid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（单位百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去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今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净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净收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每股盈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净收入回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现金和短期投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总资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股东权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pic>
        <p:nvPicPr>
          <p:cNvPr id="416" name="Chart 3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pic>
        <p:nvPicPr>
          <p:cNvPr id="418" name="Chart 3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0" name=""/>
          <p:cNvGraphicFramePr/>
          <p:nvPr/>
        </p:nvGraphicFramePr>
        <p:xfrm>
          <a:off x="304920" y="1554120"/>
          <a:ext cx="8686800" cy="4267080"/>
        </p:xfrm>
        <a:graphic>
          <a:graphicData uri="http://schemas.openxmlformats.org/drawingml/2006/table">
            <a:tbl>
              <a:tblPr/>
              <a:tblGrid>
                <a:gridCol w="3378240"/>
                <a:gridCol w="2735280"/>
                <a:gridCol w="2573280"/>
              </a:tblGrid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去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今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资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现金和短期投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收帐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库存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总资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负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付帐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付赔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付所得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总负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股东权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21" name="Text Box 6"/>
          <p:cNvSpPr/>
          <p:nvPr/>
        </p:nvSpPr>
        <p:spPr>
          <a:xfrm>
            <a:off x="15228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pic>
        <p:nvPicPr>
          <p:cNvPr id="423" name="Chart 3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34:00Z</dcterms:created>
  <dc:creator/>
  <dc:description/>
  <dc:language>en-US</dc:language>
  <cp:lastModifiedBy/>
  <dcterms:modified xsi:type="dcterms:W3CDTF">2015-07-25T06:45:25Z</dcterms:modified>
  <cp:revision>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172052</vt:lpwstr>
  </property>
</Properties>
</file>