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51.png" ContentType="image/png"/>
  <Override PartName="/ppt/media/image50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33.jpeg" ContentType="image/jpeg"/>
  <Override PartName="/ppt/media/image31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84.png" ContentType="image/png"/>
  <Override PartName="/ppt/media/image36.png" ContentType="image/png"/>
  <Override PartName="/ppt/media/image6.png" ContentType="image/png"/>
  <Override PartName="/ppt/media/image42.jpeg" ContentType="image/jpeg"/>
  <Override PartName="/ppt/media/image83.png" ContentType="image/png"/>
  <Override PartName="/ppt/media/image29.png" ContentType="image/png"/>
  <Override PartName="/ppt/media/image94.png" ContentType="image/png"/>
  <Override PartName="/ppt/media/image4.png" ContentType="image/png"/>
  <Override PartName="/ppt/media/image81.png" ContentType="image/png"/>
  <Override PartName="/ppt/media/image30.png" ContentType="image/png"/>
  <Override PartName="/ppt/media/image32.png" ContentType="image/png"/>
  <Override PartName="/ppt/media/image64.png" ContentType="image/png"/>
  <Override PartName="/ppt/media/image77.jpeg" ContentType="image/jpeg"/>
  <Override PartName="/ppt/media/image66.png" ContentType="image/png"/>
  <Override PartName="/ppt/media/image67.jpeg" ContentType="image/jpeg"/>
  <Override PartName="/ppt/media/image58.png" ContentType="image/png"/>
  <Override PartName="/ppt/media/image78.png" ContentType="image/png"/>
  <Override PartName="/ppt/media/image69.jpeg" ContentType="image/jpeg"/>
  <Override PartName="/ppt/media/image89.png" ContentType="image/png"/>
  <Override PartName="/ppt/media/image27.jpeg" ContentType="image/jpeg"/>
  <Override PartName="/ppt/media/image52.png" ContentType="image/png"/>
  <Override PartName="/ppt/media/image73.png" ContentType="image/png"/>
  <Override PartName="/ppt/media/image74.png" ContentType="image/png"/>
  <Override PartName="/ppt/media/image16.jpeg" ContentType="image/jpeg"/>
  <Override PartName="/ppt/media/image71.jpeg" ContentType="image/jpeg"/>
  <Override PartName="/ppt/media/image102.png" ContentType="image/png"/>
  <Override PartName="/ppt/media/image95.png" ContentType="image/png"/>
  <Override PartName="/ppt/media/image88.png" ContentType="image/png"/>
  <Override PartName="/ppt/media/image76.png" ContentType="image/png"/>
  <Override PartName="/ppt/media/image101.png" ContentType="image/png"/>
  <Override PartName="/ppt/media/image18.jpeg" ContentType="image/jpeg"/>
  <Override PartName="/ppt/media/image15.png" ContentType="image/png"/>
  <Override PartName="/ppt/media/image87.png" ContentType="image/png"/>
  <Override PartName="/ppt/media/image65.png" ContentType="image/png"/>
  <Override PartName="/ppt/media/image100.jpeg" ContentType="image/jpeg"/>
  <Override PartName="/ppt/media/image80.jpeg" ContentType="image/jpeg"/>
  <Override PartName="/ppt/media/image75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70.jpeg" ContentType="image/jpeg"/>
  <Override PartName="/ppt/media/image35.png" ContentType="image/png"/>
  <Override PartName="/ppt/media/image92.png" ContentType="image/png"/>
  <Override PartName="/ppt/media/image99.jpeg" ContentType="image/jpeg"/>
  <Override PartName="/ppt/media/image79.png" ContentType="image/png"/>
  <Override PartName="/ppt/media/image68.jpeg" ContentType="image/jpeg"/>
  <Override PartName="/ppt/media/image96.png" ContentType="image/png"/>
  <Override PartName="/ppt/media/image62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59.png" ContentType="image/png"/>
  <Override PartName="/ppt/media/image19.jpeg" ContentType="image/jpeg"/>
  <Override PartName="/ppt/media/image25.png" ContentType="image/png"/>
  <Override PartName="/ppt/media/image90.png" ContentType="image/png"/>
  <Override PartName="/ppt/media/image26.png" ContentType="image/png"/>
  <Override PartName="/ppt/media/image91.png" ContentType="image/png"/>
  <Override PartName="/ppt/media/image17.jpeg" ContentType="image/jpeg"/>
  <Override PartName="/ppt/media/image5.png" ContentType="image/png"/>
  <Override PartName="/ppt/media/image82.png" ContentType="image/png"/>
  <Override PartName="/ppt/media/image43.jpeg" ContentType="image/jpeg"/>
  <Override PartName="/ppt/media/image93.png" ContentType="image/png"/>
  <Override PartName="/ppt/media/image28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.png" ContentType="image/png"/>
  <Override PartName="/ppt/media/image14.png" ContentType="image/png"/>
  <Override PartName="/ppt/media/image7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8288000" cy="102997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50E-3D73-4A94-8A56-96FA929D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1645884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5919480"/>
            <a:ext cx="1645884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F53-033B-4A90-B9DE-27D3A53F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348120" y="236880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591948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9348120" y="591948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24E6-06F8-4257-9D8D-7B012432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529956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9280" y="2368800"/>
            <a:ext cx="529956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044160" y="2368800"/>
            <a:ext cx="529956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5919480"/>
            <a:ext cx="529956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479280" y="5919480"/>
            <a:ext cx="529956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2044160" y="5919480"/>
            <a:ext cx="529956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179E-3CCE-471B-BB08-0BBF63E5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7B38-3BAA-4DCF-99BA-C91AB244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2368800"/>
            <a:ext cx="1645884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C30F-57D9-47B7-BB0F-D4C3D74A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1645884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5AB9-BFCD-40E2-A655-042F8AE4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803160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9348120" y="2368800"/>
            <a:ext cx="803160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F5AD-D0C9-4818-B084-2701B8DD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CAEB-DE33-44C3-919C-692250C0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70240" y="795960"/>
            <a:ext cx="1174752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7D7A-1B6A-474C-9739-934D6E23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9348120" y="2368800"/>
            <a:ext cx="803160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591948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B132-2A6F-4275-BCAE-CA99D314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368800"/>
            <a:ext cx="1645884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D145-9458-477D-BEA8-114C3180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803160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348120" y="236880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48120" y="591948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897D-9AED-4F45-B46F-F1CF5A12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348120" y="236880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5919480"/>
            <a:ext cx="1645884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C212-B3C9-482A-8905-8F2B3767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1645884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5919480"/>
            <a:ext cx="1645884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879E-AF41-4893-A26A-402F9988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348120" y="236880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591948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348120" y="591948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0FF2-C4F8-46D8-BD59-79E3AE24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529956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9280" y="2368800"/>
            <a:ext cx="529956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044160" y="2368800"/>
            <a:ext cx="529956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5919480"/>
            <a:ext cx="529956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6479280" y="5919480"/>
            <a:ext cx="529956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12044160" y="5919480"/>
            <a:ext cx="529956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59E6-E17F-44AD-9A02-4F15210E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018E8-8968-4CE7-9CEB-BFB24734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2368800"/>
            <a:ext cx="1645884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3F33F-7FFF-47FB-AEBE-DF97EF93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1645884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F3E73-5C3B-4CD5-A4BC-1B1F837E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803160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348120" y="2368800"/>
            <a:ext cx="803160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B64E0-D1ED-4F4A-9B29-3552AF97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AFA5D-F367-41BB-881D-84EBEFDE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1645884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41CA-4604-4B7E-AA02-3D9B07E9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270240" y="795960"/>
            <a:ext cx="1174752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06975-0322-4F8B-B05F-0C557C70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348120" y="2368800"/>
            <a:ext cx="803160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591948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383E9-A196-4932-8602-8B1C4D13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803160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348120" y="236880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348120" y="591948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54F93-5262-4A4E-88BD-7B5E977B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348120" y="236880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5919480"/>
            <a:ext cx="1645884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0DE6F-DA5F-4DE3-9898-FD57ACD8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1645884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5919480"/>
            <a:ext cx="1645884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9E18C-332B-474F-8313-D306907F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348120" y="236880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591948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348120" y="591948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64997-3D44-455C-A0B0-C512D755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529956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479280" y="2368800"/>
            <a:ext cx="529956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044160" y="2368800"/>
            <a:ext cx="529956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5919480"/>
            <a:ext cx="529956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6479280" y="5919480"/>
            <a:ext cx="529956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12044160" y="5919480"/>
            <a:ext cx="529956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8909D-5A2D-43BD-A2C9-577B3C42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A5B8B-394A-45C8-8CCF-37592882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2368800"/>
            <a:ext cx="1645884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CD7CF-DFA7-47C6-B429-AC202987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1645884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EF5AF-7B89-4CF5-8855-9AD533E0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803160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9348120" y="2368800"/>
            <a:ext cx="803160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6109-6CB4-4D8B-906C-1550B6D4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803160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348120" y="2368800"/>
            <a:ext cx="803160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EBEC2-C14C-4C3A-80B4-3DAA2256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A06AB-89DD-4366-A4D5-8646FE8F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270240" y="795960"/>
            <a:ext cx="1174752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7C97D-8277-4CB7-B917-91D177BD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9348120" y="2368800"/>
            <a:ext cx="803160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591948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505F3-1B6B-4762-8C97-2AF40C1D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803160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348120" y="236880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348120" y="591948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293F2-B32A-4A6D-8978-C5B3827A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348120" y="236880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5919480"/>
            <a:ext cx="1645884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E06F4-31E5-48AD-B42E-4C75E116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1645884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5919480"/>
            <a:ext cx="1645884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D4903-3104-4C81-AA9A-6733C99C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9348120" y="236880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591948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9348120" y="591948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48D4C-9F7F-4A1E-BB32-7D0A287E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529956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479280" y="2368800"/>
            <a:ext cx="529956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2044160" y="2368800"/>
            <a:ext cx="529956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5919480"/>
            <a:ext cx="529956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6479280" y="5919480"/>
            <a:ext cx="529956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12044160" y="5919480"/>
            <a:ext cx="529956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E28AF-89F3-41CE-A865-C6516788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59E7-88F5-4181-8069-37B71690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70240" y="795960"/>
            <a:ext cx="1174752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94FB-D641-447F-BB04-05E4ED51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9348120" y="2368800"/>
            <a:ext cx="803160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591948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10A6-C9E5-4439-9A4A-137267C0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803160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348120" y="236880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348120" y="591948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E709-3ECB-459D-BDBE-4FDE295C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36880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348120" y="2368800"/>
            <a:ext cx="803160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5919480"/>
            <a:ext cx="16458840" cy="32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03E-03B6-416E-AEF8-F3C1E9F9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k object 16" hidden="1"/>
          <p:cNvSpPr/>
          <p:nvPr/>
        </p:nvSpPr>
        <p:spPr>
          <a:xfrm>
            <a:off x="0" y="2402640"/>
            <a:ext cx="18287640" cy="7893360"/>
          </a:xfrm>
          <a:custGeom>
            <a:avLst/>
            <a:gdLst>
              <a:gd name="textAreaLeft" fmla="*/ 0 w 18287640"/>
              <a:gd name="textAreaRight" fmla="*/ 18288000 w 18287640"/>
              <a:gd name="textAreaTop" fmla="*/ 0 h 7893360"/>
              <a:gd name="textAreaBottom" fmla="*/ 7893720 h 7893360"/>
            </a:gdLst>
            <a:ahLst/>
            <a:rect l="textAreaLeft" t="textAreaTop" r="textAreaRight" b="textAreaBottom"/>
            <a:pathLst>
              <a:path w="18288000" h="7893558">
                <a:moveTo>
                  <a:pt x="0" y="7893558"/>
                </a:moveTo>
                <a:lnTo>
                  <a:pt x="18288000" y="7893558"/>
                </a:lnTo>
                <a:lnTo>
                  <a:pt x="18288000" y="0"/>
                </a:lnTo>
                <a:lnTo>
                  <a:pt x="0" y="0"/>
                </a:lnTo>
                <a:lnTo>
                  <a:pt x="0" y="7893558"/>
                </a:lnTo>
                <a:close/>
              </a:path>
            </a:pathLst>
          </a:custGeom>
          <a:solidFill>
            <a:srgbClr val="4fc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694800" y="9790560"/>
            <a:ext cx="331308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15906600" y="9788040"/>
            <a:ext cx="113400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17536680" y="9781560"/>
            <a:ext cx="12780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buNone/>
              <a:defRPr b="0" lang="en-US" sz="1200" spc="-12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5560" indent="0">
              <a:lnSpc>
                <a:spcPct val="100000"/>
              </a:lnSpc>
              <a:buNone/>
            </a:pPr>
            <a:fld id="{297758DE-5ABF-4A51-8F61-C63FE7CF0D28}" type="slidenum">
              <a:rPr b="0" lang="en-US" sz="1200" spc="-12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588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914400" y="2409840"/>
            <a:ext cx="1645884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bk object 16"/>
          <p:cNvSpPr/>
          <p:nvPr/>
        </p:nvSpPr>
        <p:spPr>
          <a:xfrm>
            <a:off x="0" y="2402640"/>
            <a:ext cx="18287640" cy="7893360"/>
          </a:xfrm>
          <a:custGeom>
            <a:avLst/>
            <a:gdLst>
              <a:gd name="textAreaLeft" fmla="*/ 0 w 18287640"/>
              <a:gd name="textAreaRight" fmla="*/ 18288000 w 18287640"/>
              <a:gd name="textAreaTop" fmla="*/ 0 h 7893360"/>
              <a:gd name="textAreaBottom" fmla="*/ 7893720 h 7893360"/>
            </a:gdLst>
            <a:ahLst/>
            <a:rect l="textAreaLeft" t="textAreaTop" r="textAreaRight" b="textAreaBottom"/>
            <a:pathLst>
              <a:path w="18288000" h="7893558">
                <a:moveTo>
                  <a:pt x="0" y="7893558"/>
                </a:moveTo>
                <a:lnTo>
                  <a:pt x="18288000" y="7893558"/>
                </a:lnTo>
                <a:lnTo>
                  <a:pt x="18288000" y="0"/>
                </a:lnTo>
                <a:lnTo>
                  <a:pt x="0" y="0"/>
                </a:lnTo>
                <a:lnTo>
                  <a:pt x="0" y="7893558"/>
                </a:lnTo>
                <a:close/>
              </a:path>
            </a:pathLst>
          </a:custGeom>
          <a:solidFill>
            <a:srgbClr val="4fc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694800" y="9790560"/>
            <a:ext cx="331308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5"/>
          </p:nvPr>
        </p:nvSpPr>
        <p:spPr>
          <a:xfrm>
            <a:off x="15906600" y="9788040"/>
            <a:ext cx="113400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17536680" y="9781560"/>
            <a:ext cx="12780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buNone/>
              <a:defRPr b="0" lang="en-US" sz="1200" spc="-12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5560" indent="0">
              <a:lnSpc>
                <a:spcPct val="100000"/>
              </a:lnSpc>
              <a:buNone/>
            </a:pPr>
            <a:fld id="{096A3FF7-C8F7-4DE2-9F7F-25C4AEF01BB3}" type="slidenum">
              <a:rPr b="0" lang="en-US" sz="1200" spc="-12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14400" y="2409840"/>
            <a:ext cx="1645884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bk object 16" hidden="1"/>
          <p:cNvSpPr/>
          <p:nvPr/>
        </p:nvSpPr>
        <p:spPr>
          <a:xfrm>
            <a:off x="0" y="2402640"/>
            <a:ext cx="18287640" cy="7893360"/>
          </a:xfrm>
          <a:custGeom>
            <a:avLst/>
            <a:gdLst>
              <a:gd name="textAreaLeft" fmla="*/ 0 w 18287640"/>
              <a:gd name="textAreaRight" fmla="*/ 18288000 w 18287640"/>
              <a:gd name="textAreaTop" fmla="*/ 0 h 7893360"/>
              <a:gd name="textAreaBottom" fmla="*/ 7893720 h 7893360"/>
            </a:gdLst>
            <a:ahLst/>
            <a:rect l="textAreaLeft" t="textAreaTop" r="textAreaRight" b="textAreaBottom"/>
            <a:pathLst>
              <a:path w="18288000" h="7893558">
                <a:moveTo>
                  <a:pt x="0" y="7893558"/>
                </a:moveTo>
                <a:lnTo>
                  <a:pt x="18288000" y="7893558"/>
                </a:lnTo>
                <a:lnTo>
                  <a:pt x="18288000" y="0"/>
                </a:lnTo>
                <a:lnTo>
                  <a:pt x="0" y="0"/>
                </a:lnTo>
                <a:lnTo>
                  <a:pt x="0" y="7893558"/>
                </a:lnTo>
                <a:close/>
              </a:path>
            </a:pathLst>
          </a:custGeom>
          <a:solidFill>
            <a:srgbClr val="4fc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bk object 16"/>
          <p:cNvSpPr/>
          <p:nvPr/>
        </p:nvSpPr>
        <p:spPr>
          <a:xfrm>
            <a:off x="0" y="0"/>
            <a:ext cx="18273960" cy="1947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bk object 17"/>
          <p:cNvSpPr/>
          <p:nvPr/>
        </p:nvSpPr>
        <p:spPr>
          <a:xfrm>
            <a:off x="841320" y="2505600"/>
            <a:ext cx="8265960" cy="70038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bk object 18"/>
          <p:cNvSpPr/>
          <p:nvPr/>
        </p:nvSpPr>
        <p:spPr>
          <a:xfrm>
            <a:off x="4032360" y="5742360"/>
            <a:ext cx="1462680" cy="292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bk object 19"/>
          <p:cNvSpPr/>
          <p:nvPr/>
        </p:nvSpPr>
        <p:spPr>
          <a:xfrm>
            <a:off x="10003680" y="7543800"/>
            <a:ext cx="575640" cy="3790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bk object 20"/>
          <p:cNvSpPr/>
          <p:nvPr/>
        </p:nvSpPr>
        <p:spPr>
          <a:xfrm>
            <a:off x="10753200" y="7543800"/>
            <a:ext cx="1682280" cy="3790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bk object 21"/>
          <p:cNvSpPr/>
          <p:nvPr/>
        </p:nvSpPr>
        <p:spPr>
          <a:xfrm>
            <a:off x="12591360" y="7543800"/>
            <a:ext cx="1938240" cy="3790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bk object 22"/>
          <p:cNvSpPr/>
          <p:nvPr/>
        </p:nvSpPr>
        <p:spPr>
          <a:xfrm>
            <a:off x="9985320" y="8092440"/>
            <a:ext cx="950760" cy="3790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bk object 23"/>
          <p:cNvSpPr/>
          <p:nvPr/>
        </p:nvSpPr>
        <p:spPr>
          <a:xfrm>
            <a:off x="11118960" y="8092440"/>
            <a:ext cx="4800240" cy="46584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bk object 24"/>
          <p:cNvSpPr/>
          <p:nvPr/>
        </p:nvSpPr>
        <p:spPr>
          <a:xfrm>
            <a:off x="704160" y="9811440"/>
            <a:ext cx="3291480" cy="18252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bk object 25"/>
          <p:cNvSpPr/>
          <p:nvPr/>
        </p:nvSpPr>
        <p:spPr>
          <a:xfrm>
            <a:off x="15910560" y="9820800"/>
            <a:ext cx="1119960" cy="136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2368800"/>
            <a:ext cx="795492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9418320" y="2368800"/>
            <a:ext cx="795492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7"/>
          </p:nvPr>
        </p:nvSpPr>
        <p:spPr>
          <a:xfrm>
            <a:off x="694800" y="9790560"/>
            <a:ext cx="331308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dt" idx="8"/>
          </p:nvPr>
        </p:nvSpPr>
        <p:spPr>
          <a:xfrm>
            <a:off x="15906600" y="9788040"/>
            <a:ext cx="113400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17536680" y="9781560"/>
            <a:ext cx="12780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buNone/>
              <a:defRPr b="0" lang="en-US" sz="1200" spc="-12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5560" indent="0">
              <a:lnSpc>
                <a:spcPct val="100000"/>
              </a:lnSpc>
              <a:buNone/>
            </a:pPr>
            <a:fld id="{7DCFE939-98F6-432A-A46B-71ECCB70BBB8}" type="slidenum">
              <a:rPr b="0" lang="en-US" sz="1200" spc="-12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bk object 16" hidden="1"/>
          <p:cNvSpPr/>
          <p:nvPr/>
        </p:nvSpPr>
        <p:spPr>
          <a:xfrm>
            <a:off x="0" y="2402640"/>
            <a:ext cx="18287640" cy="7893360"/>
          </a:xfrm>
          <a:custGeom>
            <a:avLst/>
            <a:gdLst>
              <a:gd name="textAreaLeft" fmla="*/ 0 w 18287640"/>
              <a:gd name="textAreaRight" fmla="*/ 18288000 w 18287640"/>
              <a:gd name="textAreaTop" fmla="*/ 0 h 7893360"/>
              <a:gd name="textAreaBottom" fmla="*/ 7893720 h 7893360"/>
            </a:gdLst>
            <a:ahLst/>
            <a:rect l="textAreaLeft" t="textAreaTop" r="textAreaRight" b="textAreaBottom"/>
            <a:pathLst>
              <a:path w="18288000" h="7893558">
                <a:moveTo>
                  <a:pt x="0" y="7893558"/>
                </a:moveTo>
                <a:lnTo>
                  <a:pt x="18288000" y="7893558"/>
                </a:lnTo>
                <a:lnTo>
                  <a:pt x="18288000" y="0"/>
                </a:lnTo>
                <a:lnTo>
                  <a:pt x="0" y="0"/>
                </a:lnTo>
                <a:lnTo>
                  <a:pt x="0" y="7893558"/>
                </a:lnTo>
                <a:close/>
              </a:path>
            </a:pathLst>
          </a:custGeom>
          <a:solidFill>
            <a:srgbClr val="4fc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bk object 16"/>
          <p:cNvSpPr/>
          <p:nvPr/>
        </p:nvSpPr>
        <p:spPr>
          <a:xfrm>
            <a:off x="0" y="0"/>
            <a:ext cx="18287640" cy="10295640"/>
          </a:xfrm>
          <a:custGeom>
            <a:avLst/>
            <a:gdLst>
              <a:gd name="textAreaLeft" fmla="*/ 0 w 18287640"/>
              <a:gd name="textAreaRight" fmla="*/ 18288000 w 18287640"/>
              <a:gd name="textAreaTop" fmla="*/ 0 h 10295640"/>
              <a:gd name="textAreaBottom" fmla="*/ 10296000 h 10295640"/>
            </a:gdLst>
            <a:ahLst/>
            <a:rect l="textAreaLeft" t="textAreaTop" r="textAreaRight" b="textAreaBottom"/>
            <a:pathLst>
              <a:path w="18288000" h="10296143">
                <a:moveTo>
                  <a:pt x="0" y="10296144"/>
                </a:moveTo>
                <a:lnTo>
                  <a:pt x="18288000" y="10296144"/>
                </a:lnTo>
                <a:lnTo>
                  <a:pt x="18288000" y="0"/>
                </a:lnTo>
                <a:lnTo>
                  <a:pt x="0" y="0"/>
                </a:lnTo>
                <a:lnTo>
                  <a:pt x="0" y="10296144"/>
                </a:lnTo>
              </a:path>
            </a:pathLst>
          </a:custGeom>
          <a:solidFill>
            <a:srgbClr val="232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2368800"/>
            <a:ext cx="16458840" cy="67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0"/>
          </p:nvPr>
        </p:nvSpPr>
        <p:spPr>
          <a:xfrm>
            <a:off x="694800" y="9790560"/>
            <a:ext cx="331308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11"/>
          </p:nvPr>
        </p:nvSpPr>
        <p:spPr>
          <a:xfrm>
            <a:off x="15906600" y="9788040"/>
            <a:ext cx="113400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17536680" y="9781560"/>
            <a:ext cx="12780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buNone/>
              <a:defRPr b="0" lang="en-US" sz="1200" spc="-12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5560" indent="0">
              <a:lnSpc>
                <a:spcPct val="100000"/>
              </a:lnSpc>
              <a:buNone/>
            </a:pPr>
            <a:fld id="{EB784E75-39BE-45B7-8A59-024644ED2177}" type="slidenum">
              <a:rPr b="0" lang="en-US" sz="1200" spc="-12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image" Target="../media/image89.png"/><Relationship Id="rId9" Type="http://schemas.openxmlformats.org/officeDocument/2006/relationships/image" Target="../media/image90.png"/><Relationship Id="rId10" Type="http://schemas.openxmlformats.org/officeDocument/2006/relationships/image" Target="../media/image91.png"/><Relationship Id="rId11" Type="http://schemas.openxmlformats.org/officeDocument/2006/relationships/image" Target="../media/image92.png"/><Relationship Id="rId12" Type="http://schemas.openxmlformats.org/officeDocument/2006/relationships/image" Target="../media/image93.png"/><Relationship Id="rId13" Type="http://schemas.openxmlformats.org/officeDocument/2006/relationships/image" Target="../media/image94.png"/><Relationship Id="rId14" Type="http://schemas.openxmlformats.org/officeDocument/2006/relationships/image" Target="../media/image95.png"/><Relationship Id="rId15" Type="http://schemas.openxmlformats.org/officeDocument/2006/relationships/image" Target="../media/image96.png"/><Relationship Id="rId16" Type="http://schemas.openxmlformats.org/officeDocument/2006/relationships/image" Target="../media/image97.png"/><Relationship Id="rId1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jpeg"/><Relationship Id="rId3" Type="http://schemas.openxmlformats.org/officeDocument/2006/relationships/image" Target="../media/image100.jpeg"/><Relationship Id="rId4" Type="http://schemas.openxmlformats.org/officeDocument/2006/relationships/image" Target="../media/image101.png"/><Relationship Id="rId5" Type="http://schemas.openxmlformats.org/officeDocument/2006/relationships/image" Target="../media/image102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hyperlink" Target="http://www.cisco.com/web/services/portfolio/optimization/network-optimization-nos/infographic.html" TargetMode="External"/><Relationship Id="rId9" Type="http://schemas.openxmlformats.org/officeDocument/2006/relationships/hyperlink" Target="http://www.cisco.com/web/services/portfolio/optimization/network-optimization-nos/infographic.html" TargetMode="External"/><Relationship Id="rId10" Type="http://schemas.openxmlformats.org/officeDocument/2006/relationships/hyperlink" Target="http://www.cisco.com/web/services/portfolio/optimization/network-optimization-nos/infographic.html" TargetMode="External"/><Relationship Id="rId11" Type="http://schemas.openxmlformats.org/officeDocument/2006/relationships/hyperlink" Target="http://www.cisco.com/web/services/portfolio/optimization/network-optimization-nos/infographic.html" TargetMode="External"/><Relationship Id="rId12" Type="http://schemas.openxmlformats.org/officeDocument/2006/relationships/hyperlink" Target="http://www.cisco.com/web/services/portfolio/optimization/network-optimization-nos/infographic.html" TargetMode="External"/><Relationship Id="rId13" Type="http://schemas.openxmlformats.org/officeDocument/2006/relationships/hyperlink" Target="http://www.cisco.com/web/services/portfolio/optimization/network-optimization-nos/infographic.html" TargetMode="External"/><Relationship Id="rId14" Type="http://schemas.openxmlformats.org/officeDocument/2006/relationships/hyperlink" Target="http://www.cisco.com/web/services/portfolio/optimization/network-optimization-nos/infographic.html" TargetMode="External"/><Relationship Id="rId15" Type="http://schemas.openxmlformats.org/officeDocument/2006/relationships/hyperlink" Target="http://www.cisco.com/web/services/portfolio/optimization/network-optimization-nos/infographic.html" TargetMode="External"/><Relationship Id="rId16" Type="http://schemas.openxmlformats.org/officeDocument/2006/relationships/hyperlink" Target="http://www.cisco.com/web/services/portfolio/optimization/network-optimization-nos/infographic.html" TargetMode="External"/><Relationship Id="rId17" Type="http://schemas.openxmlformats.org/officeDocument/2006/relationships/hyperlink" Target="http://www.cisco.com/web/services/portfolio/optimization/network-optimization-nos/infographic.html" TargetMode="External"/><Relationship Id="rId18" Type="http://schemas.openxmlformats.org/officeDocument/2006/relationships/hyperlink" Target="http://www.cisco.com/web/services/portfolio/optimization/network-optimization-nos/infographic.html" TargetMode="External"/><Relationship Id="rId19" Type="http://schemas.openxmlformats.org/officeDocument/2006/relationships/hyperlink" Target="http://www.cisco.com/web/services/portfolio/optimization/network-optimization-nos/infographic.html" TargetMode="External"/><Relationship Id="rId20" Type="http://schemas.openxmlformats.org/officeDocument/2006/relationships/hyperlink" Target="http://www.cisco.com/web/services/portfolio/optimization/network-optimization-nos/infographic.html" TargetMode="External"/><Relationship Id="rId21" Type="http://schemas.openxmlformats.org/officeDocument/2006/relationships/hyperlink" Target="http://www.cisco.com/web/services/portfolio/optimization/network-optimization-nos/infographic.html" TargetMode="External"/><Relationship Id="rId22" Type="http://schemas.openxmlformats.org/officeDocument/2006/relationships/hyperlink" Target="http://www.cisco.com/web/services/portfolio/optimization/network-optimization-nos/infographic.html" TargetMode="External"/><Relationship Id="rId23" Type="http://schemas.openxmlformats.org/officeDocument/2006/relationships/hyperlink" Target="http://www.cisco.com/web/services/portfolio/optimization/network-optimization-nos/infographic.html" TargetMode="External"/><Relationship Id="rId24" Type="http://schemas.openxmlformats.org/officeDocument/2006/relationships/hyperlink" Target="http://www.cisco.com/web/services/portfolio/optimization/network-optimization-nos/infographic.html" TargetMode="External"/><Relationship Id="rId25" Type="http://schemas.openxmlformats.org/officeDocument/2006/relationships/hyperlink" Target="http://www.cisco.com/web/services/portfolio/optimization/network-optimization-nos/infographic.html" TargetMode="External"/><Relationship Id="rId26" Type="http://schemas.openxmlformats.org/officeDocument/2006/relationships/hyperlink" Target="http://www.cisco.com/web/services/portfolio/optimization/network-optimization-nos/infographic.html" TargetMode="External"/><Relationship Id="rId27" Type="http://schemas.openxmlformats.org/officeDocument/2006/relationships/hyperlink" Target="http://www.cisco.com/web/services/portfolio/optimization/network-optimization-nos/infographic.html" TargetMode="External"/><Relationship Id="rId28" Type="http://schemas.openxmlformats.org/officeDocument/2006/relationships/hyperlink" Target="http://www.cisco.com/web/services/portfolio/optimization/network-optimization-nos/infographic.html" TargetMode="External"/><Relationship Id="rId29" Type="http://schemas.openxmlformats.org/officeDocument/2006/relationships/hyperlink" Target="http://www.cisco.com/web/services/portfolio/optimization/network-optimization-nos/infographic.html" TargetMode="External"/><Relationship Id="rId30" Type="http://schemas.openxmlformats.org/officeDocument/2006/relationships/hyperlink" Target="http://www.cisco.com/web/services/portfolio/optimization/network-optimization-nos/infographic.html" TargetMode="External"/><Relationship Id="rId31" Type="http://schemas.openxmlformats.org/officeDocument/2006/relationships/hyperlink" Target="http://www.cisco.com/web/services/portfolio/optimization/network-optimization-nos/infographic.html" TargetMode="External"/><Relationship Id="rId32" Type="http://schemas.openxmlformats.org/officeDocument/2006/relationships/hyperlink" Target="http://www.cisco.com/web/services/portfolio/optimization/network-optimization-nos/infographic.html" TargetMode="External"/><Relationship Id="rId33" Type="http://schemas.openxmlformats.org/officeDocument/2006/relationships/hyperlink" Target="http://www.cisco.com/web/services/portfolio/optimization/network-optimization-nos/infographic.html" TargetMode="External"/><Relationship Id="rId34" Type="http://schemas.openxmlformats.org/officeDocument/2006/relationships/hyperlink" Target="http://www.cisco.com/web/services/portfolio/optimization/network-optimization-nos/infographic.html" TargetMode="External"/><Relationship Id="rId35" Type="http://schemas.openxmlformats.org/officeDocument/2006/relationships/hyperlink" Target="http://www.cisco.com/web/services/portfolio/optimization/network-optimization-nos/infographic.html" TargetMode="External"/><Relationship Id="rId36" Type="http://schemas.openxmlformats.org/officeDocument/2006/relationships/hyperlink" Target="http://www.cisco.com/web/services/portfolio/optimization/network-optimization-nos/infographic.html" TargetMode="External"/><Relationship Id="rId37" Type="http://schemas.openxmlformats.org/officeDocument/2006/relationships/hyperlink" Target="http://www.cisco.com/web/services/portfolio/optimization/network-optimization-nos/infographic.html" TargetMode="External"/><Relationship Id="rId38" Type="http://schemas.openxmlformats.org/officeDocument/2006/relationships/hyperlink" Target="http://www.cisco.com/web/services/portfolio/optimization/network-optimization-nos/infographic.html" TargetMode="External"/><Relationship Id="rId39" Type="http://schemas.openxmlformats.org/officeDocument/2006/relationships/hyperlink" Target="http://www.cisco.com/web/services/portfolio/optimization/network-optimization-nos/infographic.html" TargetMode="External"/><Relationship Id="rId40" Type="http://schemas.openxmlformats.org/officeDocument/2006/relationships/hyperlink" Target="http://www.cisco.com/web/services/portfolio/optimization/network-optimization-nos/infographic.html" TargetMode="External"/><Relationship Id="rId41" Type="http://schemas.openxmlformats.org/officeDocument/2006/relationships/hyperlink" Target="http://www.cisco.com/web/services/portfolio/optimization/network-optimization-nos/infographic.html" TargetMode="External"/><Relationship Id="rId42" Type="http://schemas.openxmlformats.org/officeDocument/2006/relationships/hyperlink" Target="http://www.cisco.com/web/services/portfolio/optimization/network-optimization-nos/infographic.html" TargetMode="External"/><Relationship Id="rId43" Type="http://schemas.openxmlformats.org/officeDocument/2006/relationships/hyperlink" Target="http://www.cisco.com/web/services/portfolio/optimization/network-optimization-nos/infographic.html" TargetMode="External"/><Relationship Id="rId44" Type="http://schemas.openxmlformats.org/officeDocument/2006/relationships/hyperlink" Target="http://www.cisco.com/web/services/portfolio/optimization/network-optimization-nos/infographic.html" TargetMode="External"/><Relationship Id="rId45" Type="http://schemas.openxmlformats.org/officeDocument/2006/relationships/hyperlink" Target="http://www.cisco.com/web/services/portfolio/optimization/network-optimization-nos/infographic.html" TargetMode="External"/><Relationship Id="rId46" Type="http://schemas.openxmlformats.org/officeDocument/2006/relationships/hyperlink" Target="http://www.cisco.com/web/services/it-case-studies/docs/nos-network-management-and-automation-case-study.pdf" TargetMode="External"/><Relationship Id="rId47" Type="http://schemas.openxmlformats.org/officeDocument/2006/relationships/hyperlink" Target="http://www.cisco.com/web/services/it-case-studies/docs/nos-network-management-and-automation-case-study.pdf" TargetMode="External"/><Relationship Id="rId48" Type="http://schemas.openxmlformats.org/officeDocument/2006/relationships/hyperlink" Target="http://www.cisco.com/web/services/it-case-studies/docs/nos-network-management-and-automation-case-study.pdf" TargetMode="External"/><Relationship Id="rId49" Type="http://schemas.openxmlformats.org/officeDocument/2006/relationships/hyperlink" Target="http://www.cisco.com/web/services/it-case-studies/docs/nos-network-management-and-automation-case-study.pdf" TargetMode="External"/><Relationship Id="rId50" Type="http://schemas.openxmlformats.org/officeDocument/2006/relationships/hyperlink" Target="http://www.cisco.com/web/services/it-case-studies/docs/nos-network-management-and-automation-case-study.pdf" TargetMode="External"/><Relationship Id="rId51" Type="http://schemas.openxmlformats.org/officeDocument/2006/relationships/hyperlink" Target="http://www.cisco.com/web/services/it-case-studies/docs/nos-network-management-and-automation-case-study.pdf" TargetMode="External"/><Relationship Id="rId52" Type="http://schemas.openxmlformats.org/officeDocument/2006/relationships/hyperlink" Target="http://www.cisco.com/web/services/it-case-studies/docs/nos-network-management-and-automation-case-study.pdf" TargetMode="External"/><Relationship Id="rId53" Type="http://schemas.openxmlformats.org/officeDocument/2006/relationships/hyperlink" Target="http://www.cisco.com/web/services/it-case-studies/docs/nos-network-management-and-automation-case-study.pdf" TargetMode="External"/><Relationship Id="rId54" Type="http://schemas.openxmlformats.org/officeDocument/2006/relationships/hyperlink" Target="http://www.cisco.com/web/services/it-case-studies/docs/nos-network-management-and-automation-case-study.pdf" TargetMode="External"/><Relationship Id="rId55" Type="http://schemas.openxmlformats.org/officeDocument/2006/relationships/hyperlink" Target="http://www.cisco.com/web/services/it-case-studies/docs/nos-network-management-and-automation-case-study.pdf" TargetMode="External"/><Relationship Id="rId56" Type="http://schemas.openxmlformats.org/officeDocument/2006/relationships/hyperlink" Target="http://www.cisco.com/web/services/it-case-studies/docs/nos-network-management-and-automation-case-study.pdf" TargetMode="External"/><Relationship Id="rId57" Type="http://schemas.openxmlformats.org/officeDocument/2006/relationships/hyperlink" Target="http://www.cisco.com/web/services/it-case-studies/docs/nos-network-management-and-automation-case-study.pdf" TargetMode="External"/><Relationship Id="rId58" Type="http://schemas.openxmlformats.org/officeDocument/2006/relationships/hyperlink" Target="http://www.cisco.com/web/services/it-case-studies/docs/nos-network-management-and-automation-case-study.pdf" TargetMode="External"/><Relationship Id="rId59" Type="http://schemas.openxmlformats.org/officeDocument/2006/relationships/hyperlink" Target="http://www.cisco.com/web/services/it-case-studies/docs/nos-network-management-and-automation-case-study.pdf" TargetMode="External"/><Relationship Id="rId60" Type="http://schemas.openxmlformats.org/officeDocument/2006/relationships/hyperlink" Target="http://www.cisco.com/web/services/it-case-studies/docs/nos-network-management-and-automation-case-study.pdf" TargetMode="External"/><Relationship Id="rId61" Type="http://schemas.openxmlformats.org/officeDocument/2006/relationships/hyperlink" Target="http://www.cisco.com/web/services/it-case-studies/docs/nos-network-management-and-automation-case-study.pdf" TargetMode="External"/><Relationship Id="rId62" Type="http://schemas.openxmlformats.org/officeDocument/2006/relationships/hyperlink" Target="http://www.cisco.com/web/services/it-case-studies/docs/nos-network-management-and-automation-case-study.pdf" TargetMode="External"/><Relationship Id="rId63" Type="http://schemas.openxmlformats.org/officeDocument/2006/relationships/hyperlink" Target="http://www.cisco.com/web/services/it-case-studies/docs/nos-network-management-and-automation-case-study.pdf" TargetMode="External"/><Relationship Id="rId64" Type="http://schemas.openxmlformats.org/officeDocument/2006/relationships/hyperlink" Target="http://www.cisco.com/web/services/it-case-studies/docs/nos-network-management-and-automation-case-study.pdf" TargetMode="External"/><Relationship Id="rId65" Type="http://schemas.openxmlformats.org/officeDocument/2006/relationships/hyperlink" Target="http://www.cisco.com/web/services/it-case-studies/docs/nos-network-management-and-automation-case-study.pdf" TargetMode="External"/><Relationship Id="rId66" Type="http://schemas.openxmlformats.org/officeDocument/2006/relationships/hyperlink" Target="http://www.cisco.com/web/services/it-case-studies/docs/nos-network-management-and-automation-case-study.pdf" TargetMode="External"/><Relationship Id="rId67" Type="http://schemas.openxmlformats.org/officeDocument/2006/relationships/hyperlink" Target="http://www.cisco.com/web/services/it-case-studies/docs/nos-network-management-and-automation-case-study.pdf" TargetMode="External"/><Relationship Id="rId68" Type="http://schemas.openxmlformats.org/officeDocument/2006/relationships/hyperlink" Target="http://www.cisco.com/web/services/it-case-studies/docs/nos-network-management-and-automation-case-study.pdf" TargetMode="External"/><Relationship Id="rId69" Type="http://schemas.openxmlformats.org/officeDocument/2006/relationships/hyperlink" Target="http://www.cisco.com/web/services/portfolio/optimization/network-optimization-nos/infographic.html" TargetMode="External"/><Relationship Id="rId70" Type="http://schemas.openxmlformats.org/officeDocument/2006/relationships/hyperlink" Target="http://www.cisco.com/web/services/portfolio/optimization/network-optimization-nos/infographic.html" TargetMode="External"/><Relationship Id="rId71" Type="http://schemas.openxmlformats.org/officeDocument/2006/relationships/hyperlink" Target="http://www.cisco.com/web/services/portfolio/optimization/network-optimization-nos/infographic.html" TargetMode="External"/><Relationship Id="rId72" Type="http://schemas.openxmlformats.org/officeDocument/2006/relationships/hyperlink" Target="http://www.cisco.com/web/services/portfolio/optimization/network-optimization-nos/infographic.html" TargetMode="External"/><Relationship Id="rId73" Type="http://schemas.openxmlformats.org/officeDocument/2006/relationships/hyperlink" Target="http://www.cisco.com/web/services/portfolio/optimization/network-optimization-nos/infographic.html" TargetMode="External"/><Relationship Id="rId74" Type="http://schemas.openxmlformats.org/officeDocument/2006/relationships/hyperlink" Target="http://www.cisco.com/web/services/portfolio/optimization/network-optimization-nos/infographic.html" TargetMode="External"/><Relationship Id="rId75" Type="http://schemas.openxmlformats.org/officeDocument/2006/relationships/hyperlink" Target="http://www.cisco.com/web/services/portfolio/optimization/network-optimization-nos/infographic.html" TargetMode="External"/><Relationship Id="rId76" Type="http://schemas.openxmlformats.org/officeDocument/2006/relationships/hyperlink" Target="http://www.cisco.com/web/services/portfolio/optimization/network-optimization-nos/infographic.html" TargetMode="External"/><Relationship Id="rId77" Type="http://schemas.openxmlformats.org/officeDocument/2006/relationships/hyperlink" Target="http://www.cisco.com/web/services/portfolio/optimization/network-optimization-nos/infographic.html" TargetMode="External"/><Relationship Id="rId78" Type="http://schemas.openxmlformats.org/officeDocument/2006/relationships/hyperlink" Target="http://www.cisco.com/web/services/portfolio/optimization/network-optimization-nos/infographic.html" TargetMode="External"/><Relationship Id="rId79" Type="http://schemas.openxmlformats.org/officeDocument/2006/relationships/hyperlink" Target="http://www.cisco.com/web/services/portfolio/optimization/network-optimization-nos/infographic.html" TargetMode="External"/><Relationship Id="rId80" Type="http://schemas.openxmlformats.org/officeDocument/2006/relationships/hyperlink" Target="http://www.cisco.com/web/services/portfolio/optimization/network-optimization-nos/infographic.html" TargetMode="External"/><Relationship Id="rId81" Type="http://schemas.openxmlformats.org/officeDocument/2006/relationships/hyperlink" Target="http://www.cisco.com/web/services/portfolio/optimization/network-optimization-nos/infographic.html" TargetMode="External"/><Relationship Id="rId82" Type="http://schemas.openxmlformats.org/officeDocument/2006/relationships/hyperlink" Target="http://www.cisco.com/web/services/portfolio/optimization/network-optimization-nos/infographic.html" TargetMode="External"/><Relationship Id="rId83" Type="http://schemas.openxmlformats.org/officeDocument/2006/relationships/hyperlink" Target="http://www.cisco.com/web/services/portfolio/optimization/network-optimization-nos/infographic.html" TargetMode="External"/><Relationship Id="rId84" Type="http://schemas.openxmlformats.org/officeDocument/2006/relationships/hyperlink" Target="http://www.cisco.com/web/services/portfolio/optimization/network-optimization-nos/infographic.html" TargetMode="External"/><Relationship Id="rId85" Type="http://schemas.openxmlformats.org/officeDocument/2006/relationships/hyperlink" Target="http://www.cisco.com/web/services/portfolio/optimization/network-optimization-nos/infographic.html" TargetMode="External"/><Relationship Id="rId86" Type="http://schemas.openxmlformats.org/officeDocument/2006/relationships/hyperlink" Target="http://www.cisco.com/web/services/it-case-studies/docs/nos-network-management-and-automation-case-study.pdf" TargetMode="External"/><Relationship Id="rId87" Type="http://schemas.openxmlformats.org/officeDocument/2006/relationships/hyperlink" Target="http://www.cisco.com/web/services/it-case-studies/docs/nos-network-management-and-automation-case-study.pdf" TargetMode="External"/><Relationship Id="rId88" Type="http://schemas.openxmlformats.org/officeDocument/2006/relationships/hyperlink" Target="http://www.cisco.com/web/services/it-case-studies/docs/nos-network-management-and-automation-case-study.pdf" TargetMode="External"/><Relationship Id="rId89" Type="http://schemas.openxmlformats.org/officeDocument/2006/relationships/hyperlink" Target="http://www.cisco.com/web/services/it-case-studies/docs/nos-network-management-and-automation-case-study.pdf" TargetMode="External"/><Relationship Id="rId90" Type="http://schemas.openxmlformats.org/officeDocument/2006/relationships/hyperlink" Target="http://www.cisco.com/web/services/it-case-studies/docs/nos-network-management-and-automation-case-study.pdf" TargetMode="External"/><Relationship Id="rId91" Type="http://schemas.openxmlformats.org/officeDocument/2006/relationships/hyperlink" Target="http://www.cisco.com/web/services/it-case-studies/docs/nos-network-management-and-automation-case-study.pdf" TargetMode="External"/><Relationship Id="rId92" Type="http://schemas.openxmlformats.org/officeDocument/2006/relationships/hyperlink" Target="http://www.cisco.com/web/services/it-case-studies/docs/nos-network-management-and-automation-case-study.pdf" TargetMode="External"/><Relationship Id="rId93" Type="http://schemas.openxmlformats.org/officeDocument/2006/relationships/hyperlink" Target="http://www.cisco.com/web/services/it-case-studies/docs/nos-network-management-and-automation-case-study.pdf" TargetMode="External"/><Relationship Id="rId94" Type="http://schemas.openxmlformats.org/officeDocument/2006/relationships/hyperlink" Target="http://www.cisco.com/web/services/it-case-studies/docs/nos-network-management-and-automation-case-study.pdf" TargetMode="External"/><Relationship Id="rId95" Type="http://schemas.openxmlformats.org/officeDocument/2006/relationships/hyperlink" Target="http://www.cisco.com/web/services/it-case-studies/docs/nos-network-management-and-automation-case-study.pdf" TargetMode="External"/><Relationship Id="rId96" Type="http://schemas.openxmlformats.org/officeDocument/2006/relationships/hyperlink" Target="http://www.cisco.com/web/services/it-case-studies/docs/nos-network-management-and-automation-case-study.pdf" TargetMode="External"/><Relationship Id="rId97" Type="http://schemas.openxmlformats.org/officeDocument/2006/relationships/hyperlink" Target="http://www.cisco.com/web/services/it-case-studies/docs/nos-network-management-and-automation-case-study.pdf" TargetMode="External"/><Relationship Id="rId98" Type="http://schemas.openxmlformats.org/officeDocument/2006/relationships/hyperlink" Target="http://www.cisco.com/web/services/it-case-studies/docs/nos-network-management-and-automation-case-study.pdf" TargetMode="External"/><Relationship Id="rId99" Type="http://schemas.openxmlformats.org/officeDocument/2006/relationships/hyperlink" Target="http://www.cisco.com/web/services/it-case-studies/docs/nos-network-management-and-automation-case-study.pdf" TargetMode="External"/><Relationship Id="rId100" Type="http://schemas.openxmlformats.org/officeDocument/2006/relationships/hyperlink" Target="http://www.cisco.com/web/services/it-case-studies/docs/nos-network-management-and-automation-case-study.pdf" TargetMode="External"/><Relationship Id="rId101" Type="http://schemas.openxmlformats.org/officeDocument/2006/relationships/hyperlink" Target="http://www.cisco.com/web/services/it-case-studies/docs/nos-network-management-and-automation-case-study.pdf" TargetMode="External"/><Relationship Id="rId102" Type="http://schemas.openxmlformats.org/officeDocument/2006/relationships/hyperlink" Target="http://www.cisco.com/web/services/it-case-studies/docs/nos-network-management-and-automation-case-study.pdf" TargetMode="External"/><Relationship Id="rId103" Type="http://schemas.openxmlformats.org/officeDocument/2006/relationships/hyperlink" Target="http://www.cisco.com/web/services/it-case-studies/docs/nos-network-management-and-automation-case-study.pdf" TargetMode="External"/><Relationship Id="rId104" Type="http://schemas.openxmlformats.org/officeDocument/2006/relationships/hyperlink" Target="http://www.cisco.com/web/services/it-case-studies/docs/nos-network-management-and-automation-case-study.pdf" TargetMode="External"/><Relationship Id="rId105" Type="http://schemas.openxmlformats.org/officeDocument/2006/relationships/hyperlink" Target="http://www.cisco.com/web/services/it-case-studies/docs/nos-network-management-and-automation-case-study.pdf" TargetMode="External"/><Relationship Id="rId106" Type="http://schemas.openxmlformats.org/officeDocument/2006/relationships/hyperlink" Target="http://www.cisco.com/web/services/it-case-studies/docs/nos-network-management-and-automation-case-study.pdf" TargetMode="External"/><Relationship Id="rId107" Type="http://schemas.openxmlformats.org/officeDocument/2006/relationships/hyperlink" Target="http://www.cisco.com/web/services/it-case-studies/docs/nos-network-management-and-automation-case-study.pdf" TargetMode="External"/><Relationship Id="rId108" Type="http://schemas.openxmlformats.org/officeDocument/2006/relationships/hyperlink" Target="http://www.cisco.com/web/services/it-case-studies/docs/nos-network-management-and-automation-case-study.pdf" TargetMode="External"/><Relationship Id="rId109" Type="http://schemas.openxmlformats.org/officeDocument/2006/relationships/hyperlink" Target="http://www.cisco.com/web/services/it-case-studies/docs/nos-network-management-and-automation-case-study.pdf" TargetMode="External"/><Relationship Id="rId110" Type="http://schemas.openxmlformats.org/officeDocument/2006/relationships/hyperlink" Target="http://www.cisco.com/web/services/it-case-studies/docs/nos-network-management-and-automation-case-study.pdf" TargetMode="External"/><Relationship Id="rId111" Type="http://schemas.openxmlformats.org/officeDocument/2006/relationships/hyperlink" Target="http://www.cisco.com/web/services/it-case-studies/docs/nos-network-management-and-automation-case-study.pdf" TargetMode="External"/><Relationship Id="rId112" Type="http://schemas.openxmlformats.org/officeDocument/2006/relationships/hyperlink" Target="http://www.cisco.com/web/services/it-case-studies/docs/nos-network-management-and-automation-case-study.pdf" TargetMode="External"/><Relationship Id="rId113" Type="http://schemas.openxmlformats.org/officeDocument/2006/relationships/hyperlink" Target="http://www.cisco.com/web/services/it-case-studies/docs/nos-network-management-and-automation-case-study.pdf" TargetMode="External"/><Relationship Id="rId114" Type="http://schemas.openxmlformats.org/officeDocument/2006/relationships/hyperlink" Target="http://www.cisco.com/web/services/it-case-studies/docs/nos-network-management-and-automation-case-study.pdf" TargetMode="External"/><Relationship Id="rId115" Type="http://schemas.openxmlformats.org/officeDocument/2006/relationships/hyperlink" Target="http://www.cisco.com/web/services/it-case-studies/docs/nos-network-management-and-automation-case-study.pdf" TargetMode="External"/><Relationship Id="rId116" Type="http://schemas.openxmlformats.org/officeDocument/2006/relationships/hyperlink" Target="http://www.cisco.com/web/services/it-case-studies/docs/nos-network-management-and-automation-case-study.pdf" TargetMode="External"/><Relationship Id="rId117" Type="http://schemas.openxmlformats.org/officeDocument/2006/relationships/hyperlink" Target="http://www.cisco.com/web/services/it-case-studies/docs/nos-network-management-and-automation-case-study.pdf" TargetMode="External"/><Relationship Id="rId118" Type="http://schemas.openxmlformats.org/officeDocument/2006/relationships/hyperlink" Target="http://www.cisco.com/web/services/it-case-studies/docs/nos-network-management-and-automation-case-study.pdf" TargetMode="External"/><Relationship Id="rId119" Type="http://schemas.openxmlformats.org/officeDocument/2006/relationships/hyperlink" Target="http://www.cisco.com/web/services/it-case-studies/docs/nos-network-management-and-automation-case-study.pdf" TargetMode="External"/><Relationship Id="rId120" Type="http://schemas.openxmlformats.org/officeDocument/2006/relationships/hyperlink" Target="http://www.cisco.com/web/services/it-case-studies/docs/nos-network-management-and-automation-case-study.pdf" TargetMode="External"/><Relationship Id="rId121" Type="http://schemas.openxmlformats.org/officeDocument/2006/relationships/hyperlink" Target="http://www.cisco.com/web/services/it-case-studies/docs/nos-network-management-and-automation-case-study.pdf" TargetMode="External"/><Relationship Id="rId122" Type="http://schemas.openxmlformats.org/officeDocument/2006/relationships/hyperlink" Target="http://www.cisco.com/web/services/it-case-studies/docs/nos-network-management-and-automation-case-study.pdf" TargetMode="External"/><Relationship Id="rId123" Type="http://schemas.openxmlformats.org/officeDocument/2006/relationships/hyperlink" Target="http://www.cisco.com/web/services/it-case-studies/docs/nos-network-management-and-automation-case-study.pdf" TargetMode="External"/><Relationship Id="rId124" Type="http://schemas.openxmlformats.org/officeDocument/2006/relationships/hyperlink" Target="http://www.cisco.com/web/services/it-case-studies/docs/nos-network-management-and-automation-case-study.pdf" TargetMode="External"/><Relationship Id="rId125" Type="http://schemas.openxmlformats.org/officeDocument/2006/relationships/hyperlink" Target="http://www.cisco.com/web/services/it-case-studies/docs/nos-network-management-and-automation-case-study.pdf" TargetMode="External"/><Relationship Id="rId126" Type="http://schemas.openxmlformats.org/officeDocument/2006/relationships/hyperlink" Target="http://www.cisco.com/web/services/it-case-studies/docs/nos-network-management-and-automation-case-study.pdf" TargetMode="External"/><Relationship Id="rId127" Type="http://schemas.openxmlformats.org/officeDocument/2006/relationships/hyperlink" Target="http://www.cisco.com/web/services/it-case-studies/docs/nos-network-management-and-automation-case-study.pdf" TargetMode="External"/><Relationship Id="rId128" Type="http://schemas.openxmlformats.org/officeDocument/2006/relationships/hyperlink" Target="http://www.cisco.com/web/services/it-case-studies/docs/nos-network-management-and-automation-case-study.pdf" TargetMode="External"/><Relationship Id="rId129" Type="http://schemas.openxmlformats.org/officeDocument/2006/relationships/hyperlink" Target="http://www.cisco.com/web/services/it-case-studies/docs/nos-network-management-and-automation-case-study.pdf" TargetMode="External"/><Relationship Id="rId130" Type="http://schemas.openxmlformats.org/officeDocument/2006/relationships/hyperlink" Target="http://www.cisco.com/web/services/it-case-studies/docs/nos-network-management-and-automation-case-study.pdf" TargetMode="External"/><Relationship Id="rId131" Type="http://schemas.openxmlformats.org/officeDocument/2006/relationships/hyperlink" Target="http://www.cisco.com/web/services/it-case-studies/docs/nos-network-management-and-automation-case-study.pdf" TargetMode="External"/><Relationship Id="rId132" Type="http://schemas.openxmlformats.org/officeDocument/2006/relationships/hyperlink" Target="http://www.cisco.com/web/services/it-case-studies/docs/nos-network-management-and-automation-case-study.pdf" TargetMode="External"/><Relationship Id="rId133" Type="http://schemas.openxmlformats.org/officeDocument/2006/relationships/hyperlink" Target="http://www.cisco.com/web/services/it-case-studies/docs/nos-network-management-and-automation-case-study.pdf" TargetMode="External"/><Relationship Id="rId134" Type="http://schemas.openxmlformats.org/officeDocument/2006/relationships/hyperlink" Target="http://www.cisco.com/web/services/it-case-studies/docs/nos-network-management-and-automation-case-study.pdf" TargetMode="External"/><Relationship Id="rId135" Type="http://schemas.openxmlformats.org/officeDocument/2006/relationships/hyperlink" Target="http://www.cisco.com/web/services/it-case-studies/docs/nos-network-management-and-automation-case-study.pdf" TargetMode="External"/><Relationship Id="rId136" Type="http://schemas.openxmlformats.org/officeDocument/2006/relationships/hyperlink" Target="http://www.cisco.com/web/services/it-case-studies/docs/nos-network-management-and-automation-case-study.pdf" TargetMode="External"/><Relationship Id="rId137" Type="http://schemas.openxmlformats.org/officeDocument/2006/relationships/hyperlink" Target="http://www.cisco.com/web/services/it-case-studies/docs/nos-network-management-and-automation-case-study.pdf" TargetMode="External"/><Relationship Id="rId138" Type="http://schemas.openxmlformats.org/officeDocument/2006/relationships/hyperlink" Target="http://www.cisco.com/web/services/it-case-studies/docs/nos-network-management-and-automation-case-study.pdf" TargetMode="External"/><Relationship Id="rId139" Type="http://schemas.openxmlformats.org/officeDocument/2006/relationships/hyperlink" Target="http://www.cisco.com/web/services/it-case-studies/docs/nos-network-management-and-automation-case-study.pdf" TargetMode="External"/><Relationship Id="rId140" Type="http://schemas.openxmlformats.org/officeDocument/2006/relationships/hyperlink" Target="http://www.cisco.com/web/services/it-case-studies/docs/nos-network-management-and-automation-case-study.pdf" TargetMode="External"/><Relationship Id="rId141" Type="http://schemas.openxmlformats.org/officeDocument/2006/relationships/hyperlink" Target="http://www.cisco.com/web/services/it-case-studies/docs/nos-network-management-and-automation-case-study.pdf" TargetMode="External"/><Relationship Id="rId142" Type="http://schemas.openxmlformats.org/officeDocument/2006/relationships/hyperlink" Target="http://www.cisco.com/web/services/it-case-studies/docs/nos-network-management-and-automation-case-study.pdf" TargetMode="External"/><Relationship Id="rId143" Type="http://schemas.openxmlformats.org/officeDocument/2006/relationships/hyperlink" Target="http://www.cisco.com/web/services/it-case-studies/docs/nos-network-management-and-automation-case-study.pdf" TargetMode="External"/><Relationship Id="rId144" Type="http://schemas.openxmlformats.org/officeDocument/2006/relationships/hyperlink" Target="http://www.cisco.com/web/services/it-case-studies/docs/nos-network-management-and-automation-case-study.pdf" TargetMode="External"/><Relationship Id="rId145" Type="http://schemas.openxmlformats.org/officeDocument/2006/relationships/hyperlink" Target="http://www.cisco.com/web/services/it-case-studies/docs/nos-network-management-and-automation-case-study.pdf" TargetMode="External"/><Relationship Id="rId146" Type="http://schemas.openxmlformats.org/officeDocument/2006/relationships/hyperlink" Target="http://www.cisco.com/web/services/it-case-studies/docs/nos-network-management-and-automation-case-study.pdf" TargetMode="External"/><Relationship Id="rId147" Type="http://schemas.openxmlformats.org/officeDocument/2006/relationships/hyperlink" Target="http://www.cisco.com/web/services/it-case-studies/docs/nos-network-management-and-automation-case-study.pdf" TargetMode="External"/><Relationship Id="rId148" Type="http://schemas.openxmlformats.org/officeDocument/2006/relationships/hyperlink" Target="http://www.cisco.com/web/services/it-case-studies/docs/nos-network-management-and-automation-case-study.pdf" TargetMode="External"/><Relationship Id="rId149" Type="http://schemas.openxmlformats.org/officeDocument/2006/relationships/hyperlink" Target="http://www.cisco.com/web/services/it-case-studies/docs/nos-network-management-and-automation-case-study.pdf" TargetMode="External"/><Relationship Id="rId150" Type="http://schemas.openxmlformats.org/officeDocument/2006/relationships/hyperlink" Target="http://www.cisco.com/web/services/it-case-studies/docs/nos-network-management-and-automation-case-study.pdf" TargetMode="External"/><Relationship Id="rId151" Type="http://schemas.openxmlformats.org/officeDocument/2006/relationships/hyperlink" Target="http://www.cisco.com/web/services/it-case-studies/docs/nos-network-management-and-automation-case-study.pdf" TargetMode="External"/><Relationship Id="rId152" Type="http://schemas.openxmlformats.org/officeDocument/2006/relationships/hyperlink" Target="http://www.cisco.com/web/services/it-case-studies/docs/nos-network-management-and-automation-case-study.pdf" TargetMode="External"/><Relationship Id="rId153" Type="http://schemas.openxmlformats.org/officeDocument/2006/relationships/hyperlink" Target="http://www.cisco.com/web/services/it-case-studies/docs/nos-network-management-and-automation-case-study.pdf" TargetMode="External"/><Relationship Id="rId154" Type="http://schemas.openxmlformats.org/officeDocument/2006/relationships/hyperlink" Target="http://www.cisco.com/web/services/it-case-studies/docs/nos-network-management-and-automation-case-study.pdf" TargetMode="External"/><Relationship Id="rId155" Type="http://schemas.openxmlformats.org/officeDocument/2006/relationships/hyperlink" Target="http://www.cisco.com/web/services/it-case-studies/docs/nos-network-management-and-automation-case-study.pdf" TargetMode="External"/><Relationship Id="rId156" Type="http://schemas.openxmlformats.org/officeDocument/2006/relationships/hyperlink" Target="http://www.cisco.com/web/services/it-case-studies/docs/nos-network-management-and-automation-case-study.pdf" TargetMode="External"/><Relationship Id="rId157" Type="http://schemas.openxmlformats.org/officeDocument/2006/relationships/hyperlink" Target="http://www.cisco.com/web/services/it-case-studies/docs/nos-network-management-and-automation-case-study.pdf" TargetMode="External"/><Relationship Id="rId158" Type="http://schemas.openxmlformats.org/officeDocument/2006/relationships/hyperlink" Target="http://www.cisco.com/web/services/it-case-studies/docs/nos-network-management-and-automation-case-study.pdf" TargetMode="External"/><Relationship Id="rId159" Type="http://schemas.openxmlformats.org/officeDocument/2006/relationships/hyperlink" Target="http://www.cisco.com/web/services/it-case-studies/docs/nos-network-management-and-automation-case-study.pdf" TargetMode="External"/><Relationship Id="rId160" Type="http://schemas.openxmlformats.org/officeDocument/2006/relationships/hyperlink" Target="http://www.cisco.com/web/services/it-case-studies/docs/nos-network-management-and-automation-case-study.pdf" TargetMode="External"/><Relationship Id="rId161" Type="http://schemas.openxmlformats.org/officeDocument/2006/relationships/hyperlink" Target="http://www.cisco.com/web/services/it-case-studies/docs/nos-network-management-and-automation-case-study.pdf" TargetMode="External"/><Relationship Id="rId162" Type="http://schemas.openxmlformats.org/officeDocument/2006/relationships/hyperlink" Target="http://www.cisco.com/web/services/it-case-studies/docs/nos-network-management-and-automation-case-study.pdf" TargetMode="External"/><Relationship Id="rId163" Type="http://schemas.openxmlformats.org/officeDocument/2006/relationships/hyperlink" Target="http://www.cisco.com/web/services/it-case-studies/docs/nos-network-management-and-automation-case-study.pdf" TargetMode="External"/><Relationship Id="rId164" Type="http://schemas.openxmlformats.org/officeDocument/2006/relationships/hyperlink" Target="http://www.cisco.com/web/services/it-case-studies/docs/nos-network-management-and-automation-case-study.pdf" TargetMode="External"/><Relationship Id="rId165" Type="http://schemas.openxmlformats.org/officeDocument/2006/relationships/hyperlink" Target="http://www.cisco.com/web/services/it-case-studies/docs/nos-network-management-and-automation-case-study.pdf" TargetMode="External"/><Relationship Id="rId166" Type="http://schemas.openxmlformats.org/officeDocument/2006/relationships/hyperlink" Target="http://www.cisco.com/web/services/it-case-studies/docs/nos-network-management-and-automation-case-study.pdf" TargetMode="External"/><Relationship Id="rId167" Type="http://schemas.openxmlformats.org/officeDocument/2006/relationships/hyperlink" Target="http://www.cisco.com/web/services/it-case-studies/docs/nos-network-management-and-automation-case-study.pdf" TargetMode="External"/><Relationship Id="rId168" Type="http://schemas.openxmlformats.org/officeDocument/2006/relationships/hyperlink" Target="http://www.cisco.com/web/services/it-case-studies/docs/nos-network-management-and-automation-case-study.pdf" TargetMode="External"/><Relationship Id="rId169" Type="http://schemas.openxmlformats.org/officeDocument/2006/relationships/hyperlink" Target="http://www.cisco.com/web/services/it-case-studies/docs/nos-network-management-and-automation-case-study.pdf" TargetMode="External"/><Relationship Id="rId170" Type="http://schemas.openxmlformats.org/officeDocument/2006/relationships/hyperlink" Target="http://www.cisco.com/web/services/it-case-studies/docs/nos-network-management-and-automation-case-study.pdf" TargetMode="External"/><Relationship Id="rId171" Type="http://schemas.openxmlformats.org/officeDocument/2006/relationships/hyperlink" Target="http://www.cisco.com/web/services/it-case-studies/docs/nos-network-management-and-automation-case-study.pdf" TargetMode="External"/><Relationship Id="rId172" Type="http://schemas.openxmlformats.org/officeDocument/2006/relationships/hyperlink" Target="http://www.cisco.com/web/services/it-case-studies/docs/nos-network-management-and-automation-case-study.pdf" TargetMode="External"/><Relationship Id="rId173" Type="http://schemas.openxmlformats.org/officeDocument/2006/relationships/hyperlink" Target="http://www.cisco.com/web/services/it-case-studies/docs/nos-network-management-and-automation-case-study.pdf" TargetMode="External"/><Relationship Id="rId174" Type="http://schemas.openxmlformats.org/officeDocument/2006/relationships/hyperlink" Target="http://www.cisco.com/web/services/it-case-studies/docs/nos-network-management-and-automation-case-study.pdf" TargetMode="External"/><Relationship Id="rId175" Type="http://schemas.openxmlformats.org/officeDocument/2006/relationships/hyperlink" Target="http://www.cisco.com/web/services/it-case-studies/docs/nos-network-management-and-automation-case-study.pdf" TargetMode="External"/><Relationship Id="rId176" Type="http://schemas.openxmlformats.org/officeDocument/2006/relationships/hyperlink" Target="http://www.cisco.com/web/services/it-case-studies/docs/nos-network-management-and-automation-case-study.pdf" TargetMode="External"/><Relationship Id="rId177" Type="http://schemas.openxmlformats.org/officeDocument/2006/relationships/hyperlink" Target="http://www.cisco.com/web/services/it-case-studies/docs/nos-network-management-and-automation-case-study.pdf" TargetMode="External"/><Relationship Id="rId178" Type="http://schemas.openxmlformats.org/officeDocument/2006/relationships/hyperlink" Target="http://www.cisco.com/web/services/it-case-studies/docs/nos-network-management-and-automation-case-study.pdf" TargetMode="External"/><Relationship Id="rId179" Type="http://schemas.openxmlformats.org/officeDocument/2006/relationships/hyperlink" Target="http://www.cisco.com/web/services/it-case-studies/docs/nos-network-management-and-automation-case-study.pdf" TargetMode="External"/><Relationship Id="rId180" Type="http://schemas.openxmlformats.org/officeDocument/2006/relationships/hyperlink" Target="http://www.cisco.com/web/services/it-case-studies/docs/nos-network-management-and-automation-case-study.pdf" TargetMode="External"/><Relationship Id="rId181" Type="http://schemas.openxmlformats.org/officeDocument/2006/relationships/hyperlink" Target="http://www.cisco.com/web/services/it-case-studies/docs/nos-network-management-and-automation-case-study.pdf" TargetMode="External"/><Relationship Id="rId182" Type="http://schemas.openxmlformats.org/officeDocument/2006/relationships/hyperlink" Target="http://www.cisco.com/web/services/it-case-studies/docs/nos-network-management-and-automation-case-study.pdf" TargetMode="External"/><Relationship Id="rId183" Type="http://schemas.openxmlformats.org/officeDocument/2006/relationships/hyperlink" Target="http://www.cisco.com/web/services/it-case-studies/docs/nos-network-management-and-automation-case-study.pdf" TargetMode="External"/><Relationship Id="rId184" Type="http://schemas.openxmlformats.org/officeDocument/2006/relationships/hyperlink" Target="http://www.cisco.com/web/services/it-case-studies/docs/nos-network-management-and-automation-case-study.pdf" TargetMode="External"/><Relationship Id="rId185" Type="http://schemas.openxmlformats.org/officeDocument/2006/relationships/hyperlink" Target="http://www.cisco.com/web/services/it-case-studies/docs/nos-network-management-and-automation-case-study.pdf" TargetMode="External"/><Relationship Id="rId186" Type="http://schemas.openxmlformats.org/officeDocument/2006/relationships/hyperlink" Target="http://www.cisco.com/web/services/it-case-studies/docs/nos-network-management-and-automation-case-study.pdf" TargetMode="External"/><Relationship Id="rId187" Type="http://schemas.openxmlformats.org/officeDocument/2006/relationships/hyperlink" Target="http://www.cisco.com/web/services/it-case-studies/docs/nos-network-management-and-automation-case-study.pdf" TargetMode="External"/><Relationship Id="rId188" Type="http://schemas.openxmlformats.org/officeDocument/2006/relationships/hyperlink" Target="http://www.cisco.com/web/services/it-case-studies/docs/nos-network-management-and-automation-case-study.pdf" TargetMode="External"/><Relationship Id="rId189" Type="http://schemas.openxmlformats.org/officeDocument/2006/relationships/hyperlink" Target="http://www.cisco.com/web/services/it-case-studies/docs/nos-network-management-and-automation-case-study.pdf" TargetMode="External"/><Relationship Id="rId190" Type="http://schemas.openxmlformats.org/officeDocument/2006/relationships/hyperlink" Target="http://www.cisco.com/web/services/it-case-studies/docs/nos-network-management-and-automation-case-study.pdf" TargetMode="External"/><Relationship Id="rId191" Type="http://schemas.openxmlformats.org/officeDocument/2006/relationships/hyperlink" Target="http://www.cisco.com/web/services/it-case-studies/docs/nos-network-management-and-automation-case-study.pdf" TargetMode="External"/><Relationship Id="rId192" Type="http://schemas.openxmlformats.org/officeDocument/2006/relationships/hyperlink" Target="http://www.cisco.com/web/services/it-case-studies/docs/nos-network-management-and-automation-case-study.pdf" TargetMode="External"/><Relationship Id="rId193" Type="http://schemas.openxmlformats.org/officeDocument/2006/relationships/hyperlink" Target="http://www.cisco.com/web/services/it-case-studies/docs/nos-network-management-and-automation-case-study.pdf" TargetMode="External"/><Relationship Id="rId194" Type="http://schemas.openxmlformats.org/officeDocument/2006/relationships/hyperlink" Target="http://www.cisco.com/web/services/it-case-studies/docs/nos-network-management-and-automation-case-study.pdf" TargetMode="External"/><Relationship Id="rId195" Type="http://schemas.openxmlformats.org/officeDocument/2006/relationships/hyperlink" Target="http://www.cisco.com/web/services/it-case-studies/docs/nos-network-management-and-automation-case-study.pdf" TargetMode="External"/><Relationship Id="rId196" Type="http://schemas.openxmlformats.org/officeDocument/2006/relationships/hyperlink" Target="http://www.cisco.com/web/services/it-case-studies/docs/nos-network-management-and-automation-case-study.pdf" TargetMode="External"/><Relationship Id="rId197" Type="http://schemas.openxmlformats.org/officeDocument/2006/relationships/hyperlink" Target="http://www.cisco.com/web/services/it-case-studies/docs/nos-network-management-and-automation-case-study.pdf" TargetMode="External"/><Relationship Id="rId198" Type="http://schemas.openxmlformats.org/officeDocument/2006/relationships/hyperlink" Target="http://www.cisco.com/web/services/it-case-studies/docs/nos-network-management-and-automation-case-study.pdf" TargetMode="External"/><Relationship Id="rId199" Type="http://schemas.openxmlformats.org/officeDocument/2006/relationships/hyperlink" Target="http://www.cisco.com/web/services/it-case-studies/docs/nos-network-management-and-automation-case-study.pdf" TargetMode="External"/><Relationship Id="rId200" Type="http://schemas.openxmlformats.org/officeDocument/2006/relationships/hyperlink" Target="http://www.cisco.com/web/services/it-case-studies/docs/nos-network-management-and-automation-case-study.pdf" TargetMode="External"/><Relationship Id="rId201" Type="http://schemas.openxmlformats.org/officeDocument/2006/relationships/hyperlink" Target="http://www.cisco.com/web/services/it-case-studies/docs/nos-network-management-and-automation-case-study.pdf" TargetMode="External"/><Relationship Id="rId202" Type="http://schemas.openxmlformats.org/officeDocument/2006/relationships/hyperlink" Target="http://www.cisco.com/web/services/it-case-studies/docs/nos-network-management-and-automation-case-study.pdf" TargetMode="External"/><Relationship Id="rId203" Type="http://schemas.openxmlformats.org/officeDocument/2006/relationships/hyperlink" Target="http://www.cisco.com/web/services/it-case-studies/docs/nos-network-management-and-automation-case-study.pdf" TargetMode="External"/><Relationship Id="rId204" Type="http://schemas.openxmlformats.org/officeDocument/2006/relationships/hyperlink" Target="http://www.cisco.com/web/services/it-case-studies/docs/nos-network-management-and-automation-case-study.pdf" TargetMode="External"/><Relationship Id="rId205" Type="http://schemas.openxmlformats.org/officeDocument/2006/relationships/hyperlink" Target="http://www.cisco.com/web/services/it-case-studies/docs/nos-network-management-and-automation-case-study.pdf" TargetMode="External"/><Relationship Id="rId206" Type="http://schemas.openxmlformats.org/officeDocument/2006/relationships/hyperlink" Target="http://www.cisco.com/web/services/it-case-studies/docs/nos-network-management-and-automation-case-study.pdf" TargetMode="External"/><Relationship Id="rId207" Type="http://schemas.openxmlformats.org/officeDocument/2006/relationships/hyperlink" Target="http://www.cisco.com/web/services/it-case-studies/docs/nos-network-management-and-automation-case-study.pdf" TargetMode="External"/><Relationship Id="rId208" Type="http://schemas.openxmlformats.org/officeDocument/2006/relationships/hyperlink" Target="http://www.cisco.com/web/services/it-case-studies/docs/nos-network-management-and-automation-case-study.pdf" TargetMode="External"/><Relationship Id="rId209" Type="http://schemas.openxmlformats.org/officeDocument/2006/relationships/hyperlink" Target="http://www.cisco.com/web/services/it-case-studies/docs/nos-network-management-and-automation-case-study.pdf" TargetMode="External"/><Relationship Id="rId210" Type="http://schemas.openxmlformats.org/officeDocument/2006/relationships/hyperlink" Target="http://www.cisco.com/web/services/it-case-studies/docs/nos-network-management-and-automation-case-study.pdf" TargetMode="External"/><Relationship Id="rId211" Type="http://schemas.openxmlformats.org/officeDocument/2006/relationships/hyperlink" Target="http://www.cisco.com/web/services/it-case-studies/docs/nos-network-management-and-automation-case-study.pdf" TargetMode="External"/><Relationship Id="rId212" Type="http://schemas.openxmlformats.org/officeDocument/2006/relationships/hyperlink" Target="http://www.cisco.com/web/services/it-case-studies/docs/nos-network-management-and-automation-case-study.pdf" TargetMode="External"/><Relationship Id="rId213" Type="http://schemas.openxmlformats.org/officeDocument/2006/relationships/hyperlink" Target="http://www.cisco.com/web/services/it-case-studies/docs/nos-network-management-and-automation-case-study.pdf" TargetMode="External"/><Relationship Id="rId214" Type="http://schemas.openxmlformats.org/officeDocument/2006/relationships/hyperlink" Target="http://www.cisco.com/web/services/it-case-studies/docs/nos-network-management-and-automation-case-study.pdf" TargetMode="External"/><Relationship Id="rId215" Type="http://schemas.openxmlformats.org/officeDocument/2006/relationships/hyperlink" Target="http://www.cisco.com/web/services/it-case-studies/docs/nos-network-management-and-automation-case-study.pdf" TargetMode="External"/><Relationship Id="rId216" Type="http://schemas.openxmlformats.org/officeDocument/2006/relationships/hyperlink" Target="http://www.cisco.com/web/services/it-case-studies/docs/nos-network-management-and-automation-case-study.pdf" TargetMode="External"/><Relationship Id="rId217" Type="http://schemas.openxmlformats.org/officeDocument/2006/relationships/hyperlink" Target="http://www.cisco.com/web/services/it-case-studies/docs/nos-network-management-and-automation-case-study.pdf" TargetMode="External"/><Relationship Id="rId218" Type="http://schemas.openxmlformats.org/officeDocument/2006/relationships/hyperlink" Target="http://www.cisco.com/web/services/it-case-studies/docs/nos-network-management-and-automation-case-study.pdf" TargetMode="External"/><Relationship Id="rId219" Type="http://schemas.openxmlformats.org/officeDocument/2006/relationships/hyperlink" Target="http://www.cisco.com/web/services/it-case-studies/docs/nos-network-management-and-automation-case-study.pdf" TargetMode="External"/><Relationship Id="rId220" Type="http://schemas.openxmlformats.org/officeDocument/2006/relationships/hyperlink" Target="http://www.cisco.com/web/services/it-case-studies/docs/nos-network-management-and-automation-case-study.pdf" TargetMode="External"/><Relationship Id="rId221" Type="http://schemas.openxmlformats.org/officeDocument/2006/relationships/hyperlink" Target="http://www.cisco.com/web/services/it-case-studies/docs/nos-network-management-and-automation-case-study.pdf" TargetMode="External"/><Relationship Id="rId222" Type="http://schemas.openxmlformats.org/officeDocument/2006/relationships/hyperlink" Target="http://www.cisco.com/web/services/it-case-studies/docs/nos-network-management-and-automation-case-study.pdf" TargetMode="External"/><Relationship Id="rId223" Type="http://schemas.openxmlformats.org/officeDocument/2006/relationships/hyperlink" Target="http://www.cisco.com/web/services/it-case-studies/docs/nos-network-management-and-automation-case-study.pdf" TargetMode="External"/><Relationship Id="rId224" Type="http://schemas.openxmlformats.org/officeDocument/2006/relationships/hyperlink" Target="http://www.cisco.com/web/services/it-case-studies/docs/nos-network-management-and-automation-case-study.pdf" TargetMode="External"/><Relationship Id="rId225" Type="http://schemas.openxmlformats.org/officeDocument/2006/relationships/hyperlink" Target="http://www.cisco.com/web/services/it-case-studies/docs/nos-network-management-and-automation-case-study.pdf" TargetMode="External"/><Relationship Id="rId226" Type="http://schemas.openxmlformats.org/officeDocument/2006/relationships/hyperlink" Target="http://www.cisco.com/web/services/it-case-studies/docs/nos-network-management-and-automation-case-study.pdf" TargetMode="External"/><Relationship Id="rId227" Type="http://schemas.openxmlformats.org/officeDocument/2006/relationships/hyperlink" Target="http://www.cisco.com/web/services/it-case-studies/docs/nos-network-management-and-automation-case-study.pdf" TargetMode="External"/><Relationship Id="rId228" Type="http://schemas.openxmlformats.org/officeDocument/2006/relationships/hyperlink" Target="http://www.cisco.com/web/services/it-case-studies/docs/nos-network-management-and-automation-case-study.pdf" TargetMode="External"/><Relationship Id="rId229" Type="http://schemas.openxmlformats.org/officeDocument/2006/relationships/hyperlink" Target="http://www.cisco.com/web/services/it-case-studies/docs/nos-network-management-and-automation-case-study.pdf" TargetMode="External"/><Relationship Id="rId230" Type="http://schemas.openxmlformats.org/officeDocument/2006/relationships/hyperlink" Target="http://www.cisco.com/web/services/it-case-studies/docs/nos-network-management-and-automation-case-study.pdf" TargetMode="External"/><Relationship Id="rId231" Type="http://schemas.openxmlformats.org/officeDocument/2006/relationships/hyperlink" Target="http://www.cisco.com/web/services/it-case-studies/docs/nos-network-management-and-automation-case-study.pdf" TargetMode="External"/><Relationship Id="rId232" Type="http://schemas.openxmlformats.org/officeDocument/2006/relationships/hyperlink" Target="http://www.cisco.com/web/services/it-case-studies/docs/nos-network-management-and-automation-case-study.pdf" TargetMode="External"/><Relationship Id="rId233" Type="http://schemas.openxmlformats.org/officeDocument/2006/relationships/hyperlink" Target="http://www.cisco.com/web/services/it-case-studies/docs/nos-network-management-and-automation-case-study.pdf" TargetMode="External"/><Relationship Id="rId234" Type="http://schemas.openxmlformats.org/officeDocument/2006/relationships/hyperlink" Target="http://www.cisco.com/web/services/it-case-studies/docs/nos-network-management-and-automation-case-study.pdf" TargetMode="External"/><Relationship Id="rId235" Type="http://schemas.openxmlformats.org/officeDocument/2006/relationships/hyperlink" Target="http://www.cisco.com/web/services/it-case-studies/docs/nos-network-management-and-automation-case-study.pdf" TargetMode="External"/><Relationship Id="rId236" Type="http://schemas.openxmlformats.org/officeDocument/2006/relationships/hyperlink" Target="http://www.cisco.com/web/services/it-case-studies/docs/nos-network-management-and-automation-case-study.pdf" TargetMode="External"/><Relationship Id="rId237" Type="http://schemas.openxmlformats.org/officeDocument/2006/relationships/hyperlink" Target="http://www.cisco.com/web/services/it-case-studies/docs/nos-network-management-and-automation-case-study.pdf" TargetMode="External"/><Relationship Id="rId238" Type="http://schemas.openxmlformats.org/officeDocument/2006/relationships/hyperlink" Target="http://www.cisco.com/web/services/it-case-studies/docs/nos-network-management-and-automation-case-study.pdf" TargetMode="External"/><Relationship Id="rId239" Type="http://schemas.openxmlformats.org/officeDocument/2006/relationships/hyperlink" Target="http://www.cisco.com/web/services/it-case-studies/docs/nos-network-management-and-automation-case-study.pdf" TargetMode="External"/><Relationship Id="rId240" Type="http://schemas.openxmlformats.org/officeDocument/2006/relationships/hyperlink" Target="http://www.cisco.com/web/services/it-case-studies/docs/nos-network-management-and-automation-case-study.pdf" TargetMode="External"/><Relationship Id="rId241" Type="http://schemas.openxmlformats.org/officeDocument/2006/relationships/hyperlink" Target="http://www.cisco.com/web/services/it-case-studies/docs/nos-network-management-and-automation-case-study.pdf" TargetMode="External"/><Relationship Id="rId242" Type="http://schemas.openxmlformats.org/officeDocument/2006/relationships/hyperlink" Target="http://www.cisco.com/web/services/it-case-studies/docs/nos-network-management-and-automation-case-study.pdf" TargetMode="External"/><Relationship Id="rId243" Type="http://schemas.openxmlformats.org/officeDocument/2006/relationships/hyperlink" Target="http://www.cisco.com/web/services/it-case-studies/docs/nos-network-management-and-automation-case-study.pdf" TargetMode="External"/><Relationship Id="rId244" Type="http://schemas.openxmlformats.org/officeDocument/2006/relationships/hyperlink" Target="http://www.cisco.com/web/services/it-case-studies/docs/nos-network-management-and-automation-case-study.pdf" TargetMode="External"/><Relationship Id="rId245" Type="http://schemas.openxmlformats.org/officeDocument/2006/relationships/hyperlink" Target="http://www.cisco.com/web/services/it-case-studies/docs/nos-network-management-and-automation-case-study.pdf" TargetMode="External"/><Relationship Id="rId246" Type="http://schemas.openxmlformats.org/officeDocument/2006/relationships/hyperlink" Target="http://www.cisco.com/web/services/it-case-studies/docs/nos-network-management-and-automation-case-study.pdf" TargetMode="External"/><Relationship Id="rId247" Type="http://schemas.openxmlformats.org/officeDocument/2006/relationships/hyperlink" Target="http://www.cisco.com/web/services/it-case-studies/docs/nos-network-management-and-automation-case-study.pdf" TargetMode="External"/><Relationship Id="rId248" Type="http://schemas.openxmlformats.org/officeDocument/2006/relationships/hyperlink" Target="http://www.cisco.com/web/services/it-case-studies/docs/nos-network-management-and-automation-case-study.pdf" TargetMode="External"/><Relationship Id="rId249" Type="http://schemas.openxmlformats.org/officeDocument/2006/relationships/hyperlink" Target="http://www.cisco.com/web/services/it-case-studies/docs/nos-network-management-and-automation-case-study.pdf" TargetMode="External"/><Relationship Id="rId250" Type="http://schemas.openxmlformats.org/officeDocument/2006/relationships/hyperlink" Target="http://www.cisco.com/web/services/it-case-studies/docs/nos-network-management-and-automation-case-study.pdf" TargetMode="External"/><Relationship Id="rId251" Type="http://schemas.openxmlformats.org/officeDocument/2006/relationships/hyperlink" Target="http://www.cisco.com/web/services/it-case-studies/docs/nos-network-management-and-automation-case-study.pdf" TargetMode="External"/><Relationship Id="rId252" Type="http://schemas.openxmlformats.org/officeDocument/2006/relationships/hyperlink" Target="http://www.cisco.com/web/services/it-case-studies/docs/nos-network-management-and-automation-case-study.pdf" TargetMode="External"/><Relationship Id="rId253" Type="http://schemas.openxmlformats.org/officeDocument/2006/relationships/hyperlink" Target="http://www.cisco.com/web/services/it-case-studies/docs/nos-network-management-and-automation-case-study.pdf" TargetMode="External"/><Relationship Id="rId254" Type="http://schemas.openxmlformats.org/officeDocument/2006/relationships/hyperlink" Target="http://www.cisco.com/web/services/it-case-studies/docs/nos-network-management-and-automation-case-study.pdf" TargetMode="External"/><Relationship Id="rId255" Type="http://schemas.openxmlformats.org/officeDocument/2006/relationships/hyperlink" Target="http://www.cisco.com/web/services/it-case-studies/docs/nos-network-management-and-automation-case-study.pdf" TargetMode="External"/><Relationship Id="rId256" Type="http://schemas.openxmlformats.org/officeDocument/2006/relationships/hyperlink" Target="http://www.cisco.com/web/services/it-case-studies/docs/nos-network-management-and-automation-case-study.pdf" TargetMode="External"/><Relationship Id="rId257" Type="http://schemas.openxmlformats.org/officeDocument/2006/relationships/hyperlink" Target="http://www.cisco.com/web/services/it-case-studies/docs/nos-network-management-and-automation-case-study.pdf" TargetMode="External"/><Relationship Id="rId258" Type="http://schemas.openxmlformats.org/officeDocument/2006/relationships/hyperlink" Target="http://www.cisco.com/web/services/it-case-studies/docs/nos-network-management-and-automation-case-study.pdf" TargetMode="External"/><Relationship Id="rId25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ools.cisco.com/gems/cust/customerSite.do?METHOD=E&amp;LANGUAGE_ID=E&amp;SEMINAR_CODE=S22122&amp;PRIORITY_CODE=000660710" TargetMode="External"/><Relationship Id="rId2" Type="http://schemas.openxmlformats.org/officeDocument/2006/relationships/hyperlink" Target="http://tools.cisco.com/gems/cust/customerSite.do?METHOD=E&amp;LANGUAGE_ID=E&amp;SEMINAR_CODE=S22122&amp;PRIORITY_CODE=000660710" TargetMode="External"/><Relationship Id="rId3" Type="http://schemas.openxmlformats.org/officeDocument/2006/relationships/hyperlink" Target="http://tools.cisco.com/gems/cust/customerSite.do?METHOD=E&amp;LANGUAGE_ID=E&amp;SEMINAR_CODE=S22122&amp;PRIORITY_CODE=000660710" TargetMode="External"/><Relationship Id="rId4" Type="http://schemas.openxmlformats.org/officeDocument/2006/relationships/hyperlink" Target="http://tools.cisco.com/gems/cust/customerSite.do?METHOD=E&amp;LANGUAGE_ID=E&amp;SEMINAR_CODE=S22122&amp;PRIORITY_CODE=000660710" TargetMode="External"/><Relationship Id="rId5" Type="http://schemas.openxmlformats.org/officeDocument/2006/relationships/hyperlink" Target="http://tools.cisco.com/gems/cust/customerSite.do?METHOD=E&amp;LANGUAGE_ID=E&amp;SEMINAR_CODE=S22122&amp;PRIORITY_CODE=000660710" TargetMode="External"/><Relationship Id="rId6" Type="http://schemas.openxmlformats.org/officeDocument/2006/relationships/hyperlink" Target="http://tools.cisco.com/gems/cust/customerSite.do?METHOD=E&amp;LANGUAGE_ID=E&amp;SEMINAR_CODE=S22122&amp;PRIORITY_CODE=000660710" TargetMode="External"/><Relationship Id="rId7" Type="http://schemas.openxmlformats.org/officeDocument/2006/relationships/hyperlink" Target="http://tools.cisco.com/gems/cust/customerSite.do?METHOD=E&amp;LANGUAGE_ID=E&amp;SEMINAR_CODE=S22122&amp;PRIORITY_CODE=000660710" TargetMode="External"/><Relationship Id="rId8" Type="http://schemas.openxmlformats.org/officeDocument/2006/relationships/hyperlink" Target="http://tools.cisco.com/gems/cust/customerSite.do?METHOD=E&amp;LANGUAGE_ID=E&amp;SEMINAR_CODE=S22122&amp;PRIORITY_CODE=000660710" TargetMode="External"/><Relationship Id="rId9" Type="http://schemas.openxmlformats.org/officeDocument/2006/relationships/hyperlink" Target="http://tools.cisco.com/gems/cust/customerSite.do?METHOD=E&amp;LANGUAGE_ID=E&amp;SEMINAR_CODE=S22122&amp;PRIORITY_CODE=000660710" TargetMode="External"/><Relationship Id="rId10" Type="http://schemas.openxmlformats.org/officeDocument/2006/relationships/hyperlink" Target="http://tools.cisco.com/gems/cust/customerSite.do?METHOD=E&amp;LANGUAGE_ID=E&amp;SEMINAR_CODE=S22122&amp;PRIORITY_CODE=000660710" TargetMode="External"/><Relationship Id="rId11" Type="http://schemas.openxmlformats.org/officeDocument/2006/relationships/hyperlink" Target="http://tools.cisco.com/gems/cust/customerSite.do?METHOD=E&amp;LANGUAGE_ID=E&amp;SEMINAR_CODE=S22122&amp;PRIORITY_CODE=000660710" TargetMode="External"/><Relationship Id="rId12" Type="http://schemas.openxmlformats.org/officeDocument/2006/relationships/hyperlink" Target="http://tools.cisco.com/gems/cust/customerSite.do?METHOD=E&amp;LANGUAGE_ID=E&amp;SEMINAR_CODE=S22122&amp;PRIORITY_CODE=000660710" TargetMode="External"/><Relationship Id="rId13" Type="http://schemas.openxmlformats.org/officeDocument/2006/relationships/hyperlink" Target="http://tools.cisco.com/gems/cust/customerSite.do?METHOD=E&amp;LANGUAGE_ID=E&amp;SEMINAR_CODE=S22122&amp;PRIORITY_CODE=000660710" TargetMode="External"/><Relationship Id="rId14" Type="http://schemas.openxmlformats.org/officeDocument/2006/relationships/hyperlink" Target="http://tools.cisco.com/gems/cust/customerSite.do?METHOD=E&amp;LANGUAGE_ID=E&amp;SEMINAR_CODE=S22122&amp;PRIORITY_CODE=000660710" TargetMode="External"/><Relationship Id="rId15" Type="http://schemas.openxmlformats.org/officeDocument/2006/relationships/hyperlink" Target="http://www.eeppt.com/moban/" TargetMode="External"/><Relationship Id="rId1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image" Target="../media/image53.jpeg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image" Target="../media/image63.png"/><Relationship Id="rId11" Type="http://schemas.openxmlformats.org/officeDocument/2006/relationships/image" Target="../media/image64.png"/><Relationship Id="rId12" Type="http://schemas.openxmlformats.org/officeDocument/2006/relationships/image" Target="../media/image65.png"/><Relationship Id="rId13" Type="http://schemas.openxmlformats.org/officeDocument/2006/relationships/image" Target="../media/image66.png"/><Relationship Id="rId14" Type="http://schemas.openxmlformats.org/officeDocument/2006/relationships/image" Target="../media/image67.jpeg"/><Relationship Id="rId15" Type="http://schemas.openxmlformats.org/officeDocument/2006/relationships/image" Target="../media/image68.jpeg"/><Relationship Id="rId16" Type="http://schemas.openxmlformats.org/officeDocument/2006/relationships/image" Target="../media/image69.jpeg"/><Relationship Id="rId17" Type="http://schemas.openxmlformats.org/officeDocument/2006/relationships/image" Target="../media/image70.jpeg"/><Relationship Id="rId18" Type="http://schemas.openxmlformats.org/officeDocument/2006/relationships/image" Target="../media/image71.jpeg"/><Relationship Id="rId19" Type="http://schemas.openxmlformats.org/officeDocument/2006/relationships/image" Target="../media/image72.jpeg"/><Relationship Id="rId20" Type="http://schemas.openxmlformats.org/officeDocument/2006/relationships/hyperlink" Target="http://www.eeppt.com/moban/" TargetMode="External"/><Relationship Id="rId2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jpe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object 2"/>
          <p:cNvSpPr/>
          <p:nvPr/>
        </p:nvSpPr>
        <p:spPr>
          <a:xfrm>
            <a:off x="0" y="0"/>
            <a:ext cx="18287640" cy="1029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bject 3"/>
          <p:cNvSpPr/>
          <p:nvPr/>
        </p:nvSpPr>
        <p:spPr>
          <a:xfrm>
            <a:off x="2002680" y="1701360"/>
            <a:ext cx="14282640" cy="22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7200" spc="-66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7200" spc="89" strike="noStrike">
                <a:solidFill>
                  <a:srgbClr val="ffffff"/>
                </a:solidFill>
                <a:latin typeface="Arial"/>
              </a:rPr>
              <a:t>chi</a:t>
            </a:r>
            <a:r>
              <a:rPr b="0" lang="en-US" sz="7200" spc="18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7200" spc="97" strike="noStrike">
                <a:solidFill>
                  <a:srgbClr val="ffffff"/>
                </a:solidFill>
                <a:latin typeface="Arial"/>
              </a:rPr>
              <a:t>ectu</a:t>
            </a:r>
            <a:r>
              <a:rPr b="0" lang="en-US" sz="7200" spc="4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7200" spc="77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7200" spc="143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Stra</a:t>
            </a:r>
            <a:r>
              <a:rPr b="0" lang="en-US" sz="7200" spc="-46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7200" spc="72" strike="noStrike">
                <a:solidFill>
                  <a:srgbClr val="ffffff"/>
                </a:solidFill>
                <a:latin typeface="Arial"/>
              </a:rPr>
              <a:t>egy</a:t>
            </a:r>
            <a:r>
              <a:rPr b="0" lang="en-US" sz="7200" spc="154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4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7200" spc="148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06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7200" spc="69" strike="noStrike">
                <a:solidFill>
                  <a:srgbClr val="f16140"/>
                </a:solidFill>
                <a:latin typeface="Arial"/>
              </a:rPr>
              <a:t>What's</a:t>
            </a:r>
            <a:r>
              <a:rPr b="0" lang="en-US" sz="7200" spc="180" strike="noStrike">
                <a:solidFill>
                  <a:srgbClr val="f16140"/>
                </a:solidFill>
                <a:latin typeface="Arial"/>
              </a:rPr>
              <a:t> </a:t>
            </a:r>
            <a:r>
              <a:rPr b="0" lang="en-US" sz="7200" spc="-1061" strike="noStrike">
                <a:solidFill>
                  <a:srgbClr val="f16140"/>
                </a:solidFill>
                <a:latin typeface="Arial"/>
              </a:rPr>
              <a:t>Y</a:t>
            </a:r>
            <a:r>
              <a:rPr b="0" lang="en-US" sz="7200" spc="29" strike="noStrike">
                <a:solidFill>
                  <a:srgbClr val="f16140"/>
                </a:solidFill>
                <a:latin typeface="Arial"/>
              </a:rPr>
              <a:t>our</a:t>
            </a:r>
            <a:r>
              <a:rPr b="0" lang="en-US" sz="7200" spc="154" strike="noStrike">
                <a:solidFill>
                  <a:srgbClr val="f16140"/>
                </a:solidFill>
                <a:latin typeface="Arial"/>
              </a:rPr>
              <a:t> </a:t>
            </a:r>
            <a:r>
              <a:rPr b="0" lang="en-US" sz="7200" spc="-100" strike="noStrike">
                <a:solidFill>
                  <a:srgbClr val="f16140"/>
                </a:solidFill>
                <a:latin typeface="Arial"/>
              </a:rPr>
              <a:t>Game</a:t>
            </a:r>
            <a:r>
              <a:rPr b="0" lang="en-US" sz="7200" spc="162" strike="noStrike">
                <a:solidFill>
                  <a:srgbClr val="f16140"/>
                </a:solidFill>
                <a:latin typeface="Arial"/>
              </a:rPr>
              <a:t> </a:t>
            </a:r>
            <a:r>
              <a:rPr b="0" lang="en-US" sz="7200" spc="-182" strike="noStrike">
                <a:solidFill>
                  <a:srgbClr val="f16140"/>
                </a:solidFill>
                <a:latin typeface="Arial"/>
              </a:rPr>
              <a:t>Pla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bject 4"/>
          <p:cNvSpPr/>
          <p:nvPr/>
        </p:nvSpPr>
        <p:spPr>
          <a:xfrm>
            <a:off x="16246800" y="633240"/>
            <a:ext cx="1455840" cy="81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bject 5"/>
          <p:cNvSpPr/>
          <p:nvPr/>
        </p:nvSpPr>
        <p:spPr>
          <a:xfrm>
            <a:off x="723960" y="8153280"/>
            <a:ext cx="2386440" cy="48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bject 6"/>
          <p:cNvSpPr/>
          <p:nvPr/>
        </p:nvSpPr>
        <p:spPr>
          <a:xfrm>
            <a:off x="723960" y="8580600"/>
            <a:ext cx="1820160" cy="4827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bject 7"/>
          <p:cNvSpPr/>
          <p:nvPr/>
        </p:nvSpPr>
        <p:spPr>
          <a:xfrm>
            <a:off x="4092120" y="4075920"/>
            <a:ext cx="10056600" cy="54417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Num" idx="13"/>
          </p:nvPr>
        </p:nvSpPr>
        <p:spPr>
          <a:xfrm>
            <a:off x="17536680" y="9781560"/>
            <a:ext cx="12780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buNone/>
              <a:defRPr b="0" lang="en-US" sz="1200" spc="-12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5560" indent="0">
              <a:lnSpc>
                <a:spcPct val="100000"/>
              </a:lnSpc>
              <a:buNone/>
            </a:pPr>
            <a:fld id="{D123DBCC-01D8-4053-9B32-FC8E5E513051}" type="slidenum">
              <a:rPr b="0" lang="en-US" sz="1200" spc="-12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ftr" idx="14"/>
          </p:nvPr>
        </p:nvSpPr>
        <p:spPr>
          <a:xfrm>
            <a:off x="694800" y="9790560"/>
            <a:ext cx="331308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15 </a:t>
            </a:r>
            <a:r>
              <a:rPr b="0" lang="en-US" sz="1200" spc="9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i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2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32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0" lang="en-US" sz="1200" spc="-15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li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-15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s.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g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hts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ese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5"/>
          </p:nvPr>
        </p:nvSpPr>
        <p:spPr>
          <a:xfrm>
            <a:off x="15906600" y="9788040"/>
            <a:ext cx="113400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7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s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2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de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n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矩形 10"/>
          <p:cNvSpPr/>
          <p:nvPr/>
        </p:nvSpPr>
        <p:spPr>
          <a:xfrm>
            <a:off x="6717600" y="479412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电脑工作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黑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2"/>
          <p:cNvSpPr/>
          <p:nvPr/>
        </p:nvSpPr>
        <p:spPr>
          <a:xfrm>
            <a:off x="509400" y="984240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object 2"/>
          <p:cNvSpPr/>
          <p:nvPr/>
        </p:nvSpPr>
        <p:spPr>
          <a:xfrm>
            <a:off x="6286680" y="2432520"/>
            <a:ext cx="9515520" cy="7785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object 3"/>
          <p:cNvSpPr/>
          <p:nvPr/>
        </p:nvSpPr>
        <p:spPr>
          <a:xfrm>
            <a:off x="0" y="0"/>
            <a:ext cx="18287640" cy="2402280"/>
          </a:xfrm>
          <a:custGeom>
            <a:avLst/>
            <a:gdLst>
              <a:gd name="textAreaLeft" fmla="*/ 0 w 18287640"/>
              <a:gd name="textAreaRight" fmla="*/ 18288000 w 18287640"/>
              <a:gd name="textAreaTop" fmla="*/ 0 h 2402280"/>
              <a:gd name="textAreaBottom" fmla="*/ 2402640 h 2402280"/>
            </a:gdLst>
            <a:ahLst/>
            <a:rect l="textAreaLeft" t="textAreaTop" r="textAreaRight" b="textAreaBottom"/>
            <a:pathLst>
              <a:path w="18288000" h="2402585">
                <a:moveTo>
                  <a:pt x="0" y="2402586"/>
                </a:moveTo>
                <a:lnTo>
                  <a:pt x="18288000" y="2402586"/>
                </a:lnTo>
                <a:lnTo>
                  <a:pt x="18288000" y="0"/>
                </a:lnTo>
                <a:lnTo>
                  <a:pt x="0" y="0"/>
                </a:lnTo>
                <a:lnTo>
                  <a:pt x="0" y="2402586"/>
                </a:lnTo>
              </a:path>
            </a:pathLst>
          </a:custGeom>
          <a:solidFill>
            <a:srgbClr val="232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77320" indent="0">
              <a:lnSpc>
                <a:spcPct val="100000"/>
              </a:lnSpc>
              <a:buNone/>
            </a:pPr>
            <a:r>
              <a:rPr b="0" lang="en-US" sz="5600" spc="-46" strike="noStrike">
                <a:solidFill>
                  <a:srgbClr val="ffffff"/>
                </a:solidFill>
                <a:latin typeface="Arial"/>
              </a:rPr>
              <a:t>Int</a:t>
            </a:r>
            <a:r>
              <a:rPr b="0" lang="en-US" sz="5600" spc="-106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5600" spc="52" strike="noStrike">
                <a:solidFill>
                  <a:srgbClr val="ffffff"/>
                </a:solidFill>
                <a:latin typeface="Arial"/>
              </a:rPr>
              <a:t>oducing</a:t>
            </a:r>
            <a:r>
              <a:rPr b="0" lang="en-US" sz="5600" spc="117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69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0" lang="en-US" sz="5600" spc="117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24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object 5"/>
          <p:cNvSpPr/>
          <p:nvPr/>
        </p:nvSpPr>
        <p:spPr>
          <a:xfrm>
            <a:off x="3247560" y="2719800"/>
            <a:ext cx="6378120" cy="6713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object 6"/>
          <p:cNvSpPr/>
          <p:nvPr/>
        </p:nvSpPr>
        <p:spPr>
          <a:xfrm>
            <a:off x="17471520" y="9781560"/>
            <a:ext cx="18072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40"/>
          </p:nvPr>
        </p:nvSpPr>
        <p:spPr>
          <a:xfrm>
            <a:off x="694800" y="9790560"/>
            <a:ext cx="331308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15 </a:t>
            </a:r>
            <a:r>
              <a:rPr b="0" lang="en-US" sz="1200" spc="9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i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2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32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0" lang="en-US" sz="1200" spc="-15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li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-15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s.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g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hts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ese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41"/>
          </p:nvPr>
        </p:nvSpPr>
        <p:spPr>
          <a:xfrm>
            <a:off x="15906600" y="9788040"/>
            <a:ext cx="113400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7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s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2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de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n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ject 2"/>
          <p:cNvSpPr/>
          <p:nvPr/>
        </p:nvSpPr>
        <p:spPr>
          <a:xfrm>
            <a:off x="0" y="0"/>
            <a:ext cx="18287640" cy="2402280"/>
          </a:xfrm>
          <a:custGeom>
            <a:avLst/>
            <a:gdLst>
              <a:gd name="textAreaLeft" fmla="*/ 0 w 18287640"/>
              <a:gd name="textAreaRight" fmla="*/ 18288000 w 18287640"/>
              <a:gd name="textAreaTop" fmla="*/ 0 h 2402280"/>
              <a:gd name="textAreaBottom" fmla="*/ 2402640 h 2402280"/>
            </a:gdLst>
            <a:ahLst/>
            <a:rect l="textAreaLeft" t="textAreaTop" r="textAreaRight" b="textAreaBottom"/>
            <a:pathLst>
              <a:path w="18288000" h="2402585">
                <a:moveTo>
                  <a:pt x="0" y="2402586"/>
                </a:moveTo>
                <a:lnTo>
                  <a:pt x="18288000" y="2402586"/>
                </a:lnTo>
                <a:lnTo>
                  <a:pt x="18288000" y="0"/>
                </a:lnTo>
                <a:lnTo>
                  <a:pt x="0" y="0"/>
                </a:lnTo>
                <a:lnTo>
                  <a:pt x="0" y="2402586"/>
                </a:lnTo>
              </a:path>
            </a:pathLst>
          </a:custGeom>
          <a:solidFill>
            <a:srgbClr val="232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object 3"/>
          <p:cNvSpPr/>
          <p:nvPr/>
        </p:nvSpPr>
        <p:spPr>
          <a:xfrm>
            <a:off x="6095880" y="3317760"/>
            <a:ext cx="6095520" cy="6101280"/>
          </a:xfrm>
          <a:custGeom>
            <a:avLst/>
            <a:gdLst>
              <a:gd name="textAreaLeft" fmla="*/ 0 w 6095520"/>
              <a:gd name="textAreaRight" fmla="*/ 6095880 w 6095520"/>
              <a:gd name="textAreaTop" fmla="*/ 0 h 6101280"/>
              <a:gd name="textAreaBottom" fmla="*/ 6101640 h 6101280"/>
            </a:gdLst>
            <a:ahLst/>
            <a:rect l="textAreaLeft" t="textAreaTop" r="textAreaRight" b="textAreaBottom"/>
            <a:pathLst>
              <a:path w="6096000" h="6101664">
                <a:moveTo>
                  <a:pt x="0" y="3050794"/>
                </a:moveTo>
                <a:lnTo>
                  <a:pt x="10103" y="2800581"/>
                </a:lnTo>
                <a:lnTo>
                  <a:pt x="39892" y="2555938"/>
                </a:lnTo>
                <a:lnTo>
                  <a:pt x="88581" y="2317652"/>
                </a:lnTo>
                <a:lnTo>
                  <a:pt x="155387" y="2086506"/>
                </a:lnTo>
                <a:lnTo>
                  <a:pt x="239523" y="1863286"/>
                </a:lnTo>
                <a:lnTo>
                  <a:pt x="340208" y="1648777"/>
                </a:lnTo>
                <a:lnTo>
                  <a:pt x="456655" y="1443765"/>
                </a:lnTo>
                <a:lnTo>
                  <a:pt x="588081" y="1249033"/>
                </a:lnTo>
                <a:lnTo>
                  <a:pt x="733700" y="1065369"/>
                </a:lnTo>
                <a:lnTo>
                  <a:pt x="892730" y="893556"/>
                </a:lnTo>
                <a:lnTo>
                  <a:pt x="1064385" y="734379"/>
                </a:lnTo>
                <a:lnTo>
                  <a:pt x="1247881" y="588625"/>
                </a:lnTo>
                <a:lnTo>
                  <a:pt x="1442434" y="457078"/>
                </a:lnTo>
                <a:lnTo>
                  <a:pt x="1647259" y="340523"/>
                </a:lnTo>
                <a:lnTo>
                  <a:pt x="1861571" y="239746"/>
                </a:lnTo>
                <a:lnTo>
                  <a:pt x="2084588" y="155531"/>
                </a:lnTo>
                <a:lnTo>
                  <a:pt x="2315523" y="88664"/>
                </a:lnTo>
                <a:lnTo>
                  <a:pt x="2553593" y="39929"/>
                </a:lnTo>
                <a:lnTo>
                  <a:pt x="2798013" y="10113"/>
                </a:lnTo>
                <a:lnTo>
                  <a:pt x="3048000" y="0"/>
                </a:lnTo>
                <a:lnTo>
                  <a:pt x="3297986" y="10113"/>
                </a:lnTo>
                <a:lnTo>
                  <a:pt x="3542406" y="39929"/>
                </a:lnTo>
                <a:lnTo>
                  <a:pt x="3780476" y="88664"/>
                </a:lnTo>
                <a:lnTo>
                  <a:pt x="4011411" y="155531"/>
                </a:lnTo>
                <a:lnTo>
                  <a:pt x="4234428" y="239746"/>
                </a:lnTo>
                <a:lnTo>
                  <a:pt x="4448740" y="340523"/>
                </a:lnTo>
                <a:lnTo>
                  <a:pt x="4653565" y="457078"/>
                </a:lnTo>
                <a:lnTo>
                  <a:pt x="4848118" y="588625"/>
                </a:lnTo>
                <a:lnTo>
                  <a:pt x="5031614" y="734379"/>
                </a:lnTo>
                <a:lnTo>
                  <a:pt x="5203269" y="893556"/>
                </a:lnTo>
                <a:lnTo>
                  <a:pt x="5362299" y="1065369"/>
                </a:lnTo>
                <a:lnTo>
                  <a:pt x="5507918" y="1249033"/>
                </a:lnTo>
                <a:lnTo>
                  <a:pt x="5639344" y="1443765"/>
                </a:lnTo>
                <a:lnTo>
                  <a:pt x="5755791" y="1648777"/>
                </a:lnTo>
                <a:lnTo>
                  <a:pt x="5856476" y="1863286"/>
                </a:lnTo>
                <a:lnTo>
                  <a:pt x="5940612" y="2086506"/>
                </a:lnTo>
                <a:lnTo>
                  <a:pt x="6007418" y="2317652"/>
                </a:lnTo>
                <a:lnTo>
                  <a:pt x="6056107" y="2555938"/>
                </a:lnTo>
                <a:lnTo>
                  <a:pt x="6085896" y="2800581"/>
                </a:lnTo>
                <a:lnTo>
                  <a:pt x="6096000" y="3050794"/>
                </a:lnTo>
                <a:lnTo>
                  <a:pt x="6085896" y="3301007"/>
                </a:lnTo>
                <a:lnTo>
                  <a:pt x="6056107" y="3545651"/>
                </a:lnTo>
                <a:lnTo>
                  <a:pt x="6007418" y="3783940"/>
                </a:lnTo>
                <a:lnTo>
                  <a:pt x="5940612" y="4015089"/>
                </a:lnTo>
                <a:lnTo>
                  <a:pt x="5856476" y="4238313"/>
                </a:lnTo>
                <a:lnTo>
                  <a:pt x="5755791" y="4452826"/>
                </a:lnTo>
                <a:lnTo>
                  <a:pt x="5639344" y="4657844"/>
                </a:lnTo>
                <a:lnTo>
                  <a:pt x="5507918" y="4852580"/>
                </a:lnTo>
                <a:lnTo>
                  <a:pt x="5362299" y="5036251"/>
                </a:lnTo>
                <a:lnTo>
                  <a:pt x="5203269" y="5208069"/>
                </a:lnTo>
                <a:lnTo>
                  <a:pt x="5031614" y="5367251"/>
                </a:lnTo>
                <a:lnTo>
                  <a:pt x="4848118" y="5513011"/>
                </a:lnTo>
                <a:lnTo>
                  <a:pt x="4653565" y="5644564"/>
                </a:lnTo>
                <a:lnTo>
                  <a:pt x="4448740" y="5761124"/>
                </a:lnTo>
                <a:lnTo>
                  <a:pt x="4234428" y="5861906"/>
                </a:lnTo>
                <a:lnTo>
                  <a:pt x="4011411" y="5946124"/>
                </a:lnTo>
                <a:lnTo>
                  <a:pt x="3780476" y="6012995"/>
                </a:lnTo>
                <a:lnTo>
                  <a:pt x="3542406" y="6061732"/>
                </a:lnTo>
                <a:lnTo>
                  <a:pt x="3297986" y="6091550"/>
                </a:lnTo>
                <a:lnTo>
                  <a:pt x="3048000" y="6101664"/>
                </a:lnTo>
                <a:lnTo>
                  <a:pt x="2798013" y="6091550"/>
                </a:lnTo>
                <a:lnTo>
                  <a:pt x="2553593" y="6061732"/>
                </a:lnTo>
                <a:lnTo>
                  <a:pt x="2315523" y="6012995"/>
                </a:lnTo>
                <a:lnTo>
                  <a:pt x="2084588" y="5946124"/>
                </a:lnTo>
                <a:lnTo>
                  <a:pt x="1861571" y="5861906"/>
                </a:lnTo>
                <a:lnTo>
                  <a:pt x="1647259" y="5761124"/>
                </a:lnTo>
                <a:lnTo>
                  <a:pt x="1442434" y="5644564"/>
                </a:lnTo>
                <a:lnTo>
                  <a:pt x="1247881" y="5513011"/>
                </a:lnTo>
                <a:lnTo>
                  <a:pt x="1064385" y="5367251"/>
                </a:lnTo>
                <a:lnTo>
                  <a:pt x="892730" y="5208069"/>
                </a:lnTo>
                <a:lnTo>
                  <a:pt x="733700" y="5036251"/>
                </a:lnTo>
                <a:lnTo>
                  <a:pt x="588081" y="4852580"/>
                </a:lnTo>
                <a:lnTo>
                  <a:pt x="456655" y="4657844"/>
                </a:lnTo>
                <a:lnTo>
                  <a:pt x="340208" y="4452826"/>
                </a:lnTo>
                <a:lnTo>
                  <a:pt x="239523" y="4238313"/>
                </a:lnTo>
                <a:lnTo>
                  <a:pt x="155387" y="4015089"/>
                </a:lnTo>
                <a:lnTo>
                  <a:pt x="88581" y="3783940"/>
                </a:lnTo>
                <a:lnTo>
                  <a:pt x="39892" y="3545651"/>
                </a:lnTo>
                <a:lnTo>
                  <a:pt x="10103" y="3301007"/>
                </a:lnTo>
                <a:lnTo>
                  <a:pt x="0" y="3050794"/>
                </a:lnTo>
                <a:close/>
              </a:path>
            </a:pathLst>
          </a:custGeom>
          <a:noFill/>
          <a:ln w="76200">
            <a:solidFill>
              <a:srgbClr val="232c3a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object 4"/>
          <p:cNvSpPr/>
          <p:nvPr/>
        </p:nvSpPr>
        <p:spPr>
          <a:xfrm>
            <a:off x="4889520" y="5315760"/>
            <a:ext cx="1980720" cy="197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object 5"/>
          <p:cNvSpPr/>
          <p:nvPr/>
        </p:nvSpPr>
        <p:spPr>
          <a:xfrm>
            <a:off x="11607840" y="5332320"/>
            <a:ext cx="1967760" cy="1969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object 6"/>
          <p:cNvSpPr/>
          <p:nvPr/>
        </p:nvSpPr>
        <p:spPr>
          <a:xfrm>
            <a:off x="9766080" y="2708640"/>
            <a:ext cx="1980720" cy="19807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object 7"/>
          <p:cNvSpPr/>
          <p:nvPr/>
        </p:nvSpPr>
        <p:spPr>
          <a:xfrm>
            <a:off x="6553080" y="7895880"/>
            <a:ext cx="1980720" cy="197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object 8"/>
          <p:cNvSpPr/>
          <p:nvPr/>
        </p:nvSpPr>
        <p:spPr>
          <a:xfrm>
            <a:off x="6550560" y="2707560"/>
            <a:ext cx="1982520" cy="19825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object 9"/>
          <p:cNvSpPr/>
          <p:nvPr/>
        </p:nvSpPr>
        <p:spPr>
          <a:xfrm>
            <a:off x="10058400" y="7894800"/>
            <a:ext cx="1980720" cy="198072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object 10"/>
          <p:cNvSpPr/>
          <p:nvPr/>
        </p:nvSpPr>
        <p:spPr>
          <a:xfrm>
            <a:off x="941760" y="745920"/>
            <a:ext cx="16406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5600" spc="214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5600" spc="117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-415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undamentals</a:t>
            </a:r>
            <a:r>
              <a:rPr b="0" lang="en-US" sz="5600" spc="117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89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5600" spc="109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-151" strike="noStrike">
                <a:solidFill>
                  <a:srgbClr val="f16140"/>
                </a:solidFill>
                <a:latin typeface="Arial"/>
              </a:rPr>
              <a:t>P</a:t>
            </a:r>
            <a:r>
              <a:rPr b="0" lang="en-US" sz="5600" spc="-145" strike="noStrike">
                <a:solidFill>
                  <a:srgbClr val="f16140"/>
                </a:solidFill>
                <a:latin typeface="Arial"/>
              </a:rPr>
              <a:t>r</a:t>
            </a:r>
            <a:r>
              <a:rPr b="0" lang="en-US" sz="5600" spc="18" strike="noStrike">
                <a:solidFill>
                  <a:srgbClr val="f16140"/>
                </a:solidFill>
                <a:latin typeface="Arial"/>
              </a:rPr>
              <a:t>oacti</a:t>
            </a:r>
            <a:r>
              <a:rPr b="0" lang="en-US" sz="5600" spc="-140" strike="noStrike">
                <a:solidFill>
                  <a:srgbClr val="f16140"/>
                </a:solidFill>
                <a:latin typeface="Arial"/>
              </a:rPr>
              <a:t>v</a:t>
            </a:r>
            <a:r>
              <a:rPr b="0" lang="en-US" sz="5600" spc="58" strike="noStrike">
                <a:solidFill>
                  <a:srgbClr val="f16140"/>
                </a:solidFill>
                <a:latin typeface="Arial"/>
              </a:rPr>
              <a:t>e</a:t>
            </a:r>
            <a:r>
              <a:rPr b="0" lang="en-US" sz="5600" spc="111" strike="noStrike">
                <a:solidFill>
                  <a:srgbClr val="f16140"/>
                </a:solidFill>
                <a:latin typeface="Arial"/>
              </a:rPr>
              <a:t> </a:t>
            </a:r>
            <a:r>
              <a:rPr b="0" lang="en-US" sz="5600" spc="83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5600" spc="52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5600" spc="24" strike="noStrike">
                <a:solidFill>
                  <a:srgbClr val="ffffff"/>
                </a:solidFill>
                <a:latin typeface="Arial"/>
              </a:rPr>
              <a:t>ork</a:t>
            </a:r>
            <a:r>
              <a:rPr b="0" lang="en-US" sz="5600" spc="117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bject 11"/>
          <p:cNvSpPr/>
          <p:nvPr/>
        </p:nvSpPr>
        <p:spPr>
          <a:xfrm>
            <a:off x="4299120" y="3519720"/>
            <a:ext cx="2181600" cy="4140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object 12"/>
          <p:cNvSpPr/>
          <p:nvPr/>
        </p:nvSpPr>
        <p:spPr>
          <a:xfrm>
            <a:off x="1780920" y="5987160"/>
            <a:ext cx="3031920" cy="4140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object 13"/>
          <p:cNvSpPr/>
          <p:nvPr/>
        </p:nvSpPr>
        <p:spPr>
          <a:xfrm>
            <a:off x="2308320" y="6352920"/>
            <a:ext cx="1992600" cy="4140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object 14"/>
          <p:cNvSpPr/>
          <p:nvPr/>
        </p:nvSpPr>
        <p:spPr>
          <a:xfrm>
            <a:off x="11918520" y="3519720"/>
            <a:ext cx="2992320" cy="414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object 15"/>
          <p:cNvSpPr/>
          <p:nvPr/>
        </p:nvSpPr>
        <p:spPr>
          <a:xfrm>
            <a:off x="13763880" y="5987160"/>
            <a:ext cx="3235320" cy="414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object 16"/>
          <p:cNvSpPr/>
          <p:nvPr/>
        </p:nvSpPr>
        <p:spPr>
          <a:xfrm>
            <a:off x="14403960" y="6352920"/>
            <a:ext cx="1972800" cy="414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object 17"/>
          <p:cNvSpPr/>
          <p:nvPr/>
        </p:nvSpPr>
        <p:spPr>
          <a:xfrm>
            <a:off x="3450960" y="8580600"/>
            <a:ext cx="3036240" cy="41400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object 18"/>
          <p:cNvSpPr/>
          <p:nvPr/>
        </p:nvSpPr>
        <p:spPr>
          <a:xfrm>
            <a:off x="4176360" y="8946360"/>
            <a:ext cx="1592280" cy="41436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object 19"/>
          <p:cNvSpPr/>
          <p:nvPr/>
        </p:nvSpPr>
        <p:spPr>
          <a:xfrm>
            <a:off x="12595680" y="8534160"/>
            <a:ext cx="2824920" cy="41400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bject 20"/>
          <p:cNvSpPr/>
          <p:nvPr/>
        </p:nvSpPr>
        <p:spPr>
          <a:xfrm>
            <a:off x="12243240" y="8899920"/>
            <a:ext cx="3533760" cy="414000"/>
          </a:xfrm>
          <a:prstGeom prst="rect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object 21"/>
          <p:cNvSpPr/>
          <p:nvPr/>
        </p:nvSpPr>
        <p:spPr>
          <a:xfrm>
            <a:off x="4896000" y="5315040"/>
            <a:ext cx="1999800" cy="1999800"/>
          </a:xfrm>
          <a:custGeom>
            <a:avLst/>
            <a:gdLst>
              <a:gd name="textAreaLeft" fmla="*/ 0 w 1999800"/>
              <a:gd name="textAreaRight" fmla="*/ 2000160 w 1999800"/>
              <a:gd name="textAreaTop" fmla="*/ 0 h 1999800"/>
              <a:gd name="textAreaBottom" fmla="*/ 2000160 h 1999800"/>
            </a:gdLst>
            <a:ahLst/>
            <a:rect l="textAreaLeft" t="textAreaTop" r="textAreaRight" b="textAreaBottom"/>
            <a:pathLst>
              <a:path w="2000250" h="2000250">
                <a:moveTo>
                  <a:pt x="0" y="1000125"/>
                </a:moveTo>
                <a:lnTo>
                  <a:pt x="3315" y="918103"/>
                </a:lnTo>
                <a:lnTo>
                  <a:pt x="13090" y="837907"/>
                </a:lnTo>
                <a:lnTo>
                  <a:pt x="29068" y="759793"/>
                </a:lnTo>
                <a:lnTo>
                  <a:pt x="50989" y="684019"/>
                </a:lnTo>
                <a:lnTo>
                  <a:pt x="78599" y="610844"/>
                </a:lnTo>
                <a:lnTo>
                  <a:pt x="111637" y="540523"/>
                </a:lnTo>
                <a:lnTo>
                  <a:pt x="149849" y="473315"/>
                </a:lnTo>
                <a:lnTo>
                  <a:pt x="192974" y="409477"/>
                </a:lnTo>
                <a:lnTo>
                  <a:pt x="240758" y="349266"/>
                </a:lnTo>
                <a:lnTo>
                  <a:pt x="292941" y="292941"/>
                </a:lnTo>
                <a:lnTo>
                  <a:pt x="349266" y="240758"/>
                </a:lnTo>
                <a:lnTo>
                  <a:pt x="409477" y="192974"/>
                </a:lnTo>
                <a:lnTo>
                  <a:pt x="473315" y="149849"/>
                </a:lnTo>
                <a:lnTo>
                  <a:pt x="540523" y="111637"/>
                </a:lnTo>
                <a:lnTo>
                  <a:pt x="610844" y="78599"/>
                </a:lnTo>
                <a:lnTo>
                  <a:pt x="684019" y="50989"/>
                </a:lnTo>
                <a:lnTo>
                  <a:pt x="759793" y="29068"/>
                </a:lnTo>
                <a:lnTo>
                  <a:pt x="837907" y="13090"/>
                </a:lnTo>
                <a:lnTo>
                  <a:pt x="918103" y="3315"/>
                </a:lnTo>
                <a:lnTo>
                  <a:pt x="1000125" y="0"/>
                </a:lnTo>
                <a:lnTo>
                  <a:pt x="1082146" y="3315"/>
                </a:lnTo>
                <a:lnTo>
                  <a:pt x="1162342" y="13090"/>
                </a:lnTo>
                <a:lnTo>
                  <a:pt x="1240456" y="29068"/>
                </a:lnTo>
                <a:lnTo>
                  <a:pt x="1316230" y="50989"/>
                </a:lnTo>
                <a:lnTo>
                  <a:pt x="1389405" y="78599"/>
                </a:lnTo>
                <a:lnTo>
                  <a:pt x="1459726" y="111637"/>
                </a:lnTo>
                <a:lnTo>
                  <a:pt x="1526934" y="149849"/>
                </a:lnTo>
                <a:lnTo>
                  <a:pt x="1590772" y="192974"/>
                </a:lnTo>
                <a:lnTo>
                  <a:pt x="1650983" y="240758"/>
                </a:lnTo>
                <a:lnTo>
                  <a:pt x="1707308" y="292941"/>
                </a:lnTo>
                <a:lnTo>
                  <a:pt x="1759491" y="349266"/>
                </a:lnTo>
                <a:lnTo>
                  <a:pt x="1807275" y="409477"/>
                </a:lnTo>
                <a:lnTo>
                  <a:pt x="1850400" y="473315"/>
                </a:lnTo>
                <a:lnTo>
                  <a:pt x="1888612" y="540523"/>
                </a:lnTo>
                <a:lnTo>
                  <a:pt x="1921650" y="610844"/>
                </a:lnTo>
                <a:lnTo>
                  <a:pt x="1949260" y="684019"/>
                </a:lnTo>
                <a:lnTo>
                  <a:pt x="1971181" y="759793"/>
                </a:lnTo>
                <a:lnTo>
                  <a:pt x="1987159" y="837907"/>
                </a:lnTo>
                <a:lnTo>
                  <a:pt x="1996934" y="918103"/>
                </a:lnTo>
                <a:lnTo>
                  <a:pt x="2000250" y="1000125"/>
                </a:lnTo>
                <a:lnTo>
                  <a:pt x="1996934" y="1082146"/>
                </a:lnTo>
                <a:lnTo>
                  <a:pt x="1987159" y="1162342"/>
                </a:lnTo>
                <a:lnTo>
                  <a:pt x="1971181" y="1240456"/>
                </a:lnTo>
                <a:lnTo>
                  <a:pt x="1949260" y="1316230"/>
                </a:lnTo>
                <a:lnTo>
                  <a:pt x="1921650" y="1389405"/>
                </a:lnTo>
                <a:lnTo>
                  <a:pt x="1888612" y="1459726"/>
                </a:lnTo>
                <a:lnTo>
                  <a:pt x="1850400" y="1526934"/>
                </a:lnTo>
                <a:lnTo>
                  <a:pt x="1807275" y="1590772"/>
                </a:lnTo>
                <a:lnTo>
                  <a:pt x="1759491" y="1650983"/>
                </a:lnTo>
                <a:lnTo>
                  <a:pt x="1707308" y="1707308"/>
                </a:lnTo>
                <a:lnTo>
                  <a:pt x="1650983" y="1759491"/>
                </a:lnTo>
                <a:lnTo>
                  <a:pt x="1590772" y="1807275"/>
                </a:lnTo>
                <a:lnTo>
                  <a:pt x="1526934" y="1850400"/>
                </a:lnTo>
                <a:lnTo>
                  <a:pt x="1459726" y="1888612"/>
                </a:lnTo>
                <a:lnTo>
                  <a:pt x="1389405" y="1921650"/>
                </a:lnTo>
                <a:lnTo>
                  <a:pt x="1316230" y="1949260"/>
                </a:lnTo>
                <a:lnTo>
                  <a:pt x="1240456" y="1971181"/>
                </a:lnTo>
                <a:lnTo>
                  <a:pt x="1162342" y="1987159"/>
                </a:lnTo>
                <a:lnTo>
                  <a:pt x="1082146" y="1996934"/>
                </a:lnTo>
                <a:lnTo>
                  <a:pt x="1000125" y="2000250"/>
                </a:lnTo>
                <a:lnTo>
                  <a:pt x="918103" y="1996934"/>
                </a:lnTo>
                <a:lnTo>
                  <a:pt x="837907" y="1987159"/>
                </a:lnTo>
                <a:lnTo>
                  <a:pt x="759793" y="1971181"/>
                </a:lnTo>
                <a:lnTo>
                  <a:pt x="684019" y="1949260"/>
                </a:lnTo>
                <a:lnTo>
                  <a:pt x="610844" y="1921650"/>
                </a:lnTo>
                <a:lnTo>
                  <a:pt x="540523" y="1888612"/>
                </a:lnTo>
                <a:lnTo>
                  <a:pt x="473315" y="1850400"/>
                </a:lnTo>
                <a:lnTo>
                  <a:pt x="409477" y="1807275"/>
                </a:lnTo>
                <a:lnTo>
                  <a:pt x="349266" y="1759491"/>
                </a:lnTo>
                <a:lnTo>
                  <a:pt x="292941" y="1707308"/>
                </a:lnTo>
                <a:lnTo>
                  <a:pt x="240758" y="1650983"/>
                </a:lnTo>
                <a:lnTo>
                  <a:pt x="192974" y="1590772"/>
                </a:lnTo>
                <a:lnTo>
                  <a:pt x="149849" y="1526934"/>
                </a:lnTo>
                <a:lnTo>
                  <a:pt x="111637" y="1459726"/>
                </a:lnTo>
                <a:lnTo>
                  <a:pt x="78599" y="1389405"/>
                </a:lnTo>
                <a:lnTo>
                  <a:pt x="50989" y="1316230"/>
                </a:lnTo>
                <a:lnTo>
                  <a:pt x="29068" y="1240456"/>
                </a:lnTo>
                <a:lnTo>
                  <a:pt x="13090" y="1162342"/>
                </a:lnTo>
                <a:lnTo>
                  <a:pt x="3315" y="1082146"/>
                </a:lnTo>
                <a:lnTo>
                  <a:pt x="0" y="1000125"/>
                </a:lnTo>
                <a:close/>
              </a:path>
            </a:pathLst>
          </a:custGeom>
          <a:noFill/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object 22"/>
          <p:cNvSpPr/>
          <p:nvPr/>
        </p:nvSpPr>
        <p:spPr>
          <a:xfrm>
            <a:off x="6548760" y="7894800"/>
            <a:ext cx="1999800" cy="1999800"/>
          </a:xfrm>
          <a:custGeom>
            <a:avLst/>
            <a:gdLst>
              <a:gd name="textAreaLeft" fmla="*/ 0 w 1999800"/>
              <a:gd name="textAreaRight" fmla="*/ 2000160 w 1999800"/>
              <a:gd name="textAreaTop" fmla="*/ 0 h 1999800"/>
              <a:gd name="textAreaBottom" fmla="*/ 2000160 h 1999800"/>
            </a:gdLst>
            <a:ahLst/>
            <a:rect l="textAreaLeft" t="textAreaTop" r="textAreaRight" b="textAreaBottom"/>
            <a:pathLst>
              <a:path w="2000250" h="2000275">
                <a:moveTo>
                  <a:pt x="0" y="1000124"/>
                </a:moveTo>
                <a:lnTo>
                  <a:pt x="3315" y="918103"/>
                </a:lnTo>
                <a:lnTo>
                  <a:pt x="13090" y="837907"/>
                </a:lnTo>
                <a:lnTo>
                  <a:pt x="29068" y="759793"/>
                </a:lnTo>
                <a:lnTo>
                  <a:pt x="50989" y="684019"/>
                </a:lnTo>
                <a:lnTo>
                  <a:pt x="78599" y="610844"/>
                </a:lnTo>
                <a:lnTo>
                  <a:pt x="111637" y="540523"/>
                </a:lnTo>
                <a:lnTo>
                  <a:pt x="149849" y="473315"/>
                </a:lnTo>
                <a:lnTo>
                  <a:pt x="192974" y="409477"/>
                </a:lnTo>
                <a:lnTo>
                  <a:pt x="240758" y="349266"/>
                </a:lnTo>
                <a:lnTo>
                  <a:pt x="292941" y="292941"/>
                </a:lnTo>
                <a:lnTo>
                  <a:pt x="349266" y="240758"/>
                </a:lnTo>
                <a:lnTo>
                  <a:pt x="409477" y="192974"/>
                </a:lnTo>
                <a:lnTo>
                  <a:pt x="473315" y="149849"/>
                </a:lnTo>
                <a:lnTo>
                  <a:pt x="540523" y="111637"/>
                </a:lnTo>
                <a:lnTo>
                  <a:pt x="610844" y="78599"/>
                </a:lnTo>
                <a:lnTo>
                  <a:pt x="684019" y="50989"/>
                </a:lnTo>
                <a:lnTo>
                  <a:pt x="759793" y="29068"/>
                </a:lnTo>
                <a:lnTo>
                  <a:pt x="837907" y="13090"/>
                </a:lnTo>
                <a:lnTo>
                  <a:pt x="918103" y="3315"/>
                </a:lnTo>
                <a:lnTo>
                  <a:pt x="1000125" y="0"/>
                </a:lnTo>
                <a:lnTo>
                  <a:pt x="1082146" y="3315"/>
                </a:lnTo>
                <a:lnTo>
                  <a:pt x="1162342" y="13090"/>
                </a:lnTo>
                <a:lnTo>
                  <a:pt x="1240456" y="29068"/>
                </a:lnTo>
                <a:lnTo>
                  <a:pt x="1316230" y="50989"/>
                </a:lnTo>
                <a:lnTo>
                  <a:pt x="1389405" y="78599"/>
                </a:lnTo>
                <a:lnTo>
                  <a:pt x="1459726" y="111637"/>
                </a:lnTo>
                <a:lnTo>
                  <a:pt x="1526934" y="149849"/>
                </a:lnTo>
                <a:lnTo>
                  <a:pt x="1590772" y="192974"/>
                </a:lnTo>
                <a:lnTo>
                  <a:pt x="1650983" y="240758"/>
                </a:lnTo>
                <a:lnTo>
                  <a:pt x="1707308" y="292941"/>
                </a:lnTo>
                <a:lnTo>
                  <a:pt x="1759491" y="349266"/>
                </a:lnTo>
                <a:lnTo>
                  <a:pt x="1807275" y="409477"/>
                </a:lnTo>
                <a:lnTo>
                  <a:pt x="1850400" y="473315"/>
                </a:lnTo>
                <a:lnTo>
                  <a:pt x="1888612" y="540523"/>
                </a:lnTo>
                <a:lnTo>
                  <a:pt x="1921650" y="610844"/>
                </a:lnTo>
                <a:lnTo>
                  <a:pt x="1949260" y="684019"/>
                </a:lnTo>
                <a:lnTo>
                  <a:pt x="1971181" y="759793"/>
                </a:lnTo>
                <a:lnTo>
                  <a:pt x="1987159" y="837907"/>
                </a:lnTo>
                <a:lnTo>
                  <a:pt x="1996934" y="918103"/>
                </a:lnTo>
                <a:lnTo>
                  <a:pt x="2000250" y="1000124"/>
                </a:lnTo>
                <a:lnTo>
                  <a:pt x="1996934" y="1082153"/>
                </a:lnTo>
                <a:lnTo>
                  <a:pt x="1987159" y="1162356"/>
                </a:lnTo>
                <a:lnTo>
                  <a:pt x="1971181" y="1240474"/>
                </a:lnTo>
                <a:lnTo>
                  <a:pt x="1949260" y="1316252"/>
                </a:lnTo>
                <a:lnTo>
                  <a:pt x="1921650" y="1389431"/>
                </a:lnTo>
                <a:lnTo>
                  <a:pt x="1888612" y="1459754"/>
                </a:lnTo>
                <a:lnTo>
                  <a:pt x="1850400" y="1526964"/>
                </a:lnTo>
                <a:lnTo>
                  <a:pt x="1807275" y="1590803"/>
                </a:lnTo>
                <a:lnTo>
                  <a:pt x="1759491" y="1651014"/>
                </a:lnTo>
                <a:lnTo>
                  <a:pt x="1707308" y="1707340"/>
                </a:lnTo>
                <a:lnTo>
                  <a:pt x="1650983" y="1759523"/>
                </a:lnTo>
                <a:lnTo>
                  <a:pt x="1590772" y="1807306"/>
                </a:lnTo>
                <a:lnTo>
                  <a:pt x="1526934" y="1850431"/>
                </a:lnTo>
                <a:lnTo>
                  <a:pt x="1459726" y="1888641"/>
                </a:lnTo>
                <a:lnTo>
                  <a:pt x="1389405" y="1921679"/>
                </a:lnTo>
                <a:lnTo>
                  <a:pt x="1316230" y="1949287"/>
                </a:lnTo>
                <a:lnTo>
                  <a:pt x="1240456" y="1971208"/>
                </a:lnTo>
                <a:lnTo>
                  <a:pt x="1162342" y="1987185"/>
                </a:lnTo>
                <a:lnTo>
                  <a:pt x="1082146" y="1996959"/>
                </a:lnTo>
                <a:lnTo>
                  <a:pt x="1000125" y="2000275"/>
                </a:lnTo>
                <a:lnTo>
                  <a:pt x="918103" y="1996959"/>
                </a:lnTo>
                <a:lnTo>
                  <a:pt x="837907" y="1987185"/>
                </a:lnTo>
                <a:lnTo>
                  <a:pt x="759793" y="1971208"/>
                </a:lnTo>
                <a:lnTo>
                  <a:pt x="684019" y="1949287"/>
                </a:lnTo>
                <a:lnTo>
                  <a:pt x="610844" y="1921679"/>
                </a:lnTo>
                <a:lnTo>
                  <a:pt x="540523" y="1888641"/>
                </a:lnTo>
                <a:lnTo>
                  <a:pt x="473315" y="1850431"/>
                </a:lnTo>
                <a:lnTo>
                  <a:pt x="409477" y="1807306"/>
                </a:lnTo>
                <a:lnTo>
                  <a:pt x="349266" y="1759523"/>
                </a:lnTo>
                <a:lnTo>
                  <a:pt x="292941" y="1707340"/>
                </a:lnTo>
                <a:lnTo>
                  <a:pt x="240758" y="1651014"/>
                </a:lnTo>
                <a:lnTo>
                  <a:pt x="192974" y="1590803"/>
                </a:lnTo>
                <a:lnTo>
                  <a:pt x="149849" y="1526964"/>
                </a:lnTo>
                <a:lnTo>
                  <a:pt x="111637" y="1459754"/>
                </a:lnTo>
                <a:lnTo>
                  <a:pt x="78599" y="1389431"/>
                </a:lnTo>
                <a:lnTo>
                  <a:pt x="50989" y="1316252"/>
                </a:lnTo>
                <a:lnTo>
                  <a:pt x="29068" y="1240474"/>
                </a:lnTo>
                <a:lnTo>
                  <a:pt x="13090" y="1162356"/>
                </a:lnTo>
                <a:lnTo>
                  <a:pt x="3315" y="1082153"/>
                </a:lnTo>
                <a:lnTo>
                  <a:pt x="0" y="1000124"/>
                </a:lnTo>
                <a:close/>
              </a:path>
            </a:pathLst>
          </a:custGeom>
          <a:noFill/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object 23"/>
          <p:cNvSpPr/>
          <p:nvPr/>
        </p:nvSpPr>
        <p:spPr>
          <a:xfrm>
            <a:off x="6548760" y="2698200"/>
            <a:ext cx="1999800" cy="1999800"/>
          </a:xfrm>
          <a:custGeom>
            <a:avLst/>
            <a:gdLst>
              <a:gd name="textAreaLeft" fmla="*/ 0 w 1999800"/>
              <a:gd name="textAreaRight" fmla="*/ 2000160 w 1999800"/>
              <a:gd name="textAreaTop" fmla="*/ 0 h 1999800"/>
              <a:gd name="textAreaBottom" fmla="*/ 2000160 h 1999800"/>
            </a:gdLst>
            <a:ahLst/>
            <a:rect l="textAreaLeft" t="textAreaTop" r="textAreaRight" b="textAreaBottom"/>
            <a:pathLst>
              <a:path w="2000250" h="2000250">
                <a:moveTo>
                  <a:pt x="0" y="1000125"/>
                </a:moveTo>
                <a:lnTo>
                  <a:pt x="3315" y="918103"/>
                </a:lnTo>
                <a:lnTo>
                  <a:pt x="13090" y="837907"/>
                </a:lnTo>
                <a:lnTo>
                  <a:pt x="29068" y="759793"/>
                </a:lnTo>
                <a:lnTo>
                  <a:pt x="50989" y="684019"/>
                </a:lnTo>
                <a:lnTo>
                  <a:pt x="78599" y="610844"/>
                </a:lnTo>
                <a:lnTo>
                  <a:pt x="111637" y="540523"/>
                </a:lnTo>
                <a:lnTo>
                  <a:pt x="149849" y="473315"/>
                </a:lnTo>
                <a:lnTo>
                  <a:pt x="192974" y="409477"/>
                </a:lnTo>
                <a:lnTo>
                  <a:pt x="240758" y="349266"/>
                </a:lnTo>
                <a:lnTo>
                  <a:pt x="292941" y="292941"/>
                </a:lnTo>
                <a:lnTo>
                  <a:pt x="349266" y="240758"/>
                </a:lnTo>
                <a:lnTo>
                  <a:pt x="409477" y="192974"/>
                </a:lnTo>
                <a:lnTo>
                  <a:pt x="473315" y="149849"/>
                </a:lnTo>
                <a:lnTo>
                  <a:pt x="540523" y="111637"/>
                </a:lnTo>
                <a:lnTo>
                  <a:pt x="610844" y="78599"/>
                </a:lnTo>
                <a:lnTo>
                  <a:pt x="684019" y="50989"/>
                </a:lnTo>
                <a:lnTo>
                  <a:pt x="759793" y="29068"/>
                </a:lnTo>
                <a:lnTo>
                  <a:pt x="837907" y="13090"/>
                </a:lnTo>
                <a:lnTo>
                  <a:pt x="918103" y="3315"/>
                </a:lnTo>
                <a:lnTo>
                  <a:pt x="1000125" y="0"/>
                </a:lnTo>
                <a:lnTo>
                  <a:pt x="1082146" y="3315"/>
                </a:lnTo>
                <a:lnTo>
                  <a:pt x="1162342" y="13090"/>
                </a:lnTo>
                <a:lnTo>
                  <a:pt x="1240456" y="29068"/>
                </a:lnTo>
                <a:lnTo>
                  <a:pt x="1316230" y="50989"/>
                </a:lnTo>
                <a:lnTo>
                  <a:pt x="1389405" y="78599"/>
                </a:lnTo>
                <a:lnTo>
                  <a:pt x="1459726" y="111637"/>
                </a:lnTo>
                <a:lnTo>
                  <a:pt x="1526934" y="149849"/>
                </a:lnTo>
                <a:lnTo>
                  <a:pt x="1590772" y="192974"/>
                </a:lnTo>
                <a:lnTo>
                  <a:pt x="1650983" y="240758"/>
                </a:lnTo>
                <a:lnTo>
                  <a:pt x="1707308" y="292941"/>
                </a:lnTo>
                <a:lnTo>
                  <a:pt x="1759491" y="349266"/>
                </a:lnTo>
                <a:lnTo>
                  <a:pt x="1807275" y="409477"/>
                </a:lnTo>
                <a:lnTo>
                  <a:pt x="1850400" y="473315"/>
                </a:lnTo>
                <a:lnTo>
                  <a:pt x="1888612" y="540523"/>
                </a:lnTo>
                <a:lnTo>
                  <a:pt x="1921650" y="610844"/>
                </a:lnTo>
                <a:lnTo>
                  <a:pt x="1949260" y="684019"/>
                </a:lnTo>
                <a:lnTo>
                  <a:pt x="1971181" y="759793"/>
                </a:lnTo>
                <a:lnTo>
                  <a:pt x="1987159" y="837907"/>
                </a:lnTo>
                <a:lnTo>
                  <a:pt x="1996934" y="918103"/>
                </a:lnTo>
                <a:lnTo>
                  <a:pt x="2000250" y="1000125"/>
                </a:lnTo>
                <a:lnTo>
                  <a:pt x="1996934" y="1082163"/>
                </a:lnTo>
                <a:lnTo>
                  <a:pt x="1987159" y="1162373"/>
                </a:lnTo>
                <a:lnTo>
                  <a:pt x="1971181" y="1240497"/>
                </a:lnTo>
                <a:lnTo>
                  <a:pt x="1949260" y="1316278"/>
                </a:lnTo>
                <a:lnTo>
                  <a:pt x="1921650" y="1389459"/>
                </a:lnTo>
                <a:lnTo>
                  <a:pt x="1888612" y="1459782"/>
                </a:lnTo>
                <a:lnTo>
                  <a:pt x="1850400" y="1526990"/>
                </a:lnTo>
                <a:lnTo>
                  <a:pt x="1807275" y="1590827"/>
                </a:lnTo>
                <a:lnTo>
                  <a:pt x="1759491" y="1651034"/>
                </a:lnTo>
                <a:lnTo>
                  <a:pt x="1707308" y="1707356"/>
                </a:lnTo>
                <a:lnTo>
                  <a:pt x="1650983" y="1759534"/>
                </a:lnTo>
                <a:lnTo>
                  <a:pt x="1590772" y="1807311"/>
                </a:lnTo>
                <a:lnTo>
                  <a:pt x="1526934" y="1850431"/>
                </a:lnTo>
                <a:lnTo>
                  <a:pt x="1459726" y="1888636"/>
                </a:lnTo>
                <a:lnTo>
                  <a:pt x="1389405" y="1921668"/>
                </a:lnTo>
                <a:lnTo>
                  <a:pt x="1316230" y="1949272"/>
                </a:lnTo>
                <a:lnTo>
                  <a:pt x="1240456" y="1971189"/>
                </a:lnTo>
                <a:lnTo>
                  <a:pt x="1162342" y="1987162"/>
                </a:lnTo>
                <a:lnTo>
                  <a:pt x="1082146" y="1996935"/>
                </a:lnTo>
                <a:lnTo>
                  <a:pt x="1000125" y="2000250"/>
                </a:lnTo>
                <a:lnTo>
                  <a:pt x="918103" y="1996935"/>
                </a:lnTo>
                <a:lnTo>
                  <a:pt x="837907" y="1987162"/>
                </a:lnTo>
                <a:lnTo>
                  <a:pt x="759793" y="1971189"/>
                </a:lnTo>
                <a:lnTo>
                  <a:pt x="684019" y="1949272"/>
                </a:lnTo>
                <a:lnTo>
                  <a:pt x="610844" y="1921668"/>
                </a:lnTo>
                <a:lnTo>
                  <a:pt x="540523" y="1888636"/>
                </a:lnTo>
                <a:lnTo>
                  <a:pt x="473315" y="1850431"/>
                </a:lnTo>
                <a:lnTo>
                  <a:pt x="409477" y="1807311"/>
                </a:lnTo>
                <a:lnTo>
                  <a:pt x="349266" y="1759534"/>
                </a:lnTo>
                <a:lnTo>
                  <a:pt x="292941" y="1707356"/>
                </a:lnTo>
                <a:lnTo>
                  <a:pt x="240758" y="1651034"/>
                </a:lnTo>
                <a:lnTo>
                  <a:pt x="192974" y="1590827"/>
                </a:lnTo>
                <a:lnTo>
                  <a:pt x="149849" y="1526990"/>
                </a:lnTo>
                <a:lnTo>
                  <a:pt x="111637" y="1459782"/>
                </a:lnTo>
                <a:lnTo>
                  <a:pt x="78599" y="1389459"/>
                </a:lnTo>
                <a:lnTo>
                  <a:pt x="50989" y="1316278"/>
                </a:lnTo>
                <a:lnTo>
                  <a:pt x="29068" y="1240497"/>
                </a:lnTo>
                <a:lnTo>
                  <a:pt x="13090" y="1162373"/>
                </a:lnTo>
                <a:lnTo>
                  <a:pt x="3315" y="1082163"/>
                </a:lnTo>
                <a:lnTo>
                  <a:pt x="0" y="1000125"/>
                </a:lnTo>
                <a:close/>
              </a:path>
            </a:pathLst>
          </a:custGeom>
          <a:noFill/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object 24"/>
          <p:cNvSpPr/>
          <p:nvPr/>
        </p:nvSpPr>
        <p:spPr>
          <a:xfrm>
            <a:off x="10058400" y="7887240"/>
            <a:ext cx="1999800" cy="1999800"/>
          </a:xfrm>
          <a:custGeom>
            <a:avLst/>
            <a:gdLst>
              <a:gd name="textAreaLeft" fmla="*/ 0 w 1999800"/>
              <a:gd name="textAreaRight" fmla="*/ 2000160 w 1999800"/>
              <a:gd name="textAreaTop" fmla="*/ 0 h 1999800"/>
              <a:gd name="textAreaBottom" fmla="*/ 2000160 h 1999800"/>
            </a:gdLst>
            <a:ahLst/>
            <a:rect l="textAreaLeft" t="textAreaTop" r="textAreaRight" b="textAreaBottom"/>
            <a:pathLst>
              <a:path w="2000250" h="2000262">
                <a:moveTo>
                  <a:pt x="0" y="1000125"/>
                </a:moveTo>
                <a:lnTo>
                  <a:pt x="3315" y="918103"/>
                </a:lnTo>
                <a:lnTo>
                  <a:pt x="13090" y="837907"/>
                </a:lnTo>
                <a:lnTo>
                  <a:pt x="29068" y="759793"/>
                </a:lnTo>
                <a:lnTo>
                  <a:pt x="50989" y="684019"/>
                </a:lnTo>
                <a:lnTo>
                  <a:pt x="78599" y="610844"/>
                </a:lnTo>
                <a:lnTo>
                  <a:pt x="111637" y="540523"/>
                </a:lnTo>
                <a:lnTo>
                  <a:pt x="149849" y="473315"/>
                </a:lnTo>
                <a:lnTo>
                  <a:pt x="192974" y="409477"/>
                </a:lnTo>
                <a:lnTo>
                  <a:pt x="240758" y="349266"/>
                </a:lnTo>
                <a:lnTo>
                  <a:pt x="292941" y="292941"/>
                </a:lnTo>
                <a:lnTo>
                  <a:pt x="349266" y="240758"/>
                </a:lnTo>
                <a:lnTo>
                  <a:pt x="409477" y="192974"/>
                </a:lnTo>
                <a:lnTo>
                  <a:pt x="473315" y="149849"/>
                </a:lnTo>
                <a:lnTo>
                  <a:pt x="540523" y="111637"/>
                </a:lnTo>
                <a:lnTo>
                  <a:pt x="610844" y="78599"/>
                </a:lnTo>
                <a:lnTo>
                  <a:pt x="684019" y="50989"/>
                </a:lnTo>
                <a:lnTo>
                  <a:pt x="759793" y="29068"/>
                </a:lnTo>
                <a:lnTo>
                  <a:pt x="837907" y="13090"/>
                </a:lnTo>
                <a:lnTo>
                  <a:pt x="918103" y="3315"/>
                </a:lnTo>
                <a:lnTo>
                  <a:pt x="1000125" y="0"/>
                </a:lnTo>
                <a:lnTo>
                  <a:pt x="1082146" y="3315"/>
                </a:lnTo>
                <a:lnTo>
                  <a:pt x="1162342" y="13090"/>
                </a:lnTo>
                <a:lnTo>
                  <a:pt x="1240456" y="29068"/>
                </a:lnTo>
                <a:lnTo>
                  <a:pt x="1316230" y="50989"/>
                </a:lnTo>
                <a:lnTo>
                  <a:pt x="1389405" y="78599"/>
                </a:lnTo>
                <a:lnTo>
                  <a:pt x="1459726" y="111637"/>
                </a:lnTo>
                <a:lnTo>
                  <a:pt x="1526934" y="149849"/>
                </a:lnTo>
                <a:lnTo>
                  <a:pt x="1590772" y="192974"/>
                </a:lnTo>
                <a:lnTo>
                  <a:pt x="1650983" y="240758"/>
                </a:lnTo>
                <a:lnTo>
                  <a:pt x="1707308" y="292941"/>
                </a:lnTo>
                <a:lnTo>
                  <a:pt x="1759491" y="349266"/>
                </a:lnTo>
                <a:lnTo>
                  <a:pt x="1807275" y="409477"/>
                </a:lnTo>
                <a:lnTo>
                  <a:pt x="1850400" y="473315"/>
                </a:lnTo>
                <a:lnTo>
                  <a:pt x="1888612" y="540523"/>
                </a:lnTo>
                <a:lnTo>
                  <a:pt x="1921650" y="610844"/>
                </a:lnTo>
                <a:lnTo>
                  <a:pt x="1949260" y="684019"/>
                </a:lnTo>
                <a:lnTo>
                  <a:pt x="1971181" y="759793"/>
                </a:lnTo>
                <a:lnTo>
                  <a:pt x="1987159" y="837907"/>
                </a:lnTo>
                <a:lnTo>
                  <a:pt x="1996934" y="918103"/>
                </a:lnTo>
                <a:lnTo>
                  <a:pt x="2000250" y="1000125"/>
                </a:lnTo>
                <a:lnTo>
                  <a:pt x="1996934" y="1082151"/>
                </a:lnTo>
                <a:lnTo>
                  <a:pt x="1987159" y="1162352"/>
                </a:lnTo>
                <a:lnTo>
                  <a:pt x="1971181" y="1240469"/>
                </a:lnTo>
                <a:lnTo>
                  <a:pt x="1949260" y="1316245"/>
                </a:lnTo>
                <a:lnTo>
                  <a:pt x="1921650" y="1389423"/>
                </a:lnTo>
                <a:lnTo>
                  <a:pt x="1888612" y="1459745"/>
                </a:lnTo>
                <a:lnTo>
                  <a:pt x="1850400" y="1526954"/>
                </a:lnTo>
                <a:lnTo>
                  <a:pt x="1807275" y="1590793"/>
                </a:lnTo>
                <a:lnTo>
                  <a:pt x="1759491" y="1651004"/>
                </a:lnTo>
                <a:lnTo>
                  <a:pt x="1707308" y="1707329"/>
                </a:lnTo>
                <a:lnTo>
                  <a:pt x="1650983" y="1759511"/>
                </a:lnTo>
                <a:lnTo>
                  <a:pt x="1590772" y="1807294"/>
                </a:lnTo>
                <a:lnTo>
                  <a:pt x="1526934" y="1850419"/>
                </a:lnTo>
                <a:lnTo>
                  <a:pt x="1459726" y="1888629"/>
                </a:lnTo>
                <a:lnTo>
                  <a:pt x="1389405" y="1921666"/>
                </a:lnTo>
                <a:lnTo>
                  <a:pt x="1316230" y="1949275"/>
                </a:lnTo>
                <a:lnTo>
                  <a:pt x="1240456" y="1971196"/>
                </a:lnTo>
                <a:lnTo>
                  <a:pt x="1162342" y="1987172"/>
                </a:lnTo>
                <a:lnTo>
                  <a:pt x="1082146" y="1996947"/>
                </a:lnTo>
                <a:lnTo>
                  <a:pt x="1000125" y="2000262"/>
                </a:lnTo>
                <a:lnTo>
                  <a:pt x="918103" y="1996947"/>
                </a:lnTo>
                <a:lnTo>
                  <a:pt x="837907" y="1987172"/>
                </a:lnTo>
                <a:lnTo>
                  <a:pt x="759793" y="1971196"/>
                </a:lnTo>
                <a:lnTo>
                  <a:pt x="684019" y="1949275"/>
                </a:lnTo>
                <a:lnTo>
                  <a:pt x="610844" y="1921666"/>
                </a:lnTo>
                <a:lnTo>
                  <a:pt x="540523" y="1888629"/>
                </a:lnTo>
                <a:lnTo>
                  <a:pt x="473315" y="1850419"/>
                </a:lnTo>
                <a:lnTo>
                  <a:pt x="409477" y="1807294"/>
                </a:lnTo>
                <a:lnTo>
                  <a:pt x="349266" y="1759511"/>
                </a:lnTo>
                <a:lnTo>
                  <a:pt x="292941" y="1707329"/>
                </a:lnTo>
                <a:lnTo>
                  <a:pt x="240758" y="1651004"/>
                </a:lnTo>
                <a:lnTo>
                  <a:pt x="192974" y="1590793"/>
                </a:lnTo>
                <a:lnTo>
                  <a:pt x="149849" y="1526954"/>
                </a:lnTo>
                <a:lnTo>
                  <a:pt x="111637" y="1459745"/>
                </a:lnTo>
                <a:lnTo>
                  <a:pt x="78599" y="1389423"/>
                </a:lnTo>
                <a:lnTo>
                  <a:pt x="50989" y="1316245"/>
                </a:lnTo>
                <a:lnTo>
                  <a:pt x="29068" y="1240469"/>
                </a:lnTo>
                <a:lnTo>
                  <a:pt x="13090" y="1162352"/>
                </a:lnTo>
                <a:lnTo>
                  <a:pt x="3315" y="1082151"/>
                </a:lnTo>
                <a:lnTo>
                  <a:pt x="0" y="1000125"/>
                </a:lnTo>
                <a:close/>
              </a:path>
            </a:pathLst>
          </a:custGeom>
          <a:noFill/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object 25"/>
          <p:cNvSpPr/>
          <p:nvPr/>
        </p:nvSpPr>
        <p:spPr>
          <a:xfrm>
            <a:off x="9755280" y="2700360"/>
            <a:ext cx="1999800" cy="1999800"/>
          </a:xfrm>
          <a:custGeom>
            <a:avLst/>
            <a:gdLst>
              <a:gd name="textAreaLeft" fmla="*/ 0 w 1999800"/>
              <a:gd name="textAreaRight" fmla="*/ 2000160 w 1999800"/>
              <a:gd name="textAreaTop" fmla="*/ 0 h 1999800"/>
              <a:gd name="textAreaBottom" fmla="*/ 2000160 h 1999800"/>
            </a:gdLst>
            <a:ahLst/>
            <a:rect l="textAreaLeft" t="textAreaTop" r="textAreaRight" b="textAreaBottom"/>
            <a:pathLst>
              <a:path w="2000250" h="2000250">
                <a:moveTo>
                  <a:pt x="0" y="1000125"/>
                </a:moveTo>
                <a:lnTo>
                  <a:pt x="3315" y="918103"/>
                </a:lnTo>
                <a:lnTo>
                  <a:pt x="13090" y="837907"/>
                </a:lnTo>
                <a:lnTo>
                  <a:pt x="29068" y="759793"/>
                </a:lnTo>
                <a:lnTo>
                  <a:pt x="50989" y="684019"/>
                </a:lnTo>
                <a:lnTo>
                  <a:pt x="78599" y="610844"/>
                </a:lnTo>
                <a:lnTo>
                  <a:pt x="111637" y="540523"/>
                </a:lnTo>
                <a:lnTo>
                  <a:pt x="149849" y="473315"/>
                </a:lnTo>
                <a:lnTo>
                  <a:pt x="192974" y="409477"/>
                </a:lnTo>
                <a:lnTo>
                  <a:pt x="240758" y="349266"/>
                </a:lnTo>
                <a:lnTo>
                  <a:pt x="292941" y="292941"/>
                </a:lnTo>
                <a:lnTo>
                  <a:pt x="349266" y="240758"/>
                </a:lnTo>
                <a:lnTo>
                  <a:pt x="409477" y="192974"/>
                </a:lnTo>
                <a:lnTo>
                  <a:pt x="473315" y="149849"/>
                </a:lnTo>
                <a:lnTo>
                  <a:pt x="540523" y="111637"/>
                </a:lnTo>
                <a:lnTo>
                  <a:pt x="610844" y="78599"/>
                </a:lnTo>
                <a:lnTo>
                  <a:pt x="684019" y="50989"/>
                </a:lnTo>
                <a:lnTo>
                  <a:pt x="759793" y="29068"/>
                </a:lnTo>
                <a:lnTo>
                  <a:pt x="837907" y="13090"/>
                </a:lnTo>
                <a:lnTo>
                  <a:pt x="918103" y="3315"/>
                </a:lnTo>
                <a:lnTo>
                  <a:pt x="1000125" y="0"/>
                </a:lnTo>
                <a:lnTo>
                  <a:pt x="1082146" y="3315"/>
                </a:lnTo>
                <a:lnTo>
                  <a:pt x="1162342" y="13090"/>
                </a:lnTo>
                <a:lnTo>
                  <a:pt x="1240456" y="29068"/>
                </a:lnTo>
                <a:lnTo>
                  <a:pt x="1316230" y="50989"/>
                </a:lnTo>
                <a:lnTo>
                  <a:pt x="1389405" y="78599"/>
                </a:lnTo>
                <a:lnTo>
                  <a:pt x="1459726" y="111637"/>
                </a:lnTo>
                <a:lnTo>
                  <a:pt x="1526934" y="149849"/>
                </a:lnTo>
                <a:lnTo>
                  <a:pt x="1590772" y="192974"/>
                </a:lnTo>
                <a:lnTo>
                  <a:pt x="1650983" y="240758"/>
                </a:lnTo>
                <a:lnTo>
                  <a:pt x="1707308" y="292941"/>
                </a:lnTo>
                <a:lnTo>
                  <a:pt x="1759491" y="349266"/>
                </a:lnTo>
                <a:lnTo>
                  <a:pt x="1807275" y="409477"/>
                </a:lnTo>
                <a:lnTo>
                  <a:pt x="1850400" y="473315"/>
                </a:lnTo>
                <a:lnTo>
                  <a:pt x="1888612" y="540523"/>
                </a:lnTo>
                <a:lnTo>
                  <a:pt x="1921650" y="610844"/>
                </a:lnTo>
                <a:lnTo>
                  <a:pt x="1949260" y="684019"/>
                </a:lnTo>
                <a:lnTo>
                  <a:pt x="1971181" y="759793"/>
                </a:lnTo>
                <a:lnTo>
                  <a:pt x="1987159" y="837907"/>
                </a:lnTo>
                <a:lnTo>
                  <a:pt x="1996934" y="918103"/>
                </a:lnTo>
                <a:lnTo>
                  <a:pt x="2000250" y="1000125"/>
                </a:lnTo>
                <a:lnTo>
                  <a:pt x="1996934" y="1082146"/>
                </a:lnTo>
                <a:lnTo>
                  <a:pt x="1987159" y="1162342"/>
                </a:lnTo>
                <a:lnTo>
                  <a:pt x="1971181" y="1240456"/>
                </a:lnTo>
                <a:lnTo>
                  <a:pt x="1949260" y="1316230"/>
                </a:lnTo>
                <a:lnTo>
                  <a:pt x="1921650" y="1389405"/>
                </a:lnTo>
                <a:lnTo>
                  <a:pt x="1888612" y="1459726"/>
                </a:lnTo>
                <a:lnTo>
                  <a:pt x="1850400" y="1526934"/>
                </a:lnTo>
                <a:lnTo>
                  <a:pt x="1807275" y="1590772"/>
                </a:lnTo>
                <a:lnTo>
                  <a:pt x="1759491" y="1650983"/>
                </a:lnTo>
                <a:lnTo>
                  <a:pt x="1707308" y="1707308"/>
                </a:lnTo>
                <a:lnTo>
                  <a:pt x="1650983" y="1759491"/>
                </a:lnTo>
                <a:lnTo>
                  <a:pt x="1590772" y="1807275"/>
                </a:lnTo>
                <a:lnTo>
                  <a:pt x="1526934" y="1850400"/>
                </a:lnTo>
                <a:lnTo>
                  <a:pt x="1459726" y="1888612"/>
                </a:lnTo>
                <a:lnTo>
                  <a:pt x="1389405" y="1921650"/>
                </a:lnTo>
                <a:lnTo>
                  <a:pt x="1316230" y="1949260"/>
                </a:lnTo>
                <a:lnTo>
                  <a:pt x="1240456" y="1971181"/>
                </a:lnTo>
                <a:lnTo>
                  <a:pt x="1162342" y="1987159"/>
                </a:lnTo>
                <a:lnTo>
                  <a:pt x="1082146" y="1996934"/>
                </a:lnTo>
                <a:lnTo>
                  <a:pt x="1000125" y="2000250"/>
                </a:lnTo>
                <a:lnTo>
                  <a:pt x="918103" y="1996934"/>
                </a:lnTo>
                <a:lnTo>
                  <a:pt x="837907" y="1987159"/>
                </a:lnTo>
                <a:lnTo>
                  <a:pt x="759793" y="1971181"/>
                </a:lnTo>
                <a:lnTo>
                  <a:pt x="684019" y="1949260"/>
                </a:lnTo>
                <a:lnTo>
                  <a:pt x="610844" y="1921650"/>
                </a:lnTo>
                <a:lnTo>
                  <a:pt x="540523" y="1888612"/>
                </a:lnTo>
                <a:lnTo>
                  <a:pt x="473315" y="1850400"/>
                </a:lnTo>
                <a:lnTo>
                  <a:pt x="409477" y="1807275"/>
                </a:lnTo>
                <a:lnTo>
                  <a:pt x="349266" y="1759491"/>
                </a:lnTo>
                <a:lnTo>
                  <a:pt x="292941" y="1707308"/>
                </a:lnTo>
                <a:lnTo>
                  <a:pt x="240758" y="1650983"/>
                </a:lnTo>
                <a:lnTo>
                  <a:pt x="192974" y="1590772"/>
                </a:lnTo>
                <a:lnTo>
                  <a:pt x="149849" y="1526934"/>
                </a:lnTo>
                <a:lnTo>
                  <a:pt x="111637" y="1459726"/>
                </a:lnTo>
                <a:lnTo>
                  <a:pt x="78599" y="1389405"/>
                </a:lnTo>
                <a:lnTo>
                  <a:pt x="50989" y="1316230"/>
                </a:lnTo>
                <a:lnTo>
                  <a:pt x="29068" y="1240456"/>
                </a:lnTo>
                <a:lnTo>
                  <a:pt x="13090" y="1162342"/>
                </a:lnTo>
                <a:lnTo>
                  <a:pt x="3315" y="1082146"/>
                </a:lnTo>
                <a:lnTo>
                  <a:pt x="0" y="1000125"/>
                </a:lnTo>
                <a:close/>
              </a:path>
            </a:pathLst>
          </a:custGeom>
          <a:noFill/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object 26"/>
          <p:cNvSpPr/>
          <p:nvPr/>
        </p:nvSpPr>
        <p:spPr>
          <a:xfrm>
            <a:off x="11598480" y="5318280"/>
            <a:ext cx="1999800" cy="1999800"/>
          </a:xfrm>
          <a:custGeom>
            <a:avLst/>
            <a:gdLst>
              <a:gd name="textAreaLeft" fmla="*/ 0 w 1999800"/>
              <a:gd name="textAreaRight" fmla="*/ 2000160 w 1999800"/>
              <a:gd name="textAreaTop" fmla="*/ 0 h 1999800"/>
              <a:gd name="textAreaBottom" fmla="*/ 2000160 h 1999800"/>
            </a:gdLst>
            <a:ahLst/>
            <a:rect l="textAreaLeft" t="textAreaTop" r="textAreaRight" b="textAreaBottom"/>
            <a:pathLst>
              <a:path w="2000250" h="2000250">
                <a:moveTo>
                  <a:pt x="0" y="1000125"/>
                </a:moveTo>
                <a:lnTo>
                  <a:pt x="3315" y="918103"/>
                </a:lnTo>
                <a:lnTo>
                  <a:pt x="13090" y="837907"/>
                </a:lnTo>
                <a:lnTo>
                  <a:pt x="29068" y="759793"/>
                </a:lnTo>
                <a:lnTo>
                  <a:pt x="50989" y="684019"/>
                </a:lnTo>
                <a:lnTo>
                  <a:pt x="78599" y="610844"/>
                </a:lnTo>
                <a:lnTo>
                  <a:pt x="111637" y="540523"/>
                </a:lnTo>
                <a:lnTo>
                  <a:pt x="149849" y="473315"/>
                </a:lnTo>
                <a:lnTo>
                  <a:pt x="192974" y="409477"/>
                </a:lnTo>
                <a:lnTo>
                  <a:pt x="240758" y="349266"/>
                </a:lnTo>
                <a:lnTo>
                  <a:pt x="292941" y="292941"/>
                </a:lnTo>
                <a:lnTo>
                  <a:pt x="349266" y="240758"/>
                </a:lnTo>
                <a:lnTo>
                  <a:pt x="409477" y="192974"/>
                </a:lnTo>
                <a:lnTo>
                  <a:pt x="473315" y="149849"/>
                </a:lnTo>
                <a:lnTo>
                  <a:pt x="540523" y="111637"/>
                </a:lnTo>
                <a:lnTo>
                  <a:pt x="610844" y="78599"/>
                </a:lnTo>
                <a:lnTo>
                  <a:pt x="684019" y="50989"/>
                </a:lnTo>
                <a:lnTo>
                  <a:pt x="759793" y="29068"/>
                </a:lnTo>
                <a:lnTo>
                  <a:pt x="837907" y="13090"/>
                </a:lnTo>
                <a:lnTo>
                  <a:pt x="918103" y="3315"/>
                </a:lnTo>
                <a:lnTo>
                  <a:pt x="1000125" y="0"/>
                </a:lnTo>
                <a:lnTo>
                  <a:pt x="1082163" y="3315"/>
                </a:lnTo>
                <a:lnTo>
                  <a:pt x="1162373" y="13090"/>
                </a:lnTo>
                <a:lnTo>
                  <a:pt x="1240497" y="29068"/>
                </a:lnTo>
                <a:lnTo>
                  <a:pt x="1316278" y="50989"/>
                </a:lnTo>
                <a:lnTo>
                  <a:pt x="1389459" y="78599"/>
                </a:lnTo>
                <a:lnTo>
                  <a:pt x="1459782" y="111637"/>
                </a:lnTo>
                <a:lnTo>
                  <a:pt x="1526990" y="149849"/>
                </a:lnTo>
                <a:lnTo>
                  <a:pt x="1590827" y="192974"/>
                </a:lnTo>
                <a:lnTo>
                  <a:pt x="1651034" y="240758"/>
                </a:lnTo>
                <a:lnTo>
                  <a:pt x="1707356" y="292941"/>
                </a:lnTo>
                <a:lnTo>
                  <a:pt x="1759534" y="349266"/>
                </a:lnTo>
                <a:lnTo>
                  <a:pt x="1807311" y="409477"/>
                </a:lnTo>
                <a:lnTo>
                  <a:pt x="1850431" y="473315"/>
                </a:lnTo>
                <a:lnTo>
                  <a:pt x="1888636" y="540523"/>
                </a:lnTo>
                <a:lnTo>
                  <a:pt x="1921668" y="610844"/>
                </a:lnTo>
                <a:lnTo>
                  <a:pt x="1949272" y="684019"/>
                </a:lnTo>
                <a:lnTo>
                  <a:pt x="1971189" y="759793"/>
                </a:lnTo>
                <a:lnTo>
                  <a:pt x="1987162" y="837907"/>
                </a:lnTo>
                <a:lnTo>
                  <a:pt x="1996935" y="918103"/>
                </a:lnTo>
                <a:lnTo>
                  <a:pt x="2000250" y="1000125"/>
                </a:lnTo>
                <a:lnTo>
                  <a:pt x="1996935" y="1082146"/>
                </a:lnTo>
                <a:lnTo>
                  <a:pt x="1987162" y="1162342"/>
                </a:lnTo>
                <a:lnTo>
                  <a:pt x="1971189" y="1240456"/>
                </a:lnTo>
                <a:lnTo>
                  <a:pt x="1949272" y="1316230"/>
                </a:lnTo>
                <a:lnTo>
                  <a:pt x="1921668" y="1389405"/>
                </a:lnTo>
                <a:lnTo>
                  <a:pt x="1888636" y="1459726"/>
                </a:lnTo>
                <a:lnTo>
                  <a:pt x="1850431" y="1526934"/>
                </a:lnTo>
                <a:lnTo>
                  <a:pt x="1807311" y="1590772"/>
                </a:lnTo>
                <a:lnTo>
                  <a:pt x="1759534" y="1650983"/>
                </a:lnTo>
                <a:lnTo>
                  <a:pt x="1707356" y="1707308"/>
                </a:lnTo>
                <a:lnTo>
                  <a:pt x="1651034" y="1759491"/>
                </a:lnTo>
                <a:lnTo>
                  <a:pt x="1590827" y="1807275"/>
                </a:lnTo>
                <a:lnTo>
                  <a:pt x="1526990" y="1850400"/>
                </a:lnTo>
                <a:lnTo>
                  <a:pt x="1459782" y="1888612"/>
                </a:lnTo>
                <a:lnTo>
                  <a:pt x="1389459" y="1921650"/>
                </a:lnTo>
                <a:lnTo>
                  <a:pt x="1316278" y="1949260"/>
                </a:lnTo>
                <a:lnTo>
                  <a:pt x="1240497" y="1971181"/>
                </a:lnTo>
                <a:lnTo>
                  <a:pt x="1162373" y="1987159"/>
                </a:lnTo>
                <a:lnTo>
                  <a:pt x="1082163" y="1996934"/>
                </a:lnTo>
                <a:lnTo>
                  <a:pt x="1000125" y="2000249"/>
                </a:lnTo>
                <a:lnTo>
                  <a:pt x="918103" y="1996934"/>
                </a:lnTo>
                <a:lnTo>
                  <a:pt x="837907" y="1987159"/>
                </a:lnTo>
                <a:lnTo>
                  <a:pt x="759793" y="1971181"/>
                </a:lnTo>
                <a:lnTo>
                  <a:pt x="684019" y="1949260"/>
                </a:lnTo>
                <a:lnTo>
                  <a:pt x="610844" y="1921650"/>
                </a:lnTo>
                <a:lnTo>
                  <a:pt x="540523" y="1888612"/>
                </a:lnTo>
                <a:lnTo>
                  <a:pt x="473315" y="1850400"/>
                </a:lnTo>
                <a:lnTo>
                  <a:pt x="409477" y="1807275"/>
                </a:lnTo>
                <a:lnTo>
                  <a:pt x="349266" y="1759491"/>
                </a:lnTo>
                <a:lnTo>
                  <a:pt x="292941" y="1707308"/>
                </a:lnTo>
                <a:lnTo>
                  <a:pt x="240758" y="1650983"/>
                </a:lnTo>
                <a:lnTo>
                  <a:pt x="192974" y="1590772"/>
                </a:lnTo>
                <a:lnTo>
                  <a:pt x="149849" y="1526934"/>
                </a:lnTo>
                <a:lnTo>
                  <a:pt x="111637" y="1459726"/>
                </a:lnTo>
                <a:lnTo>
                  <a:pt x="78599" y="1389405"/>
                </a:lnTo>
                <a:lnTo>
                  <a:pt x="50989" y="1316230"/>
                </a:lnTo>
                <a:lnTo>
                  <a:pt x="29068" y="1240456"/>
                </a:lnTo>
                <a:lnTo>
                  <a:pt x="13090" y="1162342"/>
                </a:lnTo>
                <a:lnTo>
                  <a:pt x="3315" y="1082146"/>
                </a:lnTo>
                <a:lnTo>
                  <a:pt x="0" y="1000125"/>
                </a:lnTo>
                <a:close/>
              </a:path>
            </a:pathLst>
          </a:custGeom>
          <a:noFill/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object 27"/>
          <p:cNvSpPr/>
          <p:nvPr/>
        </p:nvSpPr>
        <p:spPr>
          <a:xfrm>
            <a:off x="17471520" y="9781560"/>
            <a:ext cx="18072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ftr" idx="42"/>
          </p:nvPr>
        </p:nvSpPr>
        <p:spPr>
          <a:xfrm>
            <a:off x="694800" y="9790560"/>
            <a:ext cx="331308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15 </a:t>
            </a:r>
            <a:r>
              <a:rPr b="0" lang="en-US" sz="1200" spc="9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i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2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32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0" lang="en-US" sz="1200" spc="-15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li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-15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s.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g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hts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ese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43"/>
          </p:nvPr>
        </p:nvSpPr>
        <p:spPr>
          <a:xfrm>
            <a:off x="15906600" y="9788040"/>
            <a:ext cx="113400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7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s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2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de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n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object 2"/>
          <p:cNvSpPr/>
          <p:nvPr/>
        </p:nvSpPr>
        <p:spPr>
          <a:xfrm>
            <a:off x="0" y="0"/>
            <a:ext cx="18273960" cy="2413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object 3"/>
          <p:cNvSpPr/>
          <p:nvPr/>
        </p:nvSpPr>
        <p:spPr>
          <a:xfrm>
            <a:off x="10579680" y="3447360"/>
            <a:ext cx="4292640" cy="3904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object 4"/>
          <p:cNvSpPr/>
          <p:nvPr/>
        </p:nvSpPr>
        <p:spPr>
          <a:xfrm>
            <a:off x="12006000" y="7315200"/>
            <a:ext cx="2660400" cy="557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object 5"/>
          <p:cNvSpPr/>
          <p:nvPr/>
        </p:nvSpPr>
        <p:spPr>
          <a:xfrm>
            <a:off x="3767400" y="8211240"/>
            <a:ext cx="3885840" cy="80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object 6"/>
          <p:cNvSpPr/>
          <p:nvPr/>
        </p:nvSpPr>
        <p:spPr>
          <a:xfrm>
            <a:off x="10552320" y="8211240"/>
            <a:ext cx="4379760" cy="12250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object 7"/>
          <p:cNvSpPr/>
          <p:nvPr/>
        </p:nvSpPr>
        <p:spPr>
          <a:xfrm>
            <a:off x="704160" y="9811440"/>
            <a:ext cx="3291480" cy="18252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object 8"/>
          <p:cNvSpPr/>
          <p:nvPr/>
        </p:nvSpPr>
        <p:spPr>
          <a:xfrm>
            <a:off x="15910560" y="9820800"/>
            <a:ext cx="1119960" cy="1368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object 9"/>
          <p:cNvSpPr/>
          <p:nvPr/>
        </p:nvSpPr>
        <p:spPr>
          <a:xfrm>
            <a:off x="10424160" y="3175200"/>
            <a:ext cx="4425480" cy="360"/>
          </a:xfrm>
          <a:custGeom>
            <a:avLst/>
            <a:gdLst>
              <a:gd name="textAreaLeft" fmla="*/ 0 w 4425480"/>
              <a:gd name="textAreaRight" fmla="*/ 4425840 w 44254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4425696" h="0">
                <a:moveTo>
                  <a:pt x="0" y="0"/>
                </a:moveTo>
                <a:lnTo>
                  <a:pt x="4425696" y="0"/>
                </a:lnTo>
              </a:path>
            </a:pathLst>
          </a:custGeom>
          <a:noFill/>
          <a:ln w="22860">
            <a:solidFill>
              <a:srgbClr val="4bc3c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object 10"/>
          <p:cNvSpPr/>
          <p:nvPr/>
        </p:nvSpPr>
        <p:spPr>
          <a:xfrm>
            <a:off x="10593360" y="3401640"/>
            <a:ext cx="4132800" cy="360"/>
          </a:xfrm>
          <a:custGeom>
            <a:avLst/>
            <a:gdLst>
              <a:gd name="textAreaLeft" fmla="*/ 0 w 4132800"/>
              <a:gd name="textAreaRight" fmla="*/ 4133160 w 41328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4133088" h="0">
                <a:moveTo>
                  <a:pt x="0" y="0"/>
                </a:moveTo>
                <a:lnTo>
                  <a:pt x="4133087" y="0"/>
                </a:lnTo>
              </a:path>
            </a:pathLst>
          </a:custGeom>
          <a:noFill/>
          <a:ln w="50292">
            <a:solidFill>
              <a:srgbClr val="348c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object 11"/>
          <p:cNvSpPr/>
          <p:nvPr/>
        </p:nvSpPr>
        <p:spPr>
          <a:xfrm>
            <a:off x="10424160" y="7891200"/>
            <a:ext cx="4425480" cy="360"/>
          </a:xfrm>
          <a:custGeom>
            <a:avLst/>
            <a:gdLst>
              <a:gd name="textAreaLeft" fmla="*/ 0 w 4425480"/>
              <a:gd name="textAreaRight" fmla="*/ 4425840 w 44254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4425696" h="0">
                <a:moveTo>
                  <a:pt x="0" y="0"/>
                </a:moveTo>
                <a:lnTo>
                  <a:pt x="4425696" y="0"/>
                </a:lnTo>
              </a:path>
            </a:pathLst>
          </a:custGeom>
          <a:noFill/>
          <a:ln w="27432">
            <a:solidFill>
              <a:srgbClr val="2f7c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bject 12"/>
          <p:cNvSpPr/>
          <p:nvPr/>
        </p:nvSpPr>
        <p:spPr>
          <a:xfrm>
            <a:off x="3917160" y="3285000"/>
            <a:ext cx="2376000" cy="371520"/>
          </a:xfrm>
          <a:custGeom>
            <a:avLst/>
            <a:gdLst>
              <a:gd name="textAreaLeft" fmla="*/ 0 w 2376000"/>
              <a:gd name="textAreaRight" fmla="*/ 2376360 w 237600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376229" h="371760">
                <a:moveTo>
                  <a:pt x="0" y="0"/>
                </a:moveTo>
                <a:lnTo>
                  <a:pt x="2376229" y="0"/>
                </a:lnTo>
                <a:lnTo>
                  <a:pt x="2376229" y="371760"/>
                </a:lnTo>
                <a:lnTo>
                  <a:pt x="0" y="371760"/>
                </a:lnTo>
                <a:lnTo>
                  <a:pt x="0" y="0"/>
                </a:lnTo>
                <a:close/>
              </a:path>
            </a:pathLst>
          </a:custGeom>
          <a:solidFill>
            <a:srgbClr val="0c11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object 13"/>
          <p:cNvSpPr/>
          <p:nvPr/>
        </p:nvSpPr>
        <p:spPr>
          <a:xfrm>
            <a:off x="3914640" y="3286800"/>
            <a:ext cx="23922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2200" spc="52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rness</a:t>
            </a:r>
            <a:r>
              <a:rPr b="0" lang="en-US" sz="2200" spc="262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 </a:t>
            </a:r>
            <a:r>
              <a:rPr b="0" lang="en-US" sz="2200" spc="29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the</a:t>
            </a:r>
            <a:r>
              <a:rPr b="0" lang="en-US" sz="2200" spc="239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 </a:t>
            </a:r>
            <a:r>
              <a:rPr b="0" lang="en-US" sz="2200" spc="94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bject 14"/>
          <p:cNvSpPr/>
          <p:nvPr/>
        </p:nvSpPr>
        <p:spPr>
          <a:xfrm>
            <a:off x="4100400" y="3614400"/>
            <a:ext cx="1774440" cy="371520"/>
          </a:xfrm>
          <a:custGeom>
            <a:avLst/>
            <a:gdLst>
              <a:gd name="textAreaLeft" fmla="*/ 0 w 1774440"/>
              <a:gd name="textAreaRight" fmla="*/ 1774800 w 177444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774709" h="371760">
                <a:moveTo>
                  <a:pt x="0" y="0"/>
                </a:moveTo>
                <a:lnTo>
                  <a:pt x="1774709" y="0"/>
                </a:lnTo>
                <a:lnTo>
                  <a:pt x="1774709" y="371760"/>
                </a:lnTo>
                <a:lnTo>
                  <a:pt x="0" y="371760"/>
                </a:lnTo>
                <a:lnTo>
                  <a:pt x="0" y="0"/>
                </a:lnTo>
                <a:close/>
              </a:path>
            </a:pathLst>
          </a:custGeom>
          <a:solidFill>
            <a:srgbClr val="0c11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bject 15"/>
          <p:cNvSpPr/>
          <p:nvPr/>
        </p:nvSpPr>
        <p:spPr>
          <a:xfrm>
            <a:off x="4088520" y="3615840"/>
            <a:ext cx="17949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2200" spc="-86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Your</a:t>
            </a:r>
            <a:r>
              <a:rPr b="0" lang="en-US" sz="2200" spc="239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 </a:t>
            </a:r>
            <a:r>
              <a:rPr b="0" lang="en-US" sz="2200" spc="77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ject 16"/>
          <p:cNvSpPr/>
          <p:nvPr/>
        </p:nvSpPr>
        <p:spPr>
          <a:xfrm>
            <a:off x="4944600" y="7179480"/>
            <a:ext cx="114120" cy="227880"/>
          </a:xfrm>
          <a:custGeom>
            <a:avLst/>
            <a:gdLst>
              <a:gd name="textAreaLeft" fmla="*/ 0 w 114120"/>
              <a:gd name="textAreaRight" fmla="*/ 114480 w 114120"/>
              <a:gd name="textAreaTop" fmla="*/ 0 h 227880"/>
              <a:gd name="textAreaBottom" fmla="*/ 228240 h 227880"/>
            </a:gdLst>
            <a:ahLst/>
            <a:rect l="textAreaLeft" t="textAreaTop" r="textAreaRight" b="textAreaBottom"/>
            <a:pathLst>
              <a:path w="114391" h="228125">
                <a:moveTo>
                  <a:pt x="0" y="0"/>
                </a:moveTo>
                <a:lnTo>
                  <a:pt x="114391" y="0"/>
                </a:lnTo>
                <a:lnTo>
                  <a:pt x="114391" y="228125"/>
                </a:lnTo>
                <a:lnTo>
                  <a:pt x="0" y="228125"/>
                </a:lnTo>
                <a:lnTo>
                  <a:pt x="0" y="0"/>
                </a:lnTo>
                <a:close/>
              </a:path>
            </a:pathLst>
          </a:custGeom>
          <a:solidFill>
            <a:srgbClr val="0c11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object 17"/>
          <p:cNvSpPr/>
          <p:nvPr/>
        </p:nvSpPr>
        <p:spPr>
          <a:xfrm>
            <a:off x="5216400" y="7156800"/>
            <a:ext cx="104400" cy="253080"/>
          </a:xfrm>
          <a:custGeom>
            <a:avLst/>
            <a:gdLst>
              <a:gd name="textAreaLeft" fmla="*/ 0 w 104400"/>
              <a:gd name="textAreaRight" fmla="*/ 104760 w 104400"/>
              <a:gd name="textAreaTop" fmla="*/ 0 h 253080"/>
              <a:gd name="textAreaBottom" fmla="*/ 253440 h 253080"/>
            </a:gdLst>
            <a:ahLst/>
            <a:rect l="textAreaLeft" t="textAreaTop" r="textAreaRight" b="textAreaBottom"/>
            <a:pathLst>
              <a:path w="104584" h="253379">
                <a:moveTo>
                  <a:pt x="0" y="0"/>
                </a:moveTo>
                <a:lnTo>
                  <a:pt x="104584" y="0"/>
                </a:lnTo>
                <a:lnTo>
                  <a:pt x="104584" y="253379"/>
                </a:lnTo>
                <a:lnTo>
                  <a:pt x="0" y="253379"/>
                </a:lnTo>
                <a:lnTo>
                  <a:pt x="0" y="0"/>
                </a:lnTo>
                <a:close/>
              </a:path>
            </a:pathLst>
          </a:custGeom>
          <a:solidFill>
            <a:srgbClr val="0c11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object 18"/>
          <p:cNvSpPr/>
          <p:nvPr/>
        </p:nvSpPr>
        <p:spPr>
          <a:xfrm>
            <a:off x="5416560" y="7128000"/>
            <a:ext cx="60840" cy="291600"/>
          </a:xfrm>
          <a:custGeom>
            <a:avLst/>
            <a:gdLst>
              <a:gd name="textAreaLeft" fmla="*/ 0 w 60840"/>
              <a:gd name="textAreaRight" fmla="*/ 61200 w 60840"/>
              <a:gd name="textAreaTop" fmla="*/ 0 h 291600"/>
              <a:gd name="textAreaBottom" fmla="*/ 291960 h 291600"/>
            </a:gdLst>
            <a:ahLst/>
            <a:rect l="textAreaLeft" t="textAreaTop" r="textAreaRight" b="textAreaBottom"/>
            <a:pathLst>
              <a:path w="61118" h="291920">
                <a:moveTo>
                  <a:pt x="0" y="0"/>
                </a:moveTo>
                <a:lnTo>
                  <a:pt x="61118" y="0"/>
                </a:lnTo>
                <a:lnTo>
                  <a:pt x="61118" y="291920"/>
                </a:lnTo>
                <a:lnTo>
                  <a:pt x="0" y="291920"/>
                </a:lnTo>
                <a:lnTo>
                  <a:pt x="0" y="0"/>
                </a:lnTo>
                <a:close/>
              </a:path>
            </a:pathLst>
          </a:custGeom>
          <a:solidFill>
            <a:srgbClr val="0c11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object 19"/>
          <p:cNvSpPr/>
          <p:nvPr/>
        </p:nvSpPr>
        <p:spPr>
          <a:xfrm>
            <a:off x="5537880" y="7264440"/>
            <a:ext cx="88200" cy="101520"/>
          </a:xfrm>
          <a:custGeom>
            <a:avLst/>
            <a:gdLst>
              <a:gd name="textAreaLeft" fmla="*/ 0 w 88200"/>
              <a:gd name="textAreaRight" fmla="*/ 88560 w 882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88391" h="101996">
                <a:moveTo>
                  <a:pt x="0" y="0"/>
                </a:moveTo>
                <a:lnTo>
                  <a:pt x="88391" y="0"/>
                </a:lnTo>
                <a:lnTo>
                  <a:pt x="88391" y="101996"/>
                </a:lnTo>
                <a:lnTo>
                  <a:pt x="0" y="101996"/>
                </a:lnTo>
                <a:lnTo>
                  <a:pt x="0" y="0"/>
                </a:lnTo>
                <a:close/>
              </a:path>
            </a:pathLst>
          </a:custGeom>
          <a:solidFill>
            <a:srgbClr val="0c11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object 20"/>
          <p:cNvSpPr/>
          <p:nvPr/>
        </p:nvSpPr>
        <p:spPr>
          <a:xfrm>
            <a:off x="4943520" y="7129440"/>
            <a:ext cx="71388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268560"/>
              </a:tabLst>
            </a:pPr>
            <a:r>
              <a:rPr b="0" lang="en-US" sz="1350" spc="134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h	</a:t>
            </a:r>
            <a:r>
              <a:rPr b="0" i="1" lang="en-US" sz="1500" spc="-120" strike="noStrike" u="sng">
                <a:solidFill>
                  <a:srgbClr val="0000ff"/>
                </a:solidFill>
                <a:uFillTx/>
                <a:latin typeface="Times New Roman"/>
                <a:hlinkClick r:id="rId17"/>
              </a:rPr>
              <a:t>B </a:t>
            </a:r>
            <a:r>
              <a:rPr b="0" i="1" lang="en-US" sz="1500" spc="58" strike="noStrike" u="sng">
                <a:solidFill>
                  <a:srgbClr val="0000ff"/>
                </a:solidFill>
                <a:uFillTx/>
                <a:latin typeface="Times New Roman"/>
                <a:hlinkClick r:id="rId18"/>
              </a:rPr>
              <a:t> </a:t>
            </a:r>
            <a:r>
              <a:rPr b="0" lang="en-US" sz="1750" spc="-415" strike="noStrike" u="sng">
                <a:solidFill>
                  <a:srgbClr val="0000ff"/>
                </a:solidFill>
                <a:uFillTx/>
                <a:latin typeface="Times New Roman"/>
                <a:hlinkClick r:id="rId19"/>
              </a:rPr>
              <a:t>n</a:t>
            </a:r>
            <a:r>
              <a:rPr b="0" lang="en-US" sz="1750" spc="208" strike="noStrike" u="sng">
                <a:solidFill>
                  <a:srgbClr val="0000ff"/>
                </a:solidFill>
                <a:uFillTx/>
                <a:latin typeface="Times New Roman"/>
                <a:hlinkClick r:id="rId20"/>
              </a:rPr>
              <a:t> </a:t>
            </a:r>
            <a:r>
              <a:rPr b="0" lang="en-US" sz="800" spc="-265" strike="noStrike" u="sng">
                <a:solidFill>
                  <a:srgbClr val="0000ff"/>
                </a:solidFill>
                <a:uFillTx/>
                <a:latin typeface="宋体"/>
                <a:hlinkClick r:id="rId21"/>
              </a:rPr>
              <a:t>(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bject 21"/>
          <p:cNvSpPr/>
          <p:nvPr/>
        </p:nvSpPr>
        <p:spPr>
          <a:xfrm>
            <a:off x="5930280" y="7179480"/>
            <a:ext cx="108000" cy="227880"/>
          </a:xfrm>
          <a:custGeom>
            <a:avLst/>
            <a:gdLst>
              <a:gd name="textAreaLeft" fmla="*/ 0 w 108000"/>
              <a:gd name="textAreaRight" fmla="*/ 108360 w 108000"/>
              <a:gd name="textAreaTop" fmla="*/ 0 h 227880"/>
              <a:gd name="textAreaBottom" fmla="*/ 228240 h 227880"/>
            </a:gdLst>
            <a:ahLst/>
            <a:rect l="textAreaLeft" t="textAreaTop" r="textAreaRight" b="textAreaBottom"/>
            <a:pathLst>
              <a:path w="108476" h="228125">
                <a:moveTo>
                  <a:pt x="0" y="0"/>
                </a:moveTo>
                <a:lnTo>
                  <a:pt x="108476" y="0"/>
                </a:lnTo>
                <a:lnTo>
                  <a:pt x="108476" y="228125"/>
                </a:lnTo>
                <a:lnTo>
                  <a:pt x="0" y="228125"/>
                </a:lnTo>
                <a:lnTo>
                  <a:pt x="0" y="0"/>
                </a:lnTo>
                <a:close/>
              </a:path>
            </a:pathLst>
          </a:custGeom>
          <a:solidFill>
            <a:srgbClr val="0c11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object 22"/>
          <p:cNvSpPr/>
          <p:nvPr/>
        </p:nvSpPr>
        <p:spPr>
          <a:xfrm>
            <a:off x="6239160" y="7185600"/>
            <a:ext cx="74880" cy="219240"/>
          </a:xfrm>
          <a:custGeom>
            <a:avLst/>
            <a:gdLst>
              <a:gd name="textAreaLeft" fmla="*/ 0 w 74880"/>
              <a:gd name="textAreaRight" fmla="*/ 75240 w 748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75320" h="219676">
                <a:moveTo>
                  <a:pt x="0" y="0"/>
                </a:moveTo>
                <a:lnTo>
                  <a:pt x="75320" y="0"/>
                </a:lnTo>
                <a:lnTo>
                  <a:pt x="75320" y="219676"/>
                </a:lnTo>
                <a:lnTo>
                  <a:pt x="0" y="219676"/>
                </a:lnTo>
                <a:lnTo>
                  <a:pt x="0" y="0"/>
                </a:lnTo>
                <a:close/>
              </a:path>
            </a:pathLst>
          </a:custGeom>
          <a:solidFill>
            <a:srgbClr val="0c11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object 23"/>
          <p:cNvSpPr/>
          <p:nvPr/>
        </p:nvSpPr>
        <p:spPr>
          <a:xfrm>
            <a:off x="5086080" y="7432560"/>
            <a:ext cx="182160" cy="219240"/>
          </a:xfrm>
          <a:custGeom>
            <a:avLst/>
            <a:gdLst>
              <a:gd name="textAreaLeft" fmla="*/ 0 w 182160"/>
              <a:gd name="textAreaRight" fmla="*/ 182520 w 18216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82451" h="219676">
                <a:moveTo>
                  <a:pt x="0" y="0"/>
                </a:moveTo>
                <a:lnTo>
                  <a:pt x="182451" y="0"/>
                </a:lnTo>
                <a:lnTo>
                  <a:pt x="182451" y="219676"/>
                </a:lnTo>
                <a:lnTo>
                  <a:pt x="0" y="219676"/>
                </a:lnTo>
                <a:lnTo>
                  <a:pt x="0" y="0"/>
                </a:lnTo>
                <a:close/>
              </a:path>
            </a:pathLst>
          </a:custGeom>
          <a:solidFill>
            <a:srgbClr val="0c11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object 24"/>
          <p:cNvSpPr/>
          <p:nvPr/>
        </p:nvSpPr>
        <p:spPr>
          <a:xfrm>
            <a:off x="5356800" y="7432560"/>
            <a:ext cx="150120" cy="219240"/>
          </a:xfrm>
          <a:custGeom>
            <a:avLst/>
            <a:gdLst>
              <a:gd name="textAreaLeft" fmla="*/ 0 w 150120"/>
              <a:gd name="textAreaRight" fmla="*/ 150480 w 15012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50389" h="219676">
                <a:moveTo>
                  <a:pt x="0" y="0"/>
                </a:moveTo>
                <a:lnTo>
                  <a:pt x="150389" y="0"/>
                </a:lnTo>
                <a:lnTo>
                  <a:pt x="150389" y="219676"/>
                </a:lnTo>
                <a:lnTo>
                  <a:pt x="0" y="219676"/>
                </a:lnTo>
                <a:lnTo>
                  <a:pt x="0" y="0"/>
                </a:lnTo>
                <a:close/>
              </a:path>
            </a:pathLst>
          </a:custGeom>
          <a:solidFill>
            <a:srgbClr val="0c11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object 25"/>
          <p:cNvSpPr/>
          <p:nvPr/>
        </p:nvSpPr>
        <p:spPr>
          <a:xfrm>
            <a:off x="6019920" y="7432560"/>
            <a:ext cx="80280" cy="219240"/>
          </a:xfrm>
          <a:custGeom>
            <a:avLst/>
            <a:gdLst>
              <a:gd name="textAreaLeft" fmla="*/ 0 w 80280"/>
              <a:gd name="textAreaRight" fmla="*/ 80640 w 802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80634" h="219676">
                <a:moveTo>
                  <a:pt x="0" y="0"/>
                </a:moveTo>
                <a:lnTo>
                  <a:pt x="80634" y="0"/>
                </a:lnTo>
                <a:lnTo>
                  <a:pt x="80634" y="219676"/>
                </a:lnTo>
                <a:lnTo>
                  <a:pt x="0" y="219676"/>
                </a:lnTo>
                <a:lnTo>
                  <a:pt x="0" y="0"/>
                </a:lnTo>
                <a:close/>
              </a:path>
            </a:pathLst>
          </a:custGeom>
          <a:solidFill>
            <a:srgbClr val="0c11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object 26"/>
          <p:cNvSpPr/>
          <p:nvPr/>
        </p:nvSpPr>
        <p:spPr>
          <a:xfrm>
            <a:off x="5789160" y="7180200"/>
            <a:ext cx="7412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40400">
              <a:lnSpc>
                <a:spcPct val="100000"/>
              </a:lnSpc>
              <a:tabLst>
                <a:tab algn="l" pos="460440"/>
                <a:tab algn="l" pos="675000"/>
              </a:tabLst>
            </a:pPr>
            <a:r>
              <a:rPr b="0" lang="en-US" sz="1350" spc="-75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A</a:t>
            </a:r>
            <a:r>
              <a:rPr b="0" lang="en-US" sz="1350" spc="-242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 </a:t>
            </a:r>
            <a:r>
              <a:rPr b="0" lang="en-US" sz="1350" spc="38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f	</a:t>
            </a:r>
            <a:r>
              <a:rPr b="0" lang="en-US" sz="1300" spc="148" strike="noStrike" u="sng">
                <a:solidFill>
                  <a:srgbClr val="0000ff"/>
                </a:solidFill>
                <a:uFillTx/>
                <a:latin typeface="Arial"/>
                <a:hlinkClick r:id="rId25"/>
              </a:rPr>
              <a:t>r	</a:t>
            </a:r>
            <a:r>
              <a:rPr b="0" lang="en-US" sz="1350" spc="38" strike="noStrike" u="sng">
                <a:solidFill>
                  <a:srgbClr val="0000ff"/>
                </a:solidFill>
                <a:uFillTx/>
                <a:latin typeface="Arial"/>
                <a:hlinkClick r:id="rId26"/>
              </a:rPr>
              <a:t>f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374"/>
              </a:spcBef>
              <a:tabLst>
                <a:tab algn="l" pos="460440"/>
                <a:tab algn="l" pos="675000"/>
              </a:tabLst>
            </a:pPr>
            <a:r>
              <a:rPr b="0" lang="en-US" sz="1300" spc="4" strike="noStrike" u="sng">
                <a:solidFill>
                  <a:srgbClr val="0000ff"/>
                </a:solidFill>
                <a:uFillTx/>
                <a:latin typeface="Arial"/>
                <a:hlinkClick r:id="rId27"/>
              </a:rPr>
              <a:t>ti</a:t>
            </a:r>
            <a:r>
              <a:rPr b="0" lang="en-US" sz="1300" spc="-316" strike="noStrike" u="sng">
                <a:solidFill>
                  <a:srgbClr val="0000ff"/>
                </a:solidFill>
                <a:uFillTx/>
                <a:latin typeface="Arial"/>
                <a:hlinkClick r:id="rId28"/>
              </a:rPr>
              <a:t>m</a:t>
            </a:r>
            <a:r>
              <a:rPr b="0" lang="en-US" sz="1300" spc="-460" strike="noStrike" u="sng">
                <a:solidFill>
                  <a:srgbClr val="0000ff"/>
                </a:solidFill>
                <a:uFillTx/>
                <a:latin typeface="Arial"/>
                <a:hlinkClick r:id="rId29"/>
              </a:rPr>
              <a:t>l</a:t>
            </a:r>
            <a:r>
              <a:rPr b="0" lang="en-US" sz="1300" spc="12" strike="noStrike" u="sng">
                <a:solidFill>
                  <a:srgbClr val="0000ff"/>
                </a:solidFill>
                <a:uFillTx/>
                <a:latin typeface="Arial"/>
                <a:hlinkClick r:id="rId30"/>
              </a:rPr>
              <a:t>zatl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bject 27"/>
          <p:cNvSpPr/>
          <p:nvPr/>
        </p:nvSpPr>
        <p:spPr>
          <a:xfrm>
            <a:off x="4970880" y="7433640"/>
            <a:ext cx="5565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1300" spc="97" strike="noStrike" u="sng">
                <a:solidFill>
                  <a:srgbClr val="0000ff"/>
                </a:solidFill>
                <a:uFillTx/>
                <a:latin typeface="Arial"/>
                <a:hlinkClick r:id="rId31"/>
              </a:rPr>
              <a:t>e</a:t>
            </a:r>
            <a:r>
              <a:rPr b="0" lang="en-US" sz="1300" spc="24" strike="noStrike" u="sng">
                <a:solidFill>
                  <a:srgbClr val="0000ff"/>
                </a:solidFill>
                <a:uFillTx/>
                <a:latin typeface="Arial"/>
                <a:hlinkClick r:id="rId32"/>
              </a:rPr>
              <a:t>t</a:t>
            </a:r>
            <a:r>
              <a:rPr b="0" lang="en-US" sz="1300" spc="58" strike="noStrike" u="sng">
                <a:solidFill>
                  <a:srgbClr val="0000ff"/>
                </a:solidFill>
                <a:uFillTx/>
                <a:latin typeface="Arial"/>
                <a:hlinkClick r:id="rId33"/>
              </a:rPr>
              <a:t>w</a:t>
            </a:r>
            <a:r>
              <a:rPr b="0" lang="en-US" sz="1300" spc="63" strike="noStrike" u="sng">
                <a:solidFill>
                  <a:srgbClr val="0000ff"/>
                </a:solidFill>
                <a:uFillTx/>
                <a:latin typeface="Arial"/>
                <a:hlinkClick r:id="rId34"/>
              </a:rPr>
              <a:t>o</a:t>
            </a:r>
            <a:r>
              <a:rPr b="0" lang="en-US" sz="1300" spc="32" strike="noStrike" u="sng">
                <a:solidFill>
                  <a:srgbClr val="0000ff"/>
                </a:solidFill>
                <a:uFillTx/>
                <a:latin typeface="Arial"/>
                <a:hlinkClick r:id="rId35"/>
              </a:rPr>
              <a:t>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bject 28"/>
          <p:cNvSpPr/>
          <p:nvPr/>
        </p:nvSpPr>
        <p:spPr>
          <a:xfrm>
            <a:off x="7087680" y="7107480"/>
            <a:ext cx="543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980"/>
              </a:lnSpc>
            </a:pPr>
            <a:r>
              <a:rPr b="0" lang="zh-CN" sz="3400" spc="678" strike="noStrike" u="sng">
                <a:solidFill>
                  <a:srgbClr val="0000ff"/>
                </a:solidFill>
                <a:uFillTx/>
                <a:latin typeface="宋体"/>
                <a:hlinkClick r:id="rId36"/>
              </a:rPr>
              <a:t>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ject 29"/>
          <p:cNvSpPr/>
          <p:nvPr/>
        </p:nvSpPr>
        <p:spPr>
          <a:xfrm>
            <a:off x="10702080" y="3500640"/>
            <a:ext cx="1371240" cy="219240"/>
          </a:xfrm>
          <a:custGeom>
            <a:avLst/>
            <a:gdLst>
              <a:gd name="textAreaLeft" fmla="*/ 0 w 1371240"/>
              <a:gd name="textAreaRight" fmla="*/ 1371600 w 137124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371746" h="219676">
                <a:moveTo>
                  <a:pt x="0" y="0"/>
                </a:moveTo>
                <a:lnTo>
                  <a:pt x="1371746" y="0"/>
                </a:lnTo>
                <a:lnTo>
                  <a:pt x="1371746" y="219676"/>
                </a:lnTo>
                <a:lnTo>
                  <a:pt x="0" y="219676"/>
                </a:lnTo>
                <a:lnTo>
                  <a:pt x="0" y="0"/>
                </a:lnTo>
                <a:close/>
              </a:path>
            </a:pathLst>
          </a:cu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object 30"/>
          <p:cNvSpPr/>
          <p:nvPr/>
        </p:nvSpPr>
        <p:spPr>
          <a:xfrm>
            <a:off x="10743480" y="3669840"/>
            <a:ext cx="258120" cy="219240"/>
          </a:xfrm>
          <a:custGeom>
            <a:avLst/>
            <a:gdLst>
              <a:gd name="textAreaLeft" fmla="*/ 0 w 258120"/>
              <a:gd name="textAreaRight" fmla="*/ 258480 w 25812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58432" h="219676">
                <a:moveTo>
                  <a:pt x="0" y="0"/>
                </a:moveTo>
                <a:lnTo>
                  <a:pt x="258432" y="0"/>
                </a:lnTo>
                <a:lnTo>
                  <a:pt x="258432" y="219676"/>
                </a:lnTo>
                <a:lnTo>
                  <a:pt x="0" y="219676"/>
                </a:lnTo>
                <a:lnTo>
                  <a:pt x="0" y="0"/>
                </a:lnTo>
                <a:close/>
              </a:path>
            </a:pathLst>
          </a:cu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object 31"/>
          <p:cNvSpPr/>
          <p:nvPr/>
        </p:nvSpPr>
        <p:spPr>
          <a:xfrm>
            <a:off x="11043720" y="3669840"/>
            <a:ext cx="815760" cy="219240"/>
          </a:xfrm>
          <a:custGeom>
            <a:avLst/>
            <a:gdLst>
              <a:gd name="textAreaLeft" fmla="*/ 0 w 815760"/>
              <a:gd name="textAreaRight" fmla="*/ 816120 w 81576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816178" h="219676">
                <a:moveTo>
                  <a:pt x="0" y="0"/>
                </a:moveTo>
                <a:lnTo>
                  <a:pt x="816178" y="0"/>
                </a:lnTo>
                <a:lnTo>
                  <a:pt x="816178" y="219676"/>
                </a:lnTo>
                <a:lnTo>
                  <a:pt x="0" y="219676"/>
                </a:lnTo>
                <a:lnTo>
                  <a:pt x="0" y="0"/>
                </a:lnTo>
                <a:close/>
              </a:path>
            </a:pathLst>
          </a:cu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object 32"/>
          <p:cNvSpPr/>
          <p:nvPr/>
        </p:nvSpPr>
        <p:spPr>
          <a:xfrm>
            <a:off x="11912400" y="3776040"/>
            <a:ext cx="137880" cy="69840"/>
          </a:xfrm>
          <a:custGeom>
            <a:avLst/>
            <a:gdLst>
              <a:gd name="textAreaLeft" fmla="*/ 0 w 137880"/>
              <a:gd name="textAreaRight" fmla="*/ 138240 w 1378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38302" h="70122">
                <a:moveTo>
                  <a:pt x="0" y="0"/>
                </a:moveTo>
                <a:lnTo>
                  <a:pt x="138302" y="0"/>
                </a:lnTo>
                <a:lnTo>
                  <a:pt x="138302" y="70122"/>
                </a:lnTo>
                <a:lnTo>
                  <a:pt x="0" y="70122"/>
                </a:lnTo>
                <a:lnTo>
                  <a:pt x="0" y="0"/>
                </a:lnTo>
                <a:close/>
              </a:path>
            </a:pathLst>
          </a:cu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object 33"/>
          <p:cNvSpPr/>
          <p:nvPr/>
        </p:nvSpPr>
        <p:spPr>
          <a:xfrm>
            <a:off x="14533920" y="3573720"/>
            <a:ext cx="105840" cy="75960"/>
          </a:xfrm>
          <a:custGeom>
            <a:avLst/>
            <a:gdLst>
              <a:gd name="textAreaLeft" fmla="*/ 0 w 105840"/>
              <a:gd name="textAreaRight" fmla="*/ 106200 w 10584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06298" h="76497">
                <a:moveTo>
                  <a:pt x="0" y="0"/>
                </a:moveTo>
                <a:lnTo>
                  <a:pt x="106298" y="0"/>
                </a:lnTo>
                <a:lnTo>
                  <a:pt x="106298" y="76497"/>
                </a:lnTo>
                <a:lnTo>
                  <a:pt x="0" y="76497"/>
                </a:lnTo>
                <a:lnTo>
                  <a:pt x="0" y="0"/>
                </a:lnTo>
                <a:close/>
              </a:path>
            </a:pathLst>
          </a:cu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object 34"/>
          <p:cNvSpPr/>
          <p:nvPr/>
        </p:nvSpPr>
        <p:spPr>
          <a:xfrm>
            <a:off x="14640120" y="3573720"/>
            <a:ext cx="166680" cy="75960"/>
          </a:xfrm>
          <a:custGeom>
            <a:avLst/>
            <a:gdLst>
              <a:gd name="textAreaLeft" fmla="*/ 0 w 166680"/>
              <a:gd name="textAreaRight" fmla="*/ 167040 w 1666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66878" h="76497">
                <a:moveTo>
                  <a:pt x="0" y="0"/>
                </a:moveTo>
                <a:lnTo>
                  <a:pt x="166878" y="0"/>
                </a:lnTo>
                <a:lnTo>
                  <a:pt x="166878" y="76497"/>
                </a:lnTo>
                <a:lnTo>
                  <a:pt x="0" y="76497"/>
                </a:lnTo>
                <a:lnTo>
                  <a:pt x="0" y="0"/>
                </a:lnTo>
                <a:close/>
              </a:path>
            </a:pathLst>
          </a:custGeom>
          <a:solidFill>
            <a:srgbClr val="cae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bject 35"/>
          <p:cNvSpPr/>
          <p:nvPr/>
        </p:nvSpPr>
        <p:spPr>
          <a:xfrm>
            <a:off x="3690720" y="5449680"/>
            <a:ext cx="94896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643320"/>
              </a:tabLst>
            </a:pPr>
            <a:r>
              <a:rPr b="0" lang="en-US" sz="10800" spc="-3728" strike="noStrike" u="sng" baseline="-26000">
                <a:solidFill>
                  <a:srgbClr val="0000ff"/>
                </a:solidFill>
                <a:uFillTx/>
                <a:latin typeface="宋体"/>
                <a:hlinkClick r:id="rId37"/>
              </a:rPr>
              <a:t>.</a:t>
            </a:r>
            <a:r>
              <a:rPr b="0" lang="en-US" sz="1300" spc="32" strike="noStrike" u="sng">
                <a:solidFill>
                  <a:srgbClr val="0000ff"/>
                </a:solidFill>
                <a:uFillTx/>
                <a:latin typeface="Arial"/>
                <a:hlinkClick r:id="rId38"/>
              </a:rPr>
              <a:t>e</a:t>
            </a:r>
            <a:r>
              <a:rPr b="0" lang="en-US" sz="1300" spc="-191" strike="noStrike" u="sng">
                <a:solidFill>
                  <a:srgbClr val="0000ff"/>
                </a:solidFill>
                <a:uFillTx/>
                <a:latin typeface="Arial"/>
                <a:hlinkClick r:id="rId39"/>
              </a:rPr>
              <a:t>l</a:t>
            </a:r>
            <a:r>
              <a:rPr b="0" lang="zh-CN" sz="10800" spc="-10509" strike="noStrike" u="sng" baseline="-26000">
                <a:solidFill>
                  <a:srgbClr val="0000ff"/>
                </a:solidFill>
                <a:uFillTx/>
                <a:latin typeface="宋体"/>
                <a:hlinkClick r:id="rId40"/>
              </a:rPr>
              <a:t>川</a:t>
            </a:r>
            <a:r>
              <a:rPr b="0" lang="en-US" sz="1300" spc="29" strike="noStrike" u="sng">
                <a:solidFill>
                  <a:srgbClr val="0000ff"/>
                </a:solidFill>
                <a:uFillTx/>
                <a:latin typeface="Arial"/>
                <a:hlinkClick r:id="rId41"/>
              </a:rPr>
              <a:t>ps	</a:t>
            </a:r>
            <a:r>
              <a:rPr b="0" lang="en-US" sz="1000" spc="18" strike="noStrike" u="sng">
                <a:solidFill>
                  <a:srgbClr val="0000ff"/>
                </a:solidFill>
                <a:uFillTx/>
                <a:latin typeface="宋体"/>
                <a:hlinkClick r:id="rId42"/>
              </a:rPr>
              <a:t>U</a:t>
            </a:r>
            <a:r>
              <a:rPr b="0" lang="en-US" sz="1000" spc="-15" strike="noStrike" u="sng">
                <a:solidFill>
                  <a:srgbClr val="0000ff"/>
                </a:solidFill>
                <a:uFillTx/>
                <a:latin typeface="宋体"/>
                <a:hlinkClick r:id="rId43"/>
              </a:rPr>
              <a:t>1</a:t>
            </a:r>
            <a:r>
              <a:rPr b="0" lang="en-US" sz="1300" spc="137" strike="noStrike" u="sng">
                <a:solidFill>
                  <a:srgbClr val="0000ff"/>
                </a:solidFill>
                <a:uFillTx/>
                <a:latin typeface="Arial"/>
                <a:hlinkClick r:id="rId44"/>
              </a:rPr>
              <a:t>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64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64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64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spcBef>
                <a:spcPts val="11"/>
              </a:spcBef>
              <a:tabLst>
                <a:tab algn="l" pos="6433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ts val="3980"/>
              </a:lnSpc>
              <a:tabLst>
                <a:tab algn="l" pos="643320"/>
              </a:tabLst>
            </a:pPr>
            <a:r>
              <a:rPr b="0" lang="zh-CN" sz="3400" spc="678" strike="noStrike" u="sng">
                <a:solidFill>
                  <a:srgbClr val="0000ff"/>
                </a:solidFill>
                <a:uFillTx/>
                <a:latin typeface="宋体"/>
                <a:hlinkClick r:id="rId45"/>
              </a:rPr>
              <a:t>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bject 36"/>
          <p:cNvSpPr/>
          <p:nvPr/>
        </p:nvSpPr>
        <p:spPr>
          <a:xfrm>
            <a:off x="10594440" y="3501720"/>
            <a:ext cx="14709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1300" spc="-151" strike="noStrike" u="sng">
                <a:solidFill>
                  <a:srgbClr val="0000ff"/>
                </a:solidFill>
                <a:uFillTx/>
                <a:latin typeface="Arial"/>
                <a:hlinkClick r:id="rId46"/>
              </a:rPr>
              <a:t>H</a:t>
            </a:r>
            <a:r>
              <a:rPr b="0" lang="en-US" sz="1300" spc="-12" strike="noStrike" u="sng">
                <a:solidFill>
                  <a:srgbClr val="0000ff"/>
                </a:solidFill>
                <a:uFillTx/>
                <a:latin typeface="Arial"/>
                <a:hlinkClick r:id="rId47"/>
              </a:rPr>
              <a:t>ow</a:t>
            </a:r>
            <a:r>
              <a:rPr b="0" lang="en-US" sz="1300" spc="4" strike="noStrike" u="sng">
                <a:solidFill>
                  <a:srgbClr val="0000ff"/>
                </a:solidFill>
                <a:uFillTx/>
                <a:latin typeface="Arial"/>
                <a:hlinkClick r:id="rId48"/>
              </a:rPr>
              <a:t> </a:t>
            </a:r>
            <a:r>
              <a:rPr b="0" lang="en-US" sz="1300" spc="-15" strike="noStrike" u="sng">
                <a:solidFill>
                  <a:srgbClr val="0000ff"/>
                </a:solidFill>
                <a:uFillTx/>
                <a:latin typeface="Arial"/>
                <a:hlinkClick r:id="rId49"/>
              </a:rPr>
              <a:t>Cisco</a:t>
            </a:r>
            <a:r>
              <a:rPr b="0" lang="en-US" sz="1300" spc="12" strike="noStrike" u="sng">
                <a:solidFill>
                  <a:srgbClr val="0000ff"/>
                </a:solidFill>
                <a:uFillTx/>
                <a:latin typeface="Arial"/>
                <a:hlinkClick r:id="rId50"/>
              </a:rPr>
              <a:t> </a:t>
            </a:r>
            <a:r>
              <a:rPr b="0" lang="en-US" sz="1300" spc="-35" strike="noStrike" u="sng">
                <a:solidFill>
                  <a:srgbClr val="0000ff"/>
                </a:solidFill>
                <a:uFillTx/>
                <a:latin typeface="Arial"/>
                <a:hlinkClick r:id="rId51"/>
              </a:rPr>
              <a:t>IT</a:t>
            </a:r>
            <a:r>
              <a:rPr b="0" lang="en-US" sz="1300" spc="-126" strike="noStrike" u="sng">
                <a:solidFill>
                  <a:srgbClr val="0000ff"/>
                </a:solidFill>
                <a:uFillTx/>
                <a:latin typeface="Arial"/>
                <a:hlinkClick r:id="rId52"/>
              </a:rPr>
              <a:t> </a:t>
            </a:r>
            <a:r>
              <a:rPr b="0" lang="en-US" sz="1300" spc="-21" strike="noStrike" u="sng">
                <a:solidFill>
                  <a:srgbClr val="0000ff"/>
                </a:solidFill>
                <a:uFillTx/>
                <a:latin typeface="Arial"/>
                <a:hlinkClick r:id="rId53"/>
              </a:rPr>
              <a:t>Optl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bject 37"/>
          <p:cNvSpPr/>
          <p:nvPr/>
        </p:nvSpPr>
        <p:spPr>
          <a:xfrm>
            <a:off x="10594440" y="3670920"/>
            <a:ext cx="14695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1300" spc="-126" strike="noStrike" u="sng">
                <a:solidFill>
                  <a:srgbClr val="0000ff"/>
                </a:solidFill>
                <a:uFillTx/>
                <a:latin typeface="Arial"/>
                <a:hlinkClick r:id="rId54"/>
              </a:rPr>
              <a:t>P</a:t>
            </a:r>
            <a:r>
              <a:rPr b="0" lang="en-US" sz="1300" spc="-80" strike="noStrike" u="sng">
                <a:solidFill>
                  <a:srgbClr val="0000ff"/>
                </a:solidFill>
                <a:uFillTx/>
                <a:latin typeface="Arial"/>
                <a:hlinkClick r:id="rId55"/>
              </a:rPr>
              <a:t>r</a:t>
            </a:r>
            <a:r>
              <a:rPr b="0" lang="en-US" sz="1300" spc="-41" strike="noStrike" u="sng">
                <a:solidFill>
                  <a:srgbClr val="0000ff"/>
                </a:solidFill>
                <a:uFillTx/>
                <a:latin typeface="Arial"/>
                <a:hlinkClick r:id="rId56"/>
              </a:rPr>
              <a:t>oa</a:t>
            </a:r>
            <a:r>
              <a:rPr b="0" lang="en-US" sz="1300" spc="58" strike="noStrike" u="sng">
                <a:solidFill>
                  <a:srgbClr val="0000ff"/>
                </a:solidFill>
                <a:uFillTx/>
                <a:latin typeface="Arial"/>
                <a:hlinkClick r:id="rId57"/>
              </a:rPr>
              <a:t>c</a:t>
            </a:r>
            <a:r>
              <a:rPr b="0" lang="en-US" sz="1300" spc="-46" strike="noStrike" u="sng">
                <a:solidFill>
                  <a:srgbClr val="0000ff"/>
                </a:solidFill>
                <a:uFillTx/>
                <a:latin typeface="Arial"/>
                <a:hlinkClick r:id="rId58"/>
              </a:rPr>
              <a:t>t</a:t>
            </a:r>
            <a:r>
              <a:rPr b="0" lang="en-US" sz="1300" spc="-35" strike="noStrike" u="sng">
                <a:solidFill>
                  <a:srgbClr val="0000ff"/>
                </a:solidFill>
                <a:uFillTx/>
                <a:latin typeface="Arial"/>
                <a:hlinkClick r:id="rId59"/>
              </a:rPr>
              <a:t>íve</a:t>
            </a:r>
            <a:r>
              <a:rPr b="0" lang="en-US" sz="1300" spc="-32" strike="noStrike" u="sng">
                <a:solidFill>
                  <a:srgbClr val="0000ff"/>
                </a:solidFill>
                <a:uFillTx/>
                <a:latin typeface="Arial"/>
                <a:hlinkClick r:id="rId60"/>
              </a:rPr>
              <a:t> </a:t>
            </a:r>
            <a:r>
              <a:rPr b="0" lang="en-US" sz="1300" spc="-41" strike="noStrike" u="sng">
                <a:solidFill>
                  <a:srgbClr val="0000ff"/>
                </a:solidFill>
                <a:uFillTx/>
                <a:latin typeface="Arial"/>
                <a:hlinkClick r:id="rId61"/>
              </a:rPr>
              <a:t>Supp</a:t>
            </a:r>
            <a:r>
              <a:rPr b="0" lang="en-US" sz="1300" spc="-15" strike="noStrike" u="sng">
                <a:solidFill>
                  <a:srgbClr val="0000ff"/>
                </a:solidFill>
                <a:uFillTx/>
                <a:latin typeface="Arial"/>
                <a:hlinkClick r:id="rId62"/>
              </a:rPr>
              <a:t>o</a:t>
            </a:r>
            <a:r>
              <a:rPr b="0" lang="en-US" sz="1150" spc="-211" strike="noStrike" u="sng">
                <a:solidFill>
                  <a:srgbClr val="0000ff"/>
                </a:solidFill>
                <a:uFillTx/>
                <a:latin typeface="宋体"/>
                <a:hlinkClick r:id="rId63"/>
              </a:rPr>
              <a:t>r&gt;</a:t>
            </a:r>
            <a:r>
              <a:rPr b="0" lang="en-US" sz="1150" spc="-160" strike="noStrike" u="sng">
                <a:solidFill>
                  <a:srgbClr val="0000ff"/>
                </a:solidFill>
                <a:uFillTx/>
                <a:latin typeface="宋体"/>
                <a:hlinkClick r:id="rId64"/>
              </a:rPr>
              <a:t> </a:t>
            </a:r>
            <a:r>
              <a:rPr b="0" lang="en-US" sz="550" spc="259" strike="noStrike" u="sng">
                <a:solidFill>
                  <a:srgbClr val="0000ff"/>
                </a:solidFill>
                <a:uFillTx/>
                <a:latin typeface="宋体"/>
                <a:hlinkClick r:id="rId65"/>
              </a:rPr>
              <a:t>C'</a:t>
            </a:r>
            <a:endParaRPr b="0" lang="en-US" sz="5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bject 38"/>
          <p:cNvSpPr/>
          <p:nvPr/>
        </p:nvSpPr>
        <p:spPr>
          <a:xfrm>
            <a:off x="14526360" y="3563280"/>
            <a:ext cx="346320" cy="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600" spc="148" strike="noStrike" u="sng">
                <a:solidFill>
                  <a:srgbClr val="0000ff"/>
                </a:solidFill>
                <a:uFillTx/>
                <a:latin typeface="宋体"/>
                <a:hlinkClick r:id="rId66"/>
              </a:rPr>
              <a:t>$b</a:t>
            </a:r>
            <a:r>
              <a:rPr b="0" lang="en-US" sz="600" spc="12" strike="noStrike" u="sng">
                <a:solidFill>
                  <a:srgbClr val="0000ff"/>
                </a:solidFill>
                <a:uFillTx/>
                <a:latin typeface="宋体"/>
                <a:hlinkClick r:id="rId67"/>
              </a:rPr>
              <a:t>a</a:t>
            </a:r>
            <a:r>
              <a:rPr b="0" lang="zh-CN" sz="600" spc="698" strike="noStrike" u="sng">
                <a:solidFill>
                  <a:srgbClr val="0000ff"/>
                </a:solidFill>
                <a:uFillTx/>
                <a:latin typeface="宋体"/>
                <a:hlinkClick r:id="rId68"/>
              </a:rPr>
              <a:t>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bject 39"/>
          <p:cNvSpPr/>
          <p:nvPr/>
        </p:nvSpPr>
        <p:spPr>
          <a:xfrm>
            <a:off x="4563720" y="4042800"/>
            <a:ext cx="5216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5346"/>
              </a:lnSpc>
            </a:pPr>
            <a:r>
              <a:rPr b="0" lang="zh-CN" sz="4600" spc="-690" strike="noStrike" u="sng">
                <a:solidFill>
                  <a:srgbClr val="0000ff"/>
                </a:solidFill>
                <a:uFillTx/>
                <a:latin typeface="宋体"/>
                <a:hlinkClick r:id="rId69"/>
              </a:rPr>
              <a:t>国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bject 40"/>
          <p:cNvSpPr/>
          <p:nvPr/>
        </p:nvSpPr>
        <p:spPr>
          <a:xfrm>
            <a:off x="6374520" y="4042800"/>
            <a:ext cx="5216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5346"/>
              </a:lnSpc>
            </a:pPr>
            <a:r>
              <a:rPr b="0" lang="zh-CN" sz="4600" spc="-690" strike="noStrike" u="sng">
                <a:solidFill>
                  <a:srgbClr val="0000ff"/>
                </a:solidFill>
                <a:uFillTx/>
                <a:latin typeface="宋体"/>
                <a:hlinkClick r:id="rId70"/>
              </a:rPr>
              <a:t>国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bject 41"/>
          <p:cNvSpPr/>
          <p:nvPr/>
        </p:nvSpPr>
        <p:spPr>
          <a:xfrm>
            <a:off x="5963040" y="4316040"/>
            <a:ext cx="47016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7200" spc="979" strike="noStrike" u="sng">
                <a:solidFill>
                  <a:srgbClr val="0000ff"/>
                </a:solidFill>
                <a:uFillTx/>
                <a:latin typeface="Arial"/>
                <a:hlinkClick r:id="rId71"/>
              </a:rPr>
              <a:t>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bject 42"/>
          <p:cNvSpPr/>
          <p:nvPr/>
        </p:nvSpPr>
        <p:spPr>
          <a:xfrm>
            <a:off x="6278400" y="4818960"/>
            <a:ext cx="88308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7200" spc="4227" strike="noStrike" u="sng">
                <a:solidFill>
                  <a:srgbClr val="0000ff"/>
                </a:solidFill>
                <a:uFillTx/>
                <a:latin typeface="Arial"/>
                <a:hlinkClick r:id="rId72"/>
              </a:rPr>
              <a:t>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bject 43"/>
          <p:cNvSpPr/>
          <p:nvPr/>
        </p:nvSpPr>
        <p:spPr>
          <a:xfrm>
            <a:off x="3752640" y="5962320"/>
            <a:ext cx="1319760" cy="2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950" spc="-287" strike="noStrike" u="sng">
                <a:solidFill>
                  <a:srgbClr val="0000ff"/>
                </a:solidFill>
                <a:uFillTx/>
                <a:latin typeface="Arial"/>
                <a:hlinkClick r:id="rId73"/>
              </a:rPr>
              <a:t>.</a:t>
            </a:r>
            <a:r>
              <a:rPr b="0" lang="en-US" sz="950" spc="9" strike="noStrike" u="sng">
                <a:solidFill>
                  <a:srgbClr val="0000ff"/>
                </a:solidFill>
                <a:uFillTx/>
                <a:latin typeface="Arial"/>
                <a:hlinkClick r:id="rId74"/>
              </a:rPr>
              <a:t>ASCO </a:t>
            </a:r>
            <a:r>
              <a:rPr b="0" lang="en-US" sz="950" spc="-26" strike="noStrike" u="sng">
                <a:solidFill>
                  <a:srgbClr val="0000ff"/>
                </a:solidFill>
                <a:uFillTx/>
                <a:latin typeface="Arial"/>
                <a:hlinkClick r:id="rId75"/>
              </a:rPr>
              <a:t> </a:t>
            </a:r>
            <a:r>
              <a:rPr b="0" lang="en-US" sz="1300" spc="38" strike="noStrike" u="sng">
                <a:solidFill>
                  <a:srgbClr val="0000ff"/>
                </a:solidFill>
                <a:uFillTx/>
                <a:latin typeface="Arial"/>
                <a:hlinkClick r:id="rId76"/>
              </a:rPr>
              <a:t>Network</a:t>
            </a:r>
            <a:r>
              <a:rPr b="0" lang="en-US" sz="1300" spc="111" strike="noStrike" u="sng">
                <a:solidFill>
                  <a:srgbClr val="0000ff"/>
                </a:solidFill>
                <a:uFillTx/>
                <a:latin typeface="Arial"/>
                <a:hlinkClick r:id="rId77"/>
              </a:rPr>
              <a:t> </a:t>
            </a:r>
            <a:r>
              <a:rPr b="0" i="1" lang="en-US" sz="1400" spc="253" strike="noStrike" u="sng">
                <a:solidFill>
                  <a:srgbClr val="0000ff"/>
                </a:solidFill>
                <a:uFillTx/>
                <a:latin typeface="Arial"/>
                <a:hlinkClick r:id="rId78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bject 44"/>
          <p:cNvSpPr/>
          <p:nvPr/>
        </p:nvSpPr>
        <p:spPr>
          <a:xfrm>
            <a:off x="5153760" y="5974920"/>
            <a:ext cx="1371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1300" spc="-12" strike="noStrike" u="sng">
                <a:solidFill>
                  <a:srgbClr val="0000ff"/>
                </a:solidFill>
                <a:uFillTx/>
                <a:latin typeface="Arial"/>
                <a:hlinkClick r:id="rId79"/>
              </a:rPr>
              <a:t>tlmlzation </a:t>
            </a:r>
            <a:r>
              <a:rPr b="0" lang="en-US" sz="1300" spc="-165" strike="noStrike" u="sng">
                <a:solidFill>
                  <a:srgbClr val="0000ff"/>
                </a:solidFill>
                <a:uFillTx/>
                <a:latin typeface="Arial"/>
                <a:hlinkClick r:id="rId80"/>
              </a:rPr>
              <a:t> </a:t>
            </a:r>
            <a:r>
              <a:rPr b="0" lang="en-US" sz="1300" spc="18" strike="noStrike" u="sng">
                <a:solidFill>
                  <a:srgbClr val="0000ff"/>
                </a:solidFill>
                <a:uFillTx/>
                <a:latin typeface="Arial"/>
                <a:hlinkClick r:id="rId81"/>
              </a:rPr>
              <a:t>Serv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bject 45"/>
          <p:cNvSpPr/>
          <p:nvPr/>
        </p:nvSpPr>
        <p:spPr>
          <a:xfrm>
            <a:off x="4723920" y="6199200"/>
            <a:ext cx="1541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1009080"/>
              </a:tabLst>
            </a:pPr>
            <a:r>
              <a:rPr b="0" lang="en-US" sz="1300" spc="49" strike="noStrike" u="sng">
                <a:solidFill>
                  <a:srgbClr val="0000ff"/>
                </a:solidFill>
                <a:uFillTx/>
                <a:latin typeface="Arial"/>
                <a:hlinkClick r:id="rId82"/>
              </a:rPr>
              <a:t>omorrow</a:t>
            </a:r>
            <a:r>
              <a:rPr b="0" lang="en-US" sz="1300" spc="-52" strike="noStrike" u="sng">
                <a:solidFill>
                  <a:srgbClr val="0000ff"/>
                </a:solidFill>
                <a:uFillTx/>
                <a:latin typeface="Arial"/>
                <a:hlinkClick r:id="rId83"/>
              </a:rPr>
              <a:t> </a:t>
            </a:r>
            <a:r>
              <a:rPr b="0" i="1" lang="en-US" sz="1050" spc="63" strike="noStrike" u="sng">
                <a:solidFill>
                  <a:srgbClr val="0000ff"/>
                </a:solidFill>
                <a:uFillTx/>
                <a:latin typeface="Times New Roman"/>
                <a:hlinkClick r:id="rId84"/>
              </a:rPr>
              <a:t>S	</a:t>
            </a:r>
            <a:r>
              <a:rPr b="0" lang="en-US" sz="1300" spc="32" strike="noStrike" u="sng">
                <a:solidFill>
                  <a:srgbClr val="0000ff"/>
                </a:solidFill>
                <a:uFillTx/>
                <a:latin typeface="Arial"/>
                <a:hlinkClick r:id="rId85"/>
              </a:rPr>
              <a:t>et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bject 46"/>
          <p:cNvSpPr/>
          <p:nvPr/>
        </p:nvSpPr>
        <p:spPr>
          <a:xfrm>
            <a:off x="12182040" y="5703480"/>
            <a:ext cx="73800" cy="118080"/>
          </a:xfrm>
          <a:custGeom>
            <a:avLst/>
            <a:gdLst>
              <a:gd name="textAreaLeft" fmla="*/ 0 w 73800"/>
              <a:gd name="textAreaRight" fmla="*/ 74160 w 73800"/>
              <a:gd name="textAreaTop" fmla="*/ 0 h 118080"/>
              <a:gd name="textAreaBottom" fmla="*/ 118440 h 118080"/>
            </a:gdLst>
            <a:ahLst/>
            <a:rect l="textAreaLeft" t="textAreaTop" r="textAreaRight" b="textAreaBottom"/>
            <a:pathLst>
              <a:path w="74009" h="118287">
                <a:moveTo>
                  <a:pt x="0" y="0"/>
                </a:moveTo>
                <a:lnTo>
                  <a:pt x="74009" y="0"/>
                </a:lnTo>
                <a:lnTo>
                  <a:pt x="74009" y="118287"/>
                </a:lnTo>
                <a:lnTo>
                  <a:pt x="0" y="118287"/>
                </a:lnTo>
                <a:lnTo>
                  <a:pt x="0" y="0"/>
                </a:lnTo>
                <a:close/>
              </a:path>
            </a:pathLst>
          </a:cu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object 47"/>
          <p:cNvSpPr/>
          <p:nvPr/>
        </p:nvSpPr>
        <p:spPr>
          <a:xfrm>
            <a:off x="12188880" y="5703840"/>
            <a:ext cx="265680" cy="1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836"/>
              </a:lnSpc>
            </a:pPr>
            <a:r>
              <a:rPr b="0" lang="en-US" sz="700" spc="97" strike="noStrike" u="sng">
                <a:solidFill>
                  <a:srgbClr val="0000ff"/>
                </a:solidFill>
                <a:uFillTx/>
                <a:latin typeface="Arial"/>
                <a:hlinkClick r:id="rId86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bject 48"/>
          <p:cNvSpPr/>
          <p:nvPr/>
        </p:nvSpPr>
        <p:spPr>
          <a:xfrm>
            <a:off x="12238560" y="5743440"/>
            <a:ext cx="216000" cy="56880"/>
          </a:xfrm>
          <a:custGeom>
            <a:avLst/>
            <a:gdLst>
              <a:gd name="textAreaLeft" fmla="*/ 0 w 216000"/>
              <a:gd name="textAreaRight" fmla="*/ 216360 w 2160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16187" h="57373">
                <a:moveTo>
                  <a:pt x="0" y="0"/>
                </a:moveTo>
                <a:lnTo>
                  <a:pt x="216187" y="0"/>
                </a:lnTo>
                <a:lnTo>
                  <a:pt x="216187" y="57373"/>
                </a:lnTo>
                <a:lnTo>
                  <a:pt x="0" y="57373"/>
                </a:lnTo>
                <a:lnTo>
                  <a:pt x="0" y="0"/>
                </a:lnTo>
                <a:close/>
              </a:path>
            </a:pathLst>
          </a:cu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bject 49"/>
          <p:cNvSpPr/>
          <p:nvPr/>
        </p:nvSpPr>
        <p:spPr>
          <a:xfrm>
            <a:off x="12373200" y="5817960"/>
            <a:ext cx="360" cy="82440"/>
          </a:xfrm>
          <a:custGeom>
            <a:avLst/>
            <a:gdLst>
              <a:gd name="textAreaLeft" fmla="*/ 0 w 360"/>
              <a:gd name="textAreaRight" fmla="*/ 720 w 36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0" h="82872">
                <a:moveTo>
                  <a:pt x="0" y="82872"/>
                </a:moveTo>
                <a:lnTo>
                  <a:pt x="0" y="0"/>
                </a:lnTo>
              </a:path>
            </a:pathLst>
          </a:custGeom>
          <a:noFill/>
          <a:ln w="57403">
            <a:solidFill>
              <a:srgbClr val="efef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object 50"/>
          <p:cNvSpPr/>
          <p:nvPr/>
        </p:nvSpPr>
        <p:spPr>
          <a:xfrm>
            <a:off x="11998080" y="5735520"/>
            <a:ext cx="180180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440">
              <a:lnSpc>
                <a:spcPts val="490"/>
              </a:lnSpc>
            </a:pPr>
            <a:r>
              <a:rPr b="0" lang="zh-CN" sz="200" spc="-86" strike="noStrike" u="sng">
                <a:solidFill>
                  <a:srgbClr val="0000ff"/>
                </a:solidFill>
                <a:uFillTx/>
                <a:latin typeface="宋体"/>
                <a:hlinkClick r:id="rId87"/>
              </a:rPr>
              <a:t>色   </a:t>
            </a:r>
            <a:r>
              <a:rPr b="0" lang="en-US" sz="200" spc="-15" strike="noStrike" u="sng">
                <a:solidFill>
                  <a:srgbClr val="0000ff"/>
                </a:solidFill>
                <a:uFillTx/>
                <a:latin typeface="宋体"/>
                <a:hlinkClick r:id="rId88"/>
              </a:rPr>
              <a:t> </a:t>
            </a:r>
            <a:r>
              <a:rPr b="0" lang="zh-CN" sz="450" spc="-46" strike="noStrike" u="sng">
                <a:solidFill>
                  <a:srgbClr val="0000ff"/>
                </a:solidFill>
                <a:uFillTx/>
                <a:latin typeface="宋体"/>
                <a:hlinkClick r:id="rId89"/>
              </a:rPr>
              <a:t>咱，II'Oj</a:t>
            </a:r>
            <a:endParaRPr b="0" lang="en-US" sz="45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904"/>
              </a:lnSpc>
            </a:pPr>
            <a:r>
              <a:rPr b="0" lang="en-US" sz="950" spc="-66" strike="noStrike" u="sng">
                <a:solidFill>
                  <a:srgbClr val="0000ff"/>
                </a:solidFill>
                <a:uFillTx/>
                <a:latin typeface="Times New Roman"/>
                <a:hlinkClick r:id="rId90"/>
              </a:rPr>
              <a:t>τ</a:t>
            </a:r>
            <a:r>
              <a:rPr b="0" lang="zh-CN" sz="700" spc="32" strike="noStrike" u="sng">
                <a:solidFill>
                  <a:srgbClr val="0000ff"/>
                </a:solidFill>
                <a:uFillTx/>
                <a:latin typeface="宋体"/>
                <a:hlinkClick r:id="rId91"/>
              </a:rPr>
              <a:t>，.OI</a:t>
            </a:r>
            <a:r>
              <a:rPr b="0" lang="en-US" sz="700" spc="9" strike="noStrike" u="sng">
                <a:solidFill>
                  <a:srgbClr val="0000ff"/>
                </a:solidFill>
                <a:uFillTx/>
                <a:latin typeface="宋体"/>
                <a:hlinkClick r:id="rId92"/>
              </a:rPr>
              <a:t>ec</a:t>
            </a:r>
            <a:r>
              <a:rPr b="0" lang="en-US" sz="700" spc="-250" strike="noStrike" u="sng">
                <a:solidFill>
                  <a:srgbClr val="0000ff"/>
                </a:solidFill>
                <a:uFillTx/>
                <a:latin typeface="宋体"/>
                <a:hlinkClick r:id="rId93"/>
              </a:rPr>
              <a:t>.</a:t>
            </a:r>
            <a:r>
              <a:rPr b="0" lang="zh-CN" sz="650" spc="-622" strike="noStrike" u="sng">
                <a:solidFill>
                  <a:srgbClr val="0000ff"/>
                </a:solidFill>
                <a:uFillTx/>
                <a:latin typeface="宋体"/>
                <a:hlinkClick r:id="rId94"/>
              </a:rPr>
              <a:t>，</a:t>
            </a:r>
            <a:r>
              <a:rPr b="0" lang="en-US" sz="650" spc="-262" strike="noStrike" u="sng">
                <a:solidFill>
                  <a:srgbClr val="0000ff"/>
                </a:solidFill>
                <a:uFillTx/>
                <a:latin typeface="宋体"/>
                <a:hlinkClick r:id="rId95"/>
              </a:rPr>
              <a:t>.，回恼。‘</a:t>
            </a:r>
            <a:r>
              <a:rPr b="0" lang="en-US" sz="650" spc="-171" strike="noStrike" u="sng">
                <a:solidFill>
                  <a:srgbClr val="0000ff"/>
                </a:solidFill>
                <a:uFillTx/>
                <a:latin typeface="宋体"/>
                <a:hlinkClick r:id="rId96"/>
              </a:rPr>
              <a:t> </a:t>
            </a:r>
            <a:r>
              <a:rPr b="0" lang="en-US" sz="700" spc="-26" strike="noStrike" u="sng">
                <a:solidFill>
                  <a:srgbClr val="0000ff"/>
                </a:solidFill>
                <a:uFillTx/>
                <a:latin typeface="Times New Roman"/>
                <a:hlinkClick r:id="rId97"/>
              </a:rPr>
              <a:t>CI</a:t>
            </a:r>
            <a:r>
              <a:rPr b="0" lang="en-US" sz="700" spc="-100" strike="noStrike" u="sng">
                <a:solidFill>
                  <a:srgbClr val="0000ff"/>
                </a:solidFill>
                <a:uFillTx/>
                <a:latin typeface="Times New Roman"/>
                <a:hlinkClick r:id="rId98"/>
              </a:rPr>
              <a:t>Ø</a:t>
            </a:r>
            <a:r>
              <a:rPr b="0" lang="zh-CN" sz="700" spc="58" strike="noStrike" u="sng">
                <a:solidFill>
                  <a:srgbClr val="0000ff"/>
                </a:solidFill>
                <a:uFillTx/>
                <a:latin typeface="宋体"/>
                <a:hlinkClick r:id="rId99"/>
              </a:rPr>
              <a:t>司.::u;.，54rW…</a:t>
            </a:r>
            <a:r>
              <a:rPr b="0" lang="en-US" sz="700" spc="43" strike="noStrike" u="sng">
                <a:solidFill>
                  <a:srgbClr val="0000ff"/>
                </a:solidFill>
                <a:uFillTx/>
                <a:latin typeface="宋体"/>
                <a:hlinkClick r:id="rId100"/>
              </a:rPr>
              <a:t> </a:t>
            </a:r>
            <a:r>
              <a:rPr b="0" lang="zh-CN" sz="700" spc="94" strike="noStrike" u="sng">
                <a:solidFill>
                  <a:srgbClr val="0000ff"/>
                </a:solidFill>
                <a:uFillTx/>
                <a:latin typeface="宋体"/>
                <a:hlinkClick r:id="rId101"/>
              </a:rPr>
              <a:t>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bject 51"/>
          <p:cNvSpPr/>
          <p:nvPr/>
        </p:nvSpPr>
        <p:spPr>
          <a:xfrm>
            <a:off x="14064480" y="5767920"/>
            <a:ext cx="394560" cy="1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700" spc="-97" strike="noStrike" u="sng">
                <a:solidFill>
                  <a:srgbClr val="0000ff"/>
                </a:solidFill>
                <a:uFillTx/>
                <a:latin typeface="宋体"/>
                <a:hlinkClick r:id="rId102"/>
              </a:rPr>
              <a:t>..</a:t>
            </a:r>
            <a:r>
              <a:rPr b="0" lang="en-US" sz="700" spc="-46" strike="noStrike" u="sng">
                <a:solidFill>
                  <a:srgbClr val="0000ff"/>
                </a:solidFill>
                <a:uFillTx/>
                <a:latin typeface="宋体"/>
                <a:hlinkClick r:id="rId103"/>
              </a:rPr>
              <a:t>.</a:t>
            </a:r>
            <a:r>
              <a:rPr b="0" lang="en-US" sz="950" spc="-131" strike="noStrike" u="sng">
                <a:solidFill>
                  <a:srgbClr val="0000ff"/>
                </a:solidFill>
                <a:uFillTx/>
                <a:latin typeface="宋体"/>
                <a:hlinkClick r:id="rId104"/>
              </a:rPr>
              <a:t>..o:._</a:t>
            </a:r>
            <a:endParaRPr b="0" lang="en-US" sz="9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bject 52"/>
          <p:cNvSpPr/>
          <p:nvPr/>
        </p:nvSpPr>
        <p:spPr>
          <a:xfrm>
            <a:off x="13327200" y="5908320"/>
            <a:ext cx="83160" cy="88920"/>
          </a:xfrm>
          <a:custGeom>
            <a:avLst/>
            <a:gdLst>
              <a:gd name="textAreaLeft" fmla="*/ 0 w 83160"/>
              <a:gd name="textAreaRight" fmla="*/ 83520 w 83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3565" h="89247">
                <a:moveTo>
                  <a:pt x="0" y="0"/>
                </a:moveTo>
                <a:lnTo>
                  <a:pt x="83565" y="0"/>
                </a:lnTo>
                <a:lnTo>
                  <a:pt x="83565" y="89247"/>
                </a:lnTo>
                <a:lnTo>
                  <a:pt x="0" y="89247"/>
                </a:lnTo>
                <a:lnTo>
                  <a:pt x="0" y="0"/>
                </a:lnTo>
                <a:close/>
              </a:path>
            </a:pathLst>
          </a:cu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object 53"/>
          <p:cNvSpPr/>
          <p:nvPr/>
        </p:nvSpPr>
        <p:spPr>
          <a:xfrm>
            <a:off x="11998080" y="5895720"/>
            <a:ext cx="245196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700" spc="-72" strike="noStrike" u="sng">
                <a:solidFill>
                  <a:srgbClr val="0000ff"/>
                </a:solidFill>
                <a:uFillTx/>
                <a:latin typeface="宋体"/>
                <a:hlinkClick r:id="rId105"/>
              </a:rPr>
              <a:t>0'"&gt;&gt;'回-咽I'&gt;&gt;.I!回留."蜗曲......</a:t>
            </a:r>
            <a:r>
              <a:rPr b="0" lang="en-US" sz="700" spc="-41" strike="noStrike" u="sng">
                <a:solidFill>
                  <a:srgbClr val="0000ff"/>
                </a:solidFill>
                <a:uFillTx/>
                <a:latin typeface="宋体"/>
                <a:hlinkClick r:id="rId106"/>
              </a:rPr>
              <a:t>.</a:t>
            </a:r>
            <a:r>
              <a:rPr b="0" lang="en-US" sz="700" spc="-197" strike="noStrike" u="sng">
                <a:solidFill>
                  <a:srgbClr val="0000ff"/>
                </a:solidFill>
                <a:uFillTx/>
                <a:latin typeface="宋体"/>
                <a:hlinkClick r:id="rId107"/>
              </a:rPr>
              <a:t>'</a:t>
            </a:r>
            <a:r>
              <a:rPr b="0" lang="zh-CN" sz="700" spc="77" strike="noStrike" u="sng">
                <a:solidFill>
                  <a:srgbClr val="0000ff"/>
                </a:solidFill>
                <a:uFillTx/>
                <a:latin typeface="宋体"/>
                <a:hlinkClick r:id="rId108"/>
              </a:rPr>
              <a:t>咂咽，、阳-唱唱，n-.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bject 54"/>
          <p:cNvSpPr/>
          <p:nvPr/>
        </p:nvSpPr>
        <p:spPr>
          <a:xfrm>
            <a:off x="13862880" y="6026040"/>
            <a:ext cx="111240" cy="63360"/>
          </a:xfrm>
          <a:custGeom>
            <a:avLst/>
            <a:gdLst>
              <a:gd name="textAreaLeft" fmla="*/ 0 w 111240"/>
              <a:gd name="textAreaRight" fmla="*/ 111600 w 1112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11759" h="63748">
                <a:moveTo>
                  <a:pt x="0" y="0"/>
                </a:moveTo>
                <a:lnTo>
                  <a:pt x="111759" y="0"/>
                </a:lnTo>
                <a:lnTo>
                  <a:pt x="111759" y="63748"/>
                </a:lnTo>
                <a:lnTo>
                  <a:pt x="0" y="63748"/>
                </a:lnTo>
                <a:lnTo>
                  <a:pt x="0" y="0"/>
                </a:lnTo>
                <a:close/>
              </a:path>
            </a:pathLst>
          </a:cu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object 55"/>
          <p:cNvSpPr/>
          <p:nvPr/>
        </p:nvSpPr>
        <p:spPr>
          <a:xfrm>
            <a:off x="11998080" y="6017400"/>
            <a:ext cx="2464200" cy="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500" spc="52" strike="noStrike" u="sng">
                <a:solidFill>
                  <a:srgbClr val="0000ff"/>
                </a:solidFill>
                <a:uFillTx/>
                <a:latin typeface="宋体"/>
                <a:hlinkClick r:id="rId109"/>
              </a:rPr>
              <a:t>."缸，.....，町、』喃瞌嗣..</a:t>
            </a:r>
            <a:r>
              <a:rPr b="0" lang="en-US" sz="500" spc="32" strike="noStrike" u="sng">
                <a:solidFill>
                  <a:srgbClr val="0000ff"/>
                </a:solidFill>
                <a:uFillTx/>
                <a:latin typeface="宋体"/>
                <a:hlinkClick r:id="rId110"/>
              </a:rPr>
              <a:t> </a:t>
            </a:r>
            <a:r>
              <a:rPr b="0" lang="zh-CN" sz="500" spc="72" strike="noStrike" u="sng">
                <a:solidFill>
                  <a:srgbClr val="0000ff"/>
                </a:solidFill>
                <a:uFillTx/>
                <a:latin typeface="宋体"/>
                <a:hlinkClick r:id="rId111"/>
              </a:rPr>
              <a:t>区，也‘回</a:t>
            </a:r>
            <a:r>
              <a:rPr b="0" lang="en-US" sz="500" spc="32" strike="noStrike" u="sng">
                <a:solidFill>
                  <a:srgbClr val="0000ff"/>
                </a:solidFill>
                <a:uFillTx/>
                <a:latin typeface="宋体"/>
                <a:hlinkClick r:id="rId112"/>
              </a:rPr>
              <a:t> </a:t>
            </a:r>
            <a:r>
              <a:rPr b="0" lang="en-US" sz="500" spc="38" strike="noStrike" u="sng">
                <a:solidFill>
                  <a:srgbClr val="0000ff"/>
                </a:solidFill>
                <a:uFillTx/>
                <a:latin typeface="宋体"/>
                <a:hlinkClick r:id="rId113"/>
              </a:rPr>
              <a:t>.阳IUI.C</a:t>
            </a:r>
            <a:r>
              <a:rPr b="0" lang="zh-CN" sz="500" spc="-15" strike="noStrike" u="sng">
                <a:solidFill>
                  <a:srgbClr val="0000ff"/>
                </a:solidFill>
                <a:uFillTx/>
                <a:latin typeface="宋体"/>
                <a:hlinkClick r:id="rId114"/>
              </a:rPr>
              <a:t>嚣</a:t>
            </a:r>
            <a:r>
              <a:rPr b="0" lang="en-US" sz="500" spc="-236" strike="noStrike" u="sng">
                <a:solidFill>
                  <a:srgbClr val="0000ff"/>
                </a:solidFill>
                <a:uFillTx/>
                <a:latin typeface="Times New Roman"/>
                <a:hlinkClick r:id="rId115"/>
              </a:rPr>
              <a:t>f</a:t>
            </a:r>
            <a:r>
              <a:rPr b="0" lang="en-US" sz="500" spc="-301" strike="noStrike" u="sng">
                <a:solidFill>
                  <a:srgbClr val="0000ff"/>
                </a:solidFill>
                <a:uFillTx/>
                <a:latin typeface="Times New Roman"/>
                <a:hlinkClick r:id="rId116"/>
              </a:rPr>
              <a:t>t</a:t>
            </a:r>
            <a:r>
              <a:rPr b="0" lang="zh-CN" sz="500" spc="-457" strike="noStrike" u="sng">
                <a:solidFill>
                  <a:srgbClr val="0000ff"/>
                </a:solidFill>
                <a:uFillTx/>
                <a:latin typeface="宋体"/>
                <a:hlinkClick r:id="rId117"/>
              </a:rPr>
              <a:t>，</a:t>
            </a:r>
            <a:r>
              <a:rPr b="0" lang="zh-CN" sz="500" spc="24" strike="noStrike" u="sng">
                <a:solidFill>
                  <a:srgbClr val="0000ff"/>
                </a:solidFill>
                <a:uFillTx/>
                <a:latin typeface="宋体"/>
                <a:hlinkClick r:id="rId118"/>
              </a:rPr>
              <a:t>面回蝇'回1(1'圈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bject 56"/>
          <p:cNvSpPr/>
          <p:nvPr/>
        </p:nvSpPr>
        <p:spPr>
          <a:xfrm>
            <a:off x="12821040" y="6122160"/>
            <a:ext cx="360" cy="63360"/>
          </a:xfrm>
          <a:custGeom>
            <a:avLst/>
            <a:gdLst>
              <a:gd name="textAreaLeft" fmla="*/ 0 w 360"/>
              <a:gd name="textAreaRight" fmla="*/ 720 w 36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0" h="63748">
                <a:moveTo>
                  <a:pt x="0" y="63748"/>
                </a:moveTo>
                <a:lnTo>
                  <a:pt x="0" y="0"/>
                </a:lnTo>
              </a:path>
            </a:pathLst>
          </a:custGeom>
          <a:noFill/>
          <a:ln w="57149">
            <a:solidFill>
              <a:srgbClr val="efef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object 57"/>
          <p:cNvSpPr/>
          <p:nvPr/>
        </p:nvSpPr>
        <p:spPr>
          <a:xfrm>
            <a:off x="11993400" y="5827680"/>
            <a:ext cx="263484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4118" spc="-1747" strike="noStrike" u="sng" baseline="-14000">
                <a:solidFill>
                  <a:srgbClr val="0000ff"/>
                </a:solidFill>
                <a:uFillTx/>
                <a:latin typeface="Times New Roman"/>
                <a:hlinkClick r:id="rId119"/>
              </a:rPr>
              <a:t>e</a:t>
            </a:r>
            <a:r>
              <a:rPr b="0" lang="en-US" sz="500" spc="829" strike="noStrike" u="sng">
                <a:solidFill>
                  <a:srgbClr val="0000ff"/>
                </a:solidFill>
                <a:uFillTx/>
                <a:latin typeface="Times New Roman"/>
                <a:hlinkClick r:id="rId120"/>
              </a:rPr>
              <a:t>_</a:t>
            </a:r>
            <a:r>
              <a:rPr b="0" lang="en-US" sz="4118" spc="-452" strike="noStrike" u="sng" baseline="-14000">
                <a:solidFill>
                  <a:srgbClr val="0000ff"/>
                </a:solidFill>
                <a:uFillTx/>
                <a:latin typeface="Times New Roman"/>
                <a:hlinkClick r:id="rId121"/>
              </a:rPr>
              <a:t>.</a:t>
            </a:r>
            <a:r>
              <a:rPr b="0" lang="en-US" sz="4118" spc="-812" strike="noStrike" u="sng" baseline="-14000">
                <a:solidFill>
                  <a:srgbClr val="0000ff"/>
                </a:solidFill>
                <a:uFillTx/>
                <a:latin typeface="Times New Roman"/>
                <a:hlinkClick r:id="rId122"/>
              </a:rPr>
              <a:t>e</a:t>
            </a:r>
            <a:r>
              <a:rPr b="0" lang="en-US" sz="4118" spc="-667" strike="noStrike" u="sng" baseline="-14000">
                <a:solidFill>
                  <a:srgbClr val="0000ff"/>
                </a:solidFill>
                <a:uFillTx/>
                <a:latin typeface="Times New Roman"/>
                <a:hlinkClick r:id="rId123"/>
              </a:rPr>
              <a:t>o.</a:t>
            </a:r>
            <a:r>
              <a:rPr b="0" lang="en-US" sz="4118" spc="-945" strike="noStrike" u="sng" baseline="-14000">
                <a:solidFill>
                  <a:srgbClr val="0000ff"/>
                </a:solidFill>
                <a:uFillTx/>
                <a:latin typeface="Times New Roman"/>
                <a:hlinkClick r:id="rId124"/>
              </a:rPr>
              <a:t>.</a:t>
            </a:r>
            <a:r>
              <a:rPr b="0" lang="en-US" sz="500" spc="1169" strike="noStrike" u="sng">
                <a:solidFill>
                  <a:srgbClr val="0000ff"/>
                </a:solidFill>
                <a:uFillTx/>
                <a:latin typeface="Times New Roman"/>
                <a:hlinkClick r:id="rId125"/>
              </a:rPr>
              <a:t>IM</a:t>
            </a:r>
            <a:r>
              <a:rPr b="0" lang="en-US" sz="500" spc="-12" strike="noStrike" u="sng">
                <a:solidFill>
                  <a:srgbClr val="0000ff"/>
                </a:solidFill>
                <a:uFillTx/>
                <a:latin typeface="Times New Roman"/>
                <a:hlinkClick r:id="rId126"/>
              </a:rPr>
              <a:t> </a:t>
            </a:r>
            <a:r>
              <a:rPr b="0" lang="zh-CN" sz="500" spc="-287" strike="noStrike" u="sng">
                <a:solidFill>
                  <a:srgbClr val="0000ff"/>
                </a:solidFill>
                <a:uFillTx/>
                <a:latin typeface="宋体"/>
                <a:hlinkClick r:id="rId127"/>
              </a:rPr>
              <a:t>，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  <a:hlinkClick r:id="rId128"/>
              </a:rPr>
              <a:t>位</a:t>
            </a:r>
            <a:r>
              <a:rPr b="0" lang="en-US" sz="800" spc="32" strike="noStrike" u="sng">
                <a:solidFill>
                  <a:srgbClr val="0000ff"/>
                </a:solidFill>
                <a:uFillTx/>
                <a:latin typeface="Times New Roman"/>
                <a:hlinkClick r:id="rId129"/>
              </a:rPr>
              <a:t>a</a:t>
            </a:r>
            <a:r>
              <a:rPr b="0" lang="zh-CN" sz="500" spc="38" strike="noStrike" u="sng">
                <a:solidFill>
                  <a:srgbClr val="0000ff"/>
                </a:solidFill>
                <a:uFillTx/>
                <a:latin typeface="宋体"/>
                <a:hlinkClick r:id="rId130"/>
              </a:rPr>
              <a:t>嗣嗣帽.."回‘自帽，也--</a:t>
            </a:r>
            <a:r>
              <a:rPr b="0" lang="zh-CN" sz="500" spc="83" strike="noStrike" u="sng">
                <a:solidFill>
                  <a:srgbClr val="0000ff"/>
                </a:solidFill>
                <a:uFillTx/>
                <a:latin typeface="宋体"/>
                <a:hlinkClick r:id="rId131"/>
              </a:rPr>
              <a:t>啻</a:t>
            </a:r>
            <a:r>
              <a:rPr b="0" i="1" lang="en-US" sz="600" spc="148" strike="noStrike" u="sng">
                <a:solidFill>
                  <a:srgbClr val="0000ff"/>
                </a:solidFill>
                <a:uFillTx/>
                <a:latin typeface="Times New Roman"/>
                <a:hlinkClick r:id="rId132"/>
              </a:rPr>
              <a:t>.</a:t>
            </a:r>
            <a:r>
              <a:rPr b="0" i="1" lang="en-US" sz="600" spc="522" strike="noStrike" u="sng">
                <a:solidFill>
                  <a:srgbClr val="0000ff"/>
                </a:solidFill>
                <a:uFillTx/>
                <a:latin typeface="Times New Roman"/>
                <a:hlinkClick r:id="rId133"/>
              </a:rPr>
              <a:t>W</a:t>
            </a:r>
            <a:r>
              <a:rPr b="0" lang="zh-CN" sz="500" spc="77" strike="noStrike" u="sng">
                <a:solidFill>
                  <a:srgbClr val="0000ff"/>
                </a:solidFill>
                <a:uFillTx/>
                <a:latin typeface="宋体"/>
                <a:hlinkClick r:id="rId134"/>
              </a:rPr>
              <a:t>响0.....</a:t>
            </a:r>
            <a:r>
              <a:rPr b="0" lang="zh-CN" sz="500" spc="103" strike="noStrike" u="sng">
                <a:solidFill>
                  <a:srgbClr val="0000ff"/>
                </a:solidFill>
                <a:uFillTx/>
                <a:latin typeface="宋体"/>
                <a:hlinkClick r:id="rId135"/>
              </a:rPr>
              <a:t>幢</a:t>
            </a:r>
            <a:r>
              <a:rPr b="0" lang="en-US" sz="550" spc="423" strike="noStrike" u="sng">
                <a:solidFill>
                  <a:srgbClr val="0000ff"/>
                </a:solidFill>
                <a:uFillTx/>
                <a:latin typeface="Arial"/>
                <a:hlinkClick r:id="rId136"/>
              </a:rPr>
              <a:t>pd</a:t>
            </a:r>
            <a:endParaRPr b="0" lang="en-US" sz="5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bject 58"/>
          <p:cNvSpPr/>
          <p:nvPr/>
        </p:nvSpPr>
        <p:spPr>
          <a:xfrm>
            <a:off x="12066480" y="6217560"/>
            <a:ext cx="96120" cy="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zh-CN" sz="400" spc="154" strike="noStrike" u="sng">
                <a:solidFill>
                  <a:srgbClr val="0000ff"/>
                </a:solidFill>
                <a:uFillTx/>
                <a:latin typeface="宋体"/>
                <a:hlinkClick r:id="rId137"/>
              </a:rPr>
              <a:t>咽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bject 59"/>
          <p:cNvSpPr/>
          <p:nvPr/>
        </p:nvSpPr>
        <p:spPr>
          <a:xfrm>
            <a:off x="12468960" y="6185520"/>
            <a:ext cx="21542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zh-CN" sz="450" spc="77" strike="noStrike" u="sng">
                <a:solidFill>
                  <a:srgbClr val="0000ff"/>
                </a:solidFill>
                <a:uFillTx/>
                <a:latin typeface="宋体"/>
                <a:hlinkClick r:id="rId138"/>
              </a:rPr>
              <a:t>可:.wr白蜡</a:t>
            </a:r>
            <a:r>
              <a:rPr b="0" lang="en-US" sz="450" spc="-160" strike="noStrike" u="sng">
                <a:solidFill>
                  <a:srgbClr val="0000ff"/>
                </a:solidFill>
                <a:uFillTx/>
                <a:latin typeface="宋体"/>
                <a:hlinkClick r:id="rId139"/>
              </a:rPr>
              <a:t> </a:t>
            </a:r>
            <a:r>
              <a:rPr b="0" lang="en-US" sz="650" spc="-114" strike="noStrike" u="sng">
                <a:solidFill>
                  <a:srgbClr val="0000ff"/>
                </a:solidFill>
                <a:uFillTx/>
                <a:latin typeface="Arial"/>
                <a:hlinkClick r:id="rId140"/>
              </a:rPr>
              <a:t>C</a:t>
            </a:r>
            <a:r>
              <a:rPr b="0" lang="zh-CN" sz="500" spc="157" strike="noStrike" u="sng">
                <a:solidFill>
                  <a:srgbClr val="0000ff"/>
                </a:solidFill>
                <a:uFillTx/>
                <a:latin typeface="宋体"/>
                <a:hlinkClick r:id="rId141"/>
              </a:rPr>
              <a:t>匾曲</a:t>
            </a:r>
            <a:r>
              <a:rPr b="0" lang="en-US" sz="500" spc="77" strike="noStrike" u="sng">
                <a:solidFill>
                  <a:srgbClr val="0000ff"/>
                </a:solidFill>
                <a:uFillTx/>
                <a:latin typeface="宋体"/>
                <a:hlinkClick r:id="rId142"/>
              </a:rPr>
              <a:t> </a:t>
            </a:r>
            <a:r>
              <a:rPr b="0" lang="zh-CN" sz="500" spc="117" strike="noStrike" u="sng">
                <a:solidFill>
                  <a:srgbClr val="0000ff"/>
                </a:solidFill>
                <a:uFillTx/>
                <a:latin typeface="宋体"/>
                <a:hlinkClick r:id="rId143"/>
              </a:rPr>
              <a:t>由...喝声…田""吨'因四"'''白，由</a:t>
            </a:r>
            <a:r>
              <a:rPr b="0" lang="en-US" sz="500" spc="-151" strike="noStrike" u="sng">
                <a:solidFill>
                  <a:srgbClr val="0000ff"/>
                </a:solidFill>
                <a:uFillTx/>
                <a:latin typeface="宋体"/>
                <a:hlinkClick r:id="rId144"/>
              </a:rPr>
              <a:t> </a:t>
            </a:r>
            <a:r>
              <a:rPr b="0" lang="en-US" sz="500" spc="162" strike="noStrike" u="sng">
                <a:solidFill>
                  <a:srgbClr val="0000ff"/>
                </a:solidFill>
                <a:uFillTx/>
                <a:latin typeface="Times New Roman"/>
                <a:hlinkClick r:id="rId145"/>
              </a:rPr>
              <a:t>R</a:t>
            </a:r>
            <a:r>
              <a:rPr b="0" lang="zh-CN" sz="450" spc="253" strike="noStrike" u="sng">
                <a:solidFill>
                  <a:srgbClr val="0000ff"/>
                </a:solidFill>
                <a:uFillTx/>
                <a:latin typeface="宋体"/>
                <a:hlinkClick r:id="rId146"/>
              </a:rPr>
              <a:t>回</a:t>
            </a:r>
            <a:endParaRPr b="0" lang="en-US" sz="4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ject 60"/>
          <p:cNvSpPr/>
          <p:nvPr/>
        </p:nvSpPr>
        <p:spPr>
          <a:xfrm>
            <a:off x="14142240" y="6405840"/>
            <a:ext cx="75960" cy="63360"/>
          </a:xfrm>
          <a:custGeom>
            <a:avLst/>
            <a:gdLst>
              <a:gd name="textAreaLeft" fmla="*/ 0 w 75960"/>
              <a:gd name="textAreaRight" fmla="*/ 76320 w 7596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6200" h="63748">
                <a:moveTo>
                  <a:pt x="0" y="0"/>
                </a:moveTo>
                <a:lnTo>
                  <a:pt x="76200" y="0"/>
                </a:lnTo>
                <a:lnTo>
                  <a:pt x="76200" y="63748"/>
                </a:lnTo>
                <a:lnTo>
                  <a:pt x="0" y="63748"/>
                </a:lnTo>
                <a:lnTo>
                  <a:pt x="0" y="0"/>
                </a:lnTo>
                <a:close/>
              </a:path>
            </a:pathLst>
          </a:cu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object 61"/>
          <p:cNvSpPr/>
          <p:nvPr/>
        </p:nvSpPr>
        <p:spPr>
          <a:xfrm>
            <a:off x="11998080" y="6289920"/>
            <a:ext cx="27086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 indent="4320">
              <a:lnSpc>
                <a:spcPct val="120000"/>
              </a:lnSpc>
              <a:tabLst>
                <a:tab algn="l" pos="0"/>
              </a:tabLst>
            </a:pPr>
            <a:r>
              <a:rPr b="0" lang="zh-CN" sz="500" spc="180" strike="noStrike" u="sng">
                <a:solidFill>
                  <a:srgbClr val="0000ff"/>
                </a:solidFill>
                <a:uFillTx/>
                <a:latin typeface="宋体"/>
                <a:hlinkClick r:id="rId147"/>
              </a:rPr>
              <a:t>恤'也c-rr霄'由屿'缸"阳   </a:t>
            </a:r>
            <a:r>
              <a:rPr b="0" lang="zh-CN" sz="500" spc="248" strike="noStrike" u="sng">
                <a:solidFill>
                  <a:srgbClr val="0000ff"/>
                </a:solidFill>
                <a:uFillTx/>
                <a:latin typeface="宋体"/>
                <a:hlinkClick r:id="rId148"/>
              </a:rPr>
              <a:t>砸自崎</a:t>
            </a:r>
            <a:r>
              <a:rPr b="0" lang="en-US" sz="500" spc="157" strike="noStrike" u="sng">
                <a:solidFill>
                  <a:srgbClr val="0000ff"/>
                </a:solidFill>
                <a:uFillTx/>
                <a:latin typeface="宋体"/>
                <a:hlinkClick r:id="rId149"/>
              </a:rPr>
              <a:t>.</a:t>
            </a:r>
            <a:r>
              <a:rPr b="0" lang="en-US" sz="500" spc="4" strike="noStrike" u="sng">
                <a:solidFill>
                  <a:srgbClr val="0000ff"/>
                </a:solidFill>
                <a:uFillTx/>
                <a:latin typeface="宋体"/>
                <a:hlinkClick r:id="rId150"/>
              </a:rPr>
              <a:t>(lPIIn'Ì.币、)ft 喃..Ô' </a:t>
            </a:r>
            <a:r>
              <a:rPr b="0" lang="zh-CN" sz="500" spc="313" strike="noStrike" u="sng">
                <a:solidFill>
                  <a:srgbClr val="0000ff"/>
                </a:solidFill>
                <a:uFillTx/>
                <a:latin typeface="宋体"/>
                <a:hlinkClick r:id="rId151"/>
              </a:rPr>
              <a:t>自圃'咽'南川崎阳咀酣帆睛，幽幽阳蝠_</a:t>
            </a:r>
            <a:r>
              <a:rPr b="0" lang="en-US" sz="500" spc="-211" strike="noStrike" u="sng">
                <a:solidFill>
                  <a:srgbClr val="0000ff"/>
                </a:solidFill>
                <a:uFillTx/>
                <a:latin typeface="宋体"/>
                <a:hlinkClick r:id="rId152"/>
              </a:rPr>
              <a:t> </a:t>
            </a:r>
            <a:r>
              <a:rPr b="0" lang="en-US" sz="500" spc="398" strike="noStrike" u="sng">
                <a:solidFill>
                  <a:srgbClr val="0000ff"/>
                </a:solidFill>
                <a:uFillTx/>
                <a:latin typeface="宋体"/>
                <a:hlinkClick r:id="rId153"/>
              </a:rPr>
              <a:t>'	</a:t>
            </a:r>
            <a:r>
              <a:rPr b="0" lang="en-US" sz="500" spc="-222" strike="noStrike" u="sng">
                <a:solidFill>
                  <a:srgbClr val="0000ff"/>
                </a:solidFill>
                <a:uFillTx/>
                <a:latin typeface="宋体"/>
                <a:hlinkClick r:id="rId154"/>
              </a:rPr>
              <a:t>;</a:t>
            </a:r>
            <a:r>
              <a:rPr b="0" lang="en-US" sz="500" spc="43" strike="noStrike" u="sng">
                <a:solidFill>
                  <a:srgbClr val="0000ff"/>
                </a:solidFill>
                <a:uFillTx/>
                <a:latin typeface="宋体"/>
                <a:hlinkClick r:id="rId155"/>
              </a:rPr>
              <a:t>I!CLII画刷刷。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bject 62"/>
          <p:cNvSpPr/>
          <p:nvPr/>
        </p:nvSpPr>
        <p:spPr>
          <a:xfrm>
            <a:off x="14452200" y="6501600"/>
            <a:ext cx="360" cy="63360"/>
          </a:xfrm>
          <a:custGeom>
            <a:avLst/>
            <a:gdLst>
              <a:gd name="textAreaLeft" fmla="*/ 0 w 360"/>
              <a:gd name="textAreaRight" fmla="*/ 720 w 36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0" h="63747">
                <a:moveTo>
                  <a:pt x="0" y="0"/>
                </a:moveTo>
                <a:lnTo>
                  <a:pt x="0" y="63747"/>
                </a:lnTo>
                <a:lnTo>
                  <a:pt x="0" y="0"/>
                </a:lnTo>
                <a:close/>
              </a:path>
            </a:pathLst>
          </a:cu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object 63"/>
          <p:cNvSpPr/>
          <p:nvPr/>
        </p:nvSpPr>
        <p:spPr>
          <a:xfrm>
            <a:off x="11998080" y="6480000"/>
            <a:ext cx="2659680" cy="1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500" spc="128" strike="noStrike" u="sng">
                <a:solidFill>
                  <a:srgbClr val="0000ff"/>
                </a:solidFill>
                <a:uFillTx/>
                <a:latin typeface="Arial"/>
                <a:hlinkClick r:id="rId156"/>
              </a:rPr>
              <a:t>B</a:t>
            </a:r>
            <a:r>
              <a:rPr b="0" lang="zh-CN" sz="600" spc="-41" strike="noStrike" u="sng">
                <a:solidFill>
                  <a:srgbClr val="0000ff"/>
                </a:solidFill>
                <a:uFillTx/>
                <a:latin typeface="宋体"/>
                <a:hlinkClick r:id="rId157"/>
              </a:rPr>
              <a:t>咀"缸..."，</a:t>
            </a:r>
            <a:r>
              <a:rPr b="0" lang="en-US" sz="600" spc="-245" strike="noStrike" u="sng">
                <a:solidFill>
                  <a:srgbClr val="0000ff"/>
                </a:solidFill>
                <a:uFillTx/>
                <a:latin typeface="宋体"/>
                <a:hlinkClick r:id="rId158"/>
              </a:rPr>
              <a:t> </a:t>
            </a:r>
            <a:r>
              <a:rPr b="0" lang="en-US" sz="600" spc="1322" strike="noStrike" u="sng">
                <a:solidFill>
                  <a:srgbClr val="0000ff"/>
                </a:solidFill>
                <a:uFillTx/>
                <a:latin typeface="宋体"/>
                <a:hlinkClick r:id="rId159"/>
              </a:rPr>
              <a:t>_</a:t>
            </a:r>
            <a:r>
              <a:rPr b="0" lang="en-US" sz="600" spc="-165" strike="noStrike" u="sng">
                <a:solidFill>
                  <a:srgbClr val="0000ff"/>
                </a:solidFill>
                <a:uFillTx/>
                <a:latin typeface="宋体"/>
                <a:hlinkClick r:id="rId160"/>
              </a:rPr>
              <a:t> </a:t>
            </a:r>
            <a:r>
              <a:rPr b="0" lang="en-US" sz="500" spc="182" strike="noStrike" u="sng">
                <a:solidFill>
                  <a:srgbClr val="0000ff"/>
                </a:solidFill>
                <a:uFillTx/>
                <a:latin typeface="宋体"/>
                <a:hlinkClick r:id="rId161"/>
              </a:rPr>
              <a:t>af'edi唱iJ </a:t>
            </a:r>
            <a:r>
              <a:rPr b="0" lang="en-US" sz="500" spc="-80" strike="noStrike" u="sng">
                <a:solidFill>
                  <a:srgbClr val="0000ff"/>
                </a:solidFill>
                <a:uFillTx/>
                <a:latin typeface="宋体"/>
                <a:hlinkClick r:id="rId162"/>
              </a:rPr>
              <a:t> </a:t>
            </a:r>
            <a:r>
              <a:rPr b="0" lang="zh-CN" sz="500" spc="262" strike="noStrike" u="sng">
                <a:solidFill>
                  <a:srgbClr val="0000ff"/>
                </a:solidFill>
                <a:uFillTx/>
                <a:latin typeface="宋体"/>
                <a:hlinkClick r:id="rId163"/>
              </a:rPr>
              <a:t>毗时-町'甸'由匾...自由 </a:t>
            </a:r>
            <a:r>
              <a:rPr b="0" lang="en-US" sz="500" spc="-35" strike="noStrike" u="sng">
                <a:solidFill>
                  <a:srgbClr val="0000ff"/>
                </a:solidFill>
                <a:uFillTx/>
                <a:latin typeface="宋体"/>
                <a:hlinkClick r:id="rId164"/>
              </a:rPr>
              <a:t> </a:t>
            </a:r>
            <a:r>
              <a:rPr b="0" lang="en-US" sz="500" spc="182" strike="noStrike" u="sng">
                <a:solidFill>
                  <a:srgbClr val="0000ff"/>
                </a:solidFill>
                <a:uFillTx/>
                <a:latin typeface="宋体"/>
                <a:hlinkClick r:id="rId165"/>
              </a:rPr>
              <a:t>.回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bject 64"/>
          <p:cNvSpPr/>
          <p:nvPr/>
        </p:nvSpPr>
        <p:spPr>
          <a:xfrm>
            <a:off x="13329360" y="6602400"/>
            <a:ext cx="360" cy="63360"/>
          </a:xfrm>
          <a:custGeom>
            <a:avLst/>
            <a:gdLst>
              <a:gd name="textAreaLeft" fmla="*/ 0 w 360"/>
              <a:gd name="textAreaRight" fmla="*/ 720 w 36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0" h="63748">
                <a:moveTo>
                  <a:pt x="0" y="63748"/>
                </a:moveTo>
                <a:lnTo>
                  <a:pt x="0" y="0"/>
                </a:lnTo>
              </a:path>
            </a:pathLst>
          </a:custGeom>
          <a:noFill/>
          <a:ln w="21589">
            <a:solidFill>
              <a:srgbClr val="dddf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object 65"/>
          <p:cNvSpPr/>
          <p:nvPr/>
        </p:nvSpPr>
        <p:spPr>
          <a:xfrm>
            <a:off x="12998880" y="6689160"/>
            <a:ext cx="83520" cy="63360"/>
          </a:xfrm>
          <a:custGeom>
            <a:avLst/>
            <a:gdLst>
              <a:gd name="textAreaLeft" fmla="*/ 0 w 83520"/>
              <a:gd name="textAreaRight" fmla="*/ 83880 w 835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83819" h="63748">
                <a:moveTo>
                  <a:pt x="0" y="0"/>
                </a:moveTo>
                <a:lnTo>
                  <a:pt x="83820" y="0"/>
                </a:lnTo>
                <a:lnTo>
                  <a:pt x="83820" y="63748"/>
                </a:lnTo>
                <a:lnTo>
                  <a:pt x="0" y="63748"/>
                </a:lnTo>
                <a:lnTo>
                  <a:pt x="0" y="0"/>
                </a:lnTo>
                <a:close/>
              </a:path>
            </a:pathLst>
          </a:cu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object 66"/>
          <p:cNvSpPr/>
          <p:nvPr/>
        </p:nvSpPr>
        <p:spPr>
          <a:xfrm>
            <a:off x="12176280" y="6504480"/>
            <a:ext cx="24310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0640" algn="ctr">
              <a:lnSpc>
                <a:spcPts val="1361"/>
              </a:lnSpc>
            </a:pPr>
            <a:r>
              <a:rPr b="0" lang="zh-CN" sz="450" spc="562" strike="noStrike" u="sng">
                <a:solidFill>
                  <a:srgbClr val="0000ff"/>
                </a:solidFill>
                <a:uFillTx/>
                <a:latin typeface="宋体"/>
                <a:hlinkClick r:id="rId166"/>
              </a:rPr>
              <a:t>融</a:t>
            </a:r>
            <a:r>
              <a:rPr b="0" lang="en-US" sz="600" spc="94" strike="noStrike" u="sng">
                <a:solidFill>
                  <a:srgbClr val="0000ff"/>
                </a:solidFill>
                <a:uFillTx/>
                <a:latin typeface="Times New Roman"/>
                <a:hlinkClick r:id="rId167"/>
              </a:rPr>
              <a:t>b</a:t>
            </a:r>
            <a:r>
              <a:rPr b="0" lang="zh-CN" sz="500" spc="239" strike="noStrike" u="sng">
                <a:solidFill>
                  <a:srgbClr val="0000ff"/>
                </a:solidFill>
                <a:uFillTx/>
                <a:latin typeface="宋体"/>
                <a:hlinkClick r:id="rId168"/>
              </a:rPr>
              <a:t>酬</a:t>
            </a:r>
            <a:r>
              <a:rPr b="0" lang="en-US" sz="500" spc="117" strike="noStrike" u="sng">
                <a:solidFill>
                  <a:srgbClr val="0000ff"/>
                </a:solidFill>
                <a:uFillTx/>
                <a:latin typeface="宋体"/>
                <a:hlinkClick r:id="rId169"/>
              </a:rPr>
              <a:t> </a:t>
            </a:r>
            <a:r>
              <a:rPr b="0" lang="zh-CN" sz="500" spc="222" strike="noStrike" u="sng">
                <a:solidFill>
                  <a:srgbClr val="0000ff"/>
                </a:solidFill>
                <a:uFillTx/>
                <a:latin typeface="宋体"/>
                <a:hlinkClick r:id="rId170"/>
              </a:rPr>
              <a:t>回回凰翩嚣副民"</a:t>
            </a:r>
            <a:r>
              <a:rPr b="0" lang="en-US" sz="500" spc="-35" strike="noStrike" u="sng">
                <a:solidFill>
                  <a:srgbClr val="0000ff"/>
                </a:solidFill>
                <a:uFillTx/>
                <a:latin typeface="宋体"/>
                <a:hlinkClick r:id="rId171"/>
              </a:rPr>
              <a:t>"</a:t>
            </a:r>
            <a:r>
              <a:rPr b="0" lang="zh-CN" sz="500" spc="-350" strike="noStrike" u="sng">
                <a:solidFill>
                  <a:srgbClr val="0000ff"/>
                </a:solidFill>
                <a:uFillTx/>
                <a:latin typeface="宋体"/>
                <a:hlinkClick r:id="rId172"/>
              </a:rPr>
              <a:t>一</a:t>
            </a:r>
            <a:r>
              <a:rPr b="0" lang="en-US" sz="500" spc="-151" strike="noStrike" u="sng">
                <a:solidFill>
                  <a:srgbClr val="0000ff"/>
                </a:solidFill>
                <a:uFillTx/>
                <a:latin typeface="宋体"/>
                <a:hlinkClick r:id="rId173"/>
              </a:rPr>
              <a:t> </a:t>
            </a:r>
            <a:r>
              <a:rPr b="0" lang="zh-CN" sz="500" spc="12" strike="noStrike" u="sng">
                <a:solidFill>
                  <a:srgbClr val="0000ff"/>
                </a:solidFill>
                <a:uFillTx/>
                <a:latin typeface="宋体"/>
                <a:hlinkClick r:id="rId174"/>
              </a:rPr>
              <a:t>哩事瞌</a:t>
            </a:r>
            <a:r>
              <a:rPr b="0" lang="en-US" sz="500" spc="-55" strike="noStrike" u="sng">
                <a:solidFill>
                  <a:srgbClr val="0000ff"/>
                </a:solidFill>
                <a:uFillTx/>
                <a:latin typeface="宋体"/>
                <a:hlinkClick r:id="rId175"/>
              </a:rPr>
              <a:t> </a:t>
            </a:r>
            <a:r>
              <a:rPr b="0" lang="en-US" sz="600" spc="324" strike="noStrike" u="sng">
                <a:solidFill>
                  <a:srgbClr val="0000ff"/>
                </a:solidFill>
                <a:uFillTx/>
                <a:latin typeface="Times New Roman"/>
                <a:hlinkClick r:id="rId176"/>
              </a:rPr>
              <a:t>U</a:t>
            </a:r>
            <a:r>
              <a:rPr b="0" lang="en-US" sz="600" spc="259" strike="noStrike" u="sng">
                <a:solidFill>
                  <a:srgbClr val="0000ff"/>
                </a:solidFill>
                <a:uFillTx/>
                <a:latin typeface="Times New Roman"/>
                <a:hlinkClick r:id="rId177"/>
              </a:rPr>
              <a:t>O</a:t>
            </a:r>
            <a:r>
              <a:rPr b="0" lang="zh-CN" sz="500" spc="182" strike="noStrike" u="sng">
                <a:solidFill>
                  <a:srgbClr val="0000ff"/>
                </a:solidFill>
                <a:uFillTx/>
                <a:latin typeface="宋体"/>
                <a:hlinkClick r:id="rId178"/>
              </a:rPr>
              <a:t>吨"</a:t>
            </a:r>
            <a:r>
              <a:rPr b="0" lang="zh-CN" sz="500" spc="174" strike="noStrike" u="sng">
                <a:solidFill>
                  <a:srgbClr val="0000ff"/>
                </a:solidFill>
                <a:uFillTx/>
                <a:latin typeface="宋体"/>
                <a:hlinkClick r:id="rId179"/>
              </a:rPr>
              <a:t>凰</a:t>
            </a:r>
            <a:r>
              <a:rPr b="0" i="1" lang="en-US" sz="1200" spc="109" strike="noStrike" u="sng">
                <a:solidFill>
                  <a:srgbClr val="0000ff"/>
                </a:solidFill>
                <a:uFillTx/>
                <a:latin typeface="Times New Roman"/>
                <a:hlinkClick r:id="rId180"/>
              </a:rPr>
              <a:t>m.</a:t>
            </a:r>
            <a:r>
              <a:rPr b="0" i="1" lang="en-US" sz="1200" spc="103" strike="noStrike" u="sng">
                <a:solidFill>
                  <a:srgbClr val="0000ff"/>
                </a:solidFill>
                <a:uFillTx/>
                <a:latin typeface="Times New Roman"/>
                <a:hlinkClick r:id="rId181"/>
              </a:rPr>
              <a:t>"</a:t>
            </a:r>
            <a:r>
              <a:rPr b="0" lang="zh-CN" sz="550" spc="83" strike="noStrike" u="sng">
                <a:solidFill>
                  <a:srgbClr val="0000ff"/>
                </a:solidFill>
                <a:uFillTx/>
                <a:latin typeface="宋体"/>
                <a:hlinkClick r:id="rId182"/>
              </a:rPr>
              <a:t>审W7'</a:t>
            </a:r>
            <a:r>
              <a:rPr b="0" lang="en-US" sz="550" spc="72" strike="noStrike" u="sng">
                <a:solidFill>
                  <a:srgbClr val="0000ff"/>
                </a:solidFill>
                <a:uFillTx/>
                <a:latin typeface="宋体"/>
                <a:hlinkClick r:id="rId183"/>
              </a:rPr>
              <a:t>0</a:t>
            </a:r>
            <a:r>
              <a:rPr b="0" lang="en-US" sz="600" spc="219" strike="noStrike" u="sng">
                <a:solidFill>
                  <a:srgbClr val="0000ff"/>
                </a:solidFill>
                <a:uFillTx/>
                <a:latin typeface="Times New Roman"/>
                <a:hlinkClick r:id="rId184"/>
              </a:rPr>
              <a:t>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666"/>
              </a:lnSpc>
            </a:pPr>
            <a:r>
              <a:rPr b="0" lang="en-US" sz="500" spc="123" strike="noStrike" u="sng">
                <a:solidFill>
                  <a:srgbClr val="0000ff"/>
                </a:solidFill>
                <a:uFillTx/>
                <a:latin typeface="宋体"/>
                <a:hlinkClick r:id="rId185"/>
              </a:rPr>
              <a:t>.霄'‘自由</a:t>
            </a:r>
            <a:r>
              <a:rPr b="0" lang="en-US" sz="500" spc="72" strike="noStrike" u="sng">
                <a:solidFill>
                  <a:srgbClr val="0000ff"/>
                </a:solidFill>
                <a:uFillTx/>
                <a:latin typeface="宋体"/>
                <a:hlinkClick r:id="rId186"/>
              </a:rPr>
              <a:t> </a:t>
            </a:r>
            <a:r>
              <a:rPr b="0" lang="en-US" sz="500" spc="109" strike="noStrike" u="sng">
                <a:solidFill>
                  <a:srgbClr val="0000ff"/>
                </a:solidFill>
                <a:uFillTx/>
                <a:latin typeface="宋体"/>
                <a:hlinkClick r:id="rId187"/>
              </a:rPr>
              <a:t>ø:呵地</a:t>
            </a:r>
            <a:r>
              <a:rPr b="0" lang="zh-CN" sz="500" spc="162" strike="noStrike" u="sng">
                <a:solidFill>
                  <a:srgbClr val="0000ff"/>
                </a:solidFill>
                <a:uFillTx/>
                <a:latin typeface="宋体"/>
                <a:hlinkClick r:id="rId188"/>
              </a:rPr>
              <a:t>配</a:t>
            </a:r>
            <a:r>
              <a:rPr b="0" lang="en-US" sz="550" spc="38" strike="noStrike" u="sng">
                <a:solidFill>
                  <a:srgbClr val="0000ff"/>
                </a:solidFill>
                <a:uFillTx/>
                <a:latin typeface="Arial"/>
                <a:hlinkClick r:id="rId189"/>
              </a:rPr>
              <a:t>Q</a:t>
            </a:r>
            <a:r>
              <a:rPr b="0" lang="en-US" sz="550" spc="-97" strike="noStrike" u="sng">
                <a:solidFill>
                  <a:srgbClr val="0000ff"/>
                </a:solidFill>
                <a:uFillTx/>
                <a:latin typeface="Arial"/>
                <a:hlinkClick r:id="rId190"/>
              </a:rPr>
              <a:t> </a:t>
            </a:r>
            <a:r>
              <a:rPr b="0" lang="zh-CN" sz="500" spc="-367" strike="noStrike" u="sng">
                <a:solidFill>
                  <a:srgbClr val="0000ff"/>
                </a:solidFill>
                <a:uFillTx/>
                <a:latin typeface="宋体"/>
                <a:hlinkClick r:id="rId191"/>
              </a:rPr>
              <a:t>，</a:t>
            </a:r>
            <a:r>
              <a:rPr b="0" lang="en-US" sz="500" spc="208" strike="noStrike" u="sng">
                <a:solidFill>
                  <a:srgbClr val="0000ff"/>
                </a:solidFill>
                <a:uFillTx/>
                <a:latin typeface="宋体"/>
                <a:hlinkClick r:id="rId192"/>
              </a:rPr>
              <a:t>-回回回Ø'U</a:t>
            </a:r>
            <a:r>
              <a:rPr b="0" lang="en-US" sz="500" spc="-151" strike="noStrike" u="sng">
                <a:solidFill>
                  <a:srgbClr val="0000ff"/>
                </a:solidFill>
                <a:uFillTx/>
                <a:latin typeface="宋体"/>
                <a:hlinkClick r:id="rId193"/>
              </a:rPr>
              <a:t> </a:t>
            </a:r>
            <a:r>
              <a:rPr b="0" lang="en-US" sz="650" spc="-55" strike="noStrike" u="sng">
                <a:solidFill>
                  <a:srgbClr val="0000ff"/>
                </a:solidFill>
                <a:uFillTx/>
                <a:latin typeface="宋体"/>
                <a:hlinkClick r:id="rId194"/>
              </a:rPr>
              <a:t>l!n"Q</a:t>
            </a:r>
            <a:r>
              <a:rPr b="0" lang="en-US" sz="650" spc="-250" strike="noStrike" u="sng">
                <a:solidFill>
                  <a:srgbClr val="0000ff"/>
                </a:solidFill>
                <a:uFillTx/>
                <a:latin typeface="宋体"/>
                <a:hlinkClick r:id="rId195"/>
              </a:rPr>
              <a:t> </a:t>
            </a:r>
            <a:r>
              <a:rPr b="0" lang="en-US" sz="700" spc="-52" strike="noStrike" u="sng">
                <a:solidFill>
                  <a:srgbClr val="0000ff"/>
                </a:solidFill>
                <a:uFillTx/>
                <a:latin typeface="宋体"/>
                <a:hlinkClick r:id="rId196"/>
              </a:rPr>
              <a:t>VøI。翩。</a:t>
            </a:r>
            <a:r>
              <a:rPr b="0" lang="zh-CN" sz="700" spc="-80" strike="noStrike" u="sng">
                <a:solidFill>
                  <a:srgbClr val="0000ff"/>
                </a:solidFill>
                <a:uFillTx/>
                <a:latin typeface="宋体"/>
                <a:hlinkClick r:id="rId197"/>
              </a:rPr>
              <a:t>酌</a:t>
            </a:r>
            <a:r>
              <a:rPr b="0" lang="en-US" sz="550" spc="228" strike="noStrike" u="sng">
                <a:solidFill>
                  <a:srgbClr val="0000ff"/>
                </a:solidFill>
                <a:uFillTx/>
                <a:latin typeface="Arial"/>
                <a:hlinkClick r:id="rId198"/>
              </a:rPr>
              <a:t>è</a:t>
            </a:r>
            <a:r>
              <a:rPr b="0" lang="en-US" sz="600" spc="-120" strike="noStrike" u="sng">
                <a:solidFill>
                  <a:srgbClr val="0000ff"/>
                </a:solidFill>
                <a:uFillTx/>
                <a:latin typeface="宋体"/>
                <a:hlinkClick r:id="rId199"/>
              </a:rPr>
              <a:t>e&gt;1lr咽)l;</a:t>
            </a:r>
            <a:r>
              <a:rPr b="0" lang="en-US" sz="600" spc="-66" strike="noStrike" u="sng">
                <a:solidFill>
                  <a:srgbClr val="0000ff"/>
                </a:solidFill>
                <a:uFillTx/>
                <a:latin typeface="宋体"/>
                <a:hlinkClick r:id="rId200"/>
              </a:rPr>
              <a:t>J</a:t>
            </a:r>
            <a:r>
              <a:rPr b="0" lang="en-US" sz="550" spc="111" strike="noStrike" u="sng">
                <a:solidFill>
                  <a:srgbClr val="0000ff"/>
                </a:solidFill>
                <a:uFillTx/>
                <a:latin typeface="Arial"/>
                <a:hlinkClick r:id="rId201"/>
              </a:rPr>
              <a:t>j</a:t>
            </a:r>
            <a:endParaRPr b="0" lang="en-US" sz="5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bject 67"/>
          <p:cNvSpPr/>
          <p:nvPr/>
        </p:nvSpPr>
        <p:spPr>
          <a:xfrm>
            <a:off x="11627640" y="6907680"/>
            <a:ext cx="140760" cy="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zh-CN" sz="400" spc="-32" strike="noStrike" u="sng">
                <a:solidFill>
                  <a:srgbClr val="0000ff"/>
                </a:solidFill>
                <a:uFillTx/>
                <a:latin typeface="宋体"/>
                <a:hlinkClick r:id="rId202"/>
              </a:rPr>
              <a:t>息'国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bject 68"/>
          <p:cNvSpPr/>
          <p:nvPr/>
        </p:nvSpPr>
        <p:spPr>
          <a:xfrm>
            <a:off x="12002400" y="6916320"/>
            <a:ext cx="52740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800" spc="77" strike="noStrike" u="sng">
                <a:solidFill>
                  <a:srgbClr val="0000ff"/>
                </a:solidFill>
                <a:uFillTx/>
                <a:latin typeface="Courier New"/>
                <a:hlinkClick r:id="rId203"/>
              </a:rPr>
              <a:t>A</a:t>
            </a:r>
            <a:r>
              <a:rPr b="0" lang="en-US" sz="800" spc="-75" strike="noStrike" u="sng">
                <a:solidFill>
                  <a:srgbClr val="0000ff"/>
                </a:solidFill>
                <a:uFillTx/>
                <a:latin typeface="Courier New"/>
                <a:hlinkClick r:id="rId204"/>
              </a:rPr>
              <a:t>"</a:t>
            </a:r>
            <a:r>
              <a:rPr b="0" lang="zh-CN" sz="700" spc="-177" strike="noStrike" u="sng">
                <a:solidFill>
                  <a:srgbClr val="0000ff"/>
                </a:solidFill>
                <a:uFillTx/>
                <a:latin typeface="宋体"/>
                <a:hlinkClick r:id="rId205"/>
              </a:rPr>
              <a:t>岖'哩，窜'唱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bject 69"/>
          <p:cNvSpPr/>
          <p:nvPr/>
        </p:nvSpPr>
        <p:spPr>
          <a:xfrm>
            <a:off x="12501000" y="6846480"/>
            <a:ext cx="21985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800" spc="378" strike="noStrike" u="sng">
                <a:solidFill>
                  <a:srgbClr val="0000ff"/>
                </a:solidFill>
                <a:uFillTx/>
                <a:latin typeface="宋体"/>
                <a:hlinkClick r:id="rId206"/>
              </a:rPr>
              <a:t>'Ø;，</a:t>
            </a:r>
            <a:r>
              <a:rPr b="0" lang="en-US" sz="800" spc="-287" strike="noStrike" u="sng">
                <a:solidFill>
                  <a:srgbClr val="0000ff"/>
                </a:solidFill>
                <a:uFillTx/>
                <a:latin typeface="宋体"/>
                <a:hlinkClick r:id="rId207"/>
              </a:rPr>
              <a:t> </a:t>
            </a:r>
            <a:r>
              <a:rPr b="0" lang="zh-CN" sz="450" spc="94" strike="noStrike" u="sng">
                <a:solidFill>
                  <a:srgbClr val="0000ff"/>
                </a:solidFill>
                <a:uFillTx/>
                <a:latin typeface="宋体"/>
                <a:hlinkClick r:id="rId208"/>
              </a:rPr>
              <a:t>回国坷'哩'蝠'属国</a:t>
            </a:r>
            <a:r>
              <a:rPr b="0" lang="zh-CN" sz="450" spc="-52" strike="noStrike" u="sng">
                <a:solidFill>
                  <a:srgbClr val="0000ff"/>
                </a:solidFill>
                <a:uFillTx/>
                <a:latin typeface="宋体"/>
                <a:hlinkClick r:id="rId209"/>
              </a:rPr>
              <a:t>楠</a:t>
            </a:r>
            <a:r>
              <a:rPr b="0" lang="en-US" sz="800" spc="-52" strike="noStrike" u="sng">
                <a:solidFill>
                  <a:srgbClr val="0000ff"/>
                </a:solidFill>
                <a:uFillTx/>
                <a:latin typeface="Courier New"/>
                <a:hlinkClick r:id="rId210"/>
              </a:rPr>
              <a:t>0</a:t>
            </a:r>
            <a:r>
              <a:rPr b="0" lang="en-US" sz="400" spc="117" strike="noStrike" u="sng">
                <a:solidFill>
                  <a:srgbClr val="0000ff"/>
                </a:solidFill>
                <a:uFillTx/>
                <a:latin typeface="宋体"/>
                <a:hlinkClick r:id="rId211"/>
              </a:rPr>
              <a:t>0lJll晴(UftII啊"曹</a:t>
            </a:r>
            <a:r>
              <a:rPr b="0" lang="en-US" sz="400" spc="-165" strike="noStrike" u="sng">
                <a:solidFill>
                  <a:srgbClr val="0000ff"/>
                </a:solidFill>
                <a:uFillTx/>
                <a:latin typeface="宋体"/>
                <a:hlinkClick r:id="rId212"/>
              </a:rPr>
              <a:t> </a:t>
            </a:r>
            <a:r>
              <a:rPr b="0" lang="en-US" sz="500" spc="-126" strike="noStrike" u="sng">
                <a:solidFill>
                  <a:srgbClr val="0000ff"/>
                </a:solidFill>
                <a:uFillTx/>
                <a:latin typeface="Arial"/>
                <a:hlinkClick r:id="rId213"/>
              </a:rPr>
              <a:t>W</a:t>
            </a:r>
            <a:r>
              <a:rPr b="0" lang="zh-CN" sz="1350" spc="-500" strike="noStrike" u="sng">
                <a:solidFill>
                  <a:srgbClr val="0000ff"/>
                </a:solidFill>
                <a:uFillTx/>
                <a:latin typeface="宋体"/>
                <a:hlinkClick r:id="rId214"/>
              </a:rPr>
              <a:t>咽.，.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bject 70"/>
          <p:cNvSpPr/>
          <p:nvPr/>
        </p:nvSpPr>
        <p:spPr>
          <a:xfrm>
            <a:off x="12295080" y="6912720"/>
            <a:ext cx="240264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500" spc="43" strike="noStrike" u="sng">
                <a:solidFill>
                  <a:srgbClr val="0000ff"/>
                </a:solidFill>
                <a:uFillTx/>
                <a:latin typeface="宋体"/>
                <a:hlinkClick r:id="rId215"/>
              </a:rPr>
              <a:t>tUIl'幢幢</a:t>
            </a:r>
            <a:r>
              <a:rPr b="0" lang="zh-CN" sz="500" spc="72" strike="noStrike" u="sng">
                <a:solidFill>
                  <a:srgbClr val="0000ff"/>
                </a:solidFill>
                <a:uFillTx/>
                <a:latin typeface="宋体"/>
                <a:hlinkClick r:id="rId216"/>
              </a:rPr>
              <a:t>瞄</a:t>
            </a:r>
            <a:r>
              <a:rPr b="0" lang="en-US" sz="1550" spc="-92" strike="noStrike" u="sng">
                <a:solidFill>
                  <a:srgbClr val="0000ff"/>
                </a:solidFill>
                <a:uFillTx/>
                <a:latin typeface="Arial"/>
                <a:hlinkClick r:id="rId217"/>
              </a:rPr>
              <a:t>....N</a:t>
            </a:r>
            <a:r>
              <a:rPr b="0" lang="en-US" sz="1550" spc="-216" strike="noStrike" u="sng">
                <a:solidFill>
                  <a:srgbClr val="0000ff"/>
                </a:solidFill>
                <a:uFillTx/>
                <a:latin typeface="Arial"/>
                <a:hlinkClick r:id="rId218"/>
              </a:rPr>
              <a:t>_</a:t>
            </a:r>
            <a:r>
              <a:rPr b="0" lang="zh-CN" sz="500" spc="188" strike="noStrike" u="sng">
                <a:solidFill>
                  <a:srgbClr val="0000ff"/>
                </a:solidFill>
                <a:uFillTx/>
                <a:latin typeface="宋体"/>
                <a:hlinkClick r:id="rId219"/>
              </a:rPr>
              <a:t>四_</a:t>
            </a:r>
            <a:r>
              <a:rPr b="0" lang="en-US" sz="500" spc="-197" strike="noStrike" u="sng">
                <a:solidFill>
                  <a:srgbClr val="0000ff"/>
                </a:solidFill>
                <a:uFillTx/>
                <a:latin typeface="宋体"/>
                <a:hlinkClick r:id="rId220"/>
              </a:rPr>
              <a:t> </a:t>
            </a:r>
            <a:r>
              <a:rPr b="0" lang="en-US" sz="500" spc="12" strike="noStrike" u="sng">
                <a:solidFill>
                  <a:srgbClr val="0000ff"/>
                </a:solidFill>
                <a:uFillTx/>
                <a:latin typeface="宋体"/>
                <a:hlinkClick r:id="rId221"/>
              </a:rPr>
              <a:t>CIICU.I'圃</a:t>
            </a:r>
            <a:r>
              <a:rPr b="0" lang="en-US" sz="500" spc="-165" strike="noStrike" u="sng">
                <a:solidFill>
                  <a:srgbClr val="0000ff"/>
                </a:solidFill>
                <a:uFillTx/>
                <a:latin typeface="宋体"/>
                <a:hlinkClick r:id="rId222"/>
              </a:rPr>
              <a:t> </a:t>
            </a:r>
            <a:r>
              <a:rPr b="0" lang="en-US" sz="1550" spc="-46" strike="noStrike" u="sng">
                <a:solidFill>
                  <a:srgbClr val="0000ff"/>
                </a:solidFill>
                <a:uFillTx/>
                <a:latin typeface="Arial"/>
                <a:hlinkClick r:id="rId223"/>
              </a:rPr>
              <a:t>"</a:t>
            </a:r>
            <a:r>
              <a:rPr b="0" lang="en-US" sz="1550" spc="-225" strike="noStrike" u="sng">
                <a:solidFill>
                  <a:srgbClr val="0000ff"/>
                </a:solidFill>
                <a:uFillTx/>
                <a:latin typeface="Arial"/>
                <a:hlinkClick r:id="rId224"/>
              </a:rPr>
              <a:t>P</a:t>
            </a:r>
            <a:r>
              <a:rPr b="0" lang="zh-CN" sz="500" spc="202" strike="noStrike" u="sng">
                <a:solidFill>
                  <a:srgbClr val="0000ff"/>
                </a:solidFill>
                <a:uFillTx/>
                <a:latin typeface="宋体"/>
                <a:hlinkClick r:id="rId225"/>
              </a:rPr>
              <a:t>圃，回_CI1;_'"回帽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bject 71"/>
          <p:cNvSpPr/>
          <p:nvPr/>
        </p:nvSpPr>
        <p:spPr>
          <a:xfrm>
            <a:off x="13986720" y="7145280"/>
            <a:ext cx="99720" cy="69840"/>
          </a:xfrm>
          <a:custGeom>
            <a:avLst/>
            <a:gdLst>
              <a:gd name="textAreaLeft" fmla="*/ 0 w 99720"/>
              <a:gd name="textAreaRight" fmla="*/ 100080 w 997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00234" h="70122">
                <a:moveTo>
                  <a:pt x="0" y="0"/>
                </a:moveTo>
                <a:lnTo>
                  <a:pt x="100234" y="0"/>
                </a:lnTo>
                <a:lnTo>
                  <a:pt x="100234" y="70122"/>
                </a:lnTo>
                <a:lnTo>
                  <a:pt x="0" y="70122"/>
                </a:lnTo>
                <a:lnTo>
                  <a:pt x="0" y="0"/>
                </a:lnTo>
                <a:close/>
              </a:path>
            </a:pathLst>
          </a:cu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bject 72"/>
          <p:cNvSpPr/>
          <p:nvPr/>
        </p:nvSpPr>
        <p:spPr>
          <a:xfrm>
            <a:off x="12176280" y="7084800"/>
            <a:ext cx="192636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zh-CN" sz="450" spc="154" strike="noStrike" u="sng">
                <a:solidFill>
                  <a:srgbClr val="0000ff"/>
                </a:solidFill>
                <a:uFillTx/>
                <a:latin typeface="宋体"/>
                <a:hlinkClick r:id="rId226"/>
              </a:rPr>
              <a:t>嚣</a:t>
            </a:r>
            <a:r>
              <a:rPr b="0" lang="en-US" sz="450" spc="-151" strike="noStrike" u="sng">
                <a:solidFill>
                  <a:srgbClr val="0000ff"/>
                </a:solidFill>
                <a:uFillTx/>
                <a:latin typeface="宋体"/>
                <a:hlinkClick r:id="rId227"/>
              </a:rPr>
              <a:t> </a:t>
            </a:r>
            <a:r>
              <a:rPr b="0" lang="en-US" sz="700" spc="318" strike="noStrike" u="sng">
                <a:solidFill>
                  <a:srgbClr val="0000ff"/>
                </a:solidFill>
                <a:uFillTx/>
                <a:latin typeface="Times New Roman"/>
                <a:hlinkClick r:id="rId228"/>
              </a:rPr>
              <a:t>_ </a:t>
            </a:r>
            <a:r>
              <a:rPr b="0" lang="en-US" sz="700" spc="-15" strike="noStrike" u="sng">
                <a:solidFill>
                  <a:srgbClr val="0000ff"/>
                </a:solidFill>
                <a:uFillTx/>
                <a:latin typeface="Times New Roman"/>
                <a:hlinkClick r:id="rId229"/>
              </a:rPr>
              <a:t> </a:t>
            </a:r>
            <a:r>
              <a:rPr b="0" lang="en-US" sz="700" spc="318" strike="noStrike" u="sng">
                <a:solidFill>
                  <a:srgbClr val="0000ff"/>
                </a:solidFill>
                <a:uFillTx/>
                <a:latin typeface="Times New Roman"/>
                <a:hlinkClick r:id="rId230"/>
              </a:rPr>
              <a:t>90</a:t>
            </a:r>
            <a:r>
              <a:rPr b="0" lang="en-US" sz="700" spc="-80" strike="noStrike" u="sng">
                <a:solidFill>
                  <a:srgbClr val="0000ff"/>
                </a:solidFill>
                <a:uFillTx/>
                <a:latin typeface="Times New Roman"/>
                <a:hlinkClick r:id="rId231"/>
              </a:rPr>
              <a:t> </a:t>
            </a:r>
            <a:r>
              <a:rPr b="0" lang="zh-CN" sz="450" spc="313" strike="noStrike" u="sng">
                <a:solidFill>
                  <a:srgbClr val="0000ff"/>
                </a:solidFill>
                <a:uFillTx/>
                <a:latin typeface="宋体"/>
                <a:hlinkClick r:id="rId232"/>
              </a:rPr>
              <a:t>帽 </a:t>
            </a:r>
            <a:r>
              <a:rPr b="0" lang="en-US" sz="450" spc="77" strike="noStrike" u="sng">
                <a:solidFill>
                  <a:srgbClr val="0000ff"/>
                </a:solidFill>
                <a:uFillTx/>
                <a:latin typeface="宋体"/>
                <a:hlinkClick r:id="rId233"/>
              </a:rPr>
              <a:t> </a:t>
            </a:r>
            <a:r>
              <a:rPr b="0" lang="en-US" sz="950" spc="412" strike="noStrike" u="sng">
                <a:solidFill>
                  <a:srgbClr val="0000ff"/>
                </a:solidFill>
                <a:uFillTx/>
                <a:latin typeface="Times New Roman"/>
                <a:hlinkClick r:id="rId234"/>
              </a:rPr>
              <a:t>ι</a:t>
            </a:r>
            <a:r>
              <a:rPr b="0" lang="en-US" sz="950" spc="188" strike="noStrike" u="sng">
                <a:solidFill>
                  <a:srgbClr val="0000ff"/>
                </a:solidFill>
                <a:uFillTx/>
                <a:latin typeface="Times New Roman"/>
                <a:hlinkClick r:id="rId235"/>
              </a:rPr>
              <a:t>·</a:t>
            </a:r>
            <a:r>
              <a:rPr b="0" lang="zh-CN" sz="550" spc="418" strike="noStrike" u="sng">
                <a:solidFill>
                  <a:srgbClr val="0000ff"/>
                </a:solidFill>
                <a:uFillTx/>
                <a:latin typeface="宋体"/>
                <a:hlinkClick r:id="rId236"/>
              </a:rPr>
              <a:t>醋 </a:t>
            </a:r>
            <a:r>
              <a:rPr b="0" lang="en-US" sz="550" spc="-66" strike="noStrike" u="sng">
                <a:solidFill>
                  <a:srgbClr val="0000ff"/>
                </a:solidFill>
                <a:uFillTx/>
                <a:latin typeface="宋体"/>
                <a:hlinkClick r:id="rId237"/>
              </a:rPr>
              <a:t> </a:t>
            </a:r>
            <a:r>
              <a:rPr b="0" lang="zh-CN" sz="550" spc="324" strike="noStrike" u="sng">
                <a:solidFill>
                  <a:srgbClr val="0000ff"/>
                </a:solidFill>
                <a:uFillTx/>
                <a:latin typeface="宋体"/>
                <a:hlinkClick r:id="rId238"/>
              </a:rPr>
              <a:t>桐国...内。唱_</a:t>
            </a:r>
            <a:r>
              <a:rPr b="0" lang="en-US" sz="550" spc="-131" strike="noStrike" u="sng">
                <a:solidFill>
                  <a:srgbClr val="0000ff"/>
                </a:solidFill>
                <a:uFillTx/>
                <a:latin typeface="宋体"/>
                <a:hlinkClick r:id="rId239"/>
              </a:rPr>
              <a:t> </a:t>
            </a:r>
            <a:r>
              <a:rPr b="0" lang="en-US" sz="550" spc="503" strike="noStrike" u="sng">
                <a:solidFill>
                  <a:srgbClr val="0000ff"/>
                </a:solidFill>
                <a:uFillTx/>
                <a:latin typeface="宋体"/>
                <a:hlinkClick r:id="rId240"/>
              </a:rPr>
              <a:t>'</a:t>
            </a:r>
            <a:endParaRPr b="0" lang="en-US" sz="5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bject 73"/>
          <p:cNvSpPr/>
          <p:nvPr/>
        </p:nvSpPr>
        <p:spPr>
          <a:xfrm>
            <a:off x="10987560" y="7558200"/>
            <a:ext cx="657000" cy="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zh-CN" sz="500" spc="168" strike="noStrike" u="sng">
                <a:solidFill>
                  <a:srgbClr val="0000ff"/>
                </a:solidFill>
                <a:uFillTx/>
                <a:latin typeface="宋体"/>
                <a:hlinkClick r:id="rId241"/>
              </a:rPr>
              <a:t>圄回'fCIO_恤-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bject 74"/>
          <p:cNvSpPr/>
          <p:nvPr/>
        </p:nvSpPr>
        <p:spPr>
          <a:xfrm>
            <a:off x="12482640" y="7662240"/>
            <a:ext cx="111240" cy="101520"/>
          </a:xfrm>
          <a:custGeom>
            <a:avLst/>
            <a:gdLst>
              <a:gd name="textAreaLeft" fmla="*/ 0 w 111240"/>
              <a:gd name="textAreaRight" fmla="*/ 111600 w 1112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11759" h="101996">
                <a:moveTo>
                  <a:pt x="0" y="0"/>
                </a:moveTo>
                <a:lnTo>
                  <a:pt x="111759" y="0"/>
                </a:lnTo>
                <a:lnTo>
                  <a:pt x="111759" y="101996"/>
                </a:lnTo>
                <a:lnTo>
                  <a:pt x="0" y="101996"/>
                </a:lnTo>
                <a:lnTo>
                  <a:pt x="0" y="0"/>
                </a:lnTo>
                <a:close/>
              </a:path>
            </a:pathLst>
          </a:cu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object 75"/>
          <p:cNvSpPr/>
          <p:nvPr/>
        </p:nvSpPr>
        <p:spPr>
          <a:xfrm>
            <a:off x="12542040" y="7546320"/>
            <a:ext cx="1037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zh-CN" sz="800" spc="-520" strike="noStrike" u="sng">
                <a:solidFill>
                  <a:srgbClr val="0000ff"/>
                </a:solidFill>
                <a:uFillTx/>
                <a:latin typeface="宋体"/>
                <a:hlinkClick r:id="rId242"/>
              </a:rPr>
              <a:t>，</a:t>
            </a:r>
            <a:r>
              <a:rPr b="0" lang="en-US" sz="550" spc="-12" strike="noStrike" u="sng">
                <a:solidFill>
                  <a:srgbClr val="0000ff"/>
                </a:solidFill>
                <a:uFillTx/>
                <a:latin typeface="Courier New"/>
                <a:hlinkClick r:id="rId243"/>
              </a:rPr>
              <a:t>0</a:t>
            </a:r>
            <a:r>
              <a:rPr b="0" lang="zh-CN" sz="1050" spc="-395" strike="noStrike" u="sng">
                <a:solidFill>
                  <a:srgbClr val="0000ff"/>
                </a:solidFill>
                <a:uFillTx/>
                <a:latin typeface="宋体"/>
                <a:hlinkClick r:id="rId244"/>
              </a:rPr>
              <a:t>凶....峙</a:t>
            </a:r>
            <a:r>
              <a:rPr b="0" lang="zh-CN" sz="1050" spc="-636" strike="noStrike" u="sng">
                <a:solidFill>
                  <a:srgbClr val="0000ff"/>
                </a:solidFill>
                <a:uFillTx/>
                <a:latin typeface="宋体"/>
                <a:hlinkClick r:id="rId245"/>
              </a:rPr>
              <a:t>。</a:t>
            </a:r>
            <a:r>
              <a:rPr b="0" lang="en-US" sz="1050" spc="72" strike="noStrike" u="sng">
                <a:solidFill>
                  <a:srgbClr val="0000ff"/>
                </a:solidFill>
                <a:uFillTx/>
                <a:latin typeface="宋体"/>
                <a:hlinkClick r:id="rId246"/>
              </a:rPr>
              <a:t>.</a:t>
            </a:r>
            <a:r>
              <a:rPr b="0" lang="en-US" sz="1050" spc="-415" strike="noStrike" u="sng">
                <a:solidFill>
                  <a:srgbClr val="0000ff"/>
                </a:solidFill>
                <a:uFillTx/>
                <a:latin typeface="宋体"/>
                <a:hlinkClick r:id="rId247"/>
              </a:rPr>
              <a:t>.</a:t>
            </a:r>
            <a:r>
              <a:rPr b="0" lang="zh-CN" sz="1600" spc="-880" strike="noStrike" u="sng">
                <a:solidFill>
                  <a:srgbClr val="0000ff"/>
                </a:solidFill>
                <a:uFillTx/>
                <a:latin typeface="宋体"/>
                <a:hlinkClick r:id="rId248"/>
              </a:rPr>
              <a:t>岖*</a:t>
            </a:r>
            <a:r>
              <a:rPr b="0" lang="en-US" sz="1600" spc="-661" strike="noStrike" u="sng">
                <a:solidFill>
                  <a:srgbClr val="0000ff"/>
                </a:solidFill>
                <a:uFillTx/>
                <a:latin typeface="宋体"/>
                <a:hlinkClick r:id="rId249"/>
              </a:rPr>
              <a:t> </a:t>
            </a:r>
            <a:r>
              <a:rPr b="0" lang="en-US" sz="1600" spc="-446" strike="noStrike" u="sng">
                <a:solidFill>
                  <a:srgbClr val="0000ff"/>
                </a:solidFill>
                <a:uFillTx/>
                <a:latin typeface="宋体"/>
                <a:hlinkClick r:id="rId250"/>
              </a:rPr>
              <a:t>.</a:t>
            </a:r>
            <a:r>
              <a:rPr b="0" lang="en-US" sz="1600" spc="403" strike="noStrike" u="sng">
                <a:solidFill>
                  <a:srgbClr val="0000ff"/>
                </a:solidFill>
                <a:uFillTx/>
                <a:latin typeface="宋体"/>
                <a:hlinkClick r:id="rId251"/>
              </a:rPr>
              <a:t>_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bject 76"/>
          <p:cNvSpPr/>
          <p:nvPr/>
        </p:nvSpPr>
        <p:spPr>
          <a:xfrm>
            <a:off x="10685160" y="7374960"/>
            <a:ext cx="116640" cy="63360"/>
          </a:xfrm>
          <a:custGeom>
            <a:avLst/>
            <a:gdLst>
              <a:gd name="textAreaLeft" fmla="*/ 0 w 116640"/>
              <a:gd name="textAreaRight" fmla="*/ 117000 w 1166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17157" h="63748">
                <a:moveTo>
                  <a:pt x="0" y="0"/>
                </a:moveTo>
                <a:lnTo>
                  <a:pt x="117157" y="0"/>
                </a:lnTo>
                <a:lnTo>
                  <a:pt x="117157" y="63748"/>
                </a:lnTo>
                <a:lnTo>
                  <a:pt x="0" y="63748"/>
                </a:lnTo>
                <a:lnTo>
                  <a:pt x="0" y="0"/>
                </a:lnTo>
                <a:close/>
              </a:path>
            </a:pathLst>
          </a:cu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object 77"/>
          <p:cNvSpPr/>
          <p:nvPr/>
        </p:nvSpPr>
        <p:spPr>
          <a:xfrm>
            <a:off x="10499760" y="7365960"/>
            <a:ext cx="9565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00" spc="-1362" strike="noStrike" u="sng">
                <a:solidFill>
                  <a:srgbClr val="0000ff"/>
                </a:solidFill>
                <a:uFillTx/>
                <a:latin typeface="宋体"/>
                <a:hlinkClick r:id="rId252"/>
              </a:rPr>
              <a:t>.</a:t>
            </a:r>
            <a:r>
              <a:rPr b="0" lang="en-US" sz="500" spc="12" strike="noStrike" u="sng">
                <a:solidFill>
                  <a:srgbClr val="0000ff"/>
                </a:solidFill>
                <a:uFillTx/>
                <a:latin typeface="宋体"/>
                <a:hlinkClick r:id="rId253"/>
              </a:rPr>
              <a:t>"..匾&gt;&gt;0"'"鸭"咽阉</a:t>
            </a:r>
            <a:r>
              <a:rPr b="0" lang="zh-CN" sz="500" spc="-46" strike="noStrike" u="sng">
                <a:solidFill>
                  <a:srgbClr val="0000ff"/>
                </a:solidFill>
                <a:uFillTx/>
                <a:latin typeface="宋体"/>
                <a:hlinkClick r:id="rId254"/>
              </a:rPr>
              <a:t>匾</a:t>
            </a:r>
            <a:r>
              <a:rPr b="0" i="1" lang="en-US" sz="500" spc="157" strike="noStrike" u="sng">
                <a:solidFill>
                  <a:srgbClr val="0000ff"/>
                </a:solidFill>
                <a:uFillTx/>
                <a:latin typeface="Times New Roman"/>
                <a:hlinkClick r:id="rId255"/>
              </a:rPr>
              <a:t>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5640" algn="ctr">
              <a:lnSpc>
                <a:spcPct val="100000"/>
              </a:lnSpc>
              <a:spcBef>
                <a:spcPts val="320"/>
              </a:spcBef>
            </a:pPr>
            <a:r>
              <a:rPr b="0" lang="zh-CN" sz="300" spc="43" strike="noStrike" u="sng">
                <a:solidFill>
                  <a:srgbClr val="0000ff"/>
                </a:solidFill>
                <a:uFillTx/>
                <a:latin typeface="宋体"/>
                <a:hlinkClick r:id="rId256"/>
              </a:rPr>
              <a:t>倒腐‘四'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bject 78"/>
          <p:cNvSpPr/>
          <p:nvPr/>
        </p:nvSpPr>
        <p:spPr>
          <a:xfrm>
            <a:off x="10678320" y="7575480"/>
            <a:ext cx="117000" cy="165240"/>
          </a:xfrm>
          <a:custGeom>
            <a:avLst/>
            <a:gdLst>
              <a:gd name="textAreaLeft" fmla="*/ 0 w 117000"/>
              <a:gd name="textAreaRight" fmla="*/ 117360 w 1170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17221" h="165744">
                <a:moveTo>
                  <a:pt x="0" y="0"/>
                </a:moveTo>
                <a:lnTo>
                  <a:pt x="117221" y="0"/>
                </a:lnTo>
                <a:lnTo>
                  <a:pt x="117221" y="165744"/>
                </a:lnTo>
                <a:lnTo>
                  <a:pt x="0" y="165744"/>
                </a:lnTo>
                <a:lnTo>
                  <a:pt x="0" y="0"/>
                </a:lnTo>
                <a:close/>
              </a:path>
            </a:pathLst>
          </a:cu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object 79"/>
          <p:cNvSpPr/>
          <p:nvPr/>
        </p:nvSpPr>
        <p:spPr>
          <a:xfrm>
            <a:off x="10676520" y="7552440"/>
            <a:ext cx="81936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1300" spc="-367" strike="noStrike" u="sng">
                <a:solidFill>
                  <a:srgbClr val="0000ff"/>
                </a:solidFill>
                <a:uFillTx/>
                <a:latin typeface="宋体"/>
                <a:hlinkClick r:id="rId257"/>
              </a:rPr>
              <a:t>.</a:t>
            </a:r>
            <a:r>
              <a:rPr b="0" lang="en-US" sz="1300" spc="-395" strike="noStrike" u="sng">
                <a:solidFill>
                  <a:srgbClr val="0000ff"/>
                </a:solidFill>
                <a:uFillTx/>
                <a:latin typeface="宋体"/>
                <a:hlinkClick r:id="rId258"/>
              </a:rPr>
              <a:t>".，四"'_咽.，.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bject 80"/>
          <p:cNvSpPr/>
          <p:nvPr/>
        </p:nvSpPr>
        <p:spPr>
          <a:xfrm>
            <a:off x="11483640" y="7738200"/>
            <a:ext cx="88920" cy="360"/>
          </a:xfrm>
          <a:custGeom>
            <a:avLst/>
            <a:gdLst>
              <a:gd name="textAreaLeft" fmla="*/ 0 w 88920"/>
              <a:gd name="textAreaRight" fmla="*/ 89280 w 889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89154" h="0">
                <a:moveTo>
                  <a:pt x="0" y="0"/>
                </a:moveTo>
                <a:lnTo>
                  <a:pt x="89154" y="0"/>
                </a:lnTo>
              </a:path>
            </a:pathLst>
          </a:custGeom>
          <a:noFill/>
          <a:ln w="3797">
            <a:solidFill>
              <a:srgbClr val="999b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object 2"/>
          <p:cNvSpPr/>
          <p:nvPr/>
        </p:nvSpPr>
        <p:spPr>
          <a:xfrm>
            <a:off x="1683360" y="4331160"/>
            <a:ext cx="108432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280">
              <a:lnSpc>
                <a:spcPct val="138000"/>
              </a:lnSpc>
            </a:pPr>
            <a:r>
              <a:rPr b="0" lang="en-US" sz="950" spc="32" strike="noStrike">
                <a:solidFill>
                  <a:srgbClr val="7095aa"/>
                </a:solidFill>
                <a:latin typeface="Arial"/>
              </a:rPr>
              <a:t>HO</a:t>
            </a:r>
            <a:r>
              <a:rPr b="0" lang="en-US" sz="950" spc="-7" strike="noStrike">
                <a:solidFill>
                  <a:srgbClr val="8ea5bd"/>
                </a:solidFill>
                <a:latin typeface="Arial"/>
              </a:rPr>
              <a:t>M</a:t>
            </a:r>
            <a:r>
              <a:rPr b="0" lang="en-US" sz="950" spc="12" strike="noStrike">
                <a:solidFill>
                  <a:srgbClr val="7095aa"/>
                </a:solidFill>
                <a:latin typeface="Arial"/>
              </a:rPr>
              <a:t>E</a:t>
            </a:r>
            <a:r>
              <a:rPr b="0" lang="en-US" sz="950" spc="4" strike="noStrike">
                <a:solidFill>
                  <a:srgbClr val="7095aa"/>
                </a:solidFill>
                <a:latin typeface="Arial"/>
              </a:rPr>
              <a:t> </a:t>
            </a:r>
            <a:r>
              <a:rPr b="0" lang="en-US" sz="950" spc="9" strike="noStrike">
                <a:solidFill>
                  <a:srgbClr val="7095aa"/>
                </a:solidFill>
                <a:latin typeface="Arial"/>
              </a:rPr>
              <a:t>SERV</a:t>
            </a:r>
            <a:r>
              <a:rPr b="0" lang="en-US" sz="950" spc="-15" strike="noStrike">
                <a:solidFill>
                  <a:srgbClr val="52a8cd"/>
                </a:solidFill>
                <a:latin typeface="Arial"/>
              </a:rPr>
              <a:t>I</a:t>
            </a:r>
            <a:r>
              <a:rPr b="0" lang="en-US" sz="950" spc="-1" strike="noStrike">
                <a:solidFill>
                  <a:srgbClr val="7095aa"/>
                </a:solidFill>
                <a:latin typeface="Arial"/>
              </a:rPr>
              <a:t>CES</a:t>
            </a:r>
            <a:endParaRPr b="0" lang="en-US" sz="9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50"/>
              </a:lnSpc>
              <a:spcBef>
                <a:spcPts val="37"/>
              </a:spcBef>
            </a:pPr>
            <a:endParaRPr b="0" lang="en-US" sz="55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</a:pPr>
            <a:r>
              <a:rPr b="0" lang="en-US" sz="950" spc="-12" strike="noStrike">
                <a:solidFill>
                  <a:srgbClr val="7095aa"/>
                </a:solidFill>
                <a:latin typeface="Arial"/>
              </a:rPr>
              <a:t>WEBINAR</a:t>
            </a:r>
            <a:r>
              <a:rPr b="0" lang="en-US" sz="950" spc="128" strike="noStrike">
                <a:solidFill>
                  <a:srgbClr val="7095aa"/>
                </a:solidFill>
                <a:latin typeface="Arial"/>
              </a:rPr>
              <a:t> </a:t>
            </a:r>
            <a:r>
              <a:rPr b="0" lang="en-US" sz="950" spc="-1" strike="noStrike">
                <a:solidFill>
                  <a:srgbClr val="7095aa"/>
                </a:solidFill>
                <a:latin typeface="Arial"/>
              </a:rPr>
              <a:t>SERIES</a:t>
            </a:r>
            <a:endParaRPr b="0" lang="en-US" sz="9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45"/>
              </a:spcBef>
            </a:pPr>
            <a:r>
              <a:rPr b="0" lang="en-US" sz="950" spc="29" strike="noStrike">
                <a:solidFill>
                  <a:srgbClr val="467495"/>
                </a:solidFill>
                <a:latin typeface="Arial"/>
              </a:rPr>
              <a:t>C</a:t>
            </a:r>
            <a:r>
              <a:rPr b="0" lang="en-US" sz="950" spc="-26" strike="noStrike">
                <a:solidFill>
                  <a:srgbClr val="2f82b3"/>
                </a:solidFill>
                <a:latin typeface="Arial"/>
              </a:rPr>
              <a:t>a</a:t>
            </a:r>
            <a:r>
              <a:rPr b="0" lang="en-US" sz="950" spc="32" strike="noStrike">
                <a:solidFill>
                  <a:srgbClr val="467495"/>
                </a:solidFill>
                <a:latin typeface="Arial"/>
              </a:rPr>
              <a:t>l</a:t>
            </a:r>
            <a:r>
              <a:rPr b="0" lang="en-US" sz="950" spc="18" strike="noStrike">
                <a:solidFill>
                  <a:srgbClr val="2f82b3"/>
                </a:solidFill>
                <a:latin typeface="Arial"/>
              </a:rPr>
              <a:t>end</a:t>
            </a:r>
            <a:r>
              <a:rPr b="0" lang="en-US" sz="950" spc="49" strike="noStrike">
                <a:solidFill>
                  <a:srgbClr val="2f82b3"/>
                </a:solidFill>
                <a:latin typeface="Arial"/>
              </a:rPr>
              <a:t>a</a:t>
            </a:r>
            <a:r>
              <a:rPr b="0" lang="en-US" sz="950" spc="58" strike="noStrike">
                <a:solidFill>
                  <a:srgbClr val="5083b8"/>
                </a:solidFill>
                <a:latin typeface="Arial"/>
              </a:rPr>
              <a:t>r</a:t>
            </a:r>
            <a:endParaRPr b="0" lang="en-US" sz="9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50"/>
              </a:lnSpc>
            </a:pPr>
            <a:endParaRPr b="0" lang="en-US" sz="550" spc="-1" strike="noStrike">
              <a:solidFill>
                <a:srgbClr val="000000"/>
              </a:solidFill>
              <a:latin typeface="Arial"/>
            </a:endParaRPr>
          </a:p>
          <a:p>
            <a:pPr marL="74160" algn="ctr">
              <a:lnSpc>
                <a:spcPct val="100000"/>
              </a:lnSpc>
            </a:pPr>
            <a:r>
              <a:rPr b="0" lang="en-US" sz="950" spc="-15" strike="noStrike">
                <a:solidFill>
                  <a:srgbClr val="211a1f"/>
                </a:solidFill>
                <a:latin typeface="Arial"/>
              </a:rPr>
              <a:t>S</a:t>
            </a:r>
            <a:r>
              <a:rPr b="0" lang="en-US" sz="950" spc="-32" strike="noStrike">
                <a:solidFill>
                  <a:srgbClr val="211a1f"/>
                </a:solidFill>
                <a:latin typeface="Arial"/>
              </a:rPr>
              <a:t>m</a:t>
            </a:r>
            <a:r>
              <a:rPr b="0" lang="en-US" sz="950" spc="9" strike="noStrike">
                <a:solidFill>
                  <a:srgbClr val="232b3a"/>
                </a:solidFill>
                <a:latin typeface="Arial"/>
              </a:rPr>
              <a:t>a</a:t>
            </a:r>
            <a:r>
              <a:rPr b="0" lang="en-US" sz="950" spc="89" strike="noStrike">
                <a:solidFill>
                  <a:srgbClr val="211a1f"/>
                </a:solidFill>
                <a:latin typeface="Arial"/>
              </a:rPr>
              <a:t>rt</a:t>
            </a:r>
            <a:r>
              <a:rPr b="0" lang="en-US" sz="950" spc="-60" strike="noStrike">
                <a:solidFill>
                  <a:srgbClr val="211a1f"/>
                </a:solidFill>
                <a:latin typeface="Arial"/>
              </a:rPr>
              <a:t> </a:t>
            </a:r>
            <a:r>
              <a:rPr b="0" lang="en-US" sz="950" spc="-21" strike="noStrike">
                <a:solidFill>
                  <a:srgbClr val="211a1f"/>
                </a:solidFill>
                <a:latin typeface="Arial"/>
              </a:rPr>
              <a:t>T</a:t>
            </a:r>
            <a:r>
              <a:rPr b="0" lang="en-US" sz="950" spc="9" strike="noStrike">
                <a:solidFill>
                  <a:srgbClr val="211a1f"/>
                </a:solidFill>
                <a:latin typeface="Arial"/>
              </a:rPr>
              <a:t>a</a:t>
            </a:r>
            <a:r>
              <a:rPr b="0" lang="en-US" sz="950" spc="-1" strike="noStrike">
                <a:solidFill>
                  <a:srgbClr val="411341"/>
                </a:solidFill>
                <a:latin typeface="Arial"/>
              </a:rPr>
              <a:t>l</a:t>
            </a:r>
            <a:r>
              <a:rPr b="0" lang="en-US" sz="950" spc="94" strike="noStrike">
                <a:solidFill>
                  <a:srgbClr val="232b3a"/>
                </a:solidFill>
                <a:latin typeface="Arial"/>
              </a:rPr>
              <a:t>k</a:t>
            </a:r>
            <a:endParaRPr b="0" lang="en-US" sz="9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bject 3"/>
          <p:cNvSpPr/>
          <p:nvPr/>
        </p:nvSpPr>
        <p:spPr>
          <a:xfrm>
            <a:off x="4047120" y="4502520"/>
            <a:ext cx="217008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 indent="4320">
              <a:lnSpc>
                <a:spcPct val="111000"/>
              </a:lnSpc>
              <a:tabLst>
                <a:tab algn="l" pos="0"/>
              </a:tabLst>
            </a:pPr>
            <a:r>
              <a:rPr b="0" lang="en-US" sz="1400" spc="18" strike="noStrike">
                <a:solidFill>
                  <a:srgbClr val="467495"/>
                </a:solidFill>
                <a:latin typeface="Arial"/>
              </a:rPr>
              <a:t>Change</a:t>
            </a:r>
            <a:r>
              <a:rPr b="0" lang="en-US" sz="1400" spc="-7" strike="noStrike">
                <a:solidFill>
                  <a:srgbClr val="467495"/>
                </a:solidFill>
                <a:latin typeface="Arial"/>
              </a:rPr>
              <a:t> </a:t>
            </a:r>
            <a:r>
              <a:rPr b="0" lang="en-US" sz="1400" spc="4" strike="noStrike">
                <a:solidFill>
                  <a:srgbClr val="467495"/>
                </a:solidFill>
                <a:latin typeface="Arial"/>
              </a:rPr>
              <a:t>Your </a:t>
            </a:r>
            <a:r>
              <a:rPr b="0" lang="en-US" sz="1400" spc="-197" strike="noStrike">
                <a:solidFill>
                  <a:srgbClr val="467495"/>
                </a:solidFill>
                <a:latin typeface="Arial"/>
              </a:rPr>
              <a:t> </a:t>
            </a:r>
            <a:r>
              <a:rPr b="0" lang="en-US" sz="1400" spc="4" strike="noStrike">
                <a:solidFill>
                  <a:srgbClr val="467495"/>
                </a:solidFill>
                <a:latin typeface="Arial"/>
              </a:rPr>
              <a:t>Business</a:t>
            </a:r>
            <a:r>
              <a:rPr b="0" lang="en-US" sz="1400" spc="-1" strike="noStrike">
                <a:solidFill>
                  <a:srgbClr val="467495"/>
                </a:solidFill>
                <a:latin typeface="Arial"/>
              </a:rPr>
              <a:t> </a:t>
            </a:r>
            <a:r>
              <a:rPr b="0" lang="en-US" sz="1400" spc="12" strike="noStrike">
                <a:solidFill>
                  <a:srgbClr val="467495"/>
                </a:solidFill>
                <a:latin typeface="Arial"/>
              </a:rPr>
              <a:t>Outc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Bef>
                <a:spcPts val="40"/>
              </a:spcBef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600" indent="4320">
              <a:lnSpc>
                <a:spcPct val="131000"/>
              </a:lnSpc>
              <a:tabLst>
                <a:tab algn="l" pos="0"/>
              </a:tabLst>
            </a:pPr>
            <a:r>
              <a:rPr b="0" lang="en-US" sz="950" spc="-12" strike="noStrike">
                <a:solidFill>
                  <a:srgbClr val="7e8082"/>
                </a:solidFill>
                <a:latin typeface="Arial"/>
              </a:rPr>
              <a:t>Join</a:t>
            </a:r>
            <a:r>
              <a:rPr b="0" lang="en-US" sz="950" spc="4" strike="noStrike">
                <a:solidFill>
                  <a:srgbClr val="7e8082"/>
                </a:solidFill>
                <a:latin typeface="Arial"/>
              </a:rPr>
              <a:t> a</a:t>
            </a:r>
            <a:r>
              <a:rPr b="0" lang="en-US" sz="950" spc="-12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26" strike="noStrike">
                <a:solidFill>
                  <a:srgbClr val="7e8082"/>
                </a:solidFill>
                <a:latin typeface="Arial"/>
              </a:rPr>
              <a:t>Irve</a:t>
            </a:r>
            <a:r>
              <a:rPr b="0" lang="en-US" sz="950" spc="-151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12" strike="noStrike">
                <a:solidFill>
                  <a:srgbClr val="7e8082"/>
                </a:solidFill>
                <a:latin typeface="Arial"/>
              </a:rPr>
              <a:t>weblnar</a:t>
            </a:r>
            <a:r>
              <a:rPr b="0" lang="en-US" sz="950" spc="72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7" strike="noStrike">
                <a:solidFill>
                  <a:srgbClr val="7e8082"/>
                </a:solidFill>
                <a:latin typeface="Arial"/>
              </a:rPr>
              <a:t>with</a:t>
            </a:r>
            <a:r>
              <a:rPr b="0" lang="en-US" sz="950" spc="-12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18" strike="noStrike">
                <a:solidFill>
                  <a:srgbClr val="7e8082"/>
                </a:solidFill>
                <a:latin typeface="Arial"/>
              </a:rPr>
              <a:t>Cisco</a:t>
            </a:r>
            <a:r>
              <a:rPr b="0" lang="en-US" sz="950" spc="-26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7" strike="noStrike">
                <a:solidFill>
                  <a:srgbClr val="7e8082"/>
                </a:solidFill>
                <a:latin typeface="Arial"/>
              </a:rPr>
              <a:t>experts</a:t>
            </a:r>
            <a:r>
              <a:rPr b="0" lang="en-US" sz="950" spc="4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12" strike="noStrike">
                <a:solidFill>
                  <a:srgbClr val="7e8082"/>
                </a:solidFill>
                <a:latin typeface="Arial"/>
              </a:rPr>
              <a:t>to</a:t>
            </a:r>
            <a:r>
              <a:rPr b="0" lang="en-US" sz="950" spc="9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12" strike="noStrike">
                <a:solidFill>
                  <a:srgbClr val="697272"/>
                </a:solidFill>
                <a:latin typeface="Arial"/>
              </a:rPr>
              <a:t>díscover</a:t>
            </a:r>
            <a:r>
              <a:rPr b="0" lang="en-US" sz="950" spc="-7" strike="noStrike">
                <a:solidFill>
                  <a:srgbClr val="697272"/>
                </a:solidFill>
                <a:latin typeface="Arial"/>
              </a:rPr>
              <a:t> </a:t>
            </a:r>
            <a:r>
              <a:rPr b="0" lang="en-US" sz="950" spc="4" strike="noStrike">
                <a:solidFill>
                  <a:srgbClr val="7e8082"/>
                </a:solidFill>
                <a:latin typeface="Arial"/>
              </a:rPr>
              <a:t>the</a:t>
            </a:r>
            <a:r>
              <a:rPr b="0" lang="en-US" sz="950" spc="-41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1" strike="noStrike">
                <a:solidFill>
                  <a:srgbClr val="7e8082"/>
                </a:solidFill>
                <a:latin typeface="Arial"/>
              </a:rPr>
              <a:t>value</a:t>
            </a:r>
            <a:r>
              <a:rPr b="0" lang="en-US" sz="950" spc="-15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18" strike="noStrike">
                <a:solidFill>
                  <a:srgbClr val="7e8082"/>
                </a:solidFill>
                <a:latin typeface="Arial"/>
              </a:rPr>
              <a:t>of</a:t>
            </a:r>
            <a:r>
              <a:rPr b="0" lang="en-US" sz="950" spc="-35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9" strike="noStrike">
                <a:solidFill>
                  <a:srgbClr val="7e8082"/>
                </a:solidFill>
                <a:latin typeface="Arial"/>
              </a:rPr>
              <a:t>Cisco</a:t>
            </a:r>
            <a:r>
              <a:rPr b="0" lang="en-US" sz="950" spc="-52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7" strike="noStrike">
                <a:solidFill>
                  <a:srgbClr val="7e8082"/>
                </a:solidFill>
                <a:latin typeface="Arial"/>
              </a:rPr>
              <a:t>Smart Services</a:t>
            </a:r>
            <a:endParaRPr b="0" lang="en-US" sz="9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bject 4"/>
          <p:cNvSpPr/>
          <p:nvPr/>
        </p:nvSpPr>
        <p:spPr>
          <a:xfrm>
            <a:off x="10018440" y="3094200"/>
            <a:ext cx="15876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64"/>
              </a:lnSpc>
            </a:pPr>
            <a:r>
              <a:rPr b="0" lang="en-US" sz="3500" spc="83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May</a:t>
            </a:r>
            <a:r>
              <a:rPr b="0" lang="en-US" sz="3500" spc="284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500" spc="134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2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bject 5"/>
          <p:cNvSpPr/>
          <p:nvPr/>
        </p:nvSpPr>
        <p:spPr>
          <a:xfrm>
            <a:off x="10000080" y="3602160"/>
            <a:ext cx="5855760" cy="31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600">
              <a:lnSpc>
                <a:spcPct val="105000"/>
              </a:lnSpc>
            </a:pPr>
            <a:r>
              <a:rPr b="0" lang="en-US" sz="3400" spc="77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Manage</a:t>
            </a:r>
            <a:r>
              <a:rPr b="0" lang="en-US" sz="3400" spc="313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 </a:t>
            </a:r>
            <a:r>
              <a:rPr b="0" lang="en-US" sz="3400" spc="83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Network</a:t>
            </a:r>
            <a:r>
              <a:rPr b="0" lang="en-US" sz="3400" spc="273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3400" spc="43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Operations</a:t>
            </a:r>
            <a:r>
              <a:rPr b="0" lang="en-US" sz="3400" spc="24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 </a:t>
            </a:r>
            <a:r>
              <a:rPr b="0" lang="en-US" sz="3400" spc="-35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Risk</a:t>
            </a:r>
            <a:r>
              <a:rPr b="0" lang="en-US" sz="3400" spc="63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 </a:t>
            </a:r>
            <a:r>
              <a:rPr b="0" lang="en-US" sz="3400" spc="89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and</a:t>
            </a:r>
            <a:r>
              <a:rPr b="0" lang="en-US" sz="3400" spc="222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 </a:t>
            </a:r>
            <a:r>
              <a:rPr b="0" lang="en-US" sz="3400" spc="83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Complia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Bef>
                <a:spcPts val="7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1269360"/>
              </a:tabLst>
            </a:pPr>
            <a:r>
              <a:rPr b="0" lang="en-US" sz="3500" spc="148" strike="noStrike">
                <a:solidFill>
                  <a:srgbClr val="232b3a"/>
                </a:solidFill>
                <a:latin typeface="Arial"/>
              </a:rPr>
              <a:t>June</a:t>
            </a:r>
            <a:r>
              <a:rPr b="0" lang="en-US" sz="3500" spc="148" strike="noStrike">
                <a:solidFill>
                  <a:srgbClr val="232b3a"/>
                </a:solidFill>
                <a:latin typeface="Arial"/>
              </a:rPr>
              <a:t>	</a:t>
            </a:r>
            <a:r>
              <a:rPr b="0" lang="en-US" sz="3500" spc="248" strike="noStrike">
                <a:solidFill>
                  <a:srgbClr val="232b3a"/>
                </a:solidFill>
                <a:latin typeface="Arial"/>
              </a:rPr>
              <a:t>18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0600">
              <a:lnSpc>
                <a:spcPct val="100000"/>
              </a:lnSpc>
              <a:tabLst>
                <a:tab algn="l" pos="1539360"/>
              </a:tabLst>
            </a:pPr>
            <a:r>
              <a:rPr b="0" lang="en-US" sz="3400" spc="-41" strike="noStrike">
                <a:solidFill>
                  <a:srgbClr val="232b3a"/>
                </a:solidFill>
                <a:latin typeface="Arial"/>
              </a:rPr>
              <a:t>Is</a:t>
            </a:r>
            <a:r>
              <a:rPr b="0" lang="en-US" sz="3400" spc="-114" strike="noStrike">
                <a:solidFill>
                  <a:srgbClr val="232b3a"/>
                </a:solidFill>
                <a:latin typeface="Arial"/>
              </a:rPr>
              <a:t> </a:t>
            </a:r>
            <a:r>
              <a:rPr b="0" lang="en-US" sz="3400" spc="-75" strike="noStrike">
                <a:solidFill>
                  <a:srgbClr val="232b3a"/>
                </a:solidFill>
                <a:latin typeface="Arial"/>
              </a:rPr>
              <a:t>Your</a:t>
            </a:r>
            <a:r>
              <a:rPr b="0" lang="en-US" sz="3400" spc="-75" strike="noStrike">
                <a:solidFill>
                  <a:srgbClr val="232b3a"/>
                </a:solidFill>
                <a:latin typeface="Arial"/>
              </a:rPr>
              <a:t>	</a:t>
            </a:r>
            <a:r>
              <a:rPr b="0" lang="en-US" sz="3400" spc="83" strike="noStrike">
                <a:solidFill>
                  <a:srgbClr val="232b3a"/>
                </a:solidFill>
                <a:latin typeface="Arial"/>
              </a:rPr>
              <a:t>Network</a:t>
            </a:r>
            <a:r>
              <a:rPr b="0" lang="en-US" sz="3400" spc="384" strike="noStrike">
                <a:solidFill>
                  <a:srgbClr val="232b3a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232b3a"/>
                </a:solidFill>
                <a:latin typeface="Arial"/>
              </a:rPr>
              <a:t>Ready</a:t>
            </a:r>
            <a:r>
              <a:rPr b="0" lang="en-US" sz="3400" spc="97" strike="noStrike">
                <a:solidFill>
                  <a:srgbClr val="232b3a"/>
                </a:solidFill>
                <a:latin typeface="Arial"/>
              </a:rPr>
              <a:t> </a:t>
            </a:r>
            <a:r>
              <a:rPr b="0" lang="en-US" sz="3400" spc="63" strike="noStrike">
                <a:solidFill>
                  <a:srgbClr val="232b3a"/>
                </a:solidFill>
                <a:latin typeface="Arial"/>
              </a:rPr>
              <a:t>f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5640">
              <a:lnSpc>
                <a:spcPct val="100000"/>
              </a:lnSpc>
              <a:spcBef>
                <a:spcPts val="241"/>
              </a:spcBef>
              <a:tabLst>
                <a:tab algn="l" pos="1539360"/>
              </a:tabLst>
            </a:pPr>
            <a:r>
              <a:rPr b="0" lang="en-US" sz="3400" spc="12" strike="noStrike">
                <a:solidFill>
                  <a:srgbClr val="232b3a"/>
                </a:solidFill>
                <a:latin typeface="Arial"/>
              </a:rPr>
              <a:t>Innova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ject 6"/>
          <p:cNvSpPr/>
          <p:nvPr/>
        </p:nvSpPr>
        <p:spPr>
          <a:xfrm>
            <a:off x="1679040" y="3783240"/>
            <a:ext cx="31986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2000" spc="18" strike="noStrike">
                <a:solidFill>
                  <a:srgbClr val="49494b"/>
                </a:solidFill>
                <a:latin typeface="Arial"/>
              </a:rPr>
              <a:t>Smart</a:t>
            </a:r>
            <a:r>
              <a:rPr b="0" lang="en-US" sz="2000" spc="69" strike="noStrike">
                <a:solidFill>
                  <a:srgbClr val="49494b"/>
                </a:solidFill>
                <a:latin typeface="Arial"/>
              </a:rPr>
              <a:t> </a:t>
            </a:r>
            <a:r>
              <a:rPr b="0" lang="en-US" sz="2000" spc="4" strike="noStrike">
                <a:solidFill>
                  <a:srgbClr val="49494b"/>
                </a:solidFill>
                <a:latin typeface="Arial"/>
              </a:rPr>
              <a:t>Talk</a:t>
            </a:r>
            <a:r>
              <a:rPr b="0" lang="en-US" sz="2000" spc="157" strike="noStrike">
                <a:solidFill>
                  <a:srgbClr val="49494b"/>
                </a:solidFill>
                <a:latin typeface="Arial"/>
              </a:rPr>
              <a:t> </a:t>
            </a:r>
            <a:r>
              <a:rPr b="0" lang="en-US" sz="2000" spc="18" strike="noStrike">
                <a:solidFill>
                  <a:srgbClr val="49494b"/>
                </a:solidFill>
                <a:latin typeface="Arial"/>
              </a:rPr>
              <a:t>Webinar</a:t>
            </a:r>
            <a:r>
              <a:rPr b="0" lang="en-US" sz="2000" spc="233" strike="noStrike">
                <a:solidFill>
                  <a:srgbClr val="49494b"/>
                </a:solidFill>
                <a:latin typeface="Arial"/>
              </a:rPr>
              <a:t> </a:t>
            </a:r>
            <a:r>
              <a:rPr b="0" lang="en-US" sz="2000" spc="12" strike="noStrike">
                <a:solidFill>
                  <a:srgbClr val="49494b"/>
                </a:solidFill>
                <a:latin typeface="Arial"/>
              </a:rPr>
              <a:t>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ject 7"/>
          <p:cNvSpPr/>
          <p:nvPr/>
        </p:nvSpPr>
        <p:spPr>
          <a:xfrm>
            <a:off x="3818520" y="6571440"/>
            <a:ext cx="48135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 indent="4320">
              <a:lnSpc>
                <a:spcPct val="138000"/>
              </a:lnSpc>
              <a:tabLst>
                <a:tab algn="l" pos="0"/>
              </a:tabLst>
            </a:pPr>
            <a:r>
              <a:rPr b="0" lang="en-US" sz="950" spc="-21" strike="noStrike">
                <a:solidFill>
                  <a:srgbClr val="7e8082"/>
                </a:solidFill>
                <a:latin typeface="Arial"/>
              </a:rPr>
              <a:t>Smart</a:t>
            </a:r>
            <a:r>
              <a:rPr b="0" lang="en-US" sz="950" spc="24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26" strike="noStrike">
                <a:solidFill>
                  <a:srgbClr val="7e8082"/>
                </a:solidFill>
                <a:latin typeface="Arial"/>
              </a:rPr>
              <a:t>Talk</a:t>
            </a:r>
            <a:r>
              <a:rPr b="0" lang="en-US" sz="950" spc="97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24" strike="noStrike">
                <a:solidFill>
                  <a:srgbClr val="959095"/>
                </a:solidFill>
                <a:latin typeface="Arial"/>
              </a:rPr>
              <a:t>is</a:t>
            </a:r>
            <a:r>
              <a:rPr b="0" lang="en-US" sz="950" spc="-35" strike="noStrike">
                <a:solidFill>
                  <a:srgbClr val="959095"/>
                </a:solidFill>
                <a:latin typeface="Arial"/>
              </a:rPr>
              <a:t> </a:t>
            </a:r>
            <a:r>
              <a:rPr b="0" lang="en-US" sz="950" spc="4" strike="noStrike">
                <a:solidFill>
                  <a:srgbClr val="7e8082"/>
                </a:solidFill>
                <a:latin typeface="Arial"/>
              </a:rPr>
              <a:t>a</a:t>
            </a:r>
            <a:r>
              <a:rPr b="0" lang="en-US" sz="950" spc="-80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12" strike="noStrike">
                <a:solidFill>
                  <a:srgbClr val="7e8082"/>
                </a:solidFill>
                <a:latin typeface="Arial"/>
              </a:rPr>
              <a:t>webinar</a:t>
            </a:r>
            <a:r>
              <a:rPr b="0" lang="en-US" sz="950" spc="72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1" strike="noStrike">
                <a:solidFill>
                  <a:srgbClr val="7e8082"/>
                </a:solidFill>
                <a:latin typeface="Arial"/>
              </a:rPr>
              <a:t>series</a:t>
            </a:r>
            <a:r>
              <a:rPr b="0" lang="en-US" sz="950" spc="43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1" strike="noStrike">
                <a:solidFill>
                  <a:srgbClr val="7e8082"/>
                </a:solidFill>
                <a:latin typeface="Arial"/>
              </a:rPr>
              <a:t>showcasing</a:t>
            </a:r>
            <a:r>
              <a:rPr b="0" lang="en-US" sz="950" spc="12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7" strike="noStrike">
                <a:solidFill>
                  <a:srgbClr val="7e8082"/>
                </a:solidFill>
                <a:latin typeface="Arial"/>
              </a:rPr>
              <a:t>the</a:t>
            </a:r>
            <a:r>
              <a:rPr b="0" lang="en-US" sz="950" spc="-41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15" strike="noStrike">
                <a:solidFill>
                  <a:srgbClr val="7e8082"/>
                </a:solidFill>
                <a:latin typeface="Arial"/>
              </a:rPr>
              <a:t>different</a:t>
            </a:r>
            <a:r>
              <a:rPr b="0" lang="en-US" sz="950" spc="43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7" strike="noStrike">
                <a:solidFill>
                  <a:srgbClr val="7e8082"/>
                </a:solidFill>
                <a:latin typeface="Arial"/>
              </a:rPr>
              <a:t>smart</a:t>
            </a:r>
            <a:r>
              <a:rPr b="0" lang="en-US" sz="950" spc="-15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4" strike="noStrike">
                <a:solidFill>
                  <a:srgbClr val="7e8082"/>
                </a:solidFill>
                <a:latin typeface="Arial"/>
              </a:rPr>
              <a:t>services</a:t>
            </a:r>
            <a:r>
              <a:rPr b="0" lang="en-US" sz="950" spc="69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9" strike="noStrike">
                <a:solidFill>
                  <a:srgbClr val="7e8082"/>
                </a:solidFill>
                <a:latin typeface="Arial"/>
              </a:rPr>
              <a:t>Cisco</a:t>
            </a:r>
            <a:r>
              <a:rPr b="0" lang="en-US" sz="950" spc="-15" strike="noStrike">
                <a:solidFill>
                  <a:srgbClr val="7e8082"/>
                </a:solidFill>
                <a:latin typeface="Arial"/>
              </a:rPr>
              <a:t> offers </a:t>
            </a:r>
            <a:r>
              <a:rPr b="0" lang="en-US" sz="950" spc="94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1" strike="noStrike">
                <a:solidFill>
                  <a:srgbClr val="7e8082"/>
                </a:solidFill>
                <a:latin typeface="Arial"/>
              </a:rPr>
              <a:t>Pres </a:t>
            </a:r>
            <a:r>
              <a:rPr b="0" lang="en-US" sz="950" spc="-7" strike="noStrike">
                <a:solidFill>
                  <a:srgbClr val="7e8082"/>
                </a:solidFill>
                <a:latin typeface="Arial"/>
              </a:rPr>
              <a:t>the </a:t>
            </a:r>
            <a:r>
              <a:rPr b="0" lang="en-US" sz="950" spc="-32" strike="noStrike">
                <a:solidFill>
                  <a:srgbClr val="7e8082"/>
                </a:solidFill>
                <a:latin typeface="Arial"/>
              </a:rPr>
              <a:t>benefrts</a:t>
            </a:r>
            <a:r>
              <a:rPr b="0" lang="en-US" sz="950" spc="38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29" strike="noStrike">
                <a:solidFill>
                  <a:srgbClr val="7e8082"/>
                </a:solidFill>
                <a:latin typeface="Arial"/>
              </a:rPr>
              <a:t>ofthese</a:t>
            </a:r>
            <a:r>
              <a:rPr b="0" lang="en-US" sz="950" spc="4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1" strike="noStrike">
                <a:solidFill>
                  <a:srgbClr val="7e8082"/>
                </a:solidFill>
                <a:latin typeface="Arial"/>
              </a:rPr>
              <a:t>services</a:t>
            </a:r>
            <a:r>
              <a:rPr b="0" lang="en-US" sz="950" spc="-151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zh-CN" sz="700" spc="-236" strike="noStrike">
                <a:solidFill>
                  <a:srgbClr val="b3b3b3"/>
                </a:solidFill>
                <a:latin typeface="宋体"/>
              </a:rPr>
              <a:t>，</a:t>
            </a:r>
            <a:r>
              <a:rPr b="0" lang="en-US" sz="950" spc="-1" strike="noStrike">
                <a:solidFill>
                  <a:srgbClr val="7e8082"/>
                </a:solidFill>
                <a:latin typeface="Arial"/>
              </a:rPr>
              <a:t>and</a:t>
            </a:r>
            <a:r>
              <a:rPr b="0" lang="en-US" sz="950" spc="-15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4" strike="noStrike">
                <a:solidFill>
                  <a:srgbClr val="7e8082"/>
                </a:solidFill>
                <a:latin typeface="Arial"/>
              </a:rPr>
              <a:t>shows</a:t>
            </a:r>
            <a:r>
              <a:rPr b="0" lang="en-US" sz="950" spc="72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4" strike="noStrike">
                <a:solidFill>
                  <a:srgbClr val="7e8082"/>
                </a:solidFill>
                <a:latin typeface="Arial"/>
              </a:rPr>
              <a:t>how</a:t>
            </a:r>
            <a:r>
              <a:rPr b="0" lang="en-US" sz="950" spc="-80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15" strike="noStrike">
                <a:solidFill>
                  <a:srgbClr val="7e8082"/>
                </a:solidFill>
                <a:latin typeface="Arial"/>
              </a:rPr>
              <a:t>they</a:t>
            </a:r>
            <a:r>
              <a:rPr b="0" lang="en-US" sz="950" spc="63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18" strike="noStrike">
                <a:solidFill>
                  <a:srgbClr val="7e8082"/>
                </a:solidFill>
                <a:latin typeface="Arial"/>
              </a:rPr>
              <a:t>can</a:t>
            </a:r>
            <a:r>
              <a:rPr b="0" lang="en-US" sz="950" spc="12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12" strike="noStrike">
                <a:solidFill>
                  <a:srgbClr val="7e8082"/>
                </a:solidFill>
                <a:latin typeface="Arial"/>
              </a:rPr>
              <a:t>help</a:t>
            </a:r>
            <a:r>
              <a:rPr b="0" lang="en-US" sz="950" spc="-80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9" strike="noStrike">
                <a:solidFill>
                  <a:srgbClr val="7e8082"/>
                </a:solidFill>
                <a:latin typeface="Arial"/>
              </a:rPr>
              <a:t>you</a:t>
            </a:r>
            <a:r>
              <a:rPr b="0" lang="en-US" sz="950" spc="4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9" strike="noStrike">
                <a:solidFill>
                  <a:srgbClr val="7e8082"/>
                </a:solidFill>
                <a:latin typeface="Arial"/>
              </a:rPr>
              <a:t>succeed</a:t>
            </a:r>
            <a:endParaRPr b="0" lang="en-US" sz="9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49"/>
              </a:lnSpc>
              <a:spcBef>
                <a:spcPts val="17"/>
              </a:spcBef>
              <a:tabLst>
                <a:tab algn="l" pos="0"/>
              </a:tabLst>
            </a:pPr>
            <a:endParaRPr b="0" lang="en-US" sz="6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280" indent="4320">
              <a:lnSpc>
                <a:spcPct val="100000"/>
              </a:lnSpc>
              <a:tabLst>
                <a:tab algn="l" pos="0"/>
              </a:tabLst>
            </a:pPr>
            <a:r>
              <a:rPr b="0" lang="en-US" sz="950" spc="-1" strike="noStrike">
                <a:solidFill>
                  <a:srgbClr val="7e8082"/>
                </a:solidFill>
                <a:latin typeface="Arial"/>
              </a:rPr>
              <a:t>See</a:t>
            </a:r>
            <a:r>
              <a:rPr b="0" lang="en-US" sz="950" spc="-32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4" strike="noStrike">
                <a:solidFill>
                  <a:srgbClr val="7e8082"/>
                </a:solidFill>
                <a:latin typeface="Arial"/>
              </a:rPr>
              <a:t>how</a:t>
            </a:r>
            <a:r>
              <a:rPr b="0" lang="en-US" sz="950" spc="-46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7" strike="noStrike">
                <a:solidFill>
                  <a:srgbClr val="7e8082"/>
                </a:solidFill>
                <a:latin typeface="Arial"/>
              </a:rPr>
              <a:t>the </a:t>
            </a:r>
            <a:r>
              <a:rPr b="0" lang="en-US" sz="950" spc="-26" strike="noStrike">
                <a:solidFill>
                  <a:srgbClr val="959095"/>
                </a:solidFill>
                <a:latin typeface="Arial"/>
              </a:rPr>
              <a:t>Implementation</a:t>
            </a:r>
            <a:r>
              <a:rPr b="0" lang="en-US" sz="950" spc="18" strike="noStrike">
                <a:solidFill>
                  <a:srgbClr val="959095"/>
                </a:solidFill>
                <a:latin typeface="Arial"/>
              </a:rPr>
              <a:t> </a:t>
            </a:r>
            <a:r>
              <a:rPr b="0" lang="en-US" sz="950" spc="-1" strike="noStrike">
                <a:solidFill>
                  <a:srgbClr val="7e8082"/>
                </a:solidFill>
                <a:latin typeface="Arial"/>
              </a:rPr>
              <a:t>of</a:t>
            </a:r>
            <a:r>
              <a:rPr b="0" lang="en-US" sz="950" spc="-32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7" strike="noStrike">
                <a:solidFill>
                  <a:srgbClr val="7e8082"/>
                </a:solidFill>
                <a:latin typeface="Arial"/>
              </a:rPr>
              <a:t>smart</a:t>
            </a:r>
            <a:r>
              <a:rPr b="0" lang="en-US" sz="950" spc="24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1" strike="noStrike">
                <a:solidFill>
                  <a:srgbClr val="7e8082"/>
                </a:solidFill>
                <a:latin typeface="Arial"/>
              </a:rPr>
              <a:t>servlces</a:t>
            </a:r>
            <a:r>
              <a:rPr b="0" lang="en-US" sz="950" spc="103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12" strike="noStrike">
                <a:solidFill>
                  <a:srgbClr val="7e8082"/>
                </a:solidFill>
                <a:latin typeface="Arial"/>
              </a:rPr>
              <a:t>such</a:t>
            </a:r>
            <a:r>
              <a:rPr b="0" lang="en-US" sz="950" spc="-32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9" strike="noStrike">
                <a:solidFill>
                  <a:srgbClr val="7e8082"/>
                </a:solidFill>
                <a:latin typeface="Arial"/>
              </a:rPr>
              <a:t>as</a:t>
            </a:r>
            <a:r>
              <a:rPr b="0" lang="en-US" sz="950" spc="4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7" strike="noStrike">
                <a:solidFill>
                  <a:srgbClr val="7e8082"/>
                </a:solidFill>
                <a:latin typeface="Arial"/>
              </a:rPr>
              <a:t>Smart</a:t>
            </a:r>
            <a:r>
              <a:rPr b="0" lang="en-US" sz="950" spc="9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1" strike="noStrike">
                <a:solidFill>
                  <a:srgbClr val="7e8082"/>
                </a:solidFill>
                <a:latin typeface="Arial"/>
              </a:rPr>
              <a:t>Net</a:t>
            </a:r>
            <a:r>
              <a:rPr b="0" lang="en-US" sz="950" spc="-32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15" strike="noStrike">
                <a:solidFill>
                  <a:srgbClr val="7e8082"/>
                </a:solidFill>
                <a:latin typeface="Arial"/>
              </a:rPr>
              <a:t>Total</a:t>
            </a:r>
            <a:r>
              <a:rPr b="0" lang="en-US" sz="950" spc="4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9" strike="noStrike">
                <a:solidFill>
                  <a:srgbClr val="7e8082"/>
                </a:solidFill>
                <a:latin typeface="Arial"/>
              </a:rPr>
              <a:t>Car</a:t>
            </a:r>
            <a:r>
              <a:rPr b="0" lang="en-US" sz="950" spc="-7" strike="noStrike">
                <a:solidFill>
                  <a:srgbClr val="7e8082"/>
                </a:solidFill>
                <a:latin typeface="Arial"/>
              </a:rPr>
              <a:t>e</a:t>
            </a:r>
            <a:r>
              <a:rPr b="0" lang="zh-CN" sz="750" spc="-250" strike="noStrike">
                <a:solidFill>
                  <a:srgbClr val="b3b3b3"/>
                </a:solidFill>
                <a:latin typeface="宋体"/>
              </a:rPr>
              <a:t>，</a:t>
            </a:r>
            <a:r>
              <a:rPr b="0" lang="en-US" sz="950" spc="9" strike="noStrike">
                <a:solidFill>
                  <a:srgbClr val="7e8082"/>
                </a:solidFill>
                <a:latin typeface="Arial"/>
              </a:rPr>
              <a:t>Cisco</a:t>
            </a:r>
            <a:endParaRPr b="0" lang="en-US" sz="950" spc="-1" strike="noStrike">
              <a:solidFill>
                <a:srgbClr val="000000"/>
              </a:solidFill>
              <a:latin typeface="Arial"/>
            </a:endParaRPr>
          </a:p>
          <a:p>
            <a:pPr marL="17280" indent="4320">
              <a:lnSpc>
                <a:spcPct val="100000"/>
              </a:lnSpc>
              <a:spcBef>
                <a:spcPts val="439"/>
              </a:spcBef>
              <a:tabLst>
                <a:tab algn="l" pos="0"/>
              </a:tabLst>
            </a:pPr>
            <a:r>
              <a:rPr b="0" lang="en-US" sz="950" spc="-15" strike="noStrike">
                <a:solidFill>
                  <a:srgbClr val="7e8082"/>
                </a:solidFill>
                <a:latin typeface="Arial"/>
              </a:rPr>
              <a:t>and</a:t>
            </a:r>
            <a:r>
              <a:rPr b="0" lang="en-US" sz="950" spc="12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12" strike="noStrike">
                <a:solidFill>
                  <a:srgbClr val="7e8082"/>
                </a:solidFill>
                <a:latin typeface="Arial"/>
              </a:rPr>
              <a:t>more</a:t>
            </a:r>
            <a:r>
              <a:rPr b="0" lang="en-US" sz="950" spc="-35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18" strike="noStrike">
                <a:solidFill>
                  <a:srgbClr val="7e8082"/>
                </a:solidFill>
                <a:latin typeface="Arial"/>
              </a:rPr>
              <a:t>can</a:t>
            </a:r>
            <a:r>
              <a:rPr b="0" lang="en-US" sz="950" spc="-60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12" strike="noStrike">
                <a:solidFill>
                  <a:srgbClr val="7e8082"/>
                </a:solidFill>
                <a:latin typeface="Arial"/>
              </a:rPr>
              <a:t>Influence</a:t>
            </a:r>
            <a:r>
              <a:rPr b="0" lang="en-US" sz="950" spc="-52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15" strike="noStrike">
                <a:solidFill>
                  <a:srgbClr val="7e8082"/>
                </a:solidFill>
                <a:latin typeface="Arial"/>
              </a:rPr>
              <a:t>and</a:t>
            </a:r>
            <a:r>
              <a:rPr b="0" lang="en-US" sz="950" spc="-21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1" strike="noStrike">
                <a:solidFill>
                  <a:srgbClr val="7e8082"/>
                </a:solidFill>
                <a:latin typeface="Arial"/>
              </a:rPr>
              <a:t>change</a:t>
            </a:r>
            <a:r>
              <a:rPr b="0" lang="en-US" sz="950" spc="-72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1" strike="noStrike">
                <a:solidFill>
                  <a:srgbClr val="7e8082"/>
                </a:solidFill>
                <a:latin typeface="Arial"/>
              </a:rPr>
              <a:t>your</a:t>
            </a:r>
            <a:r>
              <a:rPr b="0" lang="en-US" sz="950" spc="63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1" strike="noStrike">
                <a:solidFill>
                  <a:srgbClr val="7e8082"/>
                </a:solidFill>
                <a:latin typeface="Arial"/>
              </a:rPr>
              <a:t>buslness</a:t>
            </a:r>
            <a:r>
              <a:rPr b="0" lang="en-US" sz="950" spc="52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21" strike="noStrike">
                <a:solidFill>
                  <a:srgbClr val="7e8082"/>
                </a:solidFill>
                <a:latin typeface="Arial"/>
              </a:rPr>
              <a:t>outcomes </a:t>
            </a:r>
            <a:r>
              <a:rPr b="0" lang="en-US" sz="950" spc="111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21" strike="noStrike">
                <a:solidFill>
                  <a:srgbClr val="7e8082"/>
                </a:solidFill>
                <a:latin typeface="Arial"/>
              </a:rPr>
              <a:t>Smart</a:t>
            </a:r>
            <a:r>
              <a:rPr b="0" lang="en-US" sz="950" spc="-12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4" strike="noStrike">
                <a:solidFill>
                  <a:srgbClr val="7e8082"/>
                </a:solidFill>
                <a:latin typeface="Arial"/>
              </a:rPr>
              <a:t>services</a:t>
            </a:r>
            <a:r>
              <a:rPr b="0" lang="en-US" sz="950" spc="69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9" strike="noStrike">
                <a:solidFill>
                  <a:srgbClr val="7e8082"/>
                </a:solidFill>
                <a:latin typeface="Arial"/>
              </a:rPr>
              <a:t>are</a:t>
            </a:r>
            <a:r>
              <a:rPr b="0" lang="en-US" sz="950" spc="-60" strike="noStrike">
                <a:solidFill>
                  <a:srgbClr val="7e8082"/>
                </a:solidFill>
                <a:latin typeface="Arial"/>
              </a:rPr>
              <a:t> </a:t>
            </a:r>
            <a:r>
              <a:rPr b="0" lang="en-US" sz="950" spc="-12" strike="noStrike">
                <a:solidFill>
                  <a:srgbClr val="7e8082"/>
                </a:solidFill>
                <a:latin typeface="Arial"/>
              </a:rPr>
              <a:t>enabled</a:t>
            </a:r>
            <a:endParaRPr b="0" lang="en-US" sz="9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206640" y="10015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5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object 2"/>
          <p:cNvSpPr/>
          <p:nvPr/>
        </p:nvSpPr>
        <p:spPr>
          <a:xfrm>
            <a:off x="15906600" y="9788040"/>
            <a:ext cx="11343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s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2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de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n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ject 3"/>
          <p:cNvSpPr/>
          <p:nvPr/>
        </p:nvSpPr>
        <p:spPr>
          <a:xfrm>
            <a:off x="17471520" y="9781560"/>
            <a:ext cx="18072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ject 4"/>
          <p:cNvSpPr/>
          <p:nvPr/>
        </p:nvSpPr>
        <p:spPr>
          <a:xfrm>
            <a:off x="694800" y="9790560"/>
            <a:ext cx="3313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15 </a:t>
            </a:r>
            <a:r>
              <a:rPr b="0" lang="en-US" sz="1200" spc="9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i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2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32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0" lang="en-US" sz="1200" spc="-15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li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-15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s.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g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hts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ese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ject 5"/>
          <p:cNvSpPr/>
          <p:nvPr/>
        </p:nvSpPr>
        <p:spPr>
          <a:xfrm>
            <a:off x="6538320" y="4038120"/>
            <a:ext cx="521352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8800" spc="-151" strike="noStrike">
                <a:solidFill>
                  <a:srgbClr val="ffffff"/>
                </a:solidFill>
                <a:latin typeface="Arial"/>
              </a:rPr>
              <a:t>Thank</a:t>
            </a:r>
            <a:r>
              <a:rPr b="0" lang="en-US" sz="8800" spc="188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29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o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ject 6"/>
          <p:cNvSpPr/>
          <p:nvPr/>
        </p:nvSpPr>
        <p:spPr>
          <a:xfrm>
            <a:off x="8229600" y="5559840"/>
            <a:ext cx="1896120" cy="1067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bject 2"/>
          <p:cNvSpPr/>
          <p:nvPr/>
        </p:nvSpPr>
        <p:spPr>
          <a:xfrm>
            <a:off x="14508720" y="6404760"/>
            <a:ext cx="2370600" cy="2370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object 3"/>
          <p:cNvSpPr/>
          <p:nvPr/>
        </p:nvSpPr>
        <p:spPr>
          <a:xfrm>
            <a:off x="7758360" y="6167880"/>
            <a:ext cx="2709720" cy="270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object 4"/>
          <p:cNvSpPr/>
          <p:nvPr/>
        </p:nvSpPr>
        <p:spPr>
          <a:xfrm>
            <a:off x="4597200" y="5968440"/>
            <a:ext cx="2812320" cy="2812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object 5"/>
          <p:cNvSpPr/>
          <p:nvPr/>
        </p:nvSpPr>
        <p:spPr>
          <a:xfrm>
            <a:off x="1259280" y="6184800"/>
            <a:ext cx="2610000" cy="2610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object 6"/>
          <p:cNvSpPr/>
          <p:nvPr/>
        </p:nvSpPr>
        <p:spPr>
          <a:xfrm>
            <a:off x="11111400" y="6467400"/>
            <a:ext cx="2713320" cy="27133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bject 7"/>
          <p:cNvSpPr/>
          <p:nvPr/>
        </p:nvSpPr>
        <p:spPr>
          <a:xfrm>
            <a:off x="0" y="0"/>
            <a:ext cx="18287640" cy="2402280"/>
          </a:xfrm>
          <a:custGeom>
            <a:avLst/>
            <a:gdLst>
              <a:gd name="textAreaLeft" fmla="*/ 0 w 18287640"/>
              <a:gd name="textAreaRight" fmla="*/ 18288000 w 18287640"/>
              <a:gd name="textAreaTop" fmla="*/ 0 h 2402280"/>
              <a:gd name="textAreaBottom" fmla="*/ 2402640 h 2402280"/>
            </a:gdLst>
            <a:ahLst/>
            <a:rect l="textAreaLeft" t="textAreaTop" r="textAreaRight" b="textAreaBottom"/>
            <a:pathLst>
              <a:path w="18288000" h="2402585">
                <a:moveTo>
                  <a:pt x="0" y="2402586"/>
                </a:moveTo>
                <a:lnTo>
                  <a:pt x="18288000" y="2402586"/>
                </a:lnTo>
                <a:lnTo>
                  <a:pt x="18288000" y="0"/>
                </a:lnTo>
                <a:lnTo>
                  <a:pt x="0" y="0"/>
                </a:lnTo>
                <a:lnTo>
                  <a:pt x="0" y="2402586"/>
                </a:lnTo>
              </a:path>
            </a:pathLst>
          </a:custGeom>
          <a:solidFill>
            <a:srgbClr val="232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object 8"/>
          <p:cNvSpPr/>
          <p:nvPr/>
        </p:nvSpPr>
        <p:spPr>
          <a:xfrm>
            <a:off x="4928760" y="684360"/>
            <a:ext cx="8429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5600" spc="-32" strike="noStrike">
                <a:solidFill>
                  <a:srgbClr val="ffffff"/>
                </a:solidFill>
                <a:latin typeface="Arial"/>
              </a:rPr>
              <a:t>Changing</a:t>
            </a:r>
            <a:r>
              <a:rPr b="0" lang="en-US" sz="5600" spc="103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-60" strike="noStrike">
                <a:solidFill>
                  <a:srgbClr val="ffffff"/>
                </a:solidFill>
                <a:latin typeface="Arial"/>
              </a:rPr>
              <a:t>Busine</a:t>
            </a:r>
            <a:r>
              <a:rPr b="0" lang="en-US" sz="5600" spc="-100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5600" spc="-32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5600" spc="117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5600" spc="12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5600" spc="58" strike="noStrike">
                <a:solidFill>
                  <a:srgbClr val="ffffff"/>
                </a:solidFill>
                <a:latin typeface="Arial"/>
              </a:rPr>
              <a:t>ed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bject 9"/>
          <p:cNvSpPr/>
          <p:nvPr/>
        </p:nvSpPr>
        <p:spPr>
          <a:xfrm>
            <a:off x="2550600" y="5443920"/>
            <a:ext cx="13165200" cy="360"/>
          </a:xfrm>
          <a:custGeom>
            <a:avLst/>
            <a:gdLst>
              <a:gd name="textAreaLeft" fmla="*/ 0 w 13165200"/>
              <a:gd name="textAreaRight" fmla="*/ 13165560 w 131652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3165709" h="0">
                <a:moveTo>
                  <a:pt x="0" y="0"/>
                </a:moveTo>
                <a:lnTo>
                  <a:pt x="13165709" y="0"/>
                </a:lnTo>
              </a:path>
            </a:pathLst>
          </a:custGeom>
          <a:noFill/>
          <a:ln w="76200">
            <a:solidFill>
              <a:srgbClr val="232c3a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bject 10"/>
          <p:cNvSpPr/>
          <p:nvPr/>
        </p:nvSpPr>
        <p:spPr>
          <a:xfrm>
            <a:off x="8429040" y="2685960"/>
            <a:ext cx="1457640" cy="31060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bject 11"/>
          <p:cNvSpPr/>
          <p:nvPr/>
        </p:nvSpPr>
        <p:spPr>
          <a:xfrm>
            <a:off x="5965200" y="5608440"/>
            <a:ext cx="360" cy="243360"/>
          </a:xfrm>
          <a:custGeom>
            <a:avLst/>
            <a:gdLst>
              <a:gd name="textAreaLeft" fmla="*/ 0 w 360"/>
              <a:gd name="textAreaRight" fmla="*/ 720 w 360"/>
              <a:gd name="textAreaTop" fmla="*/ 0 h 243360"/>
              <a:gd name="textAreaBottom" fmla="*/ 243720 h 243360"/>
            </a:gdLst>
            <a:ahLst/>
            <a:rect l="textAreaLeft" t="textAreaTop" r="textAreaRight" b="textAreaBottom"/>
            <a:pathLst>
              <a:path w="0" h="243839">
                <a:moveTo>
                  <a:pt x="0" y="0"/>
                </a:moveTo>
                <a:lnTo>
                  <a:pt x="0" y="243839"/>
                </a:lnTo>
              </a:path>
            </a:pathLst>
          </a:custGeom>
          <a:noFill/>
          <a:ln w="76200">
            <a:solidFill>
              <a:srgbClr val="232c3a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object 12"/>
          <p:cNvSpPr/>
          <p:nvPr/>
        </p:nvSpPr>
        <p:spPr>
          <a:xfrm>
            <a:off x="9163080" y="5891760"/>
            <a:ext cx="360" cy="176040"/>
          </a:xfrm>
          <a:custGeom>
            <a:avLst/>
            <a:gdLst>
              <a:gd name="textAreaLeft" fmla="*/ 0 w 360"/>
              <a:gd name="textAreaRight" fmla="*/ 720 w 3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0" h="176403">
                <a:moveTo>
                  <a:pt x="0" y="0"/>
                </a:moveTo>
                <a:lnTo>
                  <a:pt x="0" y="176403"/>
                </a:lnTo>
              </a:path>
            </a:pathLst>
          </a:custGeom>
          <a:noFill/>
          <a:ln w="76200">
            <a:solidFill>
              <a:srgbClr val="232c3a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object 13"/>
          <p:cNvSpPr/>
          <p:nvPr/>
        </p:nvSpPr>
        <p:spPr>
          <a:xfrm>
            <a:off x="12686400" y="5596560"/>
            <a:ext cx="360" cy="1124640"/>
          </a:xfrm>
          <a:custGeom>
            <a:avLst/>
            <a:gdLst>
              <a:gd name="textAreaLeft" fmla="*/ 0 w 360"/>
              <a:gd name="textAreaRight" fmla="*/ 720 w 360"/>
              <a:gd name="textAreaTop" fmla="*/ 0 h 1124640"/>
              <a:gd name="textAreaBottom" fmla="*/ 1125000 h 1124640"/>
            </a:gdLst>
            <a:ahLst/>
            <a:rect l="textAreaLeft" t="textAreaTop" r="textAreaRight" b="textAreaBottom"/>
            <a:pathLst>
              <a:path w="0" h="1124966">
                <a:moveTo>
                  <a:pt x="0" y="0"/>
                </a:moveTo>
                <a:lnTo>
                  <a:pt x="0" y="1124966"/>
                </a:lnTo>
              </a:path>
            </a:pathLst>
          </a:custGeom>
          <a:noFill/>
          <a:ln w="76200">
            <a:solidFill>
              <a:srgbClr val="232c3a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object 14"/>
          <p:cNvSpPr/>
          <p:nvPr/>
        </p:nvSpPr>
        <p:spPr>
          <a:xfrm>
            <a:off x="2548080" y="5610240"/>
            <a:ext cx="360" cy="1105920"/>
          </a:xfrm>
          <a:custGeom>
            <a:avLst/>
            <a:gdLst>
              <a:gd name="textAreaLeft" fmla="*/ 0 w 360"/>
              <a:gd name="textAreaRight" fmla="*/ 720 w 360"/>
              <a:gd name="textAreaTop" fmla="*/ 0 h 1105920"/>
              <a:gd name="textAreaBottom" fmla="*/ 1106280 h 1105920"/>
            </a:gdLst>
            <a:ahLst/>
            <a:rect l="textAreaLeft" t="textAreaTop" r="textAreaRight" b="textAreaBottom"/>
            <a:pathLst>
              <a:path w="0" h="1106424">
                <a:moveTo>
                  <a:pt x="0" y="0"/>
                </a:moveTo>
                <a:lnTo>
                  <a:pt x="0" y="1106424"/>
                </a:lnTo>
              </a:path>
            </a:pathLst>
          </a:custGeom>
          <a:noFill/>
          <a:ln w="76200">
            <a:solidFill>
              <a:srgbClr val="232c3a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object 15"/>
          <p:cNvSpPr/>
          <p:nvPr/>
        </p:nvSpPr>
        <p:spPr>
          <a:xfrm>
            <a:off x="15694200" y="5603040"/>
            <a:ext cx="2520" cy="801000"/>
          </a:xfrm>
          <a:custGeom>
            <a:avLst/>
            <a:gdLst>
              <a:gd name="textAreaLeft" fmla="*/ 0 w 2520"/>
              <a:gd name="textAreaRight" fmla="*/ 2880 w 2520"/>
              <a:gd name="textAreaTop" fmla="*/ 0 h 801000"/>
              <a:gd name="textAreaBottom" fmla="*/ 801360 h 801000"/>
            </a:gdLst>
            <a:ahLst/>
            <a:rect l="textAreaLeft" t="textAreaTop" r="textAreaRight" b="textAreaBottom"/>
            <a:pathLst>
              <a:path w="3048" h="801496">
                <a:moveTo>
                  <a:pt x="3048" y="0"/>
                </a:moveTo>
                <a:lnTo>
                  <a:pt x="0" y="801496"/>
                </a:lnTo>
              </a:path>
            </a:pathLst>
          </a:custGeom>
          <a:noFill/>
          <a:ln w="76199">
            <a:solidFill>
              <a:srgbClr val="232c3a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object 16"/>
          <p:cNvSpPr/>
          <p:nvPr/>
        </p:nvSpPr>
        <p:spPr>
          <a:xfrm>
            <a:off x="2068200" y="9027720"/>
            <a:ext cx="1120680" cy="4827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object 17"/>
          <p:cNvSpPr/>
          <p:nvPr/>
        </p:nvSpPr>
        <p:spPr>
          <a:xfrm>
            <a:off x="5273280" y="9043560"/>
            <a:ext cx="1504800" cy="4827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bject 18"/>
          <p:cNvSpPr/>
          <p:nvPr/>
        </p:nvSpPr>
        <p:spPr>
          <a:xfrm>
            <a:off x="8490960" y="9043560"/>
            <a:ext cx="1574280" cy="4827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bject 19"/>
          <p:cNvSpPr/>
          <p:nvPr/>
        </p:nvSpPr>
        <p:spPr>
          <a:xfrm>
            <a:off x="12148560" y="9043560"/>
            <a:ext cx="1119600" cy="48276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bject 20"/>
          <p:cNvSpPr/>
          <p:nvPr/>
        </p:nvSpPr>
        <p:spPr>
          <a:xfrm>
            <a:off x="15150240" y="9027720"/>
            <a:ext cx="1362600" cy="48276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Num" idx="16"/>
          </p:nvPr>
        </p:nvSpPr>
        <p:spPr>
          <a:xfrm>
            <a:off x="17536680" y="9781560"/>
            <a:ext cx="12780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buNone/>
              <a:defRPr b="0" lang="en-US" sz="1200" spc="-12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5560" indent="0">
              <a:lnSpc>
                <a:spcPct val="100000"/>
              </a:lnSpc>
              <a:buNone/>
            </a:pPr>
            <a:fld id="{CCF4D950-DB74-4CFB-AEC5-6F221B858588}" type="slidenum">
              <a:rPr b="0" lang="en-US" sz="1200" spc="-12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ftr" idx="17"/>
          </p:nvPr>
        </p:nvSpPr>
        <p:spPr>
          <a:xfrm>
            <a:off x="694800" y="9790560"/>
            <a:ext cx="331308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15 </a:t>
            </a:r>
            <a:r>
              <a:rPr b="0" lang="en-US" sz="1200" spc="9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i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2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32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0" lang="en-US" sz="1200" spc="-15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li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-15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s.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g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hts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ese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8"/>
          </p:nvPr>
        </p:nvSpPr>
        <p:spPr>
          <a:xfrm>
            <a:off x="15906600" y="9788040"/>
            <a:ext cx="113400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7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s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2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de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n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object 2"/>
          <p:cNvSpPr/>
          <p:nvPr/>
        </p:nvSpPr>
        <p:spPr>
          <a:xfrm>
            <a:off x="0" y="2402640"/>
            <a:ext cx="18287640" cy="7893360"/>
          </a:xfrm>
          <a:custGeom>
            <a:avLst/>
            <a:gdLst>
              <a:gd name="textAreaLeft" fmla="*/ 0 w 18287640"/>
              <a:gd name="textAreaRight" fmla="*/ 18288000 w 18287640"/>
              <a:gd name="textAreaTop" fmla="*/ 0 h 7893360"/>
              <a:gd name="textAreaBottom" fmla="*/ 7893720 h 7893360"/>
            </a:gdLst>
            <a:ahLst/>
            <a:rect l="textAreaLeft" t="textAreaTop" r="textAreaRight" b="textAreaBottom"/>
            <a:pathLst>
              <a:path w="18288000" h="7893558">
                <a:moveTo>
                  <a:pt x="0" y="7893558"/>
                </a:moveTo>
                <a:lnTo>
                  <a:pt x="18288000" y="7893558"/>
                </a:lnTo>
                <a:lnTo>
                  <a:pt x="18288000" y="0"/>
                </a:lnTo>
                <a:lnTo>
                  <a:pt x="0" y="0"/>
                </a:lnTo>
                <a:lnTo>
                  <a:pt x="0" y="7893558"/>
                </a:lnTo>
                <a:close/>
              </a:path>
            </a:pathLst>
          </a:custGeom>
          <a:solidFill>
            <a:srgbClr val="4fc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object 3"/>
          <p:cNvSpPr/>
          <p:nvPr/>
        </p:nvSpPr>
        <p:spPr>
          <a:xfrm>
            <a:off x="12344400" y="4165200"/>
            <a:ext cx="4571640" cy="4571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object 4"/>
          <p:cNvSpPr/>
          <p:nvPr/>
        </p:nvSpPr>
        <p:spPr>
          <a:xfrm>
            <a:off x="0" y="0"/>
            <a:ext cx="18287640" cy="2402280"/>
          </a:xfrm>
          <a:custGeom>
            <a:avLst/>
            <a:gdLst>
              <a:gd name="textAreaLeft" fmla="*/ 0 w 18287640"/>
              <a:gd name="textAreaRight" fmla="*/ 18288000 w 18287640"/>
              <a:gd name="textAreaTop" fmla="*/ 0 h 2402280"/>
              <a:gd name="textAreaBottom" fmla="*/ 2402640 h 2402280"/>
            </a:gdLst>
            <a:ahLst/>
            <a:rect l="textAreaLeft" t="textAreaTop" r="textAreaRight" b="textAreaBottom"/>
            <a:pathLst>
              <a:path w="18288000" h="2402585">
                <a:moveTo>
                  <a:pt x="0" y="2402586"/>
                </a:moveTo>
                <a:lnTo>
                  <a:pt x="18288000" y="2402586"/>
                </a:lnTo>
                <a:lnTo>
                  <a:pt x="18288000" y="0"/>
                </a:lnTo>
                <a:lnTo>
                  <a:pt x="0" y="0"/>
                </a:lnTo>
                <a:lnTo>
                  <a:pt x="0" y="2402586"/>
                </a:lnTo>
              </a:path>
            </a:pathLst>
          </a:custGeom>
          <a:solidFill>
            <a:srgbClr val="232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object 5"/>
          <p:cNvSpPr/>
          <p:nvPr/>
        </p:nvSpPr>
        <p:spPr>
          <a:xfrm>
            <a:off x="3287520" y="276480"/>
            <a:ext cx="11713320" cy="17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531800" indent="-1519560">
              <a:lnSpc>
                <a:spcPct val="100000"/>
              </a:lnSpc>
              <a:tabLst>
                <a:tab algn="l" pos="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Why</a:t>
            </a:r>
            <a:r>
              <a:rPr b="0" lang="en-US" sz="5600" spc="117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-66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0" lang="en-US" sz="5600" spc="117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-55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5600" spc="111" strike="noStrike">
                <a:solidFill>
                  <a:srgbClr val="ffffff"/>
                </a:solidFill>
                <a:latin typeface="Arial"/>
              </a:rPr>
              <a:t>et</a:t>
            </a:r>
            <a:r>
              <a:rPr b="0" lang="en-US" sz="5600" spc="128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5600" spc="24" strike="noStrike">
                <a:solidFill>
                  <a:srgbClr val="ffffff"/>
                </a:solidFill>
                <a:latin typeface="Arial"/>
              </a:rPr>
              <a:t>ork</a:t>
            </a:r>
            <a:r>
              <a:rPr b="0" lang="en-US" sz="5600" spc="117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-97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5600" spc="-126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5600" spc="69" strike="noStrike">
                <a:solidFill>
                  <a:srgbClr val="ffffff"/>
                </a:solidFill>
                <a:latin typeface="Arial"/>
              </a:rPr>
              <a:t>chi</a:t>
            </a:r>
            <a:r>
              <a:rPr b="0" lang="en-US" sz="5600" spc="9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5600" spc="72" strike="noStrike">
                <a:solidFill>
                  <a:srgbClr val="ffffff"/>
                </a:solidFill>
                <a:latin typeface="Arial"/>
              </a:rPr>
              <a:t>ectu</a:t>
            </a:r>
            <a:r>
              <a:rPr b="0" lang="en-US" sz="5600" spc="-12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5600" spc="58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5600" spc="117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18" strike="noStrike">
                <a:solidFill>
                  <a:srgbClr val="ffffff"/>
                </a:solidFill>
                <a:latin typeface="Arial"/>
              </a:rPr>
              <a:t>stra</a:t>
            </a:r>
            <a:r>
              <a:rPr b="0" lang="en-US" sz="5600" spc="-15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5600" spc="58" strike="noStrike">
                <a:solidFill>
                  <a:srgbClr val="ffffff"/>
                </a:solidFill>
                <a:latin typeface="Arial"/>
              </a:rPr>
              <a:t>egy</a:t>
            </a:r>
            <a:r>
              <a:rPr b="0" lang="en-US" sz="5600" spc="29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-35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5600" spc="117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-32" strike="noStrike">
                <a:solidFill>
                  <a:srgbClr val="ffffff"/>
                </a:solidFill>
                <a:latin typeface="Arial"/>
              </a:rPr>
              <a:t>planning</a:t>
            </a:r>
            <a:r>
              <a:rPr b="0" lang="en-US" sz="5600" spc="117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24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5600" spc="97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important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ject 6"/>
          <p:cNvSpPr/>
          <p:nvPr/>
        </p:nvSpPr>
        <p:spPr>
          <a:xfrm>
            <a:off x="3855960" y="3132360"/>
            <a:ext cx="10870920" cy="830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object 7"/>
          <p:cNvSpPr/>
          <p:nvPr/>
        </p:nvSpPr>
        <p:spPr>
          <a:xfrm>
            <a:off x="1631520" y="8493840"/>
            <a:ext cx="3795120" cy="4827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object 8"/>
          <p:cNvSpPr/>
          <p:nvPr/>
        </p:nvSpPr>
        <p:spPr>
          <a:xfrm>
            <a:off x="7577640" y="8475120"/>
            <a:ext cx="3410280" cy="4827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object 9"/>
          <p:cNvSpPr/>
          <p:nvPr/>
        </p:nvSpPr>
        <p:spPr>
          <a:xfrm>
            <a:off x="8273880" y="8902080"/>
            <a:ext cx="1914120" cy="4827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bject 10"/>
          <p:cNvSpPr/>
          <p:nvPr/>
        </p:nvSpPr>
        <p:spPr>
          <a:xfrm>
            <a:off x="13325400" y="8475120"/>
            <a:ext cx="2924280" cy="4827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object 11"/>
          <p:cNvSpPr/>
          <p:nvPr/>
        </p:nvSpPr>
        <p:spPr>
          <a:xfrm>
            <a:off x="1166040" y="4073760"/>
            <a:ext cx="4366080" cy="43660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object 12"/>
          <p:cNvSpPr/>
          <p:nvPr/>
        </p:nvSpPr>
        <p:spPr>
          <a:xfrm>
            <a:off x="6949440" y="4142520"/>
            <a:ext cx="4160160" cy="41601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Num" idx="19"/>
          </p:nvPr>
        </p:nvSpPr>
        <p:spPr>
          <a:xfrm>
            <a:off x="17536680" y="9781560"/>
            <a:ext cx="12780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buNone/>
              <a:defRPr b="0" lang="en-US" sz="1200" spc="-12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5560" indent="0">
              <a:lnSpc>
                <a:spcPct val="100000"/>
              </a:lnSpc>
              <a:buNone/>
            </a:pPr>
            <a:fld id="{AC1F5017-420D-4066-884B-D9265C2DE1CE}" type="slidenum">
              <a:rPr b="0" lang="en-US" sz="1200" spc="-12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20"/>
          </p:nvPr>
        </p:nvSpPr>
        <p:spPr>
          <a:xfrm>
            <a:off x="694800" y="9790560"/>
            <a:ext cx="331308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15 </a:t>
            </a:r>
            <a:r>
              <a:rPr b="0" lang="en-US" sz="1200" spc="9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i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2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32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0" lang="en-US" sz="1200" spc="-15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li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-15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s.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g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hts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ese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21"/>
          </p:nvPr>
        </p:nvSpPr>
        <p:spPr>
          <a:xfrm>
            <a:off x="15906600" y="9788040"/>
            <a:ext cx="113400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7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s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2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de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n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object 2"/>
          <p:cNvSpPr/>
          <p:nvPr/>
        </p:nvSpPr>
        <p:spPr>
          <a:xfrm>
            <a:off x="0" y="0"/>
            <a:ext cx="18287640" cy="10295640"/>
          </a:xfrm>
          <a:custGeom>
            <a:avLst/>
            <a:gdLst>
              <a:gd name="textAreaLeft" fmla="*/ 0 w 18287640"/>
              <a:gd name="textAreaRight" fmla="*/ 18288000 w 18287640"/>
              <a:gd name="textAreaTop" fmla="*/ 0 h 10295640"/>
              <a:gd name="textAreaBottom" fmla="*/ 10296000 h 10295640"/>
            </a:gdLst>
            <a:ahLst/>
            <a:rect l="textAreaLeft" t="textAreaTop" r="textAreaRight" b="textAreaBottom"/>
            <a:pathLst>
              <a:path w="18288000" h="10296143">
                <a:moveTo>
                  <a:pt x="0" y="10296144"/>
                </a:moveTo>
                <a:lnTo>
                  <a:pt x="18288000" y="10296144"/>
                </a:lnTo>
                <a:lnTo>
                  <a:pt x="18288000" y="0"/>
                </a:lnTo>
                <a:lnTo>
                  <a:pt x="0" y="0"/>
                </a:lnTo>
                <a:lnTo>
                  <a:pt x="0" y="10296144"/>
                </a:lnTo>
              </a:path>
            </a:pathLst>
          </a:custGeom>
          <a:solidFill>
            <a:srgbClr val="232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object 3"/>
          <p:cNvSpPr/>
          <p:nvPr/>
        </p:nvSpPr>
        <p:spPr>
          <a:xfrm>
            <a:off x="3152520" y="3591720"/>
            <a:ext cx="12412440" cy="152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bject 4"/>
          <p:cNvSpPr/>
          <p:nvPr/>
        </p:nvSpPr>
        <p:spPr>
          <a:xfrm>
            <a:off x="2556720" y="4933080"/>
            <a:ext cx="2651760" cy="1521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bject 5"/>
          <p:cNvSpPr/>
          <p:nvPr/>
        </p:nvSpPr>
        <p:spPr>
          <a:xfrm>
            <a:off x="4678200" y="4933080"/>
            <a:ext cx="4359960" cy="1521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bject 6"/>
          <p:cNvSpPr/>
          <p:nvPr/>
        </p:nvSpPr>
        <p:spPr>
          <a:xfrm>
            <a:off x="8553960" y="4933080"/>
            <a:ext cx="7633440" cy="1521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Num" idx="22"/>
          </p:nvPr>
        </p:nvSpPr>
        <p:spPr>
          <a:xfrm>
            <a:off x="17536680" y="9781560"/>
            <a:ext cx="12780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buNone/>
              <a:defRPr b="0" lang="en-US" sz="1200" spc="-12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5560" indent="0">
              <a:lnSpc>
                <a:spcPct val="100000"/>
              </a:lnSpc>
              <a:buNone/>
            </a:pPr>
            <a:fld id="{2E1670D4-6AC5-45BA-B80E-56A22150709A}" type="slidenum">
              <a:rPr b="0" lang="en-US" sz="1200" spc="-12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23"/>
          </p:nvPr>
        </p:nvSpPr>
        <p:spPr>
          <a:xfrm>
            <a:off x="694800" y="9790560"/>
            <a:ext cx="331308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15 </a:t>
            </a:r>
            <a:r>
              <a:rPr b="0" lang="en-US" sz="1200" spc="9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i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2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32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0" lang="en-US" sz="1200" spc="-15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li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-15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s.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g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hts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ese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24"/>
          </p:nvPr>
        </p:nvSpPr>
        <p:spPr>
          <a:xfrm>
            <a:off x="15906600" y="9788040"/>
            <a:ext cx="113400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7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s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2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de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n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object 2"/>
          <p:cNvSpPr/>
          <p:nvPr/>
        </p:nvSpPr>
        <p:spPr>
          <a:xfrm>
            <a:off x="5130720" y="3033000"/>
            <a:ext cx="7943040" cy="6698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bject 3"/>
          <p:cNvSpPr/>
          <p:nvPr/>
        </p:nvSpPr>
        <p:spPr>
          <a:xfrm>
            <a:off x="5887800" y="4170600"/>
            <a:ext cx="757800" cy="2876760"/>
          </a:xfrm>
          <a:custGeom>
            <a:avLst/>
            <a:gdLst>
              <a:gd name="textAreaLeft" fmla="*/ 0 w 757800"/>
              <a:gd name="textAreaRight" fmla="*/ 758160 w 757800"/>
              <a:gd name="textAreaTop" fmla="*/ 0 h 2876760"/>
              <a:gd name="textAreaBottom" fmla="*/ 2877120 h 2876760"/>
            </a:gdLst>
            <a:ahLst/>
            <a:rect l="textAreaLeft" t="textAreaTop" r="textAreaRight" b="textAreaBottom"/>
            <a:pathLst>
              <a:path w="758278" h="2877057">
                <a:moveTo>
                  <a:pt x="0" y="2877058"/>
                </a:moveTo>
                <a:lnTo>
                  <a:pt x="758278" y="2877058"/>
                </a:lnTo>
                <a:lnTo>
                  <a:pt x="758278" y="0"/>
                </a:lnTo>
                <a:lnTo>
                  <a:pt x="0" y="0"/>
                </a:lnTo>
                <a:lnTo>
                  <a:pt x="0" y="28770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bject 4"/>
          <p:cNvSpPr/>
          <p:nvPr/>
        </p:nvSpPr>
        <p:spPr>
          <a:xfrm>
            <a:off x="8475120" y="7404480"/>
            <a:ext cx="1605600" cy="334080"/>
          </a:xfrm>
          <a:custGeom>
            <a:avLst/>
            <a:gdLst>
              <a:gd name="textAreaLeft" fmla="*/ 0 w 1605600"/>
              <a:gd name="textAreaRight" fmla="*/ 1605960 w 1605600"/>
              <a:gd name="textAreaTop" fmla="*/ 0 h 334080"/>
              <a:gd name="textAreaBottom" fmla="*/ 334440 h 334080"/>
            </a:gdLst>
            <a:ahLst/>
            <a:rect l="textAreaLeft" t="textAreaTop" r="textAreaRight" b="textAreaBottom"/>
            <a:pathLst>
              <a:path w="1605787" h="334530">
                <a:moveTo>
                  <a:pt x="0" y="334530"/>
                </a:moveTo>
                <a:lnTo>
                  <a:pt x="1605787" y="334530"/>
                </a:lnTo>
                <a:lnTo>
                  <a:pt x="1605787" y="0"/>
                </a:lnTo>
                <a:lnTo>
                  <a:pt x="0" y="0"/>
                </a:lnTo>
                <a:lnTo>
                  <a:pt x="0" y="3345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bject 5"/>
          <p:cNvSpPr/>
          <p:nvPr/>
        </p:nvSpPr>
        <p:spPr>
          <a:xfrm>
            <a:off x="0" y="0"/>
            <a:ext cx="18287640" cy="2402280"/>
          </a:xfrm>
          <a:custGeom>
            <a:avLst/>
            <a:gdLst>
              <a:gd name="textAreaLeft" fmla="*/ 0 w 18287640"/>
              <a:gd name="textAreaRight" fmla="*/ 18288000 w 18287640"/>
              <a:gd name="textAreaTop" fmla="*/ 0 h 2402280"/>
              <a:gd name="textAreaBottom" fmla="*/ 2402640 h 2402280"/>
            </a:gdLst>
            <a:ahLst/>
            <a:rect l="textAreaLeft" t="textAreaTop" r="textAreaRight" b="textAreaBottom"/>
            <a:pathLst>
              <a:path w="18288000" h="2402585">
                <a:moveTo>
                  <a:pt x="0" y="2402586"/>
                </a:moveTo>
                <a:lnTo>
                  <a:pt x="18288000" y="2402586"/>
                </a:lnTo>
                <a:lnTo>
                  <a:pt x="18288000" y="0"/>
                </a:lnTo>
                <a:lnTo>
                  <a:pt x="0" y="0"/>
                </a:lnTo>
                <a:lnTo>
                  <a:pt x="0" y="2402586"/>
                </a:lnTo>
              </a:path>
            </a:pathLst>
          </a:custGeom>
          <a:solidFill>
            <a:srgbClr val="232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bject 6"/>
          <p:cNvSpPr/>
          <p:nvPr/>
        </p:nvSpPr>
        <p:spPr>
          <a:xfrm>
            <a:off x="3910680" y="795600"/>
            <a:ext cx="1046376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</a:pPr>
            <a:r>
              <a:rPr b="0" lang="en-US" sz="6000" spc="-35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US" sz="6000" spc="-26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6000" spc="38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6000" spc="109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440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6000" spc="-46" strike="noStrike">
                <a:solidFill>
                  <a:srgbClr val="ffffff"/>
                </a:solidFill>
                <a:latin typeface="Arial"/>
              </a:rPr>
              <a:t>ariability</a:t>
            </a:r>
            <a:r>
              <a:rPr b="0" lang="en-US" sz="6000" spc="123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69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6000" spc="128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35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US" sz="6000" spc="-26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6000" spc="38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6000" spc="109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205" strike="noStrike">
                <a:solidFill>
                  <a:srgbClr val="ffffff"/>
                </a:solidFill>
                <a:latin typeface="Arial"/>
              </a:rPr>
              <a:t>Ris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bject 7"/>
          <p:cNvSpPr/>
          <p:nvPr/>
        </p:nvSpPr>
        <p:spPr>
          <a:xfrm>
            <a:off x="6507360" y="6390360"/>
            <a:ext cx="1863360" cy="55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object 8"/>
          <p:cNvSpPr/>
          <p:nvPr/>
        </p:nvSpPr>
        <p:spPr>
          <a:xfrm>
            <a:off x="8857800" y="7279560"/>
            <a:ext cx="927360" cy="5547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Num" idx="25"/>
          </p:nvPr>
        </p:nvSpPr>
        <p:spPr>
          <a:xfrm>
            <a:off x="17536680" y="9781560"/>
            <a:ext cx="12780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buNone/>
              <a:defRPr b="0" lang="en-US" sz="1200" spc="-12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5560" indent="0">
              <a:lnSpc>
                <a:spcPct val="100000"/>
              </a:lnSpc>
              <a:buNone/>
            </a:pPr>
            <a:fld id="{02F9ACFD-C118-4A40-866A-EACE42E73CD5}" type="slidenum">
              <a:rPr b="0" lang="en-US" sz="1200" spc="-12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ftr" idx="26"/>
          </p:nvPr>
        </p:nvSpPr>
        <p:spPr>
          <a:xfrm>
            <a:off x="694800" y="9790560"/>
            <a:ext cx="331308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15 </a:t>
            </a:r>
            <a:r>
              <a:rPr b="0" lang="en-US" sz="1200" spc="9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i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2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32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0" lang="en-US" sz="1200" spc="-15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li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-15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s.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g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hts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ese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27"/>
          </p:nvPr>
        </p:nvSpPr>
        <p:spPr>
          <a:xfrm>
            <a:off x="15906600" y="9788040"/>
            <a:ext cx="113400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7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s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2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de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n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bject 2"/>
          <p:cNvSpPr/>
          <p:nvPr/>
        </p:nvSpPr>
        <p:spPr>
          <a:xfrm>
            <a:off x="7482600" y="4638960"/>
            <a:ext cx="3258360" cy="325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object 3"/>
          <p:cNvSpPr/>
          <p:nvPr/>
        </p:nvSpPr>
        <p:spPr>
          <a:xfrm>
            <a:off x="1760760" y="4433400"/>
            <a:ext cx="3763800" cy="3763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bject 4"/>
          <p:cNvSpPr/>
          <p:nvPr/>
        </p:nvSpPr>
        <p:spPr>
          <a:xfrm>
            <a:off x="0" y="0"/>
            <a:ext cx="18287640" cy="2402280"/>
          </a:xfrm>
          <a:custGeom>
            <a:avLst/>
            <a:gdLst>
              <a:gd name="textAreaLeft" fmla="*/ 0 w 18287640"/>
              <a:gd name="textAreaRight" fmla="*/ 18288000 w 18287640"/>
              <a:gd name="textAreaTop" fmla="*/ 0 h 2402280"/>
              <a:gd name="textAreaBottom" fmla="*/ 2402640 h 2402280"/>
            </a:gdLst>
            <a:ahLst/>
            <a:rect l="textAreaLeft" t="textAreaTop" r="textAreaRight" b="textAreaBottom"/>
            <a:pathLst>
              <a:path w="18288000" h="2402585">
                <a:moveTo>
                  <a:pt x="0" y="2402586"/>
                </a:moveTo>
                <a:lnTo>
                  <a:pt x="18288000" y="2402586"/>
                </a:lnTo>
                <a:lnTo>
                  <a:pt x="18288000" y="0"/>
                </a:lnTo>
                <a:lnTo>
                  <a:pt x="0" y="0"/>
                </a:lnTo>
                <a:lnTo>
                  <a:pt x="0" y="2402586"/>
                </a:lnTo>
              </a:path>
            </a:pathLst>
          </a:custGeom>
          <a:solidFill>
            <a:srgbClr val="232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30440" indent="0">
              <a:lnSpc>
                <a:spcPct val="100000"/>
              </a:lnSpc>
              <a:buNone/>
            </a:pPr>
            <a:r>
              <a:rPr b="0" lang="en-US" sz="5600" spc="29" strike="noStrike">
                <a:solidFill>
                  <a:srgbClr val="ffffff"/>
                </a:solidFill>
                <a:latin typeface="Arial"/>
              </a:rPr>
              <a:t>Combating</a:t>
            </a:r>
            <a:r>
              <a:rPr b="0" lang="en-US" sz="5600" spc="97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-420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5600" spc="-46" strike="noStrike">
                <a:solidFill>
                  <a:srgbClr val="ffffff"/>
                </a:solidFill>
                <a:latin typeface="Arial"/>
              </a:rPr>
              <a:t>ariability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object 6"/>
          <p:cNvSpPr/>
          <p:nvPr/>
        </p:nvSpPr>
        <p:spPr>
          <a:xfrm>
            <a:off x="1251720" y="3521520"/>
            <a:ext cx="2842920" cy="830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object 7"/>
          <p:cNvSpPr/>
          <p:nvPr/>
        </p:nvSpPr>
        <p:spPr>
          <a:xfrm>
            <a:off x="3836520" y="3521520"/>
            <a:ext cx="5901120" cy="830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object 8"/>
          <p:cNvSpPr/>
          <p:nvPr/>
        </p:nvSpPr>
        <p:spPr>
          <a:xfrm>
            <a:off x="9469800" y="3521520"/>
            <a:ext cx="7846920" cy="8305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bject 9"/>
          <p:cNvSpPr/>
          <p:nvPr/>
        </p:nvSpPr>
        <p:spPr>
          <a:xfrm>
            <a:off x="2223360" y="8160840"/>
            <a:ext cx="2767320" cy="4827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object 10"/>
          <p:cNvSpPr/>
          <p:nvPr/>
        </p:nvSpPr>
        <p:spPr>
          <a:xfrm>
            <a:off x="2507400" y="8587800"/>
            <a:ext cx="2116440" cy="4827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object 11"/>
          <p:cNvSpPr/>
          <p:nvPr/>
        </p:nvSpPr>
        <p:spPr>
          <a:xfrm>
            <a:off x="7917480" y="8160840"/>
            <a:ext cx="2791080" cy="4827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object 12"/>
          <p:cNvSpPr/>
          <p:nvPr/>
        </p:nvSpPr>
        <p:spPr>
          <a:xfrm>
            <a:off x="7917480" y="8587800"/>
            <a:ext cx="2677320" cy="4827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object 13"/>
          <p:cNvSpPr/>
          <p:nvPr/>
        </p:nvSpPr>
        <p:spPr>
          <a:xfrm>
            <a:off x="13028760" y="8160840"/>
            <a:ext cx="3022200" cy="48276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object 14"/>
          <p:cNvSpPr/>
          <p:nvPr/>
        </p:nvSpPr>
        <p:spPr>
          <a:xfrm>
            <a:off x="13292280" y="8587800"/>
            <a:ext cx="2406240" cy="48276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object 15"/>
          <p:cNvSpPr/>
          <p:nvPr/>
        </p:nvSpPr>
        <p:spPr>
          <a:xfrm>
            <a:off x="12691440" y="4861800"/>
            <a:ext cx="3188880" cy="318888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ldNum" idx="28"/>
          </p:nvPr>
        </p:nvSpPr>
        <p:spPr>
          <a:xfrm>
            <a:off x="17536680" y="9781560"/>
            <a:ext cx="12780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buNone/>
              <a:defRPr b="0" lang="en-US" sz="1200" spc="-12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5560" indent="0">
              <a:lnSpc>
                <a:spcPct val="100000"/>
              </a:lnSpc>
              <a:buNone/>
            </a:pPr>
            <a:fld id="{33F00058-801E-42D4-A83D-7720C11B2763}" type="slidenum">
              <a:rPr b="0" lang="en-US" sz="1200" spc="-12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29"/>
          </p:nvPr>
        </p:nvSpPr>
        <p:spPr>
          <a:xfrm>
            <a:off x="694800" y="9790560"/>
            <a:ext cx="331308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15 </a:t>
            </a:r>
            <a:r>
              <a:rPr b="0" lang="en-US" sz="1200" spc="9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i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2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32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0" lang="en-US" sz="1200" spc="-15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li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-15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s.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g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hts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ese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dt" idx="30"/>
          </p:nvPr>
        </p:nvSpPr>
        <p:spPr>
          <a:xfrm>
            <a:off x="15906600" y="9788040"/>
            <a:ext cx="113400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7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s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2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de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n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object 2"/>
          <p:cNvSpPr/>
          <p:nvPr/>
        </p:nvSpPr>
        <p:spPr>
          <a:xfrm>
            <a:off x="0" y="0"/>
            <a:ext cx="18287640" cy="2402280"/>
          </a:xfrm>
          <a:custGeom>
            <a:avLst/>
            <a:gdLst>
              <a:gd name="textAreaLeft" fmla="*/ 0 w 18287640"/>
              <a:gd name="textAreaRight" fmla="*/ 18288000 w 18287640"/>
              <a:gd name="textAreaTop" fmla="*/ 0 h 2402280"/>
              <a:gd name="textAreaBottom" fmla="*/ 2402640 h 2402280"/>
            </a:gdLst>
            <a:ahLst/>
            <a:rect l="textAreaLeft" t="textAreaTop" r="textAreaRight" b="textAreaBottom"/>
            <a:pathLst>
              <a:path w="18288000" h="2402585">
                <a:moveTo>
                  <a:pt x="0" y="2402586"/>
                </a:moveTo>
                <a:lnTo>
                  <a:pt x="18288000" y="2402586"/>
                </a:lnTo>
                <a:lnTo>
                  <a:pt x="18288000" y="0"/>
                </a:lnTo>
                <a:lnTo>
                  <a:pt x="0" y="0"/>
                </a:lnTo>
                <a:lnTo>
                  <a:pt x="0" y="2402586"/>
                </a:lnTo>
              </a:path>
            </a:pathLst>
          </a:custGeom>
          <a:solidFill>
            <a:srgbClr val="232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89920" indent="0">
              <a:lnSpc>
                <a:spcPct val="100000"/>
              </a:lnSpc>
              <a:buNone/>
            </a:pPr>
            <a:r>
              <a:rPr b="0" lang="en-US" sz="5600" spc="-100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5600" spc="18" strike="noStrike">
                <a:solidFill>
                  <a:srgbClr val="ffffff"/>
                </a:solidFill>
                <a:latin typeface="Arial"/>
              </a:rPr>
              <a:t>chi</a:t>
            </a:r>
            <a:r>
              <a:rPr b="0" lang="en-US" sz="5600" spc="-55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ving</a:t>
            </a:r>
            <a:r>
              <a:rPr b="0" lang="en-US" sz="5600" spc="103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-60" strike="noStrike">
                <a:solidFill>
                  <a:srgbClr val="ffffff"/>
                </a:solidFill>
                <a:latin typeface="Arial"/>
              </a:rPr>
              <a:t>Busine</a:t>
            </a:r>
            <a:r>
              <a:rPr b="0" lang="en-US" sz="5600" spc="-100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5600" spc="-32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5600" spc="117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-92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object 4"/>
          <p:cNvSpPr/>
          <p:nvPr/>
        </p:nvSpPr>
        <p:spPr>
          <a:xfrm>
            <a:off x="0" y="8390880"/>
            <a:ext cx="18287640" cy="360"/>
          </a:xfrm>
          <a:custGeom>
            <a:avLst/>
            <a:gdLst>
              <a:gd name="textAreaLeft" fmla="*/ 0 w 18287640"/>
              <a:gd name="textAreaRight" fmla="*/ 18288000 w 182876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8287999" h="0">
                <a:moveTo>
                  <a:pt x="0" y="0"/>
                </a:moveTo>
                <a:lnTo>
                  <a:pt x="18287999" y="0"/>
                </a:lnTo>
              </a:path>
            </a:pathLst>
          </a:custGeom>
          <a:noFill/>
          <a:ln w="12700">
            <a:solidFill>
              <a:srgbClr val="b7de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object 5"/>
          <p:cNvSpPr/>
          <p:nvPr/>
        </p:nvSpPr>
        <p:spPr>
          <a:xfrm>
            <a:off x="6621120" y="2990520"/>
            <a:ext cx="4856400" cy="5371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object 6"/>
          <p:cNvSpPr/>
          <p:nvPr/>
        </p:nvSpPr>
        <p:spPr>
          <a:xfrm>
            <a:off x="865440" y="7272360"/>
            <a:ext cx="2107800" cy="4827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object 7"/>
          <p:cNvSpPr/>
          <p:nvPr/>
        </p:nvSpPr>
        <p:spPr>
          <a:xfrm>
            <a:off x="869760" y="5316840"/>
            <a:ext cx="1347840" cy="48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object 8"/>
          <p:cNvSpPr/>
          <p:nvPr/>
        </p:nvSpPr>
        <p:spPr>
          <a:xfrm>
            <a:off x="2049480" y="5316840"/>
            <a:ext cx="1401840" cy="48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object 9"/>
          <p:cNvSpPr/>
          <p:nvPr/>
        </p:nvSpPr>
        <p:spPr>
          <a:xfrm>
            <a:off x="869760" y="5743800"/>
            <a:ext cx="1706040" cy="4827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object 10"/>
          <p:cNvSpPr/>
          <p:nvPr/>
        </p:nvSpPr>
        <p:spPr>
          <a:xfrm>
            <a:off x="2386440" y="5743800"/>
            <a:ext cx="1766160" cy="4827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object 11"/>
          <p:cNvSpPr/>
          <p:nvPr/>
        </p:nvSpPr>
        <p:spPr>
          <a:xfrm>
            <a:off x="865440" y="3801600"/>
            <a:ext cx="2805840" cy="48312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object 12"/>
          <p:cNvSpPr/>
          <p:nvPr/>
        </p:nvSpPr>
        <p:spPr>
          <a:xfrm>
            <a:off x="865440" y="4228560"/>
            <a:ext cx="3564000" cy="4827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object 13"/>
          <p:cNvSpPr/>
          <p:nvPr/>
        </p:nvSpPr>
        <p:spPr>
          <a:xfrm>
            <a:off x="14172480" y="6862680"/>
            <a:ext cx="2180520" cy="4827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object 14"/>
          <p:cNvSpPr/>
          <p:nvPr/>
        </p:nvSpPr>
        <p:spPr>
          <a:xfrm>
            <a:off x="14172480" y="7289280"/>
            <a:ext cx="2664720" cy="48276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object 15"/>
          <p:cNvSpPr/>
          <p:nvPr/>
        </p:nvSpPr>
        <p:spPr>
          <a:xfrm>
            <a:off x="14174640" y="5206680"/>
            <a:ext cx="2896200" cy="48276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bject 16"/>
          <p:cNvSpPr/>
          <p:nvPr/>
        </p:nvSpPr>
        <p:spPr>
          <a:xfrm>
            <a:off x="14174640" y="5633640"/>
            <a:ext cx="1551600" cy="48276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object 17"/>
          <p:cNvSpPr/>
          <p:nvPr/>
        </p:nvSpPr>
        <p:spPr>
          <a:xfrm>
            <a:off x="14174640" y="3786480"/>
            <a:ext cx="3076920" cy="48276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bject 18"/>
          <p:cNvSpPr/>
          <p:nvPr/>
        </p:nvSpPr>
        <p:spPr>
          <a:xfrm>
            <a:off x="12091680" y="4980960"/>
            <a:ext cx="1425600" cy="142560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bject 19"/>
          <p:cNvSpPr/>
          <p:nvPr/>
        </p:nvSpPr>
        <p:spPr>
          <a:xfrm>
            <a:off x="12085560" y="6736680"/>
            <a:ext cx="1425600" cy="142560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bject 20"/>
          <p:cNvSpPr/>
          <p:nvPr/>
        </p:nvSpPr>
        <p:spPr>
          <a:xfrm>
            <a:off x="4816080" y="6819840"/>
            <a:ext cx="1320120" cy="1320120"/>
          </a:xfrm>
          <a:prstGeom prst="rect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object 21"/>
          <p:cNvSpPr/>
          <p:nvPr/>
        </p:nvSpPr>
        <p:spPr>
          <a:xfrm>
            <a:off x="4527360" y="4858560"/>
            <a:ext cx="1828440" cy="182844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object 22"/>
          <p:cNvSpPr/>
          <p:nvPr/>
        </p:nvSpPr>
        <p:spPr>
          <a:xfrm>
            <a:off x="4781520" y="3328560"/>
            <a:ext cx="1399320" cy="1399320"/>
          </a:xfrm>
          <a:prstGeom prst="rect">
            <a:avLst/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object 23"/>
          <p:cNvSpPr/>
          <p:nvPr/>
        </p:nvSpPr>
        <p:spPr>
          <a:xfrm>
            <a:off x="11950560" y="3174480"/>
            <a:ext cx="1675800" cy="1675800"/>
          </a:xfrm>
          <a:prstGeom prst="rect">
            <a:avLst/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ldNum" idx="31"/>
          </p:nvPr>
        </p:nvSpPr>
        <p:spPr>
          <a:xfrm>
            <a:off x="17536680" y="9781560"/>
            <a:ext cx="12780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buNone/>
              <a:defRPr b="0" lang="en-US" sz="1200" spc="-12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5560" indent="0">
              <a:lnSpc>
                <a:spcPct val="100000"/>
              </a:lnSpc>
              <a:buNone/>
            </a:pPr>
            <a:fld id="{056074C7-2580-4115-9AAE-09E4E9BC2258}" type="slidenum">
              <a:rPr b="0" lang="en-US" sz="1200" spc="-12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32"/>
          </p:nvPr>
        </p:nvSpPr>
        <p:spPr>
          <a:xfrm>
            <a:off x="694800" y="9790560"/>
            <a:ext cx="331308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15 </a:t>
            </a:r>
            <a:r>
              <a:rPr b="0" lang="en-US" sz="1200" spc="9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i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2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32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0" lang="en-US" sz="1200" spc="-15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li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-15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s.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g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hts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ese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dt" idx="33"/>
          </p:nvPr>
        </p:nvSpPr>
        <p:spPr>
          <a:xfrm>
            <a:off x="15906600" y="9788040"/>
            <a:ext cx="113400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7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s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2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de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n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06640" y="10015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0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object 2"/>
          <p:cNvSpPr/>
          <p:nvPr/>
        </p:nvSpPr>
        <p:spPr>
          <a:xfrm>
            <a:off x="0" y="0"/>
            <a:ext cx="18287640" cy="10295640"/>
          </a:xfrm>
          <a:custGeom>
            <a:avLst/>
            <a:gdLst>
              <a:gd name="textAreaLeft" fmla="*/ 0 w 18287640"/>
              <a:gd name="textAreaRight" fmla="*/ 18288000 w 18287640"/>
              <a:gd name="textAreaTop" fmla="*/ 0 h 10295640"/>
              <a:gd name="textAreaBottom" fmla="*/ 10296000 h 10295640"/>
            </a:gdLst>
            <a:ahLst/>
            <a:rect l="textAreaLeft" t="textAreaTop" r="textAreaRight" b="textAreaBottom"/>
            <a:pathLst>
              <a:path w="18288000" h="10296143">
                <a:moveTo>
                  <a:pt x="0" y="10296144"/>
                </a:moveTo>
                <a:lnTo>
                  <a:pt x="18288000" y="10296144"/>
                </a:lnTo>
                <a:lnTo>
                  <a:pt x="18288000" y="0"/>
                </a:lnTo>
                <a:lnTo>
                  <a:pt x="0" y="0"/>
                </a:lnTo>
                <a:lnTo>
                  <a:pt x="0" y="10296144"/>
                </a:lnTo>
              </a:path>
            </a:pathLst>
          </a:custGeom>
          <a:solidFill>
            <a:srgbClr val="232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object 3"/>
          <p:cNvSpPr/>
          <p:nvPr/>
        </p:nvSpPr>
        <p:spPr>
          <a:xfrm>
            <a:off x="2005920" y="3435480"/>
            <a:ext cx="15155280" cy="152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object 4"/>
          <p:cNvSpPr/>
          <p:nvPr/>
        </p:nvSpPr>
        <p:spPr>
          <a:xfrm>
            <a:off x="1737720" y="4777200"/>
            <a:ext cx="15323040" cy="1520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Num" idx="34"/>
          </p:nvPr>
        </p:nvSpPr>
        <p:spPr>
          <a:xfrm>
            <a:off x="17536680" y="9781560"/>
            <a:ext cx="12780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buNone/>
              <a:defRPr b="0" lang="en-US" sz="1200" spc="-12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5560" indent="0">
              <a:lnSpc>
                <a:spcPct val="100000"/>
              </a:lnSpc>
              <a:buNone/>
            </a:pPr>
            <a:fld id="{84A6DE3B-6E87-4837-A1FC-A5239BBCFAFB}" type="slidenum">
              <a:rPr b="0" lang="en-US" sz="1200" spc="-12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ftr" idx="35"/>
          </p:nvPr>
        </p:nvSpPr>
        <p:spPr>
          <a:xfrm>
            <a:off x="694800" y="9790560"/>
            <a:ext cx="331308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15 </a:t>
            </a:r>
            <a:r>
              <a:rPr b="0" lang="en-US" sz="1200" spc="9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i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2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32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0" lang="en-US" sz="1200" spc="-15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li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-15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s.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g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hts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ese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36"/>
          </p:nvPr>
        </p:nvSpPr>
        <p:spPr>
          <a:xfrm>
            <a:off x="15906600" y="9788040"/>
            <a:ext cx="113400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7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s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2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de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n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object 2"/>
          <p:cNvSpPr/>
          <p:nvPr/>
        </p:nvSpPr>
        <p:spPr>
          <a:xfrm>
            <a:off x="0" y="4080600"/>
            <a:ext cx="18287640" cy="2800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object 3"/>
          <p:cNvSpPr/>
          <p:nvPr/>
        </p:nvSpPr>
        <p:spPr>
          <a:xfrm>
            <a:off x="0" y="8390880"/>
            <a:ext cx="18287640" cy="360"/>
          </a:xfrm>
          <a:custGeom>
            <a:avLst/>
            <a:gdLst>
              <a:gd name="textAreaLeft" fmla="*/ 0 w 18287640"/>
              <a:gd name="textAreaRight" fmla="*/ 18288000 w 182876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8287999" h="0">
                <a:moveTo>
                  <a:pt x="0" y="0"/>
                </a:moveTo>
                <a:lnTo>
                  <a:pt x="18287999" y="0"/>
                </a:lnTo>
              </a:path>
            </a:pathLst>
          </a:custGeom>
          <a:noFill/>
          <a:ln w="25400">
            <a:solidFill>
              <a:srgbClr val="b7de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object 4"/>
          <p:cNvSpPr/>
          <p:nvPr/>
        </p:nvSpPr>
        <p:spPr>
          <a:xfrm>
            <a:off x="4078800" y="6991560"/>
            <a:ext cx="9595800" cy="360"/>
          </a:xfrm>
          <a:custGeom>
            <a:avLst/>
            <a:gdLst>
              <a:gd name="textAreaLeft" fmla="*/ 0 w 9595800"/>
              <a:gd name="textAreaRight" fmla="*/ 9596160 w 95958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9596119" h="0">
                <a:moveTo>
                  <a:pt x="0" y="0"/>
                </a:moveTo>
                <a:lnTo>
                  <a:pt x="9596119" y="0"/>
                </a:lnTo>
              </a:path>
            </a:pathLst>
          </a:custGeom>
          <a:noFill/>
          <a:ln w="76200">
            <a:solidFill>
              <a:srgbClr val="232c3a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object 5"/>
          <p:cNvSpPr/>
          <p:nvPr/>
        </p:nvSpPr>
        <p:spPr>
          <a:xfrm>
            <a:off x="0" y="0"/>
            <a:ext cx="18287640" cy="2402280"/>
          </a:xfrm>
          <a:custGeom>
            <a:avLst/>
            <a:gdLst>
              <a:gd name="textAreaLeft" fmla="*/ 0 w 18287640"/>
              <a:gd name="textAreaRight" fmla="*/ 18288000 w 18287640"/>
              <a:gd name="textAreaTop" fmla="*/ 0 h 2402280"/>
              <a:gd name="textAreaBottom" fmla="*/ 2402640 h 2402280"/>
            </a:gdLst>
            <a:ahLst/>
            <a:rect l="textAreaLeft" t="textAreaTop" r="textAreaRight" b="textAreaBottom"/>
            <a:pathLst>
              <a:path w="18288000" h="2402585">
                <a:moveTo>
                  <a:pt x="0" y="2402586"/>
                </a:moveTo>
                <a:lnTo>
                  <a:pt x="18288000" y="2402586"/>
                </a:lnTo>
                <a:lnTo>
                  <a:pt x="18288000" y="0"/>
                </a:lnTo>
                <a:lnTo>
                  <a:pt x="0" y="0"/>
                </a:lnTo>
                <a:lnTo>
                  <a:pt x="0" y="2402586"/>
                </a:lnTo>
              </a:path>
            </a:pathLst>
          </a:custGeom>
          <a:solidFill>
            <a:srgbClr val="232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70240" y="79596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2600" indent="0">
              <a:lnSpc>
                <a:spcPct val="100000"/>
              </a:lnSpc>
              <a:buNone/>
            </a:pPr>
            <a:r>
              <a:rPr b="0" lang="en-US" sz="5600" spc="-55" strike="noStrike">
                <a:solidFill>
                  <a:srgbClr val="ffffff"/>
                </a:solidFill>
                <a:latin typeface="Arial"/>
              </a:rPr>
              <a:t>Establishing</a:t>
            </a:r>
            <a:r>
              <a:rPr b="0" lang="en-US" sz="5600" spc="97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-97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0" lang="en-US" sz="5600" spc="117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5600" spc="-66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5600" spc="69" strike="noStrike">
                <a:solidFill>
                  <a:srgbClr val="ffffff"/>
                </a:solidFill>
                <a:latin typeface="Arial"/>
              </a:rPr>
              <a:t>chi</a:t>
            </a:r>
            <a:r>
              <a:rPr b="0" lang="en-US" sz="5600" spc="9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5600" spc="72" strike="noStrike">
                <a:solidFill>
                  <a:srgbClr val="ffffff"/>
                </a:solidFill>
                <a:latin typeface="Arial"/>
              </a:rPr>
              <a:t>ectu</a:t>
            </a:r>
            <a:r>
              <a:rPr b="0" lang="en-US" sz="5600" spc="-12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5600" spc="58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5600" spc="117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Stra</a:t>
            </a:r>
            <a:r>
              <a:rPr b="0" lang="en-US" sz="5600" spc="-35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5600" spc="58" strike="noStrike">
                <a:solidFill>
                  <a:srgbClr val="ffffff"/>
                </a:solidFill>
                <a:latin typeface="Arial"/>
              </a:rPr>
              <a:t>egy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object 7"/>
          <p:cNvSpPr/>
          <p:nvPr/>
        </p:nvSpPr>
        <p:spPr>
          <a:xfrm>
            <a:off x="6994440" y="4853160"/>
            <a:ext cx="4181400" cy="4181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object 8"/>
          <p:cNvSpPr/>
          <p:nvPr/>
        </p:nvSpPr>
        <p:spPr>
          <a:xfrm>
            <a:off x="6980760" y="4839480"/>
            <a:ext cx="4192560" cy="4192560"/>
          </a:xfrm>
          <a:custGeom>
            <a:avLst/>
            <a:gdLst>
              <a:gd name="textAreaLeft" fmla="*/ 0 w 4192560"/>
              <a:gd name="textAreaRight" fmla="*/ 4192920 w 4192560"/>
              <a:gd name="textAreaTop" fmla="*/ 0 h 4192560"/>
              <a:gd name="textAreaBottom" fmla="*/ 4192920 h 4192560"/>
            </a:gdLst>
            <a:ahLst/>
            <a:rect l="textAreaLeft" t="textAreaTop" r="textAreaRight" b="textAreaBottom"/>
            <a:pathLst>
              <a:path w="4192778" h="4192904">
                <a:moveTo>
                  <a:pt x="0" y="2096515"/>
                </a:moveTo>
                <a:lnTo>
                  <a:pt x="6949" y="1924571"/>
                </a:lnTo>
                <a:lnTo>
                  <a:pt x="27436" y="1756453"/>
                </a:lnTo>
                <a:lnTo>
                  <a:pt x="60923" y="1592703"/>
                </a:lnTo>
                <a:lnTo>
                  <a:pt x="106869" y="1433860"/>
                </a:lnTo>
                <a:lnTo>
                  <a:pt x="164736" y="1280463"/>
                </a:lnTo>
                <a:lnTo>
                  <a:pt x="233984" y="1133052"/>
                </a:lnTo>
                <a:lnTo>
                  <a:pt x="314074" y="992167"/>
                </a:lnTo>
                <a:lnTo>
                  <a:pt x="404465" y="858347"/>
                </a:lnTo>
                <a:lnTo>
                  <a:pt x="504619" y="732131"/>
                </a:lnTo>
                <a:lnTo>
                  <a:pt x="613997" y="614060"/>
                </a:lnTo>
                <a:lnTo>
                  <a:pt x="732058" y="504673"/>
                </a:lnTo>
                <a:lnTo>
                  <a:pt x="858264" y="404510"/>
                </a:lnTo>
                <a:lnTo>
                  <a:pt x="992076" y="314109"/>
                </a:lnTo>
                <a:lnTo>
                  <a:pt x="1132953" y="234012"/>
                </a:lnTo>
                <a:lnTo>
                  <a:pt x="1280356" y="164756"/>
                </a:lnTo>
                <a:lnTo>
                  <a:pt x="1433746" y="106883"/>
                </a:lnTo>
                <a:lnTo>
                  <a:pt x="1592584" y="60931"/>
                </a:lnTo>
                <a:lnTo>
                  <a:pt x="1756330" y="27440"/>
                </a:lnTo>
                <a:lnTo>
                  <a:pt x="1924445" y="6949"/>
                </a:lnTo>
                <a:lnTo>
                  <a:pt x="2096389" y="0"/>
                </a:lnTo>
                <a:lnTo>
                  <a:pt x="2268332" y="6949"/>
                </a:lnTo>
                <a:lnTo>
                  <a:pt x="2436447" y="27440"/>
                </a:lnTo>
                <a:lnTo>
                  <a:pt x="2600193" y="60931"/>
                </a:lnTo>
                <a:lnTo>
                  <a:pt x="2759031" y="106883"/>
                </a:lnTo>
                <a:lnTo>
                  <a:pt x="2912421" y="164756"/>
                </a:lnTo>
                <a:lnTo>
                  <a:pt x="3059824" y="234012"/>
                </a:lnTo>
                <a:lnTo>
                  <a:pt x="3200701" y="314109"/>
                </a:lnTo>
                <a:lnTo>
                  <a:pt x="3334513" y="404510"/>
                </a:lnTo>
                <a:lnTo>
                  <a:pt x="3460719" y="504673"/>
                </a:lnTo>
                <a:lnTo>
                  <a:pt x="3578780" y="614060"/>
                </a:lnTo>
                <a:lnTo>
                  <a:pt x="3688158" y="732131"/>
                </a:lnTo>
                <a:lnTo>
                  <a:pt x="3788312" y="858347"/>
                </a:lnTo>
                <a:lnTo>
                  <a:pt x="3878703" y="992167"/>
                </a:lnTo>
                <a:lnTo>
                  <a:pt x="3958793" y="1133052"/>
                </a:lnTo>
                <a:lnTo>
                  <a:pt x="4028041" y="1280463"/>
                </a:lnTo>
                <a:lnTo>
                  <a:pt x="4085908" y="1433860"/>
                </a:lnTo>
                <a:lnTo>
                  <a:pt x="4131854" y="1592703"/>
                </a:lnTo>
                <a:lnTo>
                  <a:pt x="4165341" y="1756453"/>
                </a:lnTo>
                <a:lnTo>
                  <a:pt x="4185828" y="1924571"/>
                </a:lnTo>
                <a:lnTo>
                  <a:pt x="4192778" y="2096515"/>
                </a:lnTo>
                <a:lnTo>
                  <a:pt x="4185828" y="2268442"/>
                </a:lnTo>
                <a:lnTo>
                  <a:pt x="4165341" y="2436543"/>
                </a:lnTo>
                <a:lnTo>
                  <a:pt x="4131854" y="2600279"/>
                </a:lnTo>
                <a:lnTo>
                  <a:pt x="4085908" y="2759109"/>
                </a:lnTo>
                <a:lnTo>
                  <a:pt x="4028041" y="2912494"/>
                </a:lnTo>
                <a:lnTo>
                  <a:pt x="3958793" y="3059895"/>
                </a:lnTo>
                <a:lnTo>
                  <a:pt x="3878703" y="3200772"/>
                </a:lnTo>
                <a:lnTo>
                  <a:pt x="3788312" y="3334585"/>
                </a:lnTo>
                <a:lnTo>
                  <a:pt x="3688158" y="3460794"/>
                </a:lnTo>
                <a:lnTo>
                  <a:pt x="3578780" y="3578859"/>
                </a:lnTo>
                <a:lnTo>
                  <a:pt x="3460719" y="3688242"/>
                </a:lnTo>
                <a:lnTo>
                  <a:pt x="3334513" y="3788402"/>
                </a:lnTo>
                <a:lnTo>
                  <a:pt x="3200701" y="3878800"/>
                </a:lnTo>
                <a:lnTo>
                  <a:pt x="3059824" y="3958896"/>
                </a:lnTo>
                <a:lnTo>
                  <a:pt x="2912421" y="4028150"/>
                </a:lnTo>
                <a:lnTo>
                  <a:pt x="2759031" y="4086022"/>
                </a:lnTo>
                <a:lnTo>
                  <a:pt x="2600193" y="4131974"/>
                </a:lnTo>
                <a:lnTo>
                  <a:pt x="2436447" y="4165464"/>
                </a:lnTo>
                <a:lnTo>
                  <a:pt x="2268332" y="4185955"/>
                </a:lnTo>
                <a:lnTo>
                  <a:pt x="2096389" y="4192904"/>
                </a:lnTo>
                <a:lnTo>
                  <a:pt x="1924445" y="4185955"/>
                </a:lnTo>
                <a:lnTo>
                  <a:pt x="1756330" y="4165464"/>
                </a:lnTo>
                <a:lnTo>
                  <a:pt x="1592584" y="4131974"/>
                </a:lnTo>
                <a:lnTo>
                  <a:pt x="1433746" y="4086022"/>
                </a:lnTo>
                <a:lnTo>
                  <a:pt x="1280356" y="4028150"/>
                </a:lnTo>
                <a:lnTo>
                  <a:pt x="1132953" y="3958896"/>
                </a:lnTo>
                <a:lnTo>
                  <a:pt x="992076" y="3878800"/>
                </a:lnTo>
                <a:lnTo>
                  <a:pt x="858264" y="3788402"/>
                </a:lnTo>
                <a:lnTo>
                  <a:pt x="732058" y="3688242"/>
                </a:lnTo>
                <a:lnTo>
                  <a:pt x="613997" y="3578859"/>
                </a:lnTo>
                <a:lnTo>
                  <a:pt x="504619" y="3460794"/>
                </a:lnTo>
                <a:lnTo>
                  <a:pt x="404465" y="3334585"/>
                </a:lnTo>
                <a:lnTo>
                  <a:pt x="314074" y="3200772"/>
                </a:lnTo>
                <a:lnTo>
                  <a:pt x="233984" y="3059895"/>
                </a:lnTo>
                <a:lnTo>
                  <a:pt x="164736" y="2912494"/>
                </a:lnTo>
                <a:lnTo>
                  <a:pt x="106869" y="2759109"/>
                </a:lnTo>
                <a:lnTo>
                  <a:pt x="60923" y="2600279"/>
                </a:lnTo>
                <a:lnTo>
                  <a:pt x="27436" y="2436543"/>
                </a:lnTo>
                <a:lnTo>
                  <a:pt x="6949" y="2268442"/>
                </a:lnTo>
                <a:lnTo>
                  <a:pt x="0" y="2096515"/>
                </a:lnTo>
                <a:close/>
              </a:path>
            </a:pathLst>
          </a:custGeom>
          <a:noFill/>
          <a:ln w="4127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object 9"/>
          <p:cNvSpPr/>
          <p:nvPr/>
        </p:nvSpPr>
        <p:spPr>
          <a:xfrm>
            <a:off x="7915680" y="6148800"/>
            <a:ext cx="2265120" cy="14198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object 10"/>
          <p:cNvSpPr/>
          <p:nvPr/>
        </p:nvSpPr>
        <p:spPr>
          <a:xfrm>
            <a:off x="12677400" y="6053040"/>
            <a:ext cx="3597120" cy="23180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object 11"/>
          <p:cNvSpPr/>
          <p:nvPr/>
        </p:nvSpPr>
        <p:spPr>
          <a:xfrm>
            <a:off x="2869200" y="5027760"/>
            <a:ext cx="3036960" cy="33595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Num" idx="37"/>
          </p:nvPr>
        </p:nvSpPr>
        <p:spPr>
          <a:xfrm>
            <a:off x="17536680" y="9781560"/>
            <a:ext cx="12780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buNone/>
              <a:defRPr b="0" lang="en-US" sz="1200" spc="-12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5560" indent="0">
              <a:lnSpc>
                <a:spcPct val="100000"/>
              </a:lnSpc>
              <a:buNone/>
            </a:pPr>
            <a:fld id="{EF2F0D5C-A527-4DB7-BC8E-8034E2AA5CE0}" type="slidenum">
              <a:rPr b="0" lang="en-US" sz="1200" spc="-12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38"/>
          </p:nvPr>
        </p:nvSpPr>
        <p:spPr>
          <a:xfrm>
            <a:off x="694800" y="9790560"/>
            <a:ext cx="331308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15 </a:t>
            </a:r>
            <a:r>
              <a:rPr b="0" lang="en-US" sz="1200" spc="9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i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2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32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0" lang="en-US" sz="1200" spc="-15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li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200" spc="-15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s.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g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hts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ese</a:t>
            </a:r>
            <a:r>
              <a:rPr b="0" lang="en-US" sz="1200" spc="4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n-US" sz="1200" spc="-26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dt" idx="39"/>
          </p:nvPr>
        </p:nvSpPr>
        <p:spPr>
          <a:xfrm>
            <a:off x="15906600" y="9788040"/>
            <a:ext cx="113400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defRPr b="0" lang="en-US" sz="1200" spc="-7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</a:pP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s</a:t>
            </a:r>
            <a:r>
              <a:rPr b="0" lang="en-US" sz="1200" spc="-2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24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7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de</a:t>
            </a:r>
            <a:r>
              <a:rPr b="0" lang="en-US" sz="1200" spc="-12" strike="noStrike">
                <a:solidFill>
                  <a:srgbClr val="ffffff"/>
                </a:solidFill>
                <a:latin typeface="Calibri"/>
              </a:rPr>
              <a:t>n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  <Words>684</Words>
  <Paragraphs>12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6T20:27:26Z</dcterms:created>
  <dc:creator>www.pptbz.com</dc:creator>
  <dc:description/>
  <dc:language>en-US</dc:language>
  <cp:lastModifiedBy>王玉清</cp:lastModifiedBy>
  <dcterms:modified xsi:type="dcterms:W3CDTF">2016-03-06T04:25:56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5-05-08T00:00:00Z</vt:filetime>
  </property>
  <property fmtid="{D5CDD505-2E9C-101B-9397-08002B2CF9AE}" pid="3" name="LastSaved">
    <vt:filetime>2015-06-16T00:00:00Z</vt:filetime>
  </property>
  <property fmtid="{D5CDD505-2E9C-101B-9397-08002B2CF9AE}" pid="4" name="PresentationFormat">
    <vt:lpwstr>自定义</vt:lpwstr>
  </property>
  <property fmtid="{D5CDD505-2E9C-101B-9397-08002B2CF9AE}" pid="5" name="Slides">
    <vt:r8>14</vt:r8>
  </property>
</Properties>
</file>