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F5E5-F6DE-46B4-9178-EC3D169C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6AC-865E-4FB5-96E0-4234CFC4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B6D1-9543-40BB-B6D9-EDE9387B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613-92FF-4586-880E-7E733DBB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3C5A0-476F-4CFC-A691-7B3FE5C8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C231-8BF5-40CC-ADEB-5C09644A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45D6-3967-48F1-8A7C-D4AE68D4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7AD7-E9AC-489B-BDB0-CBDB56DC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2DFF-A8C5-4B66-94FB-FFAD3153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1D95-AA81-45E8-B72F-98F38DE5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B906-BBAE-4FC2-A688-6B622962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DB8-3EB0-448F-A3FE-477EF2EF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9C60-EB68-4028-95A3-5C897EFB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75D1-8ED3-4E6A-A148-24F1743D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65EF-3586-47FF-890F-51FBAD07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BFC4-2EF0-4E65-B330-2FD3F070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FAA7-9749-4039-97F1-1C2ADBA4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C53B-0C7A-4F43-B587-7834EBF6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E87B0-4641-492B-BBDF-9FB95D6D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7451-151C-473A-BEA1-13175416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0782-AAC5-4DD4-80B6-00B345D8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E0F3B-5D7F-4577-B7D0-2271460E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A43-3950-4DB6-A5A9-5A913FAE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2B2D9-4EB2-46F9-8148-51822B17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C541-A036-4709-B0BD-17DAF0DD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721D-12F8-4FB6-AD30-72C36BAE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C10DC-745E-444B-88AC-A462A564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18486-4312-4FDA-861C-8D2545E9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8504F-DFFE-4227-839F-7BE375D6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586C-A86C-4DDB-BFF2-0FABA2FD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D603-0AC4-4FCD-96CF-B6830378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E2E-9689-4FA8-ACAD-5F8A9260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7827-7355-4723-8AE7-D7945D1F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D5F-BA16-4826-9B45-13B9428B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F093-29E9-4C14-99ED-7272E8E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25A-95AB-4CF7-A469-35F5AC18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46E8-4226-4077-B2B5-C9D1DCC47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9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2244-2BBF-4C56-9678-782C28A15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E511-59EE-4A6F-9BA7-6BF77014F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2076120" y="15238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儿童彩虹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08" name="AutoShape 4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6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7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8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9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0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1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2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3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4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5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Group 16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21" name="Oval 17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18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19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20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Oval 21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2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3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24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25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26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31" name="Oval 27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28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Oval 29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Oval 30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31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36" name="Oval 32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3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34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35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AutoShape 36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AutoShape 37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38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39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0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41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451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45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457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458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0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1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463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464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5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6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468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469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1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2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473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474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6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479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480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2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486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489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04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525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9"/>
            <p:cNvSpPr/>
            <p:nvPr/>
          </p:nvSpPr>
          <p:spPr>
            <a:xfrm>
              <a:off x="1111320" y="4739760"/>
              <a:ext cx="2168280" cy="58824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10"/>
            <p:cNvSpPr/>
            <p:nvPr/>
          </p:nvSpPr>
          <p:spPr>
            <a:xfrm>
              <a:off x="1140120" y="3037680"/>
              <a:ext cx="2131920" cy="5871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4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5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198360" y="638640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3"/>
          <p:cNvGrpSpPr/>
          <p:nvPr/>
        </p:nvGrpSpPr>
        <p:grpSpPr>
          <a:xfrm>
            <a:off x="1100160" y="1905120"/>
            <a:ext cx="1879200" cy="1918080"/>
            <a:chOff x="1100160" y="1905120"/>
            <a:chExt cx="1879200" cy="1918080"/>
          </a:xfrm>
        </p:grpSpPr>
        <p:pic>
          <p:nvPicPr>
            <p:cNvPr id="542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2320" y="1905120"/>
              <a:ext cx="187704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3" name="Oval 5"/>
            <p:cNvGrpSpPr/>
            <p:nvPr/>
          </p:nvGrpSpPr>
          <p:grpSpPr>
            <a:xfrm>
              <a:off x="1100160" y="1907280"/>
              <a:ext cx="1868760" cy="1823040"/>
              <a:chOff x="1100160" y="1907280"/>
              <a:chExt cx="1868760" cy="1823040"/>
            </a:xfrm>
          </p:grpSpPr>
          <p:pic>
            <p:nvPicPr>
              <p:cNvPr id="544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7280"/>
                <a:ext cx="1868760" cy="18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>
                <a:off x="1375920" y="217152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Freeform 6"/>
            <p:cNvSpPr/>
            <p:nvPr/>
          </p:nvSpPr>
          <p:spPr>
            <a:xfrm>
              <a:off x="1296000" y="1942200"/>
              <a:ext cx="1464480" cy="632880"/>
            </a:xfrm>
            <a:custGeom>
              <a:avLst/>
              <a:gdLst>
                <a:gd name="textAreaLeft" fmla="*/ 0 w 1464480"/>
                <a:gd name="textAreaRight" fmla="*/ 1464840 w 1464480"/>
                <a:gd name="textAreaTop" fmla="*/ 0 h 632880"/>
                <a:gd name="textAreaBottom" fmla="*/ 633240 h 632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1235520" y="3166560"/>
              <a:ext cx="1645920" cy="656640"/>
              <a:chOff x="1235520" y="3166560"/>
              <a:chExt cx="1645920" cy="656640"/>
            </a:xfrm>
          </p:grpSpPr>
          <p:grpSp>
            <p:nvGrpSpPr>
              <p:cNvPr id="548" name="Group 8"/>
              <p:cNvGrpSpPr/>
              <p:nvPr/>
            </p:nvGrpSpPr>
            <p:grpSpPr>
              <a:xfrm>
                <a:off x="1522080" y="3166560"/>
                <a:ext cx="1359360" cy="616320"/>
                <a:chOff x="1522080" y="3166560"/>
                <a:chExt cx="1359360" cy="616320"/>
              </a:xfrm>
            </p:grpSpPr>
            <p:sp>
              <p:nvSpPr>
                <p:cNvPr id="549" name="AutoShape 9"/>
                <p:cNvSpPr/>
                <p:nvPr/>
              </p:nvSpPr>
              <p:spPr>
                <a:xfrm flipH="1" flipV="1" rot="3964800">
                  <a:off x="2263320" y="2980440"/>
                  <a:ext cx="23616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AutoShape 10"/>
                <p:cNvSpPr/>
                <p:nvPr/>
              </p:nvSpPr>
              <p:spPr>
                <a:xfrm flipH="1" flipV="1" rot="4780200">
                  <a:off x="2109960" y="30405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AutoShape 11"/>
                <p:cNvSpPr/>
                <p:nvPr/>
              </p:nvSpPr>
              <p:spPr>
                <a:xfrm flipH="1" flipV="1" rot="5076000">
                  <a:off x="2016720" y="305388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12"/>
                <p:cNvSpPr/>
                <p:nvPr/>
              </p:nvSpPr>
              <p:spPr>
                <a:xfrm flipH="1" flipV="1" rot="5608200">
                  <a:off x="1903680" y="306504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13"/>
              <p:cNvGrpSpPr/>
              <p:nvPr/>
            </p:nvGrpSpPr>
            <p:grpSpPr>
              <a:xfrm>
                <a:off x="1235520" y="3175920"/>
                <a:ext cx="1356480" cy="647280"/>
                <a:chOff x="1235520" y="3175920"/>
                <a:chExt cx="1356480" cy="647280"/>
              </a:xfrm>
            </p:grpSpPr>
            <p:sp>
              <p:nvSpPr>
                <p:cNvPr id="554" name="AutoShape 14"/>
                <p:cNvSpPr/>
                <p:nvPr/>
              </p:nvSpPr>
              <p:spPr>
                <a:xfrm flipH="1" flipV="1" rot="5317800">
                  <a:off x="1976040" y="306540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AutoShape 15"/>
                <p:cNvSpPr/>
                <p:nvPr/>
              </p:nvSpPr>
              <p:spPr>
                <a:xfrm flipH="1" flipV="1" rot="6133800">
                  <a:off x="1812240" y="306252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16"/>
                <p:cNvSpPr/>
                <p:nvPr/>
              </p:nvSpPr>
              <p:spPr>
                <a:xfrm flipH="1" flipV="1" rot="6429000">
                  <a:off x="1721160" y="303840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17"/>
                <p:cNvSpPr/>
                <p:nvPr/>
              </p:nvSpPr>
              <p:spPr>
                <a:xfrm flipH="1" flipV="1" rot="6961200">
                  <a:off x="1612080" y="300564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8" name="Group 18"/>
          <p:cNvGrpSpPr/>
          <p:nvPr/>
        </p:nvGrpSpPr>
        <p:grpSpPr>
          <a:xfrm>
            <a:off x="1147680" y="4260960"/>
            <a:ext cx="1879200" cy="1919520"/>
            <a:chOff x="1147680" y="4260960"/>
            <a:chExt cx="1879200" cy="1919520"/>
          </a:xfrm>
        </p:grpSpPr>
        <p:pic>
          <p:nvPicPr>
            <p:cNvPr id="559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49840" y="426096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0" name="Oval 20"/>
            <p:cNvGrpSpPr/>
            <p:nvPr/>
          </p:nvGrpSpPr>
          <p:grpSpPr>
            <a:xfrm>
              <a:off x="1147680" y="4260960"/>
              <a:ext cx="1868760" cy="1825200"/>
              <a:chOff x="1147680" y="4260960"/>
              <a:chExt cx="1868760" cy="1825200"/>
            </a:xfrm>
          </p:grpSpPr>
          <p:pic>
            <p:nvPicPr>
              <p:cNvPr id="561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2" name=""/>
              <p:cNvSpPr/>
              <p:nvPr/>
            </p:nvSpPr>
            <p:spPr>
              <a:xfrm>
                <a:off x="1422360" y="452844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Freeform 21"/>
            <p:cNvSpPr/>
            <p:nvPr/>
          </p:nvSpPr>
          <p:spPr>
            <a:xfrm>
              <a:off x="1343520" y="4298040"/>
              <a:ext cx="1464480" cy="633600"/>
            </a:xfrm>
            <a:custGeom>
              <a:avLst/>
              <a:gdLst>
                <a:gd name="textAreaLeft" fmla="*/ 0 w 1464480"/>
                <a:gd name="textAreaRight" fmla="*/ 1464840 w 1464480"/>
                <a:gd name="textAreaTop" fmla="*/ 0 h 633600"/>
                <a:gd name="textAreaBottom" fmla="*/ 633960 h 6336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22"/>
            <p:cNvGrpSpPr/>
            <p:nvPr/>
          </p:nvGrpSpPr>
          <p:grpSpPr>
            <a:xfrm>
              <a:off x="1283040" y="5524560"/>
              <a:ext cx="1646280" cy="655920"/>
              <a:chOff x="1283040" y="5524560"/>
              <a:chExt cx="1646280" cy="655920"/>
            </a:xfrm>
          </p:grpSpPr>
          <p:grpSp>
            <p:nvGrpSpPr>
              <p:cNvPr id="565" name="Group 23"/>
              <p:cNvGrpSpPr/>
              <p:nvPr/>
            </p:nvGrpSpPr>
            <p:grpSpPr>
              <a:xfrm>
                <a:off x="1569600" y="5524560"/>
                <a:ext cx="1359720" cy="616320"/>
                <a:chOff x="1569600" y="5524560"/>
                <a:chExt cx="1359720" cy="616320"/>
              </a:xfrm>
            </p:grpSpPr>
            <p:sp>
              <p:nvSpPr>
                <p:cNvPr id="566" name="AutoShape 24"/>
                <p:cNvSpPr/>
                <p:nvPr/>
              </p:nvSpPr>
              <p:spPr>
                <a:xfrm flipH="1" flipV="1" rot="3964800">
                  <a:off x="2311200" y="533844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AutoShape 25"/>
                <p:cNvSpPr/>
                <p:nvPr/>
              </p:nvSpPr>
              <p:spPr>
                <a:xfrm flipH="1" flipV="1" rot="4780200">
                  <a:off x="2157480" y="53985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AutoShape 26"/>
                <p:cNvSpPr/>
                <p:nvPr/>
              </p:nvSpPr>
              <p:spPr>
                <a:xfrm flipH="1" flipV="1" rot="5076000">
                  <a:off x="2063880" y="54111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27"/>
                <p:cNvSpPr/>
                <p:nvPr/>
              </p:nvSpPr>
              <p:spPr>
                <a:xfrm flipH="1" flipV="1" rot="5608200">
                  <a:off x="1951200" y="542268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Group 28"/>
              <p:cNvGrpSpPr/>
              <p:nvPr/>
            </p:nvGrpSpPr>
            <p:grpSpPr>
              <a:xfrm>
                <a:off x="1283040" y="5533560"/>
                <a:ext cx="1356120" cy="646920"/>
                <a:chOff x="1283040" y="5533560"/>
                <a:chExt cx="1356120" cy="646920"/>
              </a:xfrm>
            </p:grpSpPr>
            <p:sp>
              <p:nvSpPr>
                <p:cNvPr id="571" name="AutoShape 29"/>
                <p:cNvSpPr/>
                <p:nvPr/>
              </p:nvSpPr>
              <p:spPr>
                <a:xfrm flipH="1" flipV="1" rot="5317800">
                  <a:off x="2022840" y="542268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30"/>
                <p:cNvSpPr/>
                <p:nvPr/>
              </p:nvSpPr>
              <p:spPr>
                <a:xfrm flipH="1" flipV="1" rot="6133800">
                  <a:off x="1859760" y="54201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AutoShape 31"/>
                <p:cNvSpPr/>
                <p:nvPr/>
              </p:nvSpPr>
              <p:spPr>
                <a:xfrm flipH="1" flipV="1" rot="6429000">
                  <a:off x="1768320" y="539568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AutoShape 32"/>
                <p:cNvSpPr/>
                <p:nvPr/>
              </p:nvSpPr>
              <p:spPr>
                <a:xfrm flipH="1" flipV="1" rot="6961200">
                  <a:off x="1659600" y="53625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5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76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80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84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5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47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>
              <a:gd name="textAreaLeft" fmla="*/ 0 w 1623960"/>
              <a:gd name="textAreaRight" fmla="*/ 1624320 w 16239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48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>
              <a:gd name="textAreaLeft" fmla="*/ 0 w 314280"/>
              <a:gd name="textAreaRight" fmla="*/ 314640 w 314280"/>
              <a:gd name="textAreaTop" fmla="*/ 0 h 1096920"/>
              <a:gd name="textAreaBottom" fmla="*/ 1096920 h 109692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49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>
              <a:gd name="textAreaLeft" fmla="*/ -360 w 1623960"/>
              <a:gd name="textAreaRight" fmla="*/ 1623960 w 16239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8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594" name="Rectangle 4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5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6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7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598" name="Rectangle 8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9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10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1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602" name="Rectangle 12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13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14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15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606" name="Freeform 16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>
                <a:gd name="textAreaLeft" fmla="*/ 0 w 1177200"/>
                <a:gd name="textAreaRight" fmla="*/ 1177560 w 1177200"/>
                <a:gd name="textAreaTop" fmla="*/ 0 h 2325600"/>
                <a:gd name="textAreaBottom" fmla="*/ 2325960 h 2325600"/>
              </a:gdLst>
              <a:ahLst/>
              <a:rect l="textAreaLeft" t="textAreaTop" r="textAreaRight" b="textAreaBottom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17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693000"/>
                <a:gd name="textAreaBottom" fmla="*/ 693360 h 693000"/>
              </a:gdLst>
              <a:ahLst/>
              <a:rect l="textAreaLeft" t="textAreaTop" r="textAreaRight" b="textAreaBottom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18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>
                <a:gd name="textAreaLeft" fmla="*/ 0 w 86400"/>
                <a:gd name="textAreaRight" fmla="*/ 86400 w 864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19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Rectangle 20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13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>
                <a:gd name="textAreaLeft" fmla="*/ 0 w 4464720"/>
                <a:gd name="textAreaRight" fmla="*/ 4465080 w 4464720"/>
                <a:gd name="textAreaTop" fmla="*/ 0 h 1405440"/>
                <a:gd name="textAreaBottom" fmla="*/ 1405440 h 14054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>
                <a:gd name="textAreaLeft" fmla="*/ 0 w 3619440"/>
                <a:gd name="textAreaRight" fmla="*/ 3619800 w 3619440"/>
                <a:gd name="textAreaTop" fmla="*/ 0 h 1786320"/>
                <a:gd name="textAreaBottom" fmla="*/ 1786680 h 17863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2013120"/>
                <a:gd name="textAreaBottom" fmla="*/ 2013480 h 201312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17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3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5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6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7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4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44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48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51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62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63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>
                  <a:gd name="textAreaLeft" fmla="*/ 0 w 1063080"/>
                  <a:gd name="textAreaRight" fmla="*/ 1063440 w 10630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>
                  <a:gd name="textAreaLeft" fmla="*/ 0 w 1655280"/>
                  <a:gd name="textAreaRight" fmla="*/ 1655640 w 165528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>
                  <a:gd name="textAreaLeft" fmla="*/ 0 w 2706480"/>
                  <a:gd name="textAreaRight" fmla="*/ 2706840 w 2706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667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>
                  <a:gd name="textAreaLeft" fmla="*/ 0 w 1713960"/>
                  <a:gd name="textAreaRight" fmla="*/ 1714320 w 17139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>
                  <a:gd name="textAreaLeft" fmla="*/ 0 w 2802600"/>
                  <a:gd name="textAreaRight" fmla="*/ 2802960 w 280260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71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>
                  <a:gd name="textAreaLeft" fmla="*/ 0 w 1140120"/>
                  <a:gd name="textAreaRight" fmla="*/ 1140480 w 11401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>
                  <a:gd name="textAreaLeft" fmla="*/ 0 w 1775160"/>
                  <a:gd name="textAreaRight" fmla="*/ 1775520 w 177516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>
                  <a:gd name="textAreaLeft" fmla="*/ 0 w 2902680"/>
                  <a:gd name="textAreaRight" fmla="*/ 2902680 w 29026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75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760"/>
                  <a:gd name="textAreaBottom" fmla="*/ 1049760 h 104976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>
                  <a:gd name="textAreaLeft" fmla="*/ 0 w 1836720"/>
                  <a:gd name="textAreaRight" fmla="*/ 1837080 w 1836720"/>
                  <a:gd name="textAreaTop" fmla="*/ 0 h 1126080"/>
                  <a:gd name="textAreaBottom" fmla="*/ 1126440 h 112608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>
                  <a:gd name="textAreaLeft" fmla="*/ 0 w 3003480"/>
                  <a:gd name="textAreaRight" fmla="*/ 3003840 w 3003480"/>
                  <a:gd name="textAreaTop" fmla="*/ 0 h 1301760"/>
                  <a:gd name="textAreaBottom" fmla="*/ 1302120 h 130176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85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88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89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Puzzle2"/>
              <p:cNvSpPr/>
              <p:nvPr/>
            </p:nvSpPr>
            <p:spPr>
              <a:xfrm>
                <a:off x="4043880" y="3446640"/>
                <a:ext cx="2772360" cy="212580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3480 h 2125800"/>
                  <a:gd name="textAreaBottom" fmla="*/ 2012400 h 212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Puzzle4"/>
              <p:cNvSpPr/>
              <p:nvPr/>
            </p:nvSpPr>
            <p:spPr>
              <a:xfrm>
                <a:off x="2972880" y="3420360"/>
                <a:ext cx="1677600" cy="2708280"/>
              </a:xfrm>
              <a:custGeom>
                <a:avLst/>
                <a:gdLst>
                  <a:gd name="textAreaLeft" fmla="*/ 160560 w 1677600"/>
                  <a:gd name="textAreaRight" fmla="*/ 1568520 w 167760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3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6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3acff">
                  <a:alpha val="82352"/>
                </a:srgbClr>
              </a:gs>
              <a:gs pos="100000">
                <a:srgbClr val="af67f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7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8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9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af67ff"/>
              </a:gs>
              <a:gs pos="100000">
                <a:srgbClr val="d4a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10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13076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11" descr="light_shadow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2" descr="circuler_1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08" name="Oval 13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3acff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4"/>
          <p:cNvSpPr/>
          <p:nvPr/>
        </p:nvSpPr>
        <p:spPr>
          <a:xfrm>
            <a:off x="1123920" y="3032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5" descr="light_shadow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16" descr="circuler_1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712" name="Oval 17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8"/>
          <p:cNvSpPr/>
          <p:nvPr/>
        </p:nvSpPr>
        <p:spPr>
          <a:xfrm>
            <a:off x="2967120" y="252900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19" descr="light_shadow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20" descr="circuler_1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716" name="Oval 21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e1b43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e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reeform 22"/>
          <p:cNvSpPr/>
          <p:nvPr/>
        </p:nvSpPr>
        <p:spPr>
          <a:xfrm>
            <a:off x="4888080" y="204156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24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5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26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27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28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29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725" name="Group 30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726" name="AutoShape 31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AutoShape 32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AutoShape 33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34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0" name="Group 35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31" name="AutoShape 36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AutoShape 37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AutoShape 38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AutoShape 39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Group 40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36" name="Group 41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37" name="AutoShape 42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AutoShape 43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AutoShape 44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utoShape 45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1" name="Group 46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42" name="AutoShape 47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AutoShape 48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AutoShape 49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AutoShape 50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Group 51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47" name="Group 52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48" name="AutoShape 53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54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55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56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Group 57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53" name="AutoShape 58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utoShape 59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60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AutoShape 61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7" name="Rectangle 62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63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64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65" descr="light_shadow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66" descr="circuler_1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62" name="Oval 67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Freeform 68"/>
          <p:cNvSpPr/>
          <p:nvPr/>
        </p:nvSpPr>
        <p:spPr>
          <a:xfrm>
            <a:off x="6723000" y="1547640"/>
            <a:ext cx="898560" cy="39564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640"/>
              <a:gd name="textAreaBottom" fmla="*/ 396000 h 3956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69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70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71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67" name="Group 72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68" name="AutoShape 73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AutoShape 74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AutoShape 75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76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77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73" name="AutoShape 78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AutoShape 79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80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81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Freeform 82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80000"/>
                </a:srgbClr>
              </a:gs>
              <a:gs pos="100000">
                <a:srgbClr val="d8b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>
              <a:gd name="textAreaLeft" fmla="*/ -360 w 1717560"/>
              <a:gd name="textAreaRight" fmla="*/ 1717560 w 1717560"/>
              <a:gd name="textAreaTop" fmla="*/ 0 h 538200"/>
              <a:gd name="textAreaBottom" fmla="*/ 538200 h 538200"/>
            </a:gdLst>
            <a:ahLst/>
            <a:rect l="textAreaLeft" t="textAreaTop" r="textAreaRight" b="textAreaBottom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>
              <a:gd name="textAreaLeft" fmla="*/ 360 w 1743120"/>
              <a:gd name="textAreaRight" fmla="*/ 1743840 w 174312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>
              <a:gd name="textAreaLeft" fmla="*/ -360 w 3240"/>
              <a:gd name="textAreaRight" fmla="*/ 324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3175" h="1587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>
              <a:gd name="textAreaLeft" fmla="*/ -360 w 657000"/>
              <a:gd name="textAreaRight" fmla="*/ 657000 w 6570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>
              <a:gd name="textAreaLeft" fmla="*/ 360 w 154080"/>
              <a:gd name="textAreaRight" fmla="*/ 154800 w 15408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>
              <a:gd name="textAreaLeft" fmla="*/ -360 w 163800"/>
              <a:gd name="textAreaRight" fmla="*/ 163800 w 1638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>
              <a:gd name="textAreaLeft" fmla="*/ 360 w 712800"/>
              <a:gd name="textAreaRight" fmla="*/ 713520 w 7128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>
              <a:gd name="textAreaLeft" fmla="*/ 360 w 15840"/>
              <a:gd name="textAreaRight" fmla="*/ 16560 w 1584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>
              <a:gd name="textAreaLeft" fmla="*/ 360 w 1154160"/>
              <a:gd name="textAreaRight" fmla="*/ 1154880 w 11541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>
              <a:gd name="textAreaLeft" fmla="*/ 360 w 1222560"/>
              <a:gd name="textAreaRight" fmla="*/ 1223280 w 1222560"/>
              <a:gd name="textAreaTop" fmla="*/ 0 h 585720"/>
              <a:gd name="textAreaBottom" fmla="*/ 585720 h 585720"/>
            </a:gdLst>
            <a:ahLst/>
            <a:rect l="textAreaLeft" t="textAreaTop" r="textAreaRight" b="textAreaBottom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>
              <a:gd name="textAreaLeft" fmla="*/ 0 w 55440"/>
              <a:gd name="textAreaRight" fmla="*/ 55440 w 554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>
              <a:gd name="textAreaLeft" fmla="*/ 360 w 15840"/>
              <a:gd name="textAreaRight" fmla="*/ 16560 w 15840"/>
              <a:gd name="textAreaTop" fmla="*/ 0 h 311040"/>
              <a:gd name="textAreaBottom" fmla="*/ 311040 h 311040"/>
            </a:gdLst>
            <a:ahLst/>
            <a:rect l="textAreaLeft" t="textAreaTop" r="textAreaRight" b="textAreaBottom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>
              <a:gd name="textAreaLeft" fmla="*/ -360 w 104760"/>
              <a:gd name="textAreaRight" fmla="*/ 104760 w 104760"/>
              <a:gd name="textAreaTop" fmla="*/ 0 h 372960"/>
              <a:gd name="textAreaBottom" fmla="*/ 373320 h 372960"/>
            </a:gdLst>
            <a:ahLst/>
            <a:rect l="textAreaLeft" t="textAreaTop" r="textAreaRight" b="textAreaBottom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>
              <a:gd name="textAreaLeft" fmla="*/ 360 w 1738080"/>
              <a:gd name="textAreaRight" fmla="*/ 1738800 w 1738080"/>
              <a:gd name="textAreaTop" fmla="*/ 0 h 920520"/>
              <a:gd name="textAreaBottom" fmla="*/ 920880 h 920520"/>
            </a:gdLst>
            <a:ahLst/>
            <a:rect l="textAreaLeft" t="textAreaTop" r="textAreaRight" b="textAreaBottom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>
              <a:gd name="textAreaLeft" fmla="*/ -360 w 772920"/>
              <a:gd name="textAreaRight" fmla="*/ 772920 w 7729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>
              <a:gd name="textAreaLeft" fmla="*/ 0 w 653760"/>
              <a:gd name="textAreaRight" fmla="*/ 653760 w 65376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>
              <a:gd name="textAreaLeft" fmla="*/ 360 w 1008000"/>
              <a:gd name="textAreaRight" fmla="*/ 1008720 w 100800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>
              <a:gd name="textAreaLeft" fmla="*/ 0 w 714240"/>
              <a:gd name="textAreaRight" fmla="*/ 714240 w 714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>
              <a:gd name="textAreaLeft" fmla="*/ -360 w 1152360"/>
              <a:gd name="textAreaRight" fmla="*/ 1152360 w 11523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>
              <a:gd name="textAreaLeft" fmla="*/ 360 w 1222560"/>
              <a:gd name="textAreaRight" fmla="*/ 1223280 w 12225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>
              <a:gd name="textAreaLeft" fmla="*/ 360 w 154080"/>
              <a:gd name="textAreaRight" fmla="*/ 154800 w 1540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>
              <a:gd name="textAreaLeft" fmla="*/ -360 w 1739880"/>
              <a:gd name="textAreaRight" fmla="*/ 1739880 w 173988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>
              <a:gd name="textAreaLeft" fmla="*/ 360 w 1719360"/>
              <a:gd name="textAreaRight" fmla="*/ 1720080 w 171936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>
              <a:gd name="textAreaLeft" fmla="*/ 360 w 1743120"/>
              <a:gd name="textAreaRight" fmla="*/ 1743840 w 1743120"/>
              <a:gd name="textAreaTop" fmla="*/ 0 h 658800"/>
              <a:gd name="textAreaBottom" fmla="*/ 658800 h 658800"/>
            </a:gdLst>
            <a:ahLst/>
            <a:rect l="textAreaLeft" t="textAreaTop" r="textAreaRight" b="textAreaBottom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805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>
                <a:gd name="textAreaLeft" fmla="*/ -360 w 2197080"/>
                <a:gd name="textAreaRight" fmla="*/ 2197080 w 2197080"/>
                <a:gd name="textAreaTop" fmla="*/ 0 h 933120"/>
                <a:gd name="textAreaBottom" fmla="*/ 933480 h 933120"/>
              </a:gdLst>
              <a:ahLst/>
              <a:rect l="textAreaLeft" t="textAreaTop" r="textAreaRight" b="textAreaBottom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>
                <a:gd name="textAreaLeft" fmla="*/ -360 w 165240"/>
                <a:gd name="textAreaRight" fmla="*/ 165240 w 165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>
                <a:gd name="textAreaLeft" fmla="*/ 360 w 2233440"/>
                <a:gd name="textAreaRight" fmla="*/ 2234160 w 2233440"/>
                <a:gd name="textAreaTop" fmla="*/ 0 h 1130400"/>
                <a:gd name="textAreaBottom" fmla="*/ 1130760 h 1130400"/>
              </a:gdLst>
              <a:ahLst/>
              <a:rect l="textAreaLeft" t="textAreaTop" r="textAreaRight" b="textAreaBottom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>
                <a:gd name="textAreaLeft" fmla="*/ -360 w 2197080"/>
                <a:gd name="textAreaRight" fmla="*/ 2197080 w 2197080"/>
                <a:gd name="textAreaTop" fmla="*/ 0 h 933480"/>
                <a:gd name="textAreaBottom" fmla="*/ 933840 h 933480"/>
              </a:gdLst>
              <a:ahLst/>
              <a:rect l="textAreaLeft" t="textAreaTop" r="textAreaRight" b="textAreaBottom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>
              <a:gd name="textAreaLeft" fmla="*/ 0 w 517320"/>
              <a:gd name="textAreaRight" fmla="*/ 517680 w 517320"/>
              <a:gd name="textAreaTop" fmla="*/ 0 h 1474560"/>
              <a:gd name="textAreaBottom" fmla="*/ 1474920 h 1474560"/>
            </a:gdLst>
            <a:ahLst/>
            <a:rect l="textAreaLeft" t="textAreaTop" r="textAreaRight" b="textAreaBottom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11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>
                <a:gd name="textAreaLeft" fmla="*/ 0 w 759960"/>
                <a:gd name="textAreaRight" fmla="*/ 760320 w 759960"/>
                <a:gd name="textAreaTop" fmla="*/ 0 h 2552040"/>
                <a:gd name="textAreaBottom" fmla="*/ 2552400 h 2552040"/>
              </a:gdLst>
              <a:ahLst/>
              <a:rect l="textAreaLeft" t="textAreaTop" r="textAreaRight" b="textAreaBottom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14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132920"/>
                <a:gd name="textAreaBottom" fmla="*/ 1133280 h 1132920"/>
              </a:gdLst>
              <a:ahLst/>
              <a:rect l="textAreaLeft" t="textAreaTop" r="textAreaRight" b="textAreaBottom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17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>
                <a:gd name="textAreaLeft" fmla="*/ 0 w 726840"/>
                <a:gd name="textAreaRight" fmla="*/ 727200 w 726840"/>
                <a:gd name="textAreaTop" fmla="*/ 0 h 2214360"/>
                <a:gd name="textAreaBottom" fmla="*/ 2214720 h 2214360"/>
              </a:gdLst>
              <a:ahLst/>
              <a:rect l="textAreaLeft" t="textAreaTop" r="textAreaRight" b="textAreaBottom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>
              <a:gd name="textAreaLeft" fmla="*/ 0 w 398520"/>
              <a:gd name="textAreaRight" fmla="*/ 398880 w 39852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6"/>
          <p:cNvSpPr/>
          <p:nvPr/>
        </p:nvSpPr>
        <p:spPr>
          <a:xfrm>
            <a:off x="198360" y="638640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3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4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5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6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7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8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9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10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1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12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3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5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7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4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>
              <a:gd name="textAreaLeft" fmla="*/ 0 w 1923840"/>
              <a:gd name="textAreaRight" fmla="*/ 1924200 w 192384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7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>
              <a:gd name="textAreaLeft" fmla="*/ 0 w 2019240"/>
              <a:gd name="textAreaRight" fmla="*/ 2019600 w 201924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8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9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8cff"/>
              </a:gs>
              <a:gs pos="50000">
                <a:srgbClr val="af67ff"/>
              </a:gs>
              <a:gs pos="100000">
                <a:srgbClr val="c28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10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8d8ff"/>
              </a:gs>
              <a:gs pos="50000">
                <a:srgbClr val="ccccff"/>
              </a:gs>
              <a:gs pos="100000">
                <a:srgbClr val="d8d8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4"/>
          <p:cNvGrpSpPr/>
          <p:nvPr/>
        </p:nvGrpSpPr>
        <p:grpSpPr>
          <a:xfrm>
            <a:off x="1273320" y="1980720"/>
            <a:ext cx="4061880" cy="3859200"/>
            <a:chOff x="1273320" y="1980720"/>
            <a:chExt cx="4061880" cy="3859200"/>
          </a:xfrm>
        </p:grpSpPr>
        <p:sp>
          <p:nvSpPr>
            <p:cNvPr id="852" name="AutoShape 5"/>
            <p:cNvSpPr/>
            <p:nvPr/>
          </p:nvSpPr>
          <p:spPr>
            <a:xfrm rot="16200000">
              <a:off x="3878640" y="3250440"/>
              <a:ext cx="1560600" cy="1352160"/>
            </a:xfrm>
            <a:prstGeom prst="hexagon">
              <a:avLst>
                <a:gd name="adj" fmla="val 2885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6"/>
            <p:cNvSpPr/>
            <p:nvPr/>
          </p:nvSpPr>
          <p:spPr>
            <a:xfrm rot="16200000">
              <a:off x="3195720" y="2082960"/>
              <a:ext cx="1558440" cy="1353960"/>
            </a:xfrm>
            <a:prstGeom prst="hexagon">
              <a:avLst>
                <a:gd name="adj" fmla="val 28776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7"/>
            <p:cNvSpPr/>
            <p:nvPr/>
          </p:nvSpPr>
          <p:spPr>
            <a:xfrm rot="16200000">
              <a:off x="3240360" y="4384440"/>
              <a:ext cx="1558800" cy="1352160"/>
            </a:xfrm>
            <a:prstGeom prst="hexagon">
              <a:avLst>
                <a:gd name="adj" fmla="val 28821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AutoShape 8"/>
            <p:cNvSpPr/>
            <p:nvPr/>
          </p:nvSpPr>
          <p:spPr>
            <a:xfrm rot="16200000">
              <a:off x="2522160" y="3255120"/>
              <a:ext cx="1557000" cy="1353960"/>
            </a:xfrm>
            <a:prstGeom prst="hexagon">
              <a:avLst>
                <a:gd name="adj" fmla="val 28781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AutoShape 9"/>
            <p:cNvSpPr/>
            <p:nvPr/>
          </p:nvSpPr>
          <p:spPr>
            <a:xfrm rot="16200000">
              <a:off x="1843920" y="208368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AutoShape 10"/>
            <p:cNvSpPr/>
            <p:nvPr/>
          </p:nvSpPr>
          <p:spPr>
            <a:xfrm rot="16200000">
              <a:off x="1843920" y="4384440"/>
              <a:ext cx="1558800" cy="1352160"/>
            </a:xfrm>
            <a:prstGeom prst="hexagon">
              <a:avLst>
                <a:gd name="adj" fmla="val 28821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AutoShape 11"/>
            <p:cNvSpPr/>
            <p:nvPr/>
          </p:nvSpPr>
          <p:spPr>
            <a:xfrm rot="16200000">
              <a:off x="1168920" y="3250800"/>
              <a:ext cx="1560600" cy="1351800"/>
            </a:xfrm>
            <a:prstGeom prst="hexagon">
              <a:avLst>
                <a:gd name="adj" fmla="val 2886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9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3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62" name="Line 4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5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6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7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8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9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10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11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70" name="Rectangle 12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4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15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6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7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8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19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8" name="Group 20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9" name="Rectangle 21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0" name="Group 22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81" name="Line 23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24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25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Line 26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27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Line 28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7" name="Freeform 29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30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1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2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3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34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5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36"/>
          <p:cNvSpPr/>
          <p:nvPr/>
        </p:nvSpPr>
        <p:spPr>
          <a:xfrm>
            <a:off x="6593040" y="287640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37"/>
          <p:cNvSpPr/>
          <p:nvPr/>
        </p:nvSpPr>
        <p:spPr>
          <a:xfrm>
            <a:off x="4178160" y="40831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8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39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0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41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42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43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44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Oval 45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5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7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40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2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5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7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50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2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3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67" name="AutoShape 4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5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6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1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6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7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28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2" name="Oval 29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31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32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Text Box 33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4"/>
          <p:cNvSpPr/>
          <p:nvPr/>
        </p:nvSpPr>
        <p:spPr>
          <a:xfrm>
            <a:off x="871560" y="3881520"/>
            <a:ext cx="2006640" cy="480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8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1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482760"/>
              <a:gd name="textAreaBottom" fmla="*/ 482760 h 482760"/>
            </a:gdLst>
            <a:ahLst/>
            <a:rect l="textAreaLeft" t="textAreaTop" r="textAreaRight" b="textAreaBottom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3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209" name="AutoShape 14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5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16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213" name="AutoShape 18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9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20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21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217" name="AutoShape 22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23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ectangle 24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5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6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7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8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9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98360" y="6386400"/>
            <a:ext cx="582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254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>
                <a:gd name="textAreaLeft" fmla="*/ 0 w 3135240"/>
                <a:gd name="textAreaRight" fmla="*/ 3135600 w 31352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261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62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73" name="Group 63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74" name="Rectangle 64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65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66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77" name="Group 67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78" name="Group 68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79" name="Freeform 69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70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Group 71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82" name="Freeform 72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73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" name="Group 74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85" name="Oval 75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76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77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78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Oval 79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0" name="Group 80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91" name="Oval 81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82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Oval 83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Oval 84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5" name="Text Box 85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86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87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98" name="Group 88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99" name="Group 89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300" name="Freeform 90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91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1760"/>
                      <a:gd name="textAreaBottom" fmla="*/ 402120 h 4017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92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303" name="Freeform 93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Freeform 94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360 h 308160"/>
                      <a:gd name="textAreaBottom" fmla="*/ 308880 h 3081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5" name="Group 95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306" name="Oval 96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97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98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99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100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Group 101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312" name="Oval 102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103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Oval 104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Oval 105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6" name="Text Box 106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107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108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319" name="Group 109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320" name="Group 110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321" name="Freeform 111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040"/>
                      <a:gd name="textAreaBottom" fmla="*/ 491400 h 491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112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1760"/>
                      <a:gd name="textAreaBottom" fmla="*/ 402120 h 4017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3" name="Group 113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324" name="Freeform 114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360 h 376560"/>
                      <a:gd name="textAreaBottom" fmla="*/ 377280 h 37656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Freeform 115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360 h 308160"/>
                      <a:gd name="textAreaBottom" fmla="*/ 308880 h 30816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6" name="Group 116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327" name="Oval 117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118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119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Oval 120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Oval 121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" name="Group 122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333" name="Oval 123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Oval 124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Oval 125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Oval 126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" name="Text Box 127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128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129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340" name="Group 130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341" name="Group 131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342" name="Freeform 132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>
                      <a:gd name="textAreaLeft" fmla="*/ 0 w 2273040"/>
                      <a:gd name="textAreaRight" fmla="*/ 2273400 w 2273040"/>
                      <a:gd name="textAreaTop" fmla="*/ 0 h 491400"/>
                      <a:gd name="textAreaBottom" fmla="*/ 491760 h 4914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133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>
                      <a:gd name="textAreaLeft" fmla="*/ 0 w 357120"/>
                      <a:gd name="textAreaRight" fmla="*/ 357480 w 357120"/>
                      <a:gd name="textAreaTop" fmla="*/ 0 h 402120"/>
                      <a:gd name="textAreaBottom" fmla="*/ 402480 h 402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134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345" name="Freeform 135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>
                      <a:gd name="textAreaLeft" fmla="*/ 0 w 1744200"/>
                      <a:gd name="textAreaRight" fmla="*/ 1744560 w 1744200"/>
                      <a:gd name="textAreaTop" fmla="*/ -360 h 376920"/>
                      <a:gd name="textAreaBottom" fmla="*/ 376920 h 37692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136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>
                      <a:gd name="textAreaLeft" fmla="*/ 0 w 273960"/>
                      <a:gd name="textAreaRight" fmla="*/ 274320 w 273960"/>
                      <a:gd name="textAreaTop" fmla="*/ -360 h 308520"/>
                      <a:gd name="textAreaBottom" fmla="*/ 308520 h 3085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7" name="Oval 137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138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39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40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41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Group 142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353" name="Oval 143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44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145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146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Text Box 147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148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149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60" name="Text Box 150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51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152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153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4" name="AutoShape 154"/>
              <p:cNvCxnSpPr>
                <a:stCxn id="360" idx="3"/>
                <a:endCxn id="361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5" name="AutoShape 155"/>
              <p:cNvCxnSpPr>
                <a:stCxn id="361" idx="3"/>
                <a:endCxn id="362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6" name="AutoShape 156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71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806400"/>
                <a:gd name="textAreaBottom" fmla="*/ 806760 h 80640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76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80" name="Freeform 15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AutoShape 16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7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>
                <a:gd name="textAreaLeft" fmla="*/ 0 w 1595520"/>
                <a:gd name="textAreaRight" fmla="*/ 1595880 w 1595520"/>
                <a:gd name="textAreaTop" fmla="*/ 0 h 775800"/>
                <a:gd name="textAreaBottom" fmla="*/ 776160 h 775800"/>
              </a:gdLst>
              <a:ahLst/>
              <a:rect l="textAreaLeft" t="textAreaTop" r="textAreaRight" b="textAreaBottom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91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95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98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pptbz.com</dc:creator>
  <dc:description/>
  <dc:language>en-US</dc:language>
  <cp:lastModifiedBy>王玉清</cp:lastModifiedBy>
  <dcterms:modified xsi:type="dcterms:W3CDTF">2016-03-06T04:18:59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