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67-CC18-424E-B32A-F1BD003D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94C-96B2-4E07-B87D-9A85E53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CA5-2826-4122-8704-A73BCFFF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590-B12B-4A4A-9BA9-D16E939D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849-C7BE-48F9-98A4-AED649BC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D14-FD47-494F-AC33-A9F89A0B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7A6-EF91-49D5-A041-C148DDB9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DC4-F4B4-43CD-8187-3B8850BB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0A3-E9FC-4635-9C8C-1083A6D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799-3017-4EEE-ADC3-741E3E5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DC1-DEDA-49F7-9E4E-8C06427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CE2-E17B-410F-86C5-706F96D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81BD55CF-F310-483E-BC6F-5A91B41AB6B6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00160" y="5315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690280" y="122400"/>
            <a:ext cx="42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风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8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4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3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2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1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5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00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10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6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7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30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4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6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4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6" y="0"/>
                </a:lnTo>
                <a:lnTo>
                  <a:pt x="21600" y="10800"/>
                </a:lnTo>
                <a:lnTo>
                  <a:pt x="206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6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248-5399-486C-8AA0-10793CEB7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8:15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