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9006-5246-43A4-84EF-263E2602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F872-45C2-43DF-BA61-EACD685B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D2FB-5D3F-4EF6-9F28-217C96AD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4F2F-C62C-471F-98E1-EA9CD1F6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424B-A205-4183-9187-0108742A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74AF-A65B-4AC1-9130-5C2F23E3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20C7-9C28-4A0F-AEB7-1408B778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DA6F-8EEF-451D-81CA-6E2B312D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F3CC-1289-4B0C-9E25-26DDA9FF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023D-7AC4-421D-B5C8-05035D71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A15C-69E8-498C-92F3-B35DAAC0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5689-D9A7-4D37-8A93-633784E8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7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3620-30CC-49FB-A203-8BDB825E852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7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1" descr="幻灯封面2"/>
          <p:cNvPicPr/>
          <p:nvPr/>
        </p:nvPicPr>
        <p:blipFill>
          <a:blip r:embed="rId1"/>
          <a:stretch/>
        </p:blipFill>
        <p:spPr>
          <a:xfrm>
            <a:off x="252360" y="44280"/>
            <a:ext cx="78487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2" descr="clip_2"/>
          <p:cNvPicPr/>
          <p:nvPr/>
        </p:nvPicPr>
        <p:blipFill>
          <a:blip r:embed="rId2"/>
          <a:srcRect l="1245" t="5757" r="74852" b="-3640"/>
          <a:stretch/>
        </p:blipFill>
        <p:spPr>
          <a:xfrm>
            <a:off x="7315200" y="0"/>
            <a:ext cx="1465200" cy="64771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029"/>
          <p:cNvSpPr/>
          <p:nvPr/>
        </p:nvSpPr>
        <p:spPr>
          <a:xfrm>
            <a:off x="971640" y="227664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6391440" y="357120"/>
            <a:ext cx="30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26240" y="189000"/>
            <a:ext cx="556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古风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7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8" descr="幻灯封面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6410160" y="8683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7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9" descr="439723_QWPEJYA4ikvK"/>
          <p:cNvPicPr/>
          <p:nvPr/>
        </p:nvPicPr>
        <p:blipFill>
          <a:blip r:embed="rId1"/>
          <a:srcRect l="9307" t="39004" r="50857" b="29995"/>
          <a:stretch/>
        </p:blipFill>
        <p:spPr>
          <a:xfrm>
            <a:off x="4191120" y="4495680"/>
            <a:ext cx="3035160" cy="2362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439723_QWPEJYA4ikvK"/>
          <p:cNvPicPr/>
          <p:nvPr/>
        </p:nvPicPr>
        <p:blipFill>
          <a:blip r:embed="rId2"/>
          <a:srcRect l="4016" t="0" r="52001" b="12992"/>
          <a:stretch/>
        </p:blipFill>
        <p:spPr>
          <a:xfrm>
            <a:off x="5792760" y="304920"/>
            <a:ext cx="3351240" cy="6629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幻灯封面no2"/>
          <p:cNvPicPr/>
          <p:nvPr/>
        </p:nvPicPr>
        <p:blipFill>
          <a:blip r:embed="rId3"/>
          <a:stretch/>
        </p:blipFill>
        <p:spPr>
          <a:xfrm>
            <a:off x="0" y="0"/>
            <a:ext cx="31240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439723_QWPEJYA4ikvK"/>
          <p:cNvPicPr/>
          <p:nvPr/>
        </p:nvPicPr>
        <p:blipFill>
          <a:blip r:embed="rId4"/>
          <a:srcRect l="4016" t="0" r="66982" b="62999"/>
          <a:stretch/>
        </p:blipFill>
        <p:spPr>
          <a:xfrm>
            <a:off x="5796000" y="404640"/>
            <a:ext cx="2209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7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幻灯no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7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幻灯封面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4"/>
          <p:cNvSpPr/>
          <p:nvPr/>
        </p:nvSpPr>
        <p:spPr>
          <a:xfrm>
            <a:off x="324000" y="11970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8A01-1F96-4E7D-8360-CDFC90CC2C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07:13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11:5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