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107-6DE5-4973-A877-C85C30E8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2725-E7B1-4B5C-82FB-C1467797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6AE-E3D6-44CF-ADB8-28C24F8E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C6D-BBA5-4410-B0BE-05245F21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B43-BA96-41DF-84FA-DCD2274D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01A-DAC8-4616-AED0-E339EB28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15C-BCD4-4B3B-A0CF-D332BA7B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ED1-E66A-4A35-AECD-10746D9B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30EE-8BE0-4C1E-AD54-9BE541AE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507-0B0F-4645-85DC-298A0A3C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DDB-3203-47B9-BD2F-DDE9F1AF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C0C-C011-4C84-BA8E-98E964C5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53BA-9577-484A-9384-5142748C8C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2"/>
          <a:stretch/>
        </p:blipFill>
        <p:spPr>
          <a:xfrm>
            <a:off x="4273560" y="1268280"/>
            <a:ext cx="3029040" cy="63756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4" descr=""/>
          <p:cNvPicPr/>
          <p:nvPr/>
        </p:nvPicPr>
        <p:blipFill>
          <a:blip r:embed="rId3"/>
          <a:stretch/>
        </p:blipFill>
        <p:spPr>
          <a:xfrm>
            <a:off x="-201600" y="1620720"/>
            <a:ext cx="5310000" cy="2640240"/>
          </a:xfrm>
          <a:prstGeom prst="rect">
            <a:avLst/>
          </a:prstGeom>
          <a:ln w="0">
            <a:noFill/>
          </a:ln>
        </p:spPr>
      </p:pic>
      <p:sp>
        <p:nvSpPr>
          <p:cNvPr id="45" name="矩形 1"/>
          <p:cNvSpPr/>
          <p:nvPr/>
        </p:nvSpPr>
        <p:spPr>
          <a:xfrm>
            <a:off x="1951920" y="587520"/>
            <a:ext cx="54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高贵浪漫典雅梦幻紫色婚礼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E:\资料\图片素材\PSD和图片\辛伟乐_【文艺范2摄影师】教你如何拍出完美婚照❤❤☻...(1)\008.jpg"/>
          <p:cNvPicPr/>
          <p:nvPr/>
        </p:nvPicPr>
        <p:blipFill>
          <a:blip r:embed="rId1"/>
          <a:stretch/>
        </p:blipFill>
        <p:spPr>
          <a:xfrm>
            <a:off x="4280040" y="1616040"/>
            <a:ext cx="4157640" cy="803448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7" descr=""/>
          <p:cNvPicPr/>
          <p:nvPr/>
        </p:nvPicPr>
        <p:blipFill>
          <a:blip r:embed="rId2"/>
          <a:stretch/>
        </p:blipFill>
        <p:spPr>
          <a:xfrm>
            <a:off x="743040" y="652320"/>
            <a:ext cx="3975120" cy="198144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8" descr=""/>
          <p:cNvPicPr/>
          <p:nvPr/>
        </p:nvPicPr>
        <p:blipFill>
          <a:blip r:embed="rId3"/>
          <a:stretch/>
        </p:blipFill>
        <p:spPr>
          <a:xfrm>
            <a:off x="1255680" y="3236760"/>
            <a:ext cx="2646360" cy="131616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9" descr=""/>
          <p:cNvPicPr/>
          <p:nvPr/>
        </p:nvPicPr>
        <p:blipFill>
          <a:blip r:embed="rId4"/>
          <a:stretch/>
        </p:blipFill>
        <p:spPr>
          <a:xfrm>
            <a:off x="1255680" y="2548080"/>
            <a:ext cx="264636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E:\资料\图片素材\PSD和图片\辛伟乐_【文艺范2摄影师】教你如何拍出完美婚照❤❤☻...(1)\020.jpg"/>
          <p:cNvPicPr/>
          <p:nvPr/>
        </p:nvPicPr>
        <p:blipFill>
          <a:blip r:embed="rId1"/>
          <a:stretch/>
        </p:blipFill>
        <p:spPr>
          <a:xfrm>
            <a:off x="1944720" y="2255760"/>
            <a:ext cx="5492880" cy="73090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" descr=""/>
          <p:cNvPicPr/>
          <p:nvPr/>
        </p:nvPicPr>
        <p:blipFill>
          <a:blip r:embed="rId2"/>
          <a:stretch/>
        </p:blipFill>
        <p:spPr>
          <a:xfrm>
            <a:off x="30240" y="371520"/>
            <a:ext cx="6364080" cy="3163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250920" y="6308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PT STORE</dc:creator>
  <dc:description>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高贵 浪漫 典雅 梦幻 紫色 婚庆 PPT模板</cp:keywords>
  <dc:language>en-US</dc:language>
  <cp:lastModifiedBy>王玉清</cp:lastModifiedBy>
  <dcterms:modified xsi:type="dcterms:W3CDTF">2016-02-20T04:01:22Z</dcterms:modified>
  <cp:revision>10</cp:revision>
  <dc:subject>紫色</dc:subject>
  <dc:title>高贵浪漫典雅梦幻紫色婚礼PPT模板</dc:title>
</cp:coreProperties>
</file>