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EC2-A456-4A50-B9A1-47C8F7FE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ECF-700A-4469-B290-58FF6370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801-73E3-4074-8BE0-E0E727D4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F5A-62E3-4FD0-9CE2-EA252314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B7C-0A3B-49C8-8582-9CDAB0B7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285-4F2D-4D36-AD1F-F5340F47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7F7-089F-4AD8-BD13-2CD1A37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F56-9410-4204-B061-7D5C207B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823-90CE-464D-96F5-77D83D0B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662-BC25-4D45-AE15-5B074EF6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131-3739-4C7E-95D6-ED1A40E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590-D0EB-4652-B0C0-01C3AB69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0B55-71BB-4D7B-A532-B16DDC5C70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商务\3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15"/>
          <p:cNvGrpSpPr/>
          <p:nvPr/>
        </p:nvGrpSpPr>
        <p:grpSpPr>
          <a:xfrm>
            <a:off x="4684680" y="1406520"/>
            <a:ext cx="3546360" cy="1117440"/>
            <a:chOff x="4684680" y="1406520"/>
            <a:chExt cx="3546360" cy="1117440"/>
          </a:xfrm>
        </p:grpSpPr>
        <p:sp>
          <p:nvSpPr>
            <p:cNvPr id="82" name="TextBox 6"/>
            <p:cNvSpPr/>
            <p:nvPr/>
          </p:nvSpPr>
          <p:spPr>
            <a:xfrm>
              <a:off x="4684680" y="1406520"/>
              <a:ext cx="352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81d3f"/>
                  </a:solidFill>
                  <a:latin typeface="微软雅黑"/>
                  <a:ea typeface="微软雅黑"/>
                </a:rPr>
                <a:t>POWERPOINT</a:t>
              </a:r>
              <a:r>
                <a:rPr b="1" lang="zh-CN" sz="2600" spc="-1" strike="noStrike">
                  <a:solidFill>
                    <a:srgbClr val="381d3f"/>
                  </a:solidFill>
                  <a:latin typeface="微软雅黑"/>
                  <a:ea typeface="微软雅黑"/>
                </a:rPr>
                <a:t>模板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Text Box 7" descr=""/>
            <p:cNvPicPr/>
            <p:nvPr/>
          </p:nvPicPr>
          <p:blipFill>
            <a:blip r:embed="rId2"/>
            <a:stretch/>
          </p:blipFill>
          <p:spPr>
            <a:xfrm>
              <a:off x="5148720" y="2165400"/>
              <a:ext cx="3082320" cy="35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矩形 1"/>
          <p:cNvSpPr/>
          <p:nvPr/>
        </p:nvSpPr>
        <p:spPr>
          <a:xfrm>
            <a:off x="2580840" y="2937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贵紫瑰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5297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5"/>
          <p:cNvGrpSpPr/>
          <p:nvPr/>
        </p:nvGrpSpPr>
        <p:grpSpPr>
          <a:xfrm>
            <a:off x="2252520" y="1724040"/>
            <a:ext cx="4638960" cy="477720"/>
            <a:chOff x="2252520" y="1724040"/>
            <a:chExt cx="4638960" cy="477720"/>
          </a:xfrm>
        </p:grpSpPr>
        <p:grpSp>
          <p:nvGrpSpPr>
            <p:cNvPr id="88" name="AutoShape 3"/>
            <p:cNvGrpSpPr/>
            <p:nvPr/>
          </p:nvGrpSpPr>
          <p:grpSpPr>
            <a:xfrm>
              <a:off x="2252520" y="1724040"/>
              <a:ext cx="4638960" cy="455040"/>
              <a:chOff x="2252520" y="1724040"/>
              <a:chExt cx="4638960" cy="455040"/>
            </a:xfrm>
          </p:grpSpPr>
          <p:pic>
            <p:nvPicPr>
              <p:cNvPr id="89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1724040"/>
                <a:ext cx="4638960" cy="45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2337480" y="1768320"/>
                <a:ext cx="44686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AutoShape 3"/>
            <p:cNvGrpSpPr/>
            <p:nvPr/>
          </p:nvGrpSpPr>
          <p:grpSpPr>
            <a:xfrm>
              <a:off x="2252520" y="1742400"/>
              <a:ext cx="4638960" cy="459360"/>
              <a:chOff x="2252520" y="1742400"/>
              <a:chExt cx="4638960" cy="459360"/>
            </a:xfrm>
          </p:grpSpPr>
          <p:pic>
            <p:nvPicPr>
              <p:cNvPr id="92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1742400"/>
                <a:ext cx="4638960" cy="4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2330640" y="1816560"/>
                <a:ext cx="44823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组合 5"/>
          <p:cNvGrpSpPr/>
          <p:nvPr/>
        </p:nvGrpSpPr>
        <p:grpSpPr>
          <a:xfrm>
            <a:off x="2252520" y="2451240"/>
            <a:ext cx="4638960" cy="477720"/>
            <a:chOff x="2252520" y="2451240"/>
            <a:chExt cx="4638960" cy="477720"/>
          </a:xfrm>
        </p:grpSpPr>
        <p:grpSp>
          <p:nvGrpSpPr>
            <p:cNvPr id="95" name="AutoShape 3"/>
            <p:cNvGrpSpPr/>
            <p:nvPr/>
          </p:nvGrpSpPr>
          <p:grpSpPr>
            <a:xfrm>
              <a:off x="2252520" y="2451240"/>
              <a:ext cx="4638960" cy="455040"/>
              <a:chOff x="2252520" y="2451240"/>
              <a:chExt cx="4638960" cy="455040"/>
            </a:xfrm>
          </p:grpSpPr>
          <p:pic>
            <p:nvPicPr>
              <p:cNvPr id="9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2520" y="2451240"/>
                <a:ext cx="4638960" cy="45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2337480" y="2496600"/>
                <a:ext cx="44686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AutoShape 3"/>
            <p:cNvGrpSpPr/>
            <p:nvPr/>
          </p:nvGrpSpPr>
          <p:grpSpPr>
            <a:xfrm>
              <a:off x="2252520" y="2469600"/>
              <a:ext cx="4638960" cy="459360"/>
              <a:chOff x="2252520" y="2469600"/>
              <a:chExt cx="4638960" cy="459360"/>
            </a:xfrm>
          </p:grpSpPr>
          <p:pic>
            <p:nvPicPr>
              <p:cNvPr id="99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52520" y="2469600"/>
                <a:ext cx="4638960" cy="4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2330640" y="2545200"/>
                <a:ext cx="44823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组合 5"/>
          <p:cNvGrpSpPr/>
          <p:nvPr/>
        </p:nvGrpSpPr>
        <p:grpSpPr>
          <a:xfrm>
            <a:off x="2252520" y="3179880"/>
            <a:ext cx="4638960" cy="476280"/>
            <a:chOff x="2252520" y="3179880"/>
            <a:chExt cx="4638960" cy="476280"/>
          </a:xfrm>
        </p:grpSpPr>
        <p:grpSp>
          <p:nvGrpSpPr>
            <p:cNvPr id="102" name="AutoShape 3"/>
            <p:cNvGrpSpPr/>
            <p:nvPr/>
          </p:nvGrpSpPr>
          <p:grpSpPr>
            <a:xfrm>
              <a:off x="2252520" y="3179880"/>
              <a:ext cx="4638960" cy="453600"/>
              <a:chOff x="2252520" y="3179880"/>
              <a:chExt cx="4638960" cy="453600"/>
            </a:xfrm>
          </p:grpSpPr>
          <p:pic>
            <p:nvPicPr>
              <p:cNvPr id="103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52520" y="3179880"/>
                <a:ext cx="463896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2337480" y="3223080"/>
                <a:ext cx="44690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AutoShape 3"/>
            <p:cNvGrpSpPr/>
            <p:nvPr/>
          </p:nvGrpSpPr>
          <p:grpSpPr>
            <a:xfrm>
              <a:off x="2252520" y="3193560"/>
              <a:ext cx="4638960" cy="462600"/>
              <a:chOff x="2252520" y="3193560"/>
              <a:chExt cx="4638960" cy="462600"/>
            </a:xfrm>
          </p:grpSpPr>
          <p:pic>
            <p:nvPicPr>
              <p:cNvPr id="106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52520" y="3193560"/>
                <a:ext cx="4638960" cy="46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2330640" y="3270960"/>
                <a:ext cx="4482360" cy="2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组合 5"/>
          <p:cNvGrpSpPr/>
          <p:nvPr/>
        </p:nvGrpSpPr>
        <p:grpSpPr>
          <a:xfrm>
            <a:off x="2252520" y="3906720"/>
            <a:ext cx="4638960" cy="478080"/>
            <a:chOff x="2252520" y="3906720"/>
            <a:chExt cx="4638960" cy="478080"/>
          </a:xfrm>
        </p:grpSpPr>
        <p:grpSp>
          <p:nvGrpSpPr>
            <p:cNvPr id="109" name="AutoShape 3"/>
            <p:cNvGrpSpPr/>
            <p:nvPr/>
          </p:nvGrpSpPr>
          <p:grpSpPr>
            <a:xfrm>
              <a:off x="2252520" y="3906720"/>
              <a:ext cx="4638960" cy="455400"/>
              <a:chOff x="2252520" y="3906720"/>
              <a:chExt cx="4638960" cy="455400"/>
            </a:xfrm>
          </p:grpSpPr>
          <p:pic>
            <p:nvPicPr>
              <p:cNvPr id="110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52520" y="3906720"/>
                <a:ext cx="4638960" cy="45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2337480" y="3951360"/>
                <a:ext cx="446868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AutoShape 3"/>
            <p:cNvGrpSpPr/>
            <p:nvPr/>
          </p:nvGrpSpPr>
          <p:grpSpPr>
            <a:xfrm>
              <a:off x="2252520" y="3925080"/>
              <a:ext cx="4638960" cy="459720"/>
              <a:chOff x="2252520" y="3925080"/>
              <a:chExt cx="4638960" cy="459720"/>
            </a:xfrm>
          </p:grpSpPr>
          <p:pic>
            <p:nvPicPr>
              <p:cNvPr id="113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52520" y="3925080"/>
                <a:ext cx="4638960" cy="45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2330640" y="3999600"/>
                <a:ext cx="448236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5"/>
          <p:cNvGrpSpPr/>
          <p:nvPr/>
        </p:nvGrpSpPr>
        <p:grpSpPr>
          <a:xfrm>
            <a:off x="2252520" y="2576520"/>
            <a:ext cx="4638960" cy="477720"/>
            <a:chOff x="2252520" y="2576520"/>
            <a:chExt cx="4638960" cy="477720"/>
          </a:xfrm>
        </p:grpSpPr>
        <p:grpSp>
          <p:nvGrpSpPr>
            <p:cNvPr id="116" name="AutoShape 3"/>
            <p:cNvGrpSpPr/>
            <p:nvPr/>
          </p:nvGrpSpPr>
          <p:grpSpPr>
            <a:xfrm>
              <a:off x="2252520" y="2576520"/>
              <a:ext cx="4638960" cy="455040"/>
              <a:chOff x="2252520" y="2576520"/>
              <a:chExt cx="4638960" cy="455040"/>
            </a:xfrm>
          </p:grpSpPr>
          <p:pic>
            <p:nvPicPr>
              <p:cNvPr id="117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576520"/>
                <a:ext cx="4638960" cy="45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2337480" y="2620080"/>
                <a:ext cx="44686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AutoShape 3"/>
            <p:cNvGrpSpPr/>
            <p:nvPr/>
          </p:nvGrpSpPr>
          <p:grpSpPr>
            <a:xfrm>
              <a:off x="2252520" y="2594880"/>
              <a:ext cx="4638960" cy="459360"/>
              <a:chOff x="2252520" y="2594880"/>
              <a:chExt cx="4638960" cy="459360"/>
            </a:xfrm>
          </p:grpSpPr>
          <p:pic>
            <p:nvPicPr>
              <p:cNvPr id="120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594880"/>
                <a:ext cx="4638960" cy="4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2330640" y="2668320"/>
                <a:ext cx="44823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5"/>
          <p:cNvGrpSpPr/>
          <p:nvPr/>
        </p:nvGrpSpPr>
        <p:grpSpPr>
          <a:xfrm>
            <a:off x="839880" y="1643040"/>
            <a:ext cx="7715160" cy="2365560"/>
            <a:chOff x="839880" y="1643040"/>
            <a:chExt cx="7715160" cy="2365560"/>
          </a:xfrm>
        </p:grpSpPr>
        <p:grpSp>
          <p:nvGrpSpPr>
            <p:cNvPr id="124" name="组合 3"/>
            <p:cNvGrpSpPr/>
            <p:nvPr/>
          </p:nvGrpSpPr>
          <p:grpSpPr>
            <a:xfrm>
              <a:off x="839880" y="1643040"/>
              <a:ext cx="7715160" cy="2365560"/>
              <a:chOff x="839880" y="1643040"/>
              <a:chExt cx="7715160" cy="2365560"/>
            </a:xfrm>
          </p:grpSpPr>
          <p:grpSp>
            <p:nvGrpSpPr>
              <p:cNvPr id="125" name="AutoShape 3"/>
              <p:cNvGrpSpPr/>
              <p:nvPr/>
            </p:nvGrpSpPr>
            <p:grpSpPr>
              <a:xfrm>
                <a:off x="839880" y="1643040"/>
                <a:ext cx="7715160" cy="2365560"/>
                <a:chOff x="839880" y="1643040"/>
                <a:chExt cx="7715160" cy="2365560"/>
              </a:xfrm>
            </p:grpSpPr>
            <p:pic>
              <p:nvPicPr>
                <p:cNvPr id="126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9880" y="1643040"/>
                  <a:ext cx="7715160" cy="236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"/>
                <p:cNvSpPr/>
                <p:nvPr/>
              </p:nvSpPr>
              <p:spPr>
                <a:xfrm>
                  <a:off x="920880" y="1690920"/>
                  <a:ext cx="7553880" cy="22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AutoShape 3"/>
              <p:cNvGrpSpPr/>
              <p:nvPr/>
            </p:nvGrpSpPr>
            <p:grpSpPr>
              <a:xfrm>
                <a:off x="839880" y="1758600"/>
                <a:ext cx="7715160" cy="2122920"/>
                <a:chOff x="839880" y="1758600"/>
                <a:chExt cx="7715160" cy="2122920"/>
              </a:xfrm>
            </p:grpSpPr>
            <p:pic>
              <p:nvPicPr>
                <p:cNvPr id="129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9880" y="1758600"/>
                  <a:ext cx="7715160" cy="2122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>
                  <a:off x="923760" y="1808280"/>
                  <a:ext cx="7548120" cy="19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Text Box 11"/>
            <p:cNvSpPr/>
            <p:nvPr/>
          </p:nvSpPr>
          <p:spPr>
            <a:xfrm>
              <a:off x="966600" y="1929600"/>
              <a:ext cx="75168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68"/>
          <p:cNvGrpSpPr/>
          <p:nvPr/>
        </p:nvGrpSpPr>
        <p:grpSpPr>
          <a:xfrm>
            <a:off x="4011480" y="2249640"/>
            <a:ext cx="1503360" cy="1546200"/>
            <a:chOff x="4011480" y="2249640"/>
            <a:chExt cx="1503360" cy="1546200"/>
          </a:xfrm>
        </p:grpSpPr>
        <p:grpSp>
          <p:nvGrpSpPr>
            <p:cNvPr id="134" name="组合 31"/>
            <p:cNvGrpSpPr/>
            <p:nvPr/>
          </p:nvGrpSpPr>
          <p:grpSpPr>
            <a:xfrm>
              <a:off x="4011480" y="2249640"/>
              <a:ext cx="1503360" cy="1546200"/>
              <a:chOff x="4011480" y="2249640"/>
              <a:chExt cx="1503360" cy="1546200"/>
            </a:xfrm>
          </p:grpSpPr>
          <p:grpSp>
            <p:nvGrpSpPr>
              <p:cNvPr id="135" name="Oval 93"/>
              <p:cNvGrpSpPr/>
              <p:nvPr/>
            </p:nvGrpSpPr>
            <p:grpSpPr>
              <a:xfrm>
                <a:off x="4011480" y="2249640"/>
                <a:ext cx="1503360" cy="1546200"/>
                <a:chOff x="4011480" y="2249640"/>
                <a:chExt cx="1503360" cy="1546200"/>
              </a:xfrm>
            </p:grpSpPr>
            <p:pic>
              <p:nvPicPr>
                <p:cNvPr id="136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011480" y="2249640"/>
                  <a:ext cx="1503360" cy="154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4275000" y="2492280"/>
                  <a:ext cx="9745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Oval 94"/>
              <p:cNvGrpSpPr/>
              <p:nvPr/>
            </p:nvGrpSpPr>
            <p:grpSpPr>
              <a:xfrm>
                <a:off x="4067280" y="2294280"/>
                <a:ext cx="1307880" cy="1349640"/>
                <a:chOff x="4067280" y="2294280"/>
                <a:chExt cx="1307880" cy="1349640"/>
              </a:xfrm>
            </p:grpSpPr>
            <p:pic>
              <p:nvPicPr>
                <p:cNvPr id="139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67280" y="2294280"/>
                  <a:ext cx="1307880" cy="134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4302360" y="2509920"/>
                  <a:ext cx="839880" cy="86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Text Box 18"/>
            <p:cNvSpPr/>
            <p:nvPr/>
          </p:nvSpPr>
          <p:spPr>
            <a:xfrm>
              <a:off x="4086360" y="265356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67"/>
          <p:cNvGrpSpPr/>
          <p:nvPr/>
        </p:nvGrpSpPr>
        <p:grpSpPr>
          <a:xfrm>
            <a:off x="2001960" y="1332000"/>
            <a:ext cx="2791800" cy="1305360"/>
            <a:chOff x="2001960" y="1332000"/>
            <a:chExt cx="2791800" cy="1305360"/>
          </a:xfrm>
        </p:grpSpPr>
        <p:grpSp>
          <p:nvGrpSpPr>
            <p:cNvPr id="143" name="组合 8"/>
            <p:cNvGrpSpPr/>
            <p:nvPr/>
          </p:nvGrpSpPr>
          <p:grpSpPr>
            <a:xfrm>
              <a:off x="2001960" y="1332000"/>
              <a:ext cx="2791800" cy="1305360"/>
              <a:chOff x="2001960" y="1332000"/>
              <a:chExt cx="2791800" cy="1305360"/>
            </a:xfrm>
          </p:grpSpPr>
          <p:grpSp>
            <p:nvGrpSpPr>
              <p:cNvPr id="144" name="组合 76"/>
              <p:cNvGrpSpPr/>
              <p:nvPr/>
            </p:nvGrpSpPr>
            <p:grpSpPr>
              <a:xfrm>
                <a:off x="2001960" y="1332000"/>
                <a:ext cx="2791800" cy="1305360"/>
                <a:chOff x="2001960" y="1332000"/>
                <a:chExt cx="2791800" cy="1305360"/>
              </a:xfrm>
            </p:grpSpPr>
            <p:sp>
              <p:nvSpPr>
                <p:cNvPr id="145" name="AutoShape 73"/>
                <p:cNvSpPr/>
                <p:nvPr/>
              </p:nvSpPr>
              <p:spPr>
                <a:xfrm rot="2700000">
                  <a:off x="3769200" y="1513800"/>
                  <a:ext cx="790560" cy="9889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圆角矩形 14"/>
                <p:cNvSpPr/>
                <p:nvPr/>
              </p:nvSpPr>
              <p:spPr>
                <a:xfrm>
                  <a:off x="2001960" y="1332000"/>
                  <a:ext cx="1836720" cy="7221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组合 28"/>
              <p:cNvGrpSpPr/>
              <p:nvPr/>
            </p:nvGrpSpPr>
            <p:grpSpPr>
              <a:xfrm>
                <a:off x="3509640" y="1332000"/>
                <a:ext cx="702000" cy="722520"/>
                <a:chOff x="3509640" y="1332000"/>
                <a:chExt cx="702000" cy="722520"/>
              </a:xfrm>
            </p:grpSpPr>
            <p:grpSp>
              <p:nvGrpSpPr>
                <p:cNvPr id="148" name="椭圆 11"/>
                <p:cNvGrpSpPr/>
                <p:nvPr/>
              </p:nvGrpSpPr>
              <p:grpSpPr>
                <a:xfrm>
                  <a:off x="3509640" y="1332000"/>
                  <a:ext cx="702000" cy="722520"/>
                  <a:chOff x="3509640" y="1332000"/>
                  <a:chExt cx="702000" cy="722520"/>
                </a:xfrm>
              </p:grpSpPr>
              <p:pic>
                <p:nvPicPr>
                  <p:cNvPr id="149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9640" y="1332000"/>
                    <a:ext cx="702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" name=""/>
                  <p:cNvSpPr/>
                  <p:nvPr/>
                </p:nvSpPr>
                <p:spPr>
                  <a:xfrm>
                    <a:off x="3650760" y="1455120"/>
                    <a:ext cx="417240" cy="43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椭圆 117"/>
                <p:cNvGrpSpPr/>
                <p:nvPr/>
              </p:nvGrpSpPr>
              <p:grpSpPr>
                <a:xfrm>
                  <a:off x="3524760" y="1352520"/>
                  <a:ext cx="620280" cy="629640"/>
                  <a:chOff x="3524760" y="1352520"/>
                  <a:chExt cx="620280" cy="629640"/>
                </a:xfrm>
              </p:grpSpPr>
              <p:pic>
                <p:nvPicPr>
                  <p:cNvPr id="152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760" y="1352520"/>
                    <a:ext cx="620280" cy="62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3" name=""/>
                  <p:cNvSpPr/>
                  <p:nvPr/>
                </p:nvSpPr>
                <p:spPr>
                  <a:xfrm>
                    <a:off x="3657240" y="1459440"/>
                    <a:ext cx="356760" cy="37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4" name="Text Box 18"/>
            <p:cNvSpPr/>
            <p:nvPr/>
          </p:nvSpPr>
          <p:spPr>
            <a:xfrm>
              <a:off x="2082240" y="15314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3646080" y="15235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69"/>
          <p:cNvGrpSpPr/>
          <p:nvPr/>
        </p:nvGrpSpPr>
        <p:grpSpPr>
          <a:xfrm>
            <a:off x="4805280" y="1332000"/>
            <a:ext cx="2694240" cy="1392480"/>
            <a:chOff x="4805280" y="1332000"/>
            <a:chExt cx="2694240" cy="1392480"/>
          </a:xfrm>
        </p:grpSpPr>
        <p:grpSp>
          <p:nvGrpSpPr>
            <p:cNvPr id="157" name="组合 62"/>
            <p:cNvGrpSpPr/>
            <p:nvPr/>
          </p:nvGrpSpPr>
          <p:grpSpPr>
            <a:xfrm>
              <a:off x="4805280" y="1332000"/>
              <a:ext cx="2694240" cy="1392480"/>
              <a:chOff x="4805280" y="1332000"/>
              <a:chExt cx="2694240" cy="1392480"/>
            </a:xfrm>
          </p:grpSpPr>
          <p:grpSp>
            <p:nvGrpSpPr>
              <p:cNvPr id="158" name="组合 48"/>
              <p:cNvGrpSpPr/>
              <p:nvPr/>
            </p:nvGrpSpPr>
            <p:grpSpPr>
              <a:xfrm>
                <a:off x="4805280" y="1332000"/>
                <a:ext cx="2694240" cy="1392480"/>
                <a:chOff x="4805280" y="1332000"/>
                <a:chExt cx="2694240" cy="1392480"/>
              </a:xfrm>
            </p:grpSpPr>
            <p:grpSp>
              <p:nvGrpSpPr>
                <p:cNvPr id="159" name="组合 74"/>
                <p:cNvGrpSpPr/>
                <p:nvPr/>
              </p:nvGrpSpPr>
              <p:grpSpPr>
                <a:xfrm>
                  <a:off x="4805280" y="1332000"/>
                  <a:ext cx="2694240" cy="1392480"/>
                  <a:chOff x="4805280" y="1332000"/>
                  <a:chExt cx="2694240" cy="1392480"/>
                </a:xfrm>
              </p:grpSpPr>
              <p:sp>
                <p:nvSpPr>
                  <p:cNvPr id="160" name="AutoShape 67"/>
                  <p:cNvSpPr/>
                  <p:nvPr/>
                </p:nvSpPr>
                <p:spPr>
                  <a:xfrm flipH="1" rot="18900000">
                    <a:off x="5011200" y="1607400"/>
                    <a:ext cx="874800" cy="94644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圆角矩形 54"/>
                  <p:cNvSpPr/>
                  <p:nvPr/>
                </p:nvSpPr>
                <p:spPr>
                  <a:xfrm>
                    <a:off x="5738760" y="1332000"/>
                    <a:ext cx="1760760" cy="7995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组合 44"/>
                <p:cNvGrpSpPr/>
                <p:nvPr/>
              </p:nvGrpSpPr>
              <p:grpSpPr>
                <a:xfrm>
                  <a:off x="5290920" y="1332000"/>
                  <a:ext cx="702000" cy="722880"/>
                  <a:chOff x="5290920" y="1332000"/>
                  <a:chExt cx="702000" cy="722880"/>
                </a:xfrm>
              </p:grpSpPr>
              <p:grpSp>
                <p:nvGrpSpPr>
                  <p:cNvPr id="163" name="椭圆 51"/>
                  <p:cNvGrpSpPr/>
                  <p:nvPr/>
                </p:nvGrpSpPr>
                <p:grpSpPr>
                  <a:xfrm>
                    <a:off x="5290920" y="1332000"/>
                    <a:ext cx="702000" cy="722880"/>
                    <a:chOff x="5290920" y="1332000"/>
                    <a:chExt cx="702000" cy="722880"/>
                  </a:xfrm>
                </p:grpSpPr>
                <p:pic>
                  <p:nvPicPr>
                    <p:cNvPr id="164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90920" y="1332000"/>
                      <a:ext cx="70200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5433480" y="1455120"/>
                      <a:ext cx="417240" cy="43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椭圆 117"/>
                  <p:cNvGrpSpPr/>
                  <p:nvPr/>
                </p:nvGrpSpPr>
                <p:grpSpPr>
                  <a:xfrm>
                    <a:off x="5311080" y="1352520"/>
                    <a:ext cx="614880" cy="630000"/>
                    <a:chOff x="5311080" y="1352520"/>
                    <a:chExt cx="614880" cy="630000"/>
                  </a:xfrm>
                </p:grpSpPr>
                <p:pic>
                  <p:nvPicPr>
                    <p:cNvPr id="167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11080" y="1352520"/>
                      <a:ext cx="614880" cy="63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5438880" y="1459440"/>
                      <a:ext cx="357840" cy="370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9" name="Rectangle 26"/>
              <p:cNvSpPr/>
              <p:nvPr/>
            </p:nvSpPr>
            <p:spPr>
              <a:xfrm>
                <a:off x="5438520" y="1523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18"/>
            <p:cNvSpPr/>
            <p:nvPr/>
          </p:nvSpPr>
          <p:spPr>
            <a:xfrm>
              <a:off x="6039720" y="15314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70"/>
          <p:cNvGrpSpPr/>
          <p:nvPr/>
        </p:nvGrpSpPr>
        <p:grpSpPr>
          <a:xfrm>
            <a:off x="5560920" y="2511360"/>
            <a:ext cx="2637000" cy="1017720"/>
            <a:chOff x="5560920" y="2511360"/>
            <a:chExt cx="2637000" cy="1017720"/>
          </a:xfrm>
        </p:grpSpPr>
        <p:grpSp>
          <p:nvGrpSpPr>
            <p:cNvPr id="172" name="组合 63"/>
            <p:cNvGrpSpPr/>
            <p:nvPr/>
          </p:nvGrpSpPr>
          <p:grpSpPr>
            <a:xfrm>
              <a:off x="5560920" y="2511360"/>
              <a:ext cx="2637000" cy="1017720"/>
              <a:chOff x="5560920" y="2511360"/>
              <a:chExt cx="2637000" cy="1017720"/>
            </a:xfrm>
          </p:grpSpPr>
          <p:grpSp>
            <p:nvGrpSpPr>
              <p:cNvPr id="173" name="组合 39"/>
              <p:cNvGrpSpPr/>
              <p:nvPr/>
            </p:nvGrpSpPr>
            <p:grpSpPr>
              <a:xfrm>
                <a:off x="5560920" y="2511360"/>
                <a:ext cx="2637000" cy="1017720"/>
                <a:chOff x="5560920" y="2511360"/>
                <a:chExt cx="2637000" cy="1017720"/>
              </a:xfrm>
            </p:grpSpPr>
            <p:grpSp>
              <p:nvGrpSpPr>
                <p:cNvPr id="174" name="组合 60"/>
                <p:cNvGrpSpPr/>
                <p:nvPr/>
              </p:nvGrpSpPr>
              <p:grpSpPr>
                <a:xfrm>
                  <a:off x="5560920" y="2511360"/>
                  <a:ext cx="2637000" cy="1017720"/>
                  <a:chOff x="5560920" y="2511360"/>
                  <a:chExt cx="2637000" cy="1017720"/>
                </a:xfrm>
              </p:grpSpPr>
              <p:sp>
                <p:nvSpPr>
                  <p:cNvPr id="175" name="AutoShape 49"/>
                  <p:cNvSpPr/>
                  <p:nvPr/>
                </p:nvSpPr>
                <p:spPr>
                  <a:xfrm flipH="1">
                    <a:off x="5560920" y="2511360"/>
                    <a:ext cx="768240" cy="101772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圆角矩形 47"/>
                  <p:cNvSpPr/>
                  <p:nvPr/>
                </p:nvSpPr>
                <p:spPr>
                  <a:xfrm>
                    <a:off x="6360840" y="2658960"/>
                    <a:ext cx="1837080" cy="7225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组合 41"/>
                <p:cNvGrpSpPr/>
                <p:nvPr/>
              </p:nvGrpSpPr>
              <p:grpSpPr>
                <a:xfrm>
                  <a:off x="6000480" y="2658960"/>
                  <a:ext cx="702000" cy="722520"/>
                  <a:chOff x="6000480" y="2658960"/>
                  <a:chExt cx="702000" cy="722520"/>
                </a:xfrm>
              </p:grpSpPr>
              <p:grpSp>
                <p:nvGrpSpPr>
                  <p:cNvPr id="178" name="椭圆 42"/>
                  <p:cNvGrpSpPr/>
                  <p:nvPr/>
                </p:nvGrpSpPr>
                <p:grpSpPr>
                  <a:xfrm>
                    <a:off x="6000480" y="2658960"/>
                    <a:ext cx="702000" cy="722520"/>
                    <a:chOff x="6000480" y="2658960"/>
                    <a:chExt cx="702000" cy="722520"/>
                  </a:xfrm>
                </p:grpSpPr>
                <p:pic>
                  <p:nvPicPr>
                    <p:cNvPr id="179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00480" y="2658960"/>
                      <a:ext cx="702000" cy="7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6143760" y="2780280"/>
                      <a:ext cx="414360" cy="432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椭圆 117"/>
                  <p:cNvGrpSpPr/>
                  <p:nvPr/>
                </p:nvGrpSpPr>
                <p:grpSpPr>
                  <a:xfrm>
                    <a:off x="6020640" y="2674440"/>
                    <a:ext cx="610560" cy="635040"/>
                    <a:chOff x="6020640" y="2674440"/>
                    <a:chExt cx="610560" cy="635040"/>
                  </a:xfrm>
                </p:grpSpPr>
                <p:pic>
                  <p:nvPicPr>
                    <p:cNvPr id="182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20640" y="2674440"/>
                      <a:ext cx="610560" cy="63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149880" y="2784600"/>
                      <a:ext cx="354240" cy="37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4" name="Rectangle 26"/>
              <p:cNvSpPr/>
              <p:nvPr/>
            </p:nvSpPr>
            <p:spPr>
              <a:xfrm>
                <a:off x="6136560" y="2839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18"/>
            <p:cNvSpPr/>
            <p:nvPr/>
          </p:nvSpPr>
          <p:spPr>
            <a:xfrm>
              <a:off x="6710400" y="285840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66"/>
          <p:cNvGrpSpPr/>
          <p:nvPr/>
        </p:nvGrpSpPr>
        <p:grpSpPr>
          <a:xfrm>
            <a:off x="1314360" y="2511360"/>
            <a:ext cx="2648160" cy="1017720"/>
            <a:chOff x="1314360" y="2511360"/>
            <a:chExt cx="2648160" cy="1017720"/>
          </a:xfrm>
        </p:grpSpPr>
        <p:grpSp>
          <p:nvGrpSpPr>
            <p:cNvPr id="187" name="组合 15"/>
            <p:cNvGrpSpPr/>
            <p:nvPr/>
          </p:nvGrpSpPr>
          <p:grpSpPr>
            <a:xfrm>
              <a:off x="1314360" y="2511360"/>
              <a:ext cx="2648160" cy="1017720"/>
              <a:chOff x="1314360" y="2511360"/>
              <a:chExt cx="2648160" cy="1017720"/>
            </a:xfrm>
          </p:grpSpPr>
          <p:grpSp>
            <p:nvGrpSpPr>
              <p:cNvPr id="188" name="组合 57"/>
              <p:cNvGrpSpPr/>
              <p:nvPr/>
            </p:nvGrpSpPr>
            <p:grpSpPr>
              <a:xfrm>
                <a:off x="1314360" y="2511360"/>
                <a:ext cx="2648160" cy="1017720"/>
                <a:chOff x="1314360" y="2511360"/>
                <a:chExt cx="2648160" cy="1017720"/>
              </a:xfrm>
            </p:grpSpPr>
            <p:sp>
              <p:nvSpPr>
                <p:cNvPr id="189" name="AutoShape 71"/>
                <p:cNvSpPr/>
                <p:nvPr/>
              </p:nvSpPr>
              <p:spPr>
                <a:xfrm>
                  <a:off x="3194280" y="2511360"/>
                  <a:ext cx="768240" cy="101772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圆角矩形 21"/>
                <p:cNvSpPr/>
                <p:nvPr/>
              </p:nvSpPr>
              <p:spPr>
                <a:xfrm>
                  <a:off x="1314360" y="2658960"/>
                  <a:ext cx="1837080" cy="722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组合 24"/>
              <p:cNvGrpSpPr/>
              <p:nvPr/>
            </p:nvGrpSpPr>
            <p:grpSpPr>
              <a:xfrm>
                <a:off x="2822040" y="2658960"/>
                <a:ext cx="702000" cy="722520"/>
                <a:chOff x="2822040" y="2658960"/>
                <a:chExt cx="702000" cy="722520"/>
              </a:xfrm>
            </p:grpSpPr>
            <p:grpSp>
              <p:nvGrpSpPr>
                <p:cNvPr id="192" name="椭圆 18"/>
                <p:cNvGrpSpPr/>
                <p:nvPr/>
              </p:nvGrpSpPr>
              <p:grpSpPr>
                <a:xfrm>
                  <a:off x="2822040" y="2658960"/>
                  <a:ext cx="702000" cy="722520"/>
                  <a:chOff x="2822040" y="2658960"/>
                  <a:chExt cx="702000" cy="722520"/>
                </a:xfrm>
              </p:grpSpPr>
              <p:pic>
                <p:nvPicPr>
                  <p:cNvPr id="193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22040" y="2658960"/>
                    <a:ext cx="702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4" name=""/>
                  <p:cNvSpPr/>
                  <p:nvPr/>
                </p:nvSpPr>
                <p:spPr>
                  <a:xfrm>
                    <a:off x="2964240" y="2780280"/>
                    <a:ext cx="417240" cy="43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椭圆 117"/>
                <p:cNvGrpSpPr/>
                <p:nvPr/>
              </p:nvGrpSpPr>
              <p:grpSpPr>
                <a:xfrm>
                  <a:off x="2842200" y="2674440"/>
                  <a:ext cx="614880" cy="635040"/>
                  <a:chOff x="2842200" y="2674440"/>
                  <a:chExt cx="614880" cy="635040"/>
                </a:xfrm>
              </p:grpSpPr>
              <p:pic>
                <p:nvPicPr>
                  <p:cNvPr id="196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2200" y="2674440"/>
                    <a:ext cx="6148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7" name=""/>
                  <p:cNvSpPr/>
                  <p:nvPr/>
                </p:nvSpPr>
                <p:spPr>
                  <a:xfrm>
                    <a:off x="2970720" y="2784600"/>
                    <a:ext cx="356760" cy="37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8" name="Text Box 18"/>
            <p:cNvSpPr/>
            <p:nvPr/>
          </p:nvSpPr>
          <p:spPr>
            <a:xfrm>
              <a:off x="1427040" y="285840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2958120" y="2839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5"/>
          <p:cNvGrpSpPr/>
          <p:nvPr/>
        </p:nvGrpSpPr>
        <p:grpSpPr>
          <a:xfrm>
            <a:off x="2001960" y="3395880"/>
            <a:ext cx="2793960" cy="1292040"/>
            <a:chOff x="2001960" y="3395880"/>
            <a:chExt cx="2793960" cy="1292040"/>
          </a:xfrm>
        </p:grpSpPr>
        <p:grpSp>
          <p:nvGrpSpPr>
            <p:cNvPr id="201" name="组合 22"/>
            <p:cNvGrpSpPr/>
            <p:nvPr/>
          </p:nvGrpSpPr>
          <p:grpSpPr>
            <a:xfrm>
              <a:off x="2001960" y="3395880"/>
              <a:ext cx="2793960" cy="1292040"/>
              <a:chOff x="2001960" y="3395880"/>
              <a:chExt cx="2793960" cy="1292040"/>
            </a:xfrm>
          </p:grpSpPr>
          <p:grpSp>
            <p:nvGrpSpPr>
              <p:cNvPr id="202" name="组合 78"/>
              <p:cNvGrpSpPr/>
              <p:nvPr/>
            </p:nvGrpSpPr>
            <p:grpSpPr>
              <a:xfrm>
                <a:off x="2001960" y="3395880"/>
                <a:ext cx="2793960" cy="1292040"/>
                <a:chOff x="2001960" y="3395880"/>
                <a:chExt cx="2793960" cy="1292040"/>
              </a:xfrm>
            </p:grpSpPr>
            <p:sp>
              <p:nvSpPr>
                <p:cNvPr id="203" name="AutoShape 75"/>
                <p:cNvSpPr/>
                <p:nvPr/>
              </p:nvSpPr>
              <p:spPr>
                <a:xfrm rot="18900000">
                  <a:off x="3774960" y="3516120"/>
                  <a:ext cx="768240" cy="103176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圆角矩形 31"/>
                <p:cNvSpPr/>
                <p:nvPr/>
              </p:nvSpPr>
              <p:spPr>
                <a:xfrm>
                  <a:off x="2001960" y="3965760"/>
                  <a:ext cx="1836720" cy="7221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组合 35"/>
              <p:cNvGrpSpPr/>
              <p:nvPr/>
            </p:nvGrpSpPr>
            <p:grpSpPr>
              <a:xfrm>
                <a:off x="3509280" y="3965040"/>
                <a:ext cx="702000" cy="722880"/>
                <a:chOff x="3509280" y="3965040"/>
                <a:chExt cx="702000" cy="722880"/>
              </a:xfrm>
            </p:grpSpPr>
            <p:grpSp>
              <p:nvGrpSpPr>
                <p:cNvPr id="206" name="椭圆 26"/>
                <p:cNvGrpSpPr/>
                <p:nvPr/>
              </p:nvGrpSpPr>
              <p:grpSpPr>
                <a:xfrm>
                  <a:off x="3509280" y="3965040"/>
                  <a:ext cx="702000" cy="722880"/>
                  <a:chOff x="3509280" y="3965040"/>
                  <a:chExt cx="702000" cy="722880"/>
                </a:xfrm>
              </p:grpSpPr>
              <p:pic>
                <p:nvPicPr>
                  <p:cNvPr id="207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09280" y="3965040"/>
                    <a:ext cx="702000" cy="7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8" name=""/>
                  <p:cNvSpPr/>
                  <p:nvPr/>
                </p:nvSpPr>
                <p:spPr>
                  <a:xfrm>
                    <a:off x="3650040" y="4087800"/>
                    <a:ext cx="417240" cy="43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椭圆 117"/>
                <p:cNvGrpSpPr/>
                <p:nvPr/>
              </p:nvGrpSpPr>
              <p:grpSpPr>
                <a:xfrm>
                  <a:off x="3524400" y="3985560"/>
                  <a:ext cx="620280" cy="630000"/>
                  <a:chOff x="3524400" y="3985560"/>
                  <a:chExt cx="620280" cy="630000"/>
                </a:xfrm>
              </p:grpSpPr>
              <p:pic>
                <p:nvPicPr>
                  <p:cNvPr id="210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24400" y="3985560"/>
                    <a:ext cx="6202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1" name=""/>
                  <p:cNvSpPr/>
                  <p:nvPr/>
                </p:nvSpPr>
                <p:spPr>
                  <a:xfrm>
                    <a:off x="3655800" y="4092840"/>
                    <a:ext cx="3578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2" name="Text Box 18"/>
            <p:cNvSpPr/>
            <p:nvPr/>
          </p:nvSpPr>
          <p:spPr>
            <a:xfrm>
              <a:off x="2033640" y="416448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6"/>
            <p:cNvSpPr/>
            <p:nvPr/>
          </p:nvSpPr>
          <p:spPr>
            <a:xfrm>
              <a:off x="3645360" y="4145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71"/>
          <p:cNvGrpSpPr/>
          <p:nvPr/>
        </p:nvGrpSpPr>
        <p:grpSpPr>
          <a:xfrm>
            <a:off x="4657680" y="3484800"/>
            <a:ext cx="2841840" cy="1217160"/>
            <a:chOff x="4657680" y="3484800"/>
            <a:chExt cx="2841840" cy="1217160"/>
          </a:xfrm>
        </p:grpSpPr>
        <p:grpSp>
          <p:nvGrpSpPr>
            <p:cNvPr id="215" name="组合 64"/>
            <p:cNvGrpSpPr/>
            <p:nvPr/>
          </p:nvGrpSpPr>
          <p:grpSpPr>
            <a:xfrm>
              <a:off x="4657680" y="3484800"/>
              <a:ext cx="2841840" cy="1217160"/>
              <a:chOff x="4657680" y="3484800"/>
              <a:chExt cx="2841840" cy="1217160"/>
            </a:xfrm>
          </p:grpSpPr>
          <p:grpSp>
            <p:nvGrpSpPr>
              <p:cNvPr id="216" name="组合 32"/>
              <p:cNvGrpSpPr/>
              <p:nvPr/>
            </p:nvGrpSpPr>
            <p:grpSpPr>
              <a:xfrm>
                <a:off x="4657680" y="3484800"/>
                <a:ext cx="2841840" cy="1217160"/>
                <a:chOff x="4657680" y="3484800"/>
                <a:chExt cx="2841840" cy="1217160"/>
              </a:xfrm>
            </p:grpSpPr>
            <p:grpSp>
              <p:nvGrpSpPr>
                <p:cNvPr id="217" name="组合 72"/>
                <p:cNvGrpSpPr/>
                <p:nvPr/>
              </p:nvGrpSpPr>
              <p:grpSpPr>
                <a:xfrm>
                  <a:off x="4657680" y="3484800"/>
                  <a:ext cx="2841840" cy="1217160"/>
                  <a:chOff x="4657680" y="3484800"/>
                  <a:chExt cx="2841840" cy="1217160"/>
                </a:xfrm>
              </p:grpSpPr>
              <p:sp>
                <p:nvSpPr>
                  <p:cNvPr id="218" name="AutoShape 69"/>
                  <p:cNvSpPr/>
                  <p:nvPr/>
                </p:nvSpPr>
                <p:spPr>
                  <a:xfrm flipH="1" rot="2700000">
                    <a:off x="4864680" y="3633480"/>
                    <a:ext cx="801720" cy="919440"/>
                  </a:xfrm>
                  <a:prstGeom prst="rightArrow">
                    <a:avLst>
                      <a:gd name="adj1" fmla="val 70389"/>
                      <a:gd name="adj2" fmla="val 64583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圆角矩形 38"/>
                  <p:cNvSpPr/>
                  <p:nvPr/>
                </p:nvSpPr>
                <p:spPr>
                  <a:xfrm>
                    <a:off x="5582880" y="4033440"/>
                    <a:ext cx="1916640" cy="65304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组合 38"/>
                <p:cNvGrpSpPr/>
                <p:nvPr/>
              </p:nvGrpSpPr>
              <p:grpSpPr>
                <a:xfrm>
                  <a:off x="5291640" y="3963600"/>
                  <a:ext cx="702000" cy="722880"/>
                  <a:chOff x="5291640" y="3963600"/>
                  <a:chExt cx="702000" cy="722880"/>
                </a:xfrm>
              </p:grpSpPr>
              <p:grpSp>
                <p:nvGrpSpPr>
                  <p:cNvPr id="221" name="椭圆 35"/>
                  <p:cNvGrpSpPr/>
                  <p:nvPr/>
                </p:nvGrpSpPr>
                <p:grpSpPr>
                  <a:xfrm>
                    <a:off x="5291640" y="3963600"/>
                    <a:ext cx="702000" cy="722880"/>
                    <a:chOff x="5291640" y="3963600"/>
                    <a:chExt cx="702000" cy="722880"/>
                  </a:xfrm>
                </p:grpSpPr>
                <p:pic>
                  <p:nvPicPr>
                    <p:cNvPr id="222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91640" y="3963600"/>
                      <a:ext cx="70200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434560" y="4084920"/>
                      <a:ext cx="417240" cy="43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椭圆 117"/>
                  <p:cNvGrpSpPr/>
                  <p:nvPr/>
                </p:nvGrpSpPr>
                <p:grpSpPr>
                  <a:xfrm>
                    <a:off x="5311800" y="3979080"/>
                    <a:ext cx="614880" cy="635400"/>
                    <a:chOff x="5311800" y="3979080"/>
                    <a:chExt cx="614880" cy="635400"/>
                  </a:xfrm>
                </p:grpSpPr>
                <p:pic>
                  <p:nvPicPr>
                    <p:cNvPr id="225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11800" y="3979080"/>
                      <a:ext cx="614880" cy="63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440320" y="4089240"/>
                      <a:ext cx="356760" cy="37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27" name="Rectangle 26"/>
              <p:cNvSpPr/>
              <p:nvPr/>
            </p:nvSpPr>
            <p:spPr>
              <a:xfrm>
                <a:off x="5427720" y="4144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943960" y="416304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2"/>
          <p:cNvSpPr/>
          <p:nvPr/>
        </p:nvSpPr>
        <p:spPr>
          <a:xfrm>
            <a:off x="206280" y="5297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组合 38"/>
          <p:cNvGrpSpPr/>
          <p:nvPr/>
        </p:nvGrpSpPr>
        <p:grpSpPr>
          <a:xfrm>
            <a:off x="949320" y="1425600"/>
            <a:ext cx="7408800" cy="3639960"/>
            <a:chOff x="949320" y="1425600"/>
            <a:chExt cx="7408800" cy="3639960"/>
          </a:xfrm>
        </p:grpSpPr>
        <p:grpSp>
          <p:nvGrpSpPr>
            <p:cNvPr id="232" name="组合 35"/>
            <p:cNvGrpSpPr/>
            <p:nvPr/>
          </p:nvGrpSpPr>
          <p:grpSpPr>
            <a:xfrm>
              <a:off x="949320" y="1425600"/>
              <a:ext cx="7408800" cy="3639960"/>
              <a:chOff x="949320" y="1425600"/>
              <a:chExt cx="7408800" cy="36399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949320" y="1425600"/>
                <a:ext cx="7408800" cy="363996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9"/>
              <p:cNvSpPr/>
              <p:nvPr/>
            </p:nvSpPr>
            <p:spPr>
              <a:xfrm>
                <a:off x="1071000" y="1534680"/>
                <a:ext cx="7165440" cy="3421440"/>
              </a:xfrm>
              <a:prstGeom prst="roundRect">
                <a:avLst>
                  <a:gd name="adj" fmla="val 3486"/>
                </a:avLst>
              </a:prstGeom>
              <a:solidFill>
                <a:srgbClr val="000000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36"/>
            <p:cNvGrpSpPr/>
            <p:nvPr/>
          </p:nvGrpSpPr>
          <p:grpSpPr>
            <a:xfrm>
              <a:off x="1375920" y="2031120"/>
              <a:ext cx="6475680" cy="2741760"/>
              <a:chOff x="1375920" y="2031120"/>
              <a:chExt cx="6475680" cy="2741760"/>
            </a:xfrm>
          </p:grpSpPr>
          <p:sp>
            <p:nvSpPr>
              <p:cNvPr id="236" name="Line 11"/>
              <p:cNvSpPr/>
              <p:nvPr/>
            </p:nvSpPr>
            <p:spPr>
              <a:xfrm>
                <a:off x="2983680" y="2439360"/>
                <a:ext cx="144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2"/>
              <p:cNvSpPr/>
              <p:nvPr/>
            </p:nvSpPr>
            <p:spPr>
              <a:xfrm>
                <a:off x="4644720" y="2439360"/>
                <a:ext cx="144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>
                <a:off x="6294600" y="2439360"/>
                <a:ext cx="288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56"/>
              <p:cNvSpPr/>
              <p:nvPr/>
            </p:nvSpPr>
            <p:spPr>
              <a:xfrm>
                <a:off x="186840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57"/>
              <p:cNvSpPr/>
              <p:nvPr/>
            </p:nvSpPr>
            <p:spPr>
              <a:xfrm>
                <a:off x="352764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58"/>
              <p:cNvSpPr/>
              <p:nvPr/>
            </p:nvSpPr>
            <p:spPr>
              <a:xfrm>
                <a:off x="518976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59"/>
              <p:cNvSpPr/>
              <p:nvPr/>
            </p:nvSpPr>
            <p:spPr>
              <a:xfrm>
                <a:off x="685836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25"/>
              <p:cNvSpPr/>
              <p:nvPr/>
            </p:nvSpPr>
            <p:spPr>
              <a:xfrm>
                <a:off x="1677600" y="4300560"/>
                <a:ext cx="479160" cy="12348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26"/>
              <p:cNvSpPr/>
              <p:nvPr/>
            </p:nvSpPr>
            <p:spPr>
              <a:xfrm>
                <a:off x="3331800" y="4013280"/>
                <a:ext cx="476280" cy="41112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utoShape 27"/>
              <p:cNvSpPr/>
              <p:nvPr/>
            </p:nvSpPr>
            <p:spPr>
              <a:xfrm>
                <a:off x="4992480" y="3611520"/>
                <a:ext cx="479160" cy="81288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28"/>
              <p:cNvSpPr/>
              <p:nvPr/>
            </p:nvSpPr>
            <p:spPr>
              <a:xfrm>
                <a:off x="6643800" y="3489480"/>
                <a:ext cx="477720" cy="93492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29"/>
              <p:cNvSpPr/>
              <p:nvPr/>
            </p:nvSpPr>
            <p:spPr>
              <a:xfrm>
                <a:off x="2157120" y="3408480"/>
                <a:ext cx="466560" cy="101592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30"/>
              <p:cNvSpPr/>
              <p:nvPr/>
            </p:nvSpPr>
            <p:spPr>
              <a:xfrm>
                <a:off x="3808080" y="3568680"/>
                <a:ext cx="479160" cy="85572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31"/>
              <p:cNvSpPr/>
              <p:nvPr/>
            </p:nvSpPr>
            <p:spPr>
              <a:xfrm>
                <a:off x="5472000" y="3076560"/>
                <a:ext cx="465120" cy="134784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32"/>
              <p:cNvSpPr/>
              <p:nvPr/>
            </p:nvSpPr>
            <p:spPr>
              <a:xfrm>
                <a:off x="7121520" y="3322440"/>
                <a:ext cx="468000" cy="110160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56"/>
              <p:cNvSpPr/>
              <p:nvPr/>
            </p:nvSpPr>
            <p:spPr>
              <a:xfrm>
                <a:off x="2200320" y="31370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56"/>
              <p:cNvSpPr/>
              <p:nvPr/>
            </p:nvSpPr>
            <p:spPr>
              <a:xfrm>
                <a:off x="1731960" y="40323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56"/>
              <p:cNvSpPr/>
              <p:nvPr/>
            </p:nvSpPr>
            <p:spPr>
              <a:xfrm>
                <a:off x="3643200" y="328284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6"/>
              <p:cNvSpPr/>
              <p:nvPr/>
            </p:nvSpPr>
            <p:spPr>
              <a:xfrm>
                <a:off x="3379680" y="37371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6"/>
              <p:cNvSpPr/>
              <p:nvPr/>
            </p:nvSpPr>
            <p:spPr>
              <a:xfrm>
                <a:off x="5357520" y="2770200"/>
                <a:ext cx="7236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56"/>
              <p:cNvSpPr/>
              <p:nvPr/>
            </p:nvSpPr>
            <p:spPr>
              <a:xfrm>
                <a:off x="5026320" y="33368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56"/>
              <p:cNvSpPr/>
              <p:nvPr/>
            </p:nvSpPr>
            <p:spPr>
              <a:xfrm>
                <a:off x="7091280" y="30639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56"/>
              <p:cNvSpPr/>
              <p:nvPr/>
            </p:nvSpPr>
            <p:spPr>
              <a:xfrm>
                <a:off x="6685200" y="32148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8"/>
              <p:cNvSpPr/>
              <p:nvPr/>
            </p:nvSpPr>
            <p:spPr>
              <a:xfrm>
                <a:off x="1384920" y="2031120"/>
                <a:ext cx="0" cy="2388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8"/>
              <p:cNvSpPr/>
              <p:nvPr/>
            </p:nvSpPr>
            <p:spPr>
              <a:xfrm>
                <a:off x="1375920" y="4420080"/>
                <a:ext cx="647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组合 34"/>
          <p:cNvGrpSpPr/>
          <p:nvPr/>
        </p:nvGrpSpPr>
        <p:grpSpPr>
          <a:xfrm>
            <a:off x="1627200" y="1192320"/>
            <a:ext cx="6100920" cy="566640"/>
            <a:chOff x="1627200" y="1192320"/>
            <a:chExt cx="6100920" cy="566640"/>
          </a:xfrm>
        </p:grpSpPr>
        <p:grpSp>
          <p:nvGrpSpPr>
            <p:cNvPr id="262" name="组合 53"/>
            <p:cNvGrpSpPr/>
            <p:nvPr/>
          </p:nvGrpSpPr>
          <p:grpSpPr>
            <a:xfrm>
              <a:off x="1627200" y="1192320"/>
              <a:ext cx="6100920" cy="566640"/>
              <a:chOff x="1627200" y="1192320"/>
              <a:chExt cx="6100920" cy="566640"/>
            </a:xfrm>
          </p:grpSpPr>
          <p:grpSp>
            <p:nvGrpSpPr>
              <p:cNvPr id="263" name="AutoShape 3"/>
              <p:cNvGrpSpPr/>
              <p:nvPr/>
            </p:nvGrpSpPr>
            <p:grpSpPr>
              <a:xfrm>
                <a:off x="1627200" y="1192320"/>
                <a:ext cx="6100920" cy="566640"/>
                <a:chOff x="1627200" y="1192320"/>
                <a:chExt cx="6100920" cy="566640"/>
              </a:xfrm>
            </p:grpSpPr>
            <p:pic>
              <p:nvPicPr>
                <p:cNvPr id="264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27200" y="1192320"/>
                  <a:ext cx="6100920" cy="56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"/>
                <p:cNvSpPr/>
                <p:nvPr/>
              </p:nvSpPr>
              <p:spPr>
                <a:xfrm>
                  <a:off x="1719360" y="1242360"/>
                  <a:ext cx="591444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AutoShape 3"/>
              <p:cNvGrpSpPr/>
              <p:nvPr/>
            </p:nvGrpSpPr>
            <p:grpSpPr>
              <a:xfrm>
                <a:off x="1627200" y="1261800"/>
                <a:ext cx="6095160" cy="422640"/>
                <a:chOff x="1627200" y="1261800"/>
                <a:chExt cx="6095160" cy="422640"/>
              </a:xfrm>
            </p:grpSpPr>
            <p:pic>
              <p:nvPicPr>
                <p:cNvPr id="267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27200" y="1261800"/>
                  <a:ext cx="6095160" cy="42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1711080" y="1305720"/>
                  <a:ext cx="5928840" cy="2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Rectangle 13"/>
            <p:cNvSpPr/>
            <p:nvPr/>
          </p:nvSpPr>
          <p:spPr>
            <a:xfrm>
              <a:off x="4175640" y="12751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C:\Documents and Settings\Administrator\My Documents\My Pictures\1018410_153103002_2.jpg"/>
          <p:cNvPicPr/>
          <p:nvPr/>
        </p:nvPicPr>
        <p:blipFill>
          <a:blip r:embed="rId1"/>
          <a:stretch/>
        </p:blipFill>
        <p:spPr>
          <a:xfrm>
            <a:off x="1523880" y="957240"/>
            <a:ext cx="3432240" cy="406548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E:\amy项目\模板\商务\3\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6"/>
          <p:cNvSpPr/>
          <p:nvPr/>
        </p:nvSpPr>
        <p:spPr>
          <a:xfrm>
            <a:off x="4748040" y="1546200"/>
            <a:ext cx="354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81d3f"/>
                </a:solidFill>
                <a:latin typeface="微软雅黑"/>
                <a:ea typeface="微软雅黑"/>
              </a:rPr>
              <a:t>谢谢观赏  </a:t>
            </a:r>
            <a:r>
              <a:rPr b="1" lang="en-US" sz="2600" spc="-1" strike="noStrike">
                <a:solidFill>
                  <a:srgbClr val="381d3f"/>
                </a:solidFill>
                <a:latin typeface="微软雅黑"/>
                <a:ea typeface="微软雅黑"/>
              </a:rPr>
              <a:t>THANK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8:32:55Z</dcterms:created>
  <dc:creator>番茄花园</dc:creator>
  <dc:description/>
  <dc:language>en-US</dc:language>
  <cp:lastModifiedBy>王玉清</cp:lastModifiedBy>
  <dcterms:modified xsi:type="dcterms:W3CDTF">2016-02-20T04:20:47Z</dcterms:modified>
  <cp:revision>32</cp:revision>
  <dc:subject/>
  <dc:title>幻灯片 1</dc:title>
</cp:coreProperties>
</file>