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055-A988-48C6-AFFE-C8A91E15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DEC-67A6-4AE4-887D-0F4301C7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502-AF68-41D9-B9BB-AAE65489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FC7-204E-45BD-A39B-A2209941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F4D-7D4B-4D6D-81A6-6444341E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80D-04A4-4A0A-B9FE-F5D229F3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DFE-A78F-4203-9035-F0E7F3AC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D56-3A12-4617-A3CD-3FDEA382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D53-5191-40FE-BA08-DF28C833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6BE-6A3E-4CAC-A6EF-8678DF71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53B-2FAA-49A9-AF72-AAF19E2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49B-A056-4C6C-B3D1-6BA7823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5845-3DF3-4857-81A2-67168511A8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3" descr="11.png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89920" y="100080"/>
            <a:ext cx="100476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1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3360" y="476244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6880" y="2048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画新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1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2035080" y="2143080"/>
            <a:ext cx="5073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只有雪地上留下艰辛的足迹，才会懂得活的珍贵，活的炙热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hi-hoo 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祝您在新的一年中你的生活美满幸福，前程似锦，吉星高照，财运亨通，合家欢乐，飞黄腾达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8.png"/>
          <p:cNvPicPr/>
          <p:nvPr/>
        </p:nvPicPr>
        <p:blipFill>
          <a:blip r:embed="rId2"/>
          <a:stretch/>
        </p:blipFill>
        <p:spPr>
          <a:xfrm>
            <a:off x="1357200" y="2676600"/>
            <a:ext cx="596880" cy="647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9.png"/>
          <p:cNvPicPr/>
          <p:nvPr/>
        </p:nvPicPr>
        <p:blipFill>
          <a:blip r:embed="rId3"/>
          <a:stretch/>
        </p:blipFill>
        <p:spPr>
          <a:xfrm>
            <a:off x="7000920" y="1857240"/>
            <a:ext cx="542880" cy="53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8089920" y="100080"/>
            <a:ext cx="1004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新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新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508040" y="3809880"/>
            <a:ext cx="69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13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500200" y="1863720"/>
            <a:ext cx="2643480" cy="1203480"/>
            <a:chOff x="2500200" y="1863720"/>
            <a:chExt cx="2643480" cy="1203480"/>
          </a:xfrm>
        </p:grpSpPr>
        <p:sp>
          <p:nvSpPr>
            <p:cNvPr id="56" name="TextBox 6"/>
            <p:cNvSpPr/>
            <p:nvPr/>
          </p:nvSpPr>
          <p:spPr>
            <a:xfrm>
              <a:off x="2536560" y="2363760"/>
              <a:ext cx="22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7"/>
            <p:cNvSpPr/>
            <p:nvPr/>
          </p:nvSpPr>
          <p:spPr>
            <a:xfrm>
              <a:off x="2500200" y="1863720"/>
              <a:ext cx="264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21B-38D6-493E-95A3-124B9A716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8:04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