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D85-02FC-4148-8462-7D6709E7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4760" y="371628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5B4-29ED-4D95-B112-7A70FCE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684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578-3E12-4AB6-BC5C-AC1605EC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536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560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476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536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560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4E3-C3F6-4959-B45A-3C56FDDF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2B81-A208-430B-B352-8117FE32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A054-2971-4742-BE7D-D11D45EA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8179-D752-4101-BD4F-A36EAC40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2FE6-4DC5-42F9-9382-3F759BA2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A93-1A2B-4839-9FAE-9E71EB9A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7732-C967-4A65-862D-520C9A8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357D-A1BE-4395-A408-CFA13AD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F09-D5B5-4A91-8BDC-7AF1DDA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684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CA5-1E36-4CB8-837D-60D7FF94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3EB4-1D49-4545-AF40-37955F0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4760" y="371628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94EF-78B8-4D52-8C75-2B44367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684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39C-9BEF-4AF1-93A3-21D305F9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536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5600" y="144756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476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7536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5600" y="3716280"/>
            <a:ext cx="2257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1368-F471-423A-AA9F-DA6B0E0C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1A0-3122-4C3B-A311-9A57DC6C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F22-F1AE-4B4F-B675-A1270434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AA8-CF5F-4A4A-9DE8-60A2B33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5335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947-1BB5-4A59-A51E-298FABDB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4BB-8609-430D-9FEB-EE879A8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6840" y="371628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F3E-102A-4FDF-9A29-0F0A5C6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6840" y="1447560"/>
            <a:ext cx="3420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4760" y="3716280"/>
            <a:ext cx="70102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E2E-279C-4F69-B0F3-EA5F5E3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b2012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92F-C416-4388-9003-6D0EC9407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b2012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D3B-7CA4-41D7-BBD9-8A60EBC7EA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5142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2012"/>
                </a:solidFill>
                <a:latin typeface="Times New Roman"/>
                <a:ea typeface="宋体"/>
              </a:rPr>
              <a:t>New Guidelines</a:t>
            </a:r>
            <a:endParaRPr b="0" lang="en-US" sz="32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35049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SUBTITLE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0600" y="228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公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b2012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b2012"/>
                </a:solidFill>
                <a:latin typeface="Times New Roman"/>
                <a:ea typeface="宋体"/>
              </a:rPr>
              <a:t>Your Topic Goes Here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7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572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2160" y="2895120"/>
            <a:ext cx="5181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9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05160" y="-3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0" lang="en-US" sz="44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105160" y="7617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new_guidelines_prt"/>
          <p:cNvPicPr/>
          <p:nvPr/>
        </p:nvPicPr>
        <p:blipFill>
          <a:blip r:embed="rId1"/>
          <a:stretch/>
        </p:blipFill>
        <p:spPr>
          <a:xfrm>
            <a:off x="5562720" y="4000680"/>
            <a:ext cx="3200400" cy="240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Picture 8" descr="new_guidelines_sld"/>
          <p:cNvPicPr/>
          <p:nvPr/>
        </p:nvPicPr>
        <p:blipFill>
          <a:blip r:embed="rId2"/>
          <a:stretch/>
        </p:blipFill>
        <p:spPr>
          <a:xfrm>
            <a:off x="1905120" y="40194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Picture 9" descr="new_guidelines_trs"/>
          <p:cNvPicPr/>
          <p:nvPr/>
        </p:nvPicPr>
        <p:blipFill>
          <a:blip r:embed="rId3"/>
          <a:stretch/>
        </p:blipFill>
        <p:spPr>
          <a:xfrm>
            <a:off x="5562720" y="1200240"/>
            <a:ext cx="3200400" cy="240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Picture 10" descr="new_guidelines_qx"/>
          <p:cNvPicPr/>
          <p:nvPr/>
        </p:nvPicPr>
        <p:blipFill>
          <a:blip r:embed="rId4"/>
          <a:stretch/>
        </p:blipFill>
        <p:spPr>
          <a:xfrm>
            <a:off x="1905120" y="1219320"/>
            <a:ext cx="3200400" cy="240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b2012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1b201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EDF-6809-402D-9BCB-8C217E682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6:28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1:5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