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gif" ContentType="image/gi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F9D3-7B42-44C7-BB88-5E8181F2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6782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920" y="3710520"/>
            <a:ext cx="6782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08D2-7C03-4D8B-8BDF-DC30E08D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92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2736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7B7A-5C83-4AAE-BD11-2DDED7D8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44760" y="68544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37960" y="68544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920" y="371052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44760" y="371052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37960" y="371052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6EAE-5826-464D-89BF-45C0D6AC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E6BC-3D9A-4C4B-929D-55043749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1920" y="685440"/>
            <a:ext cx="6782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844D-C9C6-4C9E-981C-3F06CFE9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6782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D98D-BC31-4D8D-8FCF-559F900D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63F1-39BD-46EF-BB7B-EBBB5B6E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120B-9513-4AD9-9BCC-630F182B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510A-F40D-461D-A2BA-8EDD3862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192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21E3-AC84-4067-8231-19229BDE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920" y="685440"/>
            <a:ext cx="6782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72E8-F50D-4BF6-805A-915C0090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2736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8517-6D67-4515-AED8-41795534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1920" y="3710520"/>
            <a:ext cx="6782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AE8A-F25B-4CD7-AF45-92EE9398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6782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1920" y="3710520"/>
            <a:ext cx="6782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5814-E42B-4962-82B0-5E7C076E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192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62736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E7E6-A071-407F-9EA4-3CBAF46F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44760" y="68544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37960" y="68544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1920" y="371052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44760" y="371052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737960" y="371052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3166-9ADB-412A-8569-98489834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6782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D09E-9A47-43E9-ADFB-C6C3BF8F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18EA-0BA8-4D49-AD24-7A75EC8A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0D73-C685-48E0-88E5-A41AD926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15BA-0A1F-4140-81F6-591A5390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92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63F2-DEBC-47EA-A74B-3F6A6956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2736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C4C-8133-46C9-AC11-DCB4CEA0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920" y="3710520"/>
            <a:ext cx="6782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ED5E-6F3C-4D54-93A4-7EC40E1C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685440"/>
            <a:ext cx="6782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3597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32375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28773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2519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2519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2519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2519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Eurostile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Eurostile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Eurostile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Eurostile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Eurostile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FEFF-3938-40DD-B32C-BA9C2FC9CC84}" type="slidenum">
              <a:rPr b="1" lang="zh-CN" sz="1000" spc="-1" strike="noStrike">
                <a:solidFill>
                  <a:srgbClr val="ffffff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ras Bold IT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Eurostile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Eurostile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Eurostile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Eurostile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Eurostile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6BFB-69FE-4E96-9D39-79EC875A135F}" type="slidenum">
              <a:rPr b="0" lang="zh-CN" sz="1000" spc="-1" strike="noStrike">
                <a:solidFill>
                  <a:srgbClr val="ffffff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451"/>
              </a:spcBef>
              <a:buSzPct val="3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spcBef>
                <a:spcPts val="451"/>
              </a:spcBef>
              <a:buSzPct val="3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SzPct val="36018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349"/>
              </a:spcBef>
              <a:buSzPct val="36003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49"/>
              </a:spcBef>
              <a:buSzPct val="360035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SzPct val="36003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SzPct val="36003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7.gif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63640" y="549360"/>
            <a:ext cx="5538960" cy="6629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Eras Bold ITC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buSzPct val="3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84160" y="44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龟兔赛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  <a:ea typeface="宋体"/>
              </a:rPr>
              <a:t>Your Topic Goes Here</a:t>
            </a: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3314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SzPct val="3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334120" y="2286000"/>
            <a:ext cx="3314520" cy="3314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4360" y="307008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Eras Bold ITC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0739-F054-4CD0-9C6B-BDCA590727BC}" type="slidenum">
              <a:t>3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5:42:0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23:0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