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002060"/>
              </a:solidFill>
              <a:ln w="0">
                <a:noFill/>
              </a:ln>
            </c:spPr>
          </c:dPt>
          <c:dLbls>
            <c:numFmt formatCode="#,##0.00_);[RED]\(#,##0.00\)" sourceLinked="0"/>
            <c:dLbl>
              <c:idx val="1"/>
              <c:numFmt formatCode="#,##0.00_);[RED]\(#,##0.00\)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70c0"/>
                      </a:solidFill>
                      <a:latin typeface="Franklin Gothic Book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70c0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【省外一类烟】</c:v>
                </c:pt>
                <c:pt idx="1">
                  <c:v>中华(硬)</c:v>
                </c:pt>
                <c:pt idx="2">
                  <c:v>黄鹤楼(软蓝)</c:v>
                </c:pt>
                <c:pt idx="3">
                  <c:v>芙蓉王(硬)</c:v>
                </c:pt>
                <c:pt idx="4">
                  <c:v>云烟(软珍品)</c:v>
                </c:pt>
                <c:pt idx="5">
                  <c:v>【省外二类烟】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314.3946</c:v>
                </c:pt>
                <c:pt idx="1">
                  <c:v>94.46</c:v>
                </c:pt>
                <c:pt idx="2">
                  <c:v>40.148</c:v>
                </c:pt>
                <c:pt idx="3">
                  <c:v>25.116</c:v>
                </c:pt>
                <c:pt idx="4">
                  <c:v>1.132</c:v>
                </c:pt>
                <c:pt idx="5">
                  <c:v>49.1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92d050"/>
              </a:solidFill>
              <a:ln w="0">
                <a:noFill/>
              </a:ln>
            </c:spPr>
          </c:dPt>
          <c:dLbls>
            <c:numFmt formatCode="#,##0.00_);[RED]\(#,##0.00\)" sourceLinked="0"/>
            <c:dLbl>
              <c:idx val="1"/>
              <c:numFmt formatCode="#,##0.00_);[RED]\(#,##0.00\)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629dd1"/>
                      </a:solidFill>
                      <a:latin typeface="Franklin Gothic Book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【省外一类烟】</c:v>
                </c:pt>
                <c:pt idx="1">
                  <c:v>中华(硬)</c:v>
                </c:pt>
                <c:pt idx="2">
                  <c:v>黄鹤楼(软蓝)</c:v>
                </c:pt>
                <c:pt idx="3">
                  <c:v>芙蓉王(硬)</c:v>
                </c:pt>
                <c:pt idx="4">
                  <c:v>云烟(软珍品)</c:v>
                </c:pt>
                <c:pt idx="5">
                  <c:v>【省外二类烟】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283.588</c:v>
                </c:pt>
                <c:pt idx="1">
                  <c:v>56.932</c:v>
                </c:pt>
                <c:pt idx="2">
                  <c:v>40.664</c:v>
                </c:pt>
                <c:pt idx="3">
                  <c:v>39.824</c:v>
                </c:pt>
                <c:pt idx="4">
                  <c:v>44.992</c:v>
                </c:pt>
                <c:pt idx="5">
                  <c:v>41.408</c:v>
                </c:pt>
              </c:numCache>
            </c:numRef>
          </c:val>
        </c:ser>
        <c:gapWidth val="150"/>
        <c:overlap val="-25"/>
        <c:axId val="38205936"/>
        <c:axId val="43683046"/>
      </c:barChart>
      <c:catAx>
        <c:axId val="38205936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43683046"/>
        <c:auto val="1"/>
        <c:lblAlgn val="ctr"/>
        <c:lblOffset val="100"/>
        <c:noMultiLvlLbl val="0"/>
      </c:catAx>
      <c:valAx>
        <c:axId val="43683046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38205936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42402381878204"/>
          <c:y val="0.133851711646587"/>
          <c:w val="0.15195236243592"/>
          <c:h val="0.045211995940430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629dd1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297fd5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Franklin Gothic Book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Franklin Gothic Book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本月</c:v>
                </c:pt>
                <c:pt idx="1">
                  <c:v>全区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431.7782</c:v>
                </c:pt>
                <c:pt idx="1">
                  <c:v>27806.243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629dd1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297fd5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Franklin Gothic Book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Franklin Gothic Book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1至本月</c:v>
                </c:pt>
                <c:pt idx="1">
                  <c:v>全区1至本月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964.4056</c:v>
                </c:pt>
                <c:pt idx="1">
                  <c:v>75108.8948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17-041F-40F0-B2FF-3303D721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F22-CD1B-43D9-AFA4-C416D52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B85-A289-46B0-B900-2696AC61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9D1-706B-4DF9-B6F2-A39D16E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478-5849-4F13-B08A-04E9E699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DC9D-67A6-4D94-ADE4-4B0F70E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139C-F858-47DE-9C69-F84C309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C4B-5C6C-45B3-B535-9F2FB0B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751C-CF4C-42FE-9D23-3C26F84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4BD-BBDF-44F7-883F-B0F4D802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065-EBCB-4FA6-9CEF-56A53AF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D627-C174-4728-8CCA-70D0640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DC4-AB1B-481F-A6FB-B20D47C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7286-0816-4553-B68C-B93C4510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47B-7AA6-4D89-B235-0AF5F74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517F-EE97-478F-8DBE-30CAE44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2C23-49E5-40F7-94C0-E447BF1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346-E018-47E2-AA78-58DA2F46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1C1-D0AD-4BC6-AC0C-63363A0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E5A-FD0F-4D26-A8CF-C1920F2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C90-15B7-4B7C-B41F-AE76A17B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A83-A4D8-40DD-B8F0-9EC476F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D6B-7DB3-402F-9766-C44CBAF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B8A-94C3-461F-8EE9-E86F658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0B44B-2BA5-4EB1-BA42-332AAFCF908C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0" y="548640"/>
            <a:ext cx="2123280" cy="7196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D389C0-A7DB-4E51-B9A1-9AE1ED1E6635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3640" y="0"/>
            <a:ext cx="7056360" cy="7056360"/>
          </a:xfrm>
          <a:prstGeom prst="rect">
            <a:avLst/>
          </a:prstGeom>
          <a:ln w="0">
            <a:noFill/>
          </a:ln>
        </p:spPr>
      </p:pic>
      <p:cxnSp>
        <p:nvCxnSpPr>
          <p:cNvPr id="124" name="直接连接符 6"/>
          <p:cNvCxnSpPr/>
          <p:nvPr/>
        </p:nvCxnSpPr>
        <p:spPr>
          <a:xfrm>
            <a:off x="-396360" y="3717000"/>
            <a:ext cx="5256720" cy="360"/>
          </a:xfrm>
          <a:prstGeom prst="straightConnector1">
            <a:avLst/>
          </a:prstGeom>
          <a:ln w="28575">
            <a:solidFill>
              <a:srgbClr val="7f8fa9"/>
            </a:solidFill>
            <a:round/>
          </a:ln>
        </p:spPr>
      </p:cxnSp>
      <p:sp>
        <p:nvSpPr>
          <p:cNvPr id="125" name="TextBox 7"/>
          <p:cNvSpPr/>
          <p:nvPr/>
        </p:nvSpPr>
        <p:spPr>
          <a:xfrm>
            <a:off x="1186200" y="1942560"/>
            <a:ext cx="440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工作汇报简洁商务</a:t>
            </a:r>
            <a:r>
              <a:rPr b="1" lang="en-US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51880" y="3789000"/>
            <a:ext cx="1359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汇报人：</a:t>
            </a:r>
            <a:r>
              <a:rPr b="1" lang="en-US" sz="20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Administrator\Desktop\2196977_140348093_2.jpg"/>
          <p:cNvPicPr/>
          <p:nvPr/>
        </p:nvPicPr>
        <p:blipFill>
          <a:blip r:embed="rId1"/>
          <a:stretch/>
        </p:blipFill>
        <p:spPr>
          <a:xfrm>
            <a:off x="5393880" y="1052640"/>
            <a:ext cx="3731760" cy="5256360"/>
          </a:xfrm>
          <a:prstGeom prst="rect">
            <a:avLst/>
          </a:prstGeom>
          <a:ln w="0">
            <a:noFill/>
          </a:ln>
        </p:spPr>
      </p:pic>
      <p:sp>
        <p:nvSpPr>
          <p:cNvPr id="209" name="矩形 14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212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1547640" y="2718360"/>
            <a:ext cx="46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142236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 rot="10800000">
            <a:off x="5364360" y="1269000"/>
            <a:ext cx="2610720" cy="5144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2195640" y="2637000"/>
            <a:ext cx="3816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5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5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20" name="矩形 26"/>
          <p:cNvSpPr/>
          <p:nvPr/>
        </p:nvSpPr>
        <p:spPr>
          <a:xfrm>
            <a:off x="0" y="548640"/>
            <a:ext cx="2123280" cy="7196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223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547640" y="2718360"/>
            <a:ext cx="46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7"/>
          <p:cNvSpPr/>
          <p:nvPr/>
        </p:nvSpPr>
        <p:spPr>
          <a:xfrm>
            <a:off x="142236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"/>
          <p:cNvGrpSpPr/>
          <p:nvPr/>
        </p:nvGrpSpPr>
        <p:grpSpPr>
          <a:xfrm>
            <a:off x="5573880" y="1268640"/>
            <a:ext cx="3570120" cy="5256360"/>
            <a:chOff x="5573880" y="1268640"/>
            <a:chExt cx="3570120" cy="5256360"/>
          </a:xfrm>
        </p:grpSpPr>
        <p:pic>
          <p:nvPicPr>
            <p:cNvPr id="227" name="Picture 2" descr="C:\Users\Administrator\Desktop\2577733_154020018894_2.jpg"/>
            <p:cNvPicPr/>
            <p:nvPr/>
          </p:nvPicPr>
          <p:blipFill>
            <a:blip r:embed="rId2"/>
            <a:stretch/>
          </p:blipFill>
          <p:spPr>
            <a:xfrm flipH="1">
              <a:off x="5638320" y="1268640"/>
              <a:ext cx="350568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矩形 12"/>
            <p:cNvSpPr/>
            <p:nvPr/>
          </p:nvSpPr>
          <p:spPr>
            <a:xfrm rot="10800000">
              <a:off x="5573880" y="1269000"/>
              <a:ext cx="2610720" cy="5144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</p:grpSp>
      <p:sp>
        <p:nvSpPr>
          <p:cNvPr id="229" name="矩形 11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30" name="矩形 1"/>
          <p:cNvSpPr/>
          <p:nvPr/>
        </p:nvSpPr>
        <p:spPr>
          <a:xfrm>
            <a:off x="2195640" y="2637000"/>
            <a:ext cx="3816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5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348000" y="2074680"/>
            <a:ext cx="5795640" cy="3827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0" y="548640"/>
            <a:ext cx="2123280" cy="7196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37" name="矩形 21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3"/>
          <p:cNvSpPr/>
          <p:nvPr/>
        </p:nvSpPr>
        <p:spPr>
          <a:xfrm>
            <a:off x="3614040" y="1756080"/>
            <a:ext cx="1828440" cy="14472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828800" h="145142">
                <a:moveTo>
                  <a:pt x="0" y="145142"/>
                </a:moveTo>
                <a:lnTo>
                  <a:pt x="145142" y="0"/>
                </a:lnTo>
                <a:lnTo>
                  <a:pt x="1828800" y="0"/>
                </a:lnTo>
              </a:path>
            </a:pathLst>
          </a:custGeom>
          <a:noFill/>
          <a:ln w="19050"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39" name="剪去单角的矩形 24"/>
          <p:cNvSpPr/>
          <p:nvPr/>
        </p:nvSpPr>
        <p:spPr>
          <a:xfrm>
            <a:off x="0" y="2061000"/>
            <a:ext cx="3203640" cy="3816000"/>
          </a:xfrm>
          <a:prstGeom prst="snip1Rect">
            <a:avLst>
              <a:gd name="adj" fmla="val 16667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0" name="矩形 25"/>
          <p:cNvSpPr/>
          <p:nvPr/>
        </p:nvSpPr>
        <p:spPr>
          <a:xfrm>
            <a:off x="179640" y="2565000"/>
            <a:ext cx="295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7"/>
          <p:cNvSpPr/>
          <p:nvPr/>
        </p:nvSpPr>
        <p:spPr>
          <a:xfrm>
            <a:off x="4134600" y="14126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5640" y="-29520"/>
            <a:ext cx="2160000" cy="2092320"/>
          </a:xfrm>
          <a:prstGeom prst="rect">
            <a:avLst/>
          </a:prstGeom>
          <a:ln w="0">
            <a:noFill/>
          </a:ln>
        </p:spPr>
      </p:pic>
      <p:sp>
        <p:nvSpPr>
          <p:cNvPr id="243" name="椭圆 26"/>
          <p:cNvSpPr/>
          <p:nvPr/>
        </p:nvSpPr>
        <p:spPr>
          <a:xfrm>
            <a:off x="3060000" y="170064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8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5" name="矩形 39"/>
          <p:cNvSpPr/>
          <p:nvPr/>
        </p:nvSpPr>
        <p:spPr>
          <a:xfrm>
            <a:off x="0" y="548640"/>
            <a:ext cx="2123280" cy="7196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6" name="矩形 40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-217440" y="-315360"/>
            <a:ext cx="2773080" cy="26571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-756720" y="213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3659760" y="1412640"/>
            <a:ext cx="7392600" cy="4752000"/>
          </a:xfrm>
          <a:prstGeom prst="rect">
            <a:avLst/>
          </a:prstGeom>
          <a:ln w="0">
            <a:noFill/>
          </a:ln>
        </p:spPr>
      </p:pic>
      <p:sp>
        <p:nvSpPr>
          <p:cNvPr id="251" name="矩形 37"/>
          <p:cNvSpPr/>
          <p:nvPr/>
        </p:nvSpPr>
        <p:spPr>
          <a:xfrm rot="10800000">
            <a:off x="3636360" y="1269000"/>
            <a:ext cx="3240000" cy="504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2" name="椭圆 34"/>
          <p:cNvSpPr/>
          <p:nvPr/>
        </p:nvSpPr>
        <p:spPr>
          <a:xfrm>
            <a:off x="34200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35"/>
          <p:cNvSpPr/>
          <p:nvPr/>
        </p:nvSpPr>
        <p:spPr>
          <a:xfrm>
            <a:off x="342000" y="318564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6"/>
          <p:cNvSpPr/>
          <p:nvPr/>
        </p:nvSpPr>
        <p:spPr>
          <a:xfrm>
            <a:off x="342000" y="4293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115640" y="2052000"/>
            <a:ext cx="309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6"/>
          <p:cNvSpPr/>
          <p:nvPr/>
        </p:nvSpPr>
        <p:spPr>
          <a:xfrm>
            <a:off x="1115640" y="3213000"/>
            <a:ext cx="309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7"/>
          <p:cNvSpPr/>
          <p:nvPr/>
        </p:nvSpPr>
        <p:spPr>
          <a:xfrm>
            <a:off x="1115640" y="4356360"/>
            <a:ext cx="309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364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1099800" y="1772640"/>
            <a:ext cx="2238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谢谢聆听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896760" y="278100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这里输入公司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771840" y="3141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名字长就两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797400" y="3645000"/>
            <a:ext cx="12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汇报人：某某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直接连接符 3"/>
          <p:cNvCxnSpPr/>
          <p:nvPr/>
        </p:nvCxnSpPr>
        <p:spPr>
          <a:xfrm>
            <a:off x="-396360" y="2708640"/>
            <a:ext cx="3960360" cy="360"/>
          </a:xfrm>
          <a:prstGeom prst="straightConnector1">
            <a:avLst/>
          </a:prstGeom>
          <a:ln w="28575">
            <a:solidFill>
              <a:srgbClr val="5c99cf"/>
            </a:solidFill>
            <a:round/>
          </a:ln>
        </p:spPr>
      </p:cxn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图表 11"/>
          <p:cNvGraphicFramePr/>
          <p:nvPr/>
        </p:nvGraphicFramePr>
        <p:xfrm>
          <a:off x="539640" y="1484640"/>
          <a:ext cx="8064360" cy="4838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324720" y="-243360"/>
            <a:ext cx="2773080" cy="2657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5292000" y="2133000"/>
            <a:ext cx="3168000" cy="3027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"/>
          <p:cNvSpPr/>
          <p:nvPr/>
        </p:nvSpPr>
        <p:spPr>
          <a:xfrm flipH="1" rot="5691000">
            <a:off x="2655360" y="4494960"/>
            <a:ext cx="653760" cy="313920"/>
          </a:xfrm>
          <a:custGeom>
            <a:avLst/>
            <a:gdLst>
              <a:gd name="textAreaLeft" fmla="*/ 360 w 653760"/>
              <a:gd name="textAreaRight" fmla="*/ 654480 w 65376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2483640" y="4077000"/>
            <a:ext cx="914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37.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324720" y="-243360"/>
            <a:ext cx="2773080" cy="2657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3852000" y="2493000"/>
            <a:ext cx="4571640" cy="3027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9"/>
          <p:cNvSpPr/>
          <p:nvPr/>
        </p:nvSpPr>
        <p:spPr>
          <a:xfrm>
            <a:off x="3340080" y="3784680"/>
            <a:ext cx="1510920" cy="317160"/>
          </a:xfrm>
          <a:custGeom>
            <a:avLst/>
            <a:gdLst>
              <a:gd name="textAreaLeft" fmla="*/ 0 w 1510920"/>
              <a:gd name="textAreaRight" fmla="*/ 1511280 w 15109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511300" h="317500">
                <a:moveTo>
                  <a:pt x="0" y="0"/>
                </a:moveTo>
                <a:lnTo>
                  <a:pt x="406400" y="317500"/>
                </a:lnTo>
                <a:lnTo>
                  <a:pt x="1511300" y="317500"/>
                </a:lnTo>
              </a:path>
            </a:pathLst>
          </a:custGeom>
          <a:noFill/>
          <a:ln>
            <a:solidFill>
              <a:srgbClr val="297fd5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41" name="任意多边形 20"/>
          <p:cNvSpPr/>
          <p:nvPr/>
        </p:nvSpPr>
        <p:spPr>
          <a:xfrm>
            <a:off x="6804360" y="3784680"/>
            <a:ext cx="1510920" cy="317160"/>
          </a:xfrm>
          <a:custGeom>
            <a:avLst/>
            <a:gdLst>
              <a:gd name="textAreaLeft" fmla="*/ 0 w 1510920"/>
              <a:gd name="textAreaRight" fmla="*/ 1511280 w 15109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511300" h="317500">
                <a:moveTo>
                  <a:pt x="0" y="0"/>
                </a:moveTo>
                <a:lnTo>
                  <a:pt x="406400" y="317500"/>
                </a:lnTo>
                <a:lnTo>
                  <a:pt x="1511300" y="317500"/>
                </a:lnTo>
              </a:path>
            </a:pathLst>
          </a:custGeom>
          <a:noFill/>
          <a:ln>
            <a:solidFill>
              <a:srgbClr val="297fd5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42" name="图表 21"/>
          <p:cNvGraphicFramePr/>
          <p:nvPr/>
        </p:nvGraphicFramePr>
        <p:xfrm>
          <a:off x="683640" y="32850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43" name="图表 22"/>
          <p:cNvGraphicFramePr/>
          <p:nvPr/>
        </p:nvGraphicFramePr>
        <p:xfrm>
          <a:off x="4068000" y="33570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44" name="矩形 23"/>
          <p:cNvSpPr/>
          <p:nvPr/>
        </p:nvSpPr>
        <p:spPr>
          <a:xfrm>
            <a:off x="1765440" y="3429000"/>
            <a:ext cx="103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2431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4"/>
          <p:cNvSpPr/>
          <p:nvPr/>
        </p:nvSpPr>
        <p:spPr>
          <a:xfrm>
            <a:off x="5332680" y="3429000"/>
            <a:ext cx="103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6964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5"/>
          <p:cNvSpPr/>
          <p:nvPr/>
        </p:nvSpPr>
        <p:spPr>
          <a:xfrm>
            <a:off x="5729400" y="5076000"/>
            <a:ext cx="116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75108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6"/>
          <p:cNvSpPr/>
          <p:nvPr/>
        </p:nvSpPr>
        <p:spPr>
          <a:xfrm>
            <a:off x="2321640" y="5013000"/>
            <a:ext cx="116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27806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7"/>
          <p:cNvSpPr/>
          <p:nvPr/>
        </p:nvSpPr>
        <p:spPr>
          <a:xfrm>
            <a:off x="3608640" y="3789000"/>
            <a:ext cx="920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8.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8"/>
          <p:cNvSpPr/>
          <p:nvPr/>
        </p:nvSpPr>
        <p:spPr>
          <a:xfrm>
            <a:off x="7059240" y="3789000"/>
            <a:ext cx="920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9.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9"/>
          <p:cNvSpPr/>
          <p:nvPr/>
        </p:nvSpPr>
        <p:spPr>
          <a:xfrm>
            <a:off x="2406240" y="53013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0"/>
          <p:cNvSpPr/>
          <p:nvPr/>
        </p:nvSpPr>
        <p:spPr>
          <a:xfrm>
            <a:off x="5790600" y="5364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1"/>
          <p:cNvSpPr/>
          <p:nvPr/>
        </p:nvSpPr>
        <p:spPr>
          <a:xfrm>
            <a:off x="2060640" y="3141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2"/>
          <p:cNvSpPr/>
          <p:nvPr/>
        </p:nvSpPr>
        <p:spPr>
          <a:xfrm>
            <a:off x="5574600" y="3141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3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-324720" y="-243360"/>
            <a:ext cx="2773080" cy="2657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57" name="表格 1"/>
          <p:cNvGraphicFramePr/>
          <p:nvPr/>
        </p:nvGraphicFramePr>
        <p:xfrm>
          <a:off x="1763640" y="2277000"/>
          <a:ext cx="5616360" cy="2437560"/>
        </p:xfrm>
        <a:graphic>
          <a:graphicData uri="http://schemas.openxmlformats.org/drawingml/2006/table">
            <a:tbl>
              <a:tblPr/>
              <a:tblGrid>
                <a:gridCol w="1080000"/>
                <a:gridCol w="1680840"/>
                <a:gridCol w="1631160"/>
                <a:gridCol w="1224000"/>
              </a:tblGrid>
              <a:tr h="440280"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111600" marR="111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</a:tbl>
          </a:graphicData>
        </a:graphic>
      </p:graphicFrame>
      <p:sp>
        <p:nvSpPr>
          <p:cNvPr id="158" name="矩形 10"/>
          <p:cNvSpPr/>
          <p:nvPr/>
        </p:nvSpPr>
        <p:spPr>
          <a:xfrm>
            <a:off x="1763640" y="4851360"/>
            <a:ext cx="5616360" cy="3027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2051640" y="1412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三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2267640" y="548640"/>
            <a:ext cx="687600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0" y="548640"/>
            <a:ext cx="2123280" cy="7196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324720" y="-243360"/>
            <a:ext cx="2773080" cy="2657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2051640" y="1412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四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表格 6"/>
          <p:cNvGraphicFramePr/>
          <p:nvPr/>
        </p:nvGraphicFramePr>
        <p:xfrm>
          <a:off x="1762200" y="1989360"/>
          <a:ext cx="7130160" cy="3747240"/>
        </p:xfrm>
        <a:graphic>
          <a:graphicData uri="http://schemas.openxmlformats.org/drawingml/2006/table">
            <a:tbl>
              <a:tblPr/>
              <a:tblGrid>
                <a:gridCol w="714960"/>
                <a:gridCol w="714960"/>
                <a:gridCol w="714960"/>
                <a:gridCol w="714600"/>
                <a:gridCol w="714600"/>
                <a:gridCol w="714600"/>
                <a:gridCol w="714600"/>
                <a:gridCol w="714600"/>
                <a:gridCol w="714600"/>
                <a:gridCol w="696600"/>
              </a:tblGrid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8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deed"/>
                    </a:solidFill>
                  </a:tcPr>
                </a:tc>
              </a:tr>
              <a:tr h="288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Book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eff6"/>
                    </a:solidFill>
                  </a:tcPr>
                </a:tc>
              </a:tr>
            </a:tbl>
          </a:graphicData>
        </a:graphic>
      </p:graphicFrame>
      <p:sp>
        <p:nvSpPr>
          <p:cNvPr id="167" name="矩形 9"/>
          <p:cNvSpPr/>
          <p:nvPr/>
        </p:nvSpPr>
        <p:spPr>
          <a:xfrm>
            <a:off x="249840" y="1989000"/>
            <a:ext cx="1367640" cy="3027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9" name="矩形 11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732360" y="1628640"/>
            <a:ext cx="2199960" cy="468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73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9"/>
          <p:cNvGrpSpPr/>
          <p:nvPr/>
        </p:nvGrpSpPr>
        <p:grpSpPr>
          <a:xfrm>
            <a:off x="6300360" y="1989000"/>
            <a:ext cx="647640" cy="2206440"/>
            <a:chOff x="6300360" y="1989000"/>
            <a:chExt cx="647640" cy="2206440"/>
          </a:xfrm>
        </p:grpSpPr>
        <p:sp>
          <p:nvSpPr>
            <p:cNvPr id="175" name="TextBox 11"/>
            <p:cNvSpPr/>
            <p:nvPr/>
          </p:nvSpPr>
          <p:spPr>
            <a:xfrm>
              <a:off x="6425640" y="2718360"/>
              <a:ext cx="4611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2060"/>
                  </a:solidFill>
                  <a:latin typeface="Franklin Gothic Book"/>
                  <a:ea typeface="微软雅黑"/>
                </a:rPr>
                <a:t>这里输入要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2"/>
            <p:cNvSpPr/>
            <p:nvPr/>
          </p:nvSpPr>
          <p:spPr>
            <a:xfrm>
              <a:off x="6300360" y="1989000"/>
              <a:ext cx="647640" cy="647640"/>
            </a:xfrm>
            <a:prstGeom prst="ellipse">
              <a:avLst/>
            </a:prstGeom>
            <a:solidFill>
              <a:schemeClr val="bg2"/>
            </a:solidFill>
            <a:ln>
              <a:solidFill>
                <a:srgbClr val="48749a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chemeClr val="lt1"/>
                  </a:solidFill>
                  <a:latin typeface="Broadway"/>
                  <a:ea typeface="微软雅黑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13"/>
          <p:cNvSpPr/>
          <p:nvPr/>
        </p:nvSpPr>
        <p:spPr>
          <a:xfrm>
            <a:off x="413640" y="1989000"/>
            <a:ext cx="5598000" cy="13064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79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068000" y="1472760"/>
            <a:ext cx="4929480" cy="4620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83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6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390120" y="2718360"/>
            <a:ext cx="46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7"/>
          <p:cNvSpPr/>
          <p:nvPr/>
        </p:nvSpPr>
        <p:spPr>
          <a:xfrm>
            <a:off x="329400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395640" y="2709000"/>
            <a:ext cx="2736000" cy="8197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 rot="1581000">
            <a:off x="6984000" y="2881440"/>
            <a:ext cx="127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团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204000" y="2061000"/>
            <a:ext cx="5939640" cy="4332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192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 rot="10800000">
            <a:off x="3204360" y="1973520"/>
            <a:ext cx="4320000" cy="446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611640" y="2718360"/>
            <a:ext cx="46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属于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2"/>
          <p:cNvSpPr/>
          <p:nvPr/>
        </p:nvSpPr>
        <p:spPr>
          <a:xfrm>
            <a:off x="48600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5"/>
          <p:cNvSpPr/>
          <p:nvPr/>
        </p:nvSpPr>
        <p:spPr>
          <a:xfrm>
            <a:off x="0" y="6309360"/>
            <a:ext cx="9143640" cy="719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97" name="矩形 17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"/>
          <p:cNvSpPr/>
          <p:nvPr/>
        </p:nvSpPr>
        <p:spPr>
          <a:xfrm>
            <a:off x="1403640" y="2056680"/>
            <a:ext cx="2736000" cy="8197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324720" y="-236520"/>
            <a:ext cx="2779200" cy="26571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  <a:ea typeface="微软雅黑"/>
            </a:endParaRPr>
          </a:p>
        </p:txBody>
      </p:sp>
      <p:sp>
        <p:nvSpPr>
          <p:cNvPr id="201" name="矩形 33"/>
          <p:cNvSpPr/>
          <p:nvPr/>
        </p:nvSpPr>
        <p:spPr>
          <a:xfrm>
            <a:off x="2051640" y="1412640"/>
            <a:ext cx="66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611640" y="2718360"/>
            <a:ext cx="46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486000" y="1989000"/>
            <a:ext cx="647640" cy="647640"/>
          </a:xfrm>
          <a:prstGeom prst="ellipse">
            <a:avLst/>
          </a:prstGeom>
          <a:solidFill>
            <a:schemeClr val="bg2"/>
          </a:solidFill>
          <a:ln>
            <a:solidFill>
              <a:srgbClr val="48749a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Broadway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259640" y="2637000"/>
            <a:ext cx="2592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1259640" y="204156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590720" cy="3447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207" name="矩形 12"/>
          <p:cNvSpPr/>
          <p:nvPr/>
        </p:nvSpPr>
        <p:spPr>
          <a:xfrm>
            <a:off x="3007080" y="620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  <Words>97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21:53Z</dcterms:created>
  <dc:creator>www.pptbz.com</dc:creator>
  <dc:description/>
  <dc:language>en-US</dc:language>
  <cp:lastModifiedBy>a</cp:lastModifiedBy>
  <dcterms:modified xsi:type="dcterms:W3CDTF">2015-07-25T11:57:42Z</dcterms:modified>
  <cp:revision>1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4</vt:r8>
  </property>
</Properties>
</file>