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766-534A-4927-85CC-B3F49AAE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386-384F-453C-A2A7-9F2D597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BA4-1211-4D79-AD0C-573534FE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925-F3DE-44E9-8A71-E8B460EA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B9A-0940-453D-9666-AE118754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911-D464-4089-86B1-33533F9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56E-2BBA-470E-ABB5-A2C5F37E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58E-BD2B-4715-AC3F-D83B05D3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40D-2468-43B7-95D9-175CA7EC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981-7642-467C-8DBF-A286A8E7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4D5-0BB8-4C7F-A74E-E4F5088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228-74B1-4EA1-899D-10742296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6372720" y="112392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0907B3-B5D9-45D1-85CB-A243E4DA968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2200" y="835920"/>
            <a:ext cx="835560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真广标"/>
                <a:ea typeface="汉真广标"/>
              </a:rPr>
              <a:t>绘画通用</a:t>
            </a:r>
            <a:r>
              <a:rPr b="1" lang="en-US" sz="4000" spc="-1" strike="noStrike">
                <a:solidFill>
                  <a:srgbClr val="000000"/>
                </a:solidFill>
                <a:latin typeface="汉真广标"/>
                <a:ea typeface="汉真广标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汉真广标"/>
                <a:ea typeface="汉真广标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8400240" y="0"/>
            <a:ext cx="7272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569880" y="-69840"/>
            <a:ext cx="822780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9160" y="1785960"/>
            <a:ext cx="3214440" cy="4142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irst is in the knowled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conom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ime,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as satisfied in the mater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mand situation, the peop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tart to pursue own individua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velopment and the emo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mand gradually, the desig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ust have emphatically to car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consideration to human'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motion dem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715320" y="1785960"/>
            <a:ext cx="4569840" cy="4142880"/>
            <a:chOff x="715320" y="1785960"/>
            <a:chExt cx="4569840" cy="4142880"/>
          </a:xfrm>
        </p:grpSpPr>
        <p:sp>
          <p:nvSpPr>
            <p:cNvPr id="48" name="AutoShape 5"/>
            <p:cNvSpPr/>
            <p:nvPr/>
          </p:nvSpPr>
          <p:spPr>
            <a:xfrm>
              <a:off x="715320" y="1785960"/>
              <a:ext cx="1493280" cy="41428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715320" y="3443400"/>
              <a:ext cx="149328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2560" rIns="412560" tIns="412560" bIns="412560" anchor="ctr">
              <a:noAutofit/>
            </a:bodyPr>
            <a:p>
              <a:pPr algn="ctr">
                <a:lnSpc>
                  <a:spcPct val="90000"/>
                </a:lnSpc>
                <a:spcAft>
                  <a:spcPts val="2030"/>
                </a:spcAft>
              </a:pPr>
              <a:r>
                <a:rPr b="0" lang="en-US" sz="5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7"/>
            <p:cNvSpPr/>
            <p:nvPr/>
          </p:nvSpPr>
          <p:spPr>
            <a:xfrm>
              <a:off x="772200" y="2034720"/>
              <a:ext cx="1379520" cy="1379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" name="AutoShape 8"/>
            <p:cNvSpPr/>
            <p:nvPr/>
          </p:nvSpPr>
          <p:spPr>
            <a:xfrm>
              <a:off x="2253600" y="1785960"/>
              <a:ext cx="1493280" cy="41428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2253600" y="3443400"/>
              <a:ext cx="149328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2560" rIns="412560" tIns="412560" bIns="412560" anchor="ctr">
              <a:noAutofit/>
            </a:bodyPr>
            <a:p>
              <a:pPr algn="ctr">
                <a:lnSpc>
                  <a:spcPct val="90000"/>
                </a:lnSpc>
                <a:spcAft>
                  <a:spcPts val="2030"/>
                </a:spcAft>
              </a:pPr>
              <a:r>
                <a:rPr b="0" lang="en-US" sz="5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2310480" y="2034720"/>
              <a:ext cx="1379520" cy="13795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" name="AutoShape 11"/>
            <p:cNvSpPr/>
            <p:nvPr/>
          </p:nvSpPr>
          <p:spPr>
            <a:xfrm>
              <a:off x="3791880" y="1785960"/>
              <a:ext cx="1493280" cy="41428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3791880" y="3443400"/>
              <a:ext cx="149328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2560" rIns="412560" tIns="412560" bIns="412560" anchor="ctr">
              <a:noAutofit/>
            </a:bodyPr>
            <a:p>
              <a:pPr algn="ctr">
                <a:lnSpc>
                  <a:spcPct val="90000"/>
                </a:lnSpc>
                <a:spcAft>
                  <a:spcPts val="2030"/>
                </a:spcAft>
              </a:pPr>
              <a:r>
                <a:rPr b="0" lang="en-US" sz="5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3848760" y="2034720"/>
              <a:ext cx="1379520" cy="1379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" name="AutoShape 14"/>
            <p:cNvSpPr/>
            <p:nvPr/>
          </p:nvSpPr>
          <p:spPr>
            <a:xfrm>
              <a:off x="897120" y="5100480"/>
              <a:ext cx="4205880" cy="621000"/>
            </a:xfrm>
            <a:prstGeom prst="leftRightArrow">
              <a:avLst>
                <a:gd name="adj1" fmla="val 50000"/>
                <a:gd name="adj2" fmla="val 49975"/>
              </a:avLst>
            </a:prstGeom>
            <a:solidFill>
              <a:srgbClr val="e8cecf"/>
            </a:solidFill>
            <a:ln w="2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641520" y="0"/>
            <a:ext cx="82278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572400" y="2408040"/>
            <a:ext cx="4212720" cy="2970360"/>
            <a:chOff x="572400" y="2408040"/>
            <a:chExt cx="4212720" cy="2970360"/>
          </a:xfrm>
        </p:grpSpPr>
        <p:sp>
          <p:nvSpPr>
            <p:cNvPr id="60" name="Oval 4"/>
            <p:cNvSpPr/>
            <p:nvPr/>
          </p:nvSpPr>
          <p:spPr>
            <a:xfrm>
              <a:off x="2013840" y="4048560"/>
              <a:ext cx="1329840" cy="1329840"/>
            </a:xfrm>
            <a:prstGeom prst="ellipse">
              <a:avLst/>
            </a:prstGeom>
            <a:solidFill>
              <a:srgbClr val="4f81bd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013840" y="4048560"/>
              <a:ext cx="1329840" cy="13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38880" bIns="38880" anchor="ctr">
              <a:noAutofit/>
            </a:bodyPr>
            <a:p>
              <a:pPr algn="ctr">
                <a:lnSpc>
                  <a:spcPct val="90000"/>
                </a:lnSpc>
                <a:spcAft>
                  <a:spcPts val="2134"/>
                </a:spcAft>
              </a:pPr>
              <a:r>
                <a:rPr b="0" lang="en-US" sz="6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q</a:t>
              </a: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 rot="12900000">
              <a:off x="1107360" y="3799440"/>
              <a:ext cx="1072080" cy="378720"/>
            </a:xfrm>
            <a:prstGeom prst="leftArrow">
              <a:avLst>
                <a:gd name="adj1" fmla="val 60000"/>
                <a:gd name="adj2" fmla="val 49990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" name="AutoShape 7"/>
            <p:cNvSpPr/>
            <p:nvPr/>
          </p:nvSpPr>
          <p:spPr>
            <a:xfrm>
              <a:off x="572400" y="3175560"/>
              <a:ext cx="1263600" cy="101052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572400" y="3175560"/>
              <a:ext cx="1263600" cy="10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100800" bIns="100800" anchor="ctr">
              <a:noAutofit/>
            </a:bodyPr>
            <a:p>
              <a:pPr algn="ctr">
                <a:lnSpc>
                  <a:spcPct val="90000"/>
                </a:lnSpc>
                <a:spcAft>
                  <a:spcPts val="1854"/>
                </a:spcAft>
              </a:pPr>
              <a:r>
                <a:rPr b="0" lang="en-US" sz="53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q</a:t>
              </a:r>
              <a:endParaRPr b="0" lang="en-US" sz="5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9"/>
            <p:cNvSpPr/>
            <p:nvPr/>
          </p:nvSpPr>
          <p:spPr>
            <a:xfrm rot="16200000">
              <a:off x="2142720" y="3260520"/>
              <a:ext cx="1072080" cy="378720"/>
            </a:xfrm>
            <a:prstGeom prst="leftArrow">
              <a:avLst>
                <a:gd name="adj1" fmla="val 60000"/>
                <a:gd name="adj2" fmla="val 49990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" name="AutoShape 10"/>
            <p:cNvSpPr/>
            <p:nvPr/>
          </p:nvSpPr>
          <p:spPr>
            <a:xfrm>
              <a:off x="2046960" y="2408040"/>
              <a:ext cx="1263600" cy="10105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2046960" y="2408040"/>
              <a:ext cx="1263600" cy="10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100800" bIns="100800" anchor="ctr">
              <a:noAutofit/>
            </a:bodyPr>
            <a:p>
              <a:pPr algn="ctr">
                <a:lnSpc>
                  <a:spcPct val="90000"/>
                </a:lnSpc>
                <a:spcAft>
                  <a:spcPts val="1854"/>
                </a:spcAft>
              </a:pPr>
              <a:r>
                <a:rPr b="0" lang="en-US" sz="53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q</a:t>
              </a:r>
              <a:endParaRPr b="0" lang="en-US" sz="5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2"/>
            <p:cNvSpPr/>
            <p:nvPr/>
          </p:nvSpPr>
          <p:spPr>
            <a:xfrm rot="19500000">
              <a:off x="3177720" y="3799080"/>
              <a:ext cx="1072080" cy="378720"/>
            </a:xfrm>
            <a:prstGeom prst="leftArrow">
              <a:avLst>
                <a:gd name="adj1" fmla="val 60000"/>
                <a:gd name="adj2" fmla="val 49990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" name="AutoShape 13"/>
            <p:cNvSpPr/>
            <p:nvPr/>
          </p:nvSpPr>
          <p:spPr>
            <a:xfrm>
              <a:off x="3521520" y="3175560"/>
              <a:ext cx="1263600" cy="101052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" name="Rectangle 14"/>
            <p:cNvSpPr/>
            <p:nvPr/>
          </p:nvSpPr>
          <p:spPr>
            <a:xfrm>
              <a:off x="3521520" y="3175560"/>
              <a:ext cx="1263600" cy="10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100800" bIns="100800" anchor="ctr">
              <a:noAutofit/>
            </a:bodyPr>
            <a:p>
              <a:pPr algn="ctr">
                <a:lnSpc>
                  <a:spcPct val="90000"/>
                </a:lnSpc>
                <a:spcAft>
                  <a:spcPts val="1854"/>
                </a:spcAft>
              </a:pPr>
              <a:r>
                <a:rPr b="0" lang="en-US" sz="53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q</a:t>
              </a:r>
              <a:endParaRPr b="0" lang="en-US" sz="5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14960" y="2286000"/>
            <a:ext cx="3499920" cy="328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irst is in the knowled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conom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ime,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as satisfied in the mater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mand situation, the peop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tart to pursue own individua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velopment and the emo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mand gradually, the desig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ust have emphatically to car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consideration to human'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motion dem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占位符 8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2071440" cy="2071440"/>
          </a:xfrm>
          <a:prstGeom prst="rect">
            <a:avLst/>
          </a:prstGeom>
          <a:ln w="0">
            <a:solidFill>
              <a:srgbClr val="c2d59b"/>
            </a:solidFill>
          </a:ln>
        </p:spPr>
      </p:pic>
      <p:pic>
        <p:nvPicPr>
          <p:cNvPr id="73" name="图片占位符 9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2071440" cy="2071440"/>
          </a:xfrm>
          <a:prstGeom prst="rect">
            <a:avLst/>
          </a:prstGeom>
          <a:ln w="0">
            <a:solidFill>
              <a:srgbClr val="c2d59b"/>
            </a:solidFill>
          </a:ln>
        </p:spPr>
      </p:pic>
      <p:pic>
        <p:nvPicPr>
          <p:cNvPr id="74" name="图片占位符 10" descr=""/>
          <p:cNvPicPr/>
          <p:nvPr/>
        </p:nvPicPr>
        <p:blipFill>
          <a:blip r:embed="rId3"/>
          <a:stretch/>
        </p:blipFill>
        <p:spPr>
          <a:xfrm>
            <a:off x="642960" y="3857760"/>
            <a:ext cx="2071440" cy="2071440"/>
          </a:xfrm>
          <a:prstGeom prst="rect">
            <a:avLst/>
          </a:prstGeom>
          <a:ln w="0">
            <a:solidFill>
              <a:srgbClr val="c2d59b"/>
            </a:solidFill>
          </a:ln>
        </p:spPr>
      </p:pic>
      <p:pic>
        <p:nvPicPr>
          <p:cNvPr id="75" name="图片占位符 11" descr=""/>
          <p:cNvPicPr/>
          <p:nvPr/>
        </p:nvPicPr>
        <p:blipFill>
          <a:blip r:embed="rId4"/>
          <a:stretch/>
        </p:blipFill>
        <p:spPr>
          <a:xfrm>
            <a:off x="2786040" y="3857760"/>
            <a:ext cx="2071440" cy="2071440"/>
          </a:xfrm>
          <a:prstGeom prst="rect">
            <a:avLst/>
          </a:prstGeom>
          <a:ln w="0">
            <a:solidFill>
              <a:srgbClr val="c2d59b"/>
            </a:solidFill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784080" y="0"/>
            <a:ext cx="82278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14960" y="2071800"/>
            <a:ext cx="3499920" cy="335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s in the knowled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onom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,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satisfied in the mater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and situation, the peop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 to pursue own individua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and the emo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and gradually, the desig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 have emphatically to car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consideration to human'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otion dem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22200" y="6489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927000" y="5143680"/>
            <a:ext cx="82278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adbcd8"/>
                </a:solidFill>
                <a:latin typeface="汉真广标"/>
                <a:ea typeface="汉真广标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263</Words>
  <Characters>0</Characters>
  <CharactersWithSpaces>0</CharactersWithSpace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14:20:32Z</dcterms:created>
  <dc:creator>Administrator</dc:creator>
  <dc:description/>
  <dc:language>en-US</dc:language>
  <cp:lastModifiedBy>王玉清</cp:lastModifiedBy>
  <cp:lastPrinted>1899-12-30T00:00:00Z</cp:lastPrinted>
  <dcterms:modified xsi:type="dcterms:W3CDTF">2016-02-21T03:47:40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  <property fmtid="{D5CDD505-2E9C-101B-9397-08002B2CF9AE}" pid="3" name="PresentationFormat">
    <vt:lpwstr>全屏显示(4:3)</vt:lpwstr>
  </property>
  <property fmtid="{D5CDD505-2E9C-101B-9397-08002B2CF9AE}" pid="4" name="Slides">
    <vt:r8>5</vt:r8>
  </property>
</Properties>
</file>