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A80-42AE-4127-8721-71691568A3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B68D-AE68-44A0-AE5C-5F9B322362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FF04-E4AC-4794-809D-7D34F56FC0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42E-7AC9-4D8F-B6E8-A2B932F7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3B4-4C78-4F42-9337-2805EA2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BF2-0B2D-48AD-8E99-6D3C6DFF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35D-3653-47E6-90EE-BA11BFE1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D2A-6488-432D-B566-1B6AD05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048-ACB7-4086-A2D0-9C62C61D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E1B-8E6E-4E3D-9BB0-43ADCFEC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6BF-BB65-4C04-BE91-06D5903B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D2C-A63D-46C7-82CC-04E695B6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47B-AA3E-428E-BBD8-96D562AA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294-36B5-4AAB-953D-F07526D0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711-67EB-48AD-931D-3430E03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41F-5C42-4C34-B288-B413A620E1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" descr="2.png"/>
          <p:cNvPicPr/>
          <p:nvPr/>
        </p:nvPicPr>
        <p:blipFill>
          <a:blip r:embed="rId2"/>
          <a:srcRect l="0" t="0" r="0" b="8987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5" descr="3.png"/>
          <p:cNvPicPr/>
          <p:nvPr/>
        </p:nvPicPr>
        <p:blipFill>
          <a:blip r:embed="rId3"/>
          <a:stretch/>
        </p:blipFill>
        <p:spPr>
          <a:xfrm>
            <a:off x="1428840" y="4002120"/>
            <a:ext cx="2905200" cy="2212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6" descr="4.png"/>
          <p:cNvPicPr/>
          <p:nvPr/>
        </p:nvPicPr>
        <p:blipFill>
          <a:blip r:embed="rId4"/>
          <a:stretch/>
        </p:blipFill>
        <p:spPr>
          <a:xfrm>
            <a:off x="1928880" y="4521240"/>
            <a:ext cx="3946320" cy="19080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6" descr="4.png"/>
          <p:cNvPicPr/>
          <p:nvPr/>
        </p:nvPicPr>
        <p:blipFill>
          <a:blip r:embed="rId5"/>
          <a:srcRect l="23437" t="63386" r="32177" b="5207"/>
          <a:stretch/>
        </p:blipFill>
        <p:spPr>
          <a:xfrm>
            <a:off x="2143080" y="4375080"/>
            <a:ext cx="3737160" cy="19828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5.png"/>
          <p:cNvPicPr/>
          <p:nvPr/>
        </p:nvPicPr>
        <p:blipFill>
          <a:blip r:embed="rId6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8" descr="6.png"/>
          <p:cNvPicPr/>
          <p:nvPr/>
        </p:nvPicPr>
        <p:blipFill>
          <a:blip r:embed="rId7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" descr="7.png"/>
          <p:cNvPicPr/>
          <p:nvPr/>
        </p:nvPicPr>
        <p:blipFill>
          <a:blip r:embed="rId8"/>
          <a:stretch/>
        </p:blipFill>
        <p:spPr>
          <a:xfrm>
            <a:off x="0" y="2643120"/>
            <a:ext cx="3071880" cy="42148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0" descr="8.png"/>
          <p:cNvPicPr/>
          <p:nvPr/>
        </p:nvPicPr>
        <p:blipFill>
          <a:blip r:embed="rId9"/>
          <a:stretch/>
        </p:blipFill>
        <p:spPr>
          <a:xfrm>
            <a:off x="0" y="464328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1" descr="9.png"/>
          <p:cNvPicPr/>
          <p:nvPr/>
        </p:nvPicPr>
        <p:blipFill>
          <a:blip r:embed="rId10"/>
          <a:stretch/>
        </p:blipFill>
        <p:spPr>
          <a:xfrm>
            <a:off x="4572000" y="0"/>
            <a:ext cx="4572000" cy="39290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2" descr="10.png"/>
          <p:cNvPicPr/>
          <p:nvPr/>
        </p:nvPicPr>
        <p:blipFill>
          <a:blip r:embed="rId11"/>
          <a:srcRect l="58594" t="0" r="0" b="55213"/>
          <a:stretch/>
        </p:blipFill>
        <p:spPr>
          <a:xfrm>
            <a:off x="5357880" y="0"/>
            <a:ext cx="3786120" cy="30718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3" descr="11.png"/>
          <p:cNvPicPr/>
          <p:nvPr/>
        </p:nvPicPr>
        <p:blipFill>
          <a:blip r:embed="rId12"/>
          <a:stretch/>
        </p:blipFill>
        <p:spPr>
          <a:xfrm>
            <a:off x="7786800" y="4071960"/>
            <a:ext cx="1500120" cy="17859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5"/>
          <p:cNvSpPr/>
          <p:nvPr/>
        </p:nvSpPr>
        <p:spPr>
          <a:xfrm>
            <a:off x="5329800" y="4429080"/>
            <a:ext cx="2737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暖了，花开了，碧水庭院，该买了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在繁华都市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居住，我更喜欢安静点的地方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那种离尘不离城的悠然空间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种繁华之外的宁静生活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春暖花开的日子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民心河畔邂逅碧水庭院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年的居住理想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此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清晰的图象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7" descr="5.png"/>
          <p:cNvPicPr/>
          <p:nvPr/>
        </p:nvPicPr>
        <p:blipFill>
          <a:blip r:embed="rId1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8" descr="5.png"/>
          <p:cNvPicPr/>
          <p:nvPr/>
        </p:nvPicPr>
        <p:blipFill>
          <a:blip r:embed="rId1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1"/>
          <p:cNvSpPr/>
          <p:nvPr/>
        </p:nvSpPr>
        <p:spPr>
          <a:xfrm>
            <a:off x="5357880" y="6383160"/>
            <a:ext cx="37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中秋专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2064960" y="6145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塘月色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9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" fill="hold">
                                          <p:stCondLst>
                                            <p:cond delay="81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4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2.96296E-006 C 0.07049 -0.05 0.13421 -0.08334 0.23455 -0.03056 C 0.23455 -0.03033 0.29792 0.03333 0.40018 0.03889 C 0.49202 0.03611 0.58056 -0.03079 0.58056 -0.03056 C 0.62379 -0.04746 0.64063 -0.03611 0.66146 -0.00533 E">
                                      <p:cBhvr>
                                        <p:cTn id="45" dur="18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47" dur="17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4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6643800" y="45720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785880" y="1828800"/>
            <a:ext cx="7215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唐朝，最富有传奇色彩的就是游夜宫的传说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相传唐玄宗与申天师及道士鸿都中秋望月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玄宗兴起游月宫之念，于是天师作法，三人一起步上青云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漫游月宫，但宫前有守卫森严，无法进入，只能在外俯瞰长安皇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此之际，忽闻仙声阵阵，清丽奇绝，宛转动人！唐玄宗素来熟通音律，于是默记心中。这正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此曲只应天上有，人间哪得几回闻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后玄宗回忆月宫仙娥的音乐歌声，自己又谱曲编舞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便是历史上有名的“霓裳羽衣曲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52"/>
          <p:cNvGrpSpPr/>
          <p:nvPr/>
        </p:nvGrpSpPr>
        <p:grpSpPr>
          <a:xfrm>
            <a:off x="1143000" y="2000160"/>
            <a:ext cx="6429240" cy="719280"/>
            <a:chOff x="1143000" y="2000160"/>
            <a:chExt cx="6429240" cy="719280"/>
          </a:xfrm>
        </p:grpSpPr>
        <p:grpSp>
          <p:nvGrpSpPr>
            <p:cNvPr id="185" name="组合 26"/>
            <p:cNvGrpSpPr/>
            <p:nvPr/>
          </p:nvGrpSpPr>
          <p:grpSpPr>
            <a:xfrm>
              <a:off x="1143000" y="2000160"/>
              <a:ext cx="6429240" cy="719280"/>
              <a:chOff x="1143000" y="2000160"/>
              <a:chExt cx="6429240" cy="719280"/>
            </a:xfrm>
          </p:grpSpPr>
          <p:sp>
            <p:nvSpPr>
              <p:cNvPr id="186" name="AutoShape 3"/>
              <p:cNvSpPr/>
              <p:nvPr/>
            </p:nvSpPr>
            <p:spPr>
              <a:xfrm>
                <a:off x="1144440" y="2000160"/>
                <a:ext cx="642636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acc6"/>
                  </a:gs>
                  <a:gs pos="100000">
                    <a:srgbClr val="215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3"/>
              <p:cNvSpPr/>
              <p:nvPr/>
            </p:nvSpPr>
            <p:spPr>
              <a:xfrm>
                <a:off x="1143000" y="2089080"/>
                <a:ext cx="6429240" cy="54144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TextBox 38"/>
            <p:cNvSpPr/>
            <p:nvPr/>
          </p:nvSpPr>
          <p:spPr>
            <a:xfrm>
              <a:off x="2788920" y="2175120"/>
              <a:ext cx="31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51"/>
          <p:cNvGrpSpPr/>
          <p:nvPr/>
        </p:nvGrpSpPr>
        <p:grpSpPr>
          <a:xfrm>
            <a:off x="1143000" y="3139920"/>
            <a:ext cx="6429240" cy="719280"/>
            <a:chOff x="1143000" y="3139920"/>
            <a:chExt cx="6429240" cy="719280"/>
          </a:xfrm>
        </p:grpSpPr>
        <p:grpSp>
          <p:nvGrpSpPr>
            <p:cNvPr id="190" name="组合 42"/>
            <p:cNvGrpSpPr/>
            <p:nvPr/>
          </p:nvGrpSpPr>
          <p:grpSpPr>
            <a:xfrm>
              <a:off x="1143000" y="3139920"/>
              <a:ext cx="6429240" cy="719280"/>
              <a:chOff x="1143000" y="3139920"/>
              <a:chExt cx="6429240" cy="719280"/>
            </a:xfrm>
          </p:grpSpPr>
          <p:sp>
            <p:nvSpPr>
              <p:cNvPr id="191" name="AutoShape 3"/>
              <p:cNvSpPr/>
              <p:nvPr/>
            </p:nvSpPr>
            <p:spPr>
              <a:xfrm>
                <a:off x="1144440" y="3139920"/>
                <a:ext cx="642636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acc6"/>
                  </a:gs>
                  <a:gs pos="100000">
                    <a:srgbClr val="215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3"/>
              <p:cNvSpPr/>
              <p:nvPr/>
            </p:nvSpPr>
            <p:spPr>
              <a:xfrm>
                <a:off x="1143000" y="3228840"/>
                <a:ext cx="6429240" cy="54144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Box 45"/>
            <p:cNvSpPr/>
            <p:nvPr/>
          </p:nvSpPr>
          <p:spPr>
            <a:xfrm>
              <a:off x="2788920" y="3314880"/>
              <a:ext cx="31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50"/>
          <p:cNvGrpSpPr/>
          <p:nvPr/>
        </p:nvGrpSpPr>
        <p:grpSpPr>
          <a:xfrm>
            <a:off x="1143000" y="4290840"/>
            <a:ext cx="6429240" cy="719280"/>
            <a:chOff x="1143000" y="4290840"/>
            <a:chExt cx="6429240" cy="719280"/>
          </a:xfrm>
        </p:grpSpPr>
        <p:grpSp>
          <p:nvGrpSpPr>
            <p:cNvPr id="195" name="组合 46"/>
            <p:cNvGrpSpPr/>
            <p:nvPr/>
          </p:nvGrpSpPr>
          <p:grpSpPr>
            <a:xfrm>
              <a:off x="1143000" y="4290840"/>
              <a:ext cx="6429240" cy="719280"/>
              <a:chOff x="1143000" y="4290840"/>
              <a:chExt cx="6429240" cy="719280"/>
            </a:xfrm>
          </p:grpSpPr>
          <p:sp>
            <p:nvSpPr>
              <p:cNvPr id="196" name="AutoShape 3"/>
              <p:cNvSpPr/>
              <p:nvPr/>
            </p:nvSpPr>
            <p:spPr>
              <a:xfrm>
                <a:off x="1144440" y="4290840"/>
                <a:ext cx="642636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acc6"/>
                  </a:gs>
                  <a:gs pos="100000">
                    <a:srgbClr val="215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>
                <a:off x="1143000" y="4379760"/>
                <a:ext cx="6429240" cy="54144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49"/>
            <p:cNvSpPr/>
            <p:nvPr/>
          </p:nvSpPr>
          <p:spPr>
            <a:xfrm>
              <a:off x="2788920" y="4465800"/>
              <a:ext cx="31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1"/>
          <p:cNvSpPr/>
          <p:nvPr/>
        </p:nvSpPr>
        <p:spPr>
          <a:xfrm>
            <a:off x="6643800" y="45720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6643800" y="38592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1.png"/>
          <p:cNvPicPr/>
          <p:nvPr/>
        </p:nvPicPr>
        <p:blipFill>
          <a:blip r:embed="rId1"/>
          <a:stretch/>
        </p:blipFill>
        <p:spPr>
          <a:xfrm>
            <a:off x="1384200" y="1042920"/>
            <a:ext cx="5911920" cy="3962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1357200" y="507204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朝末年，汉人打算起来反抗蒙古人的统治，却苦于无从传递消息。后来刘伯温想出一条计策，到处散布流言，说有冬瘟流行，除非家家户户都在中秋节买月饼来吃，才能避免。人们买了月饼回到家中，发觉里面藏着纸条，上面写着：“中秋夜，杀鞑子，迎义军！” 于是众人纷纷起义反抗统治者，中秋节吃月饼的习俗就是这样留下来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6235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" descr="2.png"/>
          <p:cNvPicPr/>
          <p:nvPr/>
        </p:nvPicPr>
        <p:blipFill>
          <a:blip r:embed="rId2"/>
          <a:srcRect l="0" t="0" r="0" b="8987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" descr="3.png"/>
          <p:cNvPicPr/>
          <p:nvPr/>
        </p:nvPicPr>
        <p:blipFill>
          <a:blip r:embed="rId3"/>
          <a:stretch/>
        </p:blipFill>
        <p:spPr>
          <a:xfrm>
            <a:off x="1428840" y="4002120"/>
            <a:ext cx="2905200" cy="22129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6" descr="4.png"/>
          <p:cNvPicPr/>
          <p:nvPr/>
        </p:nvPicPr>
        <p:blipFill>
          <a:blip r:embed="rId4"/>
          <a:stretch/>
        </p:blipFill>
        <p:spPr>
          <a:xfrm>
            <a:off x="1928880" y="4521240"/>
            <a:ext cx="3946320" cy="1908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6" descr="4.png"/>
          <p:cNvPicPr/>
          <p:nvPr/>
        </p:nvPicPr>
        <p:blipFill>
          <a:blip r:embed="rId5"/>
          <a:srcRect l="23437" t="63386" r="32177" b="5207"/>
          <a:stretch/>
        </p:blipFill>
        <p:spPr>
          <a:xfrm>
            <a:off x="2143080" y="4375080"/>
            <a:ext cx="3737160" cy="19828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7" descr="5.png"/>
          <p:cNvPicPr/>
          <p:nvPr/>
        </p:nvPicPr>
        <p:blipFill>
          <a:blip r:embed="rId6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8" descr="6.png"/>
          <p:cNvPicPr/>
          <p:nvPr/>
        </p:nvPicPr>
        <p:blipFill>
          <a:blip r:embed="rId7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9" descr="7.png"/>
          <p:cNvPicPr/>
          <p:nvPr/>
        </p:nvPicPr>
        <p:blipFill>
          <a:blip r:embed="rId8"/>
          <a:stretch/>
        </p:blipFill>
        <p:spPr>
          <a:xfrm>
            <a:off x="0" y="2643120"/>
            <a:ext cx="3071880" cy="42148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" descr="8.png"/>
          <p:cNvPicPr/>
          <p:nvPr/>
        </p:nvPicPr>
        <p:blipFill>
          <a:blip r:embed="rId9"/>
          <a:stretch/>
        </p:blipFill>
        <p:spPr>
          <a:xfrm>
            <a:off x="0" y="464328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1" descr="9.png"/>
          <p:cNvPicPr/>
          <p:nvPr/>
        </p:nvPicPr>
        <p:blipFill>
          <a:blip r:embed="rId10"/>
          <a:stretch/>
        </p:blipFill>
        <p:spPr>
          <a:xfrm>
            <a:off x="4572000" y="0"/>
            <a:ext cx="4572000" cy="39290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2" descr="10.png"/>
          <p:cNvPicPr/>
          <p:nvPr/>
        </p:nvPicPr>
        <p:blipFill>
          <a:blip r:embed="rId11"/>
          <a:srcRect l="58594" t="0" r="0" b="55213"/>
          <a:stretch/>
        </p:blipFill>
        <p:spPr>
          <a:xfrm>
            <a:off x="5357880" y="0"/>
            <a:ext cx="3786120" cy="30718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3" descr="11.png"/>
          <p:cNvPicPr/>
          <p:nvPr/>
        </p:nvPicPr>
        <p:blipFill>
          <a:blip r:embed="rId12"/>
          <a:stretch/>
        </p:blipFill>
        <p:spPr>
          <a:xfrm>
            <a:off x="7786800" y="4071960"/>
            <a:ext cx="1500120" cy="17859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5"/>
          <p:cNvSpPr/>
          <p:nvPr/>
        </p:nvSpPr>
        <p:spPr>
          <a:xfrm>
            <a:off x="5329800" y="4429080"/>
            <a:ext cx="2737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暖了，花开了，碧水庭院，该买了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在繁华都市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居住，我更喜欢安静点的地方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那种离尘不离城的悠然空间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种繁华之外的宁静生活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春暖花开的日子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民心河畔邂逅碧水庭院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年的居住理想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此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清晰的图象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7" descr="5.png"/>
          <p:cNvPicPr/>
          <p:nvPr/>
        </p:nvPicPr>
        <p:blipFill>
          <a:blip r:embed="rId1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8" descr="5.png"/>
          <p:cNvPicPr/>
          <p:nvPr/>
        </p:nvPicPr>
        <p:blipFill>
          <a:blip r:embed="rId1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9"/>
          <p:cNvSpPr/>
          <p:nvPr/>
        </p:nvSpPr>
        <p:spPr>
          <a:xfrm>
            <a:off x="6858000" y="61437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3"/>
          <p:cNvSpPr/>
          <p:nvPr/>
        </p:nvSpPr>
        <p:spPr>
          <a:xfrm>
            <a:off x="6962760" y="638316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9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1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" fill="hold">
                                          <p:stCondLst>
                                            <p:cond delay="81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13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2.96296E-006 C 0.07049 -0.05 0.13421 -0.08334 0.23455 -0.03056 C 0.23455 -0.03033 0.29792 0.03333 0.40018 0.03889 C 0.49202 0.03611 0.58056 -0.03079 0.58056 -0.03056 C 0.62379 -0.04746 0.64063 -0.03611 0.66146 -0.00533 E">
                                      <p:cBhvr>
                                        <p:cTn id="132" dur="18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134" dur="17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8:17:53Z</dcterms:created>
  <dc:creator>YlmF</dc:creator>
  <dc:description/>
  <dc:language>en-US</dc:language>
  <cp:lastModifiedBy>王玉清</cp:lastModifiedBy>
  <dcterms:modified xsi:type="dcterms:W3CDTF">2016-02-20T04:37:49Z</dcterms:modified>
  <cp:revision>13</cp:revision>
  <dc:subject/>
  <dc:title>幻灯片 1</dc:title>
</cp:coreProperties>
</file>