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9A6-88F2-41D7-A72F-ED242B03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483-F6AD-4FE9-A7A8-483D08EA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8DA-44B9-4AEF-AF62-B455A263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BEA-F0EA-4C45-BD02-032790D7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B6B-00B4-4E70-AD5F-EE9A8058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186-E695-4F92-B25D-6EA492D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330-2ACB-421C-987E-59B9FD0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4D4-1620-4D2D-AAA1-7ADCC02D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C63-F580-405A-8369-BED8C4D6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F3D-61AA-4925-8DCF-6A9E540B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09E-D4D6-4F5E-9570-1C36802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DA1-5288-42AE-89F7-CC75B38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A7DF-D417-47F0-B1E2-D6083583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712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此处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此处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此处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此处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此处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此处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0CD-FC64-4F1C-B973-661BB0D74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03:32:20Z</dcterms:created>
  <dc:creator>微软用户</dc:creator>
  <dc:description/>
  <dc:language>en-US</dc:language>
  <cp:lastModifiedBy>微软用户</cp:lastModifiedBy>
  <dcterms:modified xsi:type="dcterms:W3CDTF">2015-07-20T07:51:4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