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013-E8D9-4A86-9196-7E96A3B3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017-2DF2-4AF3-96B4-8DEC2A2E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1EB-A8BF-4307-AB6B-507A8614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554-67D3-4449-B32F-BC24180B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DAE-4EE4-430A-845C-3D4D71CE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0FF-49B4-42C9-BFEB-B2A0C62C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AAD-255C-44FB-8578-A7BDE2EF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6B9-F53D-4B7A-B09B-7320F71F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908-AF51-4D3D-ADE4-918BAD1C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154-17E3-41A7-8FA0-9C61CAE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B62-AE92-4C00-93E9-978DC306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62B-5EF6-4AE7-921F-334E010A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BDA6-A1AA-497A-93B0-07FFBE76E63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762C-46D2-4664-8C8B-9029A5FDF8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450" r="0" b="954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hyperlink" Target="http://www.eeppt.com/" TargetMode="External"/><Relationship Id="rId9" Type="http://schemas.openxmlformats.org/officeDocument/2006/relationships/hyperlink" Target="http://www.eeppt.com/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hyperlink" Target="http://www.eeppt.com/" TargetMode="External"/><Relationship Id="rId8" Type="http://schemas.openxmlformats.org/officeDocument/2006/relationships/hyperlink" Target="http://www.eeppt.com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45" name="TextBox 19">
              <a:hlinkClick r:id="rId1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21">
              <a:hlinkClick r:id="rId2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22">
              <a:hlinkClick r:id="rId3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23">
              <a:hlinkClick r:id="rId4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4">
              <a:hlinkClick r:id="rId5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52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"/>
          <p:cNvPicPr/>
          <p:nvPr/>
        </p:nvPicPr>
        <p:blipFill>
          <a:blip r:embed="rId6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55" name="矩形 1"/>
          <p:cNvSpPr/>
          <p:nvPr/>
        </p:nvSpPr>
        <p:spPr>
          <a:xfrm>
            <a:off x="2105640" y="12002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简黑酷炫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77560" y="47102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燕尾形 1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燕尾形 2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773360" y="2557440"/>
            <a:ext cx="599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c0c0c"/>
                </a:solidFill>
                <a:latin typeface="Calibri"/>
              </a:rPr>
              <a:t>www.1ppt.c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3.58025E-006 L 0.03438 3.58025E-006 E">
                                      <p:cBhvr>
                                        <p:cTn id="52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34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37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7"/>
          <p:cNvSpPr/>
          <p:nvPr/>
        </p:nvSpPr>
        <p:spPr>
          <a:xfrm>
            <a:off x="685800" y="458136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网站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燕尾形 1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燕尾形 2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5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15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1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1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1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1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61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65" name="燕尾形 39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4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41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燕尾形 42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43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燕尾形 44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燕尾形 45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燕尾形 46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燕尾形 47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燕尾形 48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燕尾形 49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燕尾形 50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78" name="TextBox 52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53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4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55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56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5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87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91" name="TextBox 17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0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5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1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32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16"/>
          <p:cNvSpPr/>
          <p:nvPr/>
        </p:nvSpPr>
        <p:spPr>
          <a:xfrm>
            <a:off x="1440" y="4913280"/>
            <a:ext cx="71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01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sp>
        <p:nvSpPr>
          <p:cNvPr id="105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18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5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27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31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4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44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57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7"/>
          <p:cNvSpPr/>
          <p:nvPr/>
        </p:nvSpPr>
        <p:spPr>
          <a:xfrm>
            <a:off x="685800" y="4581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模板网站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67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71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8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84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97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06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0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11" name="TextBox 20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5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31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2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7"/>
          <p:cNvSpPr/>
          <p:nvPr/>
        </p:nvSpPr>
        <p:spPr>
          <a:xfrm>
            <a:off x="685800" y="4581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模板网站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3:34:00Z</dcterms:created>
  <dc:creator>微软中国</dc:creator>
  <dc:description/>
  <cp:keywords/>
  <dc:language>en-US</dc:language>
  <cp:lastModifiedBy>王玉清</cp:lastModifiedBy>
  <cp:lastPrinted>1899-12-30T00:00:00Z</cp:lastPrinted>
  <dcterms:modified xsi:type="dcterms:W3CDTF">2016-02-21T03:43:31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