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EA1-A11A-40AE-88D7-EE4052D7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968-2046-451E-B1C5-85C5CA8A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956-7465-44C6-8033-5CBC8567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6F4-8370-4B8B-BD56-559797A8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4AB-C356-40F0-90B3-F4A0BBB3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BEE-1FE2-43ED-8085-823522A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A9A-E65A-4C0A-9F4B-149D388F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734-2EA1-4A01-922F-7B8F9F4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17B-F850-43DE-AB14-2703526F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69E-6C95-4C99-843B-A6BED390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223-58E6-45BB-A483-261F568B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34A-1742-4D29-8E96-B6D831A1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BE73-987A-4992-91F5-731807F0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1044720" y="836640"/>
            <a:ext cx="9358560" cy="6438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10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8280" y="1052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健康饮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322200" y="3933720"/>
            <a:ext cx="10115640" cy="319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2720" y="44370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040-D5E0-414A-AFFD-9BDB2117A2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2:37Z</dcterms:modified>
  <cp:revision>10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