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95A-56FA-4347-B15F-A81A4362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025-AA9D-4403-A720-52DD888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7DE-3FB1-441D-AB0B-9CC1A939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DB1-74DD-4C2E-A7D4-B171054B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F1D-370C-4C4A-A153-1FE0968D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EE3-A15F-4768-AC98-ED9F5BD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4E9-0931-420D-A7F9-1E86CE4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DD0-4527-4D61-86B1-D955AFF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7AC-193A-48B0-8B78-9B9F0E4A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C85-43A9-434E-BA45-6EE6563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0C9-9D71-4C7E-93D7-725AD96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99E-6701-4403-9D4B-5129B80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C11-390B-4061-B73E-688393CE78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3903480" y="3429000"/>
            <a:ext cx="47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历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0" y="5364000"/>
            <a:ext cx="12192120" cy="150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>
              <a:gd name="textAreaLeft" fmla="*/ 0 w 460440"/>
              <a:gd name="textAreaRight" fmla="*/ 460800 w 4604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0"/>
          <p:cNvSpPr/>
          <p:nvPr/>
        </p:nvSpPr>
        <p:spPr>
          <a:xfrm>
            <a:off x="668880" y="617688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1"/>
          <p:cNvSpPr/>
          <p:nvPr/>
        </p:nvSpPr>
        <p:spPr>
          <a:xfrm>
            <a:off x="4695840" y="62085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2"/>
          <p:cNvSpPr/>
          <p:nvPr/>
        </p:nvSpPr>
        <p:spPr>
          <a:xfrm>
            <a:off x="9115560" y="620856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202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5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9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44440" y="6323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50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2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>
              <a:gd name="textAreaLeft" fmla="*/ 0 w 461880"/>
              <a:gd name="textAreaRight" fmla="*/ 462240 w 4618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>
              <a:gd name="textAreaLeft" fmla="*/ 0 w 304560"/>
              <a:gd name="textAreaRight" fmla="*/ 304920 w 304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4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6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8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1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4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6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5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7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50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3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4"/>
          <p:cNvSpPr/>
          <p:nvPr/>
        </p:nvSpPr>
        <p:spPr>
          <a:xfrm>
            <a:off x="244440" y="6323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5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王玉清</cp:lastModifiedBy>
  <dcterms:modified xsi:type="dcterms:W3CDTF">2016-03-05T12:41:16Z</dcterms:modified>
  <cp:revision>33</cp:revision>
  <dc:subject/>
  <dc:title>PowerPoint 演示文稿</dc:title>
</cp:coreProperties>
</file>