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72F-888B-4EE2-A095-E1B5947B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79A-A451-4DF4-97C9-8276AC84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BB4-26DD-4271-A5C9-A66B324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4D5-F12E-40C7-A2A7-54C697E1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BD5-C8C8-48A5-88FC-4BF0AC3A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D74-CAD1-40D4-B161-3FDBA90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E90-12B6-4B63-B2F5-C22D67E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001-867F-4B89-BF5C-6C89A65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FCC-1A21-4C08-9A46-E52D345B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CCA-959C-4F44-863F-867CD3D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C28-8815-41FC-8A43-B71BC20D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761-9B1E-4899-8025-55B7788F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DAC1-1F75-4CDE-9907-BB76DF97850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gi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195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7200" y="333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咖啡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Z:\newtek\_backgrounds_1.02\Greg\PowerPoint Templates\Slow Roasted\Elements\spoon stir.gif"/>
          <p:cNvPicPr/>
          <p:nvPr/>
        </p:nvPicPr>
        <p:blipFill>
          <a:blip r:embed="rId2"/>
          <a:stretch/>
        </p:blipFill>
        <p:spPr>
          <a:xfrm>
            <a:off x="6523200" y="4135320"/>
            <a:ext cx="1363680" cy="185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Black"/>
                <a:ea typeface="宋体"/>
              </a:rPr>
              <a:t>Slow Roasted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Black"/>
                <a:ea typeface="宋体"/>
              </a:rPr>
              <a:t>Printable Page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3718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Black"/>
                <a:ea typeface="宋体"/>
              </a:rPr>
              <a:t>Transition Page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Black"/>
                <a:ea typeface="宋体"/>
              </a:rPr>
              <a:t>Elements Page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53" name="Picture 3" descr="Z:\newtek\_backgrounds_1.02\Greg\PowerPoint Templates\Slow Roasted\Elements\title.jpg"/>
          <p:cNvPicPr/>
          <p:nvPr/>
        </p:nvPicPr>
        <p:blipFill>
          <a:blip r:embed="rId1"/>
          <a:stretch/>
        </p:blipFill>
        <p:spPr>
          <a:xfrm>
            <a:off x="1295280" y="1355760"/>
            <a:ext cx="3200400" cy="25606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6"/>
          <p:cNvGrpSpPr/>
          <p:nvPr/>
        </p:nvGrpSpPr>
        <p:grpSpPr>
          <a:xfrm>
            <a:off x="4724280" y="1355760"/>
            <a:ext cx="3200400" cy="2560680"/>
            <a:chOff x="4724280" y="1355760"/>
            <a:chExt cx="3200400" cy="2560680"/>
          </a:xfrm>
        </p:grpSpPr>
        <p:pic>
          <p:nvPicPr>
            <p:cNvPr id="55" name="Picture 4" descr="Z:\newtek\_backgrounds_1.02\Greg\PowerPoint Templates\Slow Roasted\Elements\slide.jpg"/>
            <p:cNvPicPr/>
            <p:nvPr/>
          </p:nvPicPr>
          <p:blipFill>
            <a:blip r:embed="rId2"/>
            <a:stretch/>
          </p:blipFill>
          <p:spPr>
            <a:xfrm>
              <a:off x="4724280" y="1355760"/>
              <a:ext cx="3200400" cy="25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5" descr="Z:\newtek\_backgrounds_1.02\Greg\PowerPoint Templates\Slow Roasted\Elements\spoon stir.gif"/>
            <p:cNvPicPr/>
            <p:nvPr/>
          </p:nvPicPr>
          <p:blipFill>
            <a:blip r:embed="rId3"/>
            <a:stretch/>
          </p:blipFill>
          <p:spPr>
            <a:xfrm>
              <a:off x="6999120" y="2893680"/>
              <a:ext cx="490320" cy="7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7" descr="Z:\newtek\_backgrounds_1.02\Greg\PowerPoint Templates\Slow Roasted\Elements\print.jpg"/>
          <p:cNvPicPr/>
          <p:nvPr/>
        </p:nvPicPr>
        <p:blipFill>
          <a:blip r:embed="rId4"/>
          <a:stretch/>
        </p:blipFill>
        <p:spPr>
          <a:xfrm>
            <a:off x="1295280" y="4068720"/>
            <a:ext cx="3200400" cy="256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Z:\newtek\_backgrounds_1.02\Greg\PowerPoint Templates\Slow Roasted\Elements\trans.jpg"/>
          <p:cNvPicPr/>
          <p:nvPr/>
        </p:nvPicPr>
        <p:blipFill>
          <a:blip r:embed="rId5"/>
          <a:stretch/>
        </p:blipFill>
        <p:spPr>
          <a:xfrm>
            <a:off x="4724280" y="406872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692280" y="7254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  <a:ea typeface="宋体"/>
              </a:rPr>
              <a:t>Delete this page when templat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796-B76C-4FCF-8651-BD8F69582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7:0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6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