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C9860-2B04-4645-B2AD-150759D0C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7437-ADB5-4776-BD0B-BD47BEC28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824E-AB9D-450F-9867-AE75AF661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1673-393F-4885-8C48-C6D9D0573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B4F-AE02-4AF0-BAFF-B4F5AF95E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300-67D9-45EA-9C32-C440C1BD3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277C-8595-4B3C-974C-28DCA46FF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F96-E123-448C-9D8E-8C9BF871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D16-DFF5-4D88-BF43-AFCB0C2F7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2C8C-EA3D-41C4-B345-A29C1E58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E46B8-1D6C-4A30-9953-B0B9F909D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A846-97A5-45A4-964B-CF1D4F99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C5617-3ED6-462D-8395-6D8CAB907F6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3636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60520" y="18900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卡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"/>
          <p:cNvSpPr/>
          <p:nvPr/>
        </p:nvSpPr>
        <p:spPr>
          <a:xfrm>
            <a:off x="760680" y="9288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2"/>
          <p:cNvSpPr/>
          <p:nvPr/>
        </p:nvSpPr>
        <p:spPr>
          <a:xfrm>
            <a:off x="392796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"/>
          <p:cNvSpPr/>
          <p:nvPr/>
        </p:nvSpPr>
        <p:spPr>
          <a:xfrm>
            <a:off x="392796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927960" y="3500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3927960" y="39164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93600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3997800" y="385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7"/>
          <p:cNvSpPr/>
          <p:nvPr/>
        </p:nvSpPr>
        <p:spPr>
          <a:xfrm>
            <a:off x="5569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7835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961560" y="905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42656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22118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67125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8"/>
          <p:cNvSpPr/>
          <p:nvPr/>
        </p:nvSpPr>
        <p:spPr>
          <a:xfrm>
            <a:off x="961560" y="9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7"/>
          <p:cNvSpPr/>
          <p:nvPr/>
        </p:nvSpPr>
        <p:spPr>
          <a:xfrm>
            <a:off x="1785960" y="47862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385488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56408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8"/>
          <p:cNvSpPr/>
          <p:nvPr/>
        </p:nvSpPr>
        <p:spPr>
          <a:xfrm>
            <a:off x="96156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1428840" y="3214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7"/>
          <p:cNvSpPr/>
          <p:nvPr/>
        </p:nvSpPr>
        <p:spPr>
          <a:xfrm>
            <a:off x="41407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5"/>
          <p:cNvSpPr/>
          <p:nvPr/>
        </p:nvSpPr>
        <p:spPr>
          <a:xfrm>
            <a:off x="59266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8"/>
          <p:cNvSpPr/>
          <p:nvPr/>
        </p:nvSpPr>
        <p:spPr>
          <a:xfrm>
            <a:off x="936000" y="8571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7"/>
          <p:cNvSpPr/>
          <p:nvPr/>
        </p:nvSpPr>
        <p:spPr>
          <a:xfrm>
            <a:off x="41407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9"/>
          <p:cNvSpPr/>
          <p:nvPr/>
        </p:nvSpPr>
        <p:spPr>
          <a:xfrm>
            <a:off x="556956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249768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6"/>
          <p:cNvSpPr/>
          <p:nvPr/>
        </p:nvSpPr>
        <p:spPr>
          <a:xfrm>
            <a:off x="52120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7"/>
          <p:cNvSpPr/>
          <p:nvPr/>
        </p:nvSpPr>
        <p:spPr>
          <a:xfrm>
            <a:off x="264060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AA4F-6AEE-4742-A2F4-60759EA437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2:06:55Z</dcterms:modified>
  <cp:revision>4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