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gif" ContentType="image/gif"/>
  <Override PartName="/ppt/media/image7.png" ContentType="image/png"/>
  <Override PartName="/ppt/media/image4.png" ContentType="image/png"/>
  <Override PartName="/ppt/media/image5.gif" ContentType="image/gif"/>
  <Override PartName="/ppt/media/image10.gif" ContentType="image/gif"/>
  <Override PartName="/ppt/media/image6.jpeg" ContentType="image/jpeg"/>
  <Override PartName="/ppt/media/image11.jpeg" ContentType="image/jpeg"/>
  <Override PartName="/ppt/media/image8.gif" ContentType="image/gif"/>
  <Override PartName="/ppt/media/image9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96DD-6647-4F75-965C-ED209F0A0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-900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Demi C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8077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240" y="4150800"/>
            <a:ext cx="8077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4631-C459-4857-91E4-E3117DE3F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-900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Demi C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3941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367520" y="1523880"/>
            <a:ext cx="3941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240" y="4150800"/>
            <a:ext cx="3941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367520" y="4150800"/>
            <a:ext cx="3941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92E7-EA3F-44DA-9BDA-18857CDE1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920" y="-900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Demi C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959200" y="15238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0520" y="15238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240" y="41508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959200" y="41508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0520" y="41508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2FCB-7A2F-4497-8FF4-CB42E6F76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14638-5FD2-48E1-95A9-6D35D6C96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-900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Demi C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240" y="152388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86234-E42C-4948-81BF-75B33DE87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-900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Demi C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20BC2-9A22-4207-8B34-288FBEFE7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-900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Demi C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3941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367520" y="1523880"/>
            <a:ext cx="3941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BAB85-BFAE-47B5-9F23-51E1D9510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-900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Demi C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DDC22-FF6D-4742-A926-F24337179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75960"/>
            <a:ext cx="85341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00574-0E5A-4B97-95F6-95E7D5C2F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-900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Demi C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3941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367520" y="1523880"/>
            <a:ext cx="3941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240" y="4150800"/>
            <a:ext cx="3941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FB3FA-7AA7-4861-BED0-C385EC145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-900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Demi C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240" y="152388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20CC-50E9-431B-9601-3C6DB3A0B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-900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Demi C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3941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367520" y="1523880"/>
            <a:ext cx="3941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367520" y="4150800"/>
            <a:ext cx="3941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F0738-772B-44B5-BC7A-31F9AAC80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-900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Demi C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3941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367520" y="1523880"/>
            <a:ext cx="3941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240" y="4150800"/>
            <a:ext cx="8077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240A5-B40F-4C49-A695-AF90913BE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-900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Demi C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8077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240" y="4150800"/>
            <a:ext cx="8077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52993-43B8-45CE-A3A4-AFEB0FCB4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-900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Demi C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3941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367520" y="1523880"/>
            <a:ext cx="3941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240" y="4150800"/>
            <a:ext cx="3941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367520" y="4150800"/>
            <a:ext cx="3941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19539-1525-49AC-AEC5-8AF2CA015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-900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Demi C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959200" y="15238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0520" y="15238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240" y="41508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959200" y="41508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0520" y="41508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C4C2B-3E83-4883-95A9-AED0696EB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-900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Demi C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0593-36C7-476C-970E-63847397C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-900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Demi C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3941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367520" y="1523880"/>
            <a:ext cx="3941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86F3-65E1-4F57-A190-B0A9F91A4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-900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Demi C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9B87-2DAE-4607-BBE0-688DE832C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920" y="75960"/>
            <a:ext cx="85341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4A50-3ADB-4D4D-9D0D-ABAA1849F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-900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Demi C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3941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7520" y="1523880"/>
            <a:ext cx="3941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240" y="4150800"/>
            <a:ext cx="3941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CD69-93E0-4DD3-996C-BFF0DF897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-900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Demi C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3941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7520" y="1523880"/>
            <a:ext cx="3941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367520" y="4150800"/>
            <a:ext cx="3941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4EF6-5202-42BB-B070-BC2644634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-900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Demi C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3941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367520" y="1523880"/>
            <a:ext cx="3941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240" y="4150800"/>
            <a:ext cx="8077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9092-E20D-429B-B8E3-691E4AED3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5341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anklin Gothic Demi Cond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Franklin Gothic Demi C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152388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SzPct val="250000"/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SzPct val="25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SzPct val="250000"/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SzPct val="250000"/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SzPct val="250000"/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SzPct val="250000"/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62904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Eras Bold ITC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Eras Bold ITC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57840"/>
            <a:ext cx="2895840" cy="2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Eras Bold ITC"/>
                <a:ea typeface="宋体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Eras Bold ITC"/>
                <a:ea typeface="宋体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657840"/>
            <a:ext cx="2133720" cy="2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Eras Bold ITC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12AE1-319D-4A87-9249-2CDDD6780DCA}" type="slidenum">
              <a:rPr b="0" lang="zh-CN" sz="1000" spc="-1" strike="noStrike">
                <a:solidFill>
                  <a:srgbClr val="000000"/>
                </a:solidFill>
                <a:latin typeface="Eras Bold ITC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Franklin Gothic Demi Cond"/>
              </a:rPr>
              <a:t>Click to edit the title text format</a:t>
            </a:r>
            <a:endParaRPr b="0" lang="en-US" sz="6600" spc="-1" strike="noStrike">
              <a:solidFill>
                <a:srgbClr val="ffffff"/>
              </a:solidFill>
              <a:latin typeface="Franklin Gothic Demi C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-36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ffffff"/>
                </a:solidFill>
                <a:latin typeface="Eras Bold ITC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Eras Bold ITC"/>
                <a:ea typeface="宋体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ffffff"/>
                </a:solidFill>
                <a:latin typeface="Eras Bold ITC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Eras Bold ITC"/>
                <a:ea typeface="宋体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00992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ffffff"/>
                </a:solidFill>
                <a:latin typeface="Eras Bold ITC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0C563-FBD6-4679-B854-F096A7873082}" type="slidenum">
              <a:rPr b="0" lang="zh-CN" sz="900" spc="-1" strike="noStrike">
                <a:solidFill>
                  <a:srgbClr val="ffffff"/>
                </a:solidFill>
                <a:latin typeface="Eras Bold ITC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SzPct val="2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SzPct val="25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SzPct val="250000"/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25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25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image" Target="../media/image4.png"/><Relationship Id="rId6" Type="http://schemas.openxmlformats.org/officeDocument/2006/relationships/image" Target="../media/image3.gif"/><Relationship Id="rId7" Type="http://schemas.openxmlformats.org/officeDocument/2006/relationships/image" Target="../media/image8.gif"/><Relationship Id="rId8" Type="http://schemas.openxmlformats.org/officeDocument/2006/relationships/image" Target="../media/image5.gif"/><Relationship Id="rId9" Type="http://schemas.openxmlformats.org/officeDocument/2006/relationships/image" Target="../media/image9.gif"/><Relationship Id="rId10" Type="http://schemas.openxmlformats.org/officeDocument/2006/relationships/image" Target="../media/image10.gif"/><Relationship Id="rId1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Franklin Gothic Demi Cond"/>
                <a:ea typeface="宋体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Franklin Gothic Demi Cond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276720" y="1371600"/>
            <a:ext cx="3573360" cy="54864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0" y="914040"/>
            <a:ext cx="9144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645336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2040" y="260280"/>
            <a:ext cx="403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卡通人物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模板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在线下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5341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ranklin Gothic Demi Cond"/>
                <a:ea typeface="宋体"/>
              </a:rPr>
              <a:t>Your Topic Goes Here</a:t>
            </a:r>
            <a:endParaRPr b="0" lang="en-US" sz="3600" spc="-1" strike="noStrike">
              <a:solidFill>
                <a:srgbClr val="ffffff"/>
              </a:solidFill>
              <a:latin typeface="Franklin Gothic Demi C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3962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Your subtopic goes he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248520" y="228600"/>
            <a:ext cx="3014640" cy="640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Franklin Gothic Demi Cond"/>
                <a:ea typeface="宋体"/>
              </a:rPr>
              <a:t>Transitional Page</a:t>
            </a:r>
            <a:endParaRPr b="0" lang="en-US" sz="6000" spc="-1" strike="noStrike">
              <a:solidFill>
                <a:srgbClr val="ffffff"/>
              </a:solidFill>
              <a:latin typeface="Franklin Gothic Demi C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0" y="914040"/>
            <a:ext cx="9144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2895480" y="1295280"/>
            <a:ext cx="3435480" cy="50292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5341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anklin Gothic Demi Cond"/>
                <a:ea typeface="宋体"/>
              </a:rPr>
              <a:t>Your Topic Goes Here</a:t>
            </a:r>
            <a:endParaRPr b="0" lang="en-US" sz="4000" spc="-1" strike="noStrike">
              <a:solidFill>
                <a:srgbClr val="ffffff"/>
              </a:solidFill>
              <a:latin typeface="Franklin Gothic Demi C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79185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Your subtopic goes he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172200" y="2057400"/>
            <a:ext cx="3668760" cy="41403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900000" y="3573360"/>
            <a:ext cx="5643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Franklin Gothic Demi Cond"/>
                <a:ea typeface="宋体"/>
              </a:rPr>
              <a:t>Elements</a:t>
            </a:r>
            <a:endParaRPr b="0" lang="en-US" sz="6000" spc="-1" strike="noStrike">
              <a:solidFill>
                <a:srgbClr val="ffffff"/>
              </a:solidFill>
              <a:latin typeface="Franklin Gothic Demi Cond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6161040" y="152280"/>
            <a:ext cx="2830680" cy="21225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6161040" y="2367000"/>
            <a:ext cx="2830680" cy="21240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6161040" y="4583160"/>
            <a:ext cx="2830680" cy="21225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380880" y="2819520"/>
            <a:ext cx="3443400" cy="38862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5"/>
          <a:stretch/>
        </p:blipFill>
        <p:spPr>
          <a:xfrm>
            <a:off x="4191120" y="2819520"/>
            <a:ext cx="1831680" cy="38862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6"/>
          <a:stretch/>
        </p:blipFill>
        <p:spPr>
          <a:xfrm>
            <a:off x="0" y="1371600"/>
            <a:ext cx="942840" cy="14479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7"/>
          <a:stretch/>
        </p:blipFill>
        <p:spPr>
          <a:xfrm>
            <a:off x="1066680" y="137160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8"/>
          <a:stretch/>
        </p:blipFill>
        <p:spPr>
          <a:xfrm>
            <a:off x="2590920" y="1295280"/>
            <a:ext cx="988920" cy="14479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9"/>
          <a:stretch/>
        </p:blipFill>
        <p:spPr>
          <a:xfrm>
            <a:off x="3581280" y="129528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10"/>
          <a:stretch/>
        </p:blipFill>
        <p:spPr>
          <a:xfrm>
            <a:off x="5029200" y="1295280"/>
            <a:ext cx="942840" cy="144792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0" y="914040"/>
            <a:ext cx="9144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Franklin Gothic Demi Cond"/>
              </a:rPr>
              <a:t>使用规范说明</a:t>
            </a:r>
            <a:endParaRPr b="0" lang="en-US" sz="4000" spc="-1" strike="noStrike">
              <a:solidFill>
                <a:srgbClr val="ffffff"/>
              </a:solidFill>
              <a:latin typeface="Franklin Gothic Demi C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 </a:t>
            </a:r>
            <a:r>
              <a:rPr b="1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1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124B-A63D-4413-8384-9636D7FDE664}" type="slidenum">
              <a:t>6</a:t>
            </a:fld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2T12:35:4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8T12:08:07Z</dcterms:modified>
  <cp:revision>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NXTAG2">
    <vt:lpwstr>000800b413000000000001024140</vt:lpwstr>
  </property>
</Properties>
</file>