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7E8-93E5-4AF1-BAF7-52D88E96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FF9-D37C-4F27-8BA9-B216E0E6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C28-4109-47D0-8E04-003D96F6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7E0-F344-48B8-BF55-67021541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95B-1DED-499C-822A-1D14CB5C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792-A46C-4DE4-AEEA-8EDE22AD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90C-6DA4-41E4-BDB1-58FF688E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77B-1E85-4659-BB4C-28E9A56A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8B5-AEF3-4638-B7A5-23648143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F28-35F4-48EC-8EDC-8CACDF93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53B-5B1E-4BFF-B7EE-3DB3A9B9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746-2AAB-4307-95EA-1B78CFC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9CCD-6FAB-4A85-9397-7F70D78A26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D5E-2EB6-4A28-88ED-347EE9F240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5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第十一届全国人民代表大会第五次会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政协第十一届全国委员会第五次会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副标题 2"/>
          <p:cNvSpPr/>
          <p:nvPr/>
        </p:nvSpPr>
        <p:spPr>
          <a:xfrm>
            <a:off x="900000" y="4581360"/>
            <a:ext cx="7161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将分别于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012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日在北京开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360" y="63831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87480" y="1872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两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无水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25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2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3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4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"/>
          <p:cNvPicPr/>
          <p:nvPr/>
        </p:nvPicPr>
        <p:blipFill>
          <a:blip r:embed="rId1"/>
          <a:stretch/>
        </p:blipFill>
        <p:spPr>
          <a:xfrm>
            <a:off x="1042920" y="977760"/>
            <a:ext cx="7104240" cy="48276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7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37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杨宝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北京市公交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路车驾驶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49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籍贯：北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从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3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杨宝强驾驶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路公交车在四惠公交场站等待乘客上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在四惠公交场站，杨宝强坐在公交车的驾驶座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杨宝强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加大公交政策优先的力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7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69D-7A47-43E3-9C8C-D5721AD7D9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" descr=""/>
          <p:cNvPicPr/>
          <p:nvPr/>
        </p:nvPicPr>
        <p:blipFill>
          <a:blip r:embed="rId1"/>
          <a:stretch/>
        </p:blipFill>
        <p:spPr>
          <a:xfrm>
            <a:off x="1028880" y="950760"/>
            <a:ext cx="7143480" cy="4854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8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45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李云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建国门某建筑工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信号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籍贯：河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从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李云龙在建国门附近的某建筑工地用对讲机和工友对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李云龙站在建筑工地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李云龙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农民工能有一个合理的休息时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6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AC3-B8A6-4FA0-BD9C-F862A8D52A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4" descr=""/>
          <p:cNvPicPr/>
          <p:nvPr/>
        </p:nvPicPr>
        <p:blipFill>
          <a:blip r:embed="rId1"/>
          <a:stretch/>
        </p:blipFill>
        <p:spPr>
          <a:xfrm>
            <a:off x="1042920" y="939960"/>
            <a:ext cx="7159680" cy="4865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9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53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王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熊猫天堂”玩具店营业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8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籍贯：河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从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王萍（左）在秀水街国际友谊市场 “熊猫天堂”玩具店销售玩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王萍抱着一个熊猫玩具站在玩具店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王萍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私营者能够得到更多的支持，他们的商品能走向世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34A-9D8F-4092-A8F2-2959921D6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4" descr=""/>
          <p:cNvPicPr/>
          <p:nvPr/>
        </p:nvPicPr>
        <p:blipFill>
          <a:blip r:embed="rId1"/>
          <a:stretch/>
        </p:blipFill>
        <p:spPr>
          <a:xfrm>
            <a:off x="1028880" y="946080"/>
            <a:ext cx="7143480" cy="48592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0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61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李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北漂”一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7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籍贯：山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李杰在王府井街头等待朋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李杰站在王府井街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李杰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北京的房价可以低一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8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9F2-BBA2-40C8-B72D-6256E6D07E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4" descr=""/>
          <p:cNvPicPr/>
          <p:nvPr/>
        </p:nvPicPr>
        <p:blipFill>
          <a:blip r:embed="rId1"/>
          <a:stretch/>
        </p:blipFill>
        <p:spPr>
          <a:xfrm>
            <a:off x="1042920" y="923760"/>
            <a:ext cx="7164360" cy="48675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1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李大爷</a:t>
            </a:r>
            <a:r>
              <a:rPr b="0" lang="en-US" sz="2000" spc="-1" strike="noStrike">
                <a:solidFill>
                  <a:srgbClr val="ecaa18"/>
                </a:solidFill>
                <a:latin typeface="Calibri"/>
                <a:ea typeface="Calibri"/>
              </a:rPr>
              <a:t>(</a:t>
            </a:r>
            <a:r>
              <a:rPr b="0" lang="zh-CN" sz="2000" spc="-1" strike="noStrike">
                <a:solidFill>
                  <a:srgbClr val="ecaa18"/>
                </a:solidFill>
                <a:latin typeface="宋体"/>
                <a:ea typeface="宋体"/>
              </a:rPr>
              <a:t>飞扬</a:t>
            </a:r>
            <a:r>
              <a:rPr b="0" lang="en-US" sz="2000" spc="-1" strike="noStrike">
                <a:solidFill>
                  <a:srgbClr val="ecaa18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退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1c1c1c"/>
                </a:solidFill>
                <a:latin typeface="Calibri"/>
                <a:ea typeface="Calibri"/>
              </a:rPr>
              <a:t>68</a:t>
            </a: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籍贯：福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股龄约</a:t>
            </a:r>
            <a:r>
              <a:rPr b="0" lang="en-US" sz="1400" spc="-1" strike="noStrike">
                <a:solidFill>
                  <a:srgbClr val="1c1c1c"/>
                </a:solidFill>
                <a:latin typeface="Calibri"/>
                <a:ea typeface="Calibri"/>
              </a:rPr>
              <a:t>20</a:t>
            </a: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李大爷（右）和舞伴在菖蒲河公园内跳舞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李大爷站在公园的一座小桥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李大爷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股市能和国民经济同步高速发展、健康发展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8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A87-9AF4-46F8-999D-4EA8492465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两会日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5" descr=""/>
          <p:cNvPicPr/>
          <p:nvPr/>
        </p:nvPicPr>
        <p:blipFill>
          <a:blip r:embed="rId1"/>
          <a:stretch/>
        </p:blipFill>
        <p:spPr>
          <a:xfrm>
            <a:off x="7359480" y="5734080"/>
            <a:ext cx="161928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179280" y="523800"/>
          <a:ext cx="8785080" cy="6669000"/>
        </p:xfrm>
        <a:graphic>
          <a:graphicData uri="http://schemas.openxmlformats.org/drawingml/2006/table">
            <a:tbl>
              <a:tblPr/>
              <a:tblGrid>
                <a:gridCol w="2355840"/>
                <a:gridCol w="6429240"/>
              </a:tblGrid>
              <a:tr h="24228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会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六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政协十一届五次会议开幕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日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常委会工作报告和提案工作情况报告）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常委会工作报告和提案工作情况报告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十一届全国人大五次会议开幕会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                代表委员听取国务院总理温家宝作政府工作报告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政府工作报告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二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政府工作报告）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政府工作报告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三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、界别联组讨论（有一个以上小组的界别安排联组形式，联系本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别实际讨论政府工作报告）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计划报告和预算报告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四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列席十一届全国人大五次会议第二次全体会议 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刑事诉讼法修正案草案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五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政协十一届五次会议第二次全体会议大会发言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结合常委会工作报告讨论政协工作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六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结合履行职责实践讨论政协工作）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政协十一届五次会议第三次全体会议大会发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日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政协十一届五次会议第四次全体会议大会发言 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列席十一届全国人大五次会议第四次全体会议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、听取最高人民法院院长王胜俊作最高人民法院工作报告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                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、听取最高人民检察院检察长曹建明作最高人民检察院工作报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一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小组讨论（“两高”工作报告和各项决议草案）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0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分　主席会议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　      委员机动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下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政协第十一届全国委员会常务委员会第十七次会议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28440" rIns="2844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13</a:t>
                      </a:r>
                      <a:r>
                        <a:rPr b="1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日（星期二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上午</a:t>
                      </a:r>
                      <a:r>
                        <a:rPr b="0" lang="en-US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fefa79"/>
                          </a:solidFill>
                          <a:latin typeface="Arial"/>
                          <a:ea typeface="Arial"/>
                        </a:rPr>
                        <a:t>时　政协十一届五次会议闭幕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3236760" y="1360440"/>
            <a:ext cx="9144000" cy="1800"/>
          </a:xfrm>
          <a:prstGeom prst="rect">
            <a:avLst/>
          </a:prstGeom>
          <a:solidFill>
            <a:srgbClr val="eca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44B-7CC9-4DB9-8918-6B2184EEDB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1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5" descr=""/>
          <p:cNvPicPr/>
          <p:nvPr/>
        </p:nvPicPr>
        <p:blipFill>
          <a:blip r:embed="rId1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80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" descr=""/>
          <p:cNvPicPr/>
          <p:nvPr/>
        </p:nvPicPr>
        <p:blipFill>
          <a:blip r:embed="rId2"/>
          <a:stretch/>
        </p:blipFill>
        <p:spPr>
          <a:xfrm>
            <a:off x="166680" y="1017720"/>
            <a:ext cx="881064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38120" y="60516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3A8-CED7-487F-B9A5-16004F6F6E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3FB-25D5-4D12-9B9A-17620C00C1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7"/>
          <p:cNvSpPr/>
          <p:nvPr/>
        </p:nvSpPr>
        <p:spPr>
          <a:xfrm>
            <a:off x="-33480" y="-30240"/>
            <a:ext cx="9141120" cy="685656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2987640" y="3141720"/>
            <a:ext cx="3168720" cy="43164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2987640" y="2637000"/>
            <a:ext cx="3168720" cy="90792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3"/>
          <p:cNvSpPr/>
          <p:nvPr/>
        </p:nvSpPr>
        <p:spPr>
          <a:xfrm>
            <a:off x="4572000" y="0"/>
            <a:ext cx="36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4535640" y="0"/>
            <a:ext cx="36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3141720"/>
            <a:ext cx="9144000" cy="360"/>
            <a:chOff x="0" y="3141720"/>
            <a:chExt cx="9144000" cy="360"/>
          </a:xfrm>
        </p:grpSpPr>
        <p:sp>
          <p:nvSpPr>
            <p:cNvPr id="52" name="Line 25"/>
            <p:cNvSpPr/>
            <p:nvPr/>
          </p:nvSpPr>
          <p:spPr>
            <a:xfrm>
              <a:off x="0" y="314172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0" y="3141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0" y="3573360"/>
            <a:ext cx="9144000" cy="1800"/>
            <a:chOff x="0" y="3573360"/>
            <a:chExt cx="9144000" cy="1800"/>
          </a:xfrm>
        </p:grpSpPr>
        <p:sp>
          <p:nvSpPr>
            <p:cNvPr id="55" name="Line 26"/>
            <p:cNvSpPr/>
            <p:nvPr/>
          </p:nvSpPr>
          <p:spPr>
            <a:xfrm>
              <a:off x="0" y="3573360"/>
              <a:ext cx="91440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0" y="3573360"/>
              <a:ext cx="914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203640" y="2637000"/>
            <a:ext cx="2856960" cy="884160"/>
            <a:chOff x="3203640" y="2637000"/>
            <a:chExt cx="2856960" cy="884160"/>
          </a:xfrm>
        </p:grpSpPr>
        <p:sp>
          <p:nvSpPr>
            <p:cNvPr id="58" name="WordArt 28"/>
            <p:cNvSpPr/>
            <p:nvPr/>
          </p:nvSpPr>
          <p:spPr>
            <a:xfrm>
              <a:off x="3203640" y="2637000"/>
              <a:ext cx="1368000" cy="884160"/>
            </a:xfrm>
            <a:custGeom>
              <a:avLst/>
              <a:gdLst>
                <a:gd name="textAreaLeft" fmla="*/ 0 w 1368000"/>
                <a:gd name="textAreaRight" fmla="*/ 1368360 w 1368000"/>
                <a:gd name="textAreaTop" fmla="*/ 0 h 884160"/>
                <a:gd name="textAreaBottom" fmla="*/ 884520 h 88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WordArt 29"/>
            <p:cNvSpPr/>
            <p:nvPr/>
          </p:nvSpPr>
          <p:spPr>
            <a:xfrm>
              <a:off x="4654080" y="3305160"/>
              <a:ext cx="1406520" cy="21600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AutoShape 30"/>
          <p:cNvSpPr/>
          <p:nvPr/>
        </p:nvSpPr>
        <p:spPr>
          <a:xfrm>
            <a:off x="2900520" y="3228840"/>
            <a:ext cx="552240" cy="551160"/>
          </a:xfrm>
          <a:custGeom>
            <a:avLst/>
            <a:gdLst>
              <a:gd name="textAreaLeft" fmla="*/ 190080 w 552240"/>
              <a:gd name="textAreaRight" fmla="*/ 362160 w 552240"/>
              <a:gd name="textAreaTop" fmla="*/ 189720 h 551160"/>
              <a:gd name="textAreaBottom" fmla="*/ 361440 h 551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1"/>
          <p:cNvSpPr/>
          <p:nvPr/>
        </p:nvSpPr>
        <p:spPr>
          <a:xfrm>
            <a:off x="2776680" y="3124080"/>
            <a:ext cx="792000" cy="763560"/>
          </a:xfrm>
          <a:custGeom>
            <a:avLst/>
            <a:gdLst>
              <a:gd name="textAreaLeft" fmla="*/ 365760 w 792000"/>
              <a:gd name="textAreaRight" fmla="*/ 426240 w 792000"/>
              <a:gd name="textAreaTop" fmla="*/ 352800 h 763560"/>
              <a:gd name="textAreaBottom" fmla="*/ 410760 h 76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2"/>
          <p:cNvSpPr/>
          <p:nvPr/>
        </p:nvSpPr>
        <p:spPr>
          <a:xfrm rot="18909000">
            <a:off x="2682360" y="3045960"/>
            <a:ext cx="981360" cy="944640"/>
          </a:xfrm>
          <a:custGeom>
            <a:avLst/>
            <a:gdLst>
              <a:gd name="textAreaLeft" fmla="*/ 453240 w 981360"/>
              <a:gd name="textAreaRight" fmla="*/ 528120 w 981360"/>
              <a:gd name="textAreaTop" fmla="*/ 436320 h 944640"/>
              <a:gd name="textAreaBottom" fmla="*/ 508320 h 94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987280" y="0"/>
            <a:ext cx="360" cy="6858000"/>
            <a:chOff x="2987280" y="0"/>
            <a:chExt cx="360" cy="6858000"/>
          </a:xfrm>
        </p:grpSpPr>
        <p:sp>
          <p:nvSpPr>
            <p:cNvPr id="64" name="Line 33"/>
            <p:cNvSpPr/>
            <p:nvPr/>
          </p:nvSpPr>
          <p:spPr>
            <a:xfrm flipV="1">
              <a:off x="2987640" y="0"/>
              <a:ext cx="0" cy="685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 rot="10800000">
              <a:off x="298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156000" y="0"/>
            <a:ext cx="360" cy="6858000"/>
            <a:chOff x="6156000" y="0"/>
            <a:chExt cx="360" cy="6858000"/>
          </a:xfrm>
        </p:grpSpPr>
        <p:sp>
          <p:nvSpPr>
            <p:cNvPr id="67" name="Line 34"/>
            <p:cNvSpPr/>
            <p:nvPr/>
          </p:nvSpPr>
          <p:spPr>
            <a:xfrm flipV="1">
              <a:off x="6156360" y="0"/>
              <a:ext cx="0" cy="6858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 rot="10800000">
              <a:off x="61560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35"/>
          <p:cNvSpPr/>
          <p:nvPr/>
        </p:nvSpPr>
        <p:spPr>
          <a:xfrm flipH="1">
            <a:off x="5689440" y="3174840"/>
            <a:ext cx="758880" cy="731880"/>
          </a:xfrm>
          <a:custGeom>
            <a:avLst/>
            <a:gdLst>
              <a:gd name="textAreaLeft" fmla="*/ 349920 w 758880"/>
              <a:gd name="textAreaRight" fmla="*/ 408960 w 758880"/>
              <a:gd name="textAreaTop" fmla="*/ 337320 h 731880"/>
              <a:gd name="textAreaBottom" fmla="*/ 3945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0" y="9960"/>
                </a:lnTo>
                <a:lnTo>
                  <a:pt x="10800" y="0"/>
                </a:lnTo>
                <a:lnTo>
                  <a:pt x="11640" y="9960"/>
                </a:lnTo>
                <a:lnTo>
                  <a:pt x="21600" y="10800"/>
                </a:lnTo>
                <a:lnTo>
                  <a:pt x="11640" y="11640"/>
                </a:lnTo>
                <a:lnTo>
                  <a:pt x="10800" y="21600"/>
                </a:lnTo>
                <a:lnTo>
                  <a:pt x="9960" y="1164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6"/>
          <p:cNvSpPr/>
          <p:nvPr/>
        </p:nvSpPr>
        <p:spPr>
          <a:xfrm flipV="1" rot="18909600">
            <a:off x="5757480" y="3226680"/>
            <a:ext cx="625320" cy="603360"/>
          </a:xfrm>
          <a:custGeom>
            <a:avLst/>
            <a:gdLst>
              <a:gd name="textAreaLeft" fmla="*/ 288360 w 625320"/>
              <a:gd name="textAreaRight" fmla="*/ 336960 w 625320"/>
              <a:gd name="textAreaTop" fmla="*/ 278280 h 603360"/>
              <a:gd name="textAreaBottom" fmla="*/ 325080 h 60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BA5-B506-43CB-AB0C-783842627B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00"/>
                            </p:stCondLst>
                            <p:childTnLst>
                              <p:par>
                                <p:cTn id="30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0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6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6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95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97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99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820">
                                      <p:cBhvr>
                                        <p:cTn id="10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820">
                                      <p:cBhvr>
                                        <p:cTn id="10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1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799819">
                                      <p:cBhvr>
                                        <p:cTn id="1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3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标题 1"/>
          <p:cNvSpPr/>
          <p:nvPr/>
        </p:nvSpPr>
        <p:spPr>
          <a:xfrm>
            <a:off x="250920" y="1339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-33480" y="4940280"/>
            <a:ext cx="9166320" cy="1081080"/>
            <a:chOff x="-33480" y="4940280"/>
            <a:chExt cx="9166320" cy="1081080"/>
          </a:xfrm>
        </p:grpSpPr>
        <p:pic>
          <p:nvPicPr>
            <p:cNvPr id="73" name="图片 6" descr=""/>
            <p:cNvPicPr/>
            <p:nvPr/>
          </p:nvPicPr>
          <p:blipFill>
            <a:blip r:embed="rId1"/>
            <a:stretch/>
          </p:blipFill>
          <p:spPr>
            <a:xfrm>
              <a:off x="-33480" y="4940280"/>
              <a:ext cx="9166320" cy="10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30960" y="5206320"/>
              <a:ext cx="9066600" cy="543960"/>
              <a:chOff x="30960" y="5206320"/>
              <a:chExt cx="9066600" cy="543960"/>
            </a:xfrm>
          </p:grpSpPr>
          <p:pic>
            <p:nvPicPr>
              <p:cNvPr id="75" name="图片 2" descr=""/>
              <p:cNvPicPr/>
              <p:nvPr/>
            </p:nvPicPr>
            <p:blipFill>
              <a:blip r:embed="rId2"/>
              <a:stretch/>
            </p:blipFill>
            <p:spPr>
              <a:xfrm>
                <a:off x="30960" y="5213880"/>
                <a:ext cx="754560" cy="52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图片 84" descr=""/>
              <p:cNvPicPr/>
              <p:nvPr/>
            </p:nvPicPr>
            <p:blipFill>
              <a:blip r:embed="rId3"/>
              <a:stretch/>
            </p:blipFill>
            <p:spPr>
              <a:xfrm>
                <a:off x="838080" y="5213880"/>
                <a:ext cx="773280" cy="52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图片 85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0320" y="5209560"/>
                <a:ext cx="784440" cy="53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图片 8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81840" y="5213880"/>
                <a:ext cx="784440" cy="53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图片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3303000" y="5216040"/>
                <a:ext cx="784440" cy="53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图片 8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38560" y="5213880"/>
                <a:ext cx="784440" cy="53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图片 89" descr=""/>
              <p:cNvPicPr/>
              <p:nvPr/>
            </p:nvPicPr>
            <p:blipFill>
              <a:blip r:embed="rId8"/>
              <a:stretch/>
            </p:blipFill>
            <p:spPr>
              <a:xfrm>
                <a:off x="4982040" y="5216040"/>
                <a:ext cx="775440" cy="52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图片 90" descr=""/>
              <p:cNvPicPr/>
              <p:nvPr/>
            </p:nvPicPr>
            <p:blipFill>
              <a:blip r:embed="rId9"/>
              <a:stretch/>
            </p:blipFill>
            <p:spPr>
              <a:xfrm>
                <a:off x="5807880" y="5216040"/>
                <a:ext cx="785160" cy="53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图片 9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40920" y="5216040"/>
                <a:ext cx="785160" cy="53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图片 92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81160" y="5206320"/>
                <a:ext cx="797760" cy="54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图片 93" descr=""/>
              <p:cNvPicPr/>
              <p:nvPr/>
            </p:nvPicPr>
            <p:blipFill>
              <a:blip r:embed="rId12"/>
              <a:stretch/>
            </p:blipFill>
            <p:spPr>
              <a:xfrm>
                <a:off x="8322120" y="5216760"/>
                <a:ext cx="775440" cy="527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E3C-4EE0-4334-AF66-0A92127AF3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5" descr=""/>
          <p:cNvPicPr/>
          <p:nvPr/>
        </p:nvPicPr>
        <p:blipFill>
          <a:blip r:embed="rId1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"/>
          <p:cNvPicPr/>
          <p:nvPr/>
        </p:nvPicPr>
        <p:blipFill>
          <a:blip r:embed="rId2"/>
          <a:stretch/>
        </p:blipFill>
        <p:spPr>
          <a:xfrm>
            <a:off x="1031760" y="961920"/>
            <a:ext cx="7129440" cy="4843440"/>
          </a:xfrm>
          <a:prstGeom prst="rect">
            <a:avLst/>
          </a:prstGeom>
          <a:ln w="0">
            <a:noFill/>
          </a:ln>
        </p:spPr>
      </p:pic>
      <p:sp>
        <p:nvSpPr>
          <p:cNvPr id="89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温宝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中国传媒大学文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硕士研究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6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籍贯：内蒙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温宝臣在位于北京定福庄的中国传媒大学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号楼的教室里上自习，准备公务员考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温宝臣站在教学楼门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温宝臣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提高研究生补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5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E5C-EFA4-4DFC-B4AD-77DA748CD8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1042920" y="961920"/>
            <a:ext cx="7237440" cy="491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2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97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许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北京医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医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1c1c1c"/>
                </a:solidFill>
                <a:latin typeface="Calibri"/>
                <a:ea typeface="Calibri"/>
              </a:rPr>
              <a:t>52</a:t>
            </a: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籍贯：北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从业</a:t>
            </a:r>
            <a:r>
              <a:rPr b="0" lang="en-US" sz="1400" spc="-1" strike="noStrike">
                <a:solidFill>
                  <a:srgbClr val="1c1c1c"/>
                </a:solidFill>
                <a:latin typeface="Calibri"/>
                <a:ea typeface="Calibri"/>
              </a:rPr>
              <a:t>29</a:t>
            </a:r>
            <a:r>
              <a:rPr b="0" lang="zh-CN" sz="1400" spc="-1" strike="noStrike">
                <a:solidFill>
                  <a:srgbClr val="1c1c1c"/>
                </a:solidFill>
                <a:latin typeface="宋体"/>
                <a:ea typeface="宋体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许锋在北京医院心血管内科病房内询问病人手术后的情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许锋坐在值班台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许锋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真正落实医务人员按劳取酬的方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7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9F3-4DBF-4379-9E84-E12D7A63B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434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3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05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朱雪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西安文理学院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空乘专业二年级学生年龄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籍贯：湖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朱雪宜（右）和同学在天安门广场游览时走过天安门广场东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朱雪宜站在人民大会堂门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朱雪宜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能帮助大学生解决就业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0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4D4-FEC3-4B54-B3A6-73E3EB036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434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4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13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贾文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北京市大望路小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教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37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籍贯：北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从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8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贾文颖在大望路小学五年级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班上语文课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贾文颖站在教学楼的走廊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贾文颖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能从学生的长远发展及全面发展考虑，改进对学生的评价机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6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E06-B0CE-4D45-B201-641476BD7E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1"/>
          <a:stretch/>
        </p:blipFill>
        <p:spPr>
          <a:xfrm>
            <a:off x="1050840" y="965160"/>
            <a:ext cx="7121520" cy="4840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5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刘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星加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软件架构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9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籍贯：山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从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7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刘佳在位于北京“国贸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CBD”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的星加公司里工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刘佳站在公司的办公区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刘佳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提高“国贸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CBD”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区域互联网网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6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AF8-BDF1-45FE-9819-643BBAA169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45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50920" y="11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如果我能提一个“议案”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/N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5" descr=""/>
          <p:cNvPicPr/>
          <p:nvPr/>
        </p:nvPicPr>
        <p:blipFill>
          <a:blip r:embed="rId2"/>
          <a:stretch/>
        </p:blipFill>
        <p:spPr>
          <a:xfrm>
            <a:off x="7380360" y="117360"/>
            <a:ext cx="1620720" cy="560520"/>
          </a:xfrm>
          <a:prstGeom prst="rect">
            <a:avLst/>
          </a:prstGeom>
          <a:ln w="0">
            <a:noFill/>
          </a:ln>
        </p:spPr>
      </p:pic>
      <p:sp>
        <p:nvSpPr>
          <p:cNvPr id="129" name="直接连接符 8"/>
          <p:cNvSpPr/>
          <p:nvPr/>
        </p:nvSpPr>
        <p:spPr>
          <a:xfrm>
            <a:off x="0" y="83664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11"/>
          <p:cNvSpPr/>
          <p:nvPr/>
        </p:nvSpPr>
        <p:spPr>
          <a:xfrm>
            <a:off x="1042920" y="3500280"/>
            <a:ext cx="2160720" cy="230508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305080"/>
              <a:gd name="textAreaBottom" fmla="*/ 2199600 h 2305080"/>
            </a:gdLst>
            <a:ahLst/>
            <a:rect l="textAreaLeft" t="textAreaTop" r="textAreaRight" b="textAreaBottom"/>
            <a:pathLst>
              <a:path w="21600" h="23043">
                <a:moveTo>
                  <a:pt x="3600" y="0"/>
                </a:moveTo>
                <a:arcTo wR="3600" hR="3600" stAng="16200000" swAng="-5400000"/>
                <a:lnTo>
                  <a:pt x="0" y="19443"/>
                </a:lnTo>
                <a:arcTo wR="3600" hR="3600" stAng="10800000" swAng="-5400000"/>
                <a:lnTo>
                  <a:pt x="18000" y="230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aa18"/>
                </a:solidFill>
                <a:latin typeface="宋体"/>
                <a:ea typeface="宋体"/>
              </a:rPr>
              <a:t>张淑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北京京剧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京剧演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龄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34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籍贯：河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从业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3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  <a:ea typeface="宋体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179280" y="6021360"/>
            <a:ext cx="882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左：张淑景在北京长安大戏院的演员化妆间做上台前的准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上：张淑景站在化妆间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右下：张淑景写下的希望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提高京剧演员的待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3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7704000" y="64515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16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日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64A-6286-4C39-A38A-12E2A3356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7:3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37:58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