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11.gif" ContentType="image/gif"/>
  <Override PartName="/ppt/media/image6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  <p:custShowLst>
    <p:custShow name="自定义放映1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24"/>
        <p:sld r:id="rId15"/>
        <p:sld r:id="rId13"/>
        <p:sld r:id="rId14"/>
        <p:sld r:id="rId16"/>
        <p:sld r:id="rId17"/>
        <p:sld r:id="rId19"/>
        <p:sld r:id="rId20"/>
        <p:sld r:id="rId22"/>
        <p:sld r:id="rId18"/>
        <p:sld r:id="rId21"/>
        <p:sld r:id="rId2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custShow id="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F557-9B67-494A-8A51-1950D68C3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4C9D-4411-4A26-BA94-E1C692CA3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D6F-9C35-4426-83DE-A6F385C4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F0D5-95ED-4FC1-A1B9-660DB4B2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66A2-3CB9-4257-9057-F0718C9A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6744-C4FB-4B35-86A1-71F78548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22BE-093A-42EF-87E7-1AD4D381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D03-D82D-4994-9A89-C3B8BBA0F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3EDC-4A46-4AE9-8664-CFAF7BA97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3F5-7277-42EA-BE01-624415FE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37E7-D1ED-485B-8F64-A6FDD20F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D0EC-9C4B-4E02-97A0-0089D590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51D9-C0E5-422F-B6A1-9F9D1A0D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DE36-0633-4756-8656-39F9AA7F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AC4D-7E52-4C83-A60A-E90F6253F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"/>
          <p:cNvSpPr/>
          <p:nvPr/>
        </p:nvSpPr>
        <p:spPr>
          <a:xfrm>
            <a:off x="755640" y="141300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浪漫爱情通用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5638680" y="6019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PMingLiU"/>
                <a:ea typeface="华文彩云"/>
              </a:rPr>
              <a:t>送往天堂的信</a:t>
            </a:r>
            <a:r>
              <a:rPr b="0" lang="zh-CN" sz="2400" spc="-1" strike="noStrike">
                <a:solidFill>
                  <a:srgbClr val="ccecff"/>
                </a:solidFill>
                <a:latin typeface="Times New Roman"/>
                <a:ea typeface="MingLi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227760" y="2133720"/>
            <a:ext cx="1682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0b__x000c_,Arial"/>
              </a:rPr>
              <a:t>       </a:t>
            </a:r>
            <a:r>
              <a:rPr b="0" lang="zh-TW" sz="2800" spc="-1" strike="noStrike">
                <a:solidFill>
                  <a:srgbClr val="ccecff"/>
                </a:solidFill>
                <a:latin typeface="PMingLiU"/>
                <a:ea typeface="华文彩云"/>
              </a:rPr>
              <a:t>愛 是 翼 下 之 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ecff"/>
                </a:solidFill>
                <a:latin typeface="PMingLiU"/>
                <a:ea typeface="华文彩云"/>
              </a:rPr>
              <a:t>兩 心 相 隨        自 在 飛</a:t>
            </a:r>
            <a:r>
              <a:rPr b="0" lang="zh-CN" sz="2800" spc="-1" strike="noStrike">
                <a:solidFill>
                  <a:srgbClr val="ccecff"/>
                </a:solidFill>
                <a:latin typeface="Times New Roman"/>
                <a:ea typeface="华文彩云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G:\图片\新建文件夹1\回帖.jpg"/>
          <p:cNvPicPr/>
          <p:nvPr/>
        </p:nvPicPr>
        <p:blipFill>
          <a:blip r:embed="rId2"/>
          <a:stretch/>
        </p:blipFill>
        <p:spPr>
          <a:xfrm>
            <a:off x="228600" y="2286000"/>
            <a:ext cx="3238560" cy="32767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786960" y="2362320"/>
            <a:ext cx="183384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PMingLiU"/>
                <a:ea typeface="华文彩云"/>
              </a:rPr>
              <a:t>        </a:t>
            </a:r>
            <a:r>
              <a:rPr b="0" lang="zh-TW" sz="2400" spc="-1" strike="noStrike">
                <a:solidFill>
                  <a:srgbClr val="99ccff"/>
                </a:solidFill>
                <a:latin typeface="PMingLiU"/>
                <a:ea typeface="华文彩云"/>
              </a:rPr>
              <a:t>說不出的想念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ccff"/>
                </a:solidFill>
                <a:latin typeface="PMingLiU"/>
                <a:ea typeface="华文彩云"/>
              </a:rPr>
              <a:t>原來我們活在兩個世界</a:t>
            </a:r>
            <a:r>
              <a:rPr b="0" lang="zh-CN" sz="2400" spc="-1" strike="noStrike">
                <a:solidFill>
                  <a:srgbClr val="99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split dir="out" orient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380880" y="3808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华文彩云"/>
                <a:ea typeface="华文彩云"/>
              </a:rPr>
              <a:t>一片很寂寞的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304920" y="4114800"/>
            <a:ext cx="358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PMingLiU"/>
                <a:ea typeface="幼圆"/>
              </a:rPr>
              <a:t>再也不知道你的消</a:t>
            </a:r>
            <a:r>
              <a:rPr b="0" lang="zh-CN" sz="2400" spc="-1" strike="noStrike">
                <a:solidFill>
                  <a:srgbClr val="ccecff"/>
                </a:solidFill>
                <a:latin typeface="PMingLiU"/>
                <a:ea typeface="幼圆"/>
              </a:rPr>
              <a:t>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PMingLiU"/>
                <a:ea typeface="幼圆"/>
              </a:rPr>
              <a:t>再也不知道你的秘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PMingLiU"/>
                <a:ea typeface="幼圆"/>
              </a:rPr>
              <a:t>只有那熟悉事</a:t>
            </a:r>
            <a:r>
              <a:rPr b="0" lang="zh-CN" sz="2400" spc="-1" strike="noStrike">
                <a:solidFill>
                  <a:srgbClr val="ccecff"/>
                </a:solidFill>
                <a:latin typeface="Times New Roman"/>
                <a:ea typeface="幼圆"/>
              </a:rPr>
              <a:t> </a:t>
            </a:r>
            <a:r>
              <a:rPr b="0" lang="zh-CN" sz="2400" spc="-1" strike="noStrike">
                <a:solidFill>
                  <a:srgbClr val="ccecff"/>
                </a:solidFill>
                <a:latin typeface="Arial"/>
                <a:ea typeface="幼圆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PMingLiU"/>
                <a:ea typeface="幼圆"/>
              </a:rPr>
              <a:t>在那些黑色和白色的夢裏</a:t>
            </a:r>
            <a:r>
              <a:rPr b="0" lang="zh-CN" sz="2400" spc="-1" strike="noStrike">
                <a:solidFill>
                  <a:srgbClr val="ccecff"/>
                </a:solidFill>
                <a:latin typeface="Times New Roman"/>
                <a:ea typeface="幼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442120" y="1600200"/>
            <a:ext cx="2755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zh-TW" sz="2400" spc="-1" strike="noStrike">
                <a:solidFill>
                  <a:srgbClr val="ccecff"/>
                </a:solidFill>
                <a:latin typeface="PMingLiU"/>
                <a:ea typeface="MingLiU"/>
              </a:rPr>
              <a:t>就    讓     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PMingLiU"/>
                <a:ea typeface="MingLiU"/>
              </a:rPr>
              <a:t>       </a:t>
            </a:r>
            <a:r>
              <a:rPr b="0" lang="zh-TW" sz="2400" spc="-1" strike="noStrike">
                <a:solidFill>
                  <a:srgbClr val="ccecff"/>
                </a:solidFill>
                <a:latin typeface="PMingLiU"/>
                <a:ea typeface="MingLiU"/>
              </a:rPr>
              <a:t>擦 幹 又 流 出 的 </a:t>
            </a:r>
            <a:r>
              <a:rPr b="0" lang="zh-CN" sz="2400" spc="-1" strike="noStrike">
                <a:solidFill>
                  <a:srgbClr val="ccecff"/>
                </a:solidFill>
                <a:latin typeface="PMingLiU"/>
                <a:ea typeface="MingLiU"/>
              </a:rPr>
              <a:t>泪 </a:t>
            </a:r>
            <a:r>
              <a:rPr b="0" lang="zh-TW" sz="2400" spc="-1" strike="noStrike">
                <a:solidFill>
                  <a:srgbClr val="ccecff"/>
                </a:solidFill>
                <a:latin typeface="PMingLiU"/>
                <a:ea typeface="MingLiU"/>
              </a:rPr>
              <a:t>水</a:t>
            </a:r>
            <a:r>
              <a:rPr b="0" lang="zh-CN" sz="2400" spc="-1" strike="noStrike">
                <a:solidFill>
                  <a:srgbClr val="ccecff"/>
                </a:solidFill>
                <a:latin typeface="Arial"/>
                <a:ea typeface="MingLi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ecff"/>
                </a:solidFill>
                <a:latin typeface="Arial"/>
                <a:ea typeface="MingLiU"/>
              </a:rPr>
              <a:t>     </a:t>
            </a:r>
            <a:r>
              <a:rPr b="0" lang="zh-TW" sz="2400" spc="-1" strike="noStrike">
                <a:solidFill>
                  <a:srgbClr val="ccecff"/>
                </a:solidFill>
                <a:latin typeface="PMingLiU"/>
                <a:ea typeface="MingLiU"/>
              </a:rPr>
              <a:t>化  作 漫  天 相 思 的 </a:t>
            </a:r>
            <a:r>
              <a:rPr b="0" lang="zh-CN" sz="2400" spc="-1" strike="noStrike">
                <a:solidFill>
                  <a:srgbClr val="ccecff"/>
                </a:solidFill>
                <a:latin typeface="PMingLiU"/>
                <a:ea typeface="MingLiU"/>
              </a:rPr>
              <a:t>雨</a:t>
            </a:r>
            <a:r>
              <a:rPr b="0" lang="zh-CN" sz="2400" spc="-1" strike="noStrike">
                <a:solidFill>
                  <a:srgbClr val="ccecff"/>
                </a:solidFill>
                <a:latin typeface="Times New Roman"/>
                <a:ea typeface="MingLiU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split dir="out" orient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6172200" y="1371600"/>
            <a:ext cx="2743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初秋的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_x000b__x000c_,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城市的老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真的孤單走過憂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心碎還要逞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想爲你披件外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天涼要愛惜自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89548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华文彩云"/>
              </a:rPr>
              <a:t>灰色的天獨自彷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0" y="53352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33"/>
                </a:solidFill>
                <a:latin typeface="宋体"/>
                <a:ea typeface="华文彩云"/>
              </a:rPr>
              <a:t>沉默支撑跃过陌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33"/>
                </a:solidFill>
                <a:latin typeface="宋体"/>
                <a:ea typeface="华文彩云"/>
              </a:rPr>
              <a:t>静静看着凌晨黄昏</a:t>
            </a:r>
            <a:r>
              <a:rPr b="0" lang="zh-CN" sz="2400" spc="-1" strike="noStrike">
                <a:solidFill>
                  <a:srgbClr val="ccff33"/>
                </a:solidFill>
                <a:latin typeface="Times New Roman"/>
                <a:ea typeface="华文彩云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200400" y="4343400"/>
            <a:ext cx="1219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华文彩云"/>
              </a:rPr>
              <a:t>越走越遠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华文彩云"/>
              </a:rPr>
              <a:t>遠方的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华文彩云"/>
              </a:rPr>
              <a:t>回憶的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PMingLiU"/>
                <a:ea typeface="华文彩云"/>
              </a:rPr>
              <a:t>你的微笑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6" presetSubtype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3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" y="380880"/>
            <a:ext cx="38098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PMingLiU"/>
                <a:ea typeface="PMingLiU"/>
              </a:rPr>
              <a:t>      </a:t>
            </a:r>
            <a:r>
              <a:rPr b="0" lang="zh-TW" sz="2400" spc="-1" strike="noStrike">
                <a:solidFill>
                  <a:srgbClr val="99ccff"/>
                </a:solidFill>
                <a:latin typeface="PMingLiU"/>
                <a:ea typeface="华文彩云"/>
              </a:rPr>
              <a:t>白色的風箏</a:t>
            </a:r>
            <a:r>
              <a:rPr b="0" lang="zh-CN" sz="2400" spc="-1" strike="noStrike">
                <a:solidFill>
                  <a:srgbClr val="99ccff"/>
                </a:solidFill>
                <a:latin typeface="Times New Roman"/>
                <a:ea typeface="华文彩云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ccff"/>
                </a:solidFill>
                <a:latin typeface="PMingLiU"/>
                <a:ea typeface="华文彩云"/>
              </a:rPr>
              <a:t>              </a:t>
            </a:r>
            <a:r>
              <a:rPr b="0" lang="zh-TW" sz="2400" spc="-1" strike="noStrike">
                <a:solidFill>
                  <a:srgbClr val="99ccff"/>
                </a:solidFill>
                <a:latin typeface="PMingLiU"/>
                <a:ea typeface="华文彩云"/>
              </a:rPr>
              <a:t>安靜的純真</a:t>
            </a:r>
            <a:r>
              <a:rPr b="0" lang="zh-CN" sz="2400" spc="-1" strike="noStrike">
                <a:solidFill>
                  <a:srgbClr val="99ccff"/>
                </a:solidFill>
                <a:latin typeface="Times New Roman"/>
                <a:ea typeface="华文彩云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ccff"/>
                </a:solidFill>
                <a:latin typeface="PMingLiU"/>
                <a:ea typeface="华文彩云"/>
              </a:rPr>
              <a:t>真實的感覺</a:t>
            </a:r>
            <a:r>
              <a:rPr b="0" lang="zh-CN" sz="2400" spc="-1" strike="noStrike">
                <a:solidFill>
                  <a:srgbClr val="99ccff"/>
                </a:solidFill>
                <a:latin typeface="Times New Roman"/>
                <a:ea typeface="华文彩云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ccff"/>
                </a:solidFill>
                <a:latin typeface="PMingLiU"/>
                <a:ea typeface="华文彩云"/>
              </a:rPr>
              <a:t>                      </a:t>
            </a:r>
            <a:r>
              <a:rPr b="0" lang="zh-TW" sz="2400" spc="-1" strike="noStrike">
                <a:solidFill>
                  <a:srgbClr val="99ccff"/>
                </a:solidFill>
                <a:latin typeface="PMingLiU"/>
                <a:ea typeface="华文彩云"/>
              </a:rPr>
              <a:t>夢境般遙遠</a:t>
            </a:r>
            <a:r>
              <a:rPr b="0" lang="zh-CN" sz="2400" spc="-1" strike="noStrike">
                <a:solidFill>
                  <a:srgbClr val="99ccff"/>
                </a:solidFill>
                <a:latin typeface="Times New Roman"/>
                <a:ea typeface="华文彩云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ccff"/>
                </a:solidFill>
                <a:latin typeface="PMingLiU"/>
                <a:ea typeface="华文彩云"/>
              </a:rPr>
              <a:t>    </a:t>
            </a:r>
            <a:r>
              <a:rPr b="0" lang="zh-TW" sz="2400" spc="-1" strike="noStrike">
                <a:solidFill>
                  <a:srgbClr val="99ccff"/>
                </a:solidFill>
                <a:latin typeface="PMingLiU"/>
                <a:ea typeface="华文彩云"/>
              </a:rPr>
              <a:t>甜甜的海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ccff"/>
                </a:solidFill>
                <a:latin typeface="Times New Roman"/>
                <a:ea typeface="华文彩云"/>
              </a:rPr>
              <a:t> </a:t>
            </a:r>
            <a:r>
              <a:rPr b="0" lang="zh-CN" sz="2400" spc="-1" strike="noStrike">
                <a:solidFill>
                  <a:srgbClr val="99ccff"/>
                </a:solidFill>
                <a:latin typeface="_x000b__x000c_,Arial"/>
                <a:ea typeface="华文彩云"/>
              </a:rPr>
              <a:t>              </a:t>
            </a:r>
            <a:r>
              <a:rPr b="0" lang="zh-TW" sz="2400" spc="-1" strike="noStrike">
                <a:solidFill>
                  <a:srgbClr val="99ccff"/>
                </a:solidFill>
                <a:latin typeface="PMingLiU"/>
                <a:ea typeface="华文彩云"/>
              </a:rPr>
              <a:t>複雜的眼淚</a:t>
            </a:r>
            <a:r>
              <a:rPr b="0" lang="zh-CN" sz="2400" spc="-1" strike="noStrike">
                <a:solidFill>
                  <a:srgbClr val="99ccff"/>
                </a:solidFill>
                <a:latin typeface="Times New Roman"/>
                <a:ea typeface="华文彩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5867280" y="380880"/>
            <a:ext cx="327672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PMingLiU"/>
                <a:ea typeface="华文彩云"/>
              </a:rPr>
              <a:t>曾經走過的昨天</a:t>
            </a:r>
            <a:r>
              <a:rPr b="0" lang="zh-TW" sz="1800" spc="-1" strike="noStrike">
                <a:solidFill>
                  <a:srgbClr val="ffffcc"/>
                </a:solidFill>
                <a:latin typeface="_x000b__x000c_,Arial"/>
                <a:ea typeface="华文彩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PMingLiU"/>
                <a:ea typeface="华文彩云"/>
              </a:rPr>
              <a:t>越來越遠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PMingLiU"/>
                <a:ea typeface="华文彩云"/>
              </a:rPr>
              <a:t>原來我們活在</a:t>
            </a:r>
            <a:r>
              <a:rPr b="0" lang="zh-TW" sz="1800" spc="-1" strike="noStrike">
                <a:solidFill>
                  <a:srgbClr val="ffffcc"/>
                </a:solidFill>
                <a:latin typeface="_x000b__x000c_,Arial"/>
                <a:ea typeface="华文彩云"/>
              </a:rPr>
              <a:t> </a:t>
            </a:r>
            <a:r>
              <a:rPr b="0" lang="zh-TW" sz="1800" spc="-1" strike="noStrike">
                <a:solidFill>
                  <a:srgbClr val="ffffcc"/>
                </a:solidFill>
                <a:latin typeface="PMingLiU"/>
                <a:ea typeface="华文彩云"/>
              </a:rPr>
              <a:t>兩個世界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PMingLiU"/>
                <a:ea typeface="华文彩云"/>
              </a:rPr>
              <a:t>北極星的眼淚</a:t>
            </a:r>
            <a:r>
              <a:rPr b="0" lang="zh-TW" sz="1800" spc="-1" strike="noStrike">
                <a:solidFill>
                  <a:srgbClr val="ffffcc"/>
                </a:solidFill>
                <a:latin typeface="_x000b__x000c_,Arial"/>
                <a:ea typeface="华文彩云"/>
              </a:rPr>
              <a:t> </a:t>
            </a:r>
            <a:r>
              <a:rPr b="0" lang="zh-TW" sz="1800" spc="-1" strike="noStrike">
                <a:solidFill>
                  <a:srgbClr val="ffffcc"/>
                </a:solidFill>
                <a:latin typeface="PMingLiU"/>
                <a:ea typeface="华文彩云"/>
              </a:rPr>
              <a:t>淹沒在心裏面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PMingLiU"/>
                <a:ea typeface="华文彩云"/>
              </a:rPr>
              <a:t>就在放開雙手的瞬間</a:t>
            </a:r>
            <a:r>
              <a:rPr b="0" lang="zh-TW" sz="1800" spc="-1" strike="noStrike">
                <a:solidFill>
                  <a:srgbClr val="ffffcc"/>
                </a:solidFill>
                <a:latin typeface="_x000b__x000c_,Arial"/>
                <a:ea typeface="华文彩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PMingLiU"/>
                <a:ea typeface="华文彩云"/>
              </a:rPr>
              <a:t>愛撕成兩邊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PMingLiU"/>
                <a:ea typeface="华文彩云"/>
              </a:rPr>
              <a:t>我擡頭看著</a:t>
            </a:r>
            <a:r>
              <a:rPr b="0" lang="zh-TW" sz="1800" spc="-1" strike="noStrike">
                <a:solidFill>
                  <a:srgbClr val="ffffcc"/>
                </a:solidFill>
                <a:latin typeface="_x000b__x000c_,Arial"/>
                <a:ea typeface="华文彩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PMingLiU"/>
                <a:ea typeface="华文彩云"/>
              </a:rPr>
              <a:t>愛不見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PMingLiU"/>
                <a:ea typeface="华文彩云"/>
              </a:rPr>
              <a:t>整個宇宙都流眼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split dir="out" orient="ver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609480" y="533520"/>
            <a:ext cx="4953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00"/>
                </a:solidFill>
                <a:latin typeface="PMingLiU"/>
                <a:ea typeface="华文彩云"/>
              </a:rPr>
              <a:t>昨天的　曾經的　我的微笑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  <a:ea typeface="华文彩云"/>
              </a:rPr>
              <a:t> </a:t>
            </a:r>
            <a:r>
              <a:rPr b="0" lang="zh-CN" sz="2400" spc="-1" strike="noStrike">
                <a:solidFill>
                  <a:srgbClr val="ffcc00"/>
                </a:solidFill>
                <a:latin typeface="_x000b__x000c_,Arial"/>
                <a:ea typeface="华文彩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00"/>
                </a:solidFill>
                <a:latin typeface="PMingLiU"/>
                <a:ea typeface="华文彩云"/>
              </a:rPr>
              <a:t>天黑</a:t>
            </a:r>
            <a:r>
              <a:rPr b="0" lang="zh-CN" sz="2400" spc="-1" strike="noStrike">
                <a:solidFill>
                  <a:srgbClr val="ffcc00"/>
                </a:solidFill>
                <a:latin typeface="PMingLiU"/>
                <a:ea typeface="华文彩云"/>
              </a:rPr>
              <a:t>黑</a:t>
            </a:r>
            <a:r>
              <a:rPr b="0" lang="zh-TW" sz="2400" spc="-1" strike="noStrike">
                <a:solidFill>
                  <a:srgbClr val="ffcc00"/>
                </a:solidFill>
                <a:latin typeface="PMingLiU"/>
                <a:ea typeface="华文彩云"/>
              </a:rPr>
              <a:t>路茫茫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00"/>
                </a:solidFill>
                <a:latin typeface="PMingLiU"/>
                <a:ea typeface="华文彩云"/>
              </a:rPr>
              <a:t>心中的徬徨　沒猶豫的方向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  <a:ea typeface="华文彩云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00"/>
                </a:solidFill>
                <a:latin typeface="PMingLiU"/>
                <a:ea typeface="华文彩云"/>
              </a:rPr>
              <a:t>希望的翅膀　一天終張開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00"/>
                </a:solidFill>
                <a:latin typeface="PMingLiU"/>
                <a:ea typeface="华文彩云"/>
              </a:rPr>
              <a:t>飛翔天上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  <a:ea typeface="华文彩云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9900"/>
                </a:solidFill>
                <a:latin typeface="PMingLiU"/>
                <a:ea typeface="华文彩云"/>
              </a:rPr>
              <a:t>分開的感傷　想飛的徬徨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9900"/>
                </a:solidFill>
                <a:latin typeface="PMingLiU"/>
                <a:ea typeface="华文彩云"/>
              </a:rPr>
              <a:t>有天跑出想像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  <a:ea typeface="华文彩云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9900"/>
                </a:solidFill>
                <a:latin typeface="PMingLiU"/>
                <a:ea typeface="华文彩云"/>
              </a:rPr>
              <a:t>心中一個夢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9900"/>
                </a:solidFill>
                <a:latin typeface="PMingLiU"/>
                <a:ea typeface="华文彩云"/>
              </a:rPr>
              <a:t>想雨後彩虹　畫在天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split dir="out" orient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28600" y="304920"/>
            <a:ext cx="3352680" cy="70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66ff"/>
                </a:solidFill>
                <a:latin typeface="PMingLiU"/>
                <a:ea typeface="华文彩云"/>
              </a:rPr>
              <a:t>看天空　飄的雪　還有夢</a:t>
            </a:r>
            <a:r>
              <a:rPr b="0" lang="zh-CN" sz="1800" spc="-1" strike="noStrike">
                <a:solidFill>
                  <a:srgbClr val="6666ff"/>
                </a:solidFill>
                <a:latin typeface="Times New Roman"/>
                <a:ea typeface="华文彩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66ff"/>
                </a:solidFill>
                <a:latin typeface="PMingLiU"/>
                <a:ea typeface="华文彩云"/>
              </a:rPr>
              <a:t>看生命　回家路　路長漫漫</a:t>
            </a:r>
            <a:r>
              <a:rPr b="0" lang="zh-CN" sz="1800" spc="-1" strike="noStrike">
                <a:solidFill>
                  <a:srgbClr val="6666ff"/>
                </a:solidFill>
                <a:latin typeface="Times New Roman"/>
                <a:ea typeface="华文彩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66ff"/>
                </a:solidFill>
                <a:latin typeface="PMingLiU"/>
                <a:ea typeface="华文彩云"/>
              </a:rPr>
              <a:t>看陰天　的歲月　越走越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66ff"/>
                </a:solidFill>
                <a:latin typeface="PMingLiU"/>
                <a:ea typeface="华文彩云"/>
              </a:rPr>
              <a:t>遠方的　回憶的　你的微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66ff"/>
                </a:solidFill>
                <a:latin typeface="PMingLiU"/>
                <a:ea typeface="华文彩云"/>
              </a:rPr>
              <a:t>看天空　飛的鳥　還有夢</a:t>
            </a:r>
            <a:r>
              <a:rPr b="0" lang="zh-CN" sz="1800" spc="-1" strike="noStrike">
                <a:solidFill>
                  <a:srgbClr val="6666ff"/>
                </a:solidFill>
                <a:latin typeface="Times New Roman"/>
                <a:ea typeface="华文彩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66ff"/>
                </a:solidFill>
                <a:latin typeface="PMingLiU"/>
                <a:ea typeface="华文彩云"/>
              </a:rPr>
              <a:t>看清風　像帶路　吹散淡霧</a:t>
            </a:r>
            <a:r>
              <a:rPr b="0" lang="zh-CN" sz="1800" spc="-1" strike="noStrike">
                <a:solidFill>
                  <a:srgbClr val="6666ff"/>
                </a:solidFill>
                <a:latin typeface="Times New Roman"/>
                <a:ea typeface="华文彩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66ff"/>
                </a:solidFill>
                <a:latin typeface="PMingLiU"/>
                <a:ea typeface="华文彩云"/>
              </a:rPr>
              <a:t>看冬天　悲的雪　越來越遠</a:t>
            </a:r>
            <a:r>
              <a:rPr b="0" lang="zh-CN" sz="1800" spc="-1" strike="noStrike">
                <a:solidFill>
                  <a:srgbClr val="6666ff"/>
                </a:solidFill>
                <a:latin typeface="Times New Roman"/>
                <a:ea typeface="华文彩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66ff"/>
                </a:solidFill>
                <a:latin typeface="PMingLiU"/>
                <a:ea typeface="华文彩云"/>
              </a:rPr>
              <a:t>昨天的　曾經的　我的微笑</a:t>
            </a:r>
            <a:r>
              <a:rPr b="0" lang="zh-CN" sz="1800" spc="-1" strike="noStrike">
                <a:solidFill>
                  <a:srgbClr val="6666ff"/>
                </a:solidFill>
                <a:latin typeface="Times New Roman"/>
                <a:ea typeface="华文彩云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66ff"/>
                </a:solidFill>
                <a:latin typeface="PMingLiU"/>
                <a:ea typeface="华文彩云"/>
              </a:rPr>
              <a:t>天黑路茫茫　心中的徬徨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66ff"/>
                </a:solidFill>
                <a:latin typeface="PMingLiU"/>
                <a:ea typeface="华文彩云"/>
              </a:rPr>
              <a:t>沒猶豫的方向</a:t>
            </a:r>
            <a:r>
              <a:rPr b="0" lang="zh-CN" sz="1800" spc="-1" strike="noStrike">
                <a:solidFill>
                  <a:srgbClr val="6666ff"/>
                </a:solidFill>
                <a:latin typeface="Times New Roman"/>
                <a:ea typeface="华文彩云"/>
              </a:rPr>
              <a:t> </a:t>
            </a:r>
            <a:r>
              <a:rPr b="0" lang="zh-TW" sz="1800" spc="-1" strike="noStrike">
                <a:solidFill>
                  <a:srgbClr val="6666ff"/>
                </a:solidFill>
                <a:latin typeface="PMingLiU"/>
                <a:ea typeface="华文彩云"/>
              </a:rPr>
              <a:t>希望的翅膀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66ff"/>
                </a:solidFill>
                <a:latin typeface="PMingLiU"/>
                <a:ea typeface="华文彩云"/>
              </a:rPr>
              <a:t>一天終張開　飛翔天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66ff"/>
                </a:solidFill>
                <a:latin typeface="Times New Roman"/>
                <a:ea typeface="华文彩云"/>
              </a:rPr>
              <a:t> </a:t>
            </a:r>
            <a:r>
              <a:rPr b="0" lang="zh-TW" sz="1800" spc="-1" strike="noStrike">
                <a:solidFill>
                  <a:srgbClr val="6666ff"/>
                </a:solidFill>
                <a:latin typeface="PMingLiU"/>
                <a:ea typeface="华文彩云"/>
              </a:rPr>
              <a:t>分開的感傷　想飛的徬徨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66ff"/>
                </a:solidFill>
                <a:latin typeface="PMingLiU"/>
                <a:ea typeface="华文彩云"/>
              </a:rPr>
              <a:t>有天跑出想像</a:t>
            </a:r>
            <a:r>
              <a:rPr b="0" lang="zh-CN" sz="1800" spc="-1" strike="noStrike">
                <a:solidFill>
                  <a:srgbClr val="6666ff"/>
                </a:solidFill>
                <a:latin typeface="Times New Roman"/>
                <a:ea typeface="华文彩云"/>
              </a:rPr>
              <a:t> </a:t>
            </a:r>
            <a:r>
              <a:rPr b="0" lang="zh-TW" sz="1800" spc="-1" strike="noStrike">
                <a:solidFill>
                  <a:srgbClr val="6666ff"/>
                </a:solidFill>
                <a:latin typeface="PMingLiU"/>
                <a:ea typeface="华文彩云"/>
              </a:rPr>
              <a:t>心中一個夢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6666ff"/>
                </a:solidFill>
                <a:latin typeface="PMingLiU"/>
                <a:ea typeface="华文彩云"/>
              </a:rPr>
              <a:t>想雨後彩虹　畫在天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99ff"/>
                </a:solidFill>
                <a:latin typeface="Times New Roman"/>
                <a:ea typeface="华文彩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split dir="out" orient="ver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362160" y="380880"/>
            <a:ext cx="963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MingLiU"/>
                <a:ea typeface="PMingLiU"/>
              </a:rPr>
              <a:t>   </a:t>
            </a:r>
            <a:r>
              <a:rPr b="0" lang="zh-TW" sz="1800" spc="-1" strike="noStrike">
                <a:solidFill>
                  <a:srgbClr val="99ccff"/>
                </a:solidFill>
                <a:latin typeface="华文彩云"/>
                <a:ea typeface="华文彩云"/>
              </a:rPr>
              <a:t>默 默 許 下 心  願        不 知 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99ccff"/>
                </a:solidFill>
                <a:latin typeface="华文彩云"/>
                <a:ea typeface="华文彩云"/>
              </a:rPr>
              <a:t>遠  方 的 星 星 是 否 能 夠 聽 的 見</a:t>
            </a:r>
            <a:r>
              <a:rPr b="0" lang="zh-TW" sz="1800" spc="-1" strike="noStrike">
                <a:solidFill>
                  <a:srgbClr val="99ccff"/>
                </a:solidFill>
                <a:latin typeface="Times New Roman"/>
                <a:ea typeface="华文彩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split dir="out" orient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295280" y="228600"/>
            <a:ext cx="2210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PMingLiU"/>
                <a:ea typeface="华文彩云"/>
              </a:rPr>
              <a:t>月光儘是從前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PMingLiU"/>
                <a:ea typeface="华文彩云"/>
              </a:rPr>
              <a:t>蒼白了的想念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PMingLiU"/>
                <a:ea typeface="华文彩云"/>
              </a:rPr>
              <a:t>你眺望著天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 </a:t>
            </a:r>
            <a:r>
              <a:rPr b="0" lang="zh-TW" sz="2400" spc="-1" strike="noStrike">
                <a:solidFill>
                  <a:srgbClr val="ffffcc"/>
                </a:solidFill>
                <a:latin typeface="PMingLiU"/>
                <a:ea typeface="华文彩云"/>
              </a:rPr>
              <a:t>我眺望你的臉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PMingLiU"/>
                <a:ea typeface="华文彩云"/>
              </a:rPr>
              <a:t>緊記你的容顔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cc"/>
                </a:solidFill>
                <a:latin typeface="PMingLiU"/>
                <a:ea typeface="华文彩云"/>
              </a:rPr>
              <a:t>來世把你尋找</a:t>
            </a:r>
            <a:r>
              <a:rPr b="0" lang="zh-CN" sz="24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split dir="out" orient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4495680" y="99072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99"/>
                </a:solidFill>
                <a:latin typeface="华文彩云"/>
                <a:ea typeface="华文彩云"/>
              </a:rPr>
              <a:t>記憶的天堂</a:t>
            </a:r>
            <a:r>
              <a:rPr b="0" lang="zh-CN" sz="48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75560" y="914400"/>
            <a:ext cx="911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99ff"/>
                </a:solidFill>
                <a:latin typeface="华文彩云"/>
                <a:ea typeface="华文彩云"/>
              </a:rPr>
              <a:t>回到過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-133920" y="228600"/>
            <a:ext cx="9118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TW" sz="2400" spc="-1" strike="noStrike">
                <a:solidFill>
                  <a:srgbClr val="3399ff"/>
                </a:solidFill>
                <a:latin typeface="PMingLiU"/>
                <a:ea typeface="华文彩云"/>
              </a:rPr>
              <a:t>回到和你最初的約定</a:t>
            </a:r>
            <a:r>
              <a:rPr b="0" lang="zh-CN" sz="2400" spc="-1" strike="noStrike">
                <a:solidFill>
                  <a:srgbClr val="3399ff"/>
                </a:solidFill>
                <a:latin typeface="Times New Roman"/>
                <a:ea typeface="华文彩云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7150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3399ff"/>
                </a:solidFill>
                <a:latin typeface="华文彩云"/>
                <a:ea typeface="华文彩云"/>
              </a:rPr>
              <a:t>最美最真最純的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6324480" y="152280"/>
            <a:ext cx="2819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PMingLiU"/>
                <a:ea typeface="MingLiU"/>
              </a:rPr>
              <a:t>通往幸福的旅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PMingLiU"/>
                <a:ea typeface="MingLiU"/>
              </a:rPr>
              <a:t>黃昏才領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PMingLiU"/>
                <a:ea typeface="MingLiU"/>
              </a:rPr>
              <a:t>我會好好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PMingLiU"/>
                <a:ea typeface="MingLiU"/>
              </a:rPr>
              <a:t>花還香香的</a:t>
            </a:r>
            <a:r>
              <a:rPr b="0" lang="zh-CN" sz="2000" spc="-1" strike="noStrike">
                <a:solidFill>
                  <a:srgbClr val="ffffcc"/>
                </a:solidFill>
                <a:latin typeface="Times New Roman"/>
                <a:ea typeface="MingLiU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PMingLiU"/>
                <a:ea typeface="MingLiU"/>
              </a:rPr>
              <a:t>時間一直去回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PMingLiU"/>
                <a:ea typeface="MingLiU"/>
              </a:rPr>
              <a:t>真美麗</a:t>
            </a:r>
            <a:r>
              <a:rPr b="0" lang="zh-CN" sz="2000" spc="-1" strike="noStrike">
                <a:solidFill>
                  <a:srgbClr val="ffffcc"/>
                </a:solidFill>
                <a:latin typeface="Times New Roman"/>
                <a:ea typeface="MingLiU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PMingLiU"/>
                <a:ea typeface="MingLiU"/>
              </a:rPr>
              <a:t>我是想著你一直想著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PMingLiU"/>
                <a:ea typeface="MingLiU"/>
              </a:rPr>
              <a:t>要給你遠方的祝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PMingLiU"/>
                <a:ea typeface="MingLiU"/>
              </a:rPr>
              <a:t>那是我心中的幸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cc"/>
                </a:solidFill>
                <a:latin typeface="PMingLiU"/>
                <a:ea typeface="MingLiU"/>
              </a:rPr>
              <a:t>^-^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MingLiU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334120" y="63244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宋体"/>
                <a:ea typeface="华文彩云"/>
              </a:rPr>
              <a:t>燃烧的梦想</a:t>
            </a:r>
            <a:r>
              <a:rPr b="0" lang="zh-CN" sz="20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 </a:t>
            </a:r>
            <a:r>
              <a:rPr b="0" lang="zh-CN" sz="2000" spc="-1" strike="noStrike">
                <a:solidFill>
                  <a:srgbClr val="ffffcc"/>
                </a:solidFill>
                <a:latin typeface="宋体"/>
                <a:ea typeface="华文彩云"/>
              </a:rPr>
              <a:t>青春的岁月</a:t>
            </a:r>
            <a:r>
              <a:rPr b="0" lang="zh-CN" sz="20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304920" y="304920"/>
            <a:ext cx="2971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PMingLiU"/>
                <a:ea typeface="华文彩云"/>
              </a:rPr>
              <a:t>有人說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PMingLiU"/>
                <a:ea typeface="华文彩云"/>
              </a:rPr>
              <a:t>天剛要黑的時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PMingLiU"/>
                <a:ea typeface="华文彩云"/>
              </a:rPr>
              <a:t>在天邊出現的第一顆星星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cc"/>
                </a:solidFill>
                <a:latin typeface="PMingLiU"/>
                <a:ea typeface="华文彩云"/>
              </a:rPr>
              <a:t>它叫黃昏曉</a:t>
            </a:r>
            <a:r>
              <a:rPr b="0" lang="zh-CN" sz="1800" spc="-1" strike="noStrike">
                <a:solidFill>
                  <a:srgbClr val="ffffcc"/>
                </a:solidFill>
                <a:latin typeface="Times New Roman"/>
                <a:ea typeface="华文彩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900000" y="648648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d0d0d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d0d0d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split dir="out" orient="vert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7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8" nodeType="after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3" nodeType="afterEffect" fill="hold" presetClass="entr" presetID="7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152280" y="2895480"/>
            <a:ext cx="4800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6600"/>
                </a:solidFill>
                <a:latin typeface="PMingLiU"/>
                <a:ea typeface="MingLiU"/>
              </a:rPr>
              <a:t>然而</a:t>
            </a:r>
            <a:r>
              <a:rPr b="0" lang="zh-TW" sz="2400" spc="-1" strike="noStrike">
                <a:solidFill>
                  <a:srgbClr val="996600"/>
                </a:solidFill>
                <a:latin typeface="Times New Roman"/>
                <a:ea typeface="MingLi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6600"/>
                </a:solidFill>
                <a:latin typeface="PMingLiU"/>
                <a:ea typeface="MingLiU"/>
              </a:rPr>
              <a:t>那一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6600"/>
                </a:solidFill>
                <a:latin typeface="PMingLiU"/>
                <a:ea typeface="MingLiU"/>
              </a:rPr>
              <a:t>你卻毫無聲息的離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6600"/>
                </a:solidFill>
                <a:latin typeface="PMingLiU"/>
                <a:ea typeface="MingLiU"/>
              </a:rPr>
              <a:t>將你的天使獨自地遺留在這個世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6600"/>
                </a:solidFill>
                <a:latin typeface="PMingLiU"/>
                <a:ea typeface="MingLiU"/>
              </a:rPr>
              <a:t>還有這個家</a:t>
            </a:r>
            <a:r>
              <a:rPr b="0" lang="zh-TW" sz="2400" spc="-1" strike="noStrike">
                <a:solidFill>
                  <a:srgbClr val="996600"/>
                </a:solidFill>
                <a:latin typeface="PMingLiU"/>
                <a:ea typeface="MingLiU"/>
              </a:rPr>
              <a:t>#_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PMingLiU"/>
              </a:rPr>
              <a:t> </a:t>
            </a:r>
            <a:r>
              <a:rPr b="0" lang="zh-TW" sz="2400" spc="-1" strike="noStrike">
                <a:solidFill>
                  <a:srgbClr val="000000"/>
                </a:solidFill>
                <a:latin typeface="PMingLi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G:\图片\新建文件夹1\我的视频\棒棒糖.gif"/>
          <p:cNvPicPr/>
          <p:nvPr/>
        </p:nvPicPr>
        <p:blipFill>
          <a:blip r:embed="rId2"/>
          <a:stretch/>
        </p:blipFill>
        <p:spPr>
          <a:xfrm>
            <a:off x="4876920" y="0"/>
            <a:ext cx="536400" cy="102888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plit dir="out" orient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:\图片\新建文件夹1\我的视频\娃娃.gif"/>
          <p:cNvPicPr/>
          <p:nvPr/>
        </p:nvPicPr>
        <p:blipFill>
          <a:blip r:embed="rId2"/>
          <a:stretch/>
        </p:blipFill>
        <p:spPr>
          <a:xfrm>
            <a:off x="6880320" y="0"/>
            <a:ext cx="2263680" cy="1622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685800" y="1600200"/>
            <a:ext cx="5410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是一个充满希望的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85800" y="22096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因为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那一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289548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上帝禁不起雪白世界的诱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57200" y="3581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化身为一个小宝宝降生到这片银白色的大地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609480" y="8380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你告诉我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那一天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,</a:t>
            </a:r>
            <a:r>
              <a:rPr b="0" i="1" lang="en-US" sz="32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1988</a:t>
            </a:r>
            <a:r>
              <a:rPr b="0" i="1" lang="zh-CN" sz="32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年</a:t>
            </a:r>
            <a:r>
              <a:rPr b="0" i="1" lang="en-US" sz="32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1</a:t>
            </a:r>
            <a:r>
              <a:rPr b="0" i="1" lang="zh-CN" sz="32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月</a:t>
            </a:r>
            <a:r>
              <a:rPr b="0" i="1" lang="en-US" sz="32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27</a:t>
            </a:r>
            <a:r>
              <a:rPr b="0" i="1" lang="zh-CN" sz="3200" spc="-1" strike="noStrike">
                <a:solidFill>
                  <a:srgbClr val="ffff99"/>
                </a:solidFill>
                <a:latin typeface="Times New Roman"/>
                <a:ea typeface="华文行楷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split dir="out" orient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1066680" y="43434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从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1143000" y="51814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你们的世界多了一丝微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371600" y="594360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多了一丝幸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187280" y="685800"/>
            <a:ext cx="2470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6000" spc="-1" strike="noStrike">
                <a:solidFill>
                  <a:srgbClr val="99ccff"/>
                </a:solidFill>
                <a:latin typeface="PMingLiU"/>
                <a:ea typeface="MingLiU"/>
              </a:rPr>
              <a:t>希望</a:t>
            </a:r>
            <a:r>
              <a:rPr b="1" i="1" lang="zh-CN" sz="6000" spc="-1" strike="noStrike">
                <a:solidFill>
                  <a:srgbClr val="99ccff"/>
                </a:solidFill>
                <a:latin typeface="Times New Roman"/>
                <a:ea typeface="MingLiU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split dir="out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7"/>
          <p:cNvSpPr/>
          <p:nvPr/>
        </p:nvSpPr>
        <p:spPr>
          <a:xfrm>
            <a:off x="2438280" y="990720"/>
            <a:ext cx="1371600" cy="1143000"/>
          </a:xfrm>
          <a:prstGeom prst="cloudCallout">
            <a:avLst>
              <a:gd name="adj1" fmla="val 35763"/>
              <a:gd name="adj2" fmla="val 6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82160" y="685800"/>
            <a:ext cx="321084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 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幼圆"/>
              </a:rPr>
              <a:t>呵       呵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幼圆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幼圆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幼圆"/>
              </a:rPr>
              <a:t>您 心 目 中 的 小 天 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G:\图片\新建文件夹1\我的视频\棒棒糖.gif"/>
          <p:cNvPicPr/>
          <p:nvPr/>
        </p:nvPicPr>
        <p:blipFill>
          <a:blip r:embed="rId2"/>
          <a:stretch/>
        </p:blipFill>
        <p:spPr>
          <a:xfrm>
            <a:off x="4343400" y="3048120"/>
            <a:ext cx="536400" cy="10285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6"/>
          <p:cNvSpPr/>
          <p:nvPr/>
        </p:nvSpPr>
        <p:spPr>
          <a:xfrm>
            <a:off x="2514600" y="1295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Times New Roman"/>
                <a:ea typeface="幼圆"/>
              </a:rPr>
              <a:t>好甜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639720" y="652320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split dir="out" orient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990720" y="55627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99"/>
                </a:solidFill>
                <a:latin typeface="PMingLiU"/>
                <a:ea typeface="PMingLiU"/>
              </a:rPr>
              <a:t>看天空　飄的雪　還有夢</a:t>
            </a:r>
            <a:r>
              <a:rPr b="1" lang="zh-TW" sz="3200" spc="-1" strike="noStrike">
                <a:solidFill>
                  <a:srgbClr val="ffff99"/>
                </a:solidFill>
                <a:latin typeface="PMingLiU"/>
                <a:ea typeface="PMingLiU"/>
              </a:rPr>
              <a:t>^-^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" descr="G:\图片\新建文件夹1\我的视频\棒棒糖.gif"/>
          <p:cNvPicPr/>
          <p:nvPr/>
        </p:nvPicPr>
        <p:blipFill>
          <a:blip r:embed="rId2"/>
          <a:stretch/>
        </p:blipFill>
        <p:spPr>
          <a:xfrm>
            <a:off x="2590920" y="380880"/>
            <a:ext cx="1231920" cy="2362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G:\图片\新建文件夹1\我的视频\猫.gif"/>
          <p:cNvPicPr/>
          <p:nvPr/>
        </p:nvPicPr>
        <p:blipFill>
          <a:blip r:embed="rId3"/>
          <a:stretch/>
        </p:blipFill>
        <p:spPr>
          <a:xfrm>
            <a:off x="1676520" y="4114800"/>
            <a:ext cx="4228920" cy="9367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plit dir="out" orient="ver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0" y="2286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PMingLiU"/>
                <a:ea typeface="幼圆"/>
              </a:rPr>
              <a:t>可愛的</a:t>
            </a:r>
            <a:r>
              <a:rPr b="1" lang="zh-TW" sz="3200" spc="-1" strike="noStrike">
                <a:solidFill>
                  <a:srgbClr val="000000"/>
                </a:solidFill>
                <a:latin typeface="幼圆"/>
                <a:ea typeface="幼圆"/>
              </a:rPr>
              <a:t>爸爸媽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G:\图片\新建文件夹1\我的视频\积累.gif"/>
          <p:cNvPicPr/>
          <p:nvPr/>
        </p:nvPicPr>
        <p:blipFill>
          <a:blip r:embed="rId2"/>
          <a:stretch/>
        </p:blipFill>
        <p:spPr>
          <a:xfrm>
            <a:off x="6248520" y="4657680"/>
            <a:ext cx="2895480" cy="22003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plit dir="out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609480" y="1523880"/>
            <a:ext cx="611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99ccff"/>
                </a:solidFill>
                <a:latin typeface="PMingLiU"/>
                <a:ea typeface="华文彩云"/>
              </a:rPr>
              <a:t>^-^</a:t>
            </a:r>
            <a:r>
              <a:rPr b="0" lang="zh-TW" sz="2800" spc="-1" strike="noStrike">
                <a:solidFill>
                  <a:srgbClr val="99ccff"/>
                </a:solidFill>
                <a:latin typeface="PMingLiU"/>
                <a:ea typeface="华文彩云"/>
              </a:rPr>
              <a:t>依舊燦爛的笑容</a:t>
            </a:r>
            <a:r>
              <a:rPr b="0" lang="zh-CN" sz="2800" spc="-1" strike="noStrike">
                <a:solidFill>
                  <a:srgbClr val="99ccff"/>
                </a:solidFill>
                <a:latin typeface="Times New Roman"/>
                <a:ea typeface="华文彩云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5029200" y="9144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3200" spc="-1" strike="noStrike">
                <a:solidFill>
                  <a:srgbClr val="ff00ff"/>
                </a:solidFill>
                <a:latin typeface="PMingLiU"/>
                <a:ea typeface="华文彩云"/>
              </a:rPr>
              <a:t>幸福的旅途</a:t>
            </a:r>
            <a:r>
              <a:rPr b="0" i="1" lang="zh-CN" sz="3200" spc="-1" strike="noStrike">
                <a:solidFill>
                  <a:srgbClr val="ff00ff"/>
                </a:solidFill>
                <a:latin typeface="Times New Roman"/>
                <a:ea typeface="华文彩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G:\图片\新建文件夹1\我的视频\猫.gif"/>
          <p:cNvPicPr/>
          <p:nvPr/>
        </p:nvPicPr>
        <p:blipFill>
          <a:blip r:embed="rId2"/>
          <a:stretch/>
        </p:blipFill>
        <p:spPr>
          <a:xfrm>
            <a:off x="2209680" y="5867280"/>
            <a:ext cx="4229280" cy="99072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split dir="out" orient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685800" y="44956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3399ff"/>
                </a:solidFill>
                <a:latin typeface="华文彩云"/>
                <a:ea typeface="华文彩云"/>
              </a:rPr>
              <a:t>成長的滋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914400" y="5867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ccff"/>
                </a:solidFill>
                <a:latin typeface="PMingLiU"/>
                <a:ea typeface="华文彩云"/>
              </a:rPr>
              <a:t>希望的翅膀　一天天張開</a:t>
            </a:r>
            <a:r>
              <a:rPr b="0" lang="zh-CN" sz="2400" spc="-1" strike="noStrike">
                <a:solidFill>
                  <a:srgbClr val="ffccff"/>
                </a:solidFill>
                <a:latin typeface="Times New Roman"/>
                <a:ea typeface="华文彩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2000">
    <p:split dir="out" orient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06:40:17Z</dcterms:created>
  <dc:creator>Central</dc:creator>
  <dc:description/>
  <dc:language>en-US</dc:language>
  <cp:lastModifiedBy>王玉清</cp:lastModifiedBy>
  <dcterms:modified xsi:type="dcterms:W3CDTF">2016-02-20T04:41:48Z</dcterms:modified>
  <cp:revision>13</cp:revision>
  <dc:subject/>
  <dc:title>PowerPoint 演示文稿</dc:title>
</cp:coreProperties>
</file>