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D7D-7B7B-4429-8675-4FD8ADBB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318-FD19-4E30-9B94-0C4F1690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2B8-5D79-47F0-B140-7B791FEC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38A-01BC-482B-9CB3-37EE9BD7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D7EA-1058-465F-988C-47B743CD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136A-3656-43C8-926C-FC7C7077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A0BA-76F1-4D02-963B-48A9B6D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1075-9CC4-4A86-B279-57B26B96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BF45-7971-4C1C-B34E-DBC0590D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60B1-F92D-4490-83BD-5DA1B2D6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659-31B0-4018-B7F2-22B799F7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C74-6F2A-4A09-B7AF-30FD6EEF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4FB6-0A47-44F9-BB51-A75F2804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E0A5-77CF-4C2E-B295-6688433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85D5-22EC-45E2-8732-AD7D4C2F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534B-CEEB-465C-B889-59B1CFEB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311-EE41-465E-9492-A79C3B92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5B59-62C2-48C8-843B-A3EFEE81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4357-B39C-4EFD-AFF7-80E2940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4F2C-8C2B-4DAA-BEE7-8A7CD29C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01DF-257A-415D-8FE3-4D256E9A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9D95-D983-4A69-B415-A18DC096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1DD-CC13-42FC-BF6C-AA94D87B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9A05-D991-4A96-872E-A30AB41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9A19-3A8C-44A8-B29F-2F9DC53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0ED7-74ED-4D97-BCD8-25F28DE8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691E-6C7A-499A-86C6-B6EC8C67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5B3A-77BC-4388-AB24-2E9B9637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BA63-2043-4EB8-9F80-7C5206E0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DBF0-F7CD-4D09-BFEA-2320E573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8E4-2F96-4621-BAC5-B1E2D696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856-5C84-4639-94FB-389C07E1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204-3779-4F78-82F1-DF05A17A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0F2-8D5E-465B-9194-A66BE76E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4A5-86CD-487F-BD14-DA775B98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881-3EDA-471A-ADBB-82BBC5F5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10ED29-CD8D-42B5-9824-DA8EE299ECC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2C7A73-5F04-4900-8527-4E80356F7EB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46F9F1-1D34-4AE5-890E-DBD730D9367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" descr=""/>
          <p:cNvPicPr/>
          <p:nvPr/>
        </p:nvPicPr>
        <p:blipFill>
          <a:blip r:embed="rId1"/>
          <a:stretch/>
        </p:blipFill>
        <p:spPr>
          <a:xfrm>
            <a:off x="2179800" y="836280"/>
            <a:ext cx="7754040" cy="525348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8"/>
          <p:cNvSpPr/>
          <p:nvPr/>
        </p:nvSpPr>
        <p:spPr>
          <a:xfrm>
            <a:off x="6161040" y="3523320"/>
            <a:ext cx="3039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微软雅黑"/>
              </a:rPr>
              <a:t>工作汇报展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9"/>
          <p:cNvSpPr/>
          <p:nvPr/>
        </p:nvSpPr>
        <p:spPr>
          <a:xfrm>
            <a:off x="5478480" y="3585240"/>
            <a:ext cx="79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2"/>
          <p:cNvSpPr/>
          <p:nvPr/>
        </p:nvSpPr>
        <p:spPr>
          <a:xfrm>
            <a:off x="6269040" y="4255200"/>
            <a:ext cx="282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  <a:ea typeface="华文细黑"/>
              </a:rPr>
              <a:t>这里输入演示者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7634160" y="45666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华文细黑"/>
                <a:ea typeface="华文细黑"/>
              </a:rPr>
              <a:t>2015/05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0"/>
          <p:cNvSpPr/>
          <p:nvPr/>
        </p:nvSpPr>
        <p:spPr>
          <a:xfrm>
            <a:off x="55080" y="1213200"/>
            <a:ext cx="12211920" cy="1850760"/>
          </a:xfrm>
          <a:prstGeom prst="rect">
            <a:avLst/>
          </a:prstGeom>
          <a:solidFill>
            <a:schemeClr val="tx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3151080" y="1421280"/>
            <a:ext cx="5608800" cy="4852800"/>
            <a:chOff x="3151080" y="1421280"/>
            <a:chExt cx="5608800" cy="4852800"/>
          </a:xfrm>
        </p:grpSpPr>
        <p:sp>
          <p:nvSpPr>
            <p:cNvPr id="130" name="矩形 42"/>
            <p:cNvSpPr/>
            <p:nvPr/>
          </p:nvSpPr>
          <p:spPr>
            <a:xfrm>
              <a:off x="3151080" y="1421280"/>
              <a:ext cx="560880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黑体"/>
                  <a:ea typeface="黑体"/>
                </a:rPr>
                <a:t>蓝色背景商务工作汇报展望</a:t>
              </a:r>
              <a:r>
                <a:rPr b="0" lang="en-US" sz="4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黑体"/>
                  <a:ea typeface="黑体"/>
                </a:rPr>
                <a:t>PPT</a:t>
              </a:r>
              <a:r>
                <a:rPr b="0" lang="zh-CN" sz="4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黑体"/>
                  <a:ea typeface="黑体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43"/>
            <p:cNvSpPr/>
            <p:nvPr/>
          </p:nvSpPr>
          <p:spPr>
            <a:xfrm>
              <a:off x="5769720" y="5695560"/>
              <a:ext cx="2890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Segoe Media Center Ligh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3" descr=""/>
          <p:cNvPicPr/>
          <p:nvPr/>
        </p:nvPicPr>
        <p:blipFill>
          <a:blip r:embed="rId1"/>
          <a:stretch/>
        </p:blipFill>
        <p:spPr>
          <a:xfrm>
            <a:off x="2179800" y="836280"/>
            <a:ext cx="7754040" cy="525348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4054320" y="1450800"/>
            <a:ext cx="564840" cy="593280"/>
          </a:xfrm>
          <a:prstGeom prst="rect">
            <a:avLst/>
          </a:prstGeom>
          <a:solidFill>
            <a:srgbClr val="70ad47"/>
          </a:solidFill>
          <a:ln>
            <a:solidFill>
              <a:srgbClr val="527f34"/>
            </a:solidFill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15"/>
          <p:cNvSpPr/>
          <p:nvPr/>
        </p:nvSpPr>
        <p:spPr>
          <a:xfrm>
            <a:off x="4151160" y="1424160"/>
            <a:ext cx="46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 形 16"/>
          <p:cNvSpPr/>
          <p:nvPr/>
        </p:nvSpPr>
        <p:spPr>
          <a:xfrm rot="16200000">
            <a:off x="4091760" y="1521720"/>
            <a:ext cx="612360" cy="607680"/>
          </a:xfrm>
          <a:custGeom>
            <a:avLst/>
            <a:gdLst>
              <a:gd name="textAreaLeft" fmla="*/ 0 w 612360"/>
              <a:gd name="textAreaRight" fmla="*/ 612720 w 6123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613411" h="607845">
                <a:moveTo>
                  <a:pt x="0" y="0"/>
                </a:moveTo>
                <a:lnTo>
                  <a:pt x="0" y="0"/>
                </a:lnTo>
                <a:lnTo>
                  <a:pt x="0" y="607845"/>
                </a:lnTo>
                <a:lnTo>
                  <a:pt x="613411" y="607845"/>
                </a:lnTo>
                <a:lnTo>
                  <a:pt x="0" y="607845"/>
                </a:lnTo>
                <a:lnTo>
                  <a:pt x="0" y="0"/>
                </a:lnTo>
                <a:close/>
              </a:path>
            </a:pathLst>
          </a:custGeom>
          <a:solidFill>
            <a:srgbClr val="afabab"/>
          </a:solidFill>
          <a:ln w="127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38"/>
          <p:cNvSpPr/>
          <p:nvPr/>
        </p:nvSpPr>
        <p:spPr>
          <a:xfrm>
            <a:off x="5051520" y="1517760"/>
            <a:ext cx="224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8"/>
          <p:cNvSpPr/>
          <p:nvPr/>
        </p:nvSpPr>
        <p:spPr>
          <a:xfrm>
            <a:off x="5051520" y="1994040"/>
            <a:ext cx="512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添加内容。这里添加内容。这里添加内容。这里添加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5"/>
          <p:cNvSpPr/>
          <p:nvPr/>
        </p:nvSpPr>
        <p:spPr>
          <a:xfrm>
            <a:off x="4054320" y="2990880"/>
            <a:ext cx="564840" cy="59184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36"/>
          <p:cNvSpPr/>
          <p:nvPr/>
        </p:nvSpPr>
        <p:spPr>
          <a:xfrm>
            <a:off x="4127400" y="2946240"/>
            <a:ext cx="46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 形 37"/>
          <p:cNvSpPr/>
          <p:nvPr/>
        </p:nvSpPr>
        <p:spPr>
          <a:xfrm rot="16200000">
            <a:off x="4091040" y="3061080"/>
            <a:ext cx="614160" cy="607680"/>
          </a:xfrm>
          <a:custGeom>
            <a:avLst/>
            <a:gdLst>
              <a:gd name="textAreaLeft" fmla="*/ 0 w 614160"/>
              <a:gd name="textAreaRight" fmla="*/ 614520 w 614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613411" h="607845">
                <a:moveTo>
                  <a:pt x="0" y="0"/>
                </a:moveTo>
                <a:lnTo>
                  <a:pt x="0" y="0"/>
                </a:lnTo>
                <a:lnTo>
                  <a:pt x="0" y="607845"/>
                </a:lnTo>
                <a:lnTo>
                  <a:pt x="613411" y="607845"/>
                </a:lnTo>
                <a:lnTo>
                  <a:pt x="0" y="607845"/>
                </a:lnTo>
                <a:lnTo>
                  <a:pt x="0" y="0"/>
                </a:lnTo>
                <a:close/>
              </a:path>
            </a:pathLst>
          </a:custGeom>
          <a:solidFill>
            <a:srgbClr val="afabab"/>
          </a:solidFill>
          <a:ln w="127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8"/>
          <p:cNvSpPr/>
          <p:nvPr/>
        </p:nvSpPr>
        <p:spPr>
          <a:xfrm>
            <a:off x="5051520" y="3057480"/>
            <a:ext cx="224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8"/>
          <p:cNvSpPr/>
          <p:nvPr/>
        </p:nvSpPr>
        <p:spPr>
          <a:xfrm>
            <a:off x="5051520" y="3533760"/>
            <a:ext cx="4909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添加内容。这里添加内容。这里添加内容。这里添加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0"/>
          <p:cNvSpPr/>
          <p:nvPr/>
        </p:nvSpPr>
        <p:spPr>
          <a:xfrm>
            <a:off x="4054320" y="4449600"/>
            <a:ext cx="564840" cy="593280"/>
          </a:xfrm>
          <a:prstGeom prst="rect">
            <a:avLst/>
          </a:prstGeom>
          <a:solidFill>
            <a:srgbClr val="4472c4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41"/>
          <p:cNvSpPr/>
          <p:nvPr/>
        </p:nvSpPr>
        <p:spPr>
          <a:xfrm>
            <a:off x="4127400" y="4406760"/>
            <a:ext cx="46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 形 42"/>
          <p:cNvSpPr/>
          <p:nvPr/>
        </p:nvSpPr>
        <p:spPr>
          <a:xfrm rot="16200000">
            <a:off x="4091040" y="4521600"/>
            <a:ext cx="614160" cy="607680"/>
          </a:xfrm>
          <a:custGeom>
            <a:avLst/>
            <a:gdLst>
              <a:gd name="textAreaLeft" fmla="*/ 0 w 614160"/>
              <a:gd name="textAreaRight" fmla="*/ 614520 w 614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613411" h="607845">
                <a:moveTo>
                  <a:pt x="0" y="0"/>
                </a:moveTo>
                <a:lnTo>
                  <a:pt x="0" y="0"/>
                </a:lnTo>
                <a:lnTo>
                  <a:pt x="0" y="607845"/>
                </a:lnTo>
                <a:lnTo>
                  <a:pt x="613411" y="607845"/>
                </a:lnTo>
                <a:lnTo>
                  <a:pt x="0" y="607845"/>
                </a:lnTo>
                <a:lnTo>
                  <a:pt x="0" y="0"/>
                </a:lnTo>
                <a:close/>
              </a:path>
            </a:pathLst>
          </a:custGeom>
          <a:solidFill>
            <a:srgbClr val="afabab"/>
          </a:solidFill>
          <a:ln w="127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3"/>
          <p:cNvSpPr/>
          <p:nvPr/>
        </p:nvSpPr>
        <p:spPr>
          <a:xfrm>
            <a:off x="5051520" y="4518000"/>
            <a:ext cx="224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5051520" y="4994280"/>
            <a:ext cx="4909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添加内容。这里添加内容。这里添加内容。这里添加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0" y="411480"/>
            <a:ext cx="539280" cy="575640"/>
          </a:xfrm>
          <a:prstGeom prst="rect">
            <a:avLst/>
          </a:prstGeom>
          <a:solidFill>
            <a:srgbClr val="3461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50" name="直接连接符 28"/>
          <p:cNvCxnSpPr/>
          <p:nvPr/>
        </p:nvCxnSpPr>
        <p:spPr>
          <a:xfrm>
            <a:off x="600480" y="411480"/>
            <a:ext cx="360" cy="576360"/>
          </a:xfrm>
          <a:prstGeom prst="straightConnector1">
            <a:avLst/>
          </a:prstGeom>
          <a:ln w="28575">
            <a:solidFill>
              <a:srgbClr val="346182"/>
            </a:solidFill>
          </a:ln>
        </p:spPr>
      </p:cxnSp>
      <p:sp>
        <p:nvSpPr>
          <p:cNvPr id="151" name="TextBox 7"/>
          <p:cNvSpPr/>
          <p:nvPr/>
        </p:nvSpPr>
        <p:spPr>
          <a:xfrm>
            <a:off x="661680" y="349920"/>
            <a:ext cx="140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2071080" y="574200"/>
            <a:ext cx="2284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3" descr=""/>
          <p:cNvPicPr/>
          <p:nvPr/>
        </p:nvPicPr>
        <p:blipFill>
          <a:blip r:embed="rId1"/>
          <a:stretch/>
        </p:blipFill>
        <p:spPr>
          <a:xfrm>
            <a:off x="2179800" y="836280"/>
            <a:ext cx="7754040" cy="5253480"/>
          </a:xfrm>
          <a:prstGeom prst="rect">
            <a:avLst/>
          </a:prstGeom>
          <a:ln w="0">
            <a:noFill/>
          </a:ln>
        </p:spPr>
      </p:pic>
      <p:cxnSp>
        <p:nvCxnSpPr>
          <p:cNvPr id="154" name="直接连接符 14"/>
          <p:cNvCxnSpPr/>
          <p:nvPr/>
        </p:nvCxnSpPr>
        <p:spPr>
          <a:xfrm>
            <a:off x="796320" y="787680"/>
            <a:ext cx="78976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sp>
        <p:nvSpPr>
          <p:cNvPr id="155" name="平行四边形 15"/>
          <p:cNvSpPr/>
          <p:nvPr/>
        </p:nvSpPr>
        <p:spPr>
          <a:xfrm>
            <a:off x="361440" y="316080"/>
            <a:ext cx="1038600" cy="478800"/>
          </a:xfrm>
          <a:prstGeom prst="parallelogram">
            <a:avLst>
              <a:gd name="adj" fmla="val 25000"/>
            </a:avLst>
          </a:prstGeom>
          <a:solidFill>
            <a:srgbClr val="3461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文本框 41"/>
          <p:cNvSpPr/>
          <p:nvPr/>
        </p:nvSpPr>
        <p:spPr>
          <a:xfrm>
            <a:off x="370800" y="294120"/>
            <a:ext cx="1020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7"/>
          <p:cNvSpPr/>
          <p:nvPr/>
        </p:nvSpPr>
        <p:spPr>
          <a:xfrm>
            <a:off x="2514600" y="344880"/>
            <a:ext cx="219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346182"/>
                </a:solidFill>
                <a:latin typeface="微软雅黑"/>
                <a:ea typeface="微软雅黑"/>
              </a:rPr>
              <a:t>关键词：文本框；文本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8"/>
          <p:cNvGrpSpPr/>
          <p:nvPr/>
        </p:nvGrpSpPr>
        <p:grpSpPr>
          <a:xfrm>
            <a:off x="1285560" y="1772280"/>
            <a:ext cx="7135200" cy="3572280"/>
            <a:chOff x="1285560" y="1772280"/>
            <a:chExt cx="7135200" cy="3572280"/>
          </a:xfrm>
        </p:grpSpPr>
        <p:sp>
          <p:nvSpPr>
            <p:cNvPr id="159" name="矩形 19"/>
            <p:cNvSpPr/>
            <p:nvPr/>
          </p:nvSpPr>
          <p:spPr>
            <a:xfrm>
              <a:off x="1285560" y="2104560"/>
              <a:ext cx="7135200" cy="3240000"/>
            </a:xfrm>
            <a:prstGeom prst="rect">
              <a:avLst/>
            </a:prstGeom>
            <a:noFill/>
            <a:ln>
              <a:solidFill>
                <a:srgbClr val="346182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20"/>
            <p:cNvSpPr/>
            <p:nvPr/>
          </p:nvSpPr>
          <p:spPr>
            <a:xfrm>
              <a:off x="1285560" y="1772280"/>
              <a:ext cx="4388760" cy="338040"/>
            </a:xfrm>
            <a:prstGeom prst="rect">
              <a:avLst/>
            </a:prstGeom>
            <a:solidFill>
              <a:srgbClr val="34618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1" name="TextBox 2063"/>
          <p:cNvSpPr/>
          <p:nvPr/>
        </p:nvSpPr>
        <p:spPr>
          <a:xfrm>
            <a:off x="1356840" y="1764000"/>
            <a:ext cx="472536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：文本框；文本框；文本框；文本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2"/>
          <p:cNvSpPr/>
          <p:nvPr/>
        </p:nvSpPr>
        <p:spPr>
          <a:xfrm>
            <a:off x="1485000" y="2524680"/>
            <a:ext cx="67363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zh-CN" sz="2800" spc="-1" strike="noStrike">
                <a:solidFill>
                  <a:srgbClr val="ed6e64"/>
                </a:solidFill>
                <a:latin typeface="微软雅黑"/>
                <a:ea typeface="微软雅黑"/>
              </a:rPr>
              <a:t>摘要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又称概要、内容提要。摘要是以提供文献内容梗概为目的，不加评论和补充解释，简明、确切地记述文献重要内容的短文。其基本要素包括研究目的、方法、结果和结论。具体地讲就是研究工作的主要对象和范围，采用的手段和方法，得出的结果和重要的结论，有时也包括具有情报价值的其它重要的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3" descr=""/>
          <p:cNvPicPr/>
          <p:nvPr/>
        </p:nvPicPr>
        <p:blipFill>
          <a:blip r:embed="rId1"/>
          <a:stretch/>
        </p:blipFill>
        <p:spPr>
          <a:xfrm>
            <a:off x="2179800" y="836280"/>
            <a:ext cx="7754040" cy="5253480"/>
          </a:xfrm>
          <a:prstGeom prst="rect">
            <a:avLst/>
          </a:prstGeom>
          <a:ln w="0">
            <a:noFill/>
          </a:ln>
        </p:spPr>
      </p:pic>
      <p:sp>
        <p:nvSpPr>
          <p:cNvPr id="164" name="矩形 14"/>
          <p:cNvSpPr/>
          <p:nvPr/>
        </p:nvSpPr>
        <p:spPr>
          <a:xfrm>
            <a:off x="2750040" y="1335600"/>
            <a:ext cx="7014960" cy="59184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 形 16"/>
          <p:cNvSpPr/>
          <p:nvPr/>
        </p:nvSpPr>
        <p:spPr>
          <a:xfrm rot="16200000">
            <a:off x="6015600" y="-1829160"/>
            <a:ext cx="612360" cy="7143480"/>
          </a:xfrm>
          <a:custGeom>
            <a:avLst/>
            <a:gdLst>
              <a:gd name="textAreaLeft" fmla="*/ 0 w 612360"/>
              <a:gd name="textAreaRight" fmla="*/ 612720 w 612360"/>
              <a:gd name="textAreaTop" fmla="*/ 0 h 7143480"/>
              <a:gd name="textAreaBottom" fmla="*/ 7143840 h 7143480"/>
            </a:gdLst>
            <a:ahLst/>
            <a:rect l="textAreaLeft" t="textAreaTop" r="textAreaRight" b="textAreaBottom"/>
            <a:pathLst>
              <a:path w="613411" h="7143875">
                <a:moveTo>
                  <a:pt x="0" y="0"/>
                </a:moveTo>
                <a:lnTo>
                  <a:pt x="0" y="0"/>
                </a:lnTo>
                <a:lnTo>
                  <a:pt x="0" y="7143875"/>
                </a:lnTo>
                <a:lnTo>
                  <a:pt x="613411" y="7143875"/>
                </a:lnTo>
                <a:lnTo>
                  <a:pt x="0" y="7143875"/>
                </a:lnTo>
                <a:lnTo>
                  <a:pt x="0" y="0"/>
                </a:lnTo>
                <a:close/>
              </a:path>
            </a:pathLst>
          </a:custGeom>
          <a:solidFill>
            <a:srgbClr val="afabab"/>
          </a:solidFill>
          <a:ln w="127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18"/>
          <p:cNvSpPr/>
          <p:nvPr/>
        </p:nvSpPr>
        <p:spPr>
          <a:xfrm>
            <a:off x="3950280" y="1357920"/>
            <a:ext cx="461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2697480" y="3075480"/>
            <a:ext cx="3656160" cy="2476440"/>
            <a:chOff x="2697480" y="3075480"/>
            <a:chExt cx="3656160" cy="2476440"/>
          </a:xfrm>
        </p:grpSpPr>
        <p:sp>
          <p:nvSpPr>
            <p:cNvPr id="168" name="流程图: 过程 10"/>
            <p:cNvSpPr/>
            <p:nvPr/>
          </p:nvSpPr>
          <p:spPr>
            <a:xfrm>
              <a:off x="2697840" y="3075480"/>
              <a:ext cx="3655800" cy="2476080"/>
            </a:xfrm>
            <a:prstGeom prst="flowChartProcess">
              <a:avLst/>
            </a:prstGeom>
            <a:noFill/>
            <a:ln w="9525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169" name="直接连接符 11"/>
            <p:cNvCxnSpPr/>
            <p:nvPr/>
          </p:nvCxnSpPr>
          <p:spPr>
            <a:xfrm>
              <a:off x="2697480" y="3075480"/>
              <a:ext cx="3656520" cy="2476800"/>
            </a:xfrm>
            <a:prstGeom prst="straightConnector1">
              <a:avLst/>
            </a:prstGeom>
            <a:ln w="6350">
              <a:solidFill>
                <a:srgbClr val="a6a6a6">
                  <a:alpha val="25000"/>
                </a:srgbClr>
              </a:solidFill>
              <a:round/>
            </a:ln>
          </p:spPr>
        </p:cxnSp>
        <p:cxnSp>
          <p:nvCxnSpPr>
            <p:cNvPr id="170" name="直接连接符 12"/>
            <p:cNvCxnSpPr/>
            <p:nvPr/>
          </p:nvCxnSpPr>
          <p:spPr>
            <a:xfrm flipV="1">
              <a:off x="2697480" y="3075480"/>
              <a:ext cx="3656520" cy="2476800"/>
            </a:xfrm>
            <a:prstGeom prst="straightConnector1">
              <a:avLst/>
            </a:prstGeom>
            <a:ln w="6350">
              <a:solidFill>
                <a:srgbClr val="a6a6a6">
                  <a:alpha val="25000"/>
                </a:srgbClr>
              </a:solidFill>
              <a:round/>
            </a:ln>
          </p:spPr>
        </p:cxnSp>
      </p:grpSp>
      <p:sp>
        <p:nvSpPr>
          <p:cNvPr id="171" name="文本框 17"/>
          <p:cNvSpPr/>
          <p:nvPr/>
        </p:nvSpPr>
        <p:spPr>
          <a:xfrm>
            <a:off x="3950280" y="4394880"/>
            <a:ext cx="1679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8"/>
          <p:cNvSpPr/>
          <p:nvPr/>
        </p:nvSpPr>
        <p:spPr>
          <a:xfrm>
            <a:off x="6574320" y="4178880"/>
            <a:ext cx="31665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输入可长可短的标题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2"/>
          <p:cNvSpPr/>
          <p:nvPr/>
        </p:nvSpPr>
        <p:spPr>
          <a:xfrm>
            <a:off x="6574320" y="3407400"/>
            <a:ext cx="1612440" cy="650520"/>
          </a:xfrm>
          <a:custGeom>
            <a:avLst/>
            <a:gdLst>
              <a:gd name="textAreaLeft" fmla="*/ 0 w 1612440"/>
              <a:gd name="textAreaRight" fmla="*/ 1612800 w 1612440"/>
              <a:gd name="textAreaTop" fmla="*/ 0 h 650520"/>
              <a:gd name="textAreaBottom" fmla="*/ 650880 h 650520"/>
            </a:gdLst>
            <a:ahLst/>
            <a:rect l="textAreaLeft" t="textAreaTop" r="textAreaRight" b="textAreaBottom"/>
            <a:pathLst>
              <a:path w="1612232" h="650670">
                <a:moveTo>
                  <a:pt x="0" y="61123"/>
                </a:moveTo>
                <a:cubicBezTo>
                  <a:pt x="231608" y="29038"/>
                  <a:pt x="463216" y="-3046"/>
                  <a:pt x="625642" y="37059"/>
                </a:cubicBezTo>
                <a:cubicBezTo>
                  <a:pt x="788068" y="77164"/>
                  <a:pt x="972553" y="231570"/>
                  <a:pt x="974558" y="301754"/>
                </a:cubicBezTo>
                <a:cubicBezTo>
                  <a:pt x="976563" y="371938"/>
                  <a:pt x="701842" y="474207"/>
                  <a:pt x="637674" y="458165"/>
                </a:cubicBezTo>
                <a:cubicBezTo>
                  <a:pt x="573506" y="442123"/>
                  <a:pt x="525379" y="281702"/>
                  <a:pt x="589547" y="205502"/>
                </a:cubicBezTo>
                <a:cubicBezTo>
                  <a:pt x="653715" y="129302"/>
                  <a:pt x="874295" y="-13072"/>
                  <a:pt x="1022684" y="965"/>
                </a:cubicBezTo>
                <a:cubicBezTo>
                  <a:pt x="1171073" y="15002"/>
                  <a:pt x="1381626" y="181439"/>
                  <a:pt x="1479884" y="289723"/>
                </a:cubicBezTo>
                <a:cubicBezTo>
                  <a:pt x="1578142" y="398007"/>
                  <a:pt x="1612232" y="650670"/>
                  <a:pt x="1612232" y="650670"/>
                </a:cubicBezTo>
              </a:path>
            </a:pathLst>
          </a:custGeom>
          <a:noFill/>
          <a:ln w="12700">
            <a:solidFill>
              <a:srgbClr val="40404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2851920" y="3135960"/>
            <a:ext cx="33433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4"/>
          <p:cNvSpPr/>
          <p:nvPr/>
        </p:nvSpPr>
        <p:spPr>
          <a:xfrm>
            <a:off x="2576160" y="1451520"/>
            <a:ext cx="7039080" cy="2612160"/>
          </a:xfrm>
          <a:prstGeom prst="rect">
            <a:avLst/>
          </a:prstGeom>
          <a:solidFill>
            <a:srgbClr val="398e87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chemeClr val="lt1"/>
              </a:solidFill>
              <a:latin typeface="方正兰亭纤黑_GBK"/>
              <a:ea typeface="方正兰亭纤黑_GBK"/>
            </a:endParaRPr>
          </a:p>
        </p:txBody>
      </p:sp>
      <p:sp>
        <p:nvSpPr>
          <p:cNvPr id="176" name="文本框 3"/>
          <p:cNvSpPr/>
          <p:nvPr/>
        </p:nvSpPr>
        <p:spPr>
          <a:xfrm>
            <a:off x="2576160" y="2003760"/>
            <a:ext cx="7039080" cy="1430280"/>
          </a:xfrm>
          <a:prstGeom prst="rect">
            <a:avLst/>
          </a:prstGeom>
          <a:solidFill>
            <a:srgbClr val="398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THANK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5"/>
          <p:cNvSpPr/>
          <p:nvPr/>
        </p:nvSpPr>
        <p:spPr>
          <a:xfrm>
            <a:off x="5666040" y="4647240"/>
            <a:ext cx="985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方正兰亭超细黑简体"/>
                <a:ea typeface="方正兰亭超细黑简体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  <Words>238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3:28:03Z</dcterms:created>
  <dc:creator>www.pptbz.com</dc:creator>
  <dc:description/>
  <dc:language>en-US</dc:language>
  <cp:lastModifiedBy>a</cp:lastModifiedBy>
  <dcterms:modified xsi:type="dcterms:W3CDTF">2015-07-25T12:08:53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