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6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BCB36B-744E-4535-8DA1-1F9E4019D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52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5416F2-3B87-439E-AD1F-EE3E1B52E2B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5B9-6C42-44BB-8577-713D650F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F84-C00B-4093-9AC9-8F5E167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346-FAA5-4481-8101-CE3EAA2B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32D-D04A-4D52-9FE4-BBBA3BC7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6F5F-6039-4EB1-9F40-D23AF82B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2695-EEE2-4E36-A406-1558123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1E48-47B0-4EE1-9489-778E875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2AC-D28E-4BC1-8C51-789A314A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F9B-8F41-4AFA-82CA-DFCB686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F78D-85D2-4495-963E-80D9FBE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9B9A-9E64-497B-B003-B4E2C87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7A7-57ED-406D-BC26-E9C03C9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918-6BC7-4C1B-99A4-25411AB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029C-A2BB-45A0-B0F2-5118730A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B5D-0271-4886-9C70-232D612F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2F0-A8ED-48A2-AA49-336238B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3F42-882A-4FA2-A5A9-FD658B97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9D0-AC69-4B27-9B16-80901C5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B41-3924-46BD-8742-B4438BD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909-7030-4A2F-8B97-118EB39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680"/>
            <a:ext cx="8915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375-A636-4F47-A8ED-7F34EBA3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B34-6496-47A1-B637-F38350A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9FC-FF1C-41E5-AE93-9B7402D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5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9AC-E74C-45DC-A9E8-8F96DED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1968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011B54-2354-4F9C-8F76-097FB4799746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680"/>
            <a:ext cx="8915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03320" rIns="103320" tIns="51480" bIns="51480" anchor="t">
            <a:noAutofit/>
          </a:bodyPr>
          <a:p>
            <a:pPr marL="385920" indent="-385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664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2570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0504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20920" indent="-257040">
              <a:lnSpc>
                <a:spcPct val="100000"/>
              </a:lnSpc>
              <a:spcBef>
                <a:spcPts val="459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3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720" y="6356520"/>
            <a:ext cx="313668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9200" y="6356520"/>
            <a:ext cx="2311200" cy="364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14BAA0-5561-4414-BF41-7C1B5447E47D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998960" y="863640"/>
            <a:ext cx="236016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89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15920" y="863640"/>
            <a:ext cx="235548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0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562120" y="863640"/>
            <a:ext cx="2346120" cy="16203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1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7448400" y="863640"/>
            <a:ext cx="2352240" cy="16315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2" name="TextBox 1"/>
          <p:cNvSpPr/>
          <p:nvPr/>
        </p:nvSpPr>
        <p:spPr>
          <a:xfrm>
            <a:off x="3395520" y="4589640"/>
            <a:ext cx="35110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MA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950120" y="3717000"/>
            <a:ext cx="6402240" cy="71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蓝色简洁电子商务</a:t>
            </a: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" descr=""/>
          <p:cNvPicPr/>
          <p:nvPr/>
        </p:nvPicPr>
        <p:blipFill>
          <a:blip r:embed="rId5">
            <a:grayscl/>
          </a:blip>
          <a:srcRect l="0" t="0" r="0" b="6131"/>
          <a:stretch/>
        </p:blipFill>
        <p:spPr>
          <a:xfrm>
            <a:off x="4998960" y="849240"/>
            <a:ext cx="236016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5" name="图片 6" descr=""/>
          <p:cNvPicPr/>
          <p:nvPr/>
        </p:nvPicPr>
        <p:blipFill>
          <a:blip r:embed="rId6">
            <a:grayscl/>
          </a:blip>
          <a:srcRect l="0" t="0" r="0" b="16443"/>
          <a:stretch/>
        </p:blipFill>
        <p:spPr>
          <a:xfrm>
            <a:off x="115920" y="849240"/>
            <a:ext cx="2355480" cy="163476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6" name="矩形 12"/>
          <p:cNvSpPr/>
          <p:nvPr/>
        </p:nvSpPr>
        <p:spPr>
          <a:xfrm>
            <a:off x="209160" y="6549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1708200" y="836640"/>
            <a:ext cx="8197560" cy="4992480"/>
          </a:xfrm>
          <a:custGeom>
            <a:avLst/>
            <a:gdLst>
              <a:gd name="textAreaLeft" fmla="*/ 0 w 8197560"/>
              <a:gd name="textAreaRight" fmla="*/ 8197920 w 8197560"/>
              <a:gd name="textAreaTop" fmla="*/ 0 h 4992480"/>
              <a:gd name="textAreaBottom" fmla="*/ 4992840 h 499248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024760" y="1143000"/>
            <a:ext cx="1499760" cy="65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381480" y="21430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381480" y="264312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3381480" y="31719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381480" y="36720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 rot="20202000">
            <a:off x="-75960" y="798480"/>
            <a:ext cx="4016160" cy="44424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8"/>
          <p:cNvSpPr/>
          <p:nvPr/>
        </p:nvSpPr>
        <p:spPr>
          <a:xfrm>
            <a:off x="5688000" y="1617840"/>
            <a:ext cx="1560240" cy="172692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6149160" y="2259000"/>
            <a:ext cx="664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互联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7683480" y="2390760"/>
            <a:ext cx="1325160" cy="146952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7965720" y="2903400"/>
            <a:ext cx="8172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57960" y="3605040"/>
            <a:ext cx="1325160" cy="14680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554880" y="4118040"/>
            <a:ext cx="9698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拟数字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"/>
          <p:cNvSpPr/>
          <p:nvPr/>
        </p:nvSpPr>
        <p:spPr>
          <a:xfrm>
            <a:off x="351000" y="3349800"/>
            <a:ext cx="5360760" cy="3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商务是基于互联网及移动互联网诞生的一种全新的商业模式，用户不需要进入实体店面，通过虚拟数字化电子方式完成交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8"/>
          <p:cNvSpPr/>
          <p:nvPr/>
        </p:nvSpPr>
        <p:spPr>
          <a:xfrm>
            <a:off x="0" y="6270480"/>
            <a:ext cx="66168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399960" y="6200640"/>
            <a:ext cx="46800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32"/>
          <p:cNvSpPr/>
          <p:nvPr/>
        </p:nvSpPr>
        <p:spPr>
          <a:xfrm>
            <a:off x="351000" y="1420920"/>
            <a:ext cx="55386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30"/>
          <p:cNvSpPr/>
          <p:nvPr/>
        </p:nvSpPr>
        <p:spPr>
          <a:xfrm>
            <a:off x="6357960" y="1420920"/>
            <a:ext cx="3103200" cy="49240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图表 12"/>
          <p:cNvGraphicFramePr/>
          <p:nvPr/>
        </p:nvGraphicFramePr>
        <p:xfrm>
          <a:off x="351000" y="2565360"/>
          <a:ext cx="6170400" cy="380160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20" name="图表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2565360"/>
                    <a:ext cx="6170400" cy="38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矩形 20"/>
          <p:cNvSpPr/>
          <p:nvPr/>
        </p:nvSpPr>
        <p:spPr>
          <a:xfrm>
            <a:off x="6669000" y="3263760"/>
            <a:ext cx="1091880" cy="23252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8151840" y="2575080"/>
            <a:ext cx="1091880" cy="3014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6669000" y="5589720"/>
            <a:ext cx="27921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拉动网络经济</a:t>
            </a: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9.7%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增长，贡献率最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682452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8369280" y="3695760"/>
            <a:ext cx="109188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6777720" y="413388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5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7"/>
          <p:cNvSpPr/>
          <p:nvPr/>
        </p:nvSpPr>
        <p:spPr>
          <a:xfrm>
            <a:off x="8322840" y="4145040"/>
            <a:ext cx="9284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4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9"/>
          <p:cNvSpPr/>
          <p:nvPr/>
        </p:nvSpPr>
        <p:spPr>
          <a:xfrm>
            <a:off x="573120" y="5459400"/>
            <a:ext cx="5187600" cy="83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国电子商务整体交易规模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，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.4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三年中国电子商务市场交易规模总额已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年的水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351000" y="142092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4"/>
          <p:cNvSpPr/>
          <p:nvPr/>
        </p:nvSpPr>
        <p:spPr>
          <a:xfrm>
            <a:off x="6357960" y="1415880"/>
            <a:ext cx="4952520" cy="71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7"/>
          <p:cNvSpPr/>
          <p:nvPr/>
        </p:nvSpPr>
        <p:spPr>
          <a:xfrm>
            <a:off x="5781600" y="142092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9342360" y="14130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4" name="图表 8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35" name="图表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矩形 13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5732640" y="2368440"/>
            <a:ext cx="3354120" cy="23554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732640" y="304812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仍然是未来电子商务交易规模的最主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5732640" y="3825720"/>
            <a:ext cx="3354120" cy="58932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消费领域的网上交易规模增速略快于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2B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8978760" y="235728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5732640" y="236844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8"/>
          <p:cNvSpPr/>
          <p:nvPr/>
        </p:nvSpPr>
        <p:spPr>
          <a:xfrm>
            <a:off x="136440" y="1441440"/>
            <a:ext cx="4428720" cy="4812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30320" y="17589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130320" y="29685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130320" y="417816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矩形 24"/>
          <p:cNvSpPr/>
          <p:nvPr/>
        </p:nvSpPr>
        <p:spPr>
          <a:xfrm>
            <a:off x="130320" y="5286240"/>
            <a:ext cx="232920" cy="6919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矩形 27"/>
          <p:cNvSpPr/>
          <p:nvPr/>
        </p:nvSpPr>
        <p:spPr>
          <a:xfrm>
            <a:off x="0" y="357120"/>
            <a:ext cx="896400" cy="3315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30"/>
          <p:cNvSpPr/>
          <p:nvPr/>
        </p:nvSpPr>
        <p:spPr>
          <a:xfrm>
            <a:off x="4457880" y="144144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50" name="图片 34" descr=""/>
          <p:cNvPicPr/>
          <p:nvPr/>
        </p:nvPicPr>
        <p:blipFill>
          <a:blip r:embed="rId1"/>
          <a:stretch/>
        </p:blipFill>
        <p:spPr>
          <a:xfrm>
            <a:off x="4719600" y="389088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1" name="图片 37" descr=""/>
          <p:cNvPicPr/>
          <p:nvPr/>
        </p:nvPicPr>
        <p:blipFill>
          <a:blip r:embed="rId2"/>
          <a:stretch/>
        </p:blipFill>
        <p:spPr>
          <a:xfrm>
            <a:off x="7292880" y="3884760"/>
            <a:ext cx="2484000" cy="232200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2" descr="C:\Users\LINCOLN\Desktop\2012.4.7 桌面\doing buz in china\china-flag.jpg"/>
          <p:cNvPicPr/>
          <p:nvPr/>
        </p:nvPicPr>
        <p:blipFill>
          <a:blip r:embed="rId3"/>
          <a:srcRect l="0" t="0" r="5202" b="0"/>
          <a:stretch/>
        </p:blipFill>
        <p:spPr>
          <a:xfrm>
            <a:off x="4719600" y="1441440"/>
            <a:ext cx="2484000" cy="2323800"/>
          </a:xfrm>
          <a:prstGeom prst="rect">
            <a:avLst/>
          </a:prstGeom>
          <a:ln w="9525">
            <a:noFill/>
          </a:ln>
        </p:spPr>
      </p:pic>
      <p:pic>
        <p:nvPicPr>
          <p:cNvPr id="153" name="图片 39" descr=""/>
          <p:cNvPicPr/>
          <p:nvPr/>
        </p:nvPicPr>
        <p:blipFill>
          <a:blip r:embed="rId4"/>
          <a:srcRect l="10915" t="0" r="0" b="0"/>
          <a:stretch/>
        </p:blipFill>
        <p:spPr>
          <a:xfrm>
            <a:off x="7292880" y="3860640"/>
            <a:ext cx="2496600" cy="234612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41" descr=""/>
          <p:cNvPicPr/>
          <p:nvPr/>
        </p:nvPicPr>
        <p:blipFill>
          <a:blip r:embed="rId5"/>
          <a:srcRect l="16603" t="0" r="0" b="0"/>
          <a:stretch/>
        </p:blipFill>
        <p:spPr>
          <a:xfrm>
            <a:off x="4719600" y="3884760"/>
            <a:ext cx="2484000" cy="2315880"/>
          </a:xfrm>
          <a:prstGeom prst="rect">
            <a:avLst/>
          </a:prstGeom>
          <a:ln w="9525">
            <a:noFill/>
          </a:ln>
        </p:spPr>
      </p:pic>
      <p:pic>
        <p:nvPicPr>
          <p:cNvPr id="155" name="图片 42" descr=""/>
          <p:cNvPicPr/>
          <p:nvPr/>
        </p:nvPicPr>
        <p:blipFill>
          <a:blip r:embed="rId6"/>
          <a:srcRect l="11055" t="0" r="0" b="0"/>
          <a:stretch/>
        </p:blipFill>
        <p:spPr>
          <a:xfrm>
            <a:off x="7292880" y="1440000"/>
            <a:ext cx="2499840" cy="2334960"/>
          </a:xfrm>
          <a:prstGeom prst="rect">
            <a:avLst/>
          </a:prstGeom>
          <a:ln w="9525">
            <a:noFill/>
          </a:ln>
        </p:spPr>
      </p:pic>
      <p:sp>
        <p:nvSpPr>
          <p:cNvPr id="156" name="TextBox 23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880920" y="192888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880920" y="3143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880920" y="428616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880920" y="5500800"/>
            <a:ext cx="19285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76520" y="63198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C:\Users\LINCOLN\Desktop\e-commerce\Enterprise-e-Commerce.png"/>
          <p:cNvPicPr/>
          <p:nvPr/>
        </p:nvPicPr>
        <p:blipFill>
          <a:blip r:embed="rId1"/>
          <a:stretch/>
        </p:blipFill>
        <p:spPr>
          <a:xfrm>
            <a:off x="2457360" y="2239920"/>
            <a:ext cx="1552320" cy="22809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3" name="图表 3"/>
          <p:cNvGraphicFramePr/>
          <p:nvPr/>
        </p:nvGraphicFramePr>
        <p:xfrm>
          <a:off x="-272880" y="527040"/>
          <a:ext cx="7017840" cy="794988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164" name="图表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2880" y="527040"/>
                    <a:ext cx="7017840" cy="79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矩形 4"/>
          <p:cNvSpPr/>
          <p:nvPr/>
        </p:nvSpPr>
        <p:spPr>
          <a:xfrm>
            <a:off x="585720" y="0"/>
            <a:ext cx="310680" cy="66312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732640" y="1798560"/>
            <a:ext cx="3354120" cy="3133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732640" y="2478240"/>
            <a:ext cx="3354120" cy="34596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寡头垄断型市场格局已经形成，很难在短期内打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732640" y="3255840"/>
            <a:ext cx="3354120" cy="1076040"/>
          </a:xfrm>
          <a:prstGeom prst="rect">
            <a:avLst/>
          </a:prstGeom>
          <a:solidFill>
            <a:srgbClr val="007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计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2C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市场交易规模会突破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亿元，但占总体网络购物规模的比重将由目前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－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复合增长率降至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978760" y="1787400"/>
            <a:ext cx="107640" cy="4233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5732640" y="1798560"/>
            <a:ext cx="1560240" cy="407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876240" y="297000"/>
            <a:ext cx="12902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  <Words>243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www.pptbz.com</dc:creator>
  <dc:description/>
  <dc:language>en-US</dc:language>
  <cp:lastModifiedBy>a</cp:lastModifiedBy>
  <dcterms:modified xsi:type="dcterms:W3CDTF">2015-07-25T12:00:42Z</dcterms:modified>
  <cp:revision>1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A4 纸张(210x297 毫米)</vt:lpwstr>
  </property>
  <property fmtid="{D5CDD505-2E9C-101B-9397-08002B2CF9AE}" pid="4" name="Slides">
    <vt:r8>7</vt:r8>
  </property>
</Properties>
</file>