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ECD1-7491-4913-806B-0B42A9E82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4433-2E6D-4EA2-BBA3-29707FAA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CC23-8F41-4801-BAEC-BF0678C96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C619-3CB4-4C3B-B9BE-6162C6754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8107-93B0-4666-8293-742FB217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9B5B-9767-4698-9AB1-2CE4F16D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F788-7DEA-4029-933B-9E9D7EC2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C11F-9E38-4460-B2F0-8B0D9A76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C20C-DACA-48AE-B1D5-7D3C3EF1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F4AF-E4C7-43F1-8ABD-637EEC1E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27BF-78C1-4D53-BDCA-01D5CC81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394B-C7E1-4E53-8B38-4575B020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1C81-7303-463D-BB05-273E2114EC7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-324000" y="1125360"/>
            <a:ext cx="961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蓝色小花朵爱心花环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4214880" y="4024440"/>
            <a:ext cx="4143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85880" y="7826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34261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506952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364068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975240" y="711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45691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442656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464076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938520" y="711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235476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428364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63550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975240" y="711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6215040" y="27860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199764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1010160" y="711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44978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69980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14976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324000" y="63086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903600" y="6429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66409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15688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39978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1T07:09:10Z</dcterms:modified>
  <cp:revision>50</cp:revision>
  <dc:subject/>
  <dc:title>幻灯片 1</dc:title>
</cp:coreProperties>
</file>