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hdphoto1.wdp" ContentType="image/vnd.ms-photo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6D92-0EA9-406F-ACB8-58B1CA8FF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399400"/>
            <a:ext cx="777204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1641-8D0B-4B42-81EA-2224AE65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399400"/>
            <a:ext cx="777204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B7B3-E7E3-4225-B1F5-9E3472C6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399400"/>
            <a:ext cx="777204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8C46-E3CB-43B1-B287-FD5E18F3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399400"/>
            <a:ext cx="777204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B5B0-8FF6-49A3-BE6C-74A449B9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399400"/>
            <a:ext cx="777204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4F29-95A0-4782-B209-5B4FB5E1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399400"/>
            <a:ext cx="777204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EB83-A4A0-48FF-A777-F7DF212D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399400"/>
            <a:ext cx="777204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3F23-3F88-42C0-AD2D-1A95DA4A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2399400"/>
            <a:ext cx="7772040" cy="64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2E9E-0974-4126-AFE8-50B26233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399400"/>
            <a:ext cx="777204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644B-A323-4B72-839E-D0C96BE3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399400"/>
            <a:ext cx="777204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4DD2-26A9-47DF-9D0E-F3941B1E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399400"/>
            <a:ext cx="777204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3BF0-4868-48D3-966B-9AE624FC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microsoft.com/office/2007/relationships/hdphoto" Target="../media/hdphoto1.wdp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-360" y="0"/>
            <a:ext cx="9144360" cy="687636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 hidden="1"/>
          <p:cNvSpPr/>
          <p:nvPr/>
        </p:nvSpPr>
        <p:spPr>
          <a:xfrm>
            <a:off x="0" y="0"/>
            <a:ext cx="9143640" cy="68922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eed069">
                  <a:alpha val="95294"/>
                </a:srgbClr>
              </a:gs>
            </a:gsLst>
            <a:path path="circle">
              <a:fillToRect l="50000" t="0" r="50000" b="10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Picture 6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6892200"/>
          </a:xfrm>
          <a:prstGeom prst="rect">
            <a:avLst/>
          </a:prstGeom>
          <a:ln w="0">
            <a:noFill/>
          </a:ln>
        </p:spPr>
      </p:pic>
      <p:sp>
        <p:nvSpPr>
          <p:cNvPr id="3" name="Rectangle 7"/>
          <p:cNvSpPr/>
          <p:nvPr/>
        </p:nvSpPr>
        <p:spPr>
          <a:xfrm>
            <a:off x="0" y="0"/>
            <a:ext cx="9143640" cy="6892200"/>
          </a:xfrm>
          <a:prstGeom prst="rect">
            <a:avLst/>
          </a:prstGeom>
          <a:solidFill>
            <a:schemeClr val="accent3">
              <a:alpha val="8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2303280"/>
            <a:ext cx="9143640" cy="1576080"/>
          </a:xfrm>
          <a:prstGeom prst="rect">
            <a:avLst/>
          </a:prstGeom>
          <a:gradFill rotWithShape="0">
            <a:gsLst>
              <a:gs pos="0">
                <a:srgbClr val="f2f2f2">
                  <a:alpha val="0"/>
                </a:srgbClr>
              </a:gs>
              <a:gs pos="100000">
                <a:srgbClr val="ffffff">
                  <a:alpha val="90196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0" y="2307240"/>
            <a:ext cx="9143640" cy="91800"/>
          </a:xfrm>
          <a:prstGeom prst="rect">
            <a:avLst/>
          </a:prstGeom>
          <a:gradFill rotWithShape="0">
            <a:gsLst>
              <a:gs pos="32000">
                <a:srgbClr val="808080">
                  <a:alpha val="0"/>
                </a:srgbClr>
              </a:gs>
              <a:gs pos="100000">
                <a:srgbClr val="80808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Rectangle 10"/>
          <p:cNvSpPr/>
          <p:nvPr/>
        </p:nvSpPr>
        <p:spPr>
          <a:xfrm flipV="1">
            <a:off x="0" y="3788280"/>
            <a:ext cx="9143640" cy="91800"/>
          </a:xfrm>
          <a:prstGeom prst="rect">
            <a:avLst/>
          </a:prstGeom>
          <a:gradFill rotWithShape="0">
            <a:gsLst>
              <a:gs pos="32000">
                <a:srgbClr val="808080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399400"/>
            <a:ext cx="7772040" cy="138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68580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03156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40080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80219D-28F8-42B2-9D79-D5D2E5F8B445}" type="slidenum">
              <a:rPr b="0" lang="en-US" sz="11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399400"/>
            <a:ext cx="7772040" cy="138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兰亭序通用</a:t>
            </a:r>
            <a:r>
              <a:rPr b="0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404640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1" lang="en-US" sz="2400" spc="-1" strike="noStrike">
              <a:solidFill>
                <a:srgbClr val="ffffff"/>
              </a:solidFill>
              <a:latin typeface="华文楷体"/>
              <a:ea typeface="华文楷体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Theme">
  <a:themeElements>
    <a:clrScheme name="Paper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8</TotalTime>
  <Application>LibreOffice/7.4.7.2$Linux_X86_64 LibreOffice_project/40$Build-2</Application>
  <AppVersion>15.0000</AppVersion>
  <Words>15</Words>
  <Paragraphs>2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2-07-30T12:54:55Z</dcterms:created>
  <dc:creator>lenovo</dc:creator>
  <dc:description/>
  <cp:keywords>XS-普屏 4：3 SC-深黄色 BG-深色 DH-静态</cp:keywords>
  <dc:language>en-US</dc:language>
  <cp:lastModifiedBy>王玉清</cp:lastModifiedBy>
  <dcterms:modified xsi:type="dcterms:W3CDTF">2016-02-24T02:42:47Z</dcterms:modified>
  <cp:revision>5</cp:revision>
  <dc:subject>TP-人文风俗</dc:subject>
  <dc:title>大学生学术系列2——兰亭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</vt:r8>
  </property>
</Properties>
</file>