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7C1-522C-4209-9828-DFF4C2E4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6C9-FF99-4EFE-8AD8-8508BC9B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62B6-D2B9-4C85-9408-B97BFEAC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2468-9B1B-4767-A5D7-FDD0E41A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8883-214F-4AEF-8A48-7AF6FC8F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E5E-5C32-44FD-9592-FE286F4B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6B35-970D-45CD-8210-B43FC75F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C76-0FBC-44BA-9457-C18A2ECD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5A5-31BB-43CA-AC8C-44AA80EE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7F44-0E25-4205-A643-003B1871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127-E243-4703-A6DC-F4AD8EC5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253-5FF2-4C54-8C99-33EF9B10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4DF4-0950-45F1-852F-3AF4FCE9C6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3585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6360" y="5877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02960" y="692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漫画人物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Topic Goes Her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topics go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Transitional Pag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360" y="5181120"/>
            <a:ext cx="3733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46530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Topic Goes Her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topics go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FB0-09A6-4024-8DD7-E4DCBEC9D4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6:15:4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9:16:5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