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19B3-EE4C-46EC-8D41-9B02CD00F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98DC-CE45-4EDD-A9EF-12BA6C0A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E41A-A0E8-4000-8394-B9C0C74D6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E903-2550-416E-82E1-22D93482E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1536-3904-44B7-80AD-1E5E1F344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A08E-E24E-424F-8796-6F516EE4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4C2DA-B842-46EE-B35E-BA269F84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80ED-4AD7-41A2-B58D-172B1EDE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9A7D-7A63-401A-BE68-373A797E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C109-B13A-439E-B6BF-CB8D383A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D42BF-FCAE-4F74-BDDE-98FBF71F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F4AB-B8C6-4381-8336-00617AB2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CA7A-AA54-45BF-9BBA-52BC3E15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C562-FD4E-4A4F-A6D9-C22DFC82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6658-BD1B-431E-8C69-5D15A02C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54F5-C926-4861-A996-441D73BD1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3A43-97D5-4335-8205-98327B37D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72EF4-3993-401C-B189-480053369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17D81-AA68-4C56-86AE-4273B95D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8DA1B-CDDF-41B7-845F-33463D68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5AD1C-B1F7-41A9-ACA8-77D8DC29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9EA6F-DDE9-487D-B5C7-A30CBD36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F253-F147-4940-9D6D-9A4E2CCF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A6E51-2507-4715-895E-BA684E71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D217D-B712-4AEC-BA46-32F53B77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892FA-54A2-430E-8355-51952507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D1191-B3B9-455C-8365-F23E8B3D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BE408-E1D7-4F74-AF73-75B813D2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6A8C6-0C05-48B6-A9D4-C36F0B95D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BFB6F-85A1-4A16-AEC1-E9DCE8C5D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F7DDC-8AF9-45E2-991E-A1D643840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0F9CA-E376-49B5-B099-7CD1295C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F1235-03F1-477B-96FC-9E97075A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5211-DF35-410D-8288-D1B4E17D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168DD-DF7A-4D03-AAD8-1E4E906A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46B23-0D59-4437-8A44-144DC1BD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0C244-6A10-401B-A265-77D6AF5F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CD00E-0479-4F48-9877-E5D72EE2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72155-26CE-47D0-AF3B-0262649B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83463-E971-4868-9E68-F7E5E4C3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81BC9-F135-43A9-A96C-D5630255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6C4A4-DE7A-4A1D-9A86-4E5220DA6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EE319-1EED-494C-9242-8C1CBC26A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76E86-9B8F-4F48-867B-D95323D1D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CAF1-9605-4DF5-AEA8-51BA5543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89C34-BB78-4684-B005-F9BCCC59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BD38B-4CC1-4C46-8AA3-CEF2D1BA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93FDF-0AF1-4333-B42D-FA1596DA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BDF13-5618-423B-80AF-565E8FD2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82EB5-4793-475F-AC5A-F3C6DF7A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BE399-F91F-425B-869A-63D3EC94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0D0EB-E0E5-4C57-863A-4E3EB7DD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332C2-EAC2-4CB8-97E4-231CF447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FB4BC-11FB-4D68-B258-1164FD47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38D49-58CB-4F60-8BA9-E9BC6699A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8D0B-C6EC-4B2B-8459-E0E2C484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0D778-B416-40A0-80E4-2D4CE1985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5576-7E8F-4D96-92E7-9B35E431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9D57-3075-4418-A0C9-14E0BF50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5AC2-32F5-47E5-A5E0-3A871414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0E37-D1E1-41F8-A01B-EECE31B371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6BFE-E683-42C5-B0D1-F13957488E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81A9-07AF-4355-828B-5968A72BBB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49D3-DBEC-4408-B5EE-C3D65C5EAA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2040-B3C2-435D-B415-075BA5A420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3746520" cy="53006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411280" y="2133360"/>
            <a:ext cx="640080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02840" y="11736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漫画人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免费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2349360"/>
            <a:ext cx="1682640" cy="45086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三联素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3lian.com/[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629040" y="27468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74680"/>
            <a:ext cx="6019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60360" y="4797360"/>
            <a:ext cx="44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5905440" cy="59058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4360" y="2565000"/>
            <a:ext cx="8084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Arial"/>
                <a:ea typeface="华文彩云"/>
              </a:rPr>
              <a:t>  </a:t>
            </a:r>
            <a:r>
              <a:rPr b="1" i="1" lang="zh-CN" sz="7200" spc="-1" strike="noStrike">
                <a:solidFill>
                  <a:srgbClr val="000000"/>
                </a:solidFill>
                <a:latin typeface="Arial"/>
                <a:ea typeface="华文彩云"/>
              </a:rPr>
              <a:t>谢谢观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903C-31A9-4320-B136-BDF44ED0BE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7T08:42:4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9:14:3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