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14.jpeg" ContentType="image/jpeg"/>
  <Override PartName="/ppt/media/image5.gif" ContentType="image/gif"/>
  <Override PartName="/ppt/media/image7.gif" ContentType="image/gif"/>
  <Override PartName="/ppt/media/image13.jpeg" ContentType="image/jpeg"/>
  <Override PartName="/ppt/media/image10.jpeg" ContentType="image/jpeg"/>
  <Override PartName="/ppt/media/image2.gif" ContentType="image/gif"/>
  <Override PartName="/ppt/media/image8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E546-48CC-48A6-BB3A-F51E0429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763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670560"/>
            <a:ext cx="8763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2AE-3C5E-45AD-8137-88B70D2C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68544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6705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2560" y="36705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D04B-DA60-4559-837B-A4002029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5080" y="68544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7880" y="68544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67056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5080" y="367056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7880" y="367056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48A-0434-4634-8D4F-22515917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6854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99CD-6BF1-4F7E-9527-84E7356C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B6B2-75BA-4FB2-81F9-2A6D016B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2560" y="68544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5D8-55ED-4F7F-9782-8C24298F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2A07-3114-45A8-8D34-12E57349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90676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479-0F63-415E-B7E4-9EC06C99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68544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6705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276-A6EA-4058-9BF2-4D7CDB2D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2560" y="68544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2560" y="36705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7DA-44BE-490B-A0CB-2521CC30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560" y="68544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670560"/>
            <a:ext cx="8763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5FAA-C5FB-4BFF-997E-02040377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Bold IT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6854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308560"/>
              <a:buBlip>
                <a:blip r:embed="rId3"/>
              </a:buBlip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SzPct val="264459"/>
              <a:buBlip>
                <a:blip r:embed="rId4"/>
              </a:buBlip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SzPct val="220359"/>
              <a:buBlip>
                <a:blip r:embed="rId5"/>
              </a:buBlip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  <a:p>
            <a:pPr lvl="3" marL="1600200" indent="-228600">
              <a:spcBef>
                <a:spcPts val="700"/>
              </a:spcBef>
              <a:buSzPct val="198381"/>
              <a:buBlip>
                <a:blip r:embed="rId6"/>
              </a:buBlip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  <a:p>
            <a:pPr lvl="4" marL="2057400" indent="-228600">
              <a:spcBef>
                <a:spcPts val="700"/>
              </a:spcBef>
              <a:buSzPct val="198381"/>
              <a:buBlip>
                <a:blip r:embed="rId7"/>
              </a:buBlip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  <a:p>
            <a:pPr lvl="5" marL="2057400" indent="-228600">
              <a:spcBef>
                <a:spcPts val="700"/>
              </a:spcBef>
              <a:buSzPct val="198381"/>
              <a:buBlip>
                <a:blip r:embed="rId8"/>
              </a:buBlip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  <a:p>
            <a:pPr lvl="6" marL="2057400" indent="-228600">
              <a:spcBef>
                <a:spcPts val="700"/>
              </a:spcBef>
              <a:buSzPct val="198381"/>
              <a:buBlip>
                <a:blip r:embed="rId9"/>
              </a:buBlip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E648-0A01-4686-9BCD-A7225DFF99AF}" type="slidenum">
              <a:rPr b="0" lang="zh-CN" sz="10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7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815040"/>
            <a:ext cx="9144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42" name="Picture 33" descr="eskimo_ice_skating_hg_clr"/>
          <p:cNvPicPr/>
          <p:nvPr/>
        </p:nvPicPr>
        <p:blipFill>
          <a:blip r:embed="rId2"/>
          <a:stretch/>
        </p:blipFill>
        <p:spPr>
          <a:xfrm>
            <a:off x="2971800" y="23623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8560" y="11736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漫画人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ras Bold ITC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280" y="6854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SzPct val="308484"/>
              <a:buBlip>
                <a:blip r:embed="rId2"/>
              </a:buBlip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  <a:ea typeface="宋体"/>
              </a:rPr>
              <a:t>Your subtopic goes here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47" name="Picture 37" descr="eskimo_riding_toboggan_hg_clr"/>
          <p:cNvPicPr/>
          <p:nvPr/>
        </p:nvPicPr>
        <p:blipFill>
          <a:blip r:embed="rId3"/>
          <a:stretch/>
        </p:blipFill>
        <p:spPr>
          <a:xfrm>
            <a:off x="5810400" y="352440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  <a:ea typeface="宋体"/>
              </a:rPr>
              <a:t>Transitional Page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815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1000" spc="-1" strike="noStrike">
              <a:solidFill>
                <a:srgbClr val="003366"/>
              </a:solidFill>
              <a:latin typeface="Arial Black"/>
              <a:ea typeface="宋体"/>
            </a:endParaRPr>
          </a:p>
        </p:txBody>
      </p:sp>
      <p:pic>
        <p:nvPicPr>
          <p:cNvPr id="50" name="Picture 7" descr="eskimo_grilling_outside_of_igloo_hg_clr"/>
          <p:cNvPicPr/>
          <p:nvPr/>
        </p:nvPicPr>
        <p:blipFill>
          <a:blip r:embed="rId2"/>
          <a:stretch/>
        </p:blipFill>
        <p:spPr>
          <a:xfrm>
            <a:off x="2286000" y="2362320"/>
            <a:ext cx="4648320" cy="3609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ras Bold ITC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280" y="6854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SzPct val="308484"/>
              <a:buBlip>
                <a:blip r:embed="rId2"/>
              </a:buBlip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  <a:ea typeface="宋体"/>
              </a:rPr>
              <a:t>Your subtopic goes here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54" name="Picture 10" descr="eskimo_walking_snow_shoes_hg_clr"/>
          <p:cNvPicPr/>
          <p:nvPr/>
        </p:nvPicPr>
        <p:blipFill>
          <a:blip r:embed="rId3"/>
          <a:stretch/>
        </p:blipFill>
        <p:spPr>
          <a:xfrm>
            <a:off x="6810480" y="3524400"/>
            <a:ext cx="233352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08" descr="way_way_up_north_sld"/>
          <p:cNvPicPr/>
          <p:nvPr/>
        </p:nvPicPr>
        <p:blipFill>
          <a:blip r:embed="rId1"/>
          <a:stretch/>
        </p:blipFill>
        <p:spPr>
          <a:xfrm>
            <a:off x="2384280" y="5099040"/>
            <a:ext cx="2143440" cy="160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9" descr="way_way_up_north_trs"/>
          <p:cNvPicPr/>
          <p:nvPr/>
        </p:nvPicPr>
        <p:blipFill>
          <a:blip r:embed="rId2"/>
          <a:stretch/>
        </p:blipFill>
        <p:spPr>
          <a:xfrm>
            <a:off x="4616280" y="5099040"/>
            <a:ext cx="2143440" cy="160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0" descr="way_way_up_north_prt"/>
          <p:cNvPicPr/>
          <p:nvPr/>
        </p:nvPicPr>
        <p:blipFill>
          <a:blip r:embed="rId3"/>
          <a:stretch/>
        </p:blipFill>
        <p:spPr>
          <a:xfrm>
            <a:off x="6848640" y="5099040"/>
            <a:ext cx="2143080" cy="1606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1" descr="way_way_up_north_qx"/>
          <p:cNvPicPr/>
          <p:nvPr/>
        </p:nvPicPr>
        <p:blipFill>
          <a:blip r:embed="rId4"/>
          <a:stretch/>
        </p:blipFill>
        <p:spPr>
          <a:xfrm>
            <a:off x="152280" y="5099040"/>
            <a:ext cx="2143080" cy="1606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13" descr="eskimo_grilling_outside_of_igloo_hg_clr"/>
          <p:cNvPicPr/>
          <p:nvPr/>
        </p:nvPicPr>
        <p:blipFill>
          <a:blip r:embed="rId5"/>
          <a:stretch/>
        </p:blipFill>
        <p:spPr>
          <a:xfrm>
            <a:off x="152280" y="2819520"/>
            <a:ext cx="2133720" cy="1657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14" descr="eskimo_ice_skating_hg_clr"/>
          <p:cNvPicPr/>
          <p:nvPr/>
        </p:nvPicPr>
        <p:blipFill>
          <a:blip r:embed="rId6"/>
          <a:stretch/>
        </p:blipFill>
        <p:spPr>
          <a:xfrm>
            <a:off x="2514600" y="27432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15" descr="eskimo_riding_toboggan_hg_clr"/>
          <p:cNvPicPr/>
          <p:nvPr/>
        </p:nvPicPr>
        <p:blipFill>
          <a:blip r:embed="rId7"/>
          <a:stretch/>
        </p:blipFill>
        <p:spPr>
          <a:xfrm>
            <a:off x="4572000" y="26668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16" descr="eskimo_walking_snow_shoes_hg_clr"/>
          <p:cNvPicPr/>
          <p:nvPr/>
        </p:nvPicPr>
        <p:blipFill>
          <a:blip r:embed="rId8"/>
          <a:stretch/>
        </p:blipFill>
        <p:spPr>
          <a:xfrm>
            <a:off x="7162920" y="2743200"/>
            <a:ext cx="1493640" cy="2133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815040"/>
            <a:ext cx="9144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 Black"/>
              <a:ea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8244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ffff"/>
              </a:solidFill>
              <a:latin typeface="Eras Bold ITC"/>
              <a:ea typeface="宋体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Eras Bold ITC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站点介绍：</a:t>
            </a:r>
            <a:endParaRPr b="0" lang="en-US" sz="14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4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栏目推荐：</a:t>
            </a:r>
            <a:endParaRPr b="0" lang="en-US" sz="14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2BD6-1670-4598-8062-77C1F28B9B19}" type="slidenum">
              <a:t>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13:1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1:16:3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