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9E27-87F6-4ECA-A747-F091CE6B3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505e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1F7D-9E9D-43BE-963B-24BCDE3EC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505e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57DA-6931-4FD2-868E-EEEA79DF3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505e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325D-4658-419B-84CE-E01ED978B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3024F-04F1-4319-9AC9-CF93DF3C9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505e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63F20-8A5E-4172-969F-7E2D257CE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505e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574A1-4218-4A7E-A950-A5212B105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505e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3DC33-33A0-4FF1-9EDC-B8AB5FABE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505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56AC4-4253-4168-A429-89A2D50EC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24CE7-B0AF-407E-8B19-BC14FFF4E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505e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7FD47-293B-4321-A627-1C134F901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505e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F839-8ADA-4521-9F12-573ABE57F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505e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EE175-4654-41BF-9D8E-CD69D56D2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505e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47296-C1DD-432B-80C2-A94FC11B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505e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4D615-286F-41D8-9E97-470FA8D16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505e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905D4-A5D5-4FE4-A9DC-E4B170FB1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505e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80A75-2969-4880-81DE-89E13B4E8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505e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8F1F-69FB-451B-B35B-D306AF44D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505e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1FE3-B0F8-430B-824D-A61EB79B4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505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B94F-D845-42D9-BD09-928761298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9E8C-8C4D-4723-821E-7ED9A2910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505e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0A2B-2E8F-4E8B-9888-2BB18BA0A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505e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C471-CB74-4402-A69A-357FAF01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505e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17FB-FD92-4333-8769-F723A80C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505e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42505e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E3135-7569-4AE5-9161-25624E6AFC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505e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42505e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30763-3D06-4BBE-BADC-9DF189E21F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828440" y="45684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8c5b8"/>
                </a:solidFill>
                <a:latin typeface="Arial Unicode MS"/>
                <a:ea typeface="Arial Unicode MS"/>
              </a:rPr>
              <a:t>麦克风演讲</a:t>
            </a:r>
            <a:r>
              <a:rPr b="0" lang="en-US" sz="4000" spc="-1" strike="noStrike">
                <a:solidFill>
                  <a:srgbClr val="d8c5b8"/>
                </a:solidFill>
                <a:latin typeface="Arial Unicode MS"/>
                <a:ea typeface="Arial Unicode MS"/>
              </a:rPr>
              <a:t>PPT</a:t>
            </a:r>
            <a:r>
              <a:rPr b="0" lang="zh-CN" sz="4000" spc="-1" strike="noStrike">
                <a:solidFill>
                  <a:srgbClr val="d8c5b8"/>
                </a:solidFill>
                <a:latin typeface="Arial Unicode MS"/>
                <a:ea typeface="Arial Unicode MS"/>
              </a:rPr>
              <a:t>模板</a:t>
            </a:r>
            <a:endParaRPr b="0" lang="en-US" sz="4000" spc="-1" strike="noStrike">
              <a:solidFill>
                <a:srgbClr val="42505e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320" y="64771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42505e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矩形 2"/>
          <p:cNvSpPr/>
          <p:nvPr/>
        </p:nvSpPr>
        <p:spPr>
          <a:xfrm>
            <a:off x="168120" y="6553080"/>
            <a:ext cx="3632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38080" y="380988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模板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80720" y="365724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42505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2505e"/>
                </a:solidFill>
                <a:latin typeface="Times New Roman"/>
              </a:rPr>
              <a:t>使用规范说明</a:t>
            </a:r>
            <a:endParaRPr b="0" lang="en-US" sz="3600" spc="-1" strike="noStrike">
              <a:solidFill>
                <a:srgbClr val="42505e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6B84A-466F-42D3-A843-68CAB7F8944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8T20:13:18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2:01:25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