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4E7A-1135-4407-AC07-5D5A91E0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2E2A-3553-4D14-BA1E-1FD84C1E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91B0-2026-406E-B4CA-F97A6BB7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FB2E-C35D-47DE-876B-6694BB22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08C60-92F6-4667-BD31-ACC9A40E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998AF-B2FA-4A47-A49A-C813D4DA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6D6C7-9B51-4AA3-8B5D-C2DB8C50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A6BC9-000D-4E88-A24E-6D695DFC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2ECF1-BE16-4D2D-A832-34B32DD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EA66E-8551-4BD7-9372-8AD38A8B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DBA9A-A172-44EE-8B06-CFC627C7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1146-5A6C-4C6F-B332-B5AAA29B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BE35D-FA27-4F9F-87C2-05203348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7A3D3-D1CA-4D92-BDA7-306E44D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CF37A-63A1-41D3-9AEF-1C0012F0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54F81-EC78-44CD-BDAC-C804943E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F6CB2-6872-459F-8ECA-6BC8D148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5328-6B18-4415-BE98-F4850101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7570-C9FF-4C15-8884-55C89A3C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B072-48E1-42F7-A32B-9E10C679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AE53-8EA8-4272-822B-53488BA8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9DD3-17B3-42B2-8AB8-06CA697A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FFE2A-2812-4DB5-94C4-93CAC976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2B0B-D5A2-45C8-9770-CA1096DA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d67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cf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67c5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78000" y="6530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0311d"/>
                </a:solidFill>
                <a:latin typeface="Times New Roman"/>
                <a:ea typeface="宋体"/>
              </a:rPr>
              <a:t>素材天下 </a:t>
            </a:r>
            <a:r>
              <a:rPr b="1" lang="en-US" sz="1000" spc="-1" strike="noStrike">
                <a:solidFill>
                  <a:srgbClr val="30311d"/>
                </a:solidFill>
                <a:latin typeface="Times New Roman"/>
                <a:ea typeface="宋体"/>
              </a:rPr>
              <a:t>sucaitianxia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0084-C9FD-4C5D-AB0A-28C569589F76}" type="slidenum">
              <a:rPr b="0" lang="zh-CN" sz="1000" spc="-1" strike="noStrike">
                <a:solidFill>
                  <a:srgbClr val="30311d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0311d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1074600" cy="111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14240" y="-79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1440" y="357120"/>
            <a:ext cx="10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58920" y="-22320"/>
            <a:ext cx="0" cy="115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69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5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2D5C-ECD3-42F1-A961-8EE0F01BBC2B}" type="slidenum">
              <a: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d67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0311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6"/>
          </p:nvPr>
        </p:nvSpPr>
        <p:spPr>
          <a:xfrm>
            <a:off x="6019920" y="531792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11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0311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0311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67c57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11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0311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11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0311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11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11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11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0" y="4572000"/>
            <a:ext cx="757440" cy="812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5160" y="152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11d"/>
                </a:solidFill>
                <a:latin typeface="Arial"/>
              </a:rPr>
              <a:t>美食</a:t>
            </a:r>
            <a:r>
              <a:rPr b="0" lang="zh-CN" sz="4000" spc="-1" strike="noStrike">
                <a:solidFill>
                  <a:srgbClr val="30311d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30311d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800240" y="220932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11d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05520" y="2590920"/>
            <a:ext cx="3809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7c57"/>
                    </a:gs>
                    <a:gs pos="100000">
                      <a:srgbClr val="facf67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7c57"/>
                  </a:gs>
                  <a:gs pos="100000">
                    <a:srgbClr val="facf67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624852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11d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30311d"/>
                </a:solidFill>
                <a:latin typeface="Arial"/>
              </a:rPr>
              <a:t>素材下载</a:t>
            </a:r>
            <a:r>
              <a:rPr b="0" lang="zh-CN" sz="18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0311d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21EF-7260-476D-8F6E-13E12F5197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0:23:3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30:22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