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rawing3.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colors4.xml" ContentType="application/vnd.openxmlformats-officedocument.drawingml.diagramColors+xml"/>
  <Override PartName="/ppt/diagrams/layout1.xml" ContentType="application/vnd.openxmlformats-officedocument.drawingml.diagramLayout+xml"/>
  <Override PartName="/ppt/diagrams/layout4.xml" ContentType="application/vnd.openxmlformats-officedocument.drawingml.diagramLayout+xml"/>
  <Override PartName="/ppt/diagrams/data3.xml" ContentType="application/vnd.openxmlformats-officedocument.drawingml.diagramData+xml"/>
  <Override PartName="/ppt/diagrams/data4.xml" ContentType="application/vnd.openxmlformats-officedocument.drawingml.diagramData+xml"/>
  <Override PartName="/ppt/diagrams/data1.xml" ContentType="application/vnd.openxmlformats-officedocument.drawingml.diagramData+xml"/>
  <Override PartName="/ppt/diagrams/layout2.xml" ContentType="application/vnd.openxmlformats-officedocument.drawingml.diagramLayout+xml"/>
  <Override PartName="/ppt/diagrams/quickStyle1.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3.xml" ContentType="application/vnd.openxmlformats-officedocument.drawingml.diagramStyle+xml"/>
  <Override PartName="/ppt/diagrams/colors2.xml" ContentType="application/vnd.openxmlformats-officedocument.drawingml.diagramColors+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1">
  <dgm:title val=""/>
  <dgm:desc val=""/>
  <dgm:catLst>
    <dgm:cat type="accent1" pri="11100"/>
  </dgm:catLst>
  <dgm:styleLbl name="node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lig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l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vennNode1">
    <dgm:fillClrLst meth="repeat">
      <a:schemeClr val="lt1">
        <a:alpha val="50000"/>
      </a:schemeClr>
    </dgm:fillClrLst>
    <dgm:linClrLst meth="repeat">
      <a:schemeClr val="accent1">
        <a:shade val="80000"/>
      </a:schemeClr>
    </dgm:linClrLst>
    <dgm:effectClrLst/>
    <dgm:txLinClrLst/>
    <dgm:txFillClrLst/>
    <dgm:txEffectClrLst/>
  </dgm:styleLbl>
  <dgm:styleLbl name="node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f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align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b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dgm:txEffectClrLst/>
  </dgm:styleLbl>
  <dgm:styleLbl name="parChTrans2D2">
    <dgm:fillClrLst meth="repeat">
      <a:schemeClr val="accent1"/>
    </dgm:fillClrLst>
    <dgm:linClrLst meth="repeat">
      <a:schemeClr val="accent1"/>
    </dgm:linClrLst>
    <dgm:effectClrLst/>
    <dgm:txLinClrLst/>
    <dgm:txFillClrLst/>
    <dgm:txEffectClrLst/>
  </dgm:styleLbl>
  <dgm:styleLbl name="parChTrans2D3">
    <dgm:fillClrLst meth="repeat">
      <a:schemeClr val="accent1"/>
    </dgm:fillClrLst>
    <dgm:linClrLst meth="repeat">
      <a:schemeClr val="accent1"/>
    </dgm:linClrLst>
    <dgm:effectClrLst/>
    <dgm:txLinClrLst/>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con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align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trAlignAcc1">
    <dgm:fillClrLst meth="repeat">
      <a:schemeClr val="accent1">
        <a:alpha val="40000"/>
        <a:tint val="40000"/>
      </a:schemeClr>
    </dgm:fillClrLst>
    <dgm:linClrLst meth="repeat">
      <a:schemeClr val="accent1"/>
    </dgm:linClrLst>
    <dgm:effectClrLst/>
    <dgm:txLinClrLst/>
    <dgm:txFillClrLst meth="repeat">
      <a:schemeClr val="dk1"/>
    </dgm:txFillClrLst>
    <dgm:txEffectClrLst/>
  </dgm:styleLbl>
  <dgm:styleLbl name="b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align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b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fgAcc0">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2">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3">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4">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1">
  <dgm:title val=""/>
  <dgm:desc val=""/>
  <dgm:catLst>
    <dgm:cat type="accent1" pri="11100"/>
  </dgm:catLst>
  <dgm:styleLbl name="node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lig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l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vennNode1">
    <dgm:fillClrLst meth="repeat">
      <a:schemeClr val="lt1">
        <a:alpha val="50000"/>
      </a:schemeClr>
    </dgm:fillClrLst>
    <dgm:linClrLst meth="repeat">
      <a:schemeClr val="accent1">
        <a:shade val="80000"/>
      </a:schemeClr>
    </dgm:linClrLst>
    <dgm:effectClrLst/>
    <dgm:txLinClrLst/>
    <dgm:txFillClrLst/>
    <dgm:txEffectClrLst/>
  </dgm:styleLbl>
  <dgm:styleLbl name="node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f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align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b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dgm:txEffectClrLst/>
  </dgm:styleLbl>
  <dgm:styleLbl name="parChTrans2D2">
    <dgm:fillClrLst meth="repeat">
      <a:schemeClr val="accent1"/>
    </dgm:fillClrLst>
    <dgm:linClrLst meth="repeat">
      <a:schemeClr val="accent1"/>
    </dgm:linClrLst>
    <dgm:effectClrLst/>
    <dgm:txLinClrLst/>
    <dgm:txFillClrLst/>
    <dgm:txEffectClrLst/>
  </dgm:styleLbl>
  <dgm:styleLbl name="parChTrans2D3">
    <dgm:fillClrLst meth="repeat">
      <a:schemeClr val="accent1"/>
    </dgm:fillClrLst>
    <dgm:linClrLst meth="repeat">
      <a:schemeClr val="accent1"/>
    </dgm:linClrLst>
    <dgm:effectClrLst/>
    <dgm:txLinClrLst/>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con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align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trAlignAcc1">
    <dgm:fillClrLst meth="repeat">
      <a:schemeClr val="accent1">
        <a:alpha val="40000"/>
        <a:tint val="40000"/>
      </a:schemeClr>
    </dgm:fillClrLst>
    <dgm:linClrLst meth="repeat">
      <a:schemeClr val="accent1"/>
    </dgm:linClrLst>
    <dgm:effectClrLst/>
    <dgm:txLinClrLst/>
    <dgm:txFillClrLst meth="repeat">
      <a:schemeClr val="dk1"/>
    </dgm:txFillClrLst>
    <dgm:txEffectClrLst/>
  </dgm:styleLbl>
  <dgm:styleLbl name="b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align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b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fgAcc0">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2">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3">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4">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1">
  <dgm:title val=""/>
  <dgm:desc val=""/>
  <dgm:catLst>
    <dgm:cat type="accent1" pri="11100"/>
  </dgm:catLst>
  <dgm:styleLbl name="node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lig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lnNode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vennNode1">
    <dgm:fillClrLst meth="repeat">
      <a:schemeClr val="lt1">
        <a:alpha val="50000"/>
      </a:schemeClr>
    </dgm:fillClrLst>
    <dgm:linClrLst meth="repeat">
      <a:schemeClr val="accent1">
        <a:shade val="80000"/>
      </a:schemeClr>
    </dgm:linClrLst>
    <dgm:effectClrLst/>
    <dgm:txLinClrLst/>
    <dgm:txFillClrLst/>
    <dgm:txEffectClrLst/>
  </dgm:styleLbl>
  <dgm:styleLbl name="node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node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f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align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bgImgPlace1">
    <dgm:fillClrLst meth="repeat">
      <a:schemeClr val="accent1">
        <a:tint val="40000"/>
      </a:schemeClr>
    </dgm:fillClrLst>
    <dgm:linClrLst meth="repeat">
      <a:schemeClr val="accent1">
        <a:shade val="80000"/>
      </a:schemeClr>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meth="repeat">
      <a:schemeClr val="dk1"/>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dgm:linClrLst>
    <dgm:effectClrLst/>
    <dgm:txLinClrLst/>
    <dgm:txFillClrLst meth="repeat">
      <a:schemeClr val="tx1"/>
    </dgm:txFillClrLst>
    <dgm:txEffectClrLst/>
  </dgm:styleLbl>
  <dgm:styleLbl name="asst0">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1">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2">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3">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asst4">
    <dgm:fillClrLst meth="repeat">
      <a:schemeClr val="lt1"/>
    </dgm:fillClrLst>
    <dgm:linClrLst meth="repeat">
      <a:schemeClr val="accent1">
        <a:shade val="80000"/>
      </a:schemeClr>
    </dgm:linClrLst>
    <dgm:effectClrLst/>
    <dgm:txLinClrLst/>
    <dgm:txFillClrLst meth="repeat">
      <a:schemeClr val="dk1"/>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dgm:txEffectClrLst/>
  </dgm:styleLbl>
  <dgm:styleLbl name="parChTrans2D2">
    <dgm:fillClrLst meth="repeat">
      <a:schemeClr val="accent1"/>
    </dgm:fillClrLst>
    <dgm:linClrLst meth="repeat">
      <a:schemeClr val="accent1"/>
    </dgm:linClrLst>
    <dgm:effectClrLst/>
    <dgm:txLinClrLst/>
    <dgm:txFillClrLst/>
    <dgm:txEffectClrLst/>
  </dgm:styleLbl>
  <dgm:styleLbl name="parChTrans2D3">
    <dgm:fillClrLst meth="repeat">
      <a:schemeClr val="accent1"/>
    </dgm:fillClrLst>
    <dgm:linClrLst meth="repeat">
      <a:schemeClr val="accent1"/>
    </dgm:linClrLst>
    <dgm:effectClrLst/>
    <dgm:txLinClrLst/>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conF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align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trAlignAcc1">
    <dgm:fillClrLst meth="repeat">
      <a:schemeClr val="accent1">
        <a:alpha val="40000"/>
        <a:tint val="40000"/>
      </a:schemeClr>
    </dgm:fillClrLst>
    <dgm:linClrLst meth="repeat">
      <a:schemeClr val="accent1"/>
    </dgm:linClrLst>
    <dgm:effectClrLst/>
    <dgm:txLinClrLst/>
    <dgm:txFillClrLst meth="repeat">
      <a:schemeClr val="dk1"/>
    </dgm:txFillClrLst>
    <dgm:txEffectClrLst/>
  </dgm:styleLbl>
  <dgm:styleLbl name="bgAcc1">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align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bgAccFollowNode1">
    <dgm:fillClrLst meth="repeat">
      <a:schemeClr val="lt1">
        <a:alpha val="90000"/>
        <a:tint val="40000"/>
      </a:schemeClr>
    </dgm:fillClrLst>
    <dgm:linClrLst meth="repeat">
      <a:schemeClr val="accent1">
        <a:alpha val="90000"/>
      </a:schemeClr>
    </dgm:linClrLst>
    <dgm:effectClrLst/>
    <dgm:txLinClrLst/>
    <dgm:txFillClrLst meth="repeat">
      <a:schemeClr val="dk1"/>
    </dgm:txFillClrLst>
    <dgm:txEffectClrLst/>
  </dgm:styleLbl>
  <dgm:styleLbl name="fgAcc0">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2">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3">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fgAcc4">
    <dgm:fillClrLst meth="repeat">
      <a:schemeClr val="accent1">
        <a:alpha val="90000"/>
        <a:tint val="4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D2CA7D92-4399-425E-AE63-0FCFB5C276F9}" type="doc">
      <dgm:prSet loTypeId="urn:microsoft.com/office/officeart/2005/8/layout/list1" loCatId="list" qsTypeId="urn:microsoft.com/office/officeart/2005/8/quickstyle/simple4" qsCatId="simple" csTypeId="urn:microsoft.com/office/officeart/2005/8/colors/accent1_1" csCatId="accent1" phldr="1"/>
      <dgm:spPr/>
      <dgm:t>
        <a:bodyPr/>
        <a:lstStyle/>
        <a:p>
          <a:endParaRPr lang="zh-CN" altLang="en-US"/>
        </a:p>
      </dgm:t>
    </dgm:pt>
    <dgm:pt modelId="{10D5D77E-553E-4534-8610-E1A9FB67012B}">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没有“雇主”这回事儿</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62DEB8A8-2360-43FB-BF95-9FABBC1FACE1}" type="par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2DB4217-5E54-4790-906D-945A107DEA66}" type="sib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9F1205-2B7C-4B09-BA84-B735EDEE727E}">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你不能通过一个雇主的态度去推测另一个的态度；</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15D0545E-F4CC-435A-8259-A5D212FC2048}" type="par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F70955-FE1E-46CE-9449-C532BBE44564}" type="sib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17E2F3B-5A85-44E0-982A-5E6A7F810295}">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前，一定要做功课</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85A4FD0-73F4-4CA5-82DC-00A15264327B}" type="par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00147E1-37A4-4BD0-8432-84DE43294855}" type="sib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51B1F1B-430D-4C93-B5D0-549A2F55C06C}">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花费精力尽可能了解对方；</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C019BC6-F7A2-4D55-9BC2-82E705840216}" type="par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A25E32-12EB-4B64-AE9D-2EEDCDFD2254}" type="sib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B44C27-8C45-4946-B619-930DEABDC5A6}">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遵守承诺</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749D41E2-AC8A-4D5F-A95B-0FCBD998C486}" type="par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37CB89-3D42-4328-9B43-5D006668A740}" type="sib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4B8B24-D253-4025-9D7A-1250CFF4DC7F}">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控制面试时间长短，如</a:t>
          </a:r>
          <a:r>
            <a:rPr lang="en-US" sz="2000" smtClean="0">
              <a:solidFill>
                <a:schemeClr val="accent5">
                  <a:lumMod val="50000"/>
                </a:schemeClr>
              </a:solidFill>
              <a:latin typeface="微软雅黑" panose="020B0503020204020204" pitchFamily="34" charset="-122"/>
              <a:ea typeface="微软雅黑" panose="020B0503020204020204" pitchFamily="34" charset="-122"/>
            </a:rPr>
            <a:t>19</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596589D1-FBEB-4B7D-8CFA-6655830487F6}" type="par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B68AE4A-8C7D-488D-8260-3B170B59D819}" type="sib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81F5B8-16FE-474B-8B88-AA74B4FB985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不过就是一场对话</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BC64C20-1D29-4037-A2ED-A0972423FC5A}" type="par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F376119-568D-43E3-9098-634677C44F97}" type="sib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8744035-F9AE-41EA-812B-1A31C83FA82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温和地了解雇主，觉得是你相待的地方，再有信心地推销自己；</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30E956D-6B18-4CD7-99D1-5DB4EFBFB177}" type="par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5D0FFB2-142C-456C-A871-C0AE186F2011}" type="sib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23BADAC-B332-43C3-BB0D-02A427A4DEFC}">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他们会问的问题，和你能问的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FC4D0F8-DEDF-4BCE-BF80-67E4B427C896}" type="par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3F3CAE-D39D-441B-B8C7-915283B34055}" type="sib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8A9E041-478D-4E22-8588-3F8D5E0095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雇主希望你说的，是没明着问出来的另一个问题的答案；</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629B5C95-7FD0-4D3C-9617-FE148834A911}" type="par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1B0A5E0-7A4B-4758-BB22-B81D71CEECCA}" type="sib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75BA8DE-AAD6-45B5-AB29-299B0B1B2292}">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面试中，遵循“</a:t>
          </a:r>
          <a:r>
            <a:rPr lang="en-US" sz="2400" b="1" dirty="0" smtClean="0">
              <a:solidFill>
                <a:srgbClr val="2777D8"/>
              </a:solidFill>
              <a:latin typeface="微软雅黑" panose="020B0503020204020204" pitchFamily="34" charset="-122"/>
              <a:ea typeface="微软雅黑" panose="020B0503020204020204" pitchFamily="34" charset="-122"/>
            </a:rPr>
            <a:t>50-50</a:t>
          </a:r>
          <a:r>
            <a:rPr lang="zh-CN" sz="2400" b="1" dirty="0" smtClean="0">
              <a:solidFill>
                <a:srgbClr val="2777D8"/>
              </a:solidFill>
              <a:latin typeface="微软雅黑" panose="020B0503020204020204" pitchFamily="34" charset="-122"/>
              <a:ea typeface="微软雅黑" panose="020B0503020204020204" pitchFamily="34" charset="-122"/>
            </a:rPr>
            <a:t>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BFB5255E-3473-49BD-B422-BB4FF7A20B45}" type="par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B8ADA45-910F-4533-86BD-7810220AF9FB}" type="sib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FB24E-E301-4AD8-BE6C-325D17588F5C}">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说，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听；</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A7CBD04D-7184-4B86-A2CB-177D9C882191}" type="par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15C74DA-8A9C-4422-9330-741B9EB86E63}" type="sib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BDA8C71-296F-4979-8121-1077BB08BA06}">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回答问题时，遵循“</a:t>
          </a:r>
          <a:r>
            <a:rPr lang="en-US" sz="2400" b="1" dirty="0" smtClean="0">
              <a:solidFill>
                <a:srgbClr val="2777D8"/>
              </a:solidFill>
              <a:latin typeface="微软雅黑" panose="020B0503020204020204" pitchFamily="34" charset="-122"/>
              <a:ea typeface="微软雅黑" panose="020B0503020204020204" pitchFamily="34" charset="-122"/>
            </a:rPr>
            <a:t>20</a:t>
          </a:r>
          <a:r>
            <a:rPr lang="zh-CN" sz="2400" b="1" dirty="0" smtClean="0">
              <a:solidFill>
                <a:srgbClr val="2777D8"/>
              </a:solidFill>
              <a:latin typeface="微软雅黑" panose="020B0503020204020204" pitchFamily="34" charset="-122"/>
              <a:ea typeface="微软雅黑" panose="020B0503020204020204" pitchFamily="34" charset="-122"/>
            </a:rPr>
            <a:t>秒到</a:t>
          </a:r>
          <a:r>
            <a:rPr lang="en-US" sz="2400" b="1" dirty="0" smtClean="0">
              <a:solidFill>
                <a:srgbClr val="2777D8"/>
              </a:solidFill>
              <a:latin typeface="微软雅黑" panose="020B0503020204020204" pitchFamily="34" charset="-122"/>
              <a:ea typeface="微软雅黑" panose="020B0503020204020204" pitchFamily="34" charset="-122"/>
            </a:rPr>
            <a:t>2</a:t>
          </a:r>
          <a:r>
            <a:rPr lang="zh-CN" sz="2400" b="1" dirty="0" smtClean="0">
              <a:solidFill>
                <a:srgbClr val="2777D8"/>
              </a:solidFill>
              <a:latin typeface="微软雅黑" panose="020B0503020204020204" pitchFamily="34" charset="-122"/>
              <a:ea typeface="微软雅黑" panose="020B0503020204020204" pitchFamily="34" charset="-122"/>
            </a:rPr>
            <a:t>分钟”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4A658166-19E6-4C6B-ACAC-1F49557A6BE2}" type="par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6519594-B96F-41D9-BB8A-53ADD222857B}" type="sib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C2077DF-600C-48D3-A751-60DB855AEDA7}">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说话回答问题尽量不超过</a:t>
          </a:r>
          <a:r>
            <a:rPr lang="en-US" sz="2000" smtClean="0">
              <a:solidFill>
                <a:schemeClr val="accent5">
                  <a:lumMod val="50000"/>
                </a:schemeClr>
              </a:solidFill>
              <a:latin typeface="微软雅黑" panose="020B0503020204020204" pitchFamily="34" charset="-122"/>
              <a:ea typeface="微软雅黑" panose="020B0503020204020204" pitchFamily="34" charset="-122"/>
            </a:rPr>
            <a:t>2</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094983A-00BF-4AE5-8215-098C437A999F}" type="par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CF06A87-35F1-4C54-97A9-AD21AA9D3C13}" type="sib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EC28E6B-0E2D-4D7A-912D-2F108941301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最关心的是风险</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8C80382-D871-48FF-8D7A-5470CDB7D404}" type="par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2770A-E139-4BF9-ACAC-10D58A8EF74B}" type="sib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20B3D191-3E55-4C08-AB56-9A609A6FE0DE}">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面试中强调你的唯一目标是“提升组织的效率、服务和标准”；</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C97A90C-76A8-40EE-B125-F83DB2992C6E}" type="par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5B74F47-2577-460E-A075-B961D2C33C73}" type="sib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9E898A3-3EED-4605-AC0E-699A9E239A50}">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细节决定成败</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0E7B84F-E4D8-461C-BF25-3199965DE68C}" type="par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299F6D-7D48-4243-B127-F6C90CEA5477}" type="sib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CDB0F0-8D1A-4BC8-A84A-F954B51C6B8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形象和个人习惯、紧张表现、缺乏自信、对他人的态度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A76467B-1F1C-482A-97FA-FC9D12574F35}" type="par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1BDB7F4-F39A-4278-ACF7-C5E2985A42ED}" type="sib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4EA246E-98AA-4F54-95D5-D578D47FCD1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关注大多数雇主都在乎的通用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5103267-F92C-45F4-B90C-8884B33AF9FE}" type="par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0576C01-668E-4C7B-A534-6CE2370DBF7B}" type="sib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A5B0946-F626-4646-AEAE-31C4CF2385A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守时排在第一位，你可以“笨”，但不可以不“努力”；</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D852928-74B2-4CEE-BDAB-48A38AF29726}" type="par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39ECB5B-6E2A-4F5F-80CF-8106B513F4C8}" type="sib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8541ABC-4FD1-4B37-8C0B-2440C718653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时带证据，表明你具备某种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5B5B50DF-5C2D-4F24-BBF3-7147D7EFCFD5}" type="par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74AC75-C345-44E7-B062-82940C64A6A5}" type="sib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A870066-74B4-45E9-990B-C4D459B12DD6}">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证书、产品、照片、视频、代码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030F7204-5277-49E4-97E4-FAC8165BA9B9}" type="par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51B5AEC-96B9-4AED-B99C-7DD6115F2386}" type="sib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8E6DC84-12C4-4733-8DEE-7DD5AAF0F89F}">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即使前任雇主很糟糕，也不要在面试中贬损他们</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831E784C-C0B5-492A-9A1E-40934F97AAA3}" type="par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2138719-FE6D-4586-8936-83B63213823C}" type="sib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3B5AC45-5608-46A8-944E-E801BAEC90D9}">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表达你对同盟军里所有成员的尊重；</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8FC878D-6E72-4E58-8862-8B3B8147C4BC}" type="par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AD2798-489C-4316-9AB8-B6C058D9E573}" type="sib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B997B34-221D-4496-A1C8-A439AE7369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不在乎你的过去</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6FAD773-4B1B-45A7-B794-B8E75103FAFE}" type="par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D5A5068-F8C8-4882-B01F-B89B4ED7EAB1}" type="sib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48A4253-6D56-45DF-B4FF-CD09F5A2E1FB}">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了解过去是为了预测你将来的行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8687D66E-5597-4865-9E48-4E719DEF25FA}" type="par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D906F3-FCA3-4DC6-B9D3-C5A0128831D1}" type="sib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4672CAE-D0E2-488D-89C8-C0E8F96F0EF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留心面试官问题的时间框架</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0F796A20-7E75-4DD4-8648-55C0A8B09D1B}" type="par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D769867-DD88-469F-AB33-CE9193537472}" type="sib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7527FEC-70F7-4888-A1DB-53EF1720928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越是从过去移向将来，对你越有利；</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F2DB0B2-1294-4E69-9712-DB7FB8C3D6F1}" type="par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4D25C3E-989B-40F7-8D90-8A8CF4245BFD}" type="sib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BC7E0D7-671F-419E-9F6F-D63F9A7D85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结束面试前，通常你要问五个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A9B3587-0A6E-49D9-A840-8AD1FF567A82}" type="par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0B37F8-9D69-4188-A816-B3AAAFDA4F6C}" type="sib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3F776D7-BF3C-4B24-A307-1E7E793D7C98}">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我能得到工作吗？什么时候能得到最终消息？最晚什么时候答复？我能联系您吗？其他人会对我感兴趣吗？（第一个问题否定再提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B680E064-3AD4-488A-8F31-A2B0D89D3B1D}" type="par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8E2810-3E9B-4649-9DFB-3BAD46A23A3A}" type="sib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3828330-15A8-4EF7-A4B7-BDF54B622464}">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写感谢信的重要性</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F92B04FF-9E9B-44FE-8EB2-E7480C4EB780}" type="par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647305F-960F-4701-9A54-C04E56F9240B}" type="sib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1774E7D-9FF5-4CDB-99F9-9EA58C8B77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大多数求职者会忽略这个问题，感谢信不必太长，表达清楚即可；</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71228E45-6F91-4A0B-8732-17661B45FA1D}" type="par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D198F6-EA85-4308-84C0-F36CC4CB4914}" type="sib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8F6336F-7BCE-4053-8D12-1F0F9E31E0A4}" type="pres">
      <dgm:prSet presAssocID="{D2CA7D92-4399-425E-AE63-0FCFB5C276F9}" presName="linear" presStyleCnt="0">
        <dgm:presLayoutVars>
          <dgm:dir/>
          <dgm:animLvl val="lvl"/>
          <dgm:resizeHandles val="exact"/>
        </dgm:presLayoutVars>
      </dgm:prSet>
      <dgm:spPr/>
      <dgm:t>
        <a:bodyPr/>
        <a:lstStyle/>
        <a:p>
          <a:endParaRPr lang="zh-CN" altLang="en-US"/>
        </a:p>
      </dgm:t>
    </dgm:pt>
    <dgm:pt modelId="{C207798F-6AAF-47DA-8408-AFF244554892}" type="pres">
      <dgm:prSet presAssocID="{10D5D77E-553E-4534-8610-E1A9FB67012B}" presName="parentLin" presStyleCnt="0"/>
      <dgm:spPr/>
    </dgm:pt>
    <dgm:pt modelId="{14CFD343-41C1-44D5-8CB8-B91671EC2DE1}" type="pres">
      <dgm:prSet presAssocID="{10D5D77E-553E-4534-8610-E1A9FB67012B}" presName="parentLeftMargin" presStyleLbl="node1" presStyleIdx="0" presStyleCnt="16"/>
      <dgm:spPr/>
      <dgm:t>
        <a:bodyPr/>
        <a:lstStyle/>
        <a:p>
          <a:endParaRPr lang="zh-CN" altLang="en-US"/>
        </a:p>
      </dgm:t>
    </dgm:pt>
    <dgm:pt modelId="{6780692F-6144-4940-BC88-C5223D80EAED}" type="pres">
      <dgm:prSet presAssocID="{10D5D77E-553E-4534-8610-E1A9FB67012B}" presName="parentText" presStyleLbl="node1" presStyleIdx="0" presStyleCnt="16">
        <dgm:presLayoutVars>
          <dgm:chMax val="0"/>
          <dgm:bulletEnabled val="1"/>
        </dgm:presLayoutVars>
      </dgm:prSet>
      <dgm:spPr/>
      <dgm:t>
        <a:bodyPr/>
        <a:lstStyle/>
        <a:p>
          <a:endParaRPr lang="zh-CN" altLang="en-US"/>
        </a:p>
      </dgm:t>
    </dgm:pt>
    <dgm:pt modelId="{4F2BCA67-44D7-441C-9DAE-CD920ABBF230}" type="pres">
      <dgm:prSet presAssocID="{10D5D77E-553E-4534-8610-E1A9FB67012B}" presName="negativeSpace" presStyleCnt="0"/>
      <dgm:spPr/>
    </dgm:pt>
    <dgm:pt modelId="{380D6C35-0EB3-4DE9-9AEE-9EA535447E4E}" type="pres">
      <dgm:prSet presAssocID="{10D5D77E-553E-4534-8610-E1A9FB67012B}" presName="childText" presStyleLbl="conFgAcc1" presStyleIdx="0" presStyleCnt="16">
        <dgm:presLayoutVars>
          <dgm:bulletEnabled val="1"/>
        </dgm:presLayoutVars>
      </dgm:prSet>
      <dgm:spPr/>
      <dgm:t>
        <a:bodyPr/>
        <a:lstStyle/>
        <a:p>
          <a:endParaRPr lang="zh-CN" altLang="en-US"/>
        </a:p>
      </dgm:t>
    </dgm:pt>
    <dgm:pt modelId="{577CF475-A43A-4C51-9D49-04D79FF936BE}" type="pres">
      <dgm:prSet presAssocID="{D2DB4217-5E54-4790-906D-945A107DEA66}" presName="spaceBetweenRectangles" presStyleCnt="0"/>
      <dgm:spPr/>
    </dgm:pt>
    <dgm:pt modelId="{1F964E2D-2633-4D24-9E8F-331FD4C081EE}" type="pres">
      <dgm:prSet presAssocID="{617E2F3B-5A85-44E0-982A-5E6A7F810295}" presName="parentLin" presStyleCnt="0"/>
      <dgm:spPr/>
    </dgm:pt>
    <dgm:pt modelId="{8670063A-C83C-4C1C-BDA8-CBFA7850170F}" type="pres">
      <dgm:prSet presAssocID="{617E2F3B-5A85-44E0-982A-5E6A7F810295}" presName="parentLeftMargin" presStyleLbl="node1" presStyleIdx="0" presStyleCnt="16"/>
      <dgm:spPr/>
      <dgm:t>
        <a:bodyPr/>
        <a:lstStyle/>
        <a:p>
          <a:endParaRPr lang="zh-CN" altLang="en-US"/>
        </a:p>
      </dgm:t>
    </dgm:pt>
    <dgm:pt modelId="{843B4C81-91C5-4A99-81ED-78665012860A}" type="pres">
      <dgm:prSet presAssocID="{617E2F3B-5A85-44E0-982A-5E6A7F810295}" presName="parentText" presStyleLbl="node1" presStyleIdx="1" presStyleCnt="16">
        <dgm:presLayoutVars>
          <dgm:chMax val="0"/>
          <dgm:bulletEnabled val="1"/>
        </dgm:presLayoutVars>
      </dgm:prSet>
      <dgm:spPr/>
      <dgm:t>
        <a:bodyPr/>
        <a:lstStyle/>
        <a:p>
          <a:endParaRPr lang="zh-CN" altLang="en-US"/>
        </a:p>
      </dgm:t>
    </dgm:pt>
    <dgm:pt modelId="{E4058E38-BECE-4078-9414-BFE8217F91DB}" type="pres">
      <dgm:prSet presAssocID="{617E2F3B-5A85-44E0-982A-5E6A7F810295}" presName="negativeSpace" presStyleCnt="0"/>
      <dgm:spPr/>
    </dgm:pt>
    <dgm:pt modelId="{60DE0B1A-82FC-4334-AB59-9F7AE40FEDDE}" type="pres">
      <dgm:prSet presAssocID="{617E2F3B-5A85-44E0-982A-5E6A7F810295}" presName="childText" presStyleLbl="conFgAcc1" presStyleIdx="1" presStyleCnt="16">
        <dgm:presLayoutVars>
          <dgm:bulletEnabled val="1"/>
        </dgm:presLayoutVars>
      </dgm:prSet>
      <dgm:spPr/>
      <dgm:t>
        <a:bodyPr/>
        <a:lstStyle/>
        <a:p>
          <a:endParaRPr lang="zh-CN" altLang="en-US"/>
        </a:p>
      </dgm:t>
    </dgm:pt>
    <dgm:pt modelId="{6C6A0D68-F398-4803-96C6-AA6ECFC051B6}" type="pres">
      <dgm:prSet presAssocID="{400147E1-37A4-4BD0-8432-84DE43294855}" presName="spaceBetweenRectangles" presStyleCnt="0"/>
      <dgm:spPr/>
    </dgm:pt>
    <dgm:pt modelId="{0DC6B7B0-6303-4057-B266-54E4B01F53CC}" type="pres">
      <dgm:prSet presAssocID="{0FB44C27-8C45-4946-B619-930DEABDC5A6}" presName="parentLin" presStyleCnt="0"/>
      <dgm:spPr/>
    </dgm:pt>
    <dgm:pt modelId="{5149450C-B593-4302-B9CB-5F8C39E2ACB7}" type="pres">
      <dgm:prSet presAssocID="{0FB44C27-8C45-4946-B619-930DEABDC5A6}" presName="parentLeftMargin" presStyleLbl="node1" presStyleIdx="1" presStyleCnt="16"/>
      <dgm:spPr/>
      <dgm:t>
        <a:bodyPr/>
        <a:lstStyle/>
        <a:p>
          <a:endParaRPr lang="zh-CN" altLang="en-US"/>
        </a:p>
      </dgm:t>
    </dgm:pt>
    <dgm:pt modelId="{3317BDF5-3258-432C-8406-2A05883319E6}" type="pres">
      <dgm:prSet presAssocID="{0FB44C27-8C45-4946-B619-930DEABDC5A6}" presName="parentText" presStyleLbl="node1" presStyleIdx="2" presStyleCnt="16">
        <dgm:presLayoutVars>
          <dgm:chMax val="0"/>
          <dgm:bulletEnabled val="1"/>
        </dgm:presLayoutVars>
      </dgm:prSet>
      <dgm:spPr/>
      <dgm:t>
        <a:bodyPr/>
        <a:lstStyle/>
        <a:p>
          <a:endParaRPr lang="zh-CN" altLang="en-US"/>
        </a:p>
      </dgm:t>
    </dgm:pt>
    <dgm:pt modelId="{8EE2D49E-8FE1-4382-9C1C-917AF273DC4E}" type="pres">
      <dgm:prSet presAssocID="{0FB44C27-8C45-4946-B619-930DEABDC5A6}" presName="negativeSpace" presStyleCnt="0"/>
      <dgm:spPr/>
    </dgm:pt>
    <dgm:pt modelId="{3CB48B57-56B9-4E73-9821-9364303DEECD}" type="pres">
      <dgm:prSet presAssocID="{0FB44C27-8C45-4946-B619-930DEABDC5A6}" presName="childText" presStyleLbl="conFgAcc1" presStyleIdx="2" presStyleCnt="16">
        <dgm:presLayoutVars>
          <dgm:bulletEnabled val="1"/>
        </dgm:presLayoutVars>
      </dgm:prSet>
      <dgm:spPr/>
      <dgm:t>
        <a:bodyPr/>
        <a:lstStyle/>
        <a:p>
          <a:endParaRPr lang="zh-CN" altLang="en-US"/>
        </a:p>
      </dgm:t>
    </dgm:pt>
    <dgm:pt modelId="{02281A1C-6767-4105-9845-5D1670075E15}" type="pres">
      <dgm:prSet presAssocID="{DA37CB89-3D42-4328-9B43-5D006668A740}" presName="spaceBetweenRectangles" presStyleCnt="0"/>
      <dgm:spPr/>
    </dgm:pt>
    <dgm:pt modelId="{ED744178-0AA3-4215-8F3C-D1C7045ADD19}" type="pres">
      <dgm:prSet presAssocID="{DB81F5B8-16FE-474B-8B88-AA74B4FB9853}" presName="parentLin" presStyleCnt="0"/>
      <dgm:spPr/>
    </dgm:pt>
    <dgm:pt modelId="{D78F80A6-E101-4D69-9024-05A4B0E3D224}" type="pres">
      <dgm:prSet presAssocID="{DB81F5B8-16FE-474B-8B88-AA74B4FB9853}" presName="parentLeftMargin" presStyleLbl="node1" presStyleIdx="2" presStyleCnt="16"/>
      <dgm:spPr/>
      <dgm:t>
        <a:bodyPr/>
        <a:lstStyle/>
        <a:p>
          <a:endParaRPr lang="zh-CN" altLang="en-US"/>
        </a:p>
      </dgm:t>
    </dgm:pt>
    <dgm:pt modelId="{A07BB598-26D2-44E9-B7E8-529A52DEB8A5}" type="pres">
      <dgm:prSet presAssocID="{DB81F5B8-16FE-474B-8B88-AA74B4FB9853}" presName="parentText" presStyleLbl="node1" presStyleIdx="3" presStyleCnt="16">
        <dgm:presLayoutVars>
          <dgm:chMax val="0"/>
          <dgm:bulletEnabled val="1"/>
        </dgm:presLayoutVars>
      </dgm:prSet>
      <dgm:spPr/>
      <dgm:t>
        <a:bodyPr/>
        <a:lstStyle/>
        <a:p>
          <a:endParaRPr lang="zh-CN" altLang="en-US"/>
        </a:p>
      </dgm:t>
    </dgm:pt>
    <dgm:pt modelId="{971ACE18-5E12-4C62-AA48-CAF470A34733}" type="pres">
      <dgm:prSet presAssocID="{DB81F5B8-16FE-474B-8B88-AA74B4FB9853}" presName="negativeSpace" presStyleCnt="0"/>
      <dgm:spPr/>
    </dgm:pt>
    <dgm:pt modelId="{29313BC3-419E-474C-AF4A-FC1BC03E8B43}" type="pres">
      <dgm:prSet presAssocID="{DB81F5B8-16FE-474B-8B88-AA74B4FB9853}" presName="childText" presStyleLbl="conFgAcc1" presStyleIdx="3" presStyleCnt="16">
        <dgm:presLayoutVars>
          <dgm:bulletEnabled val="1"/>
        </dgm:presLayoutVars>
      </dgm:prSet>
      <dgm:spPr/>
      <dgm:t>
        <a:bodyPr/>
        <a:lstStyle/>
        <a:p>
          <a:endParaRPr lang="zh-CN" altLang="en-US"/>
        </a:p>
      </dgm:t>
    </dgm:pt>
    <dgm:pt modelId="{729E3B0D-BC1F-430F-A6F6-556D123DDDC9}" type="pres">
      <dgm:prSet presAssocID="{7F376119-568D-43E3-9098-634677C44F97}" presName="spaceBetweenRectangles" presStyleCnt="0"/>
      <dgm:spPr/>
    </dgm:pt>
    <dgm:pt modelId="{0582B4F1-40CA-48DB-80E2-322CEE44BE71}" type="pres">
      <dgm:prSet presAssocID="{523BADAC-B332-43C3-BB0D-02A427A4DEFC}" presName="parentLin" presStyleCnt="0"/>
      <dgm:spPr/>
    </dgm:pt>
    <dgm:pt modelId="{95E9A9D9-8768-405B-931B-7D24237CEA11}" type="pres">
      <dgm:prSet presAssocID="{523BADAC-B332-43C3-BB0D-02A427A4DEFC}" presName="parentLeftMargin" presStyleLbl="node1" presStyleIdx="3" presStyleCnt="16"/>
      <dgm:spPr/>
      <dgm:t>
        <a:bodyPr/>
        <a:lstStyle/>
        <a:p>
          <a:endParaRPr lang="zh-CN" altLang="en-US"/>
        </a:p>
      </dgm:t>
    </dgm:pt>
    <dgm:pt modelId="{DA7A3EF9-CB5B-47EB-A111-A0F4E28DEA62}" type="pres">
      <dgm:prSet presAssocID="{523BADAC-B332-43C3-BB0D-02A427A4DEFC}" presName="parentText" presStyleLbl="node1" presStyleIdx="4" presStyleCnt="16">
        <dgm:presLayoutVars>
          <dgm:chMax val="0"/>
          <dgm:bulletEnabled val="1"/>
        </dgm:presLayoutVars>
      </dgm:prSet>
      <dgm:spPr/>
      <dgm:t>
        <a:bodyPr/>
        <a:lstStyle/>
        <a:p>
          <a:endParaRPr lang="zh-CN" altLang="en-US"/>
        </a:p>
      </dgm:t>
    </dgm:pt>
    <dgm:pt modelId="{5D300F10-361E-4117-A933-5751EF03FA60}" type="pres">
      <dgm:prSet presAssocID="{523BADAC-B332-43C3-BB0D-02A427A4DEFC}" presName="negativeSpace" presStyleCnt="0"/>
      <dgm:spPr/>
    </dgm:pt>
    <dgm:pt modelId="{6FA8E29D-B607-4136-BE57-C911DC7D1E2E}" type="pres">
      <dgm:prSet presAssocID="{523BADAC-B332-43C3-BB0D-02A427A4DEFC}" presName="childText" presStyleLbl="conFgAcc1" presStyleIdx="4" presStyleCnt="16">
        <dgm:presLayoutVars>
          <dgm:bulletEnabled val="1"/>
        </dgm:presLayoutVars>
      </dgm:prSet>
      <dgm:spPr/>
      <dgm:t>
        <a:bodyPr/>
        <a:lstStyle/>
        <a:p>
          <a:endParaRPr lang="zh-CN" altLang="en-US"/>
        </a:p>
      </dgm:t>
    </dgm:pt>
    <dgm:pt modelId="{C3F902AE-A30A-4D60-9BB9-F7A41D345D77}" type="pres">
      <dgm:prSet presAssocID="{EF3F3CAE-D39D-441B-B8C7-915283B34055}" presName="spaceBetweenRectangles" presStyleCnt="0"/>
      <dgm:spPr/>
    </dgm:pt>
    <dgm:pt modelId="{EB6CC6C4-5104-46D9-8350-AF132E92FF98}" type="pres">
      <dgm:prSet presAssocID="{E75BA8DE-AAD6-45B5-AB29-299B0B1B2292}" presName="parentLin" presStyleCnt="0"/>
      <dgm:spPr/>
    </dgm:pt>
    <dgm:pt modelId="{A44F3274-8AF4-4DE6-BD1F-4F6601F7F69B}" type="pres">
      <dgm:prSet presAssocID="{E75BA8DE-AAD6-45B5-AB29-299B0B1B2292}" presName="parentLeftMargin" presStyleLbl="node1" presStyleIdx="4" presStyleCnt="16"/>
      <dgm:spPr/>
      <dgm:t>
        <a:bodyPr/>
        <a:lstStyle/>
        <a:p>
          <a:endParaRPr lang="zh-CN" altLang="en-US"/>
        </a:p>
      </dgm:t>
    </dgm:pt>
    <dgm:pt modelId="{B3658B12-B8B9-4873-8247-7DF23FBE38A4}" type="pres">
      <dgm:prSet presAssocID="{E75BA8DE-AAD6-45B5-AB29-299B0B1B2292}" presName="parentText" presStyleLbl="node1" presStyleIdx="5" presStyleCnt="16">
        <dgm:presLayoutVars>
          <dgm:chMax val="0"/>
          <dgm:bulletEnabled val="1"/>
        </dgm:presLayoutVars>
      </dgm:prSet>
      <dgm:spPr/>
      <dgm:t>
        <a:bodyPr/>
        <a:lstStyle/>
        <a:p>
          <a:endParaRPr lang="zh-CN" altLang="en-US"/>
        </a:p>
      </dgm:t>
    </dgm:pt>
    <dgm:pt modelId="{B50EE207-9E62-4BEC-A9A3-2C3FB49191C2}" type="pres">
      <dgm:prSet presAssocID="{E75BA8DE-AAD6-45B5-AB29-299B0B1B2292}" presName="negativeSpace" presStyleCnt="0"/>
      <dgm:spPr/>
    </dgm:pt>
    <dgm:pt modelId="{83BD41D9-D555-4B6E-AF88-6135876BAD11}" type="pres">
      <dgm:prSet presAssocID="{E75BA8DE-AAD6-45B5-AB29-299B0B1B2292}" presName="childText" presStyleLbl="conFgAcc1" presStyleIdx="5" presStyleCnt="16">
        <dgm:presLayoutVars>
          <dgm:bulletEnabled val="1"/>
        </dgm:presLayoutVars>
      </dgm:prSet>
      <dgm:spPr/>
      <dgm:t>
        <a:bodyPr/>
        <a:lstStyle/>
        <a:p>
          <a:endParaRPr lang="zh-CN" altLang="en-US"/>
        </a:p>
      </dgm:t>
    </dgm:pt>
    <dgm:pt modelId="{BDEE9EB9-575F-4ADE-AFEE-32550ED0D2D1}" type="pres">
      <dgm:prSet presAssocID="{BB8ADA45-910F-4533-86BD-7810220AF9FB}" presName="spaceBetweenRectangles" presStyleCnt="0"/>
      <dgm:spPr/>
    </dgm:pt>
    <dgm:pt modelId="{6A0A5B1E-6A4B-4BF5-A009-69A903B0F6E0}" type="pres">
      <dgm:prSet presAssocID="{5BDA8C71-296F-4979-8121-1077BB08BA06}" presName="parentLin" presStyleCnt="0"/>
      <dgm:spPr/>
    </dgm:pt>
    <dgm:pt modelId="{AF7F76F5-DDD4-4E65-A694-1529C537D4C2}" type="pres">
      <dgm:prSet presAssocID="{5BDA8C71-296F-4979-8121-1077BB08BA06}" presName="parentLeftMargin" presStyleLbl="node1" presStyleIdx="5" presStyleCnt="16"/>
      <dgm:spPr/>
      <dgm:t>
        <a:bodyPr/>
        <a:lstStyle/>
        <a:p>
          <a:endParaRPr lang="zh-CN" altLang="en-US"/>
        </a:p>
      </dgm:t>
    </dgm:pt>
    <dgm:pt modelId="{D88BECAA-86B9-4794-8777-478AD6F4036C}" type="pres">
      <dgm:prSet presAssocID="{5BDA8C71-296F-4979-8121-1077BB08BA06}" presName="parentText" presStyleLbl="node1" presStyleIdx="6" presStyleCnt="16">
        <dgm:presLayoutVars>
          <dgm:chMax val="0"/>
          <dgm:bulletEnabled val="1"/>
        </dgm:presLayoutVars>
      </dgm:prSet>
      <dgm:spPr/>
      <dgm:t>
        <a:bodyPr/>
        <a:lstStyle/>
        <a:p>
          <a:endParaRPr lang="zh-CN" altLang="en-US"/>
        </a:p>
      </dgm:t>
    </dgm:pt>
    <dgm:pt modelId="{EF78DC30-A834-4560-8F41-19E23B1586EA}" type="pres">
      <dgm:prSet presAssocID="{5BDA8C71-296F-4979-8121-1077BB08BA06}" presName="negativeSpace" presStyleCnt="0"/>
      <dgm:spPr/>
    </dgm:pt>
    <dgm:pt modelId="{452A13A7-DF69-43D0-9AC0-5E60240B50E5}" type="pres">
      <dgm:prSet presAssocID="{5BDA8C71-296F-4979-8121-1077BB08BA06}" presName="childText" presStyleLbl="conFgAcc1" presStyleIdx="6" presStyleCnt="16">
        <dgm:presLayoutVars>
          <dgm:bulletEnabled val="1"/>
        </dgm:presLayoutVars>
      </dgm:prSet>
      <dgm:spPr/>
      <dgm:t>
        <a:bodyPr/>
        <a:lstStyle/>
        <a:p>
          <a:endParaRPr lang="zh-CN" altLang="en-US"/>
        </a:p>
      </dgm:t>
    </dgm:pt>
    <dgm:pt modelId="{56CEEF1E-9572-4776-87CE-DC5FC7B65FFB}" type="pres">
      <dgm:prSet presAssocID="{96519594-B96F-41D9-BB8A-53ADD222857B}" presName="spaceBetweenRectangles" presStyleCnt="0"/>
      <dgm:spPr/>
    </dgm:pt>
    <dgm:pt modelId="{A692F03C-AE0F-460F-8714-B7FD390BAE94}" type="pres">
      <dgm:prSet presAssocID="{DEC28E6B-0E2D-4D7A-912D-2F1089413019}" presName="parentLin" presStyleCnt="0"/>
      <dgm:spPr/>
    </dgm:pt>
    <dgm:pt modelId="{4F4E1487-B7A9-4E26-9C59-F38BBE374A19}" type="pres">
      <dgm:prSet presAssocID="{DEC28E6B-0E2D-4D7A-912D-2F1089413019}" presName="parentLeftMargin" presStyleLbl="node1" presStyleIdx="6" presStyleCnt="16"/>
      <dgm:spPr/>
      <dgm:t>
        <a:bodyPr/>
        <a:lstStyle/>
        <a:p>
          <a:endParaRPr lang="zh-CN" altLang="en-US"/>
        </a:p>
      </dgm:t>
    </dgm:pt>
    <dgm:pt modelId="{370407C8-1391-4FD9-9557-87AF60D5AB26}" type="pres">
      <dgm:prSet presAssocID="{DEC28E6B-0E2D-4D7A-912D-2F1089413019}" presName="parentText" presStyleLbl="node1" presStyleIdx="7" presStyleCnt="16">
        <dgm:presLayoutVars>
          <dgm:chMax val="0"/>
          <dgm:bulletEnabled val="1"/>
        </dgm:presLayoutVars>
      </dgm:prSet>
      <dgm:spPr/>
      <dgm:t>
        <a:bodyPr/>
        <a:lstStyle/>
        <a:p>
          <a:endParaRPr lang="zh-CN" altLang="en-US"/>
        </a:p>
      </dgm:t>
    </dgm:pt>
    <dgm:pt modelId="{1C086DBF-AF46-41EA-B395-685DBF494A3E}" type="pres">
      <dgm:prSet presAssocID="{DEC28E6B-0E2D-4D7A-912D-2F1089413019}" presName="negativeSpace" presStyleCnt="0"/>
      <dgm:spPr/>
    </dgm:pt>
    <dgm:pt modelId="{13A97048-02AB-40B2-9225-60A06691AEAA}" type="pres">
      <dgm:prSet presAssocID="{DEC28E6B-0E2D-4D7A-912D-2F1089413019}" presName="childText" presStyleLbl="conFgAcc1" presStyleIdx="7" presStyleCnt="16">
        <dgm:presLayoutVars>
          <dgm:bulletEnabled val="1"/>
        </dgm:presLayoutVars>
      </dgm:prSet>
      <dgm:spPr/>
      <dgm:t>
        <a:bodyPr/>
        <a:lstStyle/>
        <a:p>
          <a:endParaRPr lang="zh-CN" altLang="en-US"/>
        </a:p>
      </dgm:t>
    </dgm:pt>
    <dgm:pt modelId="{42F8B485-E867-4062-B1C3-D24B97E4025F}" type="pres">
      <dgm:prSet presAssocID="{DBB2770A-E139-4BF9-ACAC-10D58A8EF74B}" presName="spaceBetweenRectangles" presStyleCnt="0"/>
      <dgm:spPr/>
    </dgm:pt>
    <dgm:pt modelId="{A3A45BB9-0865-4485-872A-68B86CE4DB76}" type="pres">
      <dgm:prSet presAssocID="{C9E898A3-3EED-4605-AC0E-699A9E239A50}" presName="parentLin" presStyleCnt="0"/>
      <dgm:spPr/>
    </dgm:pt>
    <dgm:pt modelId="{AAE17E7C-505B-44A5-8824-D02D5DE84084}" type="pres">
      <dgm:prSet presAssocID="{C9E898A3-3EED-4605-AC0E-699A9E239A50}" presName="parentLeftMargin" presStyleLbl="node1" presStyleIdx="7" presStyleCnt="16"/>
      <dgm:spPr/>
      <dgm:t>
        <a:bodyPr/>
        <a:lstStyle/>
        <a:p>
          <a:endParaRPr lang="zh-CN" altLang="en-US"/>
        </a:p>
      </dgm:t>
    </dgm:pt>
    <dgm:pt modelId="{36C8C100-348D-40A0-8BE6-FF674F0AF2DE}" type="pres">
      <dgm:prSet presAssocID="{C9E898A3-3EED-4605-AC0E-699A9E239A50}" presName="parentText" presStyleLbl="node1" presStyleIdx="8" presStyleCnt="16">
        <dgm:presLayoutVars>
          <dgm:chMax val="0"/>
          <dgm:bulletEnabled val="1"/>
        </dgm:presLayoutVars>
      </dgm:prSet>
      <dgm:spPr/>
      <dgm:t>
        <a:bodyPr/>
        <a:lstStyle/>
        <a:p>
          <a:endParaRPr lang="zh-CN" altLang="en-US"/>
        </a:p>
      </dgm:t>
    </dgm:pt>
    <dgm:pt modelId="{718FB6AA-B41E-4FC4-988A-061BD71045EE}" type="pres">
      <dgm:prSet presAssocID="{C9E898A3-3EED-4605-AC0E-699A9E239A50}" presName="negativeSpace" presStyleCnt="0"/>
      <dgm:spPr/>
    </dgm:pt>
    <dgm:pt modelId="{0409EF26-FEF3-4405-B7D2-953BB1BA5E9C}" type="pres">
      <dgm:prSet presAssocID="{C9E898A3-3EED-4605-AC0E-699A9E239A50}" presName="childText" presStyleLbl="conFgAcc1" presStyleIdx="8" presStyleCnt="16">
        <dgm:presLayoutVars>
          <dgm:bulletEnabled val="1"/>
        </dgm:presLayoutVars>
      </dgm:prSet>
      <dgm:spPr/>
      <dgm:t>
        <a:bodyPr/>
        <a:lstStyle/>
        <a:p>
          <a:endParaRPr lang="zh-CN" altLang="en-US"/>
        </a:p>
      </dgm:t>
    </dgm:pt>
    <dgm:pt modelId="{FC71C343-FC4E-499F-9D7E-4E1D903DEE21}" type="pres">
      <dgm:prSet presAssocID="{DA299F6D-7D48-4243-B127-F6C90CEA5477}" presName="spaceBetweenRectangles" presStyleCnt="0"/>
      <dgm:spPr/>
    </dgm:pt>
    <dgm:pt modelId="{9D116D14-A54E-4AC2-A519-24B189E93EA3}" type="pres">
      <dgm:prSet presAssocID="{74EA246E-98AA-4F54-95D5-D578D47FCD13}" presName="parentLin" presStyleCnt="0"/>
      <dgm:spPr/>
    </dgm:pt>
    <dgm:pt modelId="{5A79498A-4800-4446-947D-6C938897A244}" type="pres">
      <dgm:prSet presAssocID="{74EA246E-98AA-4F54-95D5-D578D47FCD13}" presName="parentLeftMargin" presStyleLbl="node1" presStyleIdx="8" presStyleCnt="16"/>
      <dgm:spPr/>
      <dgm:t>
        <a:bodyPr/>
        <a:lstStyle/>
        <a:p>
          <a:endParaRPr lang="zh-CN" altLang="en-US"/>
        </a:p>
      </dgm:t>
    </dgm:pt>
    <dgm:pt modelId="{ED636ECD-F43A-4026-8106-4B98E55266F9}" type="pres">
      <dgm:prSet presAssocID="{74EA246E-98AA-4F54-95D5-D578D47FCD13}" presName="parentText" presStyleLbl="node1" presStyleIdx="9" presStyleCnt="16">
        <dgm:presLayoutVars>
          <dgm:chMax val="0"/>
          <dgm:bulletEnabled val="1"/>
        </dgm:presLayoutVars>
      </dgm:prSet>
      <dgm:spPr/>
      <dgm:t>
        <a:bodyPr/>
        <a:lstStyle/>
        <a:p>
          <a:endParaRPr lang="zh-CN" altLang="en-US"/>
        </a:p>
      </dgm:t>
    </dgm:pt>
    <dgm:pt modelId="{C2BBF99A-6899-4413-9D88-C1A9B7878543}" type="pres">
      <dgm:prSet presAssocID="{74EA246E-98AA-4F54-95D5-D578D47FCD13}" presName="negativeSpace" presStyleCnt="0"/>
      <dgm:spPr/>
    </dgm:pt>
    <dgm:pt modelId="{DEB3A97E-4F32-417D-8130-EB354B8360B1}" type="pres">
      <dgm:prSet presAssocID="{74EA246E-98AA-4F54-95D5-D578D47FCD13}" presName="childText" presStyleLbl="conFgAcc1" presStyleIdx="9" presStyleCnt="16">
        <dgm:presLayoutVars>
          <dgm:bulletEnabled val="1"/>
        </dgm:presLayoutVars>
      </dgm:prSet>
      <dgm:spPr/>
      <dgm:t>
        <a:bodyPr/>
        <a:lstStyle/>
        <a:p>
          <a:endParaRPr lang="zh-CN" altLang="en-US"/>
        </a:p>
      </dgm:t>
    </dgm:pt>
    <dgm:pt modelId="{88C97614-C003-4F8D-AFEF-C26EE9E3AC77}" type="pres">
      <dgm:prSet presAssocID="{80576C01-668E-4C7B-A534-6CE2370DBF7B}" presName="spaceBetweenRectangles" presStyleCnt="0"/>
      <dgm:spPr/>
    </dgm:pt>
    <dgm:pt modelId="{EFC00DB2-69D6-4F29-8D91-D1FEF7663E77}" type="pres">
      <dgm:prSet presAssocID="{A8541ABC-4FD1-4B37-8C0B-2440C7186539}" presName="parentLin" presStyleCnt="0"/>
      <dgm:spPr/>
    </dgm:pt>
    <dgm:pt modelId="{25527203-C498-45C3-A734-379AE2A3595A}" type="pres">
      <dgm:prSet presAssocID="{A8541ABC-4FD1-4B37-8C0B-2440C7186539}" presName="parentLeftMargin" presStyleLbl="node1" presStyleIdx="9" presStyleCnt="16"/>
      <dgm:spPr/>
      <dgm:t>
        <a:bodyPr/>
        <a:lstStyle/>
        <a:p>
          <a:endParaRPr lang="zh-CN" altLang="en-US"/>
        </a:p>
      </dgm:t>
    </dgm:pt>
    <dgm:pt modelId="{B7823A1F-B734-422B-8ABE-ADBA2AB692FA}" type="pres">
      <dgm:prSet presAssocID="{A8541ABC-4FD1-4B37-8C0B-2440C7186539}" presName="parentText" presStyleLbl="node1" presStyleIdx="10" presStyleCnt="16">
        <dgm:presLayoutVars>
          <dgm:chMax val="0"/>
          <dgm:bulletEnabled val="1"/>
        </dgm:presLayoutVars>
      </dgm:prSet>
      <dgm:spPr/>
      <dgm:t>
        <a:bodyPr/>
        <a:lstStyle/>
        <a:p>
          <a:endParaRPr lang="zh-CN" altLang="en-US"/>
        </a:p>
      </dgm:t>
    </dgm:pt>
    <dgm:pt modelId="{ABFC5EF7-0BCE-4CB7-9522-2ACEE3B5F501}" type="pres">
      <dgm:prSet presAssocID="{A8541ABC-4FD1-4B37-8C0B-2440C7186539}" presName="negativeSpace" presStyleCnt="0"/>
      <dgm:spPr/>
    </dgm:pt>
    <dgm:pt modelId="{9B03B26D-F009-4086-BD31-2AEAFD444E62}" type="pres">
      <dgm:prSet presAssocID="{A8541ABC-4FD1-4B37-8C0B-2440C7186539}" presName="childText" presStyleLbl="conFgAcc1" presStyleIdx="10" presStyleCnt="16">
        <dgm:presLayoutVars>
          <dgm:bulletEnabled val="1"/>
        </dgm:presLayoutVars>
      </dgm:prSet>
      <dgm:spPr/>
      <dgm:t>
        <a:bodyPr/>
        <a:lstStyle/>
        <a:p>
          <a:endParaRPr lang="zh-CN" altLang="en-US"/>
        </a:p>
      </dgm:t>
    </dgm:pt>
    <dgm:pt modelId="{354C408F-BB2D-4272-B340-69DA17F3BD99}" type="pres">
      <dgm:prSet presAssocID="{B074AC75-C345-44E7-B062-82940C64A6A5}" presName="spaceBetweenRectangles" presStyleCnt="0"/>
      <dgm:spPr/>
    </dgm:pt>
    <dgm:pt modelId="{75283A0E-F389-4681-85E0-D2B0A38083B3}" type="pres">
      <dgm:prSet presAssocID="{C8E6DC84-12C4-4733-8DEE-7DD5AAF0F89F}" presName="parentLin" presStyleCnt="0"/>
      <dgm:spPr/>
    </dgm:pt>
    <dgm:pt modelId="{27FF6C95-181E-46A0-97B6-A26BC1DF1150}" type="pres">
      <dgm:prSet presAssocID="{C8E6DC84-12C4-4733-8DEE-7DD5AAF0F89F}" presName="parentLeftMargin" presStyleLbl="node1" presStyleIdx="10" presStyleCnt="16"/>
      <dgm:spPr/>
      <dgm:t>
        <a:bodyPr/>
        <a:lstStyle/>
        <a:p>
          <a:endParaRPr lang="zh-CN" altLang="en-US"/>
        </a:p>
      </dgm:t>
    </dgm:pt>
    <dgm:pt modelId="{84B4A16B-1444-46EA-84E4-781F5353EC04}" type="pres">
      <dgm:prSet presAssocID="{C8E6DC84-12C4-4733-8DEE-7DD5AAF0F89F}" presName="parentText" presStyleLbl="node1" presStyleIdx="11" presStyleCnt="16">
        <dgm:presLayoutVars>
          <dgm:chMax val="0"/>
          <dgm:bulletEnabled val="1"/>
        </dgm:presLayoutVars>
      </dgm:prSet>
      <dgm:spPr/>
      <dgm:t>
        <a:bodyPr/>
        <a:lstStyle/>
        <a:p>
          <a:endParaRPr lang="zh-CN" altLang="en-US"/>
        </a:p>
      </dgm:t>
    </dgm:pt>
    <dgm:pt modelId="{207CC047-4632-4C92-9BEA-BF33C5073C3D}" type="pres">
      <dgm:prSet presAssocID="{C8E6DC84-12C4-4733-8DEE-7DD5AAF0F89F}" presName="negativeSpace" presStyleCnt="0"/>
      <dgm:spPr/>
    </dgm:pt>
    <dgm:pt modelId="{232357A8-4C16-4EAC-A6F3-B579D2BA91E8}" type="pres">
      <dgm:prSet presAssocID="{C8E6DC84-12C4-4733-8DEE-7DD5AAF0F89F}" presName="childText" presStyleLbl="conFgAcc1" presStyleIdx="11" presStyleCnt="16">
        <dgm:presLayoutVars>
          <dgm:bulletEnabled val="1"/>
        </dgm:presLayoutVars>
      </dgm:prSet>
      <dgm:spPr/>
      <dgm:t>
        <a:bodyPr/>
        <a:lstStyle/>
        <a:p>
          <a:endParaRPr lang="zh-CN" altLang="en-US"/>
        </a:p>
      </dgm:t>
    </dgm:pt>
    <dgm:pt modelId="{D4F347AA-8F4A-4EDE-A8F2-E6E3CE5BE0CD}" type="pres">
      <dgm:prSet presAssocID="{42138719-FE6D-4586-8936-83B63213823C}" presName="spaceBetweenRectangles" presStyleCnt="0"/>
      <dgm:spPr/>
    </dgm:pt>
    <dgm:pt modelId="{54F7A63F-FDAC-4816-86AB-0824B6E743C5}" type="pres">
      <dgm:prSet presAssocID="{9B997B34-221D-4496-A1C8-A439AE736903}" presName="parentLin" presStyleCnt="0"/>
      <dgm:spPr/>
    </dgm:pt>
    <dgm:pt modelId="{525DADCF-CDE5-4EE8-AE46-3F8D08D21E52}" type="pres">
      <dgm:prSet presAssocID="{9B997B34-221D-4496-A1C8-A439AE736903}" presName="parentLeftMargin" presStyleLbl="node1" presStyleIdx="11" presStyleCnt="16"/>
      <dgm:spPr/>
      <dgm:t>
        <a:bodyPr/>
        <a:lstStyle/>
        <a:p>
          <a:endParaRPr lang="zh-CN" altLang="en-US"/>
        </a:p>
      </dgm:t>
    </dgm:pt>
    <dgm:pt modelId="{C4BD8598-E35E-49CB-9751-094BA715F9D4}" type="pres">
      <dgm:prSet presAssocID="{9B997B34-221D-4496-A1C8-A439AE736903}" presName="parentText" presStyleLbl="node1" presStyleIdx="12" presStyleCnt="16">
        <dgm:presLayoutVars>
          <dgm:chMax val="0"/>
          <dgm:bulletEnabled val="1"/>
        </dgm:presLayoutVars>
      </dgm:prSet>
      <dgm:spPr/>
      <dgm:t>
        <a:bodyPr/>
        <a:lstStyle/>
        <a:p>
          <a:endParaRPr lang="zh-CN" altLang="en-US"/>
        </a:p>
      </dgm:t>
    </dgm:pt>
    <dgm:pt modelId="{0E0128C2-28BC-41E9-85C6-B878FD8660D1}" type="pres">
      <dgm:prSet presAssocID="{9B997B34-221D-4496-A1C8-A439AE736903}" presName="negativeSpace" presStyleCnt="0"/>
      <dgm:spPr/>
    </dgm:pt>
    <dgm:pt modelId="{80C0C129-3E79-493B-87D5-018B38203BAE}" type="pres">
      <dgm:prSet presAssocID="{9B997B34-221D-4496-A1C8-A439AE736903}" presName="childText" presStyleLbl="conFgAcc1" presStyleIdx="12" presStyleCnt="16">
        <dgm:presLayoutVars>
          <dgm:bulletEnabled val="1"/>
        </dgm:presLayoutVars>
      </dgm:prSet>
      <dgm:spPr/>
      <dgm:t>
        <a:bodyPr/>
        <a:lstStyle/>
        <a:p>
          <a:endParaRPr lang="zh-CN" altLang="en-US"/>
        </a:p>
      </dgm:t>
    </dgm:pt>
    <dgm:pt modelId="{817F92ED-A834-417B-9945-6995537BC29D}" type="pres">
      <dgm:prSet presAssocID="{BD5A5068-F8C8-4882-B01F-B89B4ED7EAB1}" presName="spaceBetweenRectangles" presStyleCnt="0"/>
      <dgm:spPr/>
    </dgm:pt>
    <dgm:pt modelId="{2F1CAE23-14ED-42E2-8112-AA7A9505354B}" type="pres">
      <dgm:prSet presAssocID="{A4672CAE-D0E2-488D-89C8-C0E8F96F0EF3}" presName="parentLin" presStyleCnt="0"/>
      <dgm:spPr/>
    </dgm:pt>
    <dgm:pt modelId="{590897A8-4AD6-4C9E-B83B-97CA3188EE23}" type="pres">
      <dgm:prSet presAssocID="{A4672CAE-D0E2-488D-89C8-C0E8F96F0EF3}" presName="parentLeftMargin" presStyleLbl="node1" presStyleIdx="12" presStyleCnt="16"/>
      <dgm:spPr/>
      <dgm:t>
        <a:bodyPr/>
        <a:lstStyle/>
        <a:p>
          <a:endParaRPr lang="zh-CN" altLang="en-US"/>
        </a:p>
      </dgm:t>
    </dgm:pt>
    <dgm:pt modelId="{D6835FFC-553C-489F-B730-2382417A3A59}" type="pres">
      <dgm:prSet presAssocID="{A4672CAE-D0E2-488D-89C8-C0E8F96F0EF3}" presName="parentText" presStyleLbl="node1" presStyleIdx="13" presStyleCnt="16">
        <dgm:presLayoutVars>
          <dgm:chMax val="0"/>
          <dgm:bulletEnabled val="1"/>
        </dgm:presLayoutVars>
      </dgm:prSet>
      <dgm:spPr/>
      <dgm:t>
        <a:bodyPr/>
        <a:lstStyle/>
        <a:p>
          <a:endParaRPr lang="zh-CN" altLang="en-US"/>
        </a:p>
      </dgm:t>
    </dgm:pt>
    <dgm:pt modelId="{A2299556-2B67-4311-AC15-DA00EA4118F2}" type="pres">
      <dgm:prSet presAssocID="{A4672CAE-D0E2-488D-89C8-C0E8F96F0EF3}" presName="negativeSpace" presStyleCnt="0"/>
      <dgm:spPr/>
    </dgm:pt>
    <dgm:pt modelId="{4AD75E93-CFCF-4FB1-AD20-52BA80041ECB}" type="pres">
      <dgm:prSet presAssocID="{A4672CAE-D0E2-488D-89C8-C0E8F96F0EF3}" presName="childText" presStyleLbl="conFgAcc1" presStyleIdx="13" presStyleCnt="16">
        <dgm:presLayoutVars>
          <dgm:bulletEnabled val="1"/>
        </dgm:presLayoutVars>
      </dgm:prSet>
      <dgm:spPr/>
      <dgm:t>
        <a:bodyPr/>
        <a:lstStyle/>
        <a:p>
          <a:endParaRPr lang="zh-CN" altLang="en-US"/>
        </a:p>
      </dgm:t>
    </dgm:pt>
    <dgm:pt modelId="{1A8363CF-3BF3-4CAC-A21D-2C2F05911418}" type="pres">
      <dgm:prSet presAssocID="{FD769867-DD88-469F-AB33-CE9193537472}" presName="spaceBetweenRectangles" presStyleCnt="0"/>
      <dgm:spPr/>
    </dgm:pt>
    <dgm:pt modelId="{56BCD260-BBDC-4210-9A64-30649DC47AFA}" type="pres">
      <dgm:prSet presAssocID="{8BC7E0D7-671F-419E-9F6F-D63F9A7D8503}" presName="parentLin" presStyleCnt="0"/>
      <dgm:spPr/>
    </dgm:pt>
    <dgm:pt modelId="{03B18BD3-AB98-47BF-B568-E8F4D8084EA1}" type="pres">
      <dgm:prSet presAssocID="{8BC7E0D7-671F-419E-9F6F-D63F9A7D8503}" presName="parentLeftMargin" presStyleLbl="node1" presStyleIdx="13" presStyleCnt="16"/>
      <dgm:spPr/>
      <dgm:t>
        <a:bodyPr/>
        <a:lstStyle/>
        <a:p>
          <a:endParaRPr lang="zh-CN" altLang="en-US"/>
        </a:p>
      </dgm:t>
    </dgm:pt>
    <dgm:pt modelId="{5AEC349D-0BAD-4435-AB5B-0C0F674B6AEF}" type="pres">
      <dgm:prSet presAssocID="{8BC7E0D7-671F-419E-9F6F-D63F9A7D8503}" presName="parentText" presStyleLbl="node1" presStyleIdx="14" presStyleCnt="16">
        <dgm:presLayoutVars>
          <dgm:chMax val="0"/>
          <dgm:bulletEnabled val="1"/>
        </dgm:presLayoutVars>
      </dgm:prSet>
      <dgm:spPr/>
      <dgm:t>
        <a:bodyPr/>
        <a:lstStyle/>
        <a:p>
          <a:endParaRPr lang="zh-CN" altLang="en-US"/>
        </a:p>
      </dgm:t>
    </dgm:pt>
    <dgm:pt modelId="{CE420BE9-7896-4224-B8C7-6394456D2A33}" type="pres">
      <dgm:prSet presAssocID="{8BC7E0D7-671F-419E-9F6F-D63F9A7D8503}" presName="negativeSpace" presStyleCnt="0"/>
      <dgm:spPr/>
    </dgm:pt>
    <dgm:pt modelId="{C81B069E-D033-4F78-BACE-5F1A1EB362C7}" type="pres">
      <dgm:prSet presAssocID="{8BC7E0D7-671F-419E-9F6F-D63F9A7D8503}" presName="childText" presStyleLbl="conFgAcc1" presStyleIdx="14" presStyleCnt="16">
        <dgm:presLayoutVars>
          <dgm:bulletEnabled val="1"/>
        </dgm:presLayoutVars>
      </dgm:prSet>
      <dgm:spPr/>
      <dgm:t>
        <a:bodyPr/>
        <a:lstStyle/>
        <a:p>
          <a:endParaRPr lang="zh-CN" altLang="en-US"/>
        </a:p>
      </dgm:t>
    </dgm:pt>
    <dgm:pt modelId="{FCFCE7F1-F25C-446E-9C82-849585E625CC}" type="pres">
      <dgm:prSet presAssocID="{730B37F8-9D69-4188-A816-B3AAAFDA4F6C}" presName="spaceBetweenRectangles" presStyleCnt="0"/>
      <dgm:spPr/>
    </dgm:pt>
    <dgm:pt modelId="{CB835BF8-5A95-4C30-806F-6A393705025E}" type="pres">
      <dgm:prSet presAssocID="{D3828330-15A8-4EF7-A4B7-BDF54B622464}" presName="parentLin" presStyleCnt="0"/>
      <dgm:spPr/>
    </dgm:pt>
    <dgm:pt modelId="{2C061E25-503B-440C-87C9-D336C48D3A2B}" type="pres">
      <dgm:prSet presAssocID="{D3828330-15A8-4EF7-A4B7-BDF54B622464}" presName="parentLeftMargin" presStyleLbl="node1" presStyleIdx="14" presStyleCnt="16"/>
      <dgm:spPr/>
      <dgm:t>
        <a:bodyPr/>
        <a:lstStyle/>
        <a:p>
          <a:endParaRPr lang="zh-CN" altLang="en-US"/>
        </a:p>
      </dgm:t>
    </dgm:pt>
    <dgm:pt modelId="{9A6C1276-CCF5-4947-A94B-41E17741E0BD}" type="pres">
      <dgm:prSet presAssocID="{D3828330-15A8-4EF7-A4B7-BDF54B622464}" presName="parentText" presStyleLbl="node1" presStyleIdx="15" presStyleCnt="16">
        <dgm:presLayoutVars>
          <dgm:chMax val="0"/>
          <dgm:bulletEnabled val="1"/>
        </dgm:presLayoutVars>
      </dgm:prSet>
      <dgm:spPr/>
      <dgm:t>
        <a:bodyPr/>
        <a:lstStyle/>
        <a:p>
          <a:endParaRPr lang="zh-CN" altLang="en-US"/>
        </a:p>
      </dgm:t>
    </dgm:pt>
    <dgm:pt modelId="{D72F0017-55A4-45C3-A2FE-C27E3534C784}" type="pres">
      <dgm:prSet presAssocID="{D3828330-15A8-4EF7-A4B7-BDF54B622464}" presName="negativeSpace" presStyleCnt="0"/>
      <dgm:spPr/>
    </dgm:pt>
    <dgm:pt modelId="{5A53EC70-4FBF-4D04-9FD1-7CDC155E5906}" type="pres">
      <dgm:prSet presAssocID="{D3828330-15A8-4EF7-A4B7-BDF54B622464}" presName="childText" presStyleLbl="conFgAcc1" presStyleIdx="15" presStyleCnt="16">
        <dgm:presLayoutVars>
          <dgm:bulletEnabled val="1"/>
        </dgm:presLayoutVars>
      </dgm:prSet>
      <dgm:spPr/>
      <dgm:t>
        <a:bodyPr/>
        <a:lstStyle/>
        <a:p>
          <a:endParaRPr lang="zh-CN" altLang="en-US"/>
        </a:p>
      </dgm:t>
    </dgm:pt>
  </dgm:ptLst>
  <dgm:cxnLst>
    <dgm:cxn modelId="{E527EF3C-5B55-4B2B-B60E-A1BB6F66FDD2}" type="presOf" srcId="{DB81F5B8-16FE-474B-8B88-AA74B4FB9853}" destId="{A07BB598-26D2-44E9-B7E8-529A52DEB8A5}" srcOrd="1" destOrd="0" presId="urn:microsoft.com/office/officeart/2005/8/layout/list1"/>
    <dgm:cxn modelId="{EBB7B3E5-8F22-4ADC-A8D9-0FE1A0761119}" type="presOf" srcId="{17527FEC-70F7-4888-A1DB-53EF1720928F}" destId="{4AD75E93-CFCF-4FB1-AD20-52BA80041ECB}" srcOrd="0" destOrd="0" presId="urn:microsoft.com/office/officeart/2005/8/layout/list1"/>
    <dgm:cxn modelId="{1F6E75B3-2A7F-4A6A-8556-92445C9AB511}" srcId="{DB81F5B8-16FE-474B-8B88-AA74B4FB9853}" destId="{48744035-F9AE-41EA-812B-1A31C83FA82F}" srcOrd="0" destOrd="0" parTransId="{F30E956D-6B18-4CD7-99D1-5DB4EFBFB177}" sibTransId="{75D0FFB2-142C-456C-A871-C0AE186F2011}"/>
    <dgm:cxn modelId="{A41B848D-AFDF-4228-BB2D-75810A96F6CE}" type="presOf" srcId="{C9E898A3-3EED-4605-AC0E-699A9E239A50}" destId="{AAE17E7C-505B-44A5-8824-D02D5DE84084}" srcOrd="0" destOrd="0" presId="urn:microsoft.com/office/officeart/2005/8/layout/list1"/>
    <dgm:cxn modelId="{5D8F5336-B7B8-4E93-87B7-FFB052C6F4F8}" srcId="{C8E6DC84-12C4-4733-8DEE-7DD5AAF0F89F}" destId="{83B5AC45-5608-46A8-944E-E801BAEC90D9}" srcOrd="0" destOrd="0" parTransId="{F8FC878D-6E72-4E58-8862-8B3B8147C4BC}" sibTransId="{0FAD2798-489C-4316-9AB8-B6C058D9E573}"/>
    <dgm:cxn modelId="{69C3AA8E-6A7A-4DDF-9DED-5F08E186FB04}" type="presOf" srcId="{617E2F3B-5A85-44E0-982A-5E6A7F810295}" destId="{8670063A-C83C-4C1C-BDA8-CBFA7850170F}" srcOrd="0" destOrd="0" presId="urn:microsoft.com/office/officeart/2005/8/layout/list1"/>
    <dgm:cxn modelId="{641819CF-111F-4F2A-9EF7-CB2E3C568D34}" srcId="{617E2F3B-5A85-44E0-982A-5E6A7F810295}" destId="{F51B1F1B-430D-4C93-B5D0-549A2F55C06C}" srcOrd="0" destOrd="0" parTransId="{3C019BC6-F7A2-4D55-9BC2-82E705840216}" sibTransId="{72A25E32-12EB-4B64-AE9D-2EEDCDFD2254}"/>
    <dgm:cxn modelId="{38F48FB8-15DC-48B9-8385-149E7C375A24}" type="presOf" srcId="{A4672CAE-D0E2-488D-89C8-C0E8F96F0EF3}" destId="{590897A8-4AD6-4C9E-B83B-97CA3188EE23}" srcOrd="0" destOrd="0" presId="urn:microsoft.com/office/officeart/2005/8/layout/list1"/>
    <dgm:cxn modelId="{FB8A3431-6FD1-4805-969C-2134C3B73A1F}" type="presOf" srcId="{D3828330-15A8-4EF7-A4B7-BDF54B622464}" destId="{9A6C1276-CCF5-4947-A94B-41E17741E0BD}" srcOrd="1" destOrd="0" presId="urn:microsoft.com/office/officeart/2005/8/layout/list1"/>
    <dgm:cxn modelId="{2D542900-A4F1-4999-A517-A3092A573330}" type="presOf" srcId="{848A4253-6D56-45DF-B4FF-CD09F5A2E1FB}" destId="{80C0C129-3E79-493B-87D5-018B38203BAE}" srcOrd="0" destOrd="0" presId="urn:microsoft.com/office/officeart/2005/8/layout/list1"/>
    <dgm:cxn modelId="{7C254C47-17D7-477D-871B-0EFC9438F125}" type="presOf" srcId="{A8541ABC-4FD1-4B37-8C0B-2440C7186539}" destId="{25527203-C498-45C3-A734-379AE2A3595A}" srcOrd="0" destOrd="0" presId="urn:microsoft.com/office/officeart/2005/8/layout/list1"/>
    <dgm:cxn modelId="{88D1906C-DFC9-4121-ADD9-3FBD646A591E}" srcId="{D2CA7D92-4399-425E-AE63-0FCFB5C276F9}" destId="{617E2F3B-5A85-44E0-982A-5E6A7F810295}" srcOrd="1" destOrd="0" parTransId="{C85A4FD0-73F4-4CA5-82DC-00A15264327B}" sibTransId="{400147E1-37A4-4BD0-8432-84DE43294855}"/>
    <dgm:cxn modelId="{95A9BFC8-204C-4595-9F9A-3E18FB051210}" type="presOf" srcId="{C9E898A3-3EED-4605-AC0E-699A9E239A50}" destId="{36C8C100-348D-40A0-8BE6-FF674F0AF2DE}" srcOrd="1" destOrd="0" presId="urn:microsoft.com/office/officeart/2005/8/layout/list1"/>
    <dgm:cxn modelId="{24DE35A6-612B-435F-916C-BE0A5CBD14BB}" type="presOf" srcId="{EF9F1205-2B7C-4B09-BA84-B735EDEE727E}" destId="{380D6C35-0EB3-4DE9-9AEE-9EA535447E4E}" srcOrd="0" destOrd="0" presId="urn:microsoft.com/office/officeart/2005/8/layout/list1"/>
    <dgm:cxn modelId="{F98909C3-3327-4FCA-B3B8-7A86BDEC36F0}" type="presOf" srcId="{10D5D77E-553E-4534-8610-E1A9FB67012B}" destId="{6780692F-6144-4940-BC88-C5223D80EAED}" srcOrd="1" destOrd="0" presId="urn:microsoft.com/office/officeart/2005/8/layout/list1"/>
    <dgm:cxn modelId="{69889A3B-BFDD-4B04-B464-2C9AF887630A}" type="presOf" srcId="{6A870066-74B4-45E9-990B-C4D459B12DD6}" destId="{9B03B26D-F009-4086-BD31-2AEAFD444E62}" srcOrd="0" destOrd="0" presId="urn:microsoft.com/office/officeart/2005/8/layout/list1"/>
    <dgm:cxn modelId="{F8533536-0CC9-472A-9251-1AE9222048F5}" srcId="{D2CA7D92-4399-425E-AE63-0FCFB5C276F9}" destId="{9B997B34-221D-4496-A1C8-A439AE736903}" srcOrd="12" destOrd="0" parTransId="{46FAD773-4B1B-45A7-B794-B8E75103FAFE}" sibTransId="{BD5A5068-F8C8-4882-B01F-B89B4ED7EAB1}"/>
    <dgm:cxn modelId="{FD54C61F-76B6-4029-BF8B-A5240542F67C}" type="presOf" srcId="{9B997B34-221D-4496-A1C8-A439AE736903}" destId="{525DADCF-CDE5-4EE8-AE46-3F8D08D21E52}" srcOrd="0" destOrd="0" presId="urn:microsoft.com/office/officeart/2005/8/layout/list1"/>
    <dgm:cxn modelId="{8CECAA34-4339-4F83-8F34-EB0721951644}" srcId="{D2CA7D92-4399-425E-AE63-0FCFB5C276F9}" destId="{74EA246E-98AA-4F54-95D5-D578D47FCD13}" srcOrd="9" destOrd="0" parTransId="{C5103267-F92C-45F4-B90C-8884B33AF9FE}" sibTransId="{80576C01-668E-4C7B-A534-6CE2370DBF7B}"/>
    <dgm:cxn modelId="{967F2D70-CD33-4AF2-A186-F644A1615216}" type="presOf" srcId="{8BC7E0D7-671F-419E-9F6F-D63F9A7D8503}" destId="{5AEC349D-0BAD-4435-AB5B-0C0F674B6AEF}" srcOrd="1" destOrd="0" presId="urn:microsoft.com/office/officeart/2005/8/layout/list1"/>
    <dgm:cxn modelId="{A4853B02-0903-41C6-A881-1DC9D8A84481}" type="presOf" srcId="{DBBFB24E-E301-4AD8-BE6C-325D17588F5C}" destId="{83BD41D9-D555-4B6E-AF88-6135876BAD11}" srcOrd="0" destOrd="0" presId="urn:microsoft.com/office/officeart/2005/8/layout/list1"/>
    <dgm:cxn modelId="{4A6C980D-F4A6-42A3-A1E9-ACFF4AFC42B9}" type="presOf" srcId="{EA5B0946-F626-4646-AEAE-31C4CF2385A0}" destId="{DEB3A97E-4F32-417D-8130-EB354B8360B1}" srcOrd="0" destOrd="0" presId="urn:microsoft.com/office/officeart/2005/8/layout/list1"/>
    <dgm:cxn modelId="{2963D95E-7CDB-4BA8-B24E-2855019D0A57}" type="presOf" srcId="{72CDB0F0-8D1A-4BC8-A84A-F954B51C6B80}" destId="{0409EF26-FEF3-4405-B7D2-953BB1BA5E9C}" srcOrd="0" destOrd="0" presId="urn:microsoft.com/office/officeart/2005/8/layout/list1"/>
    <dgm:cxn modelId="{A34FDEA9-7389-4CA2-B7F5-0D675C06F58C}" srcId="{D2CA7D92-4399-425E-AE63-0FCFB5C276F9}" destId="{A4672CAE-D0E2-488D-89C8-C0E8F96F0EF3}" srcOrd="13" destOrd="0" parTransId="{0F796A20-7E75-4DD4-8648-55C0A8B09D1B}" sibTransId="{FD769867-DD88-469F-AB33-CE9193537472}"/>
    <dgm:cxn modelId="{D0D9640F-5EB6-4352-85F1-024FFDD5FC80}" type="presOf" srcId="{523BADAC-B332-43C3-BB0D-02A427A4DEFC}" destId="{DA7A3EF9-CB5B-47EB-A111-A0F4E28DEA62}" srcOrd="1" destOrd="0" presId="urn:microsoft.com/office/officeart/2005/8/layout/list1"/>
    <dgm:cxn modelId="{44B8E56B-33FB-44AB-9CB3-2095522369F2}" type="presOf" srcId="{D3828330-15A8-4EF7-A4B7-BDF54B622464}" destId="{2C061E25-503B-440C-87C9-D336C48D3A2B}" srcOrd="0" destOrd="0" presId="urn:microsoft.com/office/officeart/2005/8/layout/list1"/>
    <dgm:cxn modelId="{FBB4D039-1450-4EF5-BF5D-DF2DDBD8D376}" type="presOf" srcId="{48744035-F9AE-41EA-812B-1A31C83FA82F}" destId="{29313BC3-419E-474C-AF4A-FC1BC03E8B43}" srcOrd="0" destOrd="0" presId="urn:microsoft.com/office/officeart/2005/8/layout/list1"/>
    <dgm:cxn modelId="{E5C2B298-0B29-4945-AB2B-842E39EF6FC5}" type="presOf" srcId="{74EA246E-98AA-4F54-95D5-D578D47FCD13}" destId="{ED636ECD-F43A-4026-8106-4B98E55266F9}" srcOrd="1" destOrd="0" presId="urn:microsoft.com/office/officeart/2005/8/layout/list1"/>
    <dgm:cxn modelId="{991865BC-49F6-4E1F-9546-1274BD6C9DEA}" type="presOf" srcId="{F51B1F1B-430D-4C93-B5D0-549A2F55C06C}" destId="{60DE0B1A-82FC-4334-AB59-9F7AE40FEDDE}" srcOrd="0" destOrd="0" presId="urn:microsoft.com/office/officeart/2005/8/layout/list1"/>
    <dgm:cxn modelId="{511A037D-16FB-4E66-A47A-DB82AD33DC61}" srcId="{D2CA7D92-4399-425E-AE63-0FCFB5C276F9}" destId="{DB81F5B8-16FE-474B-8B88-AA74B4FB9853}" srcOrd="3" destOrd="0" parTransId="{4BC64C20-1D29-4037-A2ED-A0972423FC5A}" sibTransId="{7F376119-568D-43E3-9098-634677C44F97}"/>
    <dgm:cxn modelId="{571266F3-A77A-404A-BB1B-06BA22368C2E}" srcId="{D2CA7D92-4399-425E-AE63-0FCFB5C276F9}" destId="{E75BA8DE-AAD6-45B5-AB29-299B0B1B2292}" srcOrd="5" destOrd="0" parTransId="{BFB5255E-3473-49BD-B422-BB4FF7A20B45}" sibTransId="{BB8ADA45-910F-4533-86BD-7810220AF9FB}"/>
    <dgm:cxn modelId="{E24C0886-E346-4466-A773-F08442C1D9DE}" type="presOf" srcId="{A4672CAE-D0E2-488D-89C8-C0E8F96F0EF3}" destId="{D6835FFC-553C-489F-B730-2382417A3A59}" srcOrd="1" destOrd="0" presId="urn:microsoft.com/office/officeart/2005/8/layout/list1"/>
    <dgm:cxn modelId="{1C9DBC89-CD53-4C1E-98C0-3AD39A08B207}" srcId="{8BC7E0D7-671F-419E-9F6F-D63F9A7D8503}" destId="{B3F776D7-BF3C-4B24-A307-1E7E793D7C98}" srcOrd="0" destOrd="0" parTransId="{B680E064-3AD4-488A-8F31-A2B0D89D3B1D}" sibTransId="{D48E2810-3E9B-4649-9DFB-3BAD46A23A3A}"/>
    <dgm:cxn modelId="{6D2ED3CE-0033-4701-959F-62E19291E2E4}" srcId="{5BDA8C71-296F-4979-8121-1077BB08BA06}" destId="{3C2077DF-600C-48D3-A751-60DB855AEDA7}" srcOrd="0" destOrd="0" parTransId="{4094983A-00BF-4AE5-8215-098C437A999F}" sibTransId="{BCF06A87-35F1-4C54-97A9-AD21AA9D3C13}"/>
    <dgm:cxn modelId="{54445DAB-DB7F-4EA7-ABF2-891F2FA7875D}" type="presOf" srcId="{B3F776D7-BF3C-4B24-A307-1E7E793D7C98}" destId="{C81B069E-D033-4F78-BACE-5F1A1EB362C7}" srcOrd="0" destOrd="0" presId="urn:microsoft.com/office/officeart/2005/8/layout/list1"/>
    <dgm:cxn modelId="{478DA4A8-8137-405F-987F-F5B2FB840841}" srcId="{D2CA7D92-4399-425E-AE63-0FCFB5C276F9}" destId="{C9E898A3-3EED-4605-AC0E-699A9E239A50}" srcOrd="8" destOrd="0" parTransId="{D0E7B84F-E4D8-461C-BF25-3199965DE68C}" sibTransId="{DA299F6D-7D48-4243-B127-F6C90CEA5477}"/>
    <dgm:cxn modelId="{CDFFF2F2-C8B0-4392-86BE-AA94FDE289E5}" srcId="{C9E898A3-3EED-4605-AC0E-699A9E239A50}" destId="{72CDB0F0-8D1A-4BC8-A84A-F954B51C6B80}" srcOrd="0" destOrd="0" parTransId="{FA76467B-1F1C-482A-97FA-FC9D12574F35}" sibTransId="{41BDB7F4-F39A-4278-ACF7-C5E2985A42ED}"/>
    <dgm:cxn modelId="{C7045B15-F002-474B-9502-243AD2C7B267}" srcId="{D2CA7D92-4399-425E-AE63-0FCFB5C276F9}" destId="{10D5D77E-553E-4534-8610-E1A9FB67012B}" srcOrd="0" destOrd="0" parTransId="{62DEB8A8-2360-43FB-BF95-9FABBC1FACE1}" sibTransId="{D2DB4217-5E54-4790-906D-945A107DEA66}"/>
    <dgm:cxn modelId="{241F91F7-7DF6-433E-BE1F-CC49B63ABAC1}" srcId="{10D5D77E-553E-4534-8610-E1A9FB67012B}" destId="{EF9F1205-2B7C-4B09-BA84-B735EDEE727E}" srcOrd="0" destOrd="0" parTransId="{15D0545E-F4CC-435A-8259-A5D212FC2048}" sibTransId="{B0F70955-FE1E-46CE-9449-C532BBE44564}"/>
    <dgm:cxn modelId="{1814E8B1-84A5-434C-BB2B-164E33EFB471}" srcId="{523BADAC-B332-43C3-BB0D-02A427A4DEFC}" destId="{38A9E041-478D-4E22-8588-3F8D5E009553}" srcOrd="0" destOrd="0" parTransId="{629B5C95-7FD0-4D3C-9617-FE148834A911}" sibTransId="{71B0A5E0-7A4B-4758-BB22-B81D71CEECCA}"/>
    <dgm:cxn modelId="{6F430587-5258-4244-BB57-B0C7096B369A}" srcId="{9B997B34-221D-4496-A1C8-A439AE736903}" destId="{848A4253-6D56-45DF-B4FF-CD09F5A2E1FB}" srcOrd="0" destOrd="0" parTransId="{8687D66E-5597-4865-9E48-4E719DEF25FA}" sibTransId="{73D906F3-FCA3-4DC6-B9D3-C5A0128831D1}"/>
    <dgm:cxn modelId="{1DA113E1-7D2F-4361-9187-36B57F41AFA4}" type="presOf" srcId="{E75BA8DE-AAD6-45B5-AB29-299B0B1B2292}" destId="{B3658B12-B8B9-4873-8247-7DF23FBE38A4}" srcOrd="1" destOrd="0" presId="urn:microsoft.com/office/officeart/2005/8/layout/list1"/>
    <dgm:cxn modelId="{3F30147C-7A1F-4857-8BCC-B3051BD311D6}" srcId="{D2CA7D92-4399-425E-AE63-0FCFB5C276F9}" destId="{0FB44C27-8C45-4946-B619-930DEABDC5A6}" srcOrd="2" destOrd="0" parTransId="{749D41E2-AC8A-4D5F-A95B-0FCBD998C486}" sibTransId="{DA37CB89-3D42-4328-9B43-5D006668A740}"/>
    <dgm:cxn modelId="{61057A3D-78F6-43A7-8BF6-B67FD8F2F2B7}" type="presOf" srcId="{5BDA8C71-296F-4979-8121-1077BB08BA06}" destId="{D88BECAA-86B9-4794-8777-478AD6F4036C}" srcOrd="1" destOrd="0" presId="urn:microsoft.com/office/officeart/2005/8/layout/list1"/>
    <dgm:cxn modelId="{E215D431-228F-47D1-A5EA-9C7FDAB9C4F4}" srcId="{D2CA7D92-4399-425E-AE63-0FCFB5C276F9}" destId="{8BC7E0D7-671F-419E-9F6F-D63F9A7D8503}" srcOrd="14" destOrd="0" parTransId="{DA9B3587-0A6E-49D9-A840-8AD1FF567A82}" sibTransId="{730B37F8-9D69-4188-A816-B3AAAFDA4F6C}"/>
    <dgm:cxn modelId="{AB8B9678-0F8F-4359-975A-E1432831CF30}" type="presOf" srcId="{617E2F3B-5A85-44E0-982A-5E6A7F810295}" destId="{843B4C81-91C5-4A99-81ED-78665012860A}" srcOrd="1" destOrd="0" presId="urn:microsoft.com/office/officeart/2005/8/layout/list1"/>
    <dgm:cxn modelId="{C5A92D89-0E4E-4325-A298-61C43E457515}" type="presOf" srcId="{9B997B34-221D-4496-A1C8-A439AE736903}" destId="{C4BD8598-E35E-49CB-9751-094BA715F9D4}" srcOrd="1" destOrd="0" presId="urn:microsoft.com/office/officeart/2005/8/layout/list1"/>
    <dgm:cxn modelId="{1D14139F-65E9-4BA6-8202-6D089DE5ABF1}" srcId="{E75BA8DE-AAD6-45B5-AB29-299B0B1B2292}" destId="{DBBFB24E-E301-4AD8-BE6C-325D17588F5C}" srcOrd="0" destOrd="0" parTransId="{A7CBD04D-7184-4B86-A2CB-177D9C882191}" sibTransId="{115C74DA-8A9C-4422-9330-741B9EB86E63}"/>
    <dgm:cxn modelId="{B3897DB7-1925-4033-BA6B-5F5371355833}" srcId="{74EA246E-98AA-4F54-95D5-D578D47FCD13}" destId="{EA5B0946-F626-4646-AEAE-31C4CF2385A0}" srcOrd="0" destOrd="0" parTransId="{3D852928-74B2-4CEE-BDAB-48A38AF29726}" sibTransId="{439ECB5B-6E2A-4F5F-80CF-8106B513F4C8}"/>
    <dgm:cxn modelId="{1EE45C0A-0C17-4B95-BEFB-AE54A84F11B2}" type="presOf" srcId="{523BADAC-B332-43C3-BB0D-02A427A4DEFC}" destId="{95E9A9D9-8768-405B-931B-7D24237CEA11}" srcOrd="0" destOrd="0" presId="urn:microsoft.com/office/officeart/2005/8/layout/list1"/>
    <dgm:cxn modelId="{4ED10638-0E45-416E-ABEE-26379A7CCDF8}" type="presOf" srcId="{3C2077DF-600C-48D3-A751-60DB855AEDA7}" destId="{452A13A7-DF69-43D0-9AC0-5E60240B50E5}" srcOrd="0" destOrd="0" presId="urn:microsoft.com/office/officeart/2005/8/layout/list1"/>
    <dgm:cxn modelId="{1A4FCA07-A70E-47A8-AFD9-299166FF0D7A}" type="presOf" srcId="{38A9E041-478D-4E22-8588-3F8D5E009553}" destId="{6FA8E29D-B607-4136-BE57-C911DC7D1E2E}" srcOrd="0" destOrd="0" presId="urn:microsoft.com/office/officeart/2005/8/layout/list1"/>
    <dgm:cxn modelId="{7FFA508C-FCE5-43C2-8939-D9AB3A5B3FD1}" type="presOf" srcId="{A8541ABC-4FD1-4B37-8C0B-2440C7186539}" destId="{B7823A1F-B734-422B-8ABE-ADBA2AB692FA}" srcOrd="1" destOrd="0" presId="urn:microsoft.com/office/officeart/2005/8/layout/list1"/>
    <dgm:cxn modelId="{D7F48F2C-F771-4454-A3AE-411D1E34641E}" type="presOf" srcId="{C8E6DC84-12C4-4733-8DEE-7DD5AAF0F89F}" destId="{27FF6C95-181E-46A0-97B6-A26BC1DF1150}" srcOrd="0" destOrd="0" presId="urn:microsoft.com/office/officeart/2005/8/layout/list1"/>
    <dgm:cxn modelId="{13FBE369-E894-43E7-972B-4AAF896DCFBF}" srcId="{DEC28E6B-0E2D-4D7A-912D-2F1089413019}" destId="{20B3D191-3E55-4C08-AB56-9A609A6FE0DE}" srcOrd="0" destOrd="0" parTransId="{4C97A90C-76A8-40EE-B125-F83DB2992C6E}" sibTransId="{E5B74F47-2577-460E-A075-B961D2C33C73}"/>
    <dgm:cxn modelId="{71009560-4926-4B55-BD08-8373A01666A9}" type="presOf" srcId="{DEC28E6B-0E2D-4D7A-912D-2F1089413019}" destId="{370407C8-1391-4FD9-9557-87AF60D5AB26}" srcOrd="1" destOrd="0" presId="urn:microsoft.com/office/officeart/2005/8/layout/list1"/>
    <dgm:cxn modelId="{842A2187-26A7-449C-BB6B-2C677B5784B4}" srcId="{A8541ABC-4FD1-4B37-8C0B-2440C7186539}" destId="{6A870066-74B4-45E9-990B-C4D459B12DD6}" srcOrd="0" destOrd="0" parTransId="{030F7204-5277-49E4-97E4-FAC8165BA9B9}" sibTransId="{A51B5AEC-96B9-4AED-B99C-7DD6115F2386}"/>
    <dgm:cxn modelId="{0234516F-8742-43E7-A093-A233A5F039A0}" srcId="{D2CA7D92-4399-425E-AE63-0FCFB5C276F9}" destId="{523BADAC-B332-43C3-BB0D-02A427A4DEFC}" srcOrd="4" destOrd="0" parTransId="{2FC4D0F8-DEDF-4BCE-BF80-67E4B427C896}" sibTransId="{EF3F3CAE-D39D-441B-B8C7-915283B34055}"/>
    <dgm:cxn modelId="{67DAACDF-A14B-468B-958F-F27EE19BD910}" type="presOf" srcId="{DB4B8B24-D253-4025-9D7A-1250CFF4DC7F}" destId="{3CB48B57-56B9-4E73-9821-9364303DEECD}" srcOrd="0" destOrd="0" presId="urn:microsoft.com/office/officeart/2005/8/layout/list1"/>
    <dgm:cxn modelId="{E126C3E3-2DA2-43B6-997F-F2AE7DCEE782}" srcId="{D2CA7D92-4399-425E-AE63-0FCFB5C276F9}" destId="{C8E6DC84-12C4-4733-8DEE-7DD5AAF0F89F}" srcOrd="11" destOrd="0" parTransId="{831E784C-C0B5-492A-9A1E-40934F97AAA3}" sibTransId="{42138719-FE6D-4586-8936-83B63213823C}"/>
    <dgm:cxn modelId="{3DA6C4B6-8B5A-43F1-834A-26AF5B871124}" type="presOf" srcId="{D2CA7D92-4399-425E-AE63-0FCFB5C276F9}" destId="{18F6336F-7BCE-4053-8D12-1F0F9E31E0A4}" srcOrd="0" destOrd="0" presId="urn:microsoft.com/office/officeart/2005/8/layout/list1"/>
    <dgm:cxn modelId="{E2325FF1-8173-4A17-9351-37CC91410753}" type="presOf" srcId="{5BDA8C71-296F-4979-8121-1077BB08BA06}" destId="{AF7F76F5-DDD4-4E65-A694-1529C537D4C2}" srcOrd="0" destOrd="0" presId="urn:microsoft.com/office/officeart/2005/8/layout/list1"/>
    <dgm:cxn modelId="{84094FE0-32BC-44F6-B5CE-5DC33F6F4A9D}" type="presOf" srcId="{74EA246E-98AA-4F54-95D5-D578D47FCD13}" destId="{5A79498A-4800-4446-947D-6C938897A244}" srcOrd="0" destOrd="0" presId="urn:microsoft.com/office/officeart/2005/8/layout/list1"/>
    <dgm:cxn modelId="{0EF7A7A4-C562-43F7-905E-3283C9139745}" srcId="{D2CA7D92-4399-425E-AE63-0FCFB5C276F9}" destId="{5BDA8C71-296F-4979-8121-1077BB08BA06}" srcOrd="6" destOrd="0" parTransId="{4A658166-19E6-4C6B-ACAC-1F49557A6BE2}" sibTransId="{96519594-B96F-41D9-BB8A-53ADD222857B}"/>
    <dgm:cxn modelId="{624A5786-EBB6-475B-92FF-75D670CFD328}" type="presOf" srcId="{8BC7E0D7-671F-419E-9F6F-D63F9A7D8503}" destId="{03B18BD3-AB98-47BF-B568-E8F4D8084EA1}" srcOrd="0" destOrd="0" presId="urn:microsoft.com/office/officeart/2005/8/layout/list1"/>
    <dgm:cxn modelId="{75FA2D62-C3D9-4C59-A5E4-763573E0E7D1}" type="presOf" srcId="{E75BA8DE-AAD6-45B5-AB29-299B0B1B2292}" destId="{A44F3274-8AF4-4DE6-BD1F-4F6601F7F69B}" srcOrd="0" destOrd="0" presId="urn:microsoft.com/office/officeart/2005/8/layout/list1"/>
    <dgm:cxn modelId="{2CC10D95-7203-4586-B6D8-5BC0DB3A83BE}" srcId="{D2CA7D92-4399-425E-AE63-0FCFB5C276F9}" destId="{D3828330-15A8-4EF7-A4B7-BDF54B622464}" srcOrd="15" destOrd="0" parTransId="{F92B04FF-9E9B-44FE-8EB2-E7480C4EB780}" sibTransId="{3647305F-960F-4701-9A54-C04E56F9240B}"/>
    <dgm:cxn modelId="{D0CC36CC-9801-4CD2-BA45-56B9F5D22AA0}" srcId="{D2CA7D92-4399-425E-AE63-0FCFB5C276F9}" destId="{DEC28E6B-0E2D-4D7A-912D-2F1089413019}" srcOrd="7" destOrd="0" parTransId="{28C80382-D871-48FF-8D7A-5470CDB7D404}" sibTransId="{DBB2770A-E139-4BF9-ACAC-10D58A8EF74B}"/>
    <dgm:cxn modelId="{955D35FA-F1F8-4A21-9C4D-722B3D700CBC}" srcId="{0FB44C27-8C45-4946-B619-930DEABDC5A6}" destId="{DB4B8B24-D253-4025-9D7A-1250CFF4DC7F}" srcOrd="0" destOrd="0" parTransId="{596589D1-FBEB-4B7D-8CFA-6655830487F6}" sibTransId="{1B68AE4A-8C7D-488D-8260-3B170B59D819}"/>
    <dgm:cxn modelId="{F48FBC6E-3952-4EB7-BADA-D825C45F57C8}" type="presOf" srcId="{C8E6DC84-12C4-4733-8DEE-7DD5AAF0F89F}" destId="{84B4A16B-1444-46EA-84E4-781F5353EC04}" srcOrd="1" destOrd="0" presId="urn:microsoft.com/office/officeart/2005/8/layout/list1"/>
    <dgm:cxn modelId="{2BAD4C31-3EC2-48A3-ABAF-AA7EA101F760}" type="presOf" srcId="{10D5D77E-553E-4534-8610-E1A9FB67012B}" destId="{14CFD343-41C1-44D5-8CB8-B91671EC2DE1}" srcOrd="0" destOrd="0" presId="urn:microsoft.com/office/officeart/2005/8/layout/list1"/>
    <dgm:cxn modelId="{081321DB-312E-4230-97E0-9FAD6E5D288F}" type="presOf" srcId="{0FB44C27-8C45-4946-B619-930DEABDC5A6}" destId="{3317BDF5-3258-432C-8406-2A05883319E6}" srcOrd="1" destOrd="0" presId="urn:microsoft.com/office/officeart/2005/8/layout/list1"/>
    <dgm:cxn modelId="{DAEDD846-09E4-44C7-BCC6-2623CA39E303}" type="presOf" srcId="{C1774E7D-9FF5-4CDB-99F9-9EA58C8B7753}" destId="{5A53EC70-4FBF-4D04-9FD1-7CDC155E5906}" srcOrd="0" destOrd="0" presId="urn:microsoft.com/office/officeart/2005/8/layout/list1"/>
    <dgm:cxn modelId="{AE424320-5B05-4138-A9C8-2C6BD3B3036C}" type="presOf" srcId="{DEC28E6B-0E2D-4D7A-912D-2F1089413019}" destId="{4F4E1487-B7A9-4E26-9C59-F38BBE374A19}" srcOrd="0" destOrd="0" presId="urn:microsoft.com/office/officeart/2005/8/layout/list1"/>
    <dgm:cxn modelId="{EBDF09AC-94CC-4857-8380-1E403951FA62}" type="presOf" srcId="{0FB44C27-8C45-4946-B619-930DEABDC5A6}" destId="{5149450C-B593-4302-B9CB-5F8C39E2ACB7}" srcOrd="0" destOrd="0" presId="urn:microsoft.com/office/officeart/2005/8/layout/list1"/>
    <dgm:cxn modelId="{28EB7F62-0C79-4C9D-AEF0-0EB87A75A480}" srcId="{D2CA7D92-4399-425E-AE63-0FCFB5C276F9}" destId="{A8541ABC-4FD1-4B37-8C0B-2440C7186539}" srcOrd="10" destOrd="0" parTransId="{5B5B50DF-5C2D-4F24-BBF3-7147D7EFCFD5}" sibTransId="{B074AC75-C345-44E7-B062-82940C64A6A5}"/>
    <dgm:cxn modelId="{AD0D9E9D-D86B-4E62-9EF3-5F9D4AEF72E7}" type="presOf" srcId="{20B3D191-3E55-4C08-AB56-9A609A6FE0DE}" destId="{13A97048-02AB-40B2-9225-60A06691AEAA}" srcOrd="0" destOrd="0" presId="urn:microsoft.com/office/officeart/2005/8/layout/list1"/>
    <dgm:cxn modelId="{14894D6F-B9DA-431E-A43D-B105745B2D9B}" type="presOf" srcId="{83B5AC45-5608-46A8-944E-E801BAEC90D9}" destId="{232357A8-4C16-4EAC-A6F3-B579D2BA91E8}" srcOrd="0" destOrd="0" presId="urn:microsoft.com/office/officeart/2005/8/layout/list1"/>
    <dgm:cxn modelId="{EE479F61-AC12-44AC-8537-91B172C87780}" srcId="{D3828330-15A8-4EF7-A4B7-BDF54B622464}" destId="{C1774E7D-9FF5-4CDB-99F9-9EA58C8B7753}" srcOrd="0" destOrd="0" parTransId="{71228E45-6F91-4A0B-8732-17661B45FA1D}" sibTransId="{D4D198F6-EA85-4308-84C0-F36CC4CB4914}"/>
    <dgm:cxn modelId="{B801EDD8-AC9C-441E-8494-A15483C80BE3}" srcId="{A4672CAE-D0E2-488D-89C8-C0E8F96F0EF3}" destId="{17527FEC-70F7-4888-A1DB-53EF1720928F}" srcOrd="0" destOrd="0" parTransId="{FF2DB0B2-1294-4E69-9712-DB7FB8C3D6F1}" sibTransId="{14D25C3E-989B-40F7-8D90-8A8CF4245BFD}"/>
    <dgm:cxn modelId="{E4A69AB0-C035-4C5D-A9E2-7664AE5D4348}" type="presOf" srcId="{DB81F5B8-16FE-474B-8B88-AA74B4FB9853}" destId="{D78F80A6-E101-4D69-9024-05A4B0E3D224}" srcOrd="0" destOrd="0" presId="urn:microsoft.com/office/officeart/2005/8/layout/list1"/>
    <dgm:cxn modelId="{7457F929-90E8-4B6C-8551-07027A431CF2}" type="presParOf" srcId="{18F6336F-7BCE-4053-8D12-1F0F9E31E0A4}" destId="{C207798F-6AAF-47DA-8408-AFF244554892}" srcOrd="0" destOrd="0" presId="urn:microsoft.com/office/officeart/2005/8/layout/list1"/>
    <dgm:cxn modelId="{DE76F874-D66C-46D1-A96A-8065D0F20669}" type="presParOf" srcId="{C207798F-6AAF-47DA-8408-AFF244554892}" destId="{14CFD343-41C1-44D5-8CB8-B91671EC2DE1}" srcOrd="0" destOrd="0" presId="urn:microsoft.com/office/officeart/2005/8/layout/list1"/>
    <dgm:cxn modelId="{93AFAB02-E04E-470C-96E0-082B3C3A33AB}" type="presParOf" srcId="{C207798F-6AAF-47DA-8408-AFF244554892}" destId="{6780692F-6144-4940-BC88-C5223D80EAED}" srcOrd="1" destOrd="0" presId="urn:microsoft.com/office/officeart/2005/8/layout/list1"/>
    <dgm:cxn modelId="{21489878-6880-4DDD-B51F-945DD8D23BCC}" type="presParOf" srcId="{18F6336F-7BCE-4053-8D12-1F0F9E31E0A4}" destId="{4F2BCA67-44D7-441C-9DAE-CD920ABBF230}" srcOrd="1" destOrd="0" presId="urn:microsoft.com/office/officeart/2005/8/layout/list1"/>
    <dgm:cxn modelId="{7750BD96-3F61-4768-92E8-3C5D8AB7D380}" type="presParOf" srcId="{18F6336F-7BCE-4053-8D12-1F0F9E31E0A4}" destId="{380D6C35-0EB3-4DE9-9AEE-9EA535447E4E}" srcOrd="2" destOrd="0" presId="urn:microsoft.com/office/officeart/2005/8/layout/list1"/>
    <dgm:cxn modelId="{9F8475E5-BD2C-4097-93B4-B949FBCBED3E}" type="presParOf" srcId="{18F6336F-7BCE-4053-8D12-1F0F9E31E0A4}" destId="{577CF475-A43A-4C51-9D49-04D79FF936BE}" srcOrd="3" destOrd="0" presId="urn:microsoft.com/office/officeart/2005/8/layout/list1"/>
    <dgm:cxn modelId="{BE635477-738D-4CFE-A2D8-42C920316478}" type="presParOf" srcId="{18F6336F-7BCE-4053-8D12-1F0F9E31E0A4}" destId="{1F964E2D-2633-4D24-9E8F-331FD4C081EE}" srcOrd="4" destOrd="0" presId="urn:microsoft.com/office/officeart/2005/8/layout/list1"/>
    <dgm:cxn modelId="{32CF9005-32CC-47C7-B63C-266400B5FE6B}" type="presParOf" srcId="{1F964E2D-2633-4D24-9E8F-331FD4C081EE}" destId="{8670063A-C83C-4C1C-BDA8-CBFA7850170F}" srcOrd="0" destOrd="0" presId="urn:microsoft.com/office/officeart/2005/8/layout/list1"/>
    <dgm:cxn modelId="{AA80FCD2-8ACB-4AD8-A39B-B641F1FC9D8F}" type="presParOf" srcId="{1F964E2D-2633-4D24-9E8F-331FD4C081EE}" destId="{843B4C81-91C5-4A99-81ED-78665012860A}" srcOrd="1" destOrd="0" presId="urn:microsoft.com/office/officeart/2005/8/layout/list1"/>
    <dgm:cxn modelId="{A71129E3-0812-44CD-BAF8-67EE1F2CA5C3}" type="presParOf" srcId="{18F6336F-7BCE-4053-8D12-1F0F9E31E0A4}" destId="{E4058E38-BECE-4078-9414-BFE8217F91DB}" srcOrd="5" destOrd="0" presId="urn:microsoft.com/office/officeart/2005/8/layout/list1"/>
    <dgm:cxn modelId="{97959E88-C736-4E8B-BFA0-F5C511581FBD}" type="presParOf" srcId="{18F6336F-7BCE-4053-8D12-1F0F9E31E0A4}" destId="{60DE0B1A-82FC-4334-AB59-9F7AE40FEDDE}" srcOrd="6" destOrd="0" presId="urn:microsoft.com/office/officeart/2005/8/layout/list1"/>
    <dgm:cxn modelId="{93AA6EAC-905A-4662-A00D-DE2B45720A30}" type="presParOf" srcId="{18F6336F-7BCE-4053-8D12-1F0F9E31E0A4}" destId="{6C6A0D68-F398-4803-96C6-AA6ECFC051B6}" srcOrd="7" destOrd="0" presId="urn:microsoft.com/office/officeart/2005/8/layout/list1"/>
    <dgm:cxn modelId="{D18D00FF-03E3-4D54-BF34-43ACAFFE79F2}" type="presParOf" srcId="{18F6336F-7BCE-4053-8D12-1F0F9E31E0A4}" destId="{0DC6B7B0-6303-4057-B266-54E4B01F53CC}" srcOrd="8" destOrd="0" presId="urn:microsoft.com/office/officeart/2005/8/layout/list1"/>
    <dgm:cxn modelId="{C29A54F8-E726-4B39-B511-6DDD5F08CFE0}" type="presParOf" srcId="{0DC6B7B0-6303-4057-B266-54E4B01F53CC}" destId="{5149450C-B593-4302-B9CB-5F8C39E2ACB7}" srcOrd="0" destOrd="0" presId="urn:microsoft.com/office/officeart/2005/8/layout/list1"/>
    <dgm:cxn modelId="{1F5DB855-422B-4D4C-B234-859246FA5219}" type="presParOf" srcId="{0DC6B7B0-6303-4057-B266-54E4B01F53CC}" destId="{3317BDF5-3258-432C-8406-2A05883319E6}" srcOrd="1" destOrd="0" presId="urn:microsoft.com/office/officeart/2005/8/layout/list1"/>
    <dgm:cxn modelId="{AACBED9C-7085-4171-8CD6-BB6C9F9F4495}" type="presParOf" srcId="{18F6336F-7BCE-4053-8D12-1F0F9E31E0A4}" destId="{8EE2D49E-8FE1-4382-9C1C-917AF273DC4E}" srcOrd="9" destOrd="0" presId="urn:microsoft.com/office/officeart/2005/8/layout/list1"/>
    <dgm:cxn modelId="{7E53850A-17E2-4AA0-99C0-D722E9EE84B7}" type="presParOf" srcId="{18F6336F-7BCE-4053-8D12-1F0F9E31E0A4}" destId="{3CB48B57-56B9-4E73-9821-9364303DEECD}" srcOrd="10" destOrd="0" presId="urn:microsoft.com/office/officeart/2005/8/layout/list1"/>
    <dgm:cxn modelId="{85D91D95-4F3C-4FBC-B116-2A86BC444DC8}" type="presParOf" srcId="{18F6336F-7BCE-4053-8D12-1F0F9E31E0A4}" destId="{02281A1C-6767-4105-9845-5D1670075E15}" srcOrd="11" destOrd="0" presId="urn:microsoft.com/office/officeart/2005/8/layout/list1"/>
    <dgm:cxn modelId="{C1D7C8D6-42C0-409D-9D0B-74195CA08863}" type="presParOf" srcId="{18F6336F-7BCE-4053-8D12-1F0F9E31E0A4}" destId="{ED744178-0AA3-4215-8F3C-D1C7045ADD19}" srcOrd="12" destOrd="0" presId="urn:microsoft.com/office/officeart/2005/8/layout/list1"/>
    <dgm:cxn modelId="{C17FA897-D2DE-4EBA-8B23-961A4213C5C9}" type="presParOf" srcId="{ED744178-0AA3-4215-8F3C-D1C7045ADD19}" destId="{D78F80A6-E101-4D69-9024-05A4B0E3D224}" srcOrd="0" destOrd="0" presId="urn:microsoft.com/office/officeart/2005/8/layout/list1"/>
    <dgm:cxn modelId="{F2B69B01-F216-49AE-A77E-649B11B22217}" type="presParOf" srcId="{ED744178-0AA3-4215-8F3C-D1C7045ADD19}" destId="{A07BB598-26D2-44E9-B7E8-529A52DEB8A5}" srcOrd="1" destOrd="0" presId="urn:microsoft.com/office/officeart/2005/8/layout/list1"/>
    <dgm:cxn modelId="{18AC4A8A-4A1B-4DCA-8161-A2FD5A3EBA44}" type="presParOf" srcId="{18F6336F-7BCE-4053-8D12-1F0F9E31E0A4}" destId="{971ACE18-5E12-4C62-AA48-CAF470A34733}" srcOrd="13" destOrd="0" presId="urn:microsoft.com/office/officeart/2005/8/layout/list1"/>
    <dgm:cxn modelId="{FC55EA20-480C-46F4-BD5C-B53721FF5703}" type="presParOf" srcId="{18F6336F-7BCE-4053-8D12-1F0F9E31E0A4}" destId="{29313BC3-419E-474C-AF4A-FC1BC03E8B43}" srcOrd="14" destOrd="0" presId="urn:microsoft.com/office/officeart/2005/8/layout/list1"/>
    <dgm:cxn modelId="{A1FA2ED5-F634-473C-B92B-7F5BCED6815A}" type="presParOf" srcId="{18F6336F-7BCE-4053-8D12-1F0F9E31E0A4}" destId="{729E3B0D-BC1F-430F-A6F6-556D123DDDC9}" srcOrd="15" destOrd="0" presId="urn:microsoft.com/office/officeart/2005/8/layout/list1"/>
    <dgm:cxn modelId="{81772667-FD9C-49D1-BDAE-5C2333D916AB}" type="presParOf" srcId="{18F6336F-7BCE-4053-8D12-1F0F9E31E0A4}" destId="{0582B4F1-40CA-48DB-80E2-322CEE44BE71}" srcOrd="16" destOrd="0" presId="urn:microsoft.com/office/officeart/2005/8/layout/list1"/>
    <dgm:cxn modelId="{7BCFE77A-FEE7-458D-99EB-2B5A74175A2B}" type="presParOf" srcId="{0582B4F1-40CA-48DB-80E2-322CEE44BE71}" destId="{95E9A9D9-8768-405B-931B-7D24237CEA11}" srcOrd="0" destOrd="0" presId="urn:microsoft.com/office/officeart/2005/8/layout/list1"/>
    <dgm:cxn modelId="{E8EDC996-D3C0-49BC-B5AA-BFE2981C5558}" type="presParOf" srcId="{0582B4F1-40CA-48DB-80E2-322CEE44BE71}" destId="{DA7A3EF9-CB5B-47EB-A111-A0F4E28DEA62}" srcOrd="1" destOrd="0" presId="urn:microsoft.com/office/officeart/2005/8/layout/list1"/>
    <dgm:cxn modelId="{FB34C712-0356-433A-83A0-212F0A915FD9}" type="presParOf" srcId="{18F6336F-7BCE-4053-8D12-1F0F9E31E0A4}" destId="{5D300F10-361E-4117-A933-5751EF03FA60}" srcOrd="17" destOrd="0" presId="urn:microsoft.com/office/officeart/2005/8/layout/list1"/>
    <dgm:cxn modelId="{F863154B-B434-41DA-9E18-C6953C451242}" type="presParOf" srcId="{18F6336F-7BCE-4053-8D12-1F0F9E31E0A4}" destId="{6FA8E29D-B607-4136-BE57-C911DC7D1E2E}" srcOrd="18" destOrd="0" presId="urn:microsoft.com/office/officeart/2005/8/layout/list1"/>
    <dgm:cxn modelId="{4EB0AF57-5976-4202-B03F-A752C0901B34}" type="presParOf" srcId="{18F6336F-7BCE-4053-8D12-1F0F9E31E0A4}" destId="{C3F902AE-A30A-4D60-9BB9-F7A41D345D77}" srcOrd="19" destOrd="0" presId="urn:microsoft.com/office/officeart/2005/8/layout/list1"/>
    <dgm:cxn modelId="{9AEFD800-1059-4F8B-8616-DC3A23B01AA6}" type="presParOf" srcId="{18F6336F-7BCE-4053-8D12-1F0F9E31E0A4}" destId="{EB6CC6C4-5104-46D9-8350-AF132E92FF98}" srcOrd="20" destOrd="0" presId="urn:microsoft.com/office/officeart/2005/8/layout/list1"/>
    <dgm:cxn modelId="{3FDB38C4-A5CA-4543-AE94-54740BB4BDCD}" type="presParOf" srcId="{EB6CC6C4-5104-46D9-8350-AF132E92FF98}" destId="{A44F3274-8AF4-4DE6-BD1F-4F6601F7F69B}" srcOrd="0" destOrd="0" presId="urn:microsoft.com/office/officeart/2005/8/layout/list1"/>
    <dgm:cxn modelId="{B4ED76A5-2C46-4649-95B2-9A9E034BB74C}" type="presParOf" srcId="{EB6CC6C4-5104-46D9-8350-AF132E92FF98}" destId="{B3658B12-B8B9-4873-8247-7DF23FBE38A4}" srcOrd="1" destOrd="0" presId="urn:microsoft.com/office/officeart/2005/8/layout/list1"/>
    <dgm:cxn modelId="{FA3F1251-6DE8-41ED-A740-CE03C333651E}" type="presParOf" srcId="{18F6336F-7BCE-4053-8D12-1F0F9E31E0A4}" destId="{B50EE207-9E62-4BEC-A9A3-2C3FB49191C2}" srcOrd="21" destOrd="0" presId="urn:microsoft.com/office/officeart/2005/8/layout/list1"/>
    <dgm:cxn modelId="{0128FFED-ACE8-4129-AF69-4C62C1E340B1}" type="presParOf" srcId="{18F6336F-7BCE-4053-8D12-1F0F9E31E0A4}" destId="{83BD41D9-D555-4B6E-AF88-6135876BAD11}" srcOrd="22" destOrd="0" presId="urn:microsoft.com/office/officeart/2005/8/layout/list1"/>
    <dgm:cxn modelId="{9228F929-B74D-4C2D-93BB-55FFDBB9309F}" type="presParOf" srcId="{18F6336F-7BCE-4053-8D12-1F0F9E31E0A4}" destId="{BDEE9EB9-575F-4ADE-AFEE-32550ED0D2D1}" srcOrd="23" destOrd="0" presId="urn:microsoft.com/office/officeart/2005/8/layout/list1"/>
    <dgm:cxn modelId="{7F04ACA7-2D88-4C9F-A3F3-F229E03D65FC}" type="presParOf" srcId="{18F6336F-7BCE-4053-8D12-1F0F9E31E0A4}" destId="{6A0A5B1E-6A4B-4BF5-A009-69A903B0F6E0}" srcOrd="24" destOrd="0" presId="urn:microsoft.com/office/officeart/2005/8/layout/list1"/>
    <dgm:cxn modelId="{07393422-373F-45A9-8ADD-F48803304385}" type="presParOf" srcId="{6A0A5B1E-6A4B-4BF5-A009-69A903B0F6E0}" destId="{AF7F76F5-DDD4-4E65-A694-1529C537D4C2}" srcOrd="0" destOrd="0" presId="urn:microsoft.com/office/officeart/2005/8/layout/list1"/>
    <dgm:cxn modelId="{8E848385-9660-464A-9F09-0EE3CD8D0046}" type="presParOf" srcId="{6A0A5B1E-6A4B-4BF5-A009-69A903B0F6E0}" destId="{D88BECAA-86B9-4794-8777-478AD6F4036C}" srcOrd="1" destOrd="0" presId="urn:microsoft.com/office/officeart/2005/8/layout/list1"/>
    <dgm:cxn modelId="{CFFC5274-B98B-4099-8EFF-722610A3B47A}" type="presParOf" srcId="{18F6336F-7BCE-4053-8D12-1F0F9E31E0A4}" destId="{EF78DC30-A834-4560-8F41-19E23B1586EA}" srcOrd="25" destOrd="0" presId="urn:microsoft.com/office/officeart/2005/8/layout/list1"/>
    <dgm:cxn modelId="{83C091F4-62A4-4EA0-9A7B-9F2BF008FF9B}" type="presParOf" srcId="{18F6336F-7BCE-4053-8D12-1F0F9E31E0A4}" destId="{452A13A7-DF69-43D0-9AC0-5E60240B50E5}" srcOrd="26" destOrd="0" presId="urn:microsoft.com/office/officeart/2005/8/layout/list1"/>
    <dgm:cxn modelId="{0D74CF06-3DA1-462A-B1C1-BEB0493E9081}" type="presParOf" srcId="{18F6336F-7BCE-4053-8D12-1F0F9E31E0A4}" destId="{56CEEF1E-9572-4776-87CE-DC5FC7B65FFB}" srcOrd="27" destOrd="0" presId="urn:microsoft.com/office/officeart/2005/8/layout/list1"/>
    <dgm:cxn modelId="{32629A5F-069A-454F-AFED-33D85B4402A3}" type="presParOf" srcId="{18F6336F-7BCE-4053-8D12-1F0F9E31E0A4}" destId="{A692F03C-AE0F-460F-8714-B7FD390BAE94}" srcOrd="28" destOrd="0" presId="urn:microsoft.com/office/officeart/2005/8/layout/list1"/>
    <dgm:cxn modelId="{FA922A79-1C4B-4036-9515-97DDECF0AB89}" type="presParOf" srcId="{A692F03C-AE0F-460F-8714-B7FD390BAE94}" destId="{4F4E1487-B7A9-4E26-9C59-F38BBE374A19}" srcOrd="0" destOrd="0" presId="urn:microsoft.com/office/officeart/2005/8/layout/list1"/>
    <dgm:cxn modelId="{BD34FDF3-6AF2-4519-AC26-C4397087FA30}" type="presParOf" srcId="{A692F03C-AE0F-460F-8714-B7FD390BAE94}" destId="{370407C8-1391-4FD9-9557-87AF60D5AB26}" srcOrd="1" destOrd="0" presId="urn:microsoft.com/office/officeart/2005/8/layout/list1"/>
    <dgm:cxn modelId="{C3A62D5B-97E7-40E1-A5D2-8AD31BB30963}" type="presParOf" srcId="{18F6336F-7BCE-4053-8D12-1F0F9E31E0A4}" destId="{1C086DBF-AF46-41EA-B395-685DBF494A3E}" srcOrd="29" destOrd="0" presId="urn:microsoft.com/office/officeart/2005/8/layout/list1"/>
    <dgm:cxn modelId="{25250180-FDCC-4570-9011-3C9835E71195}" type="presParOf" srcId="{18F6336F-7BCE-4053-8D12-1F0F9E31E0A4}" destId="{13A97048-02AB-40B2-9225-60A06691AEAA}" srcOrd="30" destOrd="0" presId="urn:microsoft.com/office/officeart/2005/8/layout/list1"/>
    <dgm:cxn modelId="{96A8FAC4-31ED-4823-B1F8-C60FAA0D2C75}" type="presParOf" srcId="{18F6336F-7BCE-4053-8D12-1F0F9E31E0A4}" destId="{42F8B485-E867-4062-B1C3-D24B97E4025F}" srcOrd="31" destOrd="0" presId="urn:microsoft.com/office/officeart/2005/8/layout/list1"/>
    <dgm:cxn modelId="{D051B91D-8E68-4BE3-8F8E-18B8842AEBFA}" type="presParOf" srcId="{18F6336F-7BCE-4053-8D12-1F0F9E31E0A4}" destId="{A3A45BB9-0865-4485-872A-68B86CE4DB76}" srcOrd="32" destOrd="0" presId="urn:microsoft.com/office/officeart/2005/8/layout/list1"/>
    <dgm:cxn modelId="{9BA3267C-3B13-4454-A74B-CFD1C0B0AD0F}" type="presParOf" srcId="{A3A45BB9-0865-4485-872A-68B86CE4DB76}" destId="{AAE17E7C-505B-44A5-8824-D02D5DE84084}" srcOrd="0" destOrd="0" presId="urn:microsoft.com/office/officeart/2005/8/layout/list1"/>
    <dgm:cxn modelId="{70CFBA3F-1634-45D0-99A4-C857969184A8}" type="presParOf" srcId="{A3A45BB9-0865-4485-872A-68B86CE4DB76}" destId="{36C8C100-348D-40A0-8BE6-FF674F0AF2DE}" srcOrd="1" destOrd="0" presId="urn:microsoft.com/office/officeart/2005/8/layout/list1"/>
    <dgm:cxn modelId="{DF5C2CB1-C8F6-4FF1-A56A-D2457DB1986A}" type="presParOf" srcId="{18F6336F-7BCE-4053-8D12-1F0F9E31E0A4}" destId="{718FB6AA-B41E-4FC4-988A-061BD71045EE}" srcOrd="33" destOrd="0" presId="urn:microsoft.com/office/officeart/2005/8/layout/list1"/>
    <dgm:cxn modelId="{4EEC60DE-6431-4205-A1C8-F5F012747049}" type="presParOf" srcId="{18F6336F-7BCE-4053-8D12-1F0F9E31E0A4}" destId="{0409EF26-FEF3-4405-B7D2-953BB1BA5E9C}" srcOrd="34" destOrd="0" presId="urn:microsoft.com/office/officeart/2005/8/layout/list1"/>
    <dgm:cxn modelId="{6EE9DC6E-0E38-4F02-BE6F-38CE02CF8C2D}" type="presParOf" srcId="{18F6336F-7BCE-4053-8D12-1F0F9E31E0A4}" destId="{FC71C343-FC4E-499F-9D7E-4E1D903DEE21}" srcOrd="35" destOrd="0" presId="urn:microsoft.com/office/officeart/2005/8/layout/list1"/>
    <dgm:cxn modelId="{8BDEDA39-1E22-4CAD-A3C8-1CB44D17C4F9}" type="presParOf" srcId="{18F6336F-7BCE-4053-8D12-1F0F9E31E0A4}" destId="{9D116D14-A54E-4AC2-A519-24B189E93EA3}" srcOrd="36" destOrd="0" presId="urn:microsoft.com/office/officeart/2005/8/layout/list1"/>
    <dgm:cxn modelId="{E3D01E8C-AB69-4084-9AB2-A687AD034DCC}" type="presParOf" srcId="{9D116D14-A54E-4AC2-A519-24B189E93EA3}" destId="{5A79498A-4800-4446-947D-6C938897A244}" srcOrd="0" destOrd="0" presId="urn:microsoft.com/office/officeart/2005/8/layout/list1"/>
    <dgm:cxn modelId="{56E2F49E-FADF-4B5F-B50E-0BA54ED6DBDF}" type="presParOf" srcId="{9D116D14-A54E-4AC2-A519-24B189E93EA3}" destId="{ED636ECD-F43A-4026-8106-4B98E55266F9}" srcOrd="1" destOrd="0" presId="urn:microsoft.com/office/officeart/2005/8/layout/list1"/>
    <dgm:cxn modelId="{34E8D17B-9E93-4FB9-B1C5-81E3CAEA30CE}" type="presParOf" srcId="{18F6336F-7BCE-4053-8D12-1F0F9E31E0A4}" destId="{C2BBF99A-6899-4413-9D88-C1A9B7878543}" srcOrd="37" destOrd="0" presId="urn:microsoft.com/office/officeart/2005/8/layout/list1"/>
    <dgm:cxn modelId="{9F3876DB-4DB2-4C78-8134-AC7BA899AA89}" type="presParOf" srcId="{18F6336F-7BCE-4053-8D12-1F0F9E31E0A4}" destId="{DEB3A97E-4F32-417D-8130-EB354B8360B1}" srcOrd="38" destOrd="0" presId="urn:microsoft.com/office/officeart/2005/8/layout/list1"/>
    <dgm:cxn modelId="{23190A85-9350-4EC6-9CA9-CD2D0E5FC138}" type="presParOf" srcId="{18F6336F-7BCE-4053-8D12-1F0F9E31E0A4}" destId="{88C97614-C003-4F8D-AFEF-C26EE9E3AC77}" srcOrd="39" destOrd="0" presId="urn:microsoft.com/office/officeart/2005/8/layout/list1"/>
    <dgm:cxn modelId="{ACB83C4F-E0EB-4691-90FF-6B609A6CB935}" type="presParOf" srcId="{18F6336F-7BCE-4053-8D12-1F0F9E31E0A4}" destId="{EFC00DB2-69D6-4F29-8D91-D1FEF7663E77}" srcOrd="40" destOrd="0" presId="urn:microsoft.com/office/officeart/2005/8/layout/list1"/>
    <dgm:cxn modelId="{E820230B-3598-4EEA-88D5-FB1E46670E66}" type="presParOf" srcId="{EFC00DB2-69D6-4F29-8D91-D1FEF7663E77}" destId="{25527203-C498-45C3-A734-379AE2A3595A}" srcOrd="0" destOrd="0" presId="urn:microsoft.com/office/officeart/2005/8/layout/list1"/>
    <dgm:cxn modelId="{0ECD2583-998C-443C-A4EB-B396FB0D5952}" type="presParOf" srcId="{EFC00DB2-69D6-4F29-8D91-D1FEF7663E77}" destId="{B7823A1F-B734-422B-8ABE-ADBA2AB692FA}" srcOrd="1" destOrd="0" presId="urn:microsoft.com/office/officeart/2005/8/layout/list1"/>
    <dgm:cxn modelId="{8C79823A-EA29-4039-8508-D1718DF54403}" type="presParOf" srcId="{18F6336F-7BCE-4053-8D12-1F0F9E31E0A4}" destId="{ABFC5EF7-0BCE-4CB7-9522-2ACEE3B5F501}" srcOrd="41" destOrd="0" presId="urn:microsoft.com/office/officeart/2005/8/layout/list1"/>
    <dgm:cxn modelId="{EECD2E35-3653-46CD-AE38-CC86B9878FEA}" type="presParOf" srcId="{18F6336F-7BCE-4053-8D12-1F0F9E31E0A4}" destId="{9B03B26D-F009-4086-BD31-2AEAFD444E62}" srcOrd="42" destOrd="0" presId="urn:microsoft.com/office/officeart/2005/8/layout/list1"/>
    <dgm:cxn modelId="{BFA2D21F-322E-4BC9-9149-CAB0BE128E66}" type="presParOf" srcId="{18F6336F-7BCE-4053-8D12-1F0F9E31E0A4}" destId="{354C408F-BB2D-4272-B340-69DA17F3BD99}" srcOrd="43" destOrd="0" presId="urn:microsoft.com/office/officeart/2005/8/layout/list1"/>
    <dgm:cxn modelId="{7FA87C72-CC43-4ED1-A737-94ACE8211649}" type="presParOf" srcId="{18F6336F-7BCE-4053-8D12-1F0F9E31E0A4}" destId="{75283A0E-F389-4681-85E0-D2B0A38083B3}" srcOrd="44" destOrd="0" presId="urn:microsoft.com/office/officeart/2005/8/layout/list1"/>
    <dgm:cxn modelId="{EA02C5D5-17DE-4A6D-8E87-6F34A24A4DE8}" type="presParOf" srcId="{75283A0E-F389-4681-85E0-D2B0A38083B3}" destId="{27FF6C95-181E-46A0-97B6-A26BC1DF1150}" srcOrd="0" destOrd="0" presId="urn:microsoft.com/office/officeart/2005/8/layout/list1"/>
    <dgm:cxn modelId="{2B0AB008-2E0F-4D66-ADC7-090367BB9B47}" type="presParOf" srcId="{75283A0E-F389-4681-85E0-D2B0A38083B3}" destId="{84B4A16B-1444-46EA-84E4-781F5353EC04}" srcOrd="1" destOrd="0" presId="urn:microsoft.com/office/officeart/2005/8/layout/list1"/>
    <dgm:cxn modelId="{9E43484B-A175-40D0-A8D7-586ADCBACE23}" type="presParOf" srcId="{18F6336F-7BCE-4053-8D12-1F0F9E31E0A4}" destId="{207CC047-4632-4C92-9BEA-BF33C5073C3D}" srcOrd="45" destOrd="0" presId="urn:microsoft.com/office/officeart/2005/8/layout/list1"/>
    <dgm:cxn modelId="{FC0EE37E-E2D3-4499-A599-B6D4574F7450}" type="presParOf" srcId="{18F6336F-7BCE-4053-8D12-1F0F9E31E0A4}" destId="{232357A8-4C16-4EAC-A6F3-B579D2BA91E8}" srcOrd="46" destOrd="0" presId="urn:microsoft.com/office/officeart/2005/8/layout/list1"/>
    <dgm:cxn modelId="{8F1050DD-3709-4A35-ABA5-0DA37A527F19}" type="presParOf" srcId="{18F6336F-7BCE-4053-8D12-1F0F9E31E0A4}" destId="{D4F347AA-8F4A-4EDE-A8F2-E6E3CE5BE0CD}" srcOrd="47" destOrd="0" presId="urn:microsoft.com/office/officeart/2005/8/layout/list1"/>
    <dgm:cxn modelId="{8AFD3009-A00A-4BF7-BCDC-4335A1AF4CA3}" type="presParOf" srcId="{18F6336F-7BCE-4053-8D12-1F0F9E31E0A4}" destId="{54F7A63F-FDAC-4816-86AB-0824B6E743C5}" srcOrd="48" destOrd="0" presId="urn:microsoft.com/office/officeart/2005/8/layout/list1"/>
    <dgm:cxn modelId="{AA4120A5-CA42-4C64-ABBD-F9F03DD946B7}" type="presParOf" srcId="{54F7A63F-FDAC-4816-86AB-0824B6E743C5}" destId="{525DADCF-CDE5-4EE8-AE46-3F8D08D21E52}" srcOrd="0" destOrd="0" presId="urn:microsoft.com/office/officeart/2005/8/layout/list1"/>
    <dgm:cxn modelId="{3D91CC0F-5E47-4717-8B8A-D2C450F6292C}" type="presParOf" srcId="{54F7A63F-FDAC-4816-86AB-0824B6E743C5}" destId="{C4BD8598-E35E-49CB-9751-094BA715F9D4}" srcOrd="1" destOrd="0" presId="urn:microsoft.com/office/officeart/2005/8/layout/list1"/>
    <dgm:cxn modelId="{488DF3AE-963D-45BB-A0DF-CDDFEDD6CF6B}" type="presParOf" srcId="{18F6336F-7BCE-4053-8D12-1F0F9E31E0A4}" destId="{0E0128C2-28BC-41E9-85C6-B878FD8660D1}" srcOrd="49" destOrd="0" presId="urn:microsoft.com/office/officeart/2005/8/layout/list1"/>
    <dgm:cxn modelId="{C4C26602-FD91-4772-9A1D-D923315F2244}" type="presParOf" srcId="{18F6336F-7BCE-4053-8D12-1F0F9E31E0A4}" destId="{80C0C129-3E79-493B-87D5-018B38203BAE}" srcOrd="50" destOrd="0" presId="urn:microsoft.com/office/officeart/2005/8/layout/list1"/>
    <dgm:cxn modelId="{4C0ABE6A-DAEB-4A21-836A-650BEC552B4C}" type="presParOf" srcId="{18F6336F-7BCE-4053-8D12-1F0F9E31E0A4}" destId="{817F92ED-A834-417B-9945-6995537BC29D}" srcOrd="51" destOrd="0" presId="urn:microsoft.com/office/officeart/2005/8/layout/list1"/>
    <dgm:cxn modelId="{033DF872-8325-4ED5-B04D-79D5B3E271AE}" type="presParOf" srcId="{18F6336F-7BCE-4053-8D12-1F0F9E31E0A4}" destId="{2F1CAE23-14ED-42E2-8112-AA7A9505354B}" srcOrd="52" destOrd="0" presId="urn:microsoft.com/office/officeart/2005/8/layout/list1"/>
    <dgm:cxn modelId="{2FAA49BD-9BC1-45E5-A180-5B8B343610A6}" type="presParOf" srcId="{2F1CAE23-14ED-42E2-8112-AA7A9505354B}" destId="{590897A8-4AD6-4C9E-B83B-97CA3188EE23}" srcOrd="0" destOrd="0" presId="urn:microsoft.com/office/officeart/2005/8/layout/list1"/>
    <dgm:cxn modelId="{2F73E990-4EFF-45B6-9FB0-AB3E4D6F0478}" type="presParOf" srcId="{2F1CAE23-14ED-42E2-8112-AA7A9505354B}" destId="{D6835FFC-553C-489F-B730-2382417A3A59}" srcOrd="1" destOrd="0" presId="urn:microsoft.com/office/officeart/2005/8/layout/list1"/>
    <dgm:cxn modelId="{58357EC7-2702-4E3E-BA37-7D67C3F84EBB}" type="presParOf" srcId="{18F6336F-7BCE-4053-8D12-1F0F9E31E0A4}" destId="{A2299556-2B67-4311-AC15-DA00EA4118F2}" srcOrd="53" destOrd="0" presId="urn:microsoft.com/office/officeart/2005/8/layout/list1"/>
    <dgm:cxn modelId="{791C986E-0727-4E06-992A-6E2FD5A3ABD7}" type="presParOf" srcId="{18F6336F-7BCE-4053-8D12-1F0F9E31E0A4}" destId="{4AD75E93-CFCF-4FB1-AD20-52BA80041ECB}" srcOrd="54" destOrd="0" presId="urn:microsoft.com/office/officeart/2005/8/layout/list1"/>
    <dgm:cxn modelId="{3D520505-97BD-47AB-A025-9017C496AE36}" type="presParOf" srcId="{18F6336F-7BCE-4053-8D12-1F0F9E31E0A4}" destId="{1A8363CF-3BF3-4CAC-A21D-2C2F05911418}" srcOrd="55" destOrd="0" presId="urn:microsoft.com/office/officeart/2005/8/layout/list1"/>
    <dgm:cxn modelId="{54539022-30C5-4E6E-B6F5-A0E1B85027C1}" type="presParOf" srcId="{18F6336F-7BCE-4053-8D12-1F0F9E31E0A4}" destId="{56BCD260-BBDC-4210-9A64-30649DC47AFA}" srcOrd="56" destOrd="0" presId="urn:microsoft.com/office/officeart/2005/8/layout/list1"/>
    <dgm:cxn modelId="{BE04A622-1506-4EEB-92C0-3426C9539F64}" type="presParOf" srcId="{56BCD260-BBDC-4210-9A64-30649DC47AFA}" destId="{03B18BD3-AB98-47BF-B568-E8F4D8084EA1}" srcOrd="0" destOrd="0" presId="urn:microsoft.com/office/officeart/2005/8/layout/list1"/>
    <dgm:cxn modelId="{8E7643F4-5A88-410D-9770-4B56A6ED7CA5}" type="presParOf" srcId="{56BCD260-BBDC-4210-9A64-30649DC47AFA}" destId="{5AEC349D-0BAD-4435-AB5B-0C0F674B6AEF}" srcOrd="1" destOrd="0" presId="urn:microsoft.com/office/officeart/2005/8/layout/list1"/>
    <dgm:cxn modelId="{B61E3997-9762-489C-A362-08EB963E2D75}" type="presParOf" srcId="{18F6336F-7BCE-4053-8D12-1F0F9E31E0A4}" destId="{CE420BE9-7896-4224-B8C7-6394456D2A33}" srcOrd="57" destOrd="0" presId="urn:microsoft.com/office/officeart/2005/8/layout/list1"/>
    <dgm:cxn modelId="{A1747AFB-31F1-4F49-99AD-93A4FB45AD70}" type="presParOf" srcId="{18F6336F-7BCE-4053-8D12-1F0F9E31E0A4}" destId="{C81B069E-D033-4F78-BACE-5F1A1EB362C7}" srcOrd="58" destOrd="0" presId="urn:microsoft.com/office/officeart/2005/8/layout/list1"/>
    <dgm:cxn modelId="{D83551CA-B855-4D33-B176-13CBE1A357BB}" type="presParOf" srcId="{18F6336F-7BCE-4053-8D12-1F0F9E31E0A4}" destId="{FCFCE7F1-F25C-446E-9C82-849585E625CC}" srcOrd="59" destOrd="0" presId="urn:microsoft.com/office/officeart/2005/8/layout/list1"/>
    <dgm:cxn modelId="{D4D0A0E3-7250-4E84-A8A0-61BAA5238802}" type="presParOf" srcId="{18F6336F-7BCE-4053-8D12-1F0F9E31E0A4}" destId="{CB835BF8-5A95-4C30-806F-6A393705025E}" srcOrd="60" destOrd="0" presId="urn:microsoft.com/office/officeart/2005/8/layout/list1"/>
    <dgm:cxn modelId="{6C98EC85-9720-44A0-B519-1CBB2FCB565D}" type="presParOf" srcId="{CB835BF8-5A95-4C30-806F-6A393705025E}" destId="{2C061E25-503B-440C-87C9-D336C48D3A2B}" srcOrd="0" destOrd="0" presId="urn:microsoft.com/office/officeart/2005/8/layout/list1"/>
    <dgm:cxn modelId="{7336FA12-7332-4A76-A8E3-791C13357763}" type="presParOf" srcId="{CB835BF8-5A95-4C30-806F-6A393705025E}" destId="{9A6C1276-CCF5-4947-A94B-41E17741E0BD}" srcOrd="1" destOrd="0" presId="urn:microsoft.com/office/officeart/2005/8/layout/list1"/>
    <dgm:cxn modelId="{7A025C7F-459C-46C5-817A-F2FF9D917DE5}" type="presParOf" srcId="{18F6336F-7BCE-4053-8D12-1F0F9E31E0A4}" destId="{D72F0017-55A4-45C3-A2FE-C27E3534C784}" srcOrd="61" destOrd="0" presId="urn:microsoft.com/office/officeart/2005/8/layout/list1"/>
    <dgm:cxn modelId="{0EA11CC2-4CB8-46A5-A3F5-499727BBF92A}" type="presParOf" srcId="{18F6336F-7BCE-4053-8D12-1F0F9E31E0A4}" destId="{5A53EC70-4FBF-4D04-9FD1-7CDC155E5906}" srcOrd="62" destOrd="0" presId="urn:microsoft.com/office/officeart/2005/8/layout/lis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2CA7D92-4399-425E-AE63-0FCFB5C276F9}" type="doc">
      <dgm:prSet loTypeId="urn:microsoft.com/office/officeart/2005/8/layout/list1" loCatId="list" qsTypeId="urn:microsoft.com/office/officeart/2005/8/quickstyle/simple4" qsCatId="simple" csTypeId="urn:microsoft.com/office/officeart/2005/8/colors/accent1_1" csCatId="accent1" phldr="1"/>
      <dgm:spPr/>
      <dgm:t>
        <a:bodyPr/>
        <a:lstStyle/>
        <a:p>
          <a:endParaRPr lang="zh-CN" altLang="en-US"/>
        </a:p>
      </dgm:t>
    </dgm:pt>
    <dgm:pt modelId="{10D5D77E-553E-4534-8610-E1A9FB67012B}">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没有“雇主”这回事儿</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62DEB8A8-2360-43FB-BF95-9FABBC1FACE1}" type="par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2DB4217-5E54-4790-906D-945A107DEA66}" type="sib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9F1205-2B7C-4B09-BA84-B735EDEE727E}">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你不能通过一个雇主的态度去推测另一个的态度；</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15D0545E-F4CC-435A-8259-A5D212FC2048}" type="par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F70955-FE1E-46CE-9449-C532BBE44564}" type="sib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17E2F3B-5A85-44E0-982A-5E6A7F810295}">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前，一定要做功课</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85A4FD0-73F4-4CA5-82DC-00A15264327B}" type="par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00147E1-37A4-4BD0-8432-84DE43294855}" type="sib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51B1F1B-430D-4C93-B5D0-549A2F55C06C}">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花费精力尽可能了解对方；</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C019BC6-F7A2-4D55-9BC2-82E705840216}" type="par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A25E32-12EB-4B64-AE9D-2EEDCDFD2254}" type="sib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B44C27-8C45-4946-B619-930DEABDC5A6}">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遵守承诺</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749D41E2-AC8A-4D5F-A95B-0FCBD998C486}" type="par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37CB89-3D42-4328-9B43-5D006668A740}" type="sib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4B8B24-D253-4025-9D7A-1250CFF4DC7F}">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控制面试时间长短，如</a:t>
          </a:r>
          <a:r>
            <a:rPr lang="en-US" sz="2000" smtClean="0">
              <a:solidFill>
                <a:schemeClr val="accent5">
                  <a:lumMod val="50000"/>
                </a:schemeClr>
              </a:solidFill>
              <a:latin typeface="微软雅黑" panose="020B0503020204020204" pitchFamily="34" charset="-122"/>
              <a:ea typeface="微软雅黑" panose="020B0503020204020204" pitchFamily="34" charset="-122"/>
            </a:rPr>
            <a:t>19</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596589D1-FBEB-4B7D-8CFA-6655830487F6}" type="par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B68AE4A-8C7D-488D-8260-3B170B59D819}" type="sib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81F5B8-16FE-474B-8B88-AA74B4FB985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不过就是一场对话</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BC64C20-1D29-4037-A2ED-A0972423FC5A}" type="par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F376119-568D-43E3-9098-634677C44F97}" type="sib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8744035-F9AE-41EA-812B-1A31C83FA82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温和地了解雇主，觉得是你相待的地方，再有信心地推销自己；</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30E956D-6B18-4CD7-99D1-5DB4EFBFB177}" type="par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5D0FFB2-142C-456C-A871-C0AE186F2011}" type="sib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23BADAC-B332-43C3-BB0D-02A427A4DEFC}">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他们会问的问题，和你能问的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FC4D0F8-DEDF-4BCE-BF80-67E4B427C896}" type="par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3F3CAE-D39D-441B-B8C7-915283B34055}" type="sib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8A9E041-478D-4E22-8588-3F8D5E0095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雇主希望你说的，是没明着问出来的另一个问题的答案；</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629B5C95-7FD0-4D3C-9617-FE148834A911}" type="par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1B0A5E0-7A4B-4758-BB22-B81D71CEECCA}" type="sib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75BA8DE-AAD6-45B5-AB29-299B0B1B2292}">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面试中，遵循“</a:t>
          </a:r>
          <a:r>
            <a:rPr lang="en-US" sz="2400" b="1" dirty="0" smtClean="0">
              <a:solidFill>
                <a:srgbClr val="2777D8"/>
              </a:solidFill>
              <a:latin typeface="微软雅黑" panose="020B0503020204020204" pitchFamily="34" charset="-122"/>
              <a:ea typeface="微软雅黑" panose="020B0503020204020204" pitchFamily="34" charset="-122"/>
            </a:rPr>
            <a:t>50-50</a:t>
          </a:r>
          <a:r>
            <a:rPr lang="zh-CN" sz="2400" b="1" dirty="0" smtClean="0">
              <a:solidFill>
                <a:srgbClr val="2777D8"/>
              </a:solidFill>
              <a:latin typeface="微软雅黑" panose="020B0503020204020204" pitchFamily="34" charset="-122"/>
              <a:ea typeface="微软雅黑" panose="020B0503020204020204" pitchFamily="34" charset="-122"/>
            </a:rPr>
            <a:t>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BFB5255E-3473-49BD-B422-BB4FF7A20B45}" type="par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B8ADA45-910F-4533-86BD-7810220AF9FB}" type="sib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FB24E-E301-4AD8-BE6C-325D17588F5C}">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说，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听；</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A7CBD04D-7184-4B86-A2CB-177D9C882191}" type="par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15C74DA-8A9C-4422-9330-741B9EB86E63}" type="sib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BDA8C71-296F-4979-8121-1077BB08BA06}">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回答问题时，遵循“</a:t>
          </a:r>
          <a:r>
            <a:rPr lang="en-US" sz="2400" b="1" dirty="0" smtClean="0">
              <a:solidFill>
                <a:srgbClr val="2777D8"/>
              </a:solidFill>
              <a:latin typeface="微软雅黑" panose="020B0503020204020204" pitchFamily="34" charset="-122"/>
              <a:ea typeface="微软雅黑" panose="020B0503020204020204" pitchFamily="34" charset="-122"/>
            </a:rPr>
            <a:t>20</a:t>
          </a:r>
          <a:r>
            <a:rPr lang="zh-CN" sz="2400" b="1" dirty="0" smtClean="0">
              <a:solidFill>
                <a:srgbClr val="2777D8"/>
              </a:solidFill>
              <a:latin typeface="微软雅黑" panose="020B0503020204020204" pitchFamily="34" charset="-122"/>
              <a:ea typeface="微软雅黑" panose="020B0503020204020204" pitchFamily="34" charset="-122"/>
            </a:rPr>
            <a:t>秒到</a:t>
          </a:r>
          <a:r>
            <a:rPr lang="en-US" sz="2400" b="1" dirty="0" smtClean="0">
              <a:solidFill>
                <a:srgbClr val="2777D8"/>
              </a:solidFill>
              <a:latin typeface="微软雅黑" panose="020B0503020204020204" pitchFamily="34" charset="-122"/>
              <a:ea typeface="微软雅黑" panose="020B0503020204020204" pitchFamily="34" charset="-122"/>
            </a:rPr>
            <a:t>2</a:t>
          </a:r>
          <a:r>
            <a:rPr lang="zh-CN" sz="2400" b="1" dirty="0" smtClean="0">
              <a:solidFill>
                <a:srgbClr val="2777D8"/>
              </a:solidFill>
              <a:latin typeface="微软雅黑" panose="020B0503020204020204" pitchFamily="34" charset="-122"/>
              <a:ea typeface="微软雅黑" panose="020B0503020204020204" pitchFamily="34" charset="-122"/>
            </a:rPr>
            <a:t>分钟”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4A658166-19E6-4C6B-ACAC-1F49557A6BE2}" type="par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6519594-B96F-41D9-BB8A-53ADD222857B}" type="sib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C2077DF-600C-48D3-A751-60DB855AEDA7}">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说话回答问题尽量不超过</a:t>
          </a:r>
          <a:r>
            <a:rPr lang="en-US" sz="2000" smtClean="0">
              <a:solidFill>
                <a:schemeClr val="accent5">
                  <a:lumMod val="50000"/>
                </a:schemeClr>
              </a:solidFill>
              <a:latin typeface="微软雅黑" panose="020B0503020204020204" pitchFamily="34" charset="-122"/>
              <a:ea typeface="微软雅黑" panose="020B0503020204020204" pitchFamily="34" charset="-122"/>
            </a:rPr>
            <a:t>2</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094983A-00BF-4AE5-8215-098C437A999F}" type="par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CF06A87-35F1-4C54-97A9-AD21AA9D3C13}" type="sib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EC28E6B-0E2D-4D7A-912D-2F108941301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最关心的是风险</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8C80382-D871-48FF-8D7A-5470CDB7D404}" type="par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2770A-E139-4BF9-ACAC-10D58A8EF74B}" type="sib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20B3D191-3E55-4C08-AB56-9A609A6FE0DE}">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面试中强调你的唯一目标是“提升组织的效率、服务和标准”；</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C97A90C-76A8-40EE-B125-F83DB2992C6E}" type="par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5B74F47-2577-460E-A075-B961D2C33C73}" type="sib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9E898A3-3EED-4605-AC0E-699A9E239A50}">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细节决定成败</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0E7B84F-E4D8-461C-BF25-3199965DE68C}" type="par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299F6D-7D48-4243-B127-F6C90CEA5477}" type="sib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CDB0F0-8D1A-4BC8-A84A-F954B51C6B8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形象和个人习惯、紧张表现、缺乏自信、对他人的态度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A76467B-1F1C-482A-97FA-FC9D12574F35}" type="par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1BDB7F4-F39A-4278-ACF7-C5E2985A42ED}" type="sib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4EA246E-98AA-4F54-95D5-D578D47FCD1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关注大多数雇主都在乎的通用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5103267-F92C-45F4-B90C-8884B33AF9FE}" type="par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0576C01-668E-4C7B-A534-6CE2370DBF7B}" type="sib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A5B0946-F626-4646-AEAE-31C4CF2385A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守时排在第一位，你可以“笨”，但不可以不“努力”；</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D852928-74B2-4CEE-BDAB-48A38AF29726}" type="par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39ECB5B-6E2A-4F5F-80CF-8106B513F4C8}" type="sib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8541ABC-4FD1-4B37-8C0B-2440C718653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时带证据，表明你具备某种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5B5B50DF-5C2D-4F24-BBF3-7147D7EFCFD5}" type="par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74AC75-C345-44E7-B062-82940C64A6A5}" type="sib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A870066-74B4-45E9-990B-C4D459B12DD6}">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证书、产品、照片、视频、代码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030F7204-5277-49E4-97E4-FAC8165BA9B9}" type="par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51B5AEC-96B9-4AED-B99C-7DD6115F2386}" type="sib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8E6DC84-12C4-4733-8DEE-7DD5AAF0F89F}">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即使前任雇主很糟糕，也不要在面试中贬损他们</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831E784C-C0B5-492A-9A1E-40934F97AAA3}" type="par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2138719-FE6D-4586-8936-83B63213823C}" type="sib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3B5AC45-5608-46A8-944E-E801BAEC90D9}">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表达你对同盟军里所有成员的尊重；</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8FC878D-6E72-4E58-8862-8B3B8147C4BC}" type="par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AD2798-489C-4316-9AB8-B6C058D9E573}" type="sib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B997B34-221D-4496-A1C8-A439AE7369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不在乎你的过去</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6FAD773-4B1B-45A7-B794-B8E75103FAFE}" type="par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D5A5068-F8C8-4882-B01F-B89B4ED7EAB1}" type="sib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48A4253-6D56-45DF-B4FF-CD09F5A2E1FB}">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了解过去是为了预测你将来的行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8687D66E-5597-4865-9E48-4E719DEF25FA}" type="par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D906F3-FCA3-4DC6-B9D3-C5A0128831D1}" type="sib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4672CAE-D0E2-488D-89C8-C0E8F96F0EF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留心面试官问题的时间框架</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0F796A20-7E75-4DD4-8648-55C0A8B09D1B}" type="par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D769867-DD88-469F-AB33-CE9193537472}" type="sib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7527FEC-70F7-4888-A1DB-53EF1720928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越是从过去移向将来，对你越有利；</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F2DB0B2-1294-4E69-9712-DB7FB8C3D6F1}" type="par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4D25C3E-989B-40F7-8D90-8A8CF4245BFD}" type="sib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BC7E0D7-671F-419E-9F6F-D63F9A7D85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结束面试前，通常你要问五个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A9B3587-0A6E-49D9-A840-8AD1FF567A82}" type="par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0B37F8-9D69-4188-A816-B3AAAFDA4F6C}" type="sib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3F776D7-BF3C-4B24-A307-1E7E793D7C98}">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我能得到工作吗？什么时候能得到最终消息？最晚什么时候答复？我能联系您吗？其他人会对我感兴趣吗？（第一个问题否定再提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B680E064-3AD4-488A-8F31-A2B0D89D3B1D}" type="par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8E2810-3E9B-4649-9DFB-3BAD46A23A3A}" type="sib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3828330-15A8-4EF7-A4B7-BDF54B622464}">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写感谢信的重要性</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F92B04FF-9E9B-44FE-8EB2-E7480C4EB780}" type="par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647305F-960F-4701-9A54-C04E56F9240B}" type="sib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1774E7D-9FF5-4CDB-99F9-9EA58C8B77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大多数求职者会忽略这个问题，感谢信不必太长，表达清楚即可；</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71228E45-6F91-4A0B-8732-17661B45FA1D}" type="par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D198F6-EA85-4308-84C0-F36CC4CB4914}" type="sib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8F6336F-7BCE-4053-8D12-1F0F9E31E0A4}" type="pres">
      <dgm:prSet presAssocID="{D2CA7D92-4399-425E-AE63-0FCFB5C276F9}" presName="linear" presStyleCnt="0">
        <dgm:presLayoutVars>
          <dgm:dir/>
          <dgm:animLvl val="lvl"/>
          <dgm:resizeHandles val="exact"/>
        </dgm:presLayoutVars>
      </dgm:prSet>
      <dgm:spPr/>
      <dgm:t>
        <a:bodyPr/>
        <a:lstStyle/>
        <a:p>
          <a:endParaRPr lang="zh-CN" altLang="en-US"/>
        </a:p>
      </dgm:t>
    </dgm:pt>
    <dgm:pt modelId="{C207798F-6AAF-47DA-8408-AFF244554892}" type="pres">
      <dgm:prSet presAssocID="{10D5D77E-553E-4534-8610-E1A9FB67012B}" presName="parentLin" presStyleCnt="0"/>
      <dgm:spPr/>
    </dgm:pt>
    <dgm:pt modelId="{14CFD343-41C1-44D5-8CB8-B91671EC2DE1}" type="pres">
      <dgm:prSet presAssocID="{10D5D77E-553E-4534-8610-E1A9FB67012B}" presName="parentLeftMargin" presStyleLbl="node1" presStyleIdx="0" presStyleCnt="16"/>
      <dgm:spPr/>
      <dgm:t>
        <a:bodyPr/>
        <a:lstStyle/>
        <a:p>
          <a:endParaRPr lang="zh-CN" altLang="en-US"/>
        </a:p>
      </dgm:t>
    </dgm:pt>
    <dgm:pt modelId="{6780692F-6144-4940-BC88-C5223D80EAED}" type="pres">
      <dgm:prSet presAssocID="{10D5D77E-553E-4534-8610-E1A9FB67012B}" presName="parentText" presStyleLbl="node1" presStyleIdx="0" presStyleCnt="16">
        <dgm:presLayoutVars>
          <dgm:chMax val="0"/>
          <dgm:bulletEnabled val="1"/>
        </dgm:presLayoutVars>
      </dgm:prSet>
      <dgm:spPr/>
      <dgm:t>
        <a:bodyPr/>
        <a:lstStyle/>
        <a:p>
          <a:endParaRPr lang="zh-CN" altLang="en-US"/>
        </a:p>
      </dgm:t>
    </dgm:pt>
    <dgm:pt modelId="{4F2BCA67-44D7-441C-9DAE-CD920ABBF230}" type="pres">
      <dgm:prSet presAssocID="{10D5D77E-553E-4534-8610-E1A9FB67012B}" presName="negativeSpace" presStyleCnt="0"/>
      <dgm:spPr/>
    </dgm:pt>
    <dgm:pt modelId="{380D6C35-0EB3-4DE9-9AEE-9EA535447E4E}" type="pres">
      <dgm:prSet presAssocID="{10D5D77E-553E-4534-8610-E1A9FB67012B}" presName="childText" presStyleLbl="conFgAcc1" presStyleIdx="0" presStyleCnt="16">
        <dgm:presLayoutVars>
          <dgm:bulletEnabled val="1"/>
        </dgm:presLayoutVars>
      </dgm:prSet>
      <dgm:spPr/>
      <dgm:t>
        <a:bodyPr/>
        <a:lstStyle/>
        <a:p>
          <a:endParaRPr lang="zh-CN" altLang="en-US"/>
        </a:p>
      </dgm:t>
    </dgm:pt>
    <dgm:pt modelId="{577CF475-A43A-4C51-9D49-04D79FF936BE}" type="pres">
      <dgm:prSet presAssocID="{D2DB4217-5E54-4790-906D-945A107DEA66}" presName="spaceBetweenRectangles" presStyleCnt="0"/>
      <dgm:spPr/>
    </dgm:pt>
    <dgm:pt modelId="{1F964E2D-2633-4D24-9E8F-331FD4C081EE}" type="pres">
      <dgm:prSet presAssocID="{617E2F3B-5A85-44E0-982A-5E6A7F810295}" presName="parentLin" presStyleCnt="0"/>
      <dgm:spPr/>
    </dgm:pt>
    <dgm:pt modelId="{8670063A-C83C-4C1C-BDA8-CBFA7850170F}" type="pres">
      <dgm:prSet presAssocID="{617E2F3B-5A85-44E0-982A-5E6A7F810295}" presName="parentLeftMargin" presStyleLbl="node1" presStyleIdx="0" presStyleCnt="16"/>
      <dgm:spPr/>
      <dgm:t>
        <a:bodyPr/>
        <a:lstStyle/>
        <a:p>
          <a:endParaRPr lang="zh-CN" altLang="en-US"/>
        </a:p>
      </dgm:t>
    </dgm:pt>
    <dgm:pt modelId="{843B4C81-91C5-4A99-81ED-78665012860A}" type="pres">
      <dgm:prSet presAssocID="{617E2F3B-5A85-44E0-982A-5E6A7F810295}" presName="parentText" presStyleLbl="node1" presStyleIdx="1" presStyleCnt="16">
        <dgm:presLayoutVars>
          <dgm:chMax val="0"/>
          <dgm:bulletEnabled val="1"/>
        </dgm:presLayoutVars>
      </dgm:prSet>
      <dgm:spPr/>
      <dgm:t>
        <a:bodyPr/>
        <a:lstStyle/>
        <a:p>
          <a:endParaRPr lang="zh-CN" altLang="en-US"/>
        </a:p>
      </dgm:t>
    </dgm:pt>
    <dgm:pt modelId="{E4058E38-BECE-4078-9414-BFE8217F91DB}" type="pres">
      <dgm:prSet presAssocID="{617E2F3B-5A85-44E0-982A-5E6A7F810295}" presName="negativeSpace" presStyleCnt="0"/>
      <dgm:spPr/>
    </dgm:pt>
    <dgm:pt modelId="{60DE0B1A-82FC-4334-AB59-9F7AE40FEDDE}" type="pres">
      <dgm:prSet presAssocID="{617E2F3B-5A85-44E0-982A-5E6A7F810295}" presName="childText" presStyleLbl="conFgAcc1" presStyleIdx="1" presStyleCnt="16">
        <dgm:presLayoutVars>
          <dgm:bulletEnabled val="1"/>
        </dgm:presLayoutVars>
      </dgm:prSet>
      <dgm:spPr/>
      <dgm:t>
        <a:bodyPr/>
        <a:lstStyle/>
        <a:p>
          <a:endParaRPr lang="zh-CN" altLang="en-US"/>
        </a:p>
      </dgm:t>
    </dgm:pt>
    <dgm:pt modelId="{6C6A0D68-F398-4803-96C6-AA6ECFC051B6}" type="pres">
      <dgm:prSet presAssocID="{400147E1-37A4-4BD0-8432-84DE43294855}" presName="spaceBetweenRectangles" presStyleCnt="0"/>
      <dgm:spPr/>
    </dgm:pt>
    <dgm:pt modelId="{0DC6B7B0-6303-4057-B266-54E4B01F53CC}" type="pres">
      <dgm:prSet presAssocID="{0FB44C27-8C45-4946-B619-930DEABDC5A6}" presName="parentLin" presStyleCnt="0"/>
      <dgm:spPr/>
    </dgm:pt>
    <dgm:pt modelId="{5149450C-B593-4302-B9CB-5F8C39E2ACB7}" type="pres">
      <dgm:prSet presAssocID="{0FB44C27-8C45-4946-B619-930DEABDC5A6}" presName="parentLeftMargin" presStyleLbl="node1" presStyleIdx="1" presStyleCnt="16"/>
      <dgm:spPr/>
      <dgm:t>
        <a:bodyPr/>
        <a:lstStyle/>
        <a:p>
          <a:endParaRPr lang="zh-CN" altLang="en-US"/>
        </a:p>
      </dgm:t>
    </dgm:pt>
    <dgm:pt modelId="{3317BDF5-3258-432C-8406-2A05883319E6}" type="pres">
      <dgm:prSet presAssocID="{0FB44C27-8C45-4946-B619-930DEABDC5A6}" presName="parentText" presStyleLbl="node1" presStyleIdx="2" presStyleCnt="16">
        <dgm:presLayoutVars>
          <dgm:chMax val="0"/>
          <dgm:bulletEnabled val="1"/>
        </dgm:presLayoutVars>
      </dgm:prSet>
      <dgm:spPr/>
      <dgm:t>
        <a:bodyPr/>
        <a:lstStyle/>
        <a:p>
          <a:endParaRPr lang="zh-CN" altLang="en-US"/>
        </a:p>
      </dgm:t>
    </dgm:pt>
    <dgm:pt modelId="{8EE2D49E-8FE1-4382-9C1C-917AF273DC4E}" type="pres">
      <dgm:prSet presAssocID="{0FB44C27-8C45-4946-B619-930DEABDC5A6}" presName="negativeSpace" presStyleCnt="0"/>
      <dgm:spPr/>
    </dgm:pt>
    <dgm:pt modelId="{3CB48B57-56B9-4E73-9821-9364303DEECD}" type="pres">
      <dgm:prSet presAssocID="{0FB44C27-8C45-4946-B619-930DEABDC5A6}" presName="childText" presStyleLbl="conFgAcc1" presStyleIdx="2" presStyleCnt="16">
        <dgm:presLayoutVars>
          <dgm:bulletEnabled val="1"/>
        </dgm:presLayoutVars>
      </dgm:prSet>
      <dgm:spPr/>
      <dgm:t>
        <a:bodyPr/>
        <a:lstStyle/>
        <a:p>
          <a:endParaRPr lang="zh-CN" altLang="en-US"/>
        </a:p>
      </dgm:t>
    </dgm:pt>
    <dgm:pt modelId="{02281A1C-6767-4105-9845-5D1670075E15}" type="pres">
      <dgm:prSet presAssocID="{DA37CB89-3D42-4328-9B43-5D006668A740}" presName="spaceBetweenRectangles" presStyleCnt="0"/>
      <dgm:spPr/>
    </dgm:pt>
    <dgm:pt modelId="{ED744178-0AA3-4215-8F3C-D1C7045ADD19}" type="pres">
      <dgm:prSet presAssocID="{DB81F5B8-16FE-474B-8B88-AA74B4FB9853}" presName="parentLin" presStyleCnt="0"/>
      <dgm:spPr/>
    </dgm:pt>
    <dgm:pt modelId="{D78F80A6-E101-4D69-9024-05A4B0E3D224}" type="pres">
      <dgm:prSet presAssocID="{DB81F5B8-16FE-474B-8B88-AA74B4FB9853}" presName="parentLeftMargin" presStyleLbl="node1" presStyleIdx="2" presStyleCnt="16"/>
      <dgm:spPr/>
      <dgm:t>
        <a:bodyPr/>
        <a:lstStyle/>
        <a:p>
          <a:endParaRPr lang="zh-CN" altLang="en-US"/>
        </a:p>
      </dgm:t>
    </dgm:pt>
    <dgm:pt modelId="{A07BB598-26D2-44E9-B7E8-529A52DEB8A5}" type="pres">
      <dgm:prSet presAssocID="{DB81F5B8-16FE-474B-8B88-AA74B4FB9853}" presName="parentText" presStyleLbl="node1" presStyleIdx="3" presStyleCnt="16">
        <dgm:presLayoutVars>
          <dgm:chMax val="0"/>
          <dgm:bulletEnabled val="1"/>
        </dgm:presLayoutVars>
      </dgm:prSet>
      <dgm:spPr/>
      <dgm:t>
        <a:bodyPr/>
        <a:lstStyle/>
        <a:p>
          <a:endParaRPr lang="zh-CN" altLang="en-US"/>
        </a:p>
      </dgm:t>
    </dgm:pt>
    <dgm:pt modelId="{971ACE18-5E12-4C62-AA48-CAF470A34733}" type="pres">
      <dgm:prSet presAssocID="{DB81F5B8-16FE-474B-8B88-AA74B4FB9853}" presName="negativeSpace" presStyleCnt="0"/>
      <dgm:spPr/>
    </dgm:pt>
    <dgm:pt modelId="{29313BC3-419E-474C-AF4A-FC1BC03E8B43}" type="pres">
      <dgm:prSet presAssocID="{DB81F5B8-16FE-474B-8B88-AA74B4FB9853}" presName="childText" presStyleLbl="conFgAcc1" presStyleIdx="3" presStyleCnt="16">
        <dgm:presLayoutVars>
          <dgm:bulletEnabled val="1"/>
        </dgm:presLayoutVars>
      </dgm:prSet>
      <dgm:spPr/>
      <dgm:t>
        <a:bodyPr/>
        <a:lstStyle/>
        <a:p>
          <a:endParaRPr lang="zh-CN" altLang="en-US"/>
        </a:p>
      </dgm:t>
    </dgm:pt>
    <dgm:pt modelId="{729E3B0D-BC1F-430F-A6F6-556D123DDDC9}" type="pres">
      <dgm:prSet presAssocID="{7F376119-568D-43E3-9098-634677C44F97}" presName="spaceBetweenRectangles" presStyleCnt="0"/>
      <dgm:spPr/>
    </dgm:pt>
    <dgm:pt modelId="{0582B4F1-40CA-48DB-80E2-322CEE44BE71}" type="pres">
      <dgm:prSet presAssocID="{523BADAC-B332-43C3-BB0D-02A427A4DEFC}" presName="parentLin" presStyleCnt="0"/>
      <dgm:spPr/>
    </dgm:pt>
    <dgm:pt modelId="{95E9A9D9-8768-405B-931B-7D24237CEA11}" type="pres">
      <dgm:prSet presAssocID="{523BADAC-B332-43C3-BB0D-02A427A4DEFC}" presName="parentLeftMargin" presStyleLbl="node1" presStyleIdx="3" presStyleCnt="16"/>
      <dgm:spPr/>
      <dgm:t>
        <a:bodyPr/>
        <a:lstStyle/>
        <a:p>
          <a:endParaRPr lang="zh-CN" altLang="en-US"/>
        </a:p>
      </dgm:t>
    </dgm:pt>
    <dgm:pt modelId="{DA7A3EF9-CB5B-47EB-A111-A0F4E28DEA62}" type="pres">
      <dgm:prSet presAssocID="{523BADAC-B332-43C3-BB0D-02A427A4DEFC}" presName="parentText" presStyleLbl="node1" presStyleIdx="4" presStyleCnt="16">
        <dgm:presLayoutVars>
          <dgm:chMax val="0"/>
          <dgm:bulletEnabled val="1"/>
        </dgm:presLayoutVars>
      </dgm:prSet>
      <dgm:spPr/>
      <dgm:t>
        <a:bodyPr/>
        <a:lstStyle/>
        <a:p>
          <a:endParaRPr lang="zh-CN" altLang="en-US"/>
        </a:p>
      </dgm:t>
    </dgm:pt>
    <dgm:pt modelId="{5D300F10-361E-4117-A933-5751EF03FA60}" type="pres">
      <dgm:prSet presAssocID="{523BADAC-B332-43C3-BB0D-02A427A4DEFC}" presName="negativeSpace" presStyleCnt="0"/>
      <dgm:spPr/>
    </dgm:pt>
    <dgm:pt modelId="{6FA8E29D-B607-4136-BE57-C911DC7D1E2E}" type="pres">
      <dgm:prSet presAssocID="{523BADAC-B332-43C3-BB0D-02A427A4DEFC}" presName="childText" presStyleLbl="conFgAcc1" presStyleIdx="4" presStyleCnt="16">
        <dgm:presLayoutVars>
          <dgm:bulletEnabled val="1"/>
        </dgm:presLayoutVars>
      </dgm:prSet>
      <dgm:spPr/>
      <dgm:t>
        <a:bodyPr/>
        <a:lstStyle/>
        <a:p>
          <a:endParaRPr lang="zh-CN" altLang="en-US"/>
        </a:p>
      </dgm:t>
    </dgm:pt>
    <dgm:pt modelId="{C3F902AE-A30A-4D60-9BB9-F7A41D345D77}" type="pres">
      <dgm:prSet presAssocID="{EF3F3CAE-D39D-441B-B8C7-915283B34055}" presName="spaceBetweenRectangles" presStyleCnt="0"/>
      <dgm:spPr/>
    </dgm:pt>
    <dgm:pt modelId="{EB6CC6C4-5104-46D9-8350-AF132E92FF98}" type="pres">
      <dgm:prSet presAssocID="{E75BA8DE-AAD6-45B5-AB29-299B0B1B2292}" presName="parentLin" presStyleCnt="0"/>
      <dgm:spPr/>
    </dgm:pt>
    <dgm:pt modelId="{A44F3274-8AF4-4DE6-BD1F-4F6601F7F69B}" type="pres">
      <dgm:prSet presAssocID="{E75BA8DE-AAD6-45B5-AB29-299B0B1B2292}" presName="parentLeftMargin" presStyleLbl="node1" presStyleIdx="4" presStyleCnt="16"/>
      <dgm:spPr/>
      <dgm:t>
        <a:bodyPr/>
        <a:lstStyle/>
        <a:p>
          <a:endParaRPr lang="zh-CN" altLang="en-US"/>
        </a:p>
      </dgm:t>
    </dgm:pt>
    <dgm:pt modelId="{B3658B12-B8B9-4873-8247-7DF23FBE38A4}" type="pres">
      <dgm:prSet presAssocID="{E75BA8DE-AAD6-45B5-AB29-299B0B1B2292}" presName="parentText" presStyleLbl="node1" presStyleIdx="5" presStyleCnt="16">
        <dgm:presLayoutVars>
          <dgm:chMax val="0"/>
          <dgm:bulletEnabled val="1"/>
        </dgm:presLayoutVars>
      </dgm:prSet>
      <dgm:spPr/>
      <dgm:t>
        <a:bodyPr/>
        <a:lstStyle/>
        <a:p>
          <a:endParaRPr lang="zh-CN" altLang="en-US"/>
        </a:p>
      </dgm:t>
    </dgm:pt>
    <dgm:pt modelId="{B50EE207-9E62-4BEC-A9A3-2C3FB49191C2}" type="pres">
      <dgm:prSet presAssocID="{E75BA8DE-AAD6-45B5-AB29-299B0B1B2292}" presName="negativeSpace" presStyleCnt="0"/>
      <dgm:spPr/>
    </dgm:pt>
    <dgm:pt modelId="{83BD41D9-D555-4B6E-AF88-6135876BAD11}" type="pres">
      <dgm:prSet presAssocID="{E75BA8DE-AAD6-45B5-AB29-299B0B1B2292}" presName="childText" presStyleLbl="conFgAcc1" presStyleIdx="5" presStyleCnt="16">
        <dgm:presLayoutVars>
          <dgm:bulletEnabled val="1"/>
        </dgm:presLayoutVars>
      </dgm:prSet>
      <dgm:spPr/>
      <dgm:t>
        <a:bodyPr/>
        <a:lstStyle/>
        <a:p>
          <a:endParaRPr lang="zh-CN" altLang="en-US"/>
        </a:p>
      </dgm:t>
    </dgm:pt>
    <dgm:pt modelId="{BDEE9EB9-575F-4ADE-AFEE-32550ED0D2D1}" type="pres">
      <dgm:prSet presAssocID="{BB8ADA45-910F-4533-86BD-7810220AF9FB}" presName="spaceBetweenRectangles" presStyleCnt="0"/>
      <dgm:spPr/>
    </dgm:pt>
    <dgm:pt modelId="{6A0A5B1E-6A4B-4BF5-A009-69A903B0F6E0}" type="pres">
      <dgm:prSet presAssocID="{5BDA8C71-296F-4979-8121-1077BB08BA06}" presName="parentLin" presStyleCnt="0"/>
      <dgm:spPr/>
    </dgm:pt>
    <dgm:pt modelId="{AF7F76F5-DDD4-4E65-A694-1529C537D4C2}" type="pres">
      <dgm:prSet presAssocID="{5BDA8C71-296F-4979-8121-1077BB08BA06}" presName="parentLeftMargin" presStyleLbl="node1" presStyleIdx="5" presStyleCnt="16"/>
      <dgm:spPr/>
      <dgm:t>
        <a:bodyPr/>
        <a:lstStyle/>
        <a:p>
          <a:endParaRPr lang="zh-CN" altLang="en-US"/>
        </a:p>
      </dgm:t>
    </dgm:pt>
    <dgm:pt modelId="{D88BECAA-86B9-4794-8777-478AD6F4036C}" type="pres">
      <dgm:prSet presAssocID="{5BDA8C71-296F-4979-8121-1077BB08BA06}" presName="parentText" presStyleLbl="node1" presStyleIdx="6" presStyleCnt="16">
        <dgm:presLayoutVars>
          <dgm:chMax val="0"/>
          <dgm:bulletEnabled val="1"/>
        </dgm:presLayoutVars>
      </dgm:prSet>
      <dgm:spPr/>
      <dgm:t>
        <a:bodyPr/>
        <a:lstStyle/>
        <a:p>
          <a:endParaRPr lang="zh-CN" altLang="en-US"/>
        </a:p>
      </dgm:t>
    </dgm:pt>
    <dgm:pt modelId="{EF78DC30-A834-4560-8F41-19E23B1586EA}" type="pres">
      <dgm:prSet presAssocID="{5BDA8C71-296F-4979-8121-1077BB08BA06}" presName="negativeSpace" presStyleCnt="0"/>
      <dgm:spPr/>
    </dgm:pt>
    <dgm:pt modelId="{452A13A7-DF69-43D0-9AC0-5E60240B50E5}" type="pres">
      <dgm:prSet presAssocID="{5BDA8C71-296F-4979-8121-1077BB08BA06}" presName="childText" presStyleLbl="conFgAcc1" presStyleIdx="6" presStyleCnt="16">
        <dgm:presLayoutVars>
          <dgm:bulletEnabled val="1"/>
        </dgm:presLayoutVars>
      </dgm:prSet>
      <dgm:spPr/>
      <dgm:t>
        <a:bodyPr/>
        <a:lstStyle/>
        <a:p>
          <a:endParaRPr lang="zh-CN" altLang="en-US"/>
        </a:p>
      </dgm:t>
    </dgm:pt>
    <dgm:pt modelId="{56CEEF1E-9572-4776-87CE-DC5FC7B65FFB}" type="pres">
      <dgm:prSet presAssocID="{96519594-B96F-41D9-BB8A-53ADD222857B}" presName="spaceBetweenRectangles" presStyleCnt="0"/>
      <dgm:spPr/>
    </dgm:pt>
    <dgm:pt modelId="{A692F03C-AE0F-460F-8714-B7FD390BAE94}" type="pres">
      <dgm:prSet presAssocID="{DEC28E6B-0E2D-4D7A-912D-2F1089413019}" presName="parentLin" presStyleCnt="0"/>
      <dgm:spPr/>
    </dgm:pt>
    <dgm:pt modelId="{4F4E1487-B7A9-4E26-9C59-F38BBE374A19}" type="pres">
      <dgm:prSet presAssocID="{DEC28E6B-0E2D-4D7A-912D-2F1089413019}" presName="parentLeftMargin" presStyleLbl="node1" presStyleIdx="6" presStyleCnt="16"/>
      <dgm:spPr/>
      <dgm:t>
        <a:bodyPr/>
        <a:lstStyle/>
        <a:p>
          <a:endParaRPr lang="zh-CN" altLang="en-US"/>
        </a:p>
      </dgm:t>
    </dgm:pt>
    <dgm:pt modelId="{370407C8-1391-4FD9-9557-87AF60D5AB26}" type="pres">
      <dgm:prSet presAssocID="{DEC28E6B-0E2D-4D7A-912D-2F1089413019}" presName="parentText" presStyleLbl="node1" presStyleIdx="7" presStyleCnt="16">
        <dgm:presLayoutVars>
          <dgm:chMax val="0"/>
          <dgm:bulletEnabled val="1"/>
        </dgm:presLayoutVars>
      </dgm:prSet>
      <dgm:spPr/>
      <dgm:t>
        <a:bodyPr/>
        <a:lstStyle/>
        <a:p>
          <a:endParaRPr lang="zh-CN" altLang="en-US"/>
        </a:p>
      </dgm:t>
    </dgm:pt>
    <dgm:pt modelId="{1C086DBF-AF46-41EA-B395-685DBF494A3E}" type="pres">
      <dgm:prSet presAssocID="{DEC28E6B-0E2D-4D7A-912D-2F1089413019}" presName="negativeSpace" presStyleCnt="0"/>
      <dgm:spPr/>
    </dgm:pt>
    <dgm:pt modelId="{13A97048-02AB-40B2-9225-60A06691AEAA}" type="pres">
      <dgm:prSet presAssocID="{DEC28E6B-0E2D-4D7A-912D-2F1089413019}" presName="childText" presStyleLbl="conFgAcc1" presStyleIdx="7" presStyleCnt="16">
        <dgm:presLayoutVars>
          <dgm:bulletEnabled val="1"/>
        </dgm:presLayoutVars>
      </dgm:prSet>
      <dgm:spPr/>
      <dgm:t>
        <a:bodyPr/>
        <a:lstStyle/>
        <a:p>
          <a:endParaRPr lang="zh-CN" altLang="en-US"/>
        </a:p>
      </dgm:t>
    </dgm:pt>
    <dgm:pt modelId="{42F8B485-E867-4062-B1C3-D24B97E4025F}" type="pres">
      <dgm:prSet presAssocID="{DBB2770A-E139-4BF9-ACAC-10D58A8EF74B}" presName="spaceBetweenRectangles" presStyleCnt="0"/>
      <dgm:spPr/>
    </dgm:pt>
    <dgm:pt modelId="{A3A45BB9-0865-4485-872A-68B86CE4DB76}" type="pres">
      <dgm:prSet presAssocID="{C9E898A3-3EED-4605-AC0E-699A9E239A50}" presName="parentLin" presStyleCnt="0"/>
      <dgm:spPr/>
    </dgm:pt>
    <dgm:pt modelId="{AAE17E7C-505B-44A5-8824-D02D5DE84084}" type="pres">
      <dgm:prSet presAssocID="{C9E898A3-3EED-4605-AC0E-699A9E239A50}" presName="parentLeftMargin" presStyleLbl="node1" presStyleIdx="7" presStyleCnt="16"/>
      <dgm:spPr/>
      <dgm:t>
        <a:bodyPr/>
        <a:lstStyle/>
        <a:p>
          <a:endParaRPr lang="zh-CN" altLang="en-US"/>
        </a:p>
      </dgm:t>
    </dgm:pt>
    <dgm:pt modelId="{36C8C100-348D-40A0-8BE6-FF674F0AF2DE}" type="pres">
      <dgm:prSet presAssocID="{C9E898A3-3EED-4605-AC0E-699A9E239A50}" presName="parentText" presStyleLbl="node1" presStyleIdx="8" presStyleCnt="16">
        <dgm:presLayoutVars>
          <dgm:chMax val="0"/>
          <dgm:bulletEnabled val="1"/>
        </dgm:presLayoutVars>
      </dgm:prSet>
      <dgm:spPr/>
      <dgm:t>
        <a:bodyPr/>
        <a:lstStyle/>
        <a:p>
          <a:endParaRPr lang="zh-CN" altLang="en-US"/>
        </a:p>
      </dgm:t>
    </dgm:pt>
    <dgm:pt modelId="{718FB6AA-B41E-4FC4-988A-061BD71045EE}" type="pres">
      <dgm:prSet presAssocID="{C9E898A3-3EED-4605-AC0E-699A9E239A50}" presName="negativeSpace" presStyleCnt="0"/>
      <dgm:spPr/>
    </dgm:pt>
    <dgm:pt modelId="{0409EF26-FEF3-4405-B7D2-953BB1BA5E9C}" type="pres">
      <dgm:prSet presAssocID="{C9E898A3-3EED-4605-AC0E-699A9E239A50}" presName="childText" presStyleLbl="conFgAcc1" presStyleIdx="8" presStyleCnt="16">
        <dgm:presLayoutVars>
          <dgm:bulletEnabled val="1"/>
        </dgm:presLayoutVars>
      </dgm:prSet>
      <dgm:spPr/>
      <dgm:t>
        <a:bodyPr/>
        <a:lstStyle/>
        <a:p>
          <a:endParaRPr lang="zh-CN" altLang="en-US"/>
        </a:p>
      </dgm:t>
    </dgm:pt>
    <dgm:pt modelId="{FC71C343-FC4E-499F-9D7E-4E1D903DEE21}" type="pres">
      <dgm:prSet presAssocID="{DA299F6D-7D48-4243-B127-F6C90CEA5477}" presName="spaceBetweenRectangles" presStyleCnt="0"/>
      <dgm:spPr/>
    </dgm:pt>
    <dgm:pt modelId="{9D116D14-A54E-4AC2-A519-24B189E93EA3}" type="pres">
      <dgm:prSet presAssocID="{74EA246E-98AA-4F54-95D5-D578D47FCD13}" presName="parentLin" presStyleCnt="0"/>
      <dgm:spPr/>
    </dgm:pt>
    <dgm:pt modelId="{5A79498A-4800-4446-947D-6C938897A244}" type="pres">
      <dgm:prSet presAssocID="{74EA246E-98AA-4F54-95D5-D578D47FCD13}" presName="parentLeftMargin" presStyleLbl="node1" presStyleIdx="8" presStyleCnt="16"/>
      <dgm:spPr/>
      <dgm:t>
        <a:bodyPr/>
        <a:lstStyle/>
        <a:p>
          <a:endParaRPr lang="zh-CN" altLang="en-US"/>
        </a:p>
      </dgm:t>
    </dgm:pt>
    <dgm:pt modelId="{ED636ECD-F43A-4026-8106-4B98E55266F9}" type="pres">
      <dgm:prSet presAssocID="{74EA246E-98AA-4F54-95D5-D578D47FCD13}" presName="parentText" presStyleLbl="node1" presStyleIdx="9" presStyleCnt="16">
        <dgm:presLayoutVars>
          <dgm:chMax val="0"/>
          <dgm:bulletEnabled val="1"/>
        </dgm:presLayoutVars>
      </dgm:prSet>
      <dgm:spPr/>
      <dgm:t>
        <a:bodyPr/>
        <a:lstStyle/>
        <a:p>
          <a:endParaRPr lang="zh-CN" altLang="en-US"/>
        </a:p>
      </dgm:t>
    </dgm:pt>
    <dgm:pt modelId="{C2BBF99A-6899-4413-9D88-C1A9B7878543}" type="pres">
      <dgm:prSet presAssocID="{74EA246E-98AA-4F54-95D5-D578D47FCD13}" presName="negativeSpace" presStyleCnt="0"/>
      <dgm:spPr/>
    </dgm:pt>
    <dgm:pt modelId="{DEB3A97E-4F32-417D-8130-EB354B8360B1}" type="pres">
      <dgm:prSet presAssocID="{74EA246E-98AA-4F54-95D5-D578D47FCD13}" presName="childText" presStyleLbl="conFgAcc1" presStyleIdx="9" presStyleCnt="16">
        <dgm:presLayoutVars>
          <dgm:bulletEnabled val="1"/>
        </dgm:presLayoutVars>
      </dgm:prSet>
      <dgm:spPr/>
      <dgm:t>
        <a:bodyPr/>
        <a:lstStyle/>
        <a:p>
          <a:endParaRPr lang="zh-CN" altLang="en-US"/>
        </a:p>
      </dgm:t>
    </dgm:pt>
    <dgm:pt modelId="{88C97614-C003-4F8D-AFEF-C26EE9E3AC77}" type="pres">
      <dgm:prSet presAssocID="{80576C01-668E-4C7B-A534-6CE2370DBF7B}" presName="spaceBetweenRectangles" presStyleCnt="0"/>
      <dgm:spPr/>
    </dgm:pt>
    <dgm:pt modelId="{EFC00DB2-69D6-4F29-8D91-D1FEF7663E77}" type="pres">
      <dgm:prSet presAssocID="{A8541ABC-4FD1-4B37-8C0B-2440C7186539}" presName="parentLin" presStyleCnt="0"/>
      <dgm:spPr/>
    </dgm:pt>
    <dgm:pt modelId="{25527203-C498-45C3-A734-379AE2A3595A}" type="pres">
      <dgm:prSet presAssocID="{A8541ABC-4FD1-4B37-8C0B-2440C7186539}" presName="parentLeftMargin" presStyleLbl="node1" presStyleIdx="9" presStyleCnt="16"/>
      <dgm:spPr/>
      <dgm:t>
        <a:bodyPr/>
        <a:lstStyle/>
        <a:p>
          <a:endParaRPr lang="zh-CN" altLang="en-US"/>
        </a:p>
      </dgm:t>
    </dgm:pt>
    <dgm:pt modelId="{B7823A1F-B734-422B-8ABE-ADBA2AB692FA}" type="pres">
      <dgm:prSet presAssocID="{A8541ABC-4FD1-4B37-8C0B-2440C7186539}" presName="parentText" presStyleLbl="node1" presStyleIdx="10" presStyleCnt="16">
        <dgm:presLayoutVars>
          <dgm:chMax val="0"/>
          <dgm:bulletEnabled val="1"/>
        </dgm:presLayoutVars>
      </dgm:prSet>
      <dgm:spPr/>
      <dgm:t>
        <a:bodyPr/>
        <a:lstStyle/>
        <a:p>
          <a:endParaRPr lang="zh-CN" altLang="en-US"/>
        </a:p>
      </dgm:t>
    </dgm:pt>
    <dgm:pt modelId="{ABFC5EF7-0BCE-4CB7-9522-2ACEE3B5F501}" type="pres">
      <dgm:prSet presAssocID="{A8541ABC-4FD1-4B37-8C0B-2440C7186539}" presName="negativeSpace" presStyleCnt="0"/>
      <dgm:spPr/>
    </dgm:pt>
    <dgm:pt modelId="{9B03B26D-F009-4086-BD31-2AEAFD444E62}" type="pres">
      <dgm:prSet presAssocID="{A8541ABC-4FD1-4B37-8C0B-2440C7186539}" presName="childText" presStyleLbl="conFgAcc1" presStyleIdx="10" presStyleCnt="16">
        <dgm:presLayoutVars>
          <dgm:bulletEnabled val="1"/>
        </dgm:presLayoutVars>
      </dgm:prSet>
      <dgm:spPr/>
      <dgm:t>
        <a:bodyPr/>
        <a:lstStyle/>
        <a:p>
          <a:endParaRPr lang="zh-CN" altLang="en-US"/>
        </a:p>
      </dgm:t>
    </dgm:pt>
    <dgm:pt modelId="{354C408F-BB2D-4272-B340-69DA17F3BD99}" type="pres">
      <dgm:prSet presAssocID="{B074AC75-C345-44E7-B062-82940C64A6A5}" presName="spaceBetweenRectangles" presStyleCnt="0"/>
      <dgm:spPr/>
    </dgm:pt>
    <dgm:pt modelId="{75283A0E-F389-4681-85E0-D2B0A38083B3}" type="pres">
      <dgm:prSet presAssocID="{C8E6DC84-12C4-4733-8DEE-7DD5AAF0F89F}" presName="parentLin" presStyleCnt="0"/>
      <dgm:spPr/>
    </dgm:pt>
    <dgm:pt modelId="{27FF6C95-181E-46A0-97B6-A26BC1DF1150}" type="pres">
      <dgm:prSet presAssocID="{C8E6DC84-12C4-4733-8DEE-7DD5AAF0F89F}" presName="parentLeftMargin" presStyleLbl="node1" presStyleIdx="10" presStyleCnt="16"/>
      <dgm:spPr/>
      <dgm:t>
        <a:bodyPr/>
        <a:lstStyle/>
        <a:p>
          <a:endParaRPr lang="zh-CN" altLang="en-US"/>
        </a:p>
      </dgm:t>
    </dgm:pt>
    <dgm:pt modelId="{84B4A16B-1444-46EA-84E4-781F5353EC04}" type="pres">
      <dgm:prSet presAssocID="{C8E6DC84-12C4-4733-8DEE-7DD5AAF0F89F}" presName="parentText" presStyleLbl="node1" presStyleIdx="11" presStyleCnt="16">
        <dgm:presLayoutVars>
          <dgm:chMax val="0"/>
          <dgm:bulletEnabled val="1"/>
        </dgm:presLayoutVars>
      </dgm:prSet>
      <dgm:spPr/>
      <dgm:t>
        <a:bodyPr/>
        <a:lstStyle/>
        <a:p>
          <a:endParaRPr lang="zh-CN" altLang="en-US"/>
        </a:p>
      </dgm:t>
    </dgm:pt>
    <dgm:pt modelId="{207CC047-4632-4C92-9BEA-BF33C5073C3D}" type="pres">
      <dgm:prSet presAssocID="{C8E6DC84-12C4-4733-8DEE-7DD5AAF0F89F}" presName="negativeSpace" presStyleCnt="0"/>
      <dgm:spPr/>
    </dgm:pt>
    <dgm:pt modelId="{232357A8-4C16-4EAC-A6F3-B579D2BA91E8}" type="pres">
      <dgm:prSet presAssocID="{C8E6DC84-12C4-4733-8DEE-7DD5AAF0F89F}" presName="childText" presStyleLbl="conFgAcc1" presStyleIdx="11" presStyleCnt="16">
        <dgm:presLayoutVars>
          <dgm:bulletEnabled val="1"/>
        </dgm:presLayoutVars>
      </dgm:prSet>
      <dgm:spPr/>
      <dgm:t>
        <a:bodyPr/>
        <a:lstStyle/>
        <a:p>
          <a:endParaRPr lang="zh-CN" altLang="en-US"/>
        </a:p>
      </dgm:t>
    </dgm:pt>
    <dgm:pt modelId="{D4F347AA-8F4A-4EDE-A8F2-E6E3CE5BE0CD}" type="pres">
      <dgm:prSet presAssocID="{42138719-FE6D-4586-8936-83B63213823C}" presName="spaceBetweenRectangles" presStyleCnt="0"/>
      <dgm:spPr/>
    </dgm:pt>
    <dgm:pt modelId="{54F7A63F-FDAC-4816-86AB-0824B6E743C5}" type="pres">
      <dgm:prSet presAssocID="{9B997B34-221D-4496-A1C8-A439AE736903}" presName="parentLin" presStyleCnt="0"/>
      <dgm:spPr/>
    </dgm:pt>
    <dgm:pt modelId="{525DADCF-CDE5-4EE8-AE46-3F8D08D21E52}" type="pres">
      <dgm:prSet presAssocID="{9B997B34-221D-4496-A1C8-A439AE736903}" presName="parentLeftMargin" presStyleLbl="node1" presStyleIdx="11" presStyleCnt="16"/>
      <dgm:spPr/>
      <dgm:t>
        <a:bodyPr/>
        <a:lstStyle/>
        <a:p>
          <a:endParaRPr lang="zh-CN" altLang="en-US"/>
        </a:p>
      </dgm:t>
    </dgm:pt>
    <dgm:pt modelId="{C4BD8598-E35E-49CB-9751-094BA715F9D4}" type="pres">
      <dgm:prSet presAssocID="{9B997B34-221D-4496-A1C8-A439AE736903}" presName="parentText" presStyleLbl="node1" presStyleIdx="12" presStyleCnt="16">
        <dgm:presLayoutVars>
          <dgm:chMax val="0"/>
          <dgm:bulletEnabled val="1"/>
        </dgm:presLayoutVars>
      </dgm:prSet>
      <dgm:spPr/>
      <dgm:t>
        <a:bodyPr/>
        <a:lstStyle/>
        <a:p>
          <a:endParaRPr lang="zh-CN" altLang="en-US"/>
        </a:p>
      </dgm:t>
    </dgm:pt>
    <dgm:pt modelId="{0E0128C2-28BC-41E9-85C6-B878FD8660D1}" type="pres">
      <dgm:prSet presAssocID="{9B997B34-221D-4496-A1C8-A439AE736903}" presName="negativeSpace" presStyleCnt="0"/>
      <dgm:spPr/>
    </dgm:pt>
    <dgm:pt modelId="{80C0C129-3E79-493B-87D5-018B38203BAE}" type="pres">
      <dgm:prSet presAssocID="{9B997B34-221D-4496-A1C8-A439AE736903}" presName="childText" presStyleLbl="conFgAcc1" presStyleIdx="12" presStyleCnt="16">
        <dgm:presLayoutVars>
          <dgm:bulletEnabled val="1"/>
        </dgm:presLayoutVars>
      </dgm:prSet>
      <dgm:spPr/>
      <dgm:t>
        <a:bodyPr/>
        <a:lstStyle/>
        <a:p>
          <a:endParaRPr lang="zh-CN" altLang="en-US"/>
        </a:p>
      </dgm:t>
    </dgm:pt>
    <dgm:pt modelId="{817F92ED-A834-417B-9945-6995537BC29D}" type="pres">
      <dgm:prSet presAssocID="{BD5A5068-F8C8-4882-B01F-B89B4ED7EAB1}" presName="spaceBetweenRectangles" presStyleCnt="0"/>
      <dgm:spPr/>
    </dgm:pt>
    <dgm:pt modelId="{2F1CAE23-14ED-42E2-8112-AA7A9505354B}" type="pres">
      <dgm:prSet presAssocID="{A4672CAE-D0E2-488D-89C8-C0E8F96F0EF3}" presName="parentLin" presStyleCnt="0"/>
      <dgm:spPr/>
    </dgm:pt>
    <dgm:pt modelId="{590897A8-4AD6-4C9E-B83B-97CA3188EE23}" type="pres">
      <dgm:prSet presAssocID="{A4672CAE-D0E2-488D-89C8-C0E8F96F0EF3}" presName="parentLeftMargin" presStyleLbl="node1" presStyleIdx="12" presStyleCnt="16"/>
      <dgm:spPr/>
      <dgm:t>
        <a:bodyPr/>
        <a:lstStyle/>
        <a:p>
          <a:endParaRPr lang="zh-CN" altLang="en-US"/>
        </a:p>
      </dgm:t>
    </dgm:pt>
    <dgm:pt modelId="{D6835FFC-553C-489F-B730-2382417A3A59}" type="pres">
      <dgm:prSet presAssocID="{A4672CAE-D0E2-488D-89C8-C0E8F96F0EF3}" presName="parentText" presStyleLbl="node1" presStyleIdx="13" presStyleCnt="16">
        <dgm:presLayoutVars>
          <dgm:chMax val="0"/>
          <dgm:bulletEnabled val="1"/>
        </dgm:presLayoutVars>
      </dgm:prSet>
      <dgm:spPr/>
      <dgm:t>
        <a:bodyPr/>
        <a:lstStyle/>
        <a:p>
          <a:endParaRPr lang="zh-CN" altLang="en-US"/>
        </a:p>
      </dgm:t>
    </dgm:pt>
    <dgm:pt modelId="{A2299556-2B67-4311-AC15-DA00EA4118F2}" type="pres">
      <dgm:prSet presAssocID="{A4672CAE-D0E2-488D-89C8-C0E8F96F0EF3}" presName="negativeSpace" presStyleCnt="0"/>
      <dgm:spPr/>
    </dgm:pt>
    <dgm:pt modelId="{4AD75E93-CFCF-4FB1-AD20-52BA80041ECB}" type="pres">
      <dgm:prSet presAssocID="{A4672CAE-D0E2-488D-89C8-C0E8F96F0EF3}" presName="childText" presStyleLbl="conFgAcc1" presStyleIdx="13" presStyleCnt="16">
        <dgm:presLayoutVars>
          <dgm:bulletEnabled val="1"/>
        </dgm:presLayoutVars>
      </dgm:prSet>
      <dgm:spPr/>
      <dgm:t>
        <a:bodyPr/>
        <a:lstStyle/>
        <a:p>
          <a:endParaRPr lang="zh-CN" altLang="en-US"/>
        </a:p>
      </dgm:t>
    </dgm:pt>
    <dgm:pt modelId="{1A8363CF-3BF3-4CAC-A21D-2C2F05911418}" type="pres">
      <dgm:prSet presAssocID="{FD769867-DD88-469F-AB33-CE9193537472}" presName="spaceBetweenRectangles" presStyleCnt="0"/>
      <dgm:spPr/>
    </dgm:pt>
    <dgm:pt modelId="{56BCD260-BBDC-4210-9A64-30649DC47AFA}" type="pres">
      <dgm:prSet presAssocID="{8BC7E0D7-671F-419E-9F6F-D63F9A7D8503}" presName="parentLin" presStyleCnt="0"/>
      <dgm:spPr/>
    </dgm:pt>
    <dgm:pt modelId="{03B18BD3-AB98-47BF-B568-E8F4D8084EA1}" type="pres">
      <dgm:prSet presAssocID="{8BC7E0D7-671F-419E-9F6F-D63F9A7D8503}" presName="parentLeftMargin" presStyleLbl="node1" presStyleIdx="13" presStyleCnt="16"/>
      <dgm:spPr/>
      <dgm:t>
        <a:bodyPr/>
        <a:lstStyle/>
        <a:p>
          <a:endParaRPr lang="zh-CN" altLang="en-US"/>
        </a:p>
      </dgm:t>
    </dgm:pt>
    <dgm:pt modelId="{5AEC349D-0BAD-4435-AB5B-0C0F674B6AEF}" type="pres">
      <dgm:prSet presAssocID="{8BC7E0D7-671F-419E-9F6F-D63F9A7D8503}" presName="parentText" presStyleLbl="node1" presStyleIdx="14" presStyleCnt="16">
        <dgm:presLayoutVars>
          <dgm:chMax val="0"/>
          <dgm:bulletEnabled val="1"/>
        </dgm:presLayoutVars>
      </dgm:prSet>
      <dgm:spPr/>
      <dgm:t>
        <a:bodyPr/>
        <a:lstStyle/>
        <a:p>
          <a:endParaRPr lang="zh-CN" altLang="en-US"/>
        </a:p>
      </dgm:t>
    </dgm:pt>
    <dgm:pt modelId="{CE420BE9-7896-4224-B8C7-6394456D2A33}" type="pres">
      <dgm:prSet presAssocID="{8BC7E0D7-671F-419E-9F6F-D63F9A7D8503}" presName="negativeSpace" presStyleCnt="0"/>
      <dgm:spPr/>
    </dgm:pt>
    <dgm:pt modelId="{C81B069E-D033-4F78-BACE-5F1A1EB362C7}" type="pres">
      <dgm:prSet presAssocID="{8BC7E0D7-671F-419E-9F6F-D63F9A7D8503}" presName="childText" presStyleLbl="conFgAcc1" presStyleIdx="14" presStyleCnt="16">
        <dgm:presLayoutVars>
          <dgm:bulletEnabled val="1"/>
        </dgm:presLayoutVars>
      </dgm:prSet>
      <dgm:spPr/>
      <dgm:t>
        <a:bodyPr/>
        <a:lstStyle/>
        <a:p>
          <a:endParaRPr lang="zh-CN" altLang="en-US"/>
        </a:p>
      </dgm:t>
    </dgm:pt>
    <dgm:pt modelId="{FCFCE7F1-F25C-446E-9C82-849585E625CC}" type="pres">
      <dgm:prSet presAssocID="{730B37F8-9D69-4188-A816-B3AAAFDA4F6C}" presName="spaceBetweenRectangles" presStyleCnt="0"/>
      <dgm:spPr/>
    </dgm:pt>
    <dgm:pt modelId="{CB835BF8-5A95-4C30-806F-6A393705025E}" type="pres">
      <dgm:prSet presAssocID="{D3828330-15A8-4EF7-A4B7-BDF54B622464}" presName="parentLin" presStyleCnt="0"/>
      <dgm:spPr/>
    </dgm:pt>
    <dgm:pt modelId="{2C061E25-503B-440C-87C9-D336C48D3A2B}" type="pres">
      <dgm:prSet presAssocID="{D3828330-15A8-4EF7-A4B7-BDF54B622464}" presName="parentLeftMargin" presStyleLbl="node1" presStyleIdx="14" presStyleCnt="16"/>
      <dgm:spPr/>
      <dgm:t>
        <a:bodyPr/>
        <a:lstStyle/>
        <a:p>
          <a:endParaRPr lang="zh-CN" altLang="en-US"/>
        </a:p>
      </dgm:t>
    </dgm:pt>
    <dgm:pt modelId="{9A6C1276-CCF5-4947-A94B-41E17741E0BD}" type="pres">
      <dgm:prSet presAssocID="{D3828330-15A8-4EF7-A4B7-BDF54B622464}" presName="parentText" presStyleLbl="node1" presStyleIdx="15" presStyleCnt="16">
        <dgm:presLayoutVars>
          <dgm:chMax val="0"/>
          <dgm:bulletEnabled val="1"/>
        </dgm:presLayoutVars>
      </dgm:prSet>
      <dgm:spPr/>
      <dgm:t>
        <a:bodyPr/>
        <a:lstStyle/>
        <a:p>
          <a:endParaRPr lang="zh-CN" altLang="en-US"/>
        </a:p>
      </dgm:t>
    </dgm:pt>
    <dgm:pt modelId="{D72F0017-55A4-45C3-A2FE-C27E3534C784}" type="pres">
      <dgm:prSet presAssocID="{D3828330-15A8-4EF7-A4B7-BDF54B622464}" presName="negativeSpace" presStyleCnt="0"/>
      <dgm:spPr/>
    </dgm:pt>
    <dgm:pt modelId="{5A53EC70-4FBF-4D04-9FD1-7CDC155E5906}" type="pres">
      <dgm:prSet presAssocID="{D3828330-15A8-4EF7-A4B7-BDF54B622464}" presName="childText" presStyleLbl="conFgAcc1" presStyleIdx="15" presStyleCnt="16">
        <dgm:presLayoutVars>
          <dgm:bulletEnabled val="1"/>
        </dgm:presLayoutVars>
      </dgm:prSet>
      <dgm:spPr/>
      <dgm:t>
        <a:bodyPr/>
        <a:lstStyle/>
        <a:p>
          <a:endParaRPr lang="zh-CN" altLang="en-US"/>
        </a:p>
      </dgm:t>
    </dgm:pt>
  </dgm:ptLst>
  <dgm:cxnLst>
    <dgm:cxn modelId="{C17B9C4C-69F9-4D83-BD55-8BD7CB65680B}" type="presOf" srcId="{5BDA8C71-296F-4979-8121-1077BB08BA06}" destId="{AF7F76F5-DDD4-4E65-A694-1529C537D4C2}" srcOrd="0" destOrd="0" presId="urn:microsoft.com/office/officeart/2005/8/layout/list1"/>
    <dgm:cxn modelId="{ED3FF32E-4AC1-4ADA-9282-9C29521A4278}" type="presOf" srcId="{DEC28E6B-0E2D-4D7A-912D-2F1089413019}" destId="{4F4E1487-B7A9-4E26-9C59-F38BBE374A19}" srcOrd="0" destOrd="0" presId="urn:microsoft.com/office/officeart/2005/8/layout/list1"/>
    <dgm:cxn modelId="{ECCC08E5-E753-4AF9-AC29-B57EEB655E46}" type="presOf" srcId="{38A9E041-478D-4E22-8588-3F8D5E009553}" destId="{6FA8E29D-B607-4136-BE57-C911DC7D1E2E}" srcOrd="0" destOrd="0" presId="urn:microsoft.com/office/officeart/2005/8/layout/list1"/>
    <dgm:cxn modelId="{0EF7A7A4-C562-43F7-905E-3283C9139745}" srcId="{D2CA7D92-4399-425E-AE63-0FCFB5C276F9}" destId="{5BDA8C71-296F-4979-8121-1077BB08BA06}" srcOrd="6" destOrd="0" parTransId="{4A658166-19E6-4C6B-ACAC-1F49557A6BE2}" sibTransId="{96519594-B96F-41D9-BB8A-53ADD222857B}"/>
    <dgm:cxn modelId="{1A915933-09BC-4E93-9D93-02D6C3CB6A2E}" type="presOf" srcId="{5BDA8C71-296F-4979-8121-1077BB08BA06}" destId="{D88BECAA-86B9-4794-8777-478AD6F4036C}" srcOrd="1" destOrd="0" presId="urn:microsoft.com/office/officeart/2005/8/layout/list1"/>
    <dgm:cxn modelId="{8D99614D-EB0C-489B-99D0-E1FC152E5EC5}" type="presOf" srcId="{A4672CAE-D0E2-488D-89C8-C0E8F96F0EF3}" destId="{590897A8-4AD6-4C9E-B83B-97CA3188EE23}" srcOrd="0" destOrd="0" presId="urn:microsoft.com/office/officeart/2005/8/layout/list1"/>
    <dgm:cxn modelId="{B3897DB7-1925-4033-BA6B-5F5371355833}" srcId="{74EA246E-98AA-4F54-95D5-D578D47FCD13}" destId="{EA5B0946-F626-4646-AEAE-31C4CF2385A0}" srcOrd="0" destOrd="0" parTransId="{3D852928-74B2-4CEE-BDAB-48A38AF29726}" sibTransId="{439ECB5B-6E2A-4F5F-80CF-8106B513F4C8}"/>
    <dgm:cxn modelId="{CF1FA157-7B5E-45F9-9292-2A5348E8D1C6}" type="presOf" srcId="{17527FEC-70F7-4888-A1DB-53EF1720928F}" destId="{4AD75E93-CFCF-4FB1-AD20-52BA80041ECB}" srcOrd="0" destOrd="0" presId="urn:microsoft.com/office/officeart/2005/8/layout/list1"/>
    <dgm:cxn modelId="{3137077E-0D13-4E20-8932-8BB9BC32A005}" type="presOf" srcId="{74EA246E-98AA-4F54-95D5-D578D47FCD13}" destId="{5A79498A-4800-4446-947D-6C938897A244}" srcOrd="0" destOrd="0" presId="urn:microsoft.com/office/officeart/2005/8/layout/list1"/>
    <dgm:cxn modelId="{241F91F7-7DF6-433E-BE1F-CC49B63ABAC1}" srcId="{10D5D77E-553E-4534-8610-E1A9FB67012B}" destId="{EF9F1205-2B7C-4B09-BA84-B735EDEE727E}" srcOrd="0" destOrd="0" parTransId="{15D0545E-F4CC-435A-8259-A5D212FC2048}" sibTransId="{B0F70955-FE1E-46CE-9449-C532BBE44564}"/>
    <dgm:cxn modelId="{2A85060B-696C-4773-B97B-41F8E6C98E7E}" type="presOf" srcId="{8BC7E0D7-671F-419E-9F6F-D63F9A7D8503}" destId="{5AEC349D-0BAD-4435-AB5B-0C0F674B6AEF}" srcOrd="1" destOrd="0" presId="urn:microsoft.com/office/officeart/2005/8/layout/list1"/>
    <dgm:cxn modelId="{6F430587-5258-4244-BB57-B0C7096B369A}" srcId="{9B997B34-221D-4496-A1C8-A439AE736903}" destId="{848A4253-6D56-45DF-B4FF-CD09F5A2E1FB}" srcOrd="0" destOrd="0" parTransId="{8687D66E-5597-4865-9E48-4E719DEF25FA}" sibTransId="{73D906F3-FCA3-4DC6-B9D3-C5A0128831D1}"/>
    <dgm:cxn modelId="{CD772224-E2DF-4F98-9928-306F86D65D2D}" type="presOf" srcId="{E75BA8DE-AAD6-45B5-AB29-299B0B1B2292}" destId="{B3658B12-B8B9-4873-8247-7DF23FBE38A4}" srcOrd="1" destOrd="0" presId="urn:microsoft.com/office/officeart/2005/8/layout/list1"/>
    <dgm:cxn modelId="{E126C3E3-2DA2-43B6-997F-F2AE7DCEE782}" srcId="{D2CA7D92-4399-425E-AE63-0FCFB5C276F9}" destId="{C8E6DC84-12C4-4733-8DEE-7DD5AAF0F89F}" srcOrd="11" destOrd="0" parTransId="{831E784C-C0B5-492A-9A1E-40934F97AAA3}" sibTransId="{42138719-FE6D-4586-8936-83B63213823C}"/>
    <dgm:cxn modelId="{A5B8A234-8544-4A5F-B4AC-59CD76AA4B36}" type="presOf" srcId="{8BC7E0D7-671F-419E-9F6F-D63F9A7D8503}" destId="{03B18BD3-AB98-47BF-B568-E8F4D8084EA1}" srcOrd="0" destOrd="0" presId="urn:microsoft.com/office/officeart/2005/8/layout/list1"/>
    <dgm:cxn modelId="{52490600-6072-43FF-B3B6-A54D1418D30B}" type="presOf" srcId="{C8E6DC84-12C4-4733-8DEE-7DD5AAF0F89F}" destId="{84B4A16B-1444-46EA-84E4-781F5353EC04}" srcOrd="1" destOrd="0" presId="urn:microsoft.com/office/officeart/2005/8/layout/list1"/>
    <dgm:cxn modelId="{BE39281E-1FC8-4376-9BB8-755751614272}" type="presOf" srcId="{EF9F1205-2B7C-4B09-BA84-B735EDEE727E}" destId="{380D6C35-0EB3-4DE9-9AEE-9EA535447E4E}" srcOrd="0" destOrd="0" presId="urn:microsoft.com/office/officeart/2005/8/layout/list1"/>
    <dgm:cxn modelId="{25E9A3E7-4699-4CC1-AB40-DD518D0E3CE9}" type="presOf" srcId="{DEC28E6B-0E2D-4D7A-912D-2F1089413019}" destId="{370407C8-1391-4FD9-9557-87AF60D5AB26}" srcOrd="1" destOrd="0" presId="urn:microsoft.com/office/officeart/2005/8/layout/list1"/>
    <dgm:cxn modelId="{C550A9F1-707D-4D49-A15A-9F177E31E202}" type="presOf" srcId="{DB4B8B24-D253-4025-9D7A-1250CFF4DC7F}" destId="{3CB48B57-56B9-4E73-9821-9364303DEECD}" srcOrd="0" destOrd="0" presId="urn:microsoft.com/office/officeart/2005/8/layout/list1"/>
    <dgm:cxn modelId="{ADD61CDA-17F0-4386-9EDF-731056C49F06}" type="presOf" srcId="{9B997B34-221D-4496-A1C8-A439AE736903}" destId="{C4BD8598-E35E-49CB-9751-094BA715F9D4}" srcOrd="1" destOrd="0" presId="urn:microsoft.com/office/officeart/2005/8/layout/list1"/>
    <dgm:cxn modelId="{82140446-E78D-4909-A324-810DCCC34620}" type="presOf" srcId="{3C2077DF-600C-48D3-A751-60DB855AEDA7}" destId="{452A13A7-DF69-43D0-9AC0-5E60240B50E5}" srcOrd="0" destOrd="0" presId="urn:microsoft.com/office/officeart/2005/8/layout/list1"/>
    <dgm:cxn modelId="{E215D431-228F-47D1-A5EA-9C7FDAB9C4F4}" srcId="{D2CA7D92-4399-425E-AE63-0FCFB5C276F9}" destId="{8BC7E0D7-671F-419E-9F6F-D63F9A7D8503}" srcOrd="14" destOrd="0" parTransId="{DA9B3587-0A6E-49D9-A840-8AD1FF567A82}" sibTransId="{730B37F8-9D69-4188-A816-B3AAAFDA4F6C}"/>
    <dgm:cxn modelId="{571266F3-A77A-404A-BB1B-06BA22368C2E}" srcId="{D2CA7D92-4399-425E-AE63-0FCFB5C276F9}" destId="{E75BA8DE-AAD6-45B5-AB29-299B0B1B2292}" srcOrd="5" destOrd="0" parTransId="{BFB5255E-3473-49BD-B422-BB4FF7A20B45}" sibTransId="{BB8ADA45-910F-4533-86BD-7810220AF9FB}"/>
    <dgm:cxn modelId="{1D14139F-65E9-4BA6-8202-6D089DE5ABF1}" srcId="{E75BA8DE-AAD6-45B5-AB29-299B0B1B2292}" destId="{DBBFB24E-E301-4AD8-BE6C-325D17588F5C}" srcOrd="0" destOrd="0" parTransId="{A7CBD04D-7184-4B86-A2CB-177D9C882191}" sibTransId="{115C74DA-8A9C-4422-9330-741B9EB86E63}"/>
    <dgm:cxn modelId="{D8C3F4F2-CC91-45CD-B7FA-E4C6E1E161AC}" type="presOf" srcId="{F51B1F1B-430D-4C93-B5D0-549A2F55C06C}" destId="{60DE0B1A-82FC-4334-AB59-9F7AE40FEDDE}" srcOrd="0" destOrd="0" presId="urn:microsoft.com/office/officeart/2005/8/layout/list1"/>
    <dgm:cxn modelId="{1C9DBC89-CD53-4C1E-98C0-3AD39A08B207}" srcId="{8BC7E0D7-671F-419E-9F6F-D63F9A7D8503}" destId="{B3F776D7-BF3C-4B24-A307-1E7E793D7C98}" srcOrd="0" destOrd="0" parTransId="{B680E064-3AD4-488A-8F31-A2B0D89D3B1D}" sibTransId="{D48E2810-3E9B-4649-9DFB-3BAD46A23A3A}"/>
    <dgm:cxn modelId="{B801EDD8-AC9C-441E-8494-A15483C80BE3}" srcId="{A4672CAE-D0E2-488D-89C8-C0E8F96F0EF3}" destId="{17527FEC-70F7-4888-A1DB-53EF1720928F}" srcOrd="0" destOrd="0" parTransId="{FF2DB0B2-1294-4E69-9712-DB7FB8C3D6F1}" sibTransId="{14D25C3E-989B-40F7-8D90-8A8CF4245BFD}"/>
    <dgm:cxn modelId="{955D35FA-F1F8-4A21-9C4D-722B3D700CBC}" srcId="{0FB44C27-8C45-4946-B619-930DEABDC5A6}" destId="{DB4B8B24-D253-4025-9D7A-1250CFF4DC7F}" srcOrd="0" destOrd="0" parTransId="{596589D1-FBEB-4B7D-8CFA-6655830487F6}" sibTransId="{1B68AE4A-8C7D-488D-8260-3B170B59D819}"/>
    <dgm:cxn modelId="{212E3FDE-8250-4756-B472-71BA982E3124}" type="presOf" srcId="{B3F776D7-BF3C-4B24-A307-1E7E793D7C98}" destId="{C81B069E-D033-4F78-BACE-5F1A1EB362C7}" srcOrd="0" destOrd="0" presId="urn:microsoft.com/office/officeart/2005/8/layout/list1"/>
    <dgm:cxn modelId="{88D1906C-DFC9-4121-ADD9-3FBD646A591E}" srcId="{D2CA7D92-4399-425E-AE63-0FCFB5C276F9}" destId="{617E2F3B-5A85-44E0-982A-5E6A7F810295}" srcOrd="1" destOrd="0" parTransId="{C85A4FD0-73F4-4CA5-82DC-00A15264327B}" sibTransId="{400147E1-37A4-4BD0-8432-84DE43294855}"/>
    <dgm:cxn modelId="{1F6E75B3-2A7F-4A6A-8556-92445C9AB511}" srcId="{DB81F5B8-16FE-474B-8B88-AA74B4FB9853}" destId="{48744035-F9AE-41EA-812B-1A31C83FA82F}" srcOrd="0" destOrd="0" parTransId="{F30E956D-6B18-4CD7-99D1-5DB4EFBFB177}" sibTransId="{75D0FFB2-142C-456C-A871-C0AE186F2011}"/>
    <dgm:cxn modelId="{B3A97D21-0E65-4886-B813-E73033F05186}" type="presOf" srcId="{72CDB0F0-8D1A-4BC8-A84A-F954B51C6B80}" destId="{0409EF26-FEF3-4405-B7D2-953BB1BA5E9C}" srcOrd="0" destOrd="0" presId="urn:microsoft.com/office/officeart/2005/8/layout/list1"/>
    <dgm:cxn modelId="{67DE49D1-9C79-4D7B-83FF-CFB98FD343BF}" type="presOf" srcId="{DBBFB24E-E301-4AD8-BE6C-325D17588F5C}" destId="{83BD41D9-D555-4B6E-AF88-6135876BAD11}" srcOrd="0" destOrd="0" presId="urn:microsoft.com/office/officeart/2005/8/layout/list1"/>
    <dgm:cxn modelId="{ECC4787C-40D3-4319-B84D-7CD769DDDC4E}" type="presOf" srcId="{9B997B34-221D-4496-A1C8-A439AE736903}" destId="{525DADCF-CDE5-4EE8-AE46-3F8D08D21E52}" srcOrd="0" destOrd="0" presId="urn:microsoft.com/office/officeart/2005/8/layout/list1"/>
    <dgm:cxn modelId="{DB9A63D1-D0FF-471A-9426-B8E89E7F349A}" type="presOf" srcId="{74EA246E-98AA-4F54-95D5-D578D47FCD13}" destId="{ED636ECD-F43A-4026-8106-4B98E55266F9}" srcOrd="1" destOrd="0" presId="urn:microsoft.com/office/officeart/2005/8/layout/list1"/>
    <dgm:cxn modelId="{13FBE369-E894-43E7-972B-4AAF896DCFBF}" srcId="{DEC28E6B-0E2D-4D7A-912D-2F1089413019}" destId="{20B3D191-3E55-4C08-AB56-9A609A6FE0DE}" srcOrd="0" destOrd="0" parTransId="{4C97A90C-76A8-40EE-B125-F83DB2992C6E}" sibTransId="{E5B74F47-2577-460E-A075-B961D2C33C73}"/>
    <dgm:cxn modelId="{C6ED93FB-E2FC-4646-A257-DE63809676C3}" type="presOf" srcId="{D2CA7D92-4399-425E-AE63-0FCFB5C276F9}" destId="{18F6336F-7BCE-4053-8D12-1F0F9E31E0A4}" srcOrd="0" destOrd="0" presId="urn:microsoft.com/office/officeart/2005/8/layout/list1"/>
    <dgm:cxn modelId="{4DA76669-E2F5-4ADE-A173-314A93F872CD}" type="presOf" srcId="{523BADAC-B332-43C3-BB0D-02A427A4DEFC}" destId="{DA7A3EF9-CB5B-47EB-A111-A0F4E28DEA62}" srcOrd="1" destOrd="0" presId="urn:microsoft.com/office/officeart/2005/8/layout/list1"/>
    <dgm:cxn modelId="{641819CF-111F-4F2A-9EF7-CB2E3C568D34}" srcId="{617E2F3B-5A85-44E0-982A-5E6A7F810295}" destId="{F51B1F1B-430D-4C93-B5D0-549A2F55C06C}" srcOrd="0" destOrd="0" parTransId="{3C019BC6-F7A2-4D55-9BC2-82E705840216}" sibTransId="{72A25E32-12EB-4B64-AE9D-2EEDCDFD2254}"/>
    <dgm:cxn modelId="{97A61949-00D9-4EE9-9DC7-2F012FF5FC46}" type="presOf" srcId="{C1774E7D-9FF5-4CDB-99F9-9EA58C8B7753}" destId="{5A53EC70-4FBF-4D04-9FD1-7CDC155E5906}" srcOrd="0" destOrd="0" presId="urn:microsoft.com/office/officeart/2005/8/layout/list1"/>
    <dgm:cxn modelId="{2CC10D95-7203-4586-B6D8-5BC0DB3A83BE}" srcId="{D2CA7D92-4399-425E-AE63-0FCFB5C276F9}" destId="{D3828330-15A8-4EF7-A4B7-BDF54B622464}" srcOrd="15" destOrd="0" parTransId="{F92B04FF-9E9B-44FE-8EB2-E7480C4EB780}" sibTransId="{3647305F-960F-4701-9A54-C04E56F9240B}"/>
    <dgm:cxn modelId="{9AF81157-14F7-4CA4-9B39-E505B71E58C9}" type="presOf" srcId="{E75BA8DE-AAD6-45B5-AB29-299B0B1B2292}" destId="{A44F3274-8AF4-4DE6-BD1F-4F6601F7F69B}" srcOrd="0" destOrd="0" presId="urn:microsoft.com/office/officeart/2005/8/layout/list1"/>
    <dgm:cxn modelId="{0234516F-8742-43E7-A093-A233A5F039A0}" srcId="{D2CA7D92-4399-425E-AE63-0FCFB5C276F9}" destId="{523BADAC-B332-43C3-BB0D-02A427A4DEFC}" srcOrd="4" destOrd="0" parTransId="{2FC4D0F8-DEDF-4BCE-BF80-67E4B427C896}" sibTransId="{EF3F3CAE-D39D-441B-B8C7-915283B34055}"/>
    <dgm:cxn modelId="{CDFFF2F2-C8B0-4392-86BE-AA94FDE289E5}" srcId="{C9E898A3-3EED-4605-AC0E-699A9E239A50}" destId="{72CDB0F0-8D1A-4BC8-A84A-F954B51C6B80}" srcOrd="0" destOrd="0" parTransId="{FA76467B-1F1C-482A-97FA-FC9D12574F35}" sibTransId="{41BDB7F4-F39A-4278-ACF7-C5E2985A42ED}"/>
    <dgm:cxn modelId="{478DA4A8-8137-405F-987F-F5B2FB840841}" srcId="{D2CA7D92-4399-425E-AE63-0FCFB5C276F9}" destId="{C9E898A3-3EED-4605-AC0E-699A9E239A50}" srcOrd="8" destOrd="0" parTransId="{D0E7B84F-E4D8-461C-BF25-3199965DE68C}" sibTransId="{DA299F6D-7D48-4243-B127-F6C90CEA5477}"/>
    <dgm:cxn modelId="{69433988-A4F8-49B9-B435-480A7E982744}" type="presOf" srcId="{C9E898A3-3EED-4605-AC0E-699A9E239A50}" destId="{36C8C100-348D-40A0-8BE6-FF674F0AF2DE}" srcOrd="1" destOrd="0" presId="urn:microsoft.com/office/officeart/2005/8/layout/list1"/>
    <dgm:cxn modelId="{A34FDEA9-7389-4CA2-B7F5-0D675C06F58C}" srcId="{D2CA7D92-4399-425E-AE63-0FCFB5C276F9}" destId="{A4672CAE-D0E2-488D-89C8-C0E8F96F0EF3}" srcOrd="13" destOrd="0" parTransId="{0F796A20-7E75-4DD4-8648-55C0A8B09D1B}" sibTransId="{FD769867-DD88-469F-AB33-CE9193537472}"/>
    <dgm:cxn modelId="{3C81CF59-F248-444C-A0A2-EAAD4C4ECE9B}" type="presOf" srcId="{A8541ABC-4FD1-4B37-8C0B-2440C7186539}" destId="{B7823A1F-B734-422B-8ABE-ADBA2AB692FA}" srcOrd="1" destOrd="0" presId="urn:microsoft.com/office/officeart/2005/8/layout/list1"/>
    <dgm:cxn modelId="{28EB7F62-0C79-4C9D-AEF0-0EB87A75A480}" srcId="{D2CA7D92-4399-425E-AE63-0FCFB5C276F9}" destId="{A8541ABC-4FD1-4B37-8C0B-2440C7186539}" srcOrd="10" destOrd="0" parTransId="{5B5B50DF-5C2D-4F24-BBF3-7147D7EFCFD5}" sibTransId="{B074AC75-C345-44E7-B062-82940C64A6A5}"/>
    <dgm:cxn modelId="{57280954-7B06-4B60-A649-552CC5F8A9B6}" type="presOf" srcId="{523BADAC-B332-43C3-BB0D-02A427A4DEFC}" destId="{95E9A9D9-8768-405B-931B-7D24237CEA11}" srcOrd="0" destOrd="0" presId="urn:microsoft.com/office/officeart/2005/8/layout/list1"/>
    <dgm:cxn modelId="{FFA6673A-901F-4894-B113-324BE0340970}" type="presOf" srcId="{DB81F5B8-16FE-474B-8B88-AA74B4FB9853}" destId="{A07BB598-26D2-44E9-B7E8-529A52DEB8A5}" srcOrd="1" destOrd="0" presId="urn:microsoft.com/office/officeart/2005/8/layout/list1"/>
    <dgm:cxn modelId="{1814E8B1-84A5-434C-BB2B-164E33EFB471}" srcId="{523BADAC-B332-43C3-BB0D-02A427A4DEFC}" destId="{38A9E041-478D-4E22-8588-3F8D5E009553}" srcOrd="0" destOrd="0" parTransId="{629B5C95-7FD0-4D3C-9617-FE148834A911}" sibTransId="{71B0A5E0-7A4B-4758-BB22-B81D71CEECCA}"/>
    <dgm:cxn modelId="{698FEBB0-CF83-41CF-A40A-AE340D66467D}" type="presOf" srcId="{C8E6DC84-12C4-4733-8DEE-7DD5AAF0F89F}" destId="{27FF6C95-181E-46A0-97B6-A26BC1DF1150}" srcOrd="0" destOrd="0" presId="urn:microsoft.com/office/officeart/2005/8/layout/list1"/>
    <dgm:cxn modelId="{815F4B89-F4C2-4165-9026-F56ED2E1095A}" type="presOf" srcId="{10D5D77E-553E-4534-8610-E1A9FB67012B}" destId="{6780692F-6144-4940-BC88-C5223D80EAED}" srcOrd="1" destOrd="0" presId="urn:microsoft.com/office/officeart/2005/8/layout/list1"/>
    <dgm:cxn modelId="{F2BFEFFA-BA9E-4263-8563-A0C064FCFAC1}" type="presOf" srcId="{A4672CAE-D0E2-488D-89C8-C0E8F96F0EF3}" destId="{D6835FFC-553C-489F-B730-2382417A3A59}" srcOrd="1" destOrd="0" presId="urn:microsoft.com/office/officeart/2005/8/layout/list1"/>
    <dgm:cxn modelId="{3F30147C-7A1F-4857-8BCC-B3051BD311D6}" srcId="{D2CA7D92-4399-425E-AE63-0FCFB5C276F9}" destId="{0FB44C27-8C45-4946-B619-930DEABDC5A6}" srcOrd="2" destOrd="0" parTransId="{749D41E2-AC8A-4D5F-A95B-0FCBD998C486}" sibTransId="{DA37CB89-3D42-4328-9B43-5D006668A740}"/>
    <dgm:cxn modelId="{D0CC36CC-9801-4CD2-BA45-56B9F5D22AA0}" srcId="{D2CA7D92-4399-425E-AE63-0FCFB5C276F9}" destId="{DEC28E6B-0E2D-4D7A-912D-2F1089413019}" srcOrd="7" destOrd="0" parTransId="{28C80382-D871-48FF-8D7A-5470CDB7D404}" sibTransId="{DBB2770A-E139-4BF9-ACAC-10D58A8EF74B}"/>
    <dgm:cxn modelId="{E311D38E-4160-4AC9-B371-11874C2E4C9E}" type="presOf" srcId="{20B3D191-3E55-4C08-AB56-9A609A6FE0DE}" destId="{13A97048-02AB-40B2-9225-60A06691AEAA}" srcOrd="0" destOrd="0" presId="urn:microsoft.com/office/officeart/2005/8/layout/list1"/>
    <dgm:cxn modelId="{950B070F-F3C3-41FA-9AC9-74BED7F01032}" type="presOf" srcId="{48744035-F9AE-41EA-812B-1A31C83FA82F}" destId="{29313BC3-419E-474C-AF4A-FC1BC03E8B43}" srcOrd="0" destOrd="0" presId="urn:microsoft.com/office/officeart/2005/8/layout/list1"/>
    <dgm:cxn modelId="{59F38699-34FE-4F76-917A-B6985566DD60}" type="presOf" srcId="{D3828330-15A8-4EF7-A4B7-BDF54B622464}" destId="{2C061E25-503B-440C-87C9-D336C48D3A2B}" srcOrd="0" destOrd="0" presId="urn:microsoft.com/office/officeart/2005/8/layout/list1"/>
    <dgm:cxn modelId="{EE479F61-AC12-44AC-8537-91B172C87780}" srcId="{D3828330-15A8-4EF7-A4B7-BDF54B622464}" destId="{C1774E7D-9FF5-4CDB-99F9-9EA58C8B7753}" srcOrd="0" destOrd="0" parTransId="{71228E45-6F91-4A0B-8732-17661B45FA1D}" sibTransId="{D4D198F6-EA85-4308-84C0-F36CC4CB4914}"/>
    <dgm:cxn modelId="{024AF2B0-9849-44BC-A183-1079FCB72209}" type="presOf" srcId="{D3828330-15A8-4EF7-A4B7-BDF54B622464}" destId="{9A6C1276-CCF5-4947-A94B-41E17741E0BD}" srcOrd="1" destOrd="0" presId="urn:microsoft.com/office/officeart/2005/8/layout/list1"/>
    <dgm:cxn modelId="{511A037D-16FB-4E66-A47A-DB82AD33DC61}" srcId="{D2CA7D92-4399-425E-AE63-0FCFB5C276F9}" destId="{DB81F5B8-16FE-474B-8B88-AA74B4FB9853}" srcOrd="3" destOrd="0" parTransId="{4BC64C20-1D29-4037-A2ED-A0972423FC5A}" sibTransId="{7F376119-568D-43E3-9098-634677C44F97}"/>
    <dgm:cxn modelId="{5D8F5336-B7B8-4E93-87B7-FFB052C6F4F8}" srcId="{C8E6DC84-12C4-4733-8DEE-7DD5AAF0F89F}" destId="{83B5AC45-5608-46A8-944E-E801BAEC90D9}" srcOrd="0" destOrd="0" parTransId="{F8FC878D-6E72-4E58-8862-8B3B8147C4BC}" sibTransId="{0FAD2798-489C-4316-9AB8-B6C058D9E573}"/>
    <dgm:cxn modelId="{F8533536-0CC9-472A-9251-1AE9222048F5}" srcId="{D2CA7D92-4399-425E-AE63-0FCFB5C276F9}" destId="{9B997B34-221D-4496-A1C8-A439AE736903}" srcOrd="12" destOrd="0" parTransId="{46FAD773-4B1B-45A7-B794-B8E75103FAFE}" sibTransId="{BD5A5068-F8C8-4882-B01F-B89B4ED7EAB1}"/>
    <dgm:cxn modelId="{65ED01F4-A41F-43C5-A4FE-8C81D8501F2E}" type="presOf" srcId="{DB81F5B8-16FE-474B-8B88-AA74B4FB9853}" destId="{D78F80A6-E101-4D69-9024-05A4B0E3D224}" srcOrd="0" destOrd="0" presId="urn:microsoft.com/office/officeart/2005/8/layout/list1"/>
    <dgm:cxn modelId="{0C234952-6FF9-4B0C-9F37-715B18D05413}" type="presOf" srcId="{EA5B0946-F626-4646-AEAE-31C4CF2385A0}" destId="{DEB3A97E-4F32-417D-8130-EB354B8360B1}" srcOrd="0" destOrd="0" presId="urn:microsoft.com/office/officeart/2005/8/layout/list1"/>
    <dgm:cxn modelId="{080C1827-C68C-433B-BC8C-A42B1B778095}" type="presOf" srcId="{C9E898A3-3EED-4605-AC0E-699A9E239A50}" destId="{AAE17E7C-505B-44A5-8824-D02D5DE84084}" srcOrd="0" destOrd="0" presId="urn:microsoft.com/office/officeart/2005/8/layout/list1"/>
    <dgm:cxn modelId="{8CECAA34-4339-4F83-8F34-EB0721951644}" srcId="{D2CA7D92-4399-425E-AE63-0FCFB5C276F9}" destId="{74EA246E-98AA-4F54-95D5-D578D47FCD13}" srcOrd="9" destOrd="0" parTransId="{C5103267-F92C-45F4-B90C-8884B33AF9FE}" sibTransId="{80576C01-668E-4C7B-A534-6CE2370DBF7B}"/>
    <dgm:cxn modelId="{842A2187-26A7-449C-BB6B-2C677B5784B4}" srcId="{A8541ABC-4FD1-4B37-8C0B-2440C7186539}" destId="{6A870066-74B4-45E9-990B-C4D459B12DD6}" srcOrd="0" destOrd="0" parTransId="{030F7204-5277-49E4-97E4-FAC8165BA9B9}" sibTransId="{A51B5AEC-96B9-4AED-B99C-7DD6115F2386}"/>
    <dgm:cxn modelId="{6C14461E-8AD3-4A21-B8D2-1DE4EF045736}" type="presOf" srcId="{10D5D77E-553E-4534-8610-E1A9FB67012B}" destId="{14CFD343-41C1-44D5-8CB8-B91671EC2DE1}" srcOrd="0" destOrd="0" presId="urn:microsoft.com/office/officeart/2005/8/layout/list1"/>
    <dgm:cxn modelId="{D4EA2945-A799-4C19-AB6C-2B8AE8D322AA}" type="presOf" srcId="{A8541ABC-4FD1-4B37-8C0B-2440C7186539}" destId="{25527203-C498-45C3-A734-379AE2A3595A}" srcOrd="0" destOrd="0" presId="urn:microsoft.com/office/officeart/2005/8/layout/list1"/>
    <dgm:cxn modelId="{58FE9246-3B83-4E5B-A7CB-F9E09A40C2BB}" type="presOf" srcId="{83B5AC45-5608-46A8-944E-E801BAEC90D9}" destId="{232357A8-4C16-4EAC-A6F3-B579D2BA91E8}" srcOrd="0" destOrd="0" presId="urn:microsoft.com/office/officeart/2005/8/layout/list1"/>
    <dgm:cxn modelId="{A048CEFF-9504-4BB1-95BA-A8777F06D252}" type="presOf" srcId="{617E2F3B-5A85-44E0-982A-5E6A7F810295}" destId="{843B4C81-91C5-4A99-81ED-78665012860A}" srcOrd="1" destOrd="0" presId="urn:microsoft.com/office/officeart/2005/8/layout/list1"/>
    <dgm:cxn modelId="{0B33A2E4-D5F1-4C3F-9F5F-0FCAA64C7973}" type="presOf" srcId="{848A4253-6D56-45DF-B4FF-CD09F5A2E1FB}" destId="{80C0C129-3E79-493B-87D5-018B38203BAE}" srcOrd="0" destOrd="0" presId="urn:microsoft.com/office/officeart/2005/8/layout/list1"/>
    <dgm:cxn modelId="{AD1EA629-F4AD-4694-97E3-E05B3DDB7263}" type="presOf" srcId="{617E2F3B-5A85-44E0-982A-5E6A7F810295}" destId="{8670063A-C83C-4C1C-BDA8-CBFA7850170F}" srcOrd="0" destOrd="0" presId="urn:microsoft.com/office/officeart/2005/8/layout/list1"/>
    <dgm:cxn modelId="{BECDCD47-717F-4AE5-BBDB-F42DDB7BFFA5}" type="presOf" srcId="{0FB44C27-8C45-4946-B619-930DEABDC5A6}" destId="{5149450C-B593-4302-B9CB-5F8C39E2ACB7}" srcOrd="0" destOrd="0" presId="urn:microsoft.com/office/officeart/2005/8/layout/list1"/>
    <dgm:cxn modelId="{52ABED8A-52F3-4C3E-982D-A78754CA1EB9}" type="presOf" srcId="{0FB44C27-8C45-4946-B619-930DEABDC5A6}" destId="{3317BDF5-3258-432C-8406-2A05883319E6}" srcOrd="1" destOrd="0" presId="urn:microsoft.com/office/officeart/2005/8/layout/list1"/>
    <dgm:cxn modelId="{6D2ED3CE-0033-4701-959F-62E19291E2E4}" srcId="{5BDA8C71-296F-4979-8121-1077BB08BA06}" destId="{3C2077DF-600C-48D3-A751-60DB855AEDA7}" srcOrd="0" destOrd="0" parTransId="{4094983A-00BF-4AE5-8215-098C437A999F}" sibTransId="{BCF06A87-35F1-4C54-97A9-AD21AA9D3C13}"/>
    <dgm:cxn modelId="{87D3BAC0-AA50-4F0A-A6A0-0AC25BCF7272}" type="presOf" srcId="{6A870066-74B4-45E9-990B-C4D459B12DD6}" destId="{9B03B26D-F009-4086-BD31-2AEAFD444E62}" srcOrd="0" destOrd="0" presId="urn:microsoft.com/office/officeart/2005/8/layout/list1"/>
    <dgm:cxn modelId="{C7045B15-F002-474B-9502-243AD2C7B267}" srcId="{D2CA7D92-4399-425E-AE63-0FCFB5C276F9}" destId="{10D5D77E-553E-4534-8610-E1A9FB67012B}" srcOrd="0" destOrd="0" parTransId="{62DEB8A8-2360-43FB-BF95-9FABBC1FACE1}" sibTransId="{D2DB4217-5E54-4790-906D-945A107DEA66}"/>
    <dgm:cxn modelId="{611FA5E5-5E04-44F1-91C1-02B7396F68F6}" type="presParOf" srcId="{18F6336F-7BCE-4053-8D12-1F0F9E31E0A4}" destId="{C207798F-6AAF-47DA-8408-AFF244554892}" srcOrd="0" destOrd="0" presId="urn:microsoft.com/office/officeart/2005/8/layout/list1"/>
    <dgm:cxn modelId="{13076154-E9AC-4FC1-B660-B4378E566357}" type="presParOf" srcId="{C207798F-6AAF-47DA-8408-AFF244554892}" destId="{14CFD343-41C1-44D5-8CB8-B91671EC2DE1}" srcOrd="0" destOrd="0" presId="urn:microsoft.com/office/officeart/2005/8/layout/list1"/>
    <dgm:cxn modelId="{30BA964C-2F77-43EC-9426-94F1593E33CF}" type="presParOf" srcId="{C207798F-6AAF-47DA-8408-AFF244554892}" destId="{6780692F-6144-4940-BC88-C5223D80EAED}" srcOrd="1" destOrd="0" presId="urn:microsoft.com/office/officeart/2005/8/layout/list1"/>
    <dgm:cxn modelId="{AD0D3C3D-DDDE-4C25-8369-41A16C181324}" type="presParOf" srcId="{18F6336F-7BCE-4053-8D12-1F0F9E31E0A4}" destId="{4F2BCA67-44D7-441C-9DAE-CD920ABBF230}" srcOrd="1" destOrd="0" presId="urn:microsoft.com/office/officeart/2005/8/layout/list1"/>
    <dgm:cxn modelId="{09F8FD20-00B4-4F7E-A503-C2699D774213}" type="presParOf" srcId="{18F6336F-7BCE-4053-8D12-1F0F9E31E0A4}" destId="{380D6C35-0EB3-4DE9-9AEE-9EA535447E4E}" srcOrd="2" destOrd="0" presId="urn:microsoft.com/office/officeart/2005/8/layout/list1"/>
    <dgm:cxn modelId="{B20C04A4-7DCD-4B27-96E8-FAE3F92B5006}" type="presParOf" srcId="{18F6336F-7BCE-4053-8D12-1F0F9E31E0A4}" destId="{577CF475-A43A-4C51-9D49-04D79FF936BE}" srcOrd="3" destOrd="0" presId="urn:microsoft.com/office/officeart/2005/8/layout/list1"/>
    <dgm:cxn modelId="{11475E17-CE78-43B3-AAAA-89C44B20E368}" type="presParOf" srcId="{18F6336F-7BCE-4053-8D12-1F0F9E31E0A4}" destId="{1F964E2D-2633-4D24-9E8F-331FD4C081EE}" srcOrd="4" destOrd="0" presId="urn:microsoft.com/office/officeart/2005/8/layout/list1"/>
    <dgm:cxn modelId="{63A4518E-4700-4975-AF93-892147347E7A}" type="presParOf" srcId="{1F964E2D-2633-4D24-9E8F-331FD4C081EE}" destId="{8670063A-C83C-4C1C-BDA8-CBFA7850170F}" srcOrd="0" destOrd="0" presId="urn:microsoft.com/office/officeart/2005/8/layout/list1"/>
    <dgm:cxn modelId="{298D8B4D-F4C3-4B0C-8970-1B4D18F65D66}" type="presParOf" srcId="{1F964E2D-2633-4D24-9E8F-331FD4C081EE}" destId="{843B4C81-91C5-4A99-81ED-78665012860A}" srcOrd="1" destOrd="0" presId="urn:microsoft.com/office/officeart/2005/8/layout/list1"/>
    <dgm:cxn modelId="{F532AF38-E8BF-434C-8744-8B91D6521F76}" type="presParOf" srcId="{18F6336F-7BCE-4053-8D12-1F0F9E31E0A4}" destId="{E4058E38-BECE-4078-9414-BFE8217F91DB}" srcOrd="5" destOrd="0" presId="urn:microsoft.com/office/officeart/2005/8/layout/list1"/>
    <dgm:cxn modelId="{8236AD1D-7826-4AF3-A3F7-82B01E10CB15}" type="presParOf" srcId="{18F6336F-7BCE-4053-8D12-1F0F9E31E0A4}" destId="{60DE0B1A-82FC-4334-AB59-9F7AE40FEDDE}" srcOrd="6" destOrd="0" presId="urn:microsoft.com/office/officeart/2005/8/layout/list1"/>
    <dgm:cxn modelId="{506F2EBD-0803-4741-B7C2-217D4F1C62DF}" type="presParOf" srcId="{18F6336F-7BCE-4053-8D12-1F0F9E31E0A4}" destId="{6C6A0D68-F398-4803-96C6-AA6ECFC051B6}" srcOrd="7" destOrd="0" presId="urn:microsoft.com/office/officeart/2005/8/layout/list1"/>
    <dgm:cxn modelId="{4383452B-B056-4979-87B9-DF2BFB7681CC}" type="presParOf" srcId="{18F6336F-7BCE-4053-8D12-1F0F9E31E0A4}" destId="{0DC6B7B0-6303-4057-B266-54E4B01F53CC}" srcOrd="8" destOrd="0" presId="urn:microsoft.com/office/officeart/2005/8/layout/list1"/>
    <dgm:cxn modelId="{989B9103-9044-43E6-BCDA-4432151C38FD}" type="presParOf" srcId="{0DC6B7B0-6303-4057-B266-54E4B01F53CC}" destId="{5149450C-B593-4302-B9CB-5F8C39E2ACB7}" srcOrd="0" destOrd="0" presId="urn:microsoft.com/office/officeart/2005/8/layout/list1"/>
    <dgm:cxn modelId="{1785EBE5-804F-459B-A71D-AE30AE5AC88D}" type="presParOf" srcId="{0DC6B7B0-6303-4057-B266-54E4B01F53CC}" destId="{3317BDF5-3258-432C-8406-2A05883319E6}" srcOrd="1" destOrd="0" presId="urn:microsoft.com/office/officeart/2005/8/layout/list1"/>
    <dgm:cxn modelId="{DF529903-7584-4890-B219-D2005D65EF61}" type="presParOf" srcId="{18F6336F-7BCE-4053-8D12-1F0F9E31E0A4}" destId="{8EE2D49E-8FE1-4382-9C1C-917AF273DC4E}" srcOrd="9" destOrd="0" presId="urn:microsoft.com/office/officeart/2005/8/layout/list1"/>
    <dgm:cxn modelId="{6175E1DC-A968-4DD3-846D-01C880352ADD}" type="presParOf" srcId="{18F6336F-7BCE-4053-8D12-1F0F9E31E0A4}" destId="{3CB48B57-56B9-4E73-9821-9364303DEECD}" srcOrd="10" destOrd="0" presId="urn:microsoft.com/office/officeart/2005/8/layout/list1"/>
    <dgm:cxn modelId="{182327DC-C73B-43AE-9BEB-94A0CEF431EC}" type="presParOf" srcId="{18F6336F-7BCE-4053-8D12-1F0F9E31E0A4}" destId="{02281A1C-6767-4105-9845-5D1670075E15}" srcOrd="11" destOrd="0" presId="urn:microsoft.com/office/officeart/2005/8/layout/list1"/>
    <dgm:cxn modelId="{2A936741-6B83-4F20-8696-802058D4EB26}" type="presParOf" srcId="{18F6336F-7BCE-4053-8D12-1F0F9E31E0A4}" destId="{ED744178-0AA3-4215-8F3C-D1C7045ADD19}" srcOrd="12" destOrd="0" presId="urn:microsoft.com/office/officeart/2005/8/layout/list1"/>
    <dgm:cxn modelId="{E259FFCA-AF20-4622-BDEA-8A4B51D10CBE}" type="presParOf" srcId="{ED744178-0AA3-4215-8F3C-D1C7045ADD19}" destId="{D78F80A6-E101-4D69-9024-05A4B0E3D224}" srcOrd="0" destOrd="0" presId="urn:microsoft.com/office/officeart/2005/8/layout/list1"/>
    <dgm:cxn modelId="{065EA065-0222-4EFB-BA6F-C6019A61181E}" type="presParOf" srcId="{ED744178-0AA3-4215-8F3C-D1C7045ADD19}" destId="{A07BB598-26D2-44E9-B7E8-529A52DEB8A5}" srcOrd="1" destOrd="0" presId="urn:microsoft.com/office/officeart/2005/8/layout/list1"/>
    <dgm:cxn modelId="{52CC0B51-667B-419F-9885-7E1CF2CB879E}" type="presParOf" srcId="{18F6336F-7BCE-4053-8D12-1F0F9E31E0A4}" destId="{971ACE18-5E12-4C62-AA48-CAF470A34733}" srcOrd="13" destOrd="0" presId="urn:microsoft.com/office/officeart/2005/8/layout/list1"/>
    <dgm:cxn modelId="{BA3FAE8D-9DA3-4206-B670-731D5BB7048A}" type="presParOf" srcId="{18F6336F-7BCE-4053-8D12-1F0F9E31E0A4}" destId="{29313BC3-419E-474C-AF4A-FC1BC03E8B43}" srcOrd="14" destOrd="0" presId="urn:microsoft.com/office/officeart/2005/8/layout/list1"/>
    <dgm:cxn modelId="{62705AE4-A84E-4351-8472-F11A3FA5DB04}" type="presParOf" srcId="{18F6336F-7BCE-4053-8D12-1F0F9E31E0A4}" destId="{729E3B0D-BC1F-430F-A6F6-556D123DDDC9}" srcOrd="15" destOrd="0" presId="urn:microsoft.com/office/officeart/2005/8/layout/list1"/>
    <dgm:cxn modelId="{5DDB07BE-58B8-46CF-AA1A-0595415BCD0D}" type="presParOf" srcId="{18F6336F-7BCE-4053-8D12-1F0F9E31E0A4}" destId="{0582B4F1-40CA-48DB-80E2-322CEE44BE71}" srcOrd="16" destOrd="0" presId="urn:microsoft.com/office/officeart/2005/8/layout/list1"/>
    <dgm:cxn modelId="{E0F69BDE-5FDA-48B8-8C94-6D0911685978}" type="presParOf" srcId="{0582B4F1-40CA-48DB-80E2-322CEE44BE71}" destId="{95E9A9D9-8768-405B-931B-7D24237CEA11}" srcOrd="0" destOrd="0" presId="urn:microsoft.com/office/officeart/2005/8/layout/list1"/>
    <dgm:cxn modelId="{F3D4B50A-36E3-431E-8720-6663D7FA7769}" type="presParOf" srcId="{0582B4F1-40CA-48DB-80E2-322CEE44BE71}" destId="{DA7A3EF9-CB5B-47EB-A111-A0F4E28DEA62}" srcOrd="1" destOrd="0" presId="urn:microsoft.com/office/officeart/2005/8/layout/list1"/>
    <dgm:cxn modelId="{9F666974-7CA9-4B11-9AE3-1288159FEAAB}" type="presParOf" srcId="{18F6336F-7BCE-4053-8D12-1F0F9E31E0A4}" destId="{5D300F10-361E-4117-A933-5751EF03FA60}" srcOrd="17" destOrd="0" presId="urn:microsoft.com/office/officeart/2005/8/layout/list1"/>
    <dgm:cxn modelId="{B6F3CF2E-DDD3-4C67-8B2B-4C7A9EF54D82}" type="presParOf" srcId="{18F6336F-7BCE-4053-8D12-1F0F9E31E0A4}" destId="{6FA8E29D-B607-4136-BE57-C911DC7D1E2E}" srcOrd="18" destOrd="0" presId="urn:microsoft.com/office/officeart/2005/8/layout/list1"/>
    <dgm:cxn modelId="{733840A7-7714-43AF-A06D-429F31918B78}" type="presParOf" srcId="{18F6336F-7BCE-4053-8D12-1F0F9E31E0A4}" destId="{C3F902AE-A30A-4D60-9BB9-F7A41D345D77}" srcOrd="19" destOrd="0" presId="urn:microsoft.com/office/officeart/2005/8/layout/list1"/>
    <dgm:cxn modelId="{150B5D04-789D-47A2-9589-43A548A7785E}" type="presParOf" srcId="{18F6336F-7BCE-4053-8D12-1F0F9E31E0A4}" destId="{EB6CC6C4-5104-46D9-8350-AF132E92FF98}" srcOrd="20" destOrd="0" presId="urn:microsoft.com/office/officeart/2005/8/layout/list1"/>
    <dgm:cxn modelId="{658D8F3B-D79E-4152-B79C-25FD1C3D2CFE}" type="presParOf" srcId="{EB6CC6C4-5104-46D9-8350-AF132E92FF98}" destId="{A44F3274-8AF4-4DE6-BD1F-4F6601F7F69B}" srcOrd="0" destOrd="0" presId="urn:microsoft.com/office/officeart/2005/8/layout/list1"/>
    <dgm:cxn modelId="{FE9DEB3A-6A3F-489B-99A3-F1F1229B5DE0}" type="presParOf" srcId="{EB6CC6C4-5104-46D9-8350-AF132E92FF98}" destId="{B3658B12-B8B9-4873-8247-7DF23FBE38A4}" srcOrd="1" destOrd="0" presId="urn:microsoft.com/office/officeart/2005/8/layout/list1"/>
    <dgm:cxn modelId="{107744A6-1401-4575-A03B-3F0201B873E4}" type="presParOf" srcId="{18F6336F-7BCE-4053-8D12-1F0F9E31E0A4}" destId="{B50EE207-9E62-4BEC-A9A3-2C3FB49191C2}" srcOrd="21" destOrd="0" presId="urn:microsoft.com/office/officeart/2005/8/layout/list1"/>
    <dgm:cxn modelId="{2F7D66B2-7124-4E38-B8B3-13B273CCDA0D}" type="presParOf" srcId="{18F6336F-7BCE-4053-8D12-1F0F9E31E0A4}" destId="{83BD41D9-D555-4B6E-AF88-6135876BAD11}" srcOrd="22" destOrd="0" presId="urn:microsoft.com/office/officeart/2005/8/layout/list1"/>
    <dgm:cxn modelId="{B2633997-E5DF-4317-B322-13AB55D11756}" type="presParOf" srcId="{18F6336F-7BCE-4053-8D12-1F0F9E31E0A4}" destId="{BDEE9EB9-575F-4ADE-AFEE-32550ED0D2D1}" srcOrd="23" destOrd="0" presId="urn:microsoft.com/office/officeart/2005/8/layout/list1"/>
    <dgm:cxn modelId="{907E8ED9-7F3C-4780-A767-317BBBDD111D}" type="presParOf" srcId="{18F6336F-7BCE-4053-8D12-1F0F9E31E0A4}" destId="{6A0A5B1E-6A4B-4BF5-A009-69A903B0F6E0}" srcOrd="24" destOrd="0" presId="urn:microsoft.com/office/officeart/2005/8/layout/list1"/>
    <dgm:cxn modelId="{76AF76AC-E580-4052-BEB1-7004380E6B10}" type="presParOf" srcId="{6A0A5B1E-6A4B-4BF5-A009-69A903B0F6E0}" destId="{AF7F76F5-DDD4-4E65-A694-1529C537D4C2}" srcOrd="0" destOrd="0" presId="urn:microsoft.com/office/officeart/2005/8/layout/list1"/>
    <dgm:cxn modelId="{DCA9EA26-3D48-4041-B5E3-5353AFEB1AA2}" type="presParOf" srcId="{6A0A5B1E-6A4B-4BF5-A009-69A903B0F6E0}" destId="{D88BECAA-86B9-4794-8777-478AD6F4036C}" srcOrd="1" destOrd="0" presId="urn:microsoft.com/office/officeart/2005/8/layout/list1"/>
    <dgm:cxn modelId="{C32E6B13-0174-49AC-BF93-F633288E0E1A}" type="presParOf" srcId="{18F6336F-7BCE-4053-8D12-1F0F9E31E0A4}" destId="{EF78DC30-A834-4560-8F41-19E23B1586EA}" srcOrd="25" destOrd="0" presId="urn:microsoft.com/office/officeart/2005/8/layout/list1"/>
    <dgm:cxn modelId="{A38C4F96-2948-4E79-BCA5-E4D3EC2115FA}" type="presParOf" srcId="{18F6336F-7BCE-4053-8D12-1F0F9E31E0A4}" destId="{452A13A7-DF69-43D0-9AC0-5E60240B50E5}" srcOrd="26" destOrd="0" presId="urn:microsoft.com/office/officeart/2005/8/layout/list1"/>
    <dgm:cxn modelId="{E8025DF1-9186-4352-BEE6-C9F0E13C2CF4}" type="presParOf" srcId="{18F6336F-7BCE-4053-8D12-1F0F9E31E0A4}" destId="{56CEEF1E-9572-4776-87CE-DC5FC7B65FFB}" srcOrd="27" destOrd="0" presId="urn:microsoft.com/office/officeart/2005/8/layout/list1"/>
    <dgm:cxn modelId="{E2548BF4-7B83-4EBB-AE7B-1F63BB55FA16}" type="presParOf" srcId="{18F6336F-7BCE-4053-8D12-1F0F9E31E0A4}" destId="{A692F03C-AE0F-460F-8714-B7FD390BAE94}" srcOrd="28" destOrd="0" presId="urn:microsoft.com/office/officeart/2005/8/layout/list1"/>
    <dgm:cxn modelId="{FC73A8D0-7C54-4D9C-BC89-CCA979259250}" type="presParOf" srcId="{A692F03C-AE0F-460F-8714-B7FD390BAE94}" destId="{4F4E1487-B7A9-4E26-9C59-F38BBE374A19}" srcOrd="0" destOrd="0" presId="urn:microsoft.com/office/officeart/2005/8/layout/list1"/>
    <dgm:cxn modelId="{708C5385-3BE0-480A-AECD-D1548A5DCF34}" type="presParOf" srcId="{A692F03C-AE0F-460F-8714-B7FD390BAE94}" destId="{370407C8-1391-4FD9-9557-87AF60D5AB26}" srcOrd="1" destOrd="0" presId="urn:microsoft.com/office/officeart/2005/8/layout/list1"/>
    <dgm:cxn modelId="{810987CD-8A43-447D-83DB-070FDC4C6370}" type="presParOf" srcId="{18F6336F-7BCE-4053-8D12-1F0F9E31E0A4}" destId="{1C086DBF-AF46-41EA-B395-685DBF494A3E}" srcOrd="29" destOrd="0" presId="urn:microsoft.com/office/officeart/2005/8/layout/list1"/>
    <dgm:cxn modelId="{C40BB0DE-173F-4D12-A189-ACB43C11D723}" type="presParOf" srcId="{18F6336F-7BCE-4053-8D12-1F0F9E31E0A4}" destId="{13A97048-02AB-40B2-9225-60A06691AEAA}" srcOrd="30" destOrd="0" presId="urn:microsoft.com/office/officeart/2005/8/layout/list1"/>
    <dgm:cxn modelId="{7E832104-8A0E-4CCD-9B7C-022F5CB326BC}" type="presParOf" srcId="{18F6336F-7BCE-4053-8D12-1F0F9E31E0A4}" destId="{42F8B485-E867-4062-B1C3-D24B97E4025F}" srcOrd="31" destOrd="0" presId="urn:microsoft.com/office/officeart/2005/8/layout/list1"/>
    <dgm:cxn modelId="{D798E60A-71F6-4181-A7DE-73E63A23762B}" type="presParOf" srcId="{18F6336F-7BCE-4053-8D12-1F0F9E31E0A4}" destId="{A3A45BB9-0865-4485-872A-68B86CE4DB76}" srcOrd="32" destOrd="0" presId="urn:microsoft.com/office/officeart/2005/8/layout/list1"/>
    <dgm:cxn modelId="{7775DEA7-C1A3-45A0-ACDF-534884C8FD18}" type="presParOf" srcId="{A3A45BB9-0865-4485-872A-68B86CE4DB76}" destId="{AAE17E7C-505B-44A5-8824-D02D5DE84084}" srcOrd="0" destOrd="0" presId="urn:microsoft.com/office/officeart/2005/8/layout/list1"/>
    <dgm:cxn modelId="{AFE6AD8C-ABA7-4ABC-A35E-1DF4B4486662}" type="presParOf" srcId="{A3A45BB9-0865-4485-872A-68B86CE4DB76}" destId="{36C8C100-348D-40A0-8BE6-FF674F0AF2DE}" srcOrd="1" destOrd="0" presId="urn:microsoft.com/office/officeart/2005/8/layout/list1"/>
    <dgm:cxn modelId="{376E8071-EA60-4394-97F1-BABB04CB2DF7}" type="presParOf" srcId="{18F6336F-7BCE-4053-8D12-1F0F9E31E0A4}" destId="{718FB6AA-B41E-4FC4-988A-061BD71045EE}" srcOrd="33" destOrd="0" presId="urn:microsoft.com/office/officeart/2005/8/layout/list1"/>
    <dgm:cxn modelId="{B8C426AC-8215-4C92-96BF-9A94B336FB9F}" type="presParOf" srcId="{18F6336F-7BCE-4053-8D12-1F0F9E31E0A4}" destId="{0409EF26-FEF3-4405-B7D2-953BB1BA5E9C}" srcOrd="34" destOrd="0" presId="urn:microsoft.com/office/officeart/2005/8/layout/list1"/>
    <dgm:cxn modelId="{50462782-3BEA-4E81-85B6-0B13640ABED9}" type="presParOf" srcId="{18F6336F-7BCE-4053-8D12-1F0F9E31E0A4}" destId="{FC71C343-FC4E-499F-9D7E-4E1D903DEE21}" srcOrd="35" destOrd="0" presId="urn:microsoft.com/office/officeart/2005/8/layout/list1"/>
    <dgm:cxn modelId="{C99D8DAC-10CC-4E9C-8DA3-B6E5478EB01A}" type="presParOf" srcId="{18F6336F-7BCE-4053-8D12-1F0F9E31E0A4}" destId="{9D116D14-A54E-4AC2-A519-24B189E93EA3}" srcOrd="36" destOrd="0" presId="urn:microsoft.com/office/officeart/2005/8/layout/list1"/>
    <dgm:cxn modelId="{ADDCE407-7119-488B-946F-F94D61DA7E4B}" type="presParOf" srcId="{9D116D14-A54E-4AC2-A519-24B189E93EA3}" destId="{5A79498A-4800-4446-947D-6C938897A244}" srcOrd="0" destOrd="0" presId="urn:microsoft.com/office/officeart/2005/8/layout/list1"/>
    <dgm:cxn modelId="{3403D8AB-E734-4A19-A50A-1001C5584ACB}" type="presParOf" srcId="{9D116D14-A54E-4AC2-A519-24B189E93EA3}" destId="{ED636ECD-F43A-4026-8106-4B98E55266F9}" srcOrd="1" destOrd="0" presId="urn:microsoft.com/office/officeart/2005/8/layout/list1"/>
    <dgm:cxn modelId="{F121AB6A-A12E-489F-8488-7DF835534520}" type="presParOf" srcId="{18F6336F-7BCE-4053-8D12-1F0F9E31E0A4}" destId="{C2BBF99A-6899-4413-9D88-C1A9B7878543}" srcOrd="37" destOrd="0" presId="urn:microsoft.com/office/officeart/2005/8/layout/list1"/>
    <dgm:cxn modelId="{DE76D6D3-CC76-461C-97E9-69DC9C777B09}" type="presParOf" srcId="{18F6336F-7BCE-4053-8D12-1F0F9E31E0A4}" destId="{DEB3A97E-4F32-417D-8130-EB354B8360B1}" srcOrd="38" destOrd="0" presId="urn:microsoft.com/office/officeart/2005/8/layout/list1"/>
    <dgm:cxn modelId="{9CBF2986-DBF2-4CFA-A2D9-A50FF5386F83}" type="presParOf" srcId="{18F6336F-7BCE-4053-8D12-1F0F9E31E0A4}" destId="{88C97614-C003-4F8D-AFEF-C26EE9E3AC77}" srcOrd="39" destOrd="0" presId="urn:microsoft.com/office/officeart/2005/8/layout/list1"/>
    <dgm:cxn modelId="{2871769E-AADB-418D-A273-8CF584E7DFAB}" type="presParOf" srcId="{18F6336F-7BCE-4053-8D12-1F0F9E31E0A4}" destId="{EFC00DB2-69D6-4F29-8D91-D1FEF7663E77}" srcOrd="40" destOrd="0" presId="urn:microsoft.com/office/officeart/2005/8/layout/list1"/>
    <dgm:cxn modelId="{46679EF5-9BA5-41BD-BFC0-01AE769D2930}" type="presParOf" srcId="{EFC00DB2-69D6-4F29-8D91-D1FEF7663E77}" destId="{25527203-C498-45C3-A734-379AE2A3595A}" srcOrd="0" destOrd="0" presId="urn:microsoft.com/office/officeart/2005/8/layout/list1"/>
    <dgm:cxn modelId="{5C14812B-2257-4261-931A-DED8F945A6A6}" type="presParOf" srcId="{EFC00DB2-69D6-4F29-8D91-D1FEF7663E77}" destId="{B7823A1F-B734-422B-8ABE-ADBA2AB692FA}" srcOrd="1" destOrd="0" presId="urn:microsoft.com/office/officeart/2005/8/layout/list1"/>
    <dgm:cxn modelId="{1948571E-0138-41C9-9A7F-7FF799FB9F58}" type="presParOf" srcId="{18F6336F-7BCE-4053-8D12-1F0F9E31E0A4}" destId="{ABFC5EF7-0BCE-4CB7-9522-2ACEE3B5F501}" srcOrd="41" destOrd="0" presId="urn:microsoft.com/office/officeart/2005/8/layout/list1"/>
    <dgm:cxn modelId="{08AFEA5F-A110-4016-A1B9-4AD4C7D776D6}" type="presParOf" srcId="{18F6336F-7BCE-4053-8D12-1F0F9E31E0A4}" destId="{9B03B26D-F009-4086-BD31-2AEAFD444E62}" srcOrd="42" destOrd="0" presId="urn:microsoft.com/office/officeart/2005/8/layout/list1"/>
    <dgm:cxn modelId="{4A569EAE-A115-4544-85EB-F2EBFFDFF73E}" type="presParOf" srcId="{18F6336F-7BCE-4053-8D12-1F0F9E31E0A4}" destId="{354C408F-BB2D-4272-B340-69DA17F3BD99}" srcOrd="43" destOrd="0" presId="urn:microsoft.com/office/officeart/2005/8/layout/list1"/>
    <dgm:cxn modelId="{1473175D-4D93-49F6-8CFB-9367DF47EE5A}" type="presParOf" srcId="{18F6336F-7BCE-4053-8D12-1F0F9E31E0A4}" destId="{75283A0E-F389-4681-85E0-D2B0A38083B3}" srcOrd="44" destOrd="0" presId="urn:microsoft.com/office/officeart/2005/8/layout/list1"/>
    <dgm:cxn modelId="{F5B7A996-5F92-4E31-9EBA-3F2969EC35DD}" type="presParOf" srcId="{75283A0E-F389-4681-85E0-D2B0A38083B3}" destId="{27FF6C95-181E-46A0-97B6-A26BC1DF1150}" srcOrd="0" destOrd="0" presId="urn:microsoft.com/office/officeart/2005/8/layout/list1"/>
    <dgm:cxn modelId="{6D4385CF-951C-4A46-BE27-8518D83EEEBC}" type="presParOf" srcId="{75283A0E-F389-4681-85E0-D2B0A38083B3}" destId="{84B4A16B-1444-46EA-84E4-781F5353EC04}" srcOrd="1" destOrd="0" presId="urn:microsoft.com/office/officeart/2005/8/layout/list1"/>
    <dgm:cxn modelId="{3C6CB77A-15C7-4621-98FF-2AD73DE71533}" type="presParOf" srcId="{18F6336F-7BCE-4053-8D12-1F0F9E31E0A4}" destId="{207CC047-4632-4C92-9BEA-BF33C5073C3D}" srcOrd="45" destOrd="0" presId="urn:microsoft.com/office/officeart/2005/8/layout/list1"/>
    <dgm:cxn modelId="{812C4EE2-54A1-474E-A005-B4A4A58EE051}" type="presParOf" srcId="{18F6336F-7BCE-4053-8D12-1F0F9E31E0A4}" destId="{232357A8-4C16-4EAC-A6F3-B579D2BA91E8}" srcOrd="46" destOrd="0" presId="urn:microsoft.com/office/officeart/2005/8/layout/list1"/>
    <dgm:cxn modelId="{59B3B0AC-B43B-4791-A438-55374BE5149F}" type="presParOf" srcId="{18F6336F-7BCE-4053-8D12-1F0F9E31E0A4}" destId="{D4F347AA-8F4A-4EDE-A8F2-E6E3CE5BE0CD}" srcOrd="47" destOrd="0" presId="urn:microsoft.com/office/officeart/2005/8/layout/list1"/>
    <dgm:cxn modelId="{6038582D-FF96-4984-813B-6BB736A41A9A}" type="presParOf" srcId="{18F6336F-7BCE-4053-8D12-1F0F9E31E0A4}" destId="{54F7A63F-FDAC-4816-86AB-0824B6E743C5}" srcOrd="48" destOrd="0" presId="urn:microsoft.com/office/officeart/2005/8/layout/list1"/>
    <dgm:cxn modelId="{E7419526-A98A-4A4A-891D-464FAB1E6A2C}" type="presParOf" srcId="{54F7A63F-FDAC-4816-86AB-0824B6E743C5}" destId="{525DADCF-CDE5-4EE8-AE46-3F8D08D21E52}" srcOrd="0" destOrd="0" presId="urn:microsoft.com/office/officeart/2005/8/layout/list1"/>
    <dgm:cxn modelId="{5C8D81DA-D4D1-4B05-8472-10E52A29C588}" type="presParOf" srcId="{54F7A63F-FDAC-4816-86AB-0824B6E743C5}" destId="{C4BD8598-E35E-49CB-9751-094BA715F9D4}" srcOrd="1" destOrd="0" presId="urn:microsoft.com/office/officeart/2005/8/layout/list1"/>
    <dgm:cxn modelId="{CD3AEDF0-E613-4BC4-9A4E-24C0AEFC0D5D}" type="presParOf" srcId="{18F6336F-7BCE-4053-8D12-1F0F9E31E0A4}" destId="{0E0128C2-28BC-41E9-85C6-B878FD8660D1}" srcOrd="49" destOrd="0" presId="urn:microsoft.com/office/officeart/2005/8/layout/list1"/>
    <dgm:cxn modelId="{F040F83F-F06F-4405-A5BD-8877CD423D0B}" type="presParOf" srcId="{18F6336F-7BCE-4053-8D12-1F0F9E31E0A4}" destId="{80C0C129-3E79-493B-87D5-018B38203BAE}" srcOrd="50" destOrd="0" presId="urn:microsoft.com/office/officeart/2005/8/layout/list1"/>
    <dgm:cxn modelId="{AF5800CB-67B6-4004-8CFE-0A8E12B47473}" type="presParOf" srcId="{18F6336F-7BCE-4053-8D12-1F0F9E31E0A4}" destId="{817F92ED-A834-417B-9945-6995537BC29D}" srcOrd="51" destOrd="0" presId="urn:microsoft.com/office/officeart/2005/8/layout/list1"/>
    <dgm:cxn modelId="{DE03B207-6D75-4A1B-9EDD-8452488A22B5}" type="presParOf" srcId="{18F6336F-7BCE-4053-8D12-1F0F9E31E0A4}" destId="{2F1CAE23-14ED-42E2-8112-AA7A9505354B}" srcOrd="52" destOrd="0" presId="urn:microsoft.com/office/officeart/2005/8/layout/list1"/>
    <dgm:cxn modelId="{B13CD1CA-BA1E-48BB-B4FE-C356776F960D}" type="presParOf" srcId="{2F1CAE23-14ED-42E2-8112-AA7A9505354B}" destId="{590897A8-4AD6-4C9E-B83B-97CA3188EE23}" srcOrd="0" destOrd="0" presId="urn:microsoft.com/office/officeart/2005/8/layout/list1"/>
    <dgm:cxn modelId="{3BA3922D-7E52-476E-BD20-FA433286FA4D}" type="presParOf" srcId="{2F1CAE23-14ED-42E2-8112-AA7A9505354B}" destId="{D6835FFC-553C-489F-B730-2382417A3A59}" srcOrd="1" destOrd="0" presId="urn:microsoft.com/office/officeart/2005/8/layout/list1"/>
    <dgm:cxn modelId="{C3FAF844-F1F2-447D-A406-0045B51DE7DD}" type="presParOf" srcId="{18F6336F-7BCE-4053-8D12-1F0F9E31E0A4}" destId="{A2299556-2B67-4311-AC15-DA00EA4118F2}" srcOrd="53" destOrd="0" presId="urn:microsoft.com/office/officeart/2005/8/layout/list1"/>
    <dgm:cxn modelId="{2624595C-C263-4937-A080-27E98AB2F9DA}" type="presParOf" srcId="{18F6336F-7BCE-4053-8D12-1F0F9E31E0A4}" destId="{4AD75E93-CFCF-4FB1-AD20-52BA80041ECB}" srcOrd="54" destOrd="0" presId="urn:microsoft.com/office/officeart/2005/8/layout/list1"/>
    <dgm:cxn modelId="{F36AE925-5BD2-4005-AE0A-D023901E7761}" type="presParOf" srcId="{18F6336F-7BCE-4053-8D12-1F0F9E31E0A4}" destId="{1A8363CF-3BF3-4CAC-A21D-2C2F05911418}" srcOrd="55" destOrd="0" presId="urn:microsoft.com/office/officeart/2005/8/layout/list1"/>
    <dgm:cxn modelId="{3B6C8332-1AFA-4ACF-B1ED-F1DB519F248F}" type="presParOf" srcId="{18F6336F-7BCE-4053-8D12-1F0F9E31E0A4}" destId="{56BCD260-BBDC-4210-9A64-30649DC47AFA}" srcOrd="56" destOrd="0" presId="urn:microsoft.com/office/officeart/2005/8/layout/list1"/>
    <dgm:cxn modelId="{95D6CA68-AB6B-457F-808A-0A62E0D15384}" type="presParOf" srcId="{56BCD260-BBDC-4210-9A64-30649DC47AFA}" destId="{03B18BD3-AB98-47BF-B568-E8F4D8084EA1}" srcOrd="0" destOrd="0" presId="urn:microsoft.com/office/officeart/2005/8/layout/list1"/>
    <dgm:cxn modelId="{6F640E0A-C360-484D-8C62-0FE07FAD325A}" type="presParOf" srcId="{56BCD260-BBDC-4210-9A64-30649DC47AFA}" destId="{5AEC349D-0BAD-4435-AB5B-0C0F674B6AEF}" srcOrd="1" destOrd="0" presId="urn:microsoft.com/office/officeart/2005/8/layout/list1"/>
    <dgm:cxn modelId="{C1B8FE17-B260-4E40-8922-1E746817D86F}" type="presParOf" srcId="{18F6336F-7BCE-4053-8D12-1F0F9E31E0A4}" destId="{CE420BE9-7896-4224-B8C7-6394456D2A33}" srcOrd="57" destOrd="0" presId="urn:microsoft.com/office/officeart/2005/8/layout/list1"/>
    <dgm:cxn modelId="{089BE825-B149-4109-A8BE-0B6A313CE2D3}" type="presParOf" srcId="{18F6336F-7BCE-4053-8D12-1F0F9E31E0A4}" destId="{C81B069E-D033-4F78-BACE-5F1A1EB362C7}" srcOrd="58" destOrd="0" presId="urn:microsoft.com/office/officeart/2005/8/layout/list1"/>
    <dgm:cxn modelId="{712FDB13-8D89-40BC-9869-5347D8C45F5E}" type="presParOf" srcId="{18F6336F-7BCE-4053-8D12-1F0F9E31E0A4}" destId="{FCFCE7F1-F25C-446E-9C82-849585E625CC}" srcOrd="59" destOrd="0" presId="urn:microsoft.com/office/officeart/2005/8/layout/list1"/>
    <dgm:cxn modelId="{927F3445-39C9-4E4D-AF0E-077C91967E35}" type="presParOf" srcId="{18F6336F-7BCE-4053-8D12-1F0F9E31E0A4}" destId="{CB835BF8-5A95-4C30-806F-6A393705025E}" srcOrd="60" destOrd="0" presId="urn:microsoft.com/office/officeart/2005/8/layout/list1"/>
    <dgm:cxn modelId="{F39AB468-7352-4C2E-93A4-3EECF85C1632}" type="presParOf" srcId="{CB835BF8-5A95-4C30-806F-6A393705025E}" destId="{2C061E25-503B-440C-87C9-D336C48D3A2B}" srcOrd="0" destOrd="0" presId="urn:microsoft.com/office/officeart/2005/8/layout/list1"/>
    <dgm:cxn modelId="{2CB2DE1F-479A-4DF1-AC23-0F8CD1DED6BB}" type="presParOf" srcId="{CB835BF8-5A95-4C30-806F-6A393705025E}" destId="{9A6C1276-CCF5-4947-A94B-41E17741E0BD}" srcOrd="1" destOrd="0" presId="urn:microsoft.com/office/officeart/2005/8/layout/list1"/>
    <dgm:cxn modelId="{24D5E551-E540-4147-860C-6409ECF81893}" type="presParOf" srcId="{18F6336F-7BCE-4053-8D12-1F0F9E31E0A4}" destId="{D72F0017-55A4-45C3-A2FE-C27E3534C784}" srcOrd="61" destOrd="0" presId="urn:microsoft.com/office/officeart/2005/8/layout/list1"/>
    <dgm:cxn modelId="{299CFD64-8D38-4EA9-AFB7-4AF4E3D9602F}" type="presParOf" srcId="{18F6336F-7BCE-4053-8D12-1F0F9E31E0A4}" destId="{5A53EC70-4FBF-4D04-9FD1-7CDC155E5906}" srcOrd="62" destOrd="0" presId="urn:microsoft.com/office/officeart/2005/8/layout/lis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D2CA7D92-4399-425E-AE63-0FCFB5C276F9}" type="doc">
      <dgm:prSet loTypeId="urn:microsoft.com/office/officeart/2005/8/layout/list1" loCatId="list" qsTypeId="urn:microsoft.com/office/officeart/2005/8/quickstyle/simple4" qsCatId="simple" csTypeId="urn:microsoft.com/office/officeart/2005/8/colors/accent1_1" csCatId="accent1" phldr="1"/>
      <dgm:spPr/>
      <dgm:t>
        <a:bodyPr/>
        <a:lstStyle/>
        <a:p>
          <a:endParaRPr lang="zh-CN" altLang="en-US"/>
        </a:p>
      </dgm:t>
    </dgm:pt>
    <dgm:pt modelId="{10D5D77E-553E-4534-8610-E1A9FB67012B}">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没有“雇主”这回事儿</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62DEB8A8-2360-43FB-BF95-9FABBC1FACE1}" type="par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2DB4217-5E54-4790-906D-945A107DEA66}" type="sibTrans" cxnId="{C7045B15-F002-474B-9502-243AD2C7B26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9F1205-2B7C-4B09-BA84-B735EDEE727E}">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你不能通过一个雇主的态度去推测另一个的态度；</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15D0545E-F4CC-435A-8259-A5D212FC2048}" type="par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F70955-FE1E-46CE-9449-C532BBE44564}" type="sibTrans" cxnId="{241F91F7-7DF6-433E-BE1F-CC49B63ABAC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17E2F3B-5A85-44E0-982A-5E6A7F810295}">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前，一定要做功课</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85A4FD0-73F4-4CA5-82DC-00A15264327B}" type="par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00147E1-37A4-4BD0-8432-84DE43294855}" type="sibTrans" cxnId="{88D1906C-DFC9-4121-ADD9-3FBD646A591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51B1F1B-430D-4C93-B5D0-549A2F55C06C}">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花费精力尽可能了解对方；</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C019BC6-F7A2-4D55-9BC2-82E705840216}" type="par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A25E32-12EB-4B64-AE9D-2EEDCDFD2254}" type="sibTrans" cxnId="{641819CF-111F-4F2A-9EF7-CB2E3C568D3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B44C27-8C45-4946-B619-930DEABDC5A6}">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遵守承诺</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749D41E2-AC8A-4D5F-A95B-0FCBD998C486}" type="par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37CB89-3D42-4328-9B43-5D006668A740}" type="sibTrans" cxnId="{3F30147C-7A1F-4857-8BCC-B3051BD311D6}">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4B8B24-D253-4025-9D7A-1250CFF4DC7F}">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控制面试时间长短，如</a:t>
          </a:r>
          <a:r>
            <a:rPr lang="en-US" sz="2000" smtClean="0">
              <a:solidFill>
                <a:schemeClr val="accent5">
                  <a:lumMod val="50000"/>
                </a:schemeClr>
              </a:solidFill>
              <a:latin typeface="微软雅黑" panose="020B0503020204020204" pitchFamily="34" charset="-122"/>
              <a:ea typeface="微软雅黑" panose="020B0503020204020204" pitchFamily="34" charset="-122"/>
            </a:rPr>
            <a:t>19</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596589D1-FBEB-4B7D-8CFA-6655830487F6}" type="par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B68AE4A-8C7D-488D-8260-3B170B59D819}" type="sibTrans" cxnId="{955D35FA-F1F8-4A21-9C4D-722B3D700CB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81F5B8-16FE-474B-8B88-AA74B4FB985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不过就是一场对话</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BC64C20-1D29-4037-A2ED-A0972423FC5A}" type="par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F376119-568D-43E3-9098-634677C44F97}" type="sibTrans" cxnId="{511A037D-16FB-4E66-A47A-DB82AD33DC6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8744035-F9AE-41EA-812B-1A31C83FA82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温和地了解雇主，觉得是你相待的地方，再有信心地推销自己；</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30E956D-6B18-4CD7-99D1-5DB4EFBFB177}" type="par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5D0FFB2-142C-456C-A871-C0AE186F2011}" type="sibTrans" cxnId="{1F6E75B3-2A7F-4A6A-8556-92445C9AB51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23BADAC-B332-43C3-BB0D-02A427A4DEFC}">
      <dgm:prSet custT="1"/>
      <dgm:spPr/>
      <dgm:t>
        <a:bodyPr/>
        <a:lstStyle/>
        <a:p>
          <a:pPr rtl="0"/>
          <a:r>
            <a:rPr lang="zh-CN" altLang="en-US" sz="2400" b="1" dirty="0" smtClean="0">
              <a:solidFill>
                <a:srgbClr val="2777D8"/>
              </a:solidFill>
              <a:latin typeface="微软雅黑" panose="020B0503020204020204" pitchFamily="34" charset="-122"/>
              <a:ea typeface="微软雅黑" panose="020B0503020204020204" pitchFamily="34" charset="-122"/>
            </a:rPr>
            <a:t>他们会问的问题，和你能问的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FC4D0F8-DEDF-4BCE-BF80-67E4B427C896}" type="par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F3F3CAE-D39D-441B-B8C7-915283B34055}" type="sibTrans" cxnId="{0234516F-8742-43E7-A093-A233A5F039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8A9E041-478D-4E22-8588-3F8D5E0095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雇主希望你说的，是没明着问出来的另一个问题的答案；</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629B5C95-7FD0-4D3C-9617-FE148834A911}" type="par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1B0A5E0-7A4B-4758-BB22-B81D71CEECCA}" type="sibTrans" cxnId="{1814E8B1-84A5-434C-BB2B-164E33EFB47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75BA8DE-AAD6-45B5-AB29-299B0B1B2292}">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面试中，遵循“</a:t>
          </a:r>
          <a:r>
            <a:rPr lang="en-US" sz="2400" b="1" dirty="0" smtClean="0">
              <a:solidFill>
                <a:srgbClr val="2777D8"/>
              </a:solidFill>
              <a:latin typeface="微软雅黑" panose="020B0503020204020204" pitchFamily="34" charset="-122"/>
              <a:ea typeface="微软雅黑" panose="020B0503020204020204" pitchFamily="34" charset="-122"/>
            </a:rPr>
            <a:t>50-50</a:t>
          </a:r>
          <a:r>
            <a:rPr lang="zh-CN" sz="2400" b="1" dirty="0" smtClean="0">
              <a:solidFill>
                <a:srgbClr val="2777D8"/>
              </a:solidFill>
              <a:latin typeface="微软雅黑" panose="020B0503020204020204" pitchFamily="34" charset="-122"/>
              <a:ea typeface="微软雅黑" panose="020B0503020204020204" pitchFamily="34" charset="-122"/>
            </a:rPr>
            <a:t>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BFB5255E-3473-49BD-B422-BB4FF7A20B45}" type="par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B8ADA45-910F-4533-86BD-7810220AF9FB}" type="sibTrans" cxnId="{571266F3-A77A-404A-BB1B-06BA22368C2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FB24E-E301-4AD8-BE6C-325D17588F5C}">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说，用</a:t>
          </a:r>
          <a:r>
            <a:rPr lang="en-US" sz="20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smtClean="0">
              <a:solidFill>
                <a:schemeClr val="accent5">
                  <a:lumMod val="50000"/>
                </a:schemeClr>
              </a:solidFill>
              <a:latin typeface="微软雅黑" panose="020B0503020204020204" pitchFamily="34" charset="-122"/>
              <a:ea typeface="微软雅黑" panose="020B0503020204020204" pitchFamily="34" charset="-122"/>
            </a:rPr>
            <a:t>的时间听；</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A7CBD04D-7184-4B86-A2CB-177D9C882191}" type="par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15C74DA-8A9C-4422-9330-741B9EB86E63}" type="sibTrans" cxnId="{1D14139F-65E9-4BA6-8202-6D089DE5ABF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5BDA8C71-296F-4979-8121-1077BB08BA06}">
      <dgm:prSet custT="1"/>
      <dgm:spPr/>
      <dgm:t>
        <a:bodyPr/>
        <a:lstStyle/>
        <a:p>
          <a:pPr rtl="0"/>
          <a:r>
            <a:rPr lang="zh-CN" sz="2400" b="1" dirty="0" smtClean="0">
              <a:solidFill>
                <a:srgbClr val="2777D8"/>
              </a:solidFill>
              <a:latin typeface="微软雅黑" panose="020B0503020204020204" pitchFamily="34" charset="-122"/>
              <a:ea typeface="微软雅黑" panose="020B0503020204020204" pitchFamily="34" charset="-122"/>
            </a:rPr>
            <a:t>回答问题时，遵循“</a:t>
          </a:r>
          <a:r>
            <a:rPr lang="en-US" sz="2400" b="1" dirty="0" smtClean="0">
              <a:solidFill>
                <a:srgbClr val="2777D8"/>
              </a:solidFill>
              <a:latin typeface="微软雅黑" panose="020B0503020204020204" pitchFamily="34" charset="-122"/>
              <a:ea typeface="微软雅黑" panose="020B0503020204020204" pitchFamily="34" charset="-122"/>
            </a:rPr>
            <a:t>20</a:t>
          </a:r>
          <a:r>
            <a:rPr lang="zh-CN" sz="2400" b="1" dirty="0" smtClean="0">
              <a:solidFill>
                <a:srgbClr val="2777D8"/>
              </a:solidFill>
              <a:latin typeface="微软雅黑" panose="020B0503020204020204" pitchFamily="34" charset="-122"/>
              <a:ea typeface="微软雅黑" panose="020B0503020204020204" pitchFamily="34" charset="-122"/>
            </a:rPr>
            <a:t>秒到</a:t>
          </a:r>
          <a:r>
            <a:rPr lang="en-US" sz="2400" b="1" dirty="0" smtClean="0">
              <a:solidFill>
                <a:srgbClr val="2777D8"/>
              </a:solidFill>
              <a:latin typeface="微软雅黑" panose="020B0503020204020204" pitchFamily="34" charset="-122"/>
              <a:ea typeface="微软雅黑" panose="020B0503020204020204" pitchFamily="34" charset="-122"/>
            </a:rPr>
            <a:t>2</a:t>
          </a:r>
          <a:r>
            <a:rPr lang="zh-CN" sz="2400" b="1" dirty="0" smtClean="0">
              <a:solidFill>
                <a:srgbClr val="2777D8"/>
              </a:solidFill>
              <a:latin typeface="微软雅黑" panose="020B0503020204020204" pitchFamily="34" charset="-122"/>
              <a:ea typeface="微软雅黑" panose="020B0503020204020204" pitchFamily="34" charset="-122"/>
            </a:rPr>
            <a:t>分钟”原则</a:t>
          </a:r>
          <a:endParaRPr lang="zh-CN" sz="2400" b="1" dirty="0">
            <a:solidFill>
              <a:srgbClr val="2777D8"/>
            </a:solidFill>
            <a:latin typeface="微软雅黑" panose="020B0503020204020204" pitchFamily="34" charset="-122"/>
            <a:ea typeface="微软雅黑" panose="020B0503020204020204" pitchFamily="34" charset="-122"/>
          </a:endParaRPr>
        </a:p>
      </dgm:t>
    </dgm:pt>
    <dgm:pt modelId="{4A658166-19E6-4C6B-ACAC-1F49557A6BE2}" type="par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6519594-B96F-41D9-BB8A-53ADD222857B}" type="sibTrans" cxnId="{0EF7A7A4-C562-43F7-905E-3283C913974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C2077DF-600C-48D3-A751-60DB855AEDA7}">
      <dgm:prSet custT="1"/>
      <dgm:spPr>
        <a:noFill/>
        <a:ln w="25400">
          <a:solidFill>
            <a:srgbClr val="2777D8"/>
          </a:solidFill>
          <a:prstDash val="sysDash"/>
        </a:ln>
      </dgm:spPr>
      <dgm:t>
        <a:bodyPr/>
        <a:lstStyle/>
        <a:p>
          <a:pPr rtl="0"/>
          <a:r>
            <a:rPr lang="zh-CN" sz="2000" smtClean="0">
              <a:solidFill>
                <a:schemeClr val="accent5">
                  <a:lumMod val="50000"/>
                </a:schemeClr>
              </a:solidFill>
              <a:latin typeface="微软雅黑" panose="020B0503020204020204" pitchFamily="34" charset="-122"/>
              <a:ea typeface="微软雅黑" panose="020B0503020204020204" pitchFamily="34" charset="-122"/>
            </a:rPr>
            <a:t>说话回答问题尽量不超过</a:t>
          </a:r>
          <a:r>
            <a:rPr lang="en-US" sz="2000" smtClean="0">
              <a:solidFill>
                <a:schemeClr val="accent5">
                  <a:lumMod val="50000"/>
                </a:schemeClr>
              </a:solidFill>
              <a:latin typeface="微软雅黑" panose="020B0503020204020204" pitchFamily="34" charset="-122"/>
              <a:ea typeface="微软雅黑" panose="020B0503020204020204" pitchFamily="34" charset="-122"/>
            </a:rPr>
            <a:t>2</a:t>
          </a:r>
          <a:r>
            <a:rPr lang="zh-CN" sz="20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094983A-00BF-4AE5-8215-098C437A999F}" type="par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CF06A87-35F1-4C54-97A9-AD21AA9D3C13}" type="sibTrans" cxnId="{6D2ED3CE-0033-4701-959F-62E19291E2E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EC28E6B-0E2D-4D7A-912D-2F108941301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最关心的是风险</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28C80382-D871-48FF-8D7A-5470CDB7D404}" type="par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BB2770A-E139-4BF9-ACAC-10D58A8EF74B}" type="sibTrans" cxnId="{D0CC36CC-9801-4CD2-BA45-56B9F5D22AA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20B3D191-3E55-4C08-AB56-9A609A6FE0DE}">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面试中强调你的唯一目标是“提升组织的效率、服务和标准”；</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4C97A90C-76A8-40EE-B125-F83DB2992C6E}" type="par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5B74F47-2577-460E-A075-B961D2C33C73}" type="sibTrans" cxnId="{13FBE369-E894-43E7-972B-4AAF896DCFBF}">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9E898A3-3EED-4605-AC0E-699A9E239A50}">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细节决定成败</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0E7B84F-E4D8-461C-BF25-3199965DE68C}" type="par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A299F6D-7D48-4243-B127-F6C90CEA5477}" type="sibTrans" cxnId="{478DA4A8-8137-405F-987F-F5B2FB840841}">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2CDB0F0-8D1A-4BC8-A84A-F954B51C6B8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形象和个人习惯、紧张表现、缺乏自信、对他人的态度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A76467B-1F1C-482A-97FA-FC9D12574F35}" type="par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1BDB7F4-F39A-4278-ACF7-C5E2985A42ED}" type="sibTrans" cxnId="{CDFFF2F2-C8B0-4392-86BE-AA94FDE289E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4EA246E-98AA-4F54-95D5-D578D47FCD1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关注大多数雇主都在乎的通用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C5103267-F92C-45F4-B90C-8884B33AF9FE}" type="par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0576C01-668E-4C7B-A534-6CE2370DBF7B}" type="sibTrans" cxnId="{8CECAA34-4339-4F83-8F34-EB072195164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EA5B0946-F626-4646-AEAE-31C4CF2385A0}">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守时排在第一位，你可以“笨”，但不可以不“努力”；</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3D852928-74B2-4CEE-BDAB-48A38AF29726}" type="par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39ECB5B-6E2A-4F5F-80CF-8106B513F4C8}" type="sibTrans" cxnId="{B3897DB7-1925-4033-BA6B-5F537135583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8541ABC-4FD1-4B37-8C0B-2440C7186539}">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面试时带证据，表明你具备某种能力</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5B5B50DF-5C2D-4F24-BBF3-7147D7EFCFD5}" type="par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074AC75-C345-44E7-B062-82940C64A6A5}" type="sibTrans" cxnId="{28EB7F62-0C79-4C9D-AEF0-0EB87A75A4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6A870066-74B4-45E9-990B-C4D459B12DD6}">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证书、产品、照片、视频、代码等；</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030F7204-5277-49E4-97E4-FAC8165BA9B9}" type="par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51B5AEC-96B9-4AED-B99C-7DD6115F2386}" type="sibTrans" cxnId="{842A2187-26A7-449C-BB6B-2C677B5784B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8E6DC84-12C4-4733-8DEE-7DD5AAF0F89F}">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即使前任雇主很糟糕，也不要在面试中贬损他们</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831E784C-C0B5-492A-9A1E-40934F97AAA3}" type="par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42138719-FE6D-4586-8936-83B63213823C}" type="sibTrans" cxnId="{E126C3E3-2DA2-43B6-997F-F2AE7DCEE782}">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3B5AC45-5608-46A8-944E-E801BAEC90D9}">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表达你对同盟军里所有成员的尊重；</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8FC878D-6E72-4E58-8862-8B3B8147C4BC}" type="par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0FAD2798-489C-4316-9AB8-B6C058D9E573}" type="sibTrans" cxnId="{5D8F5336-B7B8-4E93-87B7-FFB052C6F4F8}">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9B997B34-221D-4496-A1C8-A439AE7369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雇主不在乎你的过去</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46FAD773-4B1B-45A7-B794-B8E75103FAFE}" type="par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D5A5068-F8C8-4882-B01F-B89B4ED7EAB1}" type="sibTrans" cxnId="{F8533536-0CC9-472A-9251-1AE9222048F5}">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48A4253-6D56-45DF-B4FF-CD09F5A2E1FB}">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了解过去是为了预测你将来的行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8687D66E-5597-4865-9E48-4E719DEF25FA}" type="par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D906F3-FCA3-4DC6-B9D3-C5A0128831D1}" type="sibTrans" cxnId="{6F430587-5258-4244-BB57-B0C7096B369A}">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A4672CAE-D0E2-488D-89C8-C0E8F96F0EF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留心面试官问题的时间框架</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0F796A20-7E75-4DD4-8648-55C0A8B09D1B}" type="par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FD769867-DD88-469F-AB33-CE9193537472}" type="sibTrans" cxnId="{A34FDEA9-7389-4CA2-B7F5-0D675C06F58C}">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7527FEC-70F7-4888-A1DB-53EF1720928F}">
      <dgm:prSet custT="1"/>
      <dgm:spPr>
        <a:noFill/>
        <a:ln w="25400">
          <a:solidFill>
            <a:srgbClr val="2777D8"/>
          </a:solidFill>
          <a:prstDash val="sysDash"/>
        </a:ln>
      </dgm:spPr>
      <dgm:t>
        <a:bodyPr/>
        <a:lstStyle/>
        <a:p>
          <a:pPr rtl="0"/>
          <a:r>
            <a:rPr lang="zh-CN" altLang="en-US" sz="2000" smtClean="0">
              <a:solidFill>
                <a:schemeClr val="accent5">
                  <a:lumMod val="50000"/>
                </a:schemeClr>
              </a:solidFill>
              <a:latin typeface="微软雅黑" panose="020B0503020204020204" pitchFamily="34" charset="-122"/>
              <a:ea typeface="微软雅黑" panose="020B0503020204020204" pitchFamily="34" charset="-122"/>
            </a:rPr>
            <a:t>越是从过去移向将来，对你越有利；</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FF2DB0B2-1294-4E69-9712-DB7FB8C3D6F1}" type="par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4D25C3E-989B-40F7-8D90-8A8CF4245BFD}" type="sibTrans" cxnId="{B801EDD8-AC9C-441E-8494-A15483C80BE3}">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8BC7E0D7-671F-419E-9F6F-D63F9A7D8503}">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结束面试前，通常你要问五个问题</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DA9B3587-0A6E-49D9-A840-8AD1FF567A82}" type="par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730B37F8-9D69-4188-A816-B3AAAFDA4F6C}" type="sibTrans" cxnId="{E215D431-228F-47D1-A5EA-9C7FDAB9C4F4}">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B3F776D7-BF3C-4B24-A307-1E7E793D7C98}">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我能得到工作吗？什么时候能得到最终消息？最晚什么时候答复？我能联系您吗？其他人会对我感兴趣吗？（第一个问题否定再提出）</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B680E064-3AD4-488A-8F31-A2B0D89D3B1D}" type="par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8E2810-3E9B-4649-9DFB-3BAD46A23A3A}" type="sibTrans" cxnId="{1C9DBC89-CD53-4C1E-98C0-3AD39A08B207}">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3828330-15A8-4EF7-A4B7-BDF54B622464}">
      <dgm:prSet custT="1"/>
      <dgm:spPr/>
      <dgm:t>
        <a:bodyPr/>
        <a:lstStyle/>
        <a:p>
          <a:pPr rtl="0"/>
          <a:r>
            <a:rPr lang="zh-CN" altLang="en-US" sz="2400" b="1" smtClean="0">
              <a:solidFill>
                <a:srgbClr val="2777D8"/>
              </a:solidFill>
              <a:latin typeface="微软雅黑" panose="020B0503020204020204" pitchFamily="34" charset="-122"/>
              <a:ea typeface="微软雅黑" panose="020B0503020204020204" pitchFamily="34" charset="-122"/>
            </a:rPr>
            <a:t>写感谢信的重要性</a:t>
          </a:r>
          <a:endParaRPr lang="zh-CN" altLang="en-US" sz="2400" b="1" dirty="0">
            <a:solidFill>
              <a:srgbClr val="2777D8"/>
            </a:solidFill>
            <a:latin typeface="微软雅黑" panose="020B0503020204020204" pitchFamily="34" charset="-122"/>
            <a:ea typeface="微软雅黑" panose="020B0503020204020204" pitchFamily="34" charset="-122"/>
          </a:endParaRPr>
        </a:p>
      </dgm:t>
    </dgm:pt>
    <dgm:pt modelId="{F92B04FF-9E9B-44FE-8EB2-E7480C4EB780}" type="par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3647305F-960F-4701-9A54-C04E56F9240B}" type="sibTrans" cxnId="{2CC10D95-7203-4586-B6D8-5BC0DB3A83BE}">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C1774E7D-9FF5-4CDB-99F9-9EA58C8B7753}">
      <dgm:prSet custT="1"/>
      <dgm:spPr>
        <a:noFill/>
        <a:ln w="25400">
          <a:solidFill>
            <a:srgbClr val="2777D8"/>
          </a:solidFill>
          <a:prstDash val="sysDash"/>
        </a:ln>
      </dgm:spPr>
      <dgm:t>
        <a:bodyPr/>
        <a:lstStyle/>
        <a:p>
          <a:pPr rtl="0"/>
          <a:r>
            <a:rPr lang="zh-CN" altLang="en-US" sz="2000" dirty="0" smtClean="0">
              <a:solidFill>
                <a:schemeClr val="accent5">
                  <a:lumMod val="50000"/>
                </a:schemeClr>
              </a:solidFill>
              <a:latin typeface="微软雅黑" panose="020B0503020204020204" pitchFamily="34" charset="-122"/>
              <a:ea typeface="微软雅黑" panose="020B0503020204020204" pitchFamily="34" charset="-122"/>
            </a:rPr>
            <a:t>大多数求职者会忽略这个问题，感谢信不必太长，表达清楚即可；</a:t>
          </a:r>
          <a:endParaRPr lang="zh-CN" altLang="en-US" sz="2000" dirty="0">
            <a:solidFill>
              <a:schemeClr val="accent5">
                <a:lumMod val="50000"/>
              </a:schemeClr>
            </a:solidFill>
            <a:latin typeface="微软雅黑" panose="020B0503020204020204" pitchFamily="34" charset="-122"/>
            <a:ea typeface="微软雅黑" panose="020B0503020204020204" pitchFamily="34" charset="-122"/>
          </a:endParaRPr>
        </a:p>
      </dgm:t>
    </dgm:pt>
    <dgm:pt modelId="{71228E45-6F91-4A0B-8732-17661B45FA1D}" type="par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D4D198F6-EA85-4308-84C0-F36CC4CB4914}" type="sibTrans" cxnId="{EE479F61-AC12-44AC-8537-91B172C87780}">
      <dgm:prSet/>
      <dgm:spPr/>
      <dgm:t>
        <a:bodyPr/>
        <a:lstStyle/>
        <a:p>
          <a:endParaRPr lang="zh-CN" altLang="en-US" sz="1800">
            <a:latin typeface="微软雅黑" panose="020B0503020204020204" pitchFamily="34" charset="-122"/>
            <a:ea typeface="微软雅黑" panose="020B0503020204020204" pitchFamily="34" charset="-122"/>
          </a:endParaRPr>
        </a:p>
      </dgm:t>
    </dgm:pt>
    <dgm:pt modelId="{18F6336F-7BCE-4053-8D12-1F0F9E31E0A4}" type="pres">
      <dgm:prSet presAssocID="{D2CA7D92-4399-425E-AE63-0FCFB5C276F9}" presName="linear" presStyleCnt="0">
        <dgm:presLayoutVars>
          <dgm:dir/>
          <dgm:animLvl val="lvl"/>
          <dgm:resizeHandles val="exact"/>
        </dgm:presLayoutVars>
      </dgm:prSet>
      <dgm:spPr/>
      <dgm:t>
        <a:bodyPr/>
        <a:lstStyle/>
        <a:p>
          <a:endParaRPr lang="zh-CN" altLang="en-US"/>
        </a:p>
      </dgm:t>
    </dgm:pt>
    <dgm:pt modelId="{C207798F-6AAF-47DA-8408-AFF244554892}" type="pres">
      <dgm:prSet presAssocID="{10D5D77E-553E-4534-8610-E1A9FB67012B}" presName="parentLin" presStyleCnt="0"/>
      <dgm:spPr/>
    </dgm:pt>
    <dgm:pt modelId="{14CFD343-41C1-44D5-8CB8-B91671EC2DE1}" type="pres">
      <dgm:prSet presAssocID="{10D5D77E-553E-4534-8610-E1A9FB67012B}" presName="parentLeftMargin" presStyleLbl="node1" presStyleIdx="0" presStyleCnt="16"/>
      <dgm:spPr/>
      <dgm:t>
        <a:bodyPr/>
        <a:lstStyle/>
        <a:p>
          <a:endParaRPr lang="zh-CN" altLang="en-US"/>
        </a:p>
      </dgm:t>
    </dgm:pt>
    <dgm:pt modelId="{6780692F-6144-4940-BC88-C5223D80EAED}" type="pres">
      <dgm:prSet presAssocID="{10D5D77E-553E-4534-8610-E1A9FB67012B}" presName="parentText" presStyleLbl="node1" presStyleIdx="0" presStyleCnt="16">
        <dgm:presLayoutVars>
          <dgm:chMax val="0"/>
          <dgm:bulletEnabled val="1"/>
        </dgm:presLayoutVars>
      </dgm:prSet>
      <dgm:spPr/>
      <dgm:t>
        <a:bodyPr/>
        <a:lstStyle/>
        <a:p>
          <a:endParaRPr lang="zh-CN" altLang="en-US"/>
        </a:p>
      </dgm:t>
    </dgm:pt>
    <dgm:pt modelId="{4F2BCA67-44D7-441C-9DAE-CD920ABBF230}" type="pres">
      <dgm:prSet presAssocID="{10D5D77E-553E-4534-8610-E1A9FB67012B}" presName="negativeSpace" presStyleCnt="0"/>
      <dgm:spPr/>
    </dgm:pt>
    <dgm:pt modelId="{380D6C35-0EB3-4DE9-9AEE-9EA535447E4E}" type="pres">
      <dgm:prSet presAssocID="{10D5D77E-553E-4534-8610-E1A9FB67012B}" presName="childText" presStyleLbl="conFgAcc1" presStyleIdx="0" presStyleCnt="16">
        <dgm:presLayoutVars>
          <dgm:bulletEnabled val="1"/>
        </dgm:presLayoutVars>
      </dgm:prSet>
      <dgm:spPr/>
      <dgm:t>
        <a:bodyPr/>
        <a:lstStyle/>
        <a:p>
          <a:endParaRPr lang="zh-CN" altLang="en-US"/>
        </a:p>
      </dgm:t>
    </dgm:pt>
    <dgm:pt modelId="{577CF475-A43A-4C51-9D49-04D79FF936BE}" type="pres">
      <dgm:prSet presAssocID="{D2DB4217-5E54-4790-906D-945A107DEA66}" presName="spaceBetweenRectangles" presStyleCnt="0"/>
      <dgm:spPr/>
    </dgm:pt>
    <dgm:pt modelId="{1F964E2D-2633-4D24-9E8F-331FD4C081EE}" type="pres">
      <dgm:prSet presAssocID="{617E2F3B-5A85-44E0-982A-5E6A7F810295}" presName="parentLin" presStyleCnt="0"/>
      <dgm:spPr/>
    </dgm:pt>
    <dgm:pt modelId="{8670063A-C83C-4C1C-BDA8-CBFA7850170F}" type="pres">
      <dgm:prSet presAssocID="{617E2F3B-5A85-44E0-982A-5E6A7F810295}" presName="parentLeftMargin" presStyleLbl="node1" presStyleIdx="0" presStyleCnt="16"/>
      <dgm:spPr/>
      <dgm:t>
        <a:bodyPr/>
        <a:lstStyle/>
        <a:p>
          <a:endParaRPr lang="zh-CN" altLang="en-US"/>
        </a:p>
      </dgm:t>
    </dgm:pt>
    <dgm:pt modelId="{843B4C81-91C5-4A99-81ED-78665012860A}" type="pres">
      <dgm:prSet presAssocID="{617E2F3B-5A85-44E0-982A-5E6A7F810295}" presName="parentText" presStyleLbl="node1" presStyleIdx="1" presStyleCnt="16">
        <dgm:presLayoutVars>
          <dgm:chMax val="0"/>
          <dgm:bulletEnabled val="1"/>
        </dgm:presLayoutVars>
      </dgm:prSet>
      <dgm:spPr/>
      <dgm:t>
        <a:bodyPr/>
        <a:lstStyle/>
        <a:p>
          <a:endParaRPr lang="zh-CN" altLang="en-US"/>
        </a:p>
      </dgm:t>
    </dgm:pt>
    <dgm:pt modelId="{E4058E38-BECE-4078-9414-BFE8217F91DB}" type="pres">
      <dgm:prSet presAssocID="{617E2F3B-5A85-44E0-982A-5E6A7F810295}" presName="negativeSpace" presStyleCnt="0"/>
      <dgm:spPr/>
    </dgm:pt>
    <dgm:pt modelId="{60DE0B1A-82FC-4334-AB59-9F7AE40FEDDE}" type="pres">
      <dgm:prSet presAssocID="{617E2F3B-5A85-44E0-982A-5E6A7F810295}" presName="childText" presStyleLbl="conFgAcc1" presStyleIdx="1" presStyleCnt="16">
        <dgm:presLayoutVars>
          <dgm:bulletEnabled val="1"/>
        </dgm:presLayoutVars>
      </dgm:prSet>
      <dgm:spPr/>
      <dgm:t>
        <a:bodyPr/>
        <a:lstStyle/>
        <a:p>
          <a:endParaRPr lang="zh-CN" altLang="en-US"/>
        </a:p>
      </dgm:t>
    </dgm:pt>
    <dgm:pt modelId="{6C6A0D68-F398-4803-96C6-AA6ECFC051B6}" type="pres">
      <dgm:prSet presAssocID="{400147E1-37A4-4BD0-8432-84DE43294855}" presName="spaceBetweenRectangles" presStyleCnt="0"/>
      <dgm:spPr/>
    </dgm:pt>
    <dgm:pt modelId="{0DC6B7B0-6303-4057-B266-54E4B01F53CC}" type="pres">
      <dgm:prSet presAssocID="{0FB44C27-8C45-4946-B619-930DEABDC5A6}" presName="parentLin" presStyleCnt="0"/>
      <dgm:spPr/>
    </dgm:pt>
    <dgm:pt modelId="{5149450C-B593-4302-B9CB-5F8C39E2ACB7}" type="pres">
      <dgm:prSet presAssocID="{0FB44C27-8C45-4946-B619-930DEABDC5A6}" presName="parentLeftMargin" presStyleLbl="node1" presStyleIdx="1" presStyleCnt="16"/>
      <dgm:spPr/>
      <dgm:t>
        <a:bodyPr/>
        <a:lstStyle/>
        <a:p>
          <a:endParaRPr lang="zh-CN" altLang="en-US"/>
        </a:p>
      </dgm:t>
    </dgm:pt>
    <dgm:pt modelId="{3317BDF5-3258-432C-8406-2A05883319E6}" type="pres">
      <dgm:prSet presAssocID="{0FB44C27-8C45-4946-B619-930DEABDC5A6}" presName="parentText" presStyleLbl="node1" presStyleIdx="2" presStyleCnt="16">
        <dgm:presLayoutVars>
          <dgm:chMax val="0"/>
          <dgm:bulletEnabled val="1"/>
        </dgm:presLayoutVars>
      </dgm:prSet>
      <dgm:spPr/>
      <dgm:t>
        <a:bodyPr/>
        <a:lstStyle/>
        <a:p>
          <a:endParaRPr lang="zh-CN" altLang="en-US"/>
        </a:p>
      </dgm:t>
    </dgm:pt>
    <dgm:pt modelId="{8EE2D49E-8FE1-4382-9C1C-917AF273DC4E}" type="pres">
      <dgm:prSet presAssocID="{0FB44C27-8C45-4946-B619-930DEABDC5A6}" presName="negativeSpace" presStyleCnt="0"/>
      <dgm:spPr/>
    </dgm:pt>
    <dgm:pt modelId="{3CB48B57-56B9-4E73-9821-9364303DEECD}" type="pres">
      <dgm:prSet presAssocID="{0FB44C27-8C45-4946-B619-930DEABDC5A6}" presName="childText" presStyleLbl="conFgAcc1" presStyleIdx="2" presStyleCnt="16">
        <dgm:presLayoutVars>
          <dgm:bulletEnabled val="1"/>
        </dgm:presLayoutVars>
      </dgm:prSet>
      <dgm:spPr/>
      <dgm:t>
        <a:bodyPr/>
        <a:lstStyle/>
        <a:p>
          <a:endParaRPr lang="zh-CN" altLang="en-US"/>
        </a:p>
      </dgm:t>
    </dgm:pt>
    <dgm:pt modelId="{02281A1C-6767-4105-9845-5D1670075E15}" type="pres">
      <dgm:prSet presAssocID="{DA37CB89-3D42-4328-9B43-5D006668A740}" presName="spaceBetweenRectangles" presStyleCnt="0"/>
      <dgm:spPr/>
    </dgm:pt>
    <dgm:pt modelId="{ED744178-0AA3-4215-8F3C-D1C7045ADD19}" type="pres">
      <dgm:prSet presAssocID="{DB81F5B8-16FE-474B-8B88-AA74B4FB9853}" presName="parentLin" presStyleCnt="0"/>
      <dgm:spPr/>
    </dgm:pt>
    <dgm:pt modelId="{D78F80A6-E101-4D69-9024-05A4B0E3D224}" type="pres">
      <dgm:prSet presAssocID="{DB81F5B8-16FE-474B-8B88-AA74B4FB9853}" presName="parentLeftMargin" presStyleLbl="node1" presStyleIdx="2" presStyleCnt="16"/>
      <dgm:spPr/>
      <dgm:t>
        <a:bodyPr/>
        <a:lstStyle/>
        <a:p>
          <a:endParaRPr lang="zh-CN" altLang="en-US"/>
        </a:p>
      </dgm:t>
    </dgm:pt>
    <dgm:pt modelId="{A07BB598-26D2-44E9-B7E8-529A52DEB8A5}" type="pres">
      <dgm:prSet presAssocID="{DB81F5B8-16FE-474B-8B88-AA74B4FB9853}" presName="parentText" presStyleLbl="node1" presStyleIdx="3" presStyleCnt="16">
        <dgm:presLayoutVars>
          <dgm:chMax val="0"/>
          <dgm:bulletEnabled val="1"/>
        </dgm:presLayoutVars>
      </dgm:prSet>
      <dgm:spPr/>
      <dgm:t>
        <a:bodyPr/>
        <a:lstStyle/>
        <a:p>
          <a:endParaRPr lang="zh-CN" altLang="en-US"/>
        </a:p>
      </dgm:t>
    </dgm:pt>
    <dgm:pt modelId="{971ACE18-5E12-4C62-AA48-CAF470A34733}" type="pres">
      <dgm:prSet presAssocID="{DB81F5B8-16FE-474B-8B88-AA74B4FB9853}" presName="negativeSpace" presStyleCnt="0"/>
      <dgm:spPr/>
    </dgm:pt>
    <dgm:pt modelId="{29313BC3-419E-474C-AF4A-FC1BC03E8B43}" type="pres">
      <dgm:prSet presAssocID="{DB81F5B8-16FE-474B-8B88-AA74B4FB9853}" presName="childText" presStyleLbl="conFgAcc1" presStyleIdx="3" presStyleCnt="16">
        <dgm:presLayoutVars>
          <dgm:bulletEnabled val="1"/>
        </dgm:presLayoutVars>
      </dgm:prSet>
      <dgm:spPr/>
      <dgm:t>
        <a:bodyPr/>
        <a:lstStyle/>
        <a:p>
          <a:endParaRPr lang="zh-CN" altLang="en-US"/>
        </a:p>
      </dgm:t>
    </dgm:pt>
    <dgm:pt modelId="{729E3B0D-BC1F-430F-A6F6-556D123DDDC9}" type="pres">
      <dgm:prSet presAssocID="{7F376119-568D-43E3-9098-634677C44F97}" presName="spaceBetweenRectangles" presStyleCnt="0"/>
      <dgm:spPr/>
    </dgm:pt>
    <dgm:pt modelId="{0582B4F1-40CA-48DB-80E2-322CEE44BE71}" type="pres">
      <dgm:prSet presAssocID="{523BADAC-B332-43C3-BB0D-02A427A4DEFC}" presName="parentLin" presStyleCnt="0"/>
      <dgm:spPr/>
    </dgm:pt>
    <dgm:pt modelId="{95E9A9D9-8768-405B-931B-7D24237CEA11}" type="pres">
      <dgm:prSet presAssocID="{523BADAC-B332-43C3-BB0D-02A427A4DEFC}" presName="parentLeftMargin" presStyleLbl="node1" presStyleIdx="3" presStyleCnt="16"/>
      <dgm:spPr/>
      <dgm:t>
        <a:bodyPr/>
        <a:lstStyle/>
        <a:p>
          <a:endParaRPr lang="zh-CN" altLang="en-US"/>
        </a:p>
      </dgm:t>
    </dgm:pt>
    <dgm:pt modelId="{DA7A3EF9-CB5B-47EB-A111-A0F4E28DEA62}" type="pres">
      <dgm:prSet presAssocID="{523BADAC-B332-43C3-BB0D-02A427A4DEFC}" presName="parentText" presStyleLbl="node1" presStyleIdx="4" presStyleCnt="16">
        <dgm:presLayoutVars>
          <dgm:chMax val="0"/>
          <dgm:bulletEnabled val="1"/>
        </dgm:presLayoutVars>
      </dgm:prSet>
      <dgm:spPr/>
      <dgm:t>
        <a:bodyPr/>
        <a:lstStyle/>
        <a:p>
          <a:endParaRPr lang="zh-CN" altLang="en-US"/>
        </a:p>
      </dgm:t>
    </dgm:pt>
    <dgm:pt modelId="{5D300F10-361E-4117-A933-5751EF03FA60}" type="pres">
      <dgm:prSet presAssocID="{523BADAC-B332-43C3-BB0D-02A427A4DEFC}" presName="negativeSpace" presStyleCnt="0"/>
      <dgm:spPr/>
    </dgm:pt>
    <dgm:pt modelId="{6FA8E29D-B607-4136-BE57-C911DC7D1E2E}" type="pres">
      <dgm:prSet presAssocID="{523BADAC-B332-43C3-BB0D-02A427A4DEFC}" presName="childText" presStyleLbl="conFgAcc1" presStyleIdx="4" presStyleCnt="16">
        <dgm:presLayoutVars>
          <dgm:bulletEnabled val="1"/>
        </dgm:presLayoutVars>
      </dgm:prSet>
      <dgm:spPr/>
      <dgm:t>
        <a:bodyPr/>
        <a:lstStyle/>
        <a:p>
          <a:endParaRPr lang="zh-CN" altLang="en-US"/>
        </a:p>
      </dgm:t>
    </dgm:pt>
    <dgm:pt modelId="{C3F902AE-A30A-4D60-9BB9-F7A41D345D77}" type="pres">
      <dgm:prSet presAssocID="{EF3F3CAE-D39D-441B-B8C7-915283B34055}" presName="spaceBetweenRectangles" presStyleCnt="0"/>
      <dgm:spPr/>
    </dgm:pt>
    <dgm:pt modelId="{EB6CC6C4-5104-46D9-8350-AF132E92FF98}" type="pres">
      <dgm:prSet presAssocID="{E75BA8DE-AAD6-45B5-AB29-299B0B1B2292}" presName="parentLin" presStyleCnt="0"/>
      <dgm:spPr/>
    </dgm:pt>
    <dgm:pt modelId="{A44F3274-8AF4-4DE6-BD1F-4F6601F7F69B}" type="pres">
      <dgm:prSet presAssocID="{E75BA8DE-AAD6-45B5-AB29-299B0B1B2292}" presName="parentLeftMargin" presStyleLbl="node1" presStyleIdx="4" presStyleCnt="16"/>
      <dgm:spPr/>
      <dgm:t>
        <a:bodyPr/>
        <a:lstStyle/>
        <a:p>
          <a:endParaRPr lang="zh-CN" altLang="en-US"/>
        </a:p>
      </dgm:t>
    </dgm:pt>
    <dgm:pt modelId="{B3658B12-B8B9-4873-8247-7DF23FBE38A4}" type="pres">
      <dgm:prSet presAssocID="{E75BA8DE-AAD6-45B5-AB29-299B0B1B2292}" presName="parentText" presStyleLbl="node1" presStyleIdx="5" presStyleCnt="16">
        <dgm:presLayoutVars>
          <dgm:chMax val="0"/>
          <dgm:bulletEnabled val="1"/>
        </dgm:presLayoutVars>
      </dgm:prSet>
      <dgm:spPr/>
      <dgm:t>
        <a:bodyPr/>
        <a:lstStyle/>
        <a:p>
          <a:endParaRPr lang="zh-CN" altLang="en-US"/>
        </a:p>
      </dgm:t>
    </dgm:pt>
    <dgm:pt modelId="{B50EE207-9E62-4BEC-A9A3-2C3FB49191C2}" type="pres">
      <dgm:prSet presAssocID="{E75BA8DE-AAD6-45B5-AB29-299B0B1B2292}" presName="negativeSpace" presStyleCnt="0"/>
      <dgm:spPr/>
    </dgm:pt>
    <dgm:pt modelId="{83BD41D9-D555-4B6E-AF88-6135876BAD11}" type="pres">
      <dgm:prSet presAssocID="{E75BA8DE-AAD6-45B5-AB29-299B0B1B2292}" presName="childText" presStyleLbl="conFgAcc1" presStyleIdx="5" presStyleCnt="16">
        <dgm:presLayoutVars>
          <dgm:bulletEnabled val="1"/>
        </dgm:presLayoutVars>
      </dgm:prSet>
      <dgm:spPr/>
      <dgm:t>
        <a:bodyPr/>
        <a:lstStyle/>
        <a:p>
          <a:endParaRPr lang="zh-CN" altLang="en-US"/>
        </a:p>
      </dgm:t>
    </dgm:pt>
    <dgm:pt modelId="{BDEE9EB9-575F-4ADE-AFEE-32550ED0D2D1}" type="pres">
      <dgm:prSet presAssocID="{BB8ADA45-910F-4533-86BD-7810220AF9FB}" presName="spaceBetweenRectangles" presStyleCnt="0"/>
      <dgm:spPr/>
    </dgm:pt>
    <dgm:pt modelId="{6A0A5B1E-6A4B-4BF5-A009-69A903B0F6E0}" type="pres">
      <dgm:prSet presAssocID="{5BDA8C71-296F-4979-8121-1077BB08BA06}" presName="parentLin" presStyleCnt="0"/>
      <dgm:spPr/>
    </dgm:pt>
    <dgm:pt modelId="{AF7F76F5-DDD4-4E65-A694-1529C537D4C2}" type="pres">
      <dgm:prSet presAssocID="{5BDA8C71-296F-4979-8121-1077BB08BA06}" presName="parentLeftMargin" presStyleLbl="node1" presStyleIdx="5" presStyleCnt="16"/>
      <dgm:spPr/>
      <dgm:t>
        <a:bodyPr/>
        <a:lstStyle/>
        <a:p>
          <a:endParaRPr lang="zh-CN" altLang="en-US"/>
        </a:p>
      </dgm:t>
    </dgm:pt>
    <dgm:pt modelId="{D88BECAA-86B9-4794-8777-478AD6F4036C}" type="pres">
      <dgm:prSet presAssocID="{5BDA8C71-296F-4979-8121-1077BB08BA06}" presName="parentText" presStyleLbl="node1" presStyleIdx="6" presStyleCnt="16">
        <dgm:presLayoutVars>
          <dgm:chMax val="0"/>
          <dgm:bulletEnabled val="1"/>
        </dgm:presLayoutVars>
      </dgm:prSet>
      <dgm:spPr/>
      <dgm:t>
        <a:bodyPr/>
        <a:lstStyle/>
        <a:p>
          <a:endParaRPr lang="zh-CN" altLang="en-US"/>
        </a:p>
      </dgm:t>
    </dgm:pt>
    <dgm:pt modelId="{EF78DC30-A834-4560-8F41-19E23B1586EA}" type="pres">
      <dgm:prSet presAssocID="{5BDA8C71-296F-4979-8121-1077BB08BA06}" presName="negativeSpace" presStyleCnt="0"/>
      <dgm:spPr/>
    </dgm:pt>
    <dgm:pt modelId="{452A13A7-DF69-43D0-9AC0-5E60240B50E5}" type="pres">
      <dgm:prSet presAssocID="{5BDA8C71-296F-4979-8121-1077BB08BA06}" presName="childText" presStyleLbl="conFgAcc1" presStyleIdx="6" presStyleCnt="16">
        <dgm:presLayoutVars>
          <dgm:bulletEnabled val="1"/>
        </dgm:presLayoutVars>
      </dgm:prSet>
      <dgm:spPr/>
      <dgm:t>
        <a:bodyPr/>
        <a:lstStyle/>
        <a:p>
          <a:endParaRPr lang="zh-CN" altLang="en-US"/>
        </a:p>
      </dgm:t>
    </dgm:pt>
    <dgm:pt modelId="{56CEEF1E-9572-4776-87CE-DC5FC7B65FFB}" type="pres">
      <dgm:prSet presAssocID="{96519594-B96F-41D9-BB8A-53ADD222857B}" presName="spaceBetweenRectangles" presStyleCnt="0"/>
      <dgm:spPr/>
    </dgm:pt>
    <dgm:pt modelId="{A692F03C-AE0F-460F-8714-B7FD390BAE94}" type="pres">
      <dgm:prSet presAssocID="{DEC28E6B-0E2D-4D7A-912D-2F1089413019}" presName="parentLin" presStyleCnt="0"/>
      <dgm:spPr/>
    </dgm:pt>
    <dgm:pt modelId="{4F4E1487-B7A9-4E26-9C59-F38BBE374A19}" type="pres">
      <dgm:prSet presAssocID="{DEC28E6B-0E2D-4D7A-912D-2F1089413019}" presName="parentLeftMargin" presStyleLbl="node1" presStyleIdx="6" presStyleCnt="16"/>
      <dgm:spPr/>
      <dgm:t>
        <a:bodyPr/>
        <a:lstStyle/>
        <a:p>
          <a:endParaRPr lang="zh-CN" altLang="en-US"/>
        </a:p>
      </dgm:t>
    </dgm:pt>
    <dgm:pt modelId="{370407C8-1391-4FD9-9557-87AF60D5AB26}" type="pres">
      <dgm:prSet presAssocID="{DEC28E6B-0E2D-4D7A-912D-2F1089413019}" presName="parentText" presStyleLbl="node1" presStyleIdx="7" presStyleCnt="16">
        <dgm:presLayoutVars>
          <dgm:chMax val="0"/>
          <dgm:bulletEnabled val="1"/>
        </dgm:presLayoutVars>
      </dgm:prSet>
      <dgm:spPr/>
      <dgm:t>
        <a:bodyPr/>
        <a:lstStyle/>
        <a:p>
          <a:endParaRPr lang="zh-CN" altLang="en-US"/>
        </a:p>
      </dgm:t>
    </dgm:pt>
    <dgm:pt modelId="{1C086DBF-AF46-41EA-B395-685DBF494A3E}" type="pres">
      <dgm:prSet presAssocID="{DEC28E6B-0E2D-4D7A-912D-2F1089413019}" presName="negativeSpace" presStyleCnt="0"/>
      <dgm:spPr/>
    </dgm:pt>
    <dgm:pt modelId="{13A97048-02AB-40B2-9225-60A06691AEAA}" type="pres">
      <dgm:prSet presAssocID="{DEC28E6B-0E2D-4D7A-912D-2F1089413019}" presName="childText" presStyleLbl="conFgAcc1" presStyleIdx="7" presStyleCnt="16">
        <dgm:presLayoutVars>
          <dgm:bulletEnabled val="1"/>
        </dgm:presLayoutVars>
      </dgm:prSet>
      <dgm:spPr/>
      <dgm:t>
        <a:bodyPr/>
        <a:lstStyle/>
        <a:p>
          <a:endParaRPr lang="zh-CN" altLang="en-US"/>
        </a:p>
      </dgm:t>
    </dgm:pt>
    <dgm:pt modelId="{42F8B485-E867-4062-B1C3-D24B97E4025F}" type="pres">
      <dgm:prSet presAssocID="{DBB2770A-E139-4BF9-ACAC-10D58A8EF74B}" presName="spaceBetweenRectangles" presStyleCnt="0"/>
      <dgm:spPr/>
    </dgm:pt>
    <dgm:pt modelId="{A3A45BB9-0865-4485-872A-68B86CE4DB76}" type="pres">
      <dgm:prSet presAssocID="{C9E898A3-3EED-4605-AC0E-699A9E239A50}" presName="parentLin" presStyleCnt="0"/>
      <dgm:spPr/>
    </dgm:pt>
    <dgm:pt modelId="{AAE17E7C-505B-44A5-8824-D02D5DE84084}" type="pres">
      <dgm:prSet presAssocID="{C9E898A3-3EED-4605-AC0E-699A9E239A50}" presName="parentLeftMargin" presStyleLbl="node1" presStyleIdx="7" presStyleCnt="16"/>
      <dgm:spPr/>
      <dgm:t>
        <a:bodyPr/>
        <a:lstStyle/>
        <a:p>
          <a:endParaRPr lang="zh-CN" altLang="en-US"/>
        </a:p>
      </dgm:t>
    </dgm:pt>
    <dgm:pt modelId="{36C8C100-348D-40A0-8BE6-FF674F0AF2DE}" type="pres">
      <dgm:prSet presAssocID="{C9E898A3-3EED-4605-AC0E-699A9E239A50}" presName="parentText" presStyleLbl="node1" presStyleIdx="8" presStyleCnt="16">
        <dgm:presLayoutVars>
          <dgm:chMax val="0"/>
          <dgm:bulletEnabled val="1"/>
        </dgm:presLayoutVars>
      </dgm:prSet>
      <dgm:spPr/>
      <dgm:t>
        <a:bodyPr/>
        <a:lstStyle/>
        <a:p>
          <a:endParaRPr lang="zh-CN" altLang="en-US"/>
        </a:p>
      </dgm:t>
    </dgm:pt>
    <dgm:pt modelId="{718FB6AA-B41E-4FC4-988A-061BD71045EE}" type="pres">
      <dgm:prSet presAssocID="{C9E898A3-3EED-4605-AC0E-699A9E239A50}" presName="negativeSpace" presStyleCnt="0"/>
      <dgm:spPr/>
    </dgm:pt>
    <dgm:pt modelId="{0409EF26-FEF3-4405-B7D2-953BB1BA5E9C}" type="pres">
      <dgm:prSet presAssocID="{C9E898A3-3EED-4605-AC0E-699A9E239A50}" presName="childText" presStyleLbl="conFgAcc1" presStyleIdx="8" presStyleCnt="16">
        <dgm:presLayoutVars>
          <dgm:bulletEnabled val="1"/>
        </dgm:presLayoutVars>
      </dgm:prSet>
      <dgm:spPr/>
      <dgm:t>
        <a:bodyPr/>
        <a:lstStyle/>
        <a:p>
          <a:endParaRPr lang="zh-CN" altLang="en-US"/>
        </a:p>
      </dgm:t>
    </dgm:pt>
    <dgm:pt modelId="{FC71C343-FC4E-499F-9D7E-4E1D903DEE21}" type="pres">
      <dgm:prSet presAssocID="{DA299F6D-7D48-4243-B127-F6C90CEA5477}" presName="spaceBetweenRectangles" presStyleCnt="0"/>
      <dgm:spPr/>
    </dgm:pt>
    <dgm:pt modelId="{9D116D14-A54E-4AC2-A519-24B189E93EA3}" type="pres">
      <dgm:prSet presAssocID="{74EA246E-98AA-4F54-95D5-D578D47FCD13}" presName="parentLin" presStyleCnt="0"/>
      <dgm:spPr/>
    </dgm:pt>
    <dgm:pt modelId="{5A79498A-4800-4446-947D-6C938897A244}" type="pres">
      <dgm:prSet presAssocID="{74EA246E-98AA-4F54-95D5-D578D47FCD13}" presName="parentLeftMargin" presStyleLbl="node1" presStyleIdx="8" presStyleCnt="16"/>
      <dgm:spPr/>
      <dgm:t>
        <a:bodyPr/>
        <a:lstStyle/>
        <a:p>
          <a:endParaRPr lang="zh-CN" altLang="en-US"/>
        </a:p>
      </dgm:t>
    </dgm:pt>
    <dgm:pt modelId="{ED636ECD-F43A-4026-8106-4B98E55266F9}" type="pres">
      <dgm:prSet presAssocID="{74EA246E-98AA-4F54-95D5-D578D47FCD13}" presName="parentText" presStyleLbl="node1" presStyleIdx="9" presStyleCnt="16">
        <dgm:presLayoutVars>
          <dgm:chMax val="0"/>
          <dgm:bulletEnabled val="1"/>
        </dgm:presLayoutVars>
      </dgm:prSet>
      <dgm:spPr/>
      <dgm:t>
        <a:bodyPr/>
        <a:lstStyle/>
        <a:p>
          <a:endParaRPr lang="zh-CN" altLang="en-US"/>
        </a:p>
      </dgm:t>
    </dgm:pt>
    <dgm:pt modelId="{C2BBF99A-6899-4413-9D88-C1A9B7878543}" type="pres">
      <dgm:prSet presAssocID="{74EA246E-98AA-4F54-95D5-D578D47FCD13}" presName="negativeSpace" presStyleCnt="0"/>
      <dgm:spPr/>
    </dgm:pt>
    <dgm:pt modelId="{DEB3A97E-4F32-417D-8130-EB354B8360B1}" type="pres">
      <dgm:prSet presAssocID="{74EA246E-98AA-4F54-95D5-D578D47FCD13}" presName="childText" presStyleLbl="conFgAcc1" presStyleIdx="9" presStyleCnt="16">
        <dgm:presLayoutVars>
          <dgm:bulletEnabled val="1"/>
        </dgm:presLayoutVars>
      </dgm:prSet>
      <dgm:spPr/>
      <dgm:t>
        <a:bodyPr/>
        <a:lstStyle/>
        <a:p>
          <a:endParaRPr lang="zh-CN" altLang="en-US"/>
        </a:p>
      </dgm:t>
    </dgm:pt>
    <dgm:pt modelId="{88C97614-C003-4F8D-AFEF-C26EE9E3AC77}" type="pres">
      <dgm:prSet presAssocID="{80576C01-668E-4C7B-A534-6CE2370DBF7B}" presName="spaceBetweenRectangles" presStyleCnt="0"/>
      <dgm:spPr/>
    </dgm:pt>
    <dgm:pt modelId="{EFC00DB2-69D6-4F29-8D91-D1FEF7663E77}" type="pres">
      <dgm:prSet presAssocID="{A8541ABC-4FD1-4B37-8C0B-2440C7186539}" presName="parentLin" presStyleCnt="0"/>
      <dgm:spPr/>
    </dgm:pt>
    <dgm:pt modelId="{25527203-C498-45C3-A734-379AE2A3595A}" type="pres">
      <dgm:prSet presAssocID="{A8541ABC-4FD1-4B37-8C0B-2440C7186539}" presName="parentLeftMargin" presStyleLbl="node1" presStyleIdx="9" presStyleCnt="16"/>
      <dgm:spPr/>
      <dgm:t>
        <a:bodyPr/>
        <a:lstStyle/>
        <a:p>
          <a:endParaRPr lang="zh-CN" altLang="en-US"/>
        </a:p>
      </dgm:t>
    </dgm:pt>
    <dgm:pt modelId="{B7823A1F-B734-422B-8ABE-ADBA2AB692FA}" type="pres">
      <dgm:prSet presAssocID="{A8541ABC-4FD1-4B37-8C0B-2440C7186539}" presName="parentText" presStyleLbl="node1" presStyleIdx="10" presStyleCnt="16">
        <dgm:presLayoutVars>
          <dgm:chMax val="0"/>
          <dgm:bulletEnabled val="1"/>
        </dgm:presLayoutVars>
      </dgm:prSet>
      <dgm:spPr/>
      <dgm:t>
        <a:bodyPr/>
        <a:lstStyle/>
        <a:p>
          <a:endParaRPr lang="zh-CN" altLang="en-US"/>
        </a:p>
      </dgm:t>
    </dgm:pt>
    <dgm:pt modelId="{ABFC5EF7-0BCE-4CB7-9522-2ACEE3B5F501}" type="pres">
      <dgm:prSet presAssocID="{A8541ABC-4FD1-4B37-8C0B-2440C7186539}" presName="negativeSpace" presStyleCnt="0"/>
      <dgm:spPr/>
    </dgm:pt>
    <dgm:pt modelId="{9B03B26D-F009-4086-BD31-2AEAFD444E62}" type="pres">
      <dgm:prSet presAssocID="{A8541ABC-4FD1-4B37-8C0B-2440C7186539}" presName="childText" presStyleLbl="conFgAcc1" presStyleIdx="10" presStyleCnt="16">
        <dgm:presLayoutVars>
          <dgm:bulletEnabled val="1"/>
        </dgm:presLayoutVars>
      </dgm:prSet>
      <dgm:spPr/>
      <dgm:t>
        <a:bodyPr/>
        <a:lstStyle/>
        <a:p>
          <a:endParaRPr lang="zh-CN" altLang="en-US"/>
        </a:p>
      </dgm:t>
    </dgm:pt>
    <dgm:pt modelId="{354C408F-BB2D-4272-B340-69DA17F3BD99}" type="pres">
      <dgm:prSet presAssocID="{B074AC75-C345-44E7-B062-82940C64A6A5}" presName="spaceBetweenRectangles" presStyleCnt="0"/>
      <dgm:spPr/>
    </dgm:pt>
    <dgm:pt modelId="{75283A0E-F389-4681-85E0-D2B0A38083B3}" type="pres">
      <dgm:prSet presAssocID="{C8E6DC84-12C4-4733-8DEE-7DD5AAF0F89F}" presName="parentLin" presStyleCnt="0"/>
      <dgm:spPr/>
    </dgm:pt>
    <dgm:pt modelId="{27FF6C95-181E-46A0-97B6-A26BC1DF1150}" type="pres">
      <dgm:prSet presAssocID="{C8E6DC84-12C4-4733-8DEE-7DD5AAF0F89F}" presName="parentLeftMargin" presStyleLbl="node1" presStyleIdx="10" presStyleCnt="16"/>
      <dgm:spPr/>
      <dgm:t>
        <a:bodyPr/>
        <a:lstStyle/>
        <a:p>
          <a:endParaRPr lang="zh-CN" altLang="en-US"/>
        </a:p>
      </dgm:t>
    </dgm:pt>
    <dgm:pt modelId="{84B4A16B-1444-46EA-84E4-781F5353EC04}" type="pres">
      <dgm:prSet presAssocID="{C8E6DC84-12C4-4733-8DEE-7DD5AAF0F89F}" presName="parentText" presStyleLbl="node1" presStyleIdx="11" presStyleCnt="16">
        <dgm:presLayoutVars>
          <dgm:chMax val="0"/>
          <dgm:bulletEnabled val="1"/>
        </dgm:presLayoutVars>
      </dgm:prSet>
      <dgm:spPr/>
      <dgm:t>
        <a:bodyPr/>
        <a:lstStyle/>
        <a:p>
          <a:endParaRPr lang="zh-CN" altLang="en-US"/>
        </a:p>
      </dgm:t>
    </dgm:pt>
    <dgm:pt modelId="{207CC047-4632-4C92-9BEA-BF33C5073C3D}" type="pres">
      <dgm:prSet presAssocID="{C8E6DC84-12C4-4733-8DEE-7DD5AAF0F89F}" presName="negativeSpace" presStyleCnt="0"/>
      <dgm:spPr/>
    </dgm:pt>
    <dgm:pt modelId="{232357A8-4C16-4EAC-A6F3-B579D2BA91E8}" type="pres">
      <dgm:prSet presAssocID="{C8E6DC84-12C4-4733-8DEE-7DD5AAF0F89F}" presName="childText" presStyleLbl="conFgAcc1" presStyleIdx="11" presStyleCnt="16">
        <dgm:presLayoutVars>
          <dgm:bulletEnabled val="1"/>
        </dgm:presLayoutVars>
      </dgm:prSet>
      <dgm:spPr/>
      <dgm:t>
        <a:bodyPr/>
        <a:lstStyle/>
        <a:p>
          <a:endParaRPr lang="zh-CN" altLang="en-US"/>
        </a:p>
      </dgm:t>
    </dgm:pt>
    <dgm:pt modelId="{D4F347AA-8F4A-4EDE-A8F2-E6E3CE5BE0CD}" type="pres">
      <dgm:prSet presAssocID="{42138719-FE6D-4586-8936-83B63213823C}" presName="spaceBetweenRectangles" presStyleCnt="0"/>
      <dgm:spPr/>
    </dgm:pt>
    <dgm:pt modelId="{54F7A63F-FDAC-4816-86AB-0824B6E743C5}" type="pres">
      <dgm:prSet presAssocID="{9B997B34-221D-4496-A1C8-A439AE736903}" presName="parentLin" presStyleCnt="0"/>
      <dgm:spPr/>
    </dgm:pt>
    <dgm:pt modelId="{525DADCF-CDE5-4EE8-AE46-3F8D08D21E52}" type="pres">
      <dgm:prSet presAssocID="{9B997B34-221D-4496-A1C8-A439AE736903}" presName="parentLeftMargin" presStyleLbl="node1" presStyleIdx="11" presStyleCnt="16"/>
      <dgm:spPr/>
      <dgm:t>
        <a:bodyPr/>
        <a:lstStyle/>
        <a:p>
          <a:endParaRPr lang="zh-CN" altLang="en-US"/>
        </a:p>
      </dgm:t>
    </dgm:pt>
    <dgm:pt modelId="{C4BD8598-E35E-49CB-9751-094BA715F9D4}" type="pres">
      <dgm:prSet presAssocID="{9B997B34-221D-4496-A1C8-A439AE736903}" presName="parentText" presStyleLbl="node1" presStyleIdx="12" presStyleCnt="16">
        <dgm:presLayoutVars>
          <dgm:chMax val="0"/>
          <dgm:bulletEnabled val="1"/>
        </dgm:presLayoutVars>
      </dgm:prSet>
      <dgm:spPr/>
      <dgm:t>
        <a:bodyPr/>
        <a:lstStyle/>
        <a:p>
          <a:endParaRPr lang="zh-CN" altLang="en-US"/>
        </a:p>
      </dgm:t>
    </dgm:pt>
    <dgm:pt modelId="{0E0128C2-28BC-41E9-85C6-B878FD8660D1}" type="pres">
      <dgm:prSet presAssocID="{9B997B34-221D-4496-A1C8-A439AE736903}" presName="negativeSpace" presStyleCnt="0"/>
      <dgm:spPr/>
    </dgm:pt>
    <dgm:pt modelId="{80C0C129-3E79-493B-87D5-018B38203BAE}" type="pres">
      <dgm:prSet presAssocID="{9B997B34-221D-4496-A1C8-A439AE736903}" presName="childText" presStyleLbl="conFgAcc1" presStyleIdx="12" presStyleCnt="16">
        <dgm:presLayoutVars>
          <dgm:bulletEnabled val="1"/>
        </dgm:presLayoutVars>
      </dgm:prSet>
      <dgm:spPr/>
      <dgm:t>
        <a:bodyPr/>
        <a:lstStyle/>
        <a:p>
          <a:endParaRPr lang="zh-CN" altLang="en-US"/>
        </a:p>
      </dgm:t>
    </dgm:pt>
    <dgm:pt modelId="{817F92ED-A834-417B-9945-6995537BC29D}" type="pres">
      <dgm:prSet presAssocID="{BD5A5068-F8C8-4882-B01F-B89B4ED7EAB1}" presName="spaceBetweenRectangles" presStyleCnt="0"/>
      <dgm:spPr/>
    </dgm:pt>
    <dgm:pt modelId="{2F1CAE23-14ED-42E2-8112-AA7A9505354B}" type="pres">
      <dgm:prSet presAssocID="{A4672CAE-D0E2-488D-89C8-C0E8F96F0EF3}" presName="parentLin" presStyleCnt="0"/>
      <dgm:spPr/>
    </dgm:pt>
    <dgm:pt modelId="{590897A8-4AD6-4C9E-B83B-97CA3188EE23}" type="pres">
      <dgm:prSet presAssocID="{A4672CAE-D0E2-488D-89C8-C0E8F96F0EF3}" presName="parentLeftMargin" presStyleLbl="node1" presStyleIdx="12" presStyleCnt="16"/>
      <dgm:spPr/>
      <dgm:t>
        <a:bodyPr/>
        <a:lstStyle/>
        <a:p>
          <a:endParaRPr lang="zh-CN" altLang="en-US"/>
        </a:p>
      </dgm:t>
    </dgm:pt>
    <dgm:pt modelId="{D6835FFC-553C-489F-B730-2382417A3A59}" type="pres">
      <dgm:prSet presAssocID="{A4672CAE-D0E2-488D-89C8-C0E8F96F0EF3}" presName="parentText" presStyleLbl="node1" presStyleIdx="13" presStyleCnt="16">
        <dgm:presLayoutVars>
          <dgm:chMax val="0"/>
          <dgm:bulletEnabled val="1"/>
        </dgm:presLayoutVars>
      </dgm:prSet>
      <dgm:spPr/>
      <dgm:t>
        <a:bodyPr/>
        <a:lstStyle/>
        <a:p>
          <a:endParaRPr lang="zh-CN" altLang="en-US"/>
        </a:p>
      </dgm:t>
    </dgm:pt>
    <dgm:pt modelId="{A2299556-2B67-4311-AC15-DA00EA4118F2}" type="pres">
      <dgm:prSet presAssocID="{A4672CAE-D0E2-488D-89C8-C0E8F96F0EF3}" presName="negativeSpace" presStyleCnt="0"/>
      <dgm:spPr/>
    </dgm:pt>
    <dgm:pt modelId="{4AD75E93-CFCF-4FB1-AD20-52BA80041ECB}" type="pres">
      <dgm:prSet presAssocID="{A4672CAE-D0E2-488D-89C8-C0E8F96F0EF3}" presName="childText" presStyleLbl="conFgAcc1" presStyleIdx="13" presStyleCnt="16">
        <dgm:presLayoutVars>
          <dgm:bulletEnabled val="1"/>
        </dgm:presLayoutVars>
      </dgm:prSet>
      <dgm:spPr/>
      <dgm:t>
        <a:bodyPr/>
        <a:lstStyle/>
        <a:p>
          <a:endParaRPr lang="zh-CN" altLang="en-US"/>
        </a:p>
      </dgm:t>
    </dgm:pt>
    <dgm:pt modelId="{1A8363CF-3BF3-4CAC-A21D-2C2F05911418}" type="pres">
      <dgm:prSet presAssocID="{FD769867-DD88-469F-AB33-CE9193537472}" presName="spaceBetweenRectangles" presStyleCnt="0"/>
      <dgm:spPr/>
    </dgm:pt>
    <dgm:pt modelId="{56BCD260-BBDC-4210-9A64-30649DC47AFA}" type="pres">
      <dgm:prSet presAssocID="{8BC7E0D7-671F-419E-9F6F-D63F9A7D8503}" presName="parentLin" presStyleCnt="0"/>
      <dgm:spPr/>
    </dgm:pt>
    <dgm:pt modelId="{03B18BD3-AB98-47BF-B568-E8F4D8084EA1}" type="pres">
      <dgm:prSet presAssocID="{8BC7E0D7-671F-419E-9F6F-D63F9A7D8503}" presName="parentLeftMargin" presStyleLbl="node1" presStyleIdx="13" presStyleCnt="16"/>
      <dgm:spPr/>
      <dgm:t>
        <a:bodyPr/>
        <a:lstStyle/>
        <a:p>
          <a:endParaRPr lang="zh-CN" altLang="en-US"/>
        </a:p>
      </dgm:t>
    </dgm:pt>
    <dgm:pt modelId="{5AEC349D-0BAD-4435-AB5B-0C0F674B6AEF}" type="pres">
      <dgm:prSet presAssocID="{8BC7E0D7-671F-419E-9F6F-D63F9A7D8503}" presName="parentText" presStyleLbl="node1" presStyleIdx="14" presStyleCnt="16">
        <dgm:presLayoutVars>
          <dgm:chMax val="0"/>
          <dgm:bulletEnabled val="1"/>
        </dgm:presLayoutVars>
      </dgm:prSet>
      <dgm:spPr/>
      <dgm:t>
        <a:bodyPr/>
        <a:lstStyle/>
        <a:p>
          <a:endParaRPr lang="zh-CN" altLang="en-US"/>
        </a:p>
      </dgm:t>
    </dgm:pt>
    <dgm:pt modelId="{CE420BE9-7896-4224-B8C7-6394456D2A33}" type="pres">
      <dgm:prSet presAssocID="{8BC7E0D7-671F-419E-9F6F-D63F9A7D8503}" presName="negativeSpace" presStyleCnt="0"/>
      <dgm:spPr/>
    </dgm:pt>
    <dgm:pt modelId="{C81B069E-D033-4F78-BACE-5F1A1EB362C7}" type="pres">
      <dgm:prSet presAssocID="{8BC7E0D7-671F-419E-9F6F-D63F9A7D8503}" presName="childText" presStyleLbl="conFgAcc1" presStyleIdx="14" presStyleCnt="16">
        <dgm:presLayoutVars>
          <dgm:bulletEnabled val="1"/>
        </dgm:presLayoutVars>
      </dgm:prSet>
      <dgm:spPr/>
      <dgm:t>
        <a:bodyPr/>
        <a:lstStyle/>
        <a:p>
          <a:endParaRPr lang="zh-CN" altLang="en-US"/>
        </a:p>
      </dgm:t>
    </dgm:pt>
    <dgm:pt modelId="{FCFCE7F1-F25C-446E-9C82-849585E625CC}" type="pres">
      <dgm:prSet presAssocID="{730B37F8-9D69-4188-A816-B3AAAFDA4F6C}" presName="spaceBetweenRectangles" presStyleCnt="0"/>
      <dgm:spPr/>
    </dgm:pt>
    <dgm:pt modelId="{CB835BF8-5A95-4C30-806F-6A393705025E}" type="pres">
      <dgm:prSet presAssocID="{D3828330-15A8-4EF7-A4B7-BDF54B622464}" presName="parentLin" presStyleCnt="0"/>
      <dgm:spPr/>
    </dgm:pt>
    <dgm:pt modelId="{2C061E25-503B-440C-87C9-D336C48D3A2B}" type="pres">
      <dgm:prSet presAssocID="{D3828330-15A8-4EF7-A4B7-BDF54B622464}" presName="parentLeftMargin" presStyleLbl="node1" presStyleIdx="14" presStyleCnt="16"/>
      <dgm:spPr/>
      <dgm:t>
        <a:bodyPr/>
        <a:lstStyle/>
        <a:p>
          <a:endParaRPr lang="zh-CN" altLang="en-US"/>
        </a:p>
      </dgm:t>
    </dgm:pt>
    <dgm:pt modelId="{9A6C1276-CCF5-4947-A94B-41E17741E0BD}" type="pres">
      <dgm:prSet presAssocID="{D3828330-15A8-4EF7-A4B7-BDF54B622464}" presName="parentText" presStyleLbl="node1" presStyleIdx="15" presStyleCnt="16">
        <dgm:presLayoutVars>
          <dgm:chMax val="0"/>
          <dgm:bulletEnabled val="1"/>
        </dgm:presLayoutVars>
      </dgm:prSet>
      <dgm:spPr/>
      <dgm:t>
        <a:bodyPr/>
        <a:lstStyle/>
        <a:p>
          <a:endParaRPr lang="zh-CN" altLang="en-US"/>
        </a:p>
      </dgm:t>
    </dgm:pt>
    <dgm:pt modelId="{D72F0017-55A4-45C3-A2FE-C27E3534C784}" type="pres">
      <dgm:prSet presAssocID="{D3828330-15A8-4EF7-A4B7-BDF54B622464}" presName="negativeSpace" presStyleCnt="0"/>
      <dgm:spPr/>
    </dgm:pt>
    <dgm:pt modelId="{5A53EC70-4FBF-4D04-9FD1-7CDC155E5906}" type="pres">
      <dgm:prSet presAssocID="{D3828330-15A8-4EF7-A4B7-BDF54B622464}" presName="childText" presStyleLbl="conFgAcc1" presStyleIdx="15" presStyleCnt="16">
        <dgm:presLayoutVars>
          <dgm:bulletEnabled val="1"/>
        </dgm:presLayoutVars>
      </dgm:prSet>
      <dgm:spPr/>
      <dgm:t>
        <a:bodyPr/>
        <a:lstStyle/>
        <a:p>
          <a:endParaRPr lang="zh-CN" altLang="en-US"/>
        </a:p>
      </dgm:t>
    </dgm:pt>
  </dgm:ptLst>
  <dgm:cxnLst>
    <dgm:cxn modelId="{DD400882-0424-48BA-A654-E933F6C8163A}" type="presOf" srcId="{F51B1F1B-430D-4C93-B5D0-549A2F55C06C}" destId="{60DE0B1A-82FC-4334-AB59-9F7AE40FEDDE}" srcOrd="0" destOrd="0" presId="urn:microsoft.com/office/officeart/2005/8/layout/list1"/>
    <dgm:cxn modelId="{1F6E75B3-2A7F-4A6A-8556-92445C9AB511}" srcId="{DB81F5B8-16FE-474B-8B88-AA74B4FB9853}" destId="{48744035-F9AE-41EA-812B-1A31C83FA82F}" srcOrd="0" destOrd="0" parTransId="{F30E956D-6B18-4CD7-99D1-5DB4EFBFB177}" sibTransId="{75D0FFB2-142C-456C-A871-C0AE186F2011}"/>
    <dgm:cxn modelId="{5D8F5336-B7B8-4E93-87B7-FFB052C6F4F8}" srcId="{C8E6DC84-12C4-4733-8DEE-7DD5AAF0F89F}" destId="{83B5AC45-5608-46A8-944E-E801BAEC90D9}" srcOrd="0" destOrd="0" parTransId="{F8FC878D-6E72-4E58-8862-8B3B8147C4BC}" sibTransId="{0FAD2798-489C-4316-9AB8-B6C058D9E573}"/>
    <dgm:cxn modelId="{6FD25349-32E6-45FD-8C3F-BAAE29CE0E5F}" type="presOf" srcId="{EA5B0946-F626-4646-AEAE-31C4CF2385A0}" destId="{DEB3A97E-4F32-417D-8130-EB354B8360B1}" srcOrd="0" destOrd="0" presId="urn:microsoft.com/office/officeart/2005/8/layout/list1"/>
    <dgm:cxn modelId="{14FC1700-33A8-42BE-A80E-10CF088FFA0A}" type="presOf" srcId="{8BC7E0D7-671F-419E-9F6F-D63F9A7D8503}" destId="{5AEC349D-0BAD-4435-AB5B-0C0F674B6AEF}" srcOrd="1" destOrd="0" presId="urn:microsoft.com/office/officeart/2005/8/layout/list1"/>
    <dgm:cxn modelId="{641819CF-111F-4F2A-9EF7-CB2E3C568D34}" srcId="{617E2F3B-5A85-44E0-982A-5E6A7F810295}" destId="{F51B1F1B-430D-4C93-B5D0-549A2F55C06C}" srcOrd="0" destOrd="0" parTransId="{3C019BC6-F7A2-4D55-9BC2-82E705840216}" sibTransId="{72A25E32-12EB-4B64-AE9D-2EEDCDFD2254}"/>
    <dgm:cxn modelId="{1A5445A0-8FFA-45C3-8DD3-D5C6DE81364B}" type="presOf" srcId="{A8541ABC-4FD1-4B37-8C0B-2440C7186539}" destId="{B7823A1F-B734-422B-8ABE-ADBA2AB692FA}" srcOrd="1" destOrd="0" presId="urn:microsoft.com/office/officeart/2005/8/layout/list1"/>
    <dgm:cxn modelId="{6D366699-9243-408C-962F-4726806508F6}" type="presOf" srcId="{523BADAC-B332-43C3-BB0D-02A427A4DEFC}" destId="{DA7A3EF9-CB5B-47EB-A111-A0F4E28DEA62}" srcOrd="1" destOrd="0" presId="urn:microsoft.com/office/officeart/2005/8/layout/list1"/>
    <dgm:cxn modelId="{DDFFC959-4620-4D8F-963F-BE83111BD05D}" type="presOf" srcId="{C9E898A3-3EED-4605-AC0E-699A9E239A50}" destId="{36C8C100-348D-40A0-8BE6-FF674F0AF2DE}" srcOrd="1" destOrd="0" presId="urn:microsoft.com/office/officeart/2005/8/layout/list1"/>
    <dgm:cxn modelId="{FF1262BC-6F8A-4778-B77A-F01C24760E02}" type="presOf" srcId="{DB81F5B8-16FE-474B-8B88-AA74B4FB9853}" destId="{A07BB598-26D2-44E9-B7E8-529A52DEB8A5}" srcOrd="1" destOrd="0" presId="urn:microsoft.com/office/officeart/2005/8/layout/list1"/>
    <dgm:cxn modelId="{88D1906C-DFC9-4121-ADD9-3FBD646A591E}" srcId="{D2CA7D92-4399-425E-AE63-0FCFB5C276F9}" destId="{617E2F3B-5A85-44E0-982A-5E6A7F810295}" srcOrd="1" destOrd="0" parTransId="{C85A4FD0-73F4-4CA5-82DC-00A15264327B}" sibTransId="{400147E1-37A4-4BD0-8432-84DE43294855}"/>
    <dgm:cxn modelId="{E827F88F-17E5-42E0-B89E-6060EFD23239}" type="presOf" srcId="{5BDA8C71-296F-4979-8121-1077BB08BA06}" destId="{D88BECAA-86B9-4794-8777-478AD6F4036C}" srcOrd="1" destOrd="0" presId="urn:microsoft.com/office/officeart/2005/8/layout/list1"/>
    <dgm:cxn modelId="{BD839D5F-9DE0-4C6C-BF27-69AA8A0C9C94}" type="presOf" srcId="{DEC28E6B-0E2D-4D7A-912D-2F1089413019}" destId="{370407C8-1391-4FD9-9557-87AF60D5AB26}" srcOrd="1" destOrd="0" presId="urn:microsoft.com/office/officeart/2005/8/layout/list1"/>
    <dgm:cxn modelId="{9DF6256C-D463-484F-9CFB-33F36519721D}" type="presOf" srcId="{C9E898A3-3EED-4605-AC0E-699A9E239A50}" destId="{AAE17E7C-505B-44A5-8824-D02D5DE84084}" srcOrd="0" destOrd="0" presId="urn:microsoft.com/office/officeart/2005/8/layout/list1"/>
    <dgm:cxn modelId="{F8533536-0CC9-472A-9251-1AE9222048F5}" srcId="{D2CA7D92-4399-425E-AE63-0FCFB5C276F9}" destId="{9B997B34-221D-4496-A1C8-A439AE736903}" srcOrd="12" destOrd="0" parTransId="{46FAD773-4B1B-45A7-B794-B8E75103FAFE}" sibTransId="{BD5A5068-F8C8-4882-B01F-B89B4ED7EAB1}"/>
    <dgm:cxn modelId="{8CECAA34-4339-4F83-8F34-EB0721951644}" srcId="{D2CA7D92-4399-425E-AE63-0FCFB5C276F9}" destId="{74EA246E-98AA-4F54-95D5-D578D47FCD13}" srcOrd="9" destOrd="0" parTransId="{C5103267-F92C-45F4-B90C-8884B33AF9FE}" sibTransId="{80576C01-668E-4C7B-A534-6CE2370DBF7B}"/>
    <dgm:cxn modelId="{5C4AA55B-AFFC-437C-B925-2117C1CC9417}" type="presOf" srcId="{A4672CAE-D0E2-488D-89C8-C0E8F96F0EF3}" destId="{590897A8-4AD6-4C9E-B83B-97CA3188EE23}" srcOrd="0" destOrd="0" presId="urn:microsoft.com/office/officeart/2005/8/layout/list1"/>
    <dgm:cxn modelId="{770C030C-8A46-4749-8511-22D4BD89D08A}" type="presOf" srcId="{C8E6DC84-12C4-4733-8DEE-7DD5AAF0F89F}" destId="{27FF6C95-181E-46A0-97B6-A26BC1DF1150}" srcOrd="0" destOrd="0" presId="urn:microsoft.com/office/officeart/2005/8/layout/list1"/>
    <dgm:cxn modelId="{A34FDEA9-7389-4CA2-B7F5-0D675C06F58C}" srcId="{D2CA7D92-4399-425E-AE63-0FCFB5C276F9}" destId="{A4672CAE-D0E2-488D-89C8-C0E8F96F0EF3}" srcOrd="13" destOrd="0" parTransId="{0F796A20-7E75-4DD4-8648-55C0A8B09D1B}" sibTransId="{FD769867-DD88-469F-AB33-CE9193537472}"/>
    <dgm:cxn modelId="{6FA64110-00B1-4B09-BE67-4A8CC87AF62A}" type="presOf" srcId="{5BDA8C71-296F-4979-8121-1077BB08BA06}" destId="{AF7F76F5-DDD4-4E65-A694-1529C537D4C2}" srcOrd="0" destOrd="0" presId="urn:microsoft.com/office/officeart/2005/8/layout/list1"/>
    <dgm:cxn modelId="{EF5E0EA0-847E-4F48-A793-6E0624E4E319}" type="presOf" srcId="{74EA246E-98AA-4F54-95D5-D578D47FCD13}" destId="{5A79498A-4800-4446-947D-6C938897A244}" srcOrd="0" destOrd="0" presId="urn:microsoft.com/office/officeart/2005/8/layout/list1"/>
    <dgm:cxn modelId="{42853DA0-4626-4FFB-A935-0A5A49A5881B}" type="presOf" srcId="{D3828330-15A8-4EF7-A4B7-BDF54B622464}" destId="{9A6C1276-CCF5-4947-A94B-41E17741E0BD}" srcOrd="1" destOrd="0" presId="urn:microsoft.com/office/officeart/2005/8/layout/list1"/>
    <dgm:cxn modelId="{511A037D-16FB-4E66-A47A-DB82AD33DC61}" srcId="{D2CA7D92-4399-425E-AE63-0FCFB5C276F9}" destId="{DB81F5B8-16FE-474B-8B88-AA74B4FB9853}" srcOrd="3" destOrd="0" parTransId="{4BC64C20-1D29-4037-A2ED-A0972423FC5A}" sibTransId="{7F376119-568D-43E3-9098-634677C44F97}"/>
    <dgm:cxn modelId="{2BFBC40A-2F7B-4944-8F2E-5CBD122D236F}" type="presOf" srcId="{C1774E7D-9FF5-4CDB-99F9-9EA58C8B7753}" destId="{5A53EC70-4FBF-4D04-9FD1-7CDC155E5906}" srcOrd="0" destOrd="0" presId="urn:microsoft.com/office/officeart/2005/8/layout/list1"/>
    <dgm:cxn modelId="{571266F3-A77A-404A-BB1B-06BA22368C2E}" srcId="{D2CA7D92-4399-425E-AE63-0FCFB5C276F9}" destId="{E75BA8DE-AAD6-45B5-AB29-299B0B1B2292}" srcOrd="5" destOrd="0" parTransId="{BFB5255E-3473-49BD-B422-BB4FF7A20B45}" sibTransId="{BB8ADA45-910F-4533-86BD-7810220AF9FB}"/>
    <dgm:cxn modelId="{DEC03C07-56B4-44D5-955F-2E922CAC0321}" type="presOf" srcId="{3C2077DF-600C-48D3-A751-60DB855AEDA7}" destId="{452A13A7-DF69-43D0-9AC0-5E60240B50E5}" srcOrd="0" destOrd="0" presId="urn:microsoft.com/office/officeart/2005/8/layout/list1"/>
    <dgm:cxn modelId="{1C9DBC89-CD53-4C1E-98C0-3AD39A08B207}" srcId="{8BC7E0D7-671F-419E-9F6F-D63F9A7D8503}" destId="{B3F776D7-BF3C-4B24-A307-1E7E793D7C98}" srcOrd="0" destOrd="0" parTransId="{B680E064-3AD4-488A-8F31-A2B0D89D3B1D}" sibTransId="{D48E2810-3E9B-4649-9DFB-3BAD46A23A3A}"/>
    <dgm:cxn modelId="{6D2ED3CE-0033-4701-959F-62E19291E2E4}" srcId="{5BDA8C71-296F-4979-8121-1077BB08BA06}" destId="{3C2077DF-600C-48D3-A751-60DB855AEDA7}" srcOrd="0" destOrd="0" parTransId="{4094983A-00BF-4AE5-8215-098C437A999F}" sibTransId="{BCF06A87-35F1-4C54-97A9-AD21AA9D3C13}"/>
    <dgm:cxn modelId="{478DA4A8-8137-405F-987F-F5B2FB840841}" srcId="{D2CA7D92-4399-425E-AE63-0FCFB5C276F9}" destId="{C9E898A3-3EED-4605-AC0E-699A9E239A50}" srcOrd="8" destOrd="0" parTransId="{D0E7B84F-E4D8-461C-BF25-3199965DE68C}" sibTransId="{DA299F6D-7D48-4243-B127-F6C90CEA5477}"/>
    <dgm:cxn modelId="{94A20A39-0035-4CF5-8577-675D592C7F4B}" type="presOf" srcId="{617E2F3B-5A85-44E0-982A-5E6A7F810295}" destId="{8670063A-C83C-4C1C-BDA8-CBFA7850170F}" srcOrd="0" destOrd="0" presId="urn:microsoft.com/office/officeart/2005/8/layout/list1"/>
    <dgm:cxn modelId="{678F7B29-6702-4C83-A3B4-EF1ACBBC62F4}" type="presOf" srcId="{8BC7E0D7-671F-419E-9F6F-D63F9A7D8503}" destId="{03B18BD3-AB98-47BF-B568-E8F4D8084EA1}" srcOrd="0" destOrd="0" presId="urn:microsoft.com/office/officeart/2005/8/layout/list1"/>
    <dgm:cxn modelId="{CDFFF2F2-C8B0-4392-86BE-AA94FDE289E5}" srcId="{C9E898A3-3EED-4605-AC0E-699A9E239A50}" destId="{72CDB0F0-8D1A-4BC8-A84A-F954B51C6B80}" srcOrd="0" destOrd="0" parTransId="{FA76467B-1F1C-482A-97FA-FC9D12574F35}" sibTransId="{41BDB7F4-F39A-4278-ACF7-C5E2985A42ED}"/>
    <dgm:cxn modelId="{C7045B15-F002-474B-9502-243AD2C7B267}" srcId="{D2CA7D92-4399-425E-AE63-0FCFB5C276F9}" destId="{10D5D77E-553E-4534-8610-E1A9FB67012B}" srcOrd="0" destOrd="0" parTransId="{62DEB8A8-2360-43FB-BF95-9FABBC1FACE1}" sibTransId="{D2DB4217-5E54-4790-906D-945A107DEA66}"/>
    <dgm:cxn modelId="{241F91F7-7DF6-433E-BE1F-CC49B63ABAC1}" srcId="{10D5D77E-553E-4534-8610-E1A9FB67012B}" destId="{EF9F1205-2B7C-4B09-BA84-B735EDEE727E}" srcOrd="0" destOrd="0" parTransId="{15D0545E-F4CC-435A-8259-A5D212FC2048}" sibTransId="{B0F70955-FE1E-46CE-9449-C532BBE44564}"/>
    <dgm:cxn modelId="{1814E8B1-84A5-434C-BB2B-164E33EFB471}" srcId="{523BADAC-B332-43C3-BB0D-02A427A4DEFC}" destId="{38A9E041-478D-4E22-8588-3F8D5E009553}" srcOrd="0" destOrd="0" parTransId="{629B5C95-7FD0-4D3C-9617-FE148834A911}" sibTransId="{71B0A5E0-7A4B-4758-BB22-B81D71CEECCA}"/>
    <dgm:cxn modelId="{6F430587-5258-4244-BB57-B0C7096B369A}" srcId="{9B997B34-221D-4496-A1C8-A439AE736903}" destId="{848A4253-6D56-45DF-B4FF-CD09F5A2E1FB}" srcOrd="0" destOrd="0" parTransId="{8687D66E-5597-4865-9E48-4E719DEF25FA}" sibTransId="{73D906F3-FCA3-4DC6-B9D3-C5A0128831D1}"/>
    <dgm:cxn modelId="{C0F15E55-9186-4388-AB17-D9DB627EBF2A}" type="presOf" srcId="{B3F776D7-BF3C-4B24-A307-1E7E793D7C98}" destId="{C81B069E-D033-4F78-BACE-5F1A1EB362C7}" srcOrd="0" destOrd="0" presId="urn:microsoft.com/office/officeart/2005/8/layout/list1"/>
    <dgm:cxn modelId="{2B25C195-F530-4909-8167-41DDC764B481}" type="presOf" srcId="{10D5D77E-553E-4534-8610-E1A9FB67012B}" destId="{14CFD343-41C1-44D5-8CB8-B91671EC2DE1}" srcOrd="0" destOrd="0" presId="urn:microsoft.com/office/officeart/2005/8/layout/list1"/>
    <dgm:cxn modelId="{11CADBF0-B13C-44EA-B38A-78E7979F303D}" type="presOf" srcId="{9B997B34-221D-4496-A1C8-A439AE736903}" destId="{525DADCF-CDE5-4EE8-AE46-3F8D08D21E52}" srcOrd="0" destOrd="0" presId="urn:microsoft.com/office/officeart/2005/8/layout/list1"/>
    <dgm:cxn modelId="{3F30147C-7A1F-4857-8BCC-B3051BD311D6}" srcId="{D2CA7D92-4399-425E-AE63-0FCFB5C276F9}" destId="{0FB44C27-8C45-4946-B619-930DEABDC5A6}" srcOrd="2" destOrd="0" parTransId="{749D41E2-AC8A-4D5F-A95B-0FCBD998C486}" sibTransId="{DA37CB89-3D42-4328-9B43-5D006668A740}"/>
    <dgm:cxn modelId="{3B76F26C-CAE3-456D-901D-32CC36F5EA0D}" type="presOf" srcId="{A4672CAE-D0E2-488D-89C8-C0E8F96F0EF3}" destId="{D6835FFC-553C-489F-B730-2382417A3A59}" srcOrd="1" destOrd="0" presId="urn:microsoft.com/office/officeart/2005/8/layout/list1"/>
    <dgm:cxn modelId="{E215D431-228F-47D1-A5EA-9C7FDAB9C4F4}" srcId="{D2CA7D92-4399-425E-AE63-0FCFB5C276F9}" destId="{8BC7E0D7-671F-419E-9F6F-D63F9A7D8503}" srcOrd="14" destOrd="0" parTransId="{DA9B3587-0A6E-49D9-A840-8AD1FF567A82}" sibTransId="{730B37F8-9D69-4188-A816-B3AAAFDA4F6C}"/>
    <dgm:cxn modelId="{1D14139F-65E9-4BA6-8202-6D089DE5ABF1}" srcId="{E75BA8DE-AAD6-45B5-AB29-299B0B1B2292}" destId="{DBBFB24E-E301-4AD8-BE6C-325D17588F5C}" srcOrd="0" destOrd="0" parTransId="{A7CBD04D-7184-4B86-A2CB-177D9C882191}" sibTransId="{115C74DA-8A9C-4422-9330-741B9EB86E63}"/>
    <dgm:cxn modelId="{8C0542F6-CAB9-48EF-BE44-E8F55A372528}" type="presOf" srcId="{D2CA7D92-4399-425E-AE63-0FCFB5C276F9}" destId="{18F6336F-7BCE-4053-8D12-1F0F9E31E0A4}" srcOrd="0" destOrd="0" presId="urn:microsoft.com/office/officeart/2005/8/layout/list1"/>
    <dgm:cxn modelId="{B3897DB7-1925-4033-BA6B-5F5371355833}" srcId="{74EA246E-98AA-4F54-95D5-D578D47FCD13}" destId="{EA5B0946-F626-4646-AEAE-31C4CF2385A0}" srcOrd="0" destOrd="0" parTransId="{3D852928-74B2-4CEE-BDAB-48A38AF29726}" sibTransId="{439ECB5B-6E2A-4F5F-80CF-8106B513F4C8}"/>
    <dgm:cxn modelId="{46718C5F-2738-4D03-8092-1EFDA5B5C660}" type="presOf" srcId="{D3828330-15A8-4EF7-A4B7-BDF54B622464}" destId="{2C061E25-503B-440C-87C9-D336C48D3A2B}" srcOrd="0" destOrd="0" presId="urn:microsoft.com/office/officeart/2005/8/layout/list1"/>
    <dgm:cxn modelId="{F7BDDE26-EC66-4A68-8E40-688D6CDDF3EC}" type="presOf" srcId="{38A9E041-478D-4E22-8588-3F8D5E009553}" destId="{6FA8E29D-B607-4136-BE57-C911DC7D1E2E}" srcOrd="0" destOrd="0" presId="urn:microsoft.com/office/officeart/2005/8/layout/list1"/>
    <dgm:cxn modelId="{0E3F106F-2308-4393-88A5-618231CB99EE}" type="presOf" srcId="{10D5D77E-553E-4534-8610-E1A9FB67012B}" destId="{6780692F-6144-4940-BC88-C5223D80EAED}" srcOrd="1" destOrd="0" presId="urn:microsoft.com/office/officeart/2005/8/layout/list1"/>
    <dgm:cxn modelId="{EF1A60EC-EDAC-4917-BBD2-9EBC9F13069C}" type="presOf" srcId="{C8E6DC84-12C4-4733-8DEE-7DD5AAF0F89F}" destId="{84B4A16B-1444-46EA-84E4-781F5353EC04}" srcOrd="1" destOrd="0" presId="urn:microsoft.com/office/officeart/2005/8/layout/list1"/>
    <dgm:cxn modelId="{0D95E448-8902-4A42-B0DC-C83E28F8F788}" type="presOf" srcId="{523BADAC-B332-43C3-BB0D-02A427A4DEFC}" destId="{95E9A9D9-8768-405B-931B-7D24237CEA11}" srcOrd="0" destOrd="0" presId="urn:microsoft.com/office/officeart/2005/8/layout/list1"/>
    <dgm:cxn modelId="{43BD681C-EDB8-49EA-95CC-21F86E642345}" type="presOf" srcId="{74EA246E-98AA-4F54-95D5-D578D47FCD13}" destId="{ED636ECD-F43A-4026-8106-4B98E55266F9}" srcOrd="1" destOrd="0" presId="urn:microsoft.com/office/officeart/2005/8/layout/list1"/>
    <dgm:cxn modelId="{13FBE369-E894-43E7-972B-4AAF896DCFBF}" srcId="{DEC28E6B-0E2D-4D7A-912D-2F1089413019}" destId="{20B3D191-3E55-4C08-AB56-9A609A6FE0DE}" srcOrd="0" destOrd="0" parTransId="{4C97A90C-76A8-40EE-B125-F83DB2992C6E}" sibTransId="{E5B74F47-2577-460E-A075-B961D2C33C73}"/>
    <dgm:cxn modelId="{842A2187-26A7-449C-BB6B-2C677B5784B4}" srcId="{A8541ABC-4FD1-4B37-8C0B-2440C7186539}" destId="{6A870066-74B4-45E9-990B-C4D459B12DD6}" srcOrd="0" destOrd="0" parTransId="{030F7204-5277-49E4-97E4-FAC8165BA9B9}" sibTransId="{A51B5AEC-96B9-4AED-B99C-7DD6115F2386}"/>
    <dgm:cxn modelId="{0234516F-8742-43E7-A093-A233A5F039A0}" srcId="{D2CA7D92-4399-425E-AE63-0FCFB5C276F9}" destId="{523BADAC-B332-43C3-BB0D-02A427A4DEFC}" srcOrd="4" destOrd="0" parTransId="{2FC4D0F8-DEDF-4BCE-BF80-67E4B427C896}" sibTransId="{EF3F3CAE-D39D-441B-B8C7-915283B34055}"/>
    <dgm:cxn modelId="{E126C3E3-2DA2-43B6-997F-F2AE7DCEE782}" srcId="{D2CA7D92-4399-425E-AE63-0FCFB5C276F9}" destId="{C8E6DC84-12C4-4733-8DEE-7DD5AAF0F89F}" srcOrd="11" destOrd="0" parTransId="{831E784C-C0B5-492A-9A1E-40934F97AAA3}" sibTransId="{42138719-FE6D-4586-8936-83B63213823C}"/>
    <dgm:cxn modelId="{02238161-B6F8-4FC0-9A7B-0674138CAECB}" type="presOf" srcId="{848A4253-6D56-45DF-B4FF-CD09F5A2E1FB}" destId="{80C0C129-3E79-493B-87D5-018B38203BAE}" srcOrd="0" destOrd="0" presId="urn:microsoft.com/office/officeart/2005/8/layout/list1"/>
    <dgm:cxn modelId="{1FDA0F33-B8D4-4D15-BC61-25C65286E5DF}" type="presOf" srcId="{DB81F5B8-16FE-474B-8B88-AA74B4FB9853}" destId="{D78F80A6-E101-4D69-9024-05A4B0E3D224}" srcOrd="0" destOrd="0" presId="urn:microsoft.com/office/officeart/2005/8/layout/list1"/>
    <dgm:cxn modelId="{CD5A7AD3-DA9B-4069-9D7E-4D7C798377B3}" type="presOf" srcId="{17527FEC-70F7-4888-A1DB-53EF1720928F}" destId="{4AD75E93-CFCF-4FB1-AD20-52BA80041ECB}" srcOrd="0" destOrd="0" presId="urn:microsoft.com/office/officeart/2005/8/layout/list1"/>
    <dgm:cxn modelId="{E11F493F-B7CA-496E-BE35-3D1B8407AF99}" type="presOf" srcId="{20B3D191-3E55-4C08-AB56-9A609A6FE0DE}" destId="{13A97048-02AB-40B2-9225-60A06691AEAA}" srcOrd="0" destOrd="0" presId="urn:microsoft.com/office/officeart/2005/8/layout/list1"/>
    <dgm:cxn modelId="{0EF7A7A4-C562-43F7-905E-3283C9139745}" srcId="{D2CA7D92-4399-425E-AE63-0FCFB5C276F9}" destId="{5BDA8C71-296F-4979-8121-1077BB08BA06}" srcOrd="6" destOrd="0" parTransId="{4A658166-19E6-4C6B-ACAC-1F49557A6BE2}" sibTransId="{96519594-B96F-41D9-BB8A-53ADD222857B}"/>
    <dgm:cxn modelId="{A1D9D189-5A3C-4F0F-B50D-A85DF081B8F6}" type="presOf" srcId="{E75BA8DE-AAD6-45B5-AB29-299B0B1B2292}" destId="{A44F3274-8AF4-4DE6-BD1F-4F6601F7F69B}" srcOrd="0" destOrd="0" presId="urn:microsoft.com/office/officeart/2005/8/layout/list1"/>
    <dgm:cxn modelId="{17D3D474-47BE-4F37-9511-1032322188FD}" type="presOf" srcId="{EF9F1205-2B7C-4B09-BA84-B735EDEE727E}" destId="{380D6C35-0EB3-4DE9-9AEE-9EA535447E4E}" srcOrd="0" destOrd="0" presId="urn:microsoft.com/office/officeart/2005/8/layout/list1"/>
    <dgm:cxn modelId="{EAB54345-5619-4D90-B001-0CBF204877F6}" type="presOf" srcId="{48744035-F9AE-41EA-812B-1A31C83FA82F}" destId="{29313BC3-419E-474C-AF4A-FC1BC03E8B43}" srcOrd="0" destOrd="0" presId="urn:microsoft.com/office/officeart/2005/8/layout/list1"/>
    <dgm:cxn modelId="{2CC10D95-7203-4586-B6D8-5BC0DB3A83BE}" srcId="{D2CA7D92-4399-425E-AE63-0FCFB5C276F9}" destId="{D3828330-15A8-4EF7-A4B7-BDF54B622464}" srcOrd="15" destOrd="0" parTransId="{F92B04FF-9E9B-44FE-8EB2-E7480C4EB780}" sibTransId="{3647305F-960F-4701-9A54-C04E56F9240B}"/>
    <dgm:cxn modelId="{4764746C-FE78-40BD-8484-EA8238F67EC2}" type="presOf" srcId="{0FB44C27-8C45-4946-B619-930DEABDC5A6}" destId="{5149450C-B593-4302-B9CB-5F8C39E2ACB7}" srcOrd="0" destOrd="0" presId="urn:microsoft.com/office/officeart/2005/8/layout/list1"/>
    <dgm:cxn modelId="{4A0B80C7-8A49-4660-8C44-FAED6EA4C0B0}" type="presOf" srcId="{617E2F3B-5A85-44E0-982A-5E6A7F810295}" destId="{843B4C81-91C5-4A99-81ED-78665012860A}" srcOrd="1" destOrd="0" presId="urn:microsoft.com/office/officeart/2005/8/layout/list1"/>
    <dgm:cxn modelId="{D0CC36CC-9801-4CD2-BA45-56B9F5D22AA0}" srcId="{D2CA7D92-4399-425E-AE63-0FCFB5C276F9}" destId="{DEC28E6B-0E2D-4D7A-912D-2F1089413019}" srcOrd="7" destOrd="0" parTransId="{28C80382-D871-48FF-8D7A-5470CDB7D404}" sibTransId="{DBB2770A-E139-4BF9-ACAC-10D58A8EF74B}"/>
    <dgm:cxn modelId="{89733730-41CC-4486-AFC5-30CCF642C248}" type="presOf" srcId="{0FB44C27-8C45-4946-B619-930DEABDC5A6}" destId="{3317BDF5-3258-432C-8406-2A05883319E6}" srcOrd="1" destOrd="0" presId="urn:microsoft.com/office/officeart/2005/8/layout/list1"/>
    <dgm:cxn modelId="{955D35FA-F1F8-4A21-9C4D-722B3D700CBC}" srcId="{0FB44C27-8C45-4946-B619-930DEABDC5A6}" destId="{DB4B8B24-D253-4025-9D7A-1250CFF4DC7F}" srcOrd="0" destOrd="0" parTransId="{596589D1-FBEB-4B7D-8CFA-6655830487F6}" sibTransId="{1B68AE4A-8C7D-488D-8260-3B170B59D819}"/>
    <dgm:cxn modelId="{8F87C58F-7661-4661-A291-2D6C2AEAAD98}" type="presOf" srcId="{DB4B8B24-D253-4025-9D7A-1250CFF4DC7F}" destId="{3CB48B57-56B9-4E73-9821-9364303DEECD}" srcOrd="0" destOrd="0" presId="urn:microsoft.com/office/officeart/2005/8/layout/list1"/>
    <dgm:cxn modelId="{4E4CA8D9-BBB6-4DEF-B7E1-CC635DECBD50}" type="presOf" srcId="{83B5AC45-5608-46A8-944E-E801BAEC90D9}" destId="{232357A8-4C16-4EAC-A6F3-B579D2BA91E8}" srcOrd="0" destOrd="0" presId="urn:microsoft.com/office/officeart/2005/8/layout/list1"/>
    <dgm:cxn modelId="{43436FE9-E4FA-441C-9836-227EC238D06D}" type="presOf" srcId="{DBBFB24E-E301-4AD8-BE6C-325D17588F5C}" destId="{83BD41D9-D555-4B6E-AF88-6135876BAD11}" srcOrd="0" destOrd="0" presId="urn:microsoft.com/office/officeart/2005/8/layout/list1"/>
    <dgm:cxn modelId="{92F4BB5D-1B5C-47D7-A719-06C41D92F7D9}" type="presOf" srcId="{A8541ABC-4FD1-4B37-8C0B-2440C7186539}" destId="{25527203-C498-45C3-A734-379AE2A3595A}" srcOrd="0" destOrd="0" presId="urn:microsoft.com/office/officeart/2005/8/layout/list1"/>
    <dgm:cxn modelId="{079AEB04-AB46-412F-991F-23026769E5EC}" type="presOf" srcId="{DEC28E6B-0E2D-4D7A-912D-2F1089413019}" destId="{4F4E1487-B7A9-4E26-9C59-F38BBE374A19}" srcOrd="0" destOrd="0" presId="urn:microsoft.com/office/officeart/2005/8/layout/list1"/>
    <dgm:cxn modelId="{28EB7F62-0C79-4C9D-AEF0-0EB87A75A480}" srcId="{D2CA7D92-4399-425E-AE63-0FCFB5C276F9}" destId="{A8541ABC-4FD1-4B37-8C0B-2440C7186539}" srcOrd="10" destOrd="0" parTransId="{5B5B50DF-5C2D-4F24-BBF3-7147D7EFCFD5}" sibTransId="{B074AC75-C345-44E7-B062-82940C64A6A5}"/>
    <dgm:cxn modelId="{DB926D64-3DB8-4F5D-BE43-95508B1AFC82}" type="presOf" srcId="{72CDB0F0-8D1A-4BC8-A84A-F954B51C6B80}" destId="{0409EF26-FEF3-4405-B7D2-953BB1BA5E9C}" srcOrd="0" destOrd="0" presId="urn:microsoft.com/office/officeart/2005/8/layout/list1"/>
    <dgm:cxn modelId="{FC8F45DD-0E94-427B-BC0B-B061ADBDE529}" type="presOf" srcId="{9B997B34-221D-4496-A1C8-A439AE736903}" destId="{C4BD8598-E35E-49CB-9751-094BA715F9D4}" srcOrd="1" destOrd="0" presId="urn:microsoft.com/office/officeart/2005/8/layout/list1"/>
    <dgm:cxn modelId="{35CABBAB-88DB-45E2-A0E0-6275BCF55E8E}" type="presOf" srcId="{6A870066-74B4-45E9-990B-C4D459B12DD6}" destId="{9B03B26D-F009-4086-BD31-2AEAFD444E62}" srcOrd="0" destOrd="0" presId="urn:microsoft.com/office/officeart/2005/8/layout/list1"/>
    <dgm:cxn modelId="{EE479F61-AC12-44AC-8537-91B172C87780}" srcId="{D3828330-15A8-4EF7-A4B7-BDF54B622464}" destId="{C1774E7D-9FF5-4CDB-99F9-9EA58C8B7753}" srcOrd="0" destOrd="0" parTransId="{71228E45-6F91-4A0B-8732-17661B45FA1D}" sibTransId="{D4D198F6-EA85-4308-84C0-F36CC4CB4914}"/>
    <dgm:cxn modelId="{B801EDD8-AC9C-441E-8494-A15483C80BE3}" srcId="{A4672CAE-D0E2-488D-89C8-C0E8F96F0EF3}" destId="{17527FEC-70F7-4888-A1DB-53EF1720928F}" srcOrd="0" destOrd="0" parTransId="{FF2DB0B2-1294-4E69-9712-DB7FB8C3D6F1}" sibTransId="{14D25C3E-989B-40F7-8D90-8A8CF4245BFD}"/>
    <dgm:cxn modelId="{B3E61EED-D1BE-4E6A-9EE0-294CA9DA9FC0}" type="presOf" srcId="{E75BA8DE-AAD6-45B5-AB29-299B0B1B2292}" destId="{B3658B12-B8B9-4873-8247-7DF23FBE38A4}" srcOrd="1" destOrd="0" presId="urn:microsoft.com/office/officeart/2005/8/layout/list1"/>
    <dgm:cxn modelId="{6B6603C5-F09E-4118-80F4-46AC05BBA890}" type="presParOf" srcId="{18F6336F-7BCE-4053-8D12-1F0F9E31E0A4}" destId="{C207798F-6AAF-47DA-8408-AFF244554892}" srcOrd="0" destOrd="0" presId="urn:microsoft.com/office/officeart/2005/8/layout/list1"/>
    <dgm:cxn modelId="{A582333A-41E2-4B65-A4FF-00C001E4681D}" type="presParOf" srcId="{C207798F-6AAF-47DA-8408-AFF244554892}" destId="{14CFD343-41C1-44D5-8CB8-B91671EC2DE1}" srcOrd="0" destOrd="0" presId="urn:microsoft.com/office/officeart/2005/8/layout/list1"/>
    <dgm:cxn modelId="{E57493B0-42DD-4F9D-AC28-5F72F297F090}" type="presParOf" srcId="{C207798F-6AAF-47DA-8408-AFF244554892}" destId="{6780692F-6144-4940-BC88-C5223D80EAED}" srcOrd="1" destOrd="0" presId="urn:microsoft.com/office/officeart/2005/8/layout/list1"/>
    <dgm:cxn modelId="{2B36884A-DA21-4247-B374-9299F7FAD24F}" type="presParOf" srcId="{18F6336F-7BCE-4053-8D12-1F0F9E31E0A4}" destId="{4F2BCA67-44D7-441C-9DAE-CD920ABBF230}" srcOrd="1" destOrd="0" presId="urn:microsoft.com/office/officeart/2005/8/layout/list1"/>
    <dgm:cxn modelId="{688D5E50-720E-4757-BF72-E19AD7F81F84}" type="presParOf" srcId="{18F6336F-7BCE-4053-8D12-1F0F9E31E0A4}" destId="{380D6C35-0EB3-4DE9-9AEE-9EA535447E4E}" srcOrd="2" destOrd="0" presId="urn:microsoft.com/office/officeart/2005/8/layout/list1"/>
    <dgm:cxn modelId="{9CF7908E-1A55-4351-A70F-93C7072FD9C5}" type="presParOf" srcId="{18F6336F-7BCE-4053-8D12-1F0F9E31E0A4}" destId="{577CF475-A43A-4C51-9D49-04D79FF936BE}" srcOrd="3" destOrd="0" presId="urn:microsoft.com/office/officeart/2005/8/layout/list1"/>
    <dgm:cxn modelId="{38981CF9-FA7A-476E-8020-1C01A8110E3A}" type="presParOf" srcId="{18F6336F-7BCE-4053-8D12-1F0F9E31E0A4}" destId="{1F964E2D-2633-4D24-9E8F-331FD4C081EE}" srcOrd="4" destOrd="0" presId="urn:microsoft.com/office/officeart/2005/8/layout/list1"/>
    <dgm:cxn modelId="{C9E23696-F3BE-4949-B314-FD290241743D}" type="presParOf" srcId="{1F964E2D-2633-4D24-9E8F-331FD4C081EE}" destId="{8670063A-C83C-4C1C-BDA8-CBFA7850170F}" srcOrd="0" destOrd="0" presId="urn:microsoft.com/office/officeart/2005/8/layout/list1"/>
    <dgm:cxn modelId="{A56DCC46-4292-4522-AAD3-858BD16AE621}" type="presParOf" srcId="{1F964E2D-2633-4D24-9E8F-331FD4C081EE}" destId="{843B4C81-91C5-4A99-81ED-78665012860A}" srcOrd="1" destOrd="0" presId="urn:microsoft.com/office/officeart/2005/8/layout/list1"/>
    <dgm:cxn modelId="{CCB6DE41-3768-446F-9A4E-E4CE412F4055}" type="presParOf" srcId="{18F6336F-7BCE-4053-8D12-1F0F9E31E0A4}" destId="{E4058E38-BECE-4078-9414-BFE8217F91DB}" srcOrd="5" destOrd="0" presId="urn:microsoft.com/office/officeart/2005/8/layout/list1"/>
    <dgm:cxn modelId="{DCF8132A-3876-4490-ACD0-C97E93931443}" type="presParOf" srcId="{18F6336F-7BCE-4053-8D12-1F0F9E31E0A4}" destId="{60DE0B1A-82FC-4334-AB59-9F7AE40FEDDE}" srcOrd="6" destOrd="0" presId="urn:microsoft.com/office/officeart/2005/8/layout/list1"/>
    <dgm:cxn modelId="{0F97988C-9ACC-4C6E-998D-B7523AB073B0}" type="presParOf" srcId="{18F6336F-7BCE-4053-8D12-1F0F9E31E0A4}" destId="{6C6A0D68-F398-4803-96C6-AA6ECFC051B6}" srcOrd="7" destOrd="0" presId="urn:microsoft.com/office/officeart/2005/8/layout/list1"/>
    <dgm:cxn modelId="{608EEF73-5EC4-473F-B243-DA566E48D409}" type="presParOf" srcId="{18F6336F-7BCE-4053-8D12-1F0F9E31E0A4}" destId="{0DC6B7B0-6303-4057-B266-54E4B01F53CC}" srcOrd="8" destOrd="0" presId="urn:microsoft.com/office/officeart/2005/8/layout/list1"/>
    <dgm:cxn modelId="{CDD2110E-B775-4D0B-AED9-58553C680A62}" type="presParOf" srcId="{0DC6B7B0-6303-4057-B266-54E4B01F53CC}" destId="{5149450C-B593-4302-B9CB-5F8C39E2ACB7}" srcOrd="0" destOrd="0" presId="urn:microsoft.com/office/officeart/2005/8/layout/list1"/>
    <dgm:cxn modelId="{E612E328-6E12-4141-B703-BE4320CDB27D}" type="presParOf" srcId="{0DC6B7B0-6303-4057-B266-54E4B01F53CC}" destId="{3317BDF5-3258-432C-8406-2A05883319E6}" srcOrd="1" destOrd="0" presId="urn:microsoft.com/office/officeart/2005/8/layout/list1"/>
    <dgm:cxn modelId="{D0A32BA2-5310-4E94-8216-F711426C6289}" type="presParOf" srcId="{18F6336F-7BCE-4053-8D12-1F0F9E31E0A4}" destId="{8EE2D49E-8FE1-4382-9C1C-917AF273DC4E}" srcOrd="9" destOrd="0" presId="urn:microsoft.com/office/officeart/2005/8/layout/list1"/>
    <dgm:cxn modelId="{AABEF1F9-57C2-4BDE-A07E-DF7A1907D554}" type="presParOf" srcId="{18F6336F-7BCE-4053-8D12-1F0F9E31E0A4}" destId="{3CB48B57-56B9-4E73-9821-9364303DEECD}" srcOrd="10" destOrd="0" presId="urn:microsoft.com/office/officeart/2005/8/layout/list1"/>
    <dgm:cxn modelId="{F56766A6-5C92-4A57-8A76-BA0ABB5D4442}" type="presParOf" srcId="{18F6336F-7BCE-4053-8D12-1F0F9E31E0A4}" destId="{02281A1C-6767-4105-9845-5D1670075E15}" srcOrd="11" destOrd="0" presId="urn:microsoft.com/office/officeart/2005/8/layout/list1"/>
    <dgm:cxn modelId="{8B271DBC-CE05-4CEB-809F-8DC5D5891C68}" type="presParOf" srcId="{18F6336F-7BCE-4053-8D12-1F0F9E31E0A4}" destId="{ED744178-0AA3-4215-8F3C-D1C7045ADD19}" srcOrd="12" destOrd="0" presId="urn:microsoft.com/office/officeart/2005/8/layout/list1"/>
    <dgm:cxn modelId="{AE711914-1AAE-4F53-8566-C751033C6452}" type="presParOf" srcId="{ED744178-0AA3-4215-8F3C-D1C7045ADD19}" destId="{D78F80A6-E101-4D69-9024-05A4B0E3D224}" srcOrd="0" destOrd="0" presId="urn:microsoft.com/office/officeart/2005/8/layout/list1"/>
    <dgm:cxn modelId="{F23ACBB7-5638-4936-A969-1CE695004B1B}" type="presParOf" srcId="{ED744178-0AA3-4215-8F3C-D1C7045ADD19}" destId="{A07BB598-26D2-44E9-B7E8-529A52DEB8A5}" srcOrd="1" destOrd="0" presId="urn:microsoft.com/office/officeart/2005/8/layout/list1"/>
    <dgm:cxn modelId="{6F47E3AF-36C2-4730-90B6-E32D6253C229}" type="presParOf" srcId="{18F6336F-7BCE-4053-8D12-1F0F9E31E0A4}" destId="{971ACE18-5E12-4C62-AA48-CAF470A34733}" srcOrd="13" destOrd="0" presId="urn:microsoft.com/office/officeart/2005/8/layout/list1"/>
    <dgm:cxn modelId="{F0D93859-9116-4704-8FE8-E5C1524CDD85}" type="presParOf" srcId="{18F6336F-7BCE-4053-8D12-1F0F9E31E0A4}" destId="{29313BC3-419E-474C-AF4A-FC1BC03E8B43}" srcOrd="14" destOrd="0" presId="urn:microsoft.com/office/officeart/2005/8/layout/list1"/>
    <dgm:cxn modelId="{247B6976-8325-4A56-8157-48E07D774190}" type="presParOf" srcId="{18F6336F-7BCE-4053-8D12-1F0F9E31E0A4}" destId="{729E3B0D-BC1F-430F-A6F6-556D123DDDC9}" srcOrd="15" destOrd="0" presId="urn:microsoft.com/office/officeart/2005/8/layout/list1"/>
    <dgm:cxn modelId="{D486E373-2567-4A0A-AA2D-3E21C48C1417}" type="presParOf" srcId="{18F6336F-7BCE-4053-8D12-1F0F9E31E0A4}" destId="{0582B4F1-40CA-48DB-80E2-322CEE44BE71}" srcOrd="16" destOrd="0" presId="urn:microsoft.com/office/officeart/2005/8/layout/list1"/>
    <dgm:cxn modelId="{481338DD-4129-45E3-85E4-C3796C785626}" type="presParOf" srcId="{0582B4F1-40CA-48DB-80E2-322CEE44BE71}" destId="{95E9A9D9-8768-405B-931B-7D24237CEA11}" srcOrd="0" destOrd="0" presId="urn:microsoft.com/office/officeart/2005/8/layout/list1"/>
    <dgm:cxn modelId="{D6BD1813-5429-40E5-AE8B-D9604A21C0D8}" type="presParOf" srcId="{0582B4F1-40CA-48DB-80E2-322CEE44BE71}" destId="{DA7A3EF9-CB5B-47EB-A111-A0F4E28DEA62}" srcOrd="1" destOrd="0" presId="urn:microsoft.com/office/officeart/2005/8/layout/list1"/>
    <dgm:cxn modelId="{551C0ECE-FF21-48A9-ACFD-C87A26FA308A}" type="presParOf" srcId="{18F6336F-7BCE-4053-8D12-1F0F9E31E0A4}" destId="{5D300F10-361E-4117-A933-5751EF03FA60}" srcOrd="17" destOrd="0" presId="urn:microsoft.com/office/officeart/2005/8/layout/list1"/>
    <dgm:cxn modelId="{D7E81DB0-1C45-4F5F-945C-877CA431B47F}" type="presParOf" srcId="{18F6336F-7BCE-4053-8D12-1F0F9E31E0A4}" destId="{6FA8E29D-B607-4136-BE57-C911DC7D1E2E}" srcOrd="18" destOrd="0" presId="urn:microsoft.com/office/officeart/2005/8/layout/list1"/>
    <dgm:cxn modelId="{DC728F36-22FA-47A2-A8A5-FD8A1659BE4F}" type="presParOf" srcId="{18F6336F-7BCE-4053-8D12-1F0F9E31E0A4}" destId="{C3F902AE-A30A-4D60-9BB9-F7A41D345D77}" srcOrd="19" destOrd="0" presId="urn:microsoft.com/office/officeart/2005/8/layout/list1"/>
    <dgm:cxn modelId="{D344214B-B4A0-47E4-AF07-2D7F34269799}" type="presParOf" srcId="{18F6336F-7BCE-4053-8D12-1F0F9E31E0A4}" destId="{EB6CC6C4-5104-46D9-8350-AF132E92FF98}" srcOrd="20" destOrd="0" presId="urn:microsoft.com/office/officeart/2005/8/layout/list1"/>
    <dgm:cxn modelId="{B4B3DE04-DCE1-4046-B712-C74ACF46132C}" type="presParOf" srcId="{EB6CC6C4-5104-46D9-8350-AF132E92FF98}" destId="{A44F3274-8AF4-4DE6-BD1F-4F6601F7F69B}" srcOrd="0" destOrd="0" presId="urn:microsoft.com/office/officeart/2005/8/layout/list1"/>
    <dgm:cxn modelId="{3B66E80A-E3C3-4AA8-97E4-DF31C0D0F92C}" type="presParOf" srcId="{EB6CC6C4-5104-46D9-8350-AF132E92FF98}" destId="{B3658B12-B8B9-4873-8247-7DF23FBE38A4}" srcOrd="1" destOrd="0" presId="urn:microsoft.com/office/officeart/2005/8/layout/list1"/>
    <dgm:cxn modelId="{28561922-8761-4AA6-B716-1209317522D4}" type="presParOf" srcId="{18F6336F-7BCE-4053-8D12-1F0F9E31E0A4}" destId="{B50EE207-9E62-4BEC-A9A3-2C3FB49191C2}" srcOrd="21" destOrd="0" presId="urn:microsoft.com/office/officeart/2005/8/layout/list1"/>
    <dgm:cxn modelId="{36F76D9B-8DFE-47B2-96F2-876CEB8CBE50}" type="presParOf" srcId="{18F6336F-7BCE-4053-8D12-1F0F9E31E0A4}" destId="{83BD41D9-D555-4B6E-AF88-6135876BAD11}" srcOrd="22" destOrd="0" presId="urn:microsoft.com/office/officeart/2005/8/layout/list1"/>
    <dgm:cxn modelId="{10C6F120-97A4-4BF0-B5DA-EB7822AD8C39}" type="presParOf" srcId="{18F6336F-7BCE-4053-8D12-1F0F9E31E0A4}" destId="{BDEE9EB9-575F-4ADE-AFEE-32550ED0D2D1}" srcOrd="23" destOrd="0" presId="urn:microsoft.com/office/officeart/2005/8/layout/list1"/>
    <dgm:cxn modelId="{E760298A-66B8-4EE0-B3AE-474C98E22D7F}" type="presParOf" srcId="{18F6336F-7BCE-4053-8D12-1F0F9E31E0A4}" destId="{6A0A5B1E-6A4B-4BF5-A009-69A903B0F6E0}" srcOrd="24" destOrd="0" presId="urn:microsoft.com/office/officeart/2005/8/layout/list1"/>
    <dgm:cxn modelId="{40D3A1DB-171E-4271-967B-4465FD0E5815}" type="presParOf" srcId="{6A0A5B1E-6A4B-4BF5-A009-69A903B0F6E0}" destId="{AF7F76F5-DDD4-4E65-A694-1529C537D4C2}" srcOrd="0" destOrd="0" presId="urn:microsoft.com/office/officeart/2005/8/layout/list1"/>
    <dgm:cxn modelId="{B1829993-6407-4D64-B5E7-B144B04EDA94}" type="presParOf" srcId="{6A0A5B1E-6A4B-4BF5-A009-69A903B0F6E0}" destId="{D88BECAA-86B9-4794-8777-478AD6F4036C}" srcOrd="1" destOrd="0" presId="urn:microsoft.com/office/officeart/2005/8/layout/list1"/>
    <dgm:cxn modelId="{22EA9AF2-7793-4398-91DC-12817148D0FF}" type="presParOf" srcId="{18F6336F-7BCE-4053-8D12-1F0F9E31E0A4}" destId="{EF78DC30-A834-4560-8F41-19E23B1586EA}" srcOrd="25" destOrd="0" presId="urn:microsoft.com/office/officeart/2005/8/layout/list1"/>
    <dgm:cxn modelId="{116D90C2-7BCC-48F7-8419-28524F4DB9B6}" type="presParOf" srcId="{18F6336F-7BCE-4053-8D12-1F0F9E31E0A4}" destId="{452A13A7-DF69-43D0-9AC0-5E60240B50E5}" srcOrd="26" destOrd="0" presId="urn:microsoft.com/office/officeart/2005/8/layout/list1"/>
    <dgm:cxn modelId="{FEF69697-55A6-4003-AAE8-C4A9220CAD28}" type="presParOf" srcId="{18F6336F-7BCE-4053-8D12-1F0F9E31E0A4}" destId="{56CEEF1E-9572-4776-87CE-DC5FC7B65FFB}" srcOrd="27" destOrd="0" presId="urn:microsoft.com/office/officeart/2005/8/layout/list1"/>
    <dgm:cxn modelId="{6EF250AC-8B38-4630-9298-52A14E501268}" type="presParOf" srcId="{18F6336F-7BCE-4053-8D12-1F0F9E31E0A4}" destId="{A692F03C-AE0F-460F-8714-B7FD390BAE94}" srcOrd="28" destOrd="0" presId="urn:microsoft.com/office/officeart/2005/8/layout/list1"/>
    <dgm:cxn modelId="{10DE0339-EC5B-41F8-BA45-31C962ADA6E8}" type="presParOf" srcId="{A692F03C-AE0F-460F-8714-B7FD390BAE94}" destId="{4F4E1487-B7A9-4E26-9C59-F38BBE374A19}" srcOrd="0" destOrd="0" presId="urn:microsoft.com/office/officeart/2005/8/layout/list1"/>
    <dgm:cxn modelId="{28488E1B-D037-4B9B-BD44-C82FF8E867EE}" type="presParOf" srcId="{A692F03C-AE0F-460F-8714-B7FD390BAE94}" destId="{370407C8-1391-4FD9-9557-87AF60D5AB26}" srcOrd="1" destOrd="0" presId="urn:microsoft.com/office/officeart/2005/8/layout/list1"/>
    <dgm:cxn modelId="{DD90B67B-6E74-443A-9B2D-8CB17D67684C}" type="presParOf" srcId="{18F6336F-7BCE-4053-8D12-1F0F9E31E0A4}" destId="{1C086DBF-AF46-41EA-B395-685DBF494A3E}" srcOrd="29" destOrd="0" presId="urn:microsoft.com/office/officeart/2005/8/layout/list1"/>
    <dgm:cxn modelId="{5AA338AF-DCF0-4D8F-B8F0-DCA7D95D652C}" type="presParOf" srcId="{18F6336F-7BCE-4053-8D12-1F0F9E31E0A4}" destId="{13A97048-02AB-40B2-9225-60A06691AEAA}" srcOrd="30" destOrd="0" presId="urn:microsoft.com/office/officeart/2005/8/layout/list1"/>
    <dgm:cxn modelId="{D5D7A6E4-5C49-45C3-8460-36926A04A608}" type="presParOf" srcId="{18F6336F-7BCE-4053-8D12-1F0F9E31E0A4}" destId="{42F8B485-E867-4062-B1C3-D24B97E4025F}" srcOrd="31" destOrd="0" presId="urn:microsoft.com/office/officeart/2005/8/layout/list1"/>
    <dgm:cxn modelId="{6B2750B3-299D-4C1D-B1EE-30F07B7F0D53}" type="presParOf" srcId="{18F6336F-7BCE-4053-8D12-1F0F9E31E0A4}" destId="{A3A45BB9-0865-4485-872A-68B86CE4DB76}" srcOrd="32" destOrd="0" presId="urn:microsoft.com/office/officeart/2005/8/layout/list1"/>
    <dgm:cxn modelId="{42831EDC-7E7C-480A-8F5F-20B2AC58E613}" type="presParOf" srcId="{A3A45BB9-0865-4485-872A-68B86CE4DB76}" destId="{AAE17E7C-505B-44A5-8824-D02D5DE84084}" srcOrd="0" destOrd="0" presId="urn:microsoft.com/office/officeart/2005/8/layout/list1"/>
    <dgm:cxn modelId="{25A6437C-536C-4570-A007-3396900B91DB}" type="presParOf" srcId="{A3A45BB9-0865-4485-872A-68B86CE4DB76}" destId="{36C8C100-348D-40A0-8BE6-FF674F0AF2DE}" srcOrd="1" destOrd="0" presId="urn:microsoft.com/office/officeart/2005/8/layout/list1"/>
    <dgm:cxn modelId="{1D470D26-0F41-4409-8FF7-42A4A2DCC69E}" type="presParOf" srcId="{18F6336F-7BCE-4053-8D12-1F0F9E31E0A4}" destId="{718FB6AA-B41E-4FC4-988A-061BD71045EE}" srcOrd="33" destOrd="0" presId="urn:microsoft.com/office/officeart/2005/8/layout/list1"/>
    <dgm:cxn modelId="{4F272C04-9A90-4350-A634-CF777AFA5083}" type="presParOf" srcId="{18F6336F-7BCE-4053-8D12-1F0F9E31E0A4}" destId="{0409EF26-FEF3-4405-B7D2-953BB1BA5E9C}" srcOrd="34" destOrd="0" presId="urn:microsoft.com/office/officeart/2005/8/layout/list1"/>
    <dgm:cxn modelId="{E248FB6D-FB1E-4BFC-99B3-5223B79BFFB0}" type="presParOf" srcId="{18F6336F-7BCE-4053-8D12-1F0F9E31E0A4}" destId="{FC71C343-FC4E-499F-9D7E-4E1D903DEE21}" srcOrd="35" destOrd="0" presId="urn:microsoft.com/office/officeart/2005/8/layout/list1"/>
    <dgm:cxn modelId="{3987DB85-132C-40AE-98BC-3E9D793967FF}" type="presParOf" srcId="{18F6336F-7BCE-4053-8D12-1F0F9E31E0A4}" destId="{9D116D14-A54E-4AC2-A519-24B189E93EA3}" srcOrd="36" destOrd="0" presId="urn:microsoft.com/office/officeart/2005/8/layout/list1"/>
    <dgm:cxn modelId="{A56CE421-6AE1-43D6-BC41-11C03B3D4886}" type="presParOf" srcId="{9D116D14-A54E-4AC2-A519-24B189E93EA3}" destId="{5A79498A-4800-4446-947D-6C938897A244}" srcOrd="0" destOrd="0" presId="urn:microsoft.com/office/officeart/2005/8/layout/list1"/>
    <dgm:cxn modelId="{DA8145BF-5FC5-45C6-93E1-C81C382C6686}" type="presParOf" srcId="{9D116D14-A54E-4AC2-A519-24B189E93EA3}" destId="{ED636ECD-F43A-4026-8106-4B98E55266F9}" srcOrd="1" destOrd="0" presId="urn:microsoft.com/office/officeart/2005/8/layout/list1"/>
    <dgm:cxn modelId="{5E09A931-8313-4071-A442-F0BB720E8542}" type="presParOf" srcId="{18F6336F-7BCE-4053-8D12-1F0F9E31E0A4}" destId="{C2BBF99A-6899-4413-9D88-C1A9B7878543}" srcOrd="37" destOrd="0" presId="urn:microsoft.com/office/officeart/2005/8/layout/list1"/>
    <dgm:cxn modelId="{462ED7CF-2587-47C8-B8EB-204A3E14F2B7}" type="presParOf" srcId="{18F6336F-7BCE-4053-8D12-1F0F9E31E0A4}" destId="{DEB3A97E-4F32-417D-8130-EB354B8360B1}" srcOrd="38" destOrd="0" presId="urn:microsoft.com/office/officeart/2005/8/layout/list1"/>
    <dgm:cxn modelId="{32453997-CFE3-4F74-8E1F-C0F4C92838B5}" type="presParOf" srcId="{18F6336F-7BCE-4053-8D12-1F0F9E31E0A4}" destId="{88C97614-C003-4F8D-AFEF-C26EE9E3AC77}" srcOrd="39" destOrd="0" presId="urn:microsoft.com/office/officeart/2005/8/layout/list1"/>
    <dgm:cxn modelId="{37DA84B8-036A-4AA6-9555-6B07E6979824}" type="presParOf" srcId="{18F6336F-7BCE-4053-8D12-1F0F9E31E0A4}" destId="{EFC00DB2-69D6-4F29-8D91-D1FEF7663E77}" srcOrd="40" destOrd="0" presId="urn:microsoft.com/office/officeart/2005/8/layout/list1"/>
    <dgm:cxn modelId="{CD464155-21D9-4F9B-A6DE-9B6AF7150F46}" type="presParOf" srcId="{EFC00DB2-69D6-4F29-8D91-D1FEF7663E77}" destId="{25527203-C498-45C3-A734-379AE2A3595A}" srcOrd="0" destOrd="0" presId="urn:microsoft.com/office/officeart/2005/8/layout/list1"/>
    <dgm:cxn modelId="{94539B09-0B20-4DA8-8EA1-1D3288F9B905}" type="presParOf" srcId="{EFC00DB2-69D6-4F29-8D91-D1FEF7663E77}" destId="{B7823A1F-B734-422B-8ABE-ADBA2AB692FA}" srcOrd="1" destOrd="0" presId="urn:microsoft.com/office/officeart/2005/8/layout/list1"/>
    <dgm:cxn modelId="{477768A7-9272-4D10-A46E-D1891858C660}" type="presParOf" srcId="{18F6336F-7BCE-4053-8D12-1F0F9E31E0A4}" destId="{ABFC5EF7-0BCE-4CB7-9522-2ACEE3B5F501}" srcOrd="41" destOrd="0" presId="urn:microsoft.com/office/officeart/2005/8/layout/list1"/>
    <dgm:cxn modelId="{DB39521E-425A-4474-AAF2-B7ADE28C347D}" type="presParOf" srcId="{18F6336F-7BCE-4053-8D12-1F0F9E31E0A4}" destId="{9B03B26D-F009-4086-BD31-2AEAFD444E62}" srcOrd="42" destOrd="0" presId="urn:microsoft.com/office/officeart/2005/8/layout/list1"/>
    <dgm:cxn modelId="{98C44009-4094-45AB-B755-C8C03D97C9AA}" type="presParOf" srcId="{18F6336F-7BCE-4053-8D12-1F0F9E31E0A4}" destId="{354C408F-BB2D-4272-B340-69DA17F3BD99}" srcOrd="43" destOrd="0" presId="urn:microsoft.com/office/officeart/2005/8/layout/list1"/>
    <dgm:cxn modelId="{BB8D4E90-443B-442C-9E7A-404CD2E73E97}" type="presParOf" srcId="{18F6336F-7BCE-4053-8D12-1F0F9E31E0A4}" destId="{75283A0E-F389-4681-85E0-D2B0A38083B3}" srcOrd="44" destOrd="0" presId="urn:microsoft.com/office/officeart/2005/8/layout/list1"/>
    <dgm:cxn modelId="{67994D86-8C16-4381-AC78-FC763B226191}" type="presParOf" srcId="{75283A0E-F389-4681-85E0-D2B0A38083B3}" destId="{27FF6C95-181E-46A0-97B6-A26BC1DF1150}" srcOrd="0" destOrd="0" presId="urn:microsoft.com/office/officeart/2005/8/layout/list1"/>
    <dgm:cxn modelId="{0A5718D8-513D-4A16-8E7A-7C62AEC55A8A}" type="presParOf" srcId="{75283A0E-F389-4681-85E0-D2B0A38083B3}" destId="{84B4A16B-1444-46EA-84E4-781F5353EC04}" srcOrd="1" destOrd="0" presId="urn:microsoft.com/office/officeart/2005/8/layout/list1"/>
    <dgm:cxn modelId="{CA9D306C-B018-42A8-A8F8-DD9DBFC58512}" type="presParOf" srcId="{18F6336F-7BCE-4053-8D12-1F0F9E31E0A4}" destId="{207CC047-4632-4C92-9BEA-BF33C5073C3D}" srcOrd="45" destOrd="0" presId="urn:microsoft.com/office/officeart/2005/8/layout/list1"/>
    <dgm:cxn modelId="{DDC58ABD-AE8F-42E8-B55D-252C7EE9793B}" type="presParOf" srcId="{18F6336F-7BCE-4053-8D12-1F0F9E31E0A4}" destId="{232357A8-4C16-4EAC-A6F3-B579D2BA91E8}" srcOrd="46" destOrd="0" presId="urn:microsoft.com/office/officeart/2005/8/layout/list1"/>
    <dgm:cxn modelId="{AF6FDD90-2694-43A0-9D24-3CBF17F9B268}" type="presParOf" srcId="{18F6336F-7BCE-4053-8D12-1F0F9E31E0A4}" destId="{D4F347AA-8F4A-4EDE-A8F2-E6E3CE5BE0CD}" srcOrd="47" destOrd="0" presId="urn:microsoft.com/office/officeart/2005/8/layout/list1"/>
    <dgm:cxn modelId="{3947650B-A8EF-46FD-8A28-4BD7B9C4BEE5}" type="presParOf" srcId="{18F6336F-7BCE-4053-8D12-1F0F9E31E0A4}" destId="{54F7A63F-FDAC-4816-86AB-0824B6E743C5}" srcOrd="48" destOrd="0" presId="urn:microsoft.com/office/officeart/2005/8/layout/list1"/>
    <dgm:cxn modelId="{AE573A55-2C05-4BA5-9F05-8F138D969DA5}" type="presParOf" srcId="{54F7A63F-FDAC-4816-86AB-0824B6E743C5}" destId="{525DADCF-CDE5-4EE8-AE46-3F8D08D21E52}" srcOrd="0" destOrd="0" presId="urn:microsoft.com/office/officeart/2005/8/layout/list1"/>
    <dgm:cxn modelId="{F452BEC3-6578-49C5-A359-CC88D5DAD0CF}" type="presParOf" srcId="{54F7A63F-FDAC-4816-86AB-0824B6E743C5}" destId="{C4BD8598-E35E-49CB-9751-094BA715F9D4}" srcOrd="1" destOrd="0" presId="urn:microsoft.com/office/officeart/2005/8/layout/list1"/>
    <dgm:cxn modelId="{A2023679-9E0F-4D9A-8F4B-8EC39EFEA1EC}" type="presParOf" srcId="{18F6336F-7BCE-4053-8D12-1F0F9E31E0A4}" destId="{0E0128C2-28BC-41E9-85C6-B878FD8660D1}" srcOrd="49" destOrd="0" presId="urn:microsoft.com/office/officeart/2005/8/layout/list1"/>
    <dgm:cxn modelId="{06538118-1CA5-46D6-98D2-AC922C017597}" type="presParOf" srcId="{18F6336F-7BCE-4053-8D12-1F0F9E31E0A4}" destId="{80C0C129-3E79-493B-87D5-018B38203BAE}" srcOrd="50" destOrd="0" presId="urn:microsoft.com/office/officeart/2005/8/layout/list1"/>
    <dgm:cxn modelId="{57170306-7C9D-426B-9E91-7FDBE6BD5929}" type="presParOf" srcId="{18F6336F-7BCE-4053-8D12-1F0F9E31E0A4}" destId="{817F92ED-A834-417B-9945-6995537BC29D}" srcOrd="51" destOrd="0" presId="urn:microsoft.com/office/officeart/2005/8/layout/list1"/>
    <dgm:cxn modelId="{34B7EC21-DFEF-4331-B800-6AA093E5A75B}" type="presParOf" srcId="{18F6336F-7BCE-4053-8D12-1F0F9E31E0A4}" destId="{2F1CAE23-14ED-42E2-8112-AA7A9505354B}" srcOrd="52" destOrd="0" presId="urn:microsoft.com/office/officeart/2005/8/layout/list1"/>
    <dgm:cxn modelId="{097EF785-C16D-431F-AB03-0DBFC37FC4D4}" type="presParOf" srcId="{2F1CAE23-14ED-42E2-8112-AA7A9505354B}" destId="{590897A8-4AD6-4C9E-B83B-97CA3188EE23}" srcOrd="0" destOrd="0" presId="urn:microsoft.com/office/officeart/2005/8/layout/list1"/>
    <dgm:cxn modelId="{12E4C538-BAED-4103-B71F-655AF7424C9C}" type="presParOf" srcId="{2F1CAE23-14ED-42E2-8112-AA7A9505354B}" destId="{D6835FFC-553C-489F-B730-2382417A3A59}" srcOrd="1" destOrd="0" presId="urn:microsoft.com/office/officeart/2005/8/layout/list1"/>
    <dgm:cxn modelId="{441FF0F4-58D6-48F3-B830-A298563F2F5B}" type="presParOf" srcId="{18F6336F-7BCE-4053-8D12-1F0F9E31E0A4}" destId="{A2299556-2B67-4311-AC15-DA00EA4118F2}" srcOrd="53" destOrd="0" presId="urn:microsoft.com/office/officeart/2005/8/layout/list1"/>
    <dgm:cxn modelId="{B14950DA-E506-4A52-91E4-4D7D5D5FEF54}" type="presParOf" srcId="{18F6336F-7BCE-4053-8D12-1F0F9E31E0A4}" destId="{4AD75E93-CFCF-4FB1-AD20-52BA80041ECB}" srcOrd="54" destOrd="0" presId="urn:microsoft.com/office/officeart/2005/8/layout/list1"/>
    <dgm:cxn modelId="{EDC42C05-DC25-461D-B72C-4AE9819E49B0}" type="presParOf" srcId="{18F6336F-7BCE-4053-8D12-1F0F9E31E0A4}" destId="{1A8363CF-3BF3-4CAC-A21D-2C2F05911418}" srcOrd="55" destOrd="0" presId="urn:microsoft.com/office/officeart/2005/8/layout/list1"/>
    <dgm:cxn modelId="{F053E466-835F-4038-AF38-9948F9A31654}" type="presParOf" srcId="{18F6336F-7BCE-4053-8D12-1F0F9E31E0A4}" destId="{56BCD260-BBDC-4210-9A64-30649DC47AFA}" srcOrd="56" destOrd="0" presId="urn:microsoft.com/office/officeart/2005/8/layout/list1"/>
    <dgm:cxn modelId="{7CFE24EC-204E-4D50-B61E-96592E5A05A0}" type="presParOf" srcId="{56BCD260-BBDC-4210-9A64-30649DC47AFA}" destId="{03B18BD3-AB98-47BF-B568-E8F4D8084EA1}" srcOrd="0" destOrd="0" presId="urn:microsoft.com/office/officeart/2005/8/layout/list1"/>
    <dgm:cxn modelId="{EBEA776F-9E50-4700-B8DB-55B6D57AA065}" type="presParOf" srcId="{56BCD260-BBDC-4210-9A64-30649DC47AFA}" destId="{5AEC349D-0BAD-4435-AB5B-0C0F674B6AEF}" srcOrd="1" destOrd="0" presId="urn:microsoft.com/office/officeart/2005/8/layout/list1"/>
    <dgm:cxn modelId="{12353B87-BC7E-4F5A-AB64-FA4A47FEE8C7}" type="presParOf" srcId="{18F6336F-7BCE-4053-8D12-1F0F9E31E0A4}" destId="{CE420BE9-7896-4224-B8C7-6394456D2A33}" srcOrd="57" destOrd="0" presId="urn:microsoft.com/office/officeart/2005/8/layout/list1"/>
    <dgm:cxn modelId="{A20779EA-69D1-4DE6-8958-578D4ED4BB88}" type="presParOf" srcId="{18F6336F-7BCE-4053-8D12-1F0F9E31E0A4}" destId="{C81B069E-D033-4F78-BACE-5F1A1EB362C7}" srcOrd="58" destOrd="0" presId="urn:microsoft.com/office/officeart/2005/8/layout/list1"/>
    <dgm:cxn modelId="{E8CB959E-42DD-414D-9E55-53B03F9AD05E}" type="presParOf" srcId="{18F6336F-7BCE-4053-8D12-1F0F9E31E0A4}" destId="{FCFCE7F1-F25C-446E-9C82-849585E625CC}" srcOrd="59" destOrd="0" presId="urn:microsoft.com/office/officeart/2005/8/layout/list1"/>
    <dgm:cxn modelId="{4F35CBB7-99F5-45B4-B7E1-DD783197FCC9}" type="presParOf" srcId="{18F6336F-7BCE-4053-8D12-1F0F9E31E0A4}" destId="{CB835BF8-5A95-4C30-806F-6A393705025E}" srcOrd="60" destOrd="0" presId="urn:microsoft.com/office/officeart/2005/8/layout/list1"/>
    <dgm:cxn modelId="{0CA0793A-0194-460B-982A-9BA23EFE7A67}" type="presParOf" srcId="{CB835BF8-5A95-4C30-806F-6A393705025E}" destId="{2C061E25-503B-440C-87C9-D336C48D3A2B}" srcOrd="0" destOrd="0" presId="urn:microsoft.com/office/officeart/2005/8/layout/list1"/>
    <dgm:cxn modelId="{81D345BB-A052-4DF8-91F4-AED46A9A0874}" type="presParOf" srcId="{CB835BF8-5A95-4C30-806F-6A393705025E}" destId="{9A6C1276-CCF5-4947-A94B-41E17741E0BD}" srcOrd="1" destOrd="0" presId="urn:microsoft.com/office/officeart/2005/8/layout/list1"/>
    <dgm:cxn modelId="{227609D7-48F6-4DD8-9BC3-8A27B5E60325}" type="presParOf" srcId="{18F6336F-7BCE-4053-8D12-1F0F9E31E0A4}" destId="{D72F0017-55A4-45C3-A2FE-C27E3534C784}" srcOrd="61" destOrd="0" presId="urn:microsoft.com/office/officeart/2005/8/layout/list1"/>
    <dgm:cxn modelId="{1C3ECCF8-C805-4AE8-9B5D-DF6BCC68404D}" type="presParOf" srcId="{18F6336F-7BCE-4053-8D12-1F0F9E31E0A4}" destId="{5A53EC70-4FBF-4D04-9FD1-7CDC155E5906}" srcOrd="62" destOrd="0" presId="urn:microsoft.com/office/officeart/2005/8/layout/list1"/>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27B2A997-2C2B-4F64-AF8D-BCC9379683B3}" type="doc">
      <dgm:prSet loTypeId="urn:microsoft.com/office/officeart/2005/8/layout/list1" loCatId="list" qsTypeId="urn:microsoft.com/office/officeart/2005/8/quickstyle/simple2" qsCatId="simple" csTypeId="urn:microsoft.com/office/officeart/2005/8/colors/accent1_2" csCatId="accent1"/>
      <dgm:spPr/>
      <dgm:t>
        <a:bodyPr/>
        <a:lstStyle/>
        <a:p>
          <a:endParaRPr lang="zh-CN" altLang="en-US"/>
        </a:p>
      </dgm:t>
    </dgm:pt>
    <dgm:pt modelId="{259DB5F4-24DE-4317-B241-86BE44B91EF6}">
      <dgm:prSet custT="1"/>
      <dgm:spPr/>
      <dgm:t>
        <a:bodyPr/>
        <a:lstStyle/>
        <a:p>
          <a:pPr rtl="0"/>
          <a:r>
            <a:rPr lang="zh-CN" altLang="en-US" sz="2800" dirty="0" smtClean="0">
              <a:latin typeface="方正粗宋简体" panose="03000509000000000000" pitchFamily="65" charset="-122"/>
              <a:ea typeface="方正粗宋简体" panose="03000509000000000000" pitchFamily="65" charset="-122"/>
            </a:rPr>
            <a:t>你会遇到两类雇主：</a:t>
          </a:r>
          <a:endParaRPr lang="zh-CN" altLang="en-US" sz="2800" dirty="0">
            <a:latin typeface="方正粗宋简体" panose="03000509000000000000" pitchFamily="65" charset="-122"/>
            <a:ea typeface="方正粗宋简体" panose="03000509000000000000" pitchFamily="65" charset="-122"/>
          </a:endParaRPr>
        </a:p>
      </dgm:t>
    </dgm:pt>
    <dgm:pt modelId="{F844D093-1C8C-43CE-B77E-A64025C6B765}" type="parTrans" cxnId="{57F4D611-5C3F-424F-AD62-2EF7A4518154}">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0603E592-E89E-4695-8AF7-EE9399F72352}" type="sibTrans" cxnId="{57F4D611-5C3F-424F-AD62-2EF7A4518154}">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9BAEA82A-E3E4-44B0-863B-4CCDA98AF9AA}">
      <dgm:prSet custT="1"/>
      <dgm:spPr/>
      <dgm:t>
        <a:bodyPr/>
        <a:lstStyle/>
        <a:p>
          <a:pPr rtl="0"/>
          <a:r>
            <a:rPr lang="zh-CN" altLang="en-US" sz="2400" dirty="0" smtClean="0">
              <a:solidFill>
                <a:srgbClr val="002060"/>
              </a:solidFill>
              <a:latin typeface="微软雅黑" panose="020B0503020204020204" pitchFamily="34" charset="-122"/>
              <a:ea typeface="微软雅黑" panose="020B0503020204020204" pitchFamily="34" charset="-122"/>
            </a:rPr>
            <a:t>因你的缺陷而不雇用你；</a:t>
          </a:r>
          <a:endParaRPr lang="zh-CN" altLang="en-US" sz="2400" dirty="0">
            <a:solidFill>
              <a:srgbClr val="002060"/>
            </a:solidFill>
            <a:latin typeface="微软雅黑" panose="020B0503020204020204" pitchFamily="34" charset="-122"/>
            <a:ea typeface="微软雅黑" panose="020B0503020204020204" pitchFamily="34" charset="-122"/>
          </a:endParaRPr>
        </a:p>
      </dgm:t>
    </dgm:pt>
    <dgm:pt modelId="{0BA16EE0-2ED8-4BB7-8B2F-8B905D66A654}" type="parTrans" cxnId="{62AB1507-48CE-4451-B091-6903633A81DD}">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1E17745F-5C0C-4824-9A71-61E3ACB8C1AF}" type="sibTrans" cxnId="{62AB1507-48CE-4451-B091-6903633A81DD}">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4F3BD1A8-1096-4EC6-9C68-70E411C2E656}">
      <dgm:prSet custT="1"/>
      <dgm:spPr/>
      <dgm:t>
        <a:bodyPr/>
        <a:lstStyle/>
        <a:p>
          <a:pPr rtl="0"/>
          <a:r>
            <a:rPr lang="zh-CN" altLang="en-US" sz="2400" dirty="0" smtClean="0">
              <a:solidFill>
                <a:srgbClr val="002060"/>
              </a:solidFill>
              <a:latin typeface="微软雅黑" panose="020B0503020204020204" pitchFamily="34" charset="-122"/>
              <a:ea typeface="微软雅黑" panose="020B0503020204020204" pitchFamily="34" charset="-122"/>
            </a:rPr>
            <a:t>只要你能胜任工作就雇用你，不在乎是否有缺陷；</a:t>
          </a:r>
          <a:endParaRPr lang="zh-CN" altLang="en-US" sz="2400" dirty="0">
            <a:solidFill>
              <a:srgbClr val="002060"/>
            </a:solidFill>
            <a:latin typeface="微软雅黑" panose="020B0503020204020204" pitchFamily="34" charset="-122"/>
            <a:ea typeface="微软雅黑" panose="020B0503020204020204" pitchFamily="34" charset="-122"/>
          </a:endParaRPr>
        </a:p>
      </dgm:t>
    </dgm:pt>
    <dgm:pt modelId="{1F1309DB-F755-4325-B54F-F5AB815BBCB9}" type="parTrans" cxnId="{FD5E342B-AB0F-4CF9-AB33-CB3E55F408F5}">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8D7DE2C2-A79C-44BA-86D7-D4D5B4985C9A}" type="sibTrans" cxnId="{FD5E342B-AB0F-4CF9-AB33-CB3E55F408F5}">
      <dgm:prSet/>
      <dgm:spPr/>
      <dgm:t>
        <a:bodyPr/>
        <a:lstStyle/>
        <a:p>
          <a:endParaRPr lang="zh-CN" altLang="en-US" sz="3600">
            <a:latin typeface="微软雅黑" panose="020B0503020204020204" pitchFamily="34" charset="-122"/>
            <a:ea typeface="微软雅黑" panose="020B0503020204020204" pitchFamily="34" charset="-122"/>
          </a:endParaRPr>
        </a:p>
      </dgm:t>
    </dgm:pt>
    <dgm:pt modelId="{330AE168-5390-425D-B9B7-E867A78C0E08}" type="pres">
      <dgm:prSet presAssocID="{27B2A997-2C2B-4F64-AF8D-BCC9379683B3}" presName="linear" presStyleCnt="0">
        <dgm:presLayoutVars>
          <dgm:dir/>
          <dgm:animLvl val="lvl"/>
          <dgm:resizeHandles val="exact"/>
        </dgm:presLayoutVars>
      </dgm:prSet>
      <dgm:spPr/>
      <dgm:t>
        <a:bodyPr/>
        <a:lstStyle/>
        <a:p>
          <a:endParaRPr lang="zh-CN" altLang="en-US"/>
        </a:p>
      </dgm:t>
    </dgm:pt>
    <dgm:pt modelId="{ADA4AE23-5186-425E-8A62-C1D820BCCB02}" type="pres">
      <dgm:prSet presAssocID="{259DB5F4-24DE-4317-B241-86BE44B91EF6}" presName="parentLin" presStyleCnt="0"/>
      <dgm:spPr/>
    </dgm:pt>
    <dgm:pt modelId="{704A748E-14D2-4DF7-B507-E4FEE2A5BBC2}" type="pres">
      <dgm:prSet presAssocID="{259DB5F4-24DE-4317-B241-86BE44B91EF6}" presName="parentLeftMargin" presStyleLbl="node1" presStyleIdx="0" presStyleCnt="1"/>
      <dgm:spPr/>
      <dgm:t>
        <a:bodyPr/>
        <a:lstStyle/>
        <a:p>
          <a:endParaRPr lang="zh-CN" altLang="en-US"/>
        </a:p>
      </dgm:t>
    </dgm:pt>
    <dgm:pt modelId="{F95F9B8D-E3C1-40E4-9340-73E87E209822}" type="pres">
      <dgm:prSet presAssocID="{259DB5F4-24DE-4317-B241-86BE44B91EF6}" presName="parentText" presStyleLbl="node1" presStyleIdx="0" presStyleCnt="1">
        <dgm:presLayoutVars>
          <dgm:chMax val="0"/>
          <dgm:bulletEnabled val="1"/>
        </dgm:presLayoutVars>
      </dgm:prSet>
      <dgm:spPr/>
      <dgm:t>
        <a:bodyPr/>
        <a:lstStyle/>
        <a:p>
          <a:endParaRPr lang="zh-CN" altLang="en-US"/>
        </a:p>
      </dgm:t>
    </dgm:pt>
    <dgm:pt modelId="{E6BDA7EA-C4F0-433D-A51D-C92D37BC6984}" type="pres">
      <dgm:prSet presAssocID="{259DB5F4-24DE-4317-B241-86BE44B91EF6}" presName="negativeSpace" presStyleCnt="0"/>
      <dgm:spPr/>
    </dgm:pt>
    <dgm:pt modelId="{34CDEF26-85BF-41E2-96E8-92D78C9B7A1A}" type="pres">
      <dgm:prSet presAssocID="{259DB5F4-24DE-4317-B241-86BE44B91EF6}" presName="childText" presStyleLbl="conFgAcc1" presStyleIdx="0" presStyleCnt="1">
        <dgm:presLayoutVars>
          <dgm:bulletEnabled val="1"/>
        </dgm:presLayoutVars>
      </dgm:prSet>
      <dgm:spPr/>
      <dgm:t>
        <a:bodyPr/>
        <a:lstStyle/>
        <a:p>
          <a:endParaRPr lang="zh-CN" altLang="en-US"/>
        </a:p>
      </dgm:t>
    </dgm:pt>
  </dgm:ptLst>
  <dgm:cxnLst>
    <dgm:cxn modelId="{4F29C4E7-27B2-4BB0-A905-46D4AC276F94}" type="presOf" srcId="{27B2A997-2C2B-4F64-AF8D-BCC9379683B3}" destId="{330AE168-5390-425D-B9B7-E867A78C0E08}" srcOrd="0" destOrd="0" presId="urn:microsoft.com/office/officeart/2005/8/layout/list1"/>
    <dgm:cxn modelId="{B9CC543B-3806-41BA-9346-6D615F1980F9}" type="presOf" srcId="{9BAEA82A-E3E4-44B0-863B-4CCDA98AF9AA}" destId="{34CDEF26-85BF-41E2-96E8-92D78C9B7A1A}" srcOrd="0" destOrd="0" presId="urn:microsoft.com/office/officeart/2005/8/layout/list1"/>
    <dgm:cxn modelId="{57F4D611-5C3F-424F-AD62-2EF7A4518154}" srcId="{27B2A997-2C2B-4F64-AF8D-BCC9379683B3}" destId="{259DB5F4-24DE-4317-B241-86BE44B91EF6}" srcOrd="0" destOrd="0" parTransId="{F844D093-1C8C-43CE-B77E-A64025C6B765}" sibTransId="{0603E592-E89E-4695-8AF7-EE9399F72352}"/>
    <dgm:cxn modelId="{FD5E342B-AB0F-4CF9-AB33-CB3E55F408F5}" srcId="{259DB5F4-24DE-4317-B241-86BE44B91EF6}" destId="{4F3BD1A8-1096-4EC6-9C68-70E411C2E656}" srcOrd="1" destOrd="0" parTransId="{1F1309DB-F755-4325-B54F-F5AB815BBCB9}" sibTransId="{8D7DE2C2-A79C-44BA-86D7-D4D5B4985C9A}"/>
    <dgm:cxn modelId="{E9B9FB60-0838-4ED2-A110-7F000D0F363B}" type="presOf" srcId="{4F3BD1A8-1096-4EC6-9C68-70E411C2E656}" destId="{34CDEF26-85BF-41E2-96E8-92D78C9B7A1A}" srcOrd="0" destOrd="1" presId="urn:microsoft.com/office/officeart/2005/8/layout/list1"/>
    <dgm:cxn modelId="{D3010BE5-35C6-4D7B-AEBC-65DC71ADF765}" type="presOf" srcId="{259DB5F4-24DE-4317-B241-86BE44B91EF6}" destId="{704A748E-14D2-4DF7-B507-E4FEE2A5BBC2}" srcOrd="0" destOrd="0" presId="urn:microsoft.com/office/officeart/2005/8/layout/list1"/>
    <dgm:cxn modelId="{59E7BEC0-FD18-4398-B148-DD7DCCD102DF}" type="presOf" srcId="{259DB5F4-24DE-4317-B241-86BE44B91EF6}" destId="{F95F9B8D-E3C1-40E4-9340-73E87E209822}" srcOrd="1" destOrd="0" presId="urn:microsoft.com/office/officeart/2005/8/layout/list1"/>
    <dgm:cxn modelId="{62AB1507-48CE-4451-B091-6903633A81DD}" srcId="{259DB5F4-24DE-4317-B241-86BE44B91EF6}" destId="{9BAEA82A-E3E4-44B0-863B-4CCDA98AF9AA}" srcOrd="0" destOrd="0" parTransId="{0BA16EE0-2ED8-4BB7-8B2F-8B905D66A654}" sibTransId="{1E17745F-5C0C-4824-9A71-61E3ACB8C1AF}"/>
    <dgm:cxn modelId="{3CE2102C-4320-47E7-8132-6248B87A43AA}" type="presParOf" srcId="{330AE168-5390-425D-B9B7-E867A78C0E08}" destId="{ADA4AE23-5186-425E-8A62-C1D820BCCB02}" srcOrd="0" destOrd="0" presId="urn:microsoft.com/office/officeart/2005/8/layout/list1"/>
    <dgm:cxn modelId="{945CBA26-59AF-447B-B04E-870F261CA890}" type="presParOf" srcId="{ADA4AE23-5186-425E-8A62-C1D820BCCB02}" destId="{704A748E-14D2-4DF7-B507-E4FEE2A5BBC2}" srcOrd="0" destOrd="0" presId="urn:microsoft.com/office/officeart/2005/8/layout/list1"/>
    <dgm:cxn modelId="{BF71D249-820C-49A1-82AF-391A00B475F4}" type="presParOf" srcId="{ADA4AE23-5186-425E-8A62-C1D820BCCB02}" destId="{F95F9B8D-E3C1-40E4-9340-73E87E209822}" srcOrd="1" destOrd="0" presId="urn:microsoft.com/office/officeart/2005/8/layout/list1"/>
    <dgm:cxn modelId="{35F1AA49-1CA8-431F-8F92-C25D4446DFFC}" type="presParOf" srcId="{330AE168-5390-425D-B9B7-E867A78C0E08}" destId="{E6BDA7EA-C4F0-433D-A51D-C92D37BC6984}" srcOrd="1" destOrd="0" presId="urn:microsoft.com/office/officeart/2005/8/layout/list1"/>
    <dgm:cxn modelId="{A07B2395-28A1-4600-803C-CD77AE237C6C}" type="presParOf" srcId="{330AE168-5390-425D-B9B7-E867A78C0E08}" destId="{34CDEF26-85BF-41E2-96E8-92D78C9B7A1A}" srcOrd="2" destOrd="0" presId="urn:microsoft.com/office/officeart/2005/8/layout/list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80D6C35-0EB3-4DE9-9AEE-9EA535447E4E}">
      <dsp:nvSpPr>
        <dsp:cNvPr id="0" name=""/>
        <dsp:cNvSpPr/>
      </dsp:nvSpPr>
      <dsp:spPr>
        <a:xfrm>
          <a:off x="0" y="29182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你不能通过一个雇主的态度去推测另一个的态度；</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291821"/>
        <a:ext cx="10129366" cy="882000"/>
      </dsp:txXfrm>
    </dsp:sp>
    <dsp:sp modelId="{6780692F-6144-4940-BC88-C5223D80EAED}">
      <dsp:nvSpPr>
        <dsp:cNvPr id="0" name=""/>
        <dsp:cNvSpPr/>
      </dsp:nvSpPr>
      <dsp:spPr>
        <a:xfrm>
          <a:off x="506468" y="5566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没有“雇主”这回事儿</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78718"/>
        <a:ext cx="7044442" cy="426206"/>
      </dsp:txXfrm>
    </dsp:sp>
    <dsp:sp modelId="{60DE0B1A-82FC-4334-AB59-9F7AE40FEDDE}">
      <dsp:nvSpPr>
        <dsp:cNvPr id="0" name=""/>
        <dsp:cNvSpPr/>
      </dsp:nvSpPr>
      <dsp:spPr>
        <a:xfrm>
          <a:off x="0" y="149638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花费精力尽可能了解对方；</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496381"/>
        <a:ext cx="10129366" cy="882000"/>
      </dsp:txXfrm>
    </dsp:sp>
    <dsp:sp modelId="{843B4C81-91C5-4A99-81ED-78665012860A}">
      <dsp:nvSpPr>
        <dsp:cNvPr id="0" name=""/>
        <dsp:cNvSpPr/>
      </dsp:nvSpPr>
      <dsp:spPr>
        <a:xfrm>
          <a:off x="506468" y="126022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面试前，一定要做功课</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283278"/>
        <a:ext cx="7044442" cy="426206"/>
      </dsp:txXfrm>
    </dsp:sp>
    <dsp:sp modelId="{3CB48B57-56B9-4E73-9821-9364303DEECD}">
      <dsp:nvSpPr>
        <dsp:cNvPr id="0" name=""/>
        <dsp:cNvSpPr/>
      </dsp:nvSpPr>
      <dsp:spPr>
        <a:xfrm>
          <a:off x="0" y="270094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控制面试时间长短，如</a:t>
          </a:r>
          <a:r>
            <a:rPr lang="en-US" sz="2000" kern="1200" smtClean="0">
              <a:solidFill>
                <a:schemeClr val="accent5">
                  <a:lumMod val="50000"/>
                </a:schemeClr>
              </a:solidFill>
              <a:latin typeface="微软雅黑" panose="020B0503020204020204" pitchFamily="34" charset="-122"/>
              <a:ea typeface="微软雅黑" panose="020B0503020204020204" pitchFamily="34" charset="-122"/>
            </a:rPr>
            <a:t>19</a:t>
          </a: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2700941"/>
        <a:ext cx="10129366" cy="882000"/>
      </dsp:txXfrm>
    </dsp:sp>
    <dsp:sp modelId="{3317BDF5-3258-432C-8406-2A05883319E6}">
      <dsp:nvSpPr>
        <dsp:cNvPr id="0" name=""/>
        <dsp:cNvSpPr/>
      </dsp:nvSpPr>
      <dsp:spPr>
        <a:xfrm>
          <a:off x="506468" y="246478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dirty="0" smtClean="0">
              <a:solidFill>
                <a:srgbClr val="2777D8"/>
              </a:solidFill>
              <a:latin typeface="微软雅黑" panose="020B0503020204020204" pitchFamily="34" charset="-122"/>
              <a:ea typeface="微软雅黑" panose="020B0503020204020204" pitchFamily="34" charset="-122"/>
            </a:rPr>
            <a:t>遵守承诺</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2487838"/>
        <a:ext cx="7044442" cy="426206"/>
      </dsp:txXfrm>
    </dsp:sp>
    <dsp:sp modelId="{29313BC3-419E-474C-AF4A-FC1BC03E8B43}">
      <dsp:nvSpPr>
        <dsp:cNvPr id="0" name=""/>
        <dsp:cNvSpPr/>
      </dsp:nvSpPr>
      <dsp:spPr>
        <a:xfrm>
          <a:off x="0" y="390550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温和地了解雇主，觉得是你相待的地方，再有信心地推销自己；</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3905501"/>
        <a:ext cx="10129366" cy="882000"/>
      </dsp:txXfrm>
    </dsp:sp>
    <dsp:sp modelId="{A07BB598-26D2-44E9-B7E8-529A52DEB8A5}">
      <dsp:nvSpPr>
        <dsp:cNvPr id="0" name=""/>
        <dsp:cNvSpPr/>
      </dsp:nvSpPr>
      <dsp:spPr>
        <a:xfrm>
          <a:off x="506468" y="366934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面试不过就是一场对话</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3692398"/>
        <a:ext cx="7044442" cy="426206"/>
      </dsp:txXfrm>
    </dsp:sp>
    <dsp:sp modelId="{6FA8E29D-B607-4136-BE57-C911DC7D1E2E}">
      <dsp:nvSpPr>
        <dsp:cNvPr id="0" name=""/>
        <dsp:cNvSpPr/>
      </dsp:nvSpPr>
      <dsp:spPr>
        <a:xfrm>
          <a:off x="0" y="511006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dirty="0" smtClean="0">
              <a:solidFill>
                <a:schemeClr val="accent5">
                  <a:lumMod val="50000"/>
                </a:schemeClr>
              </a:solidFill>
              <a:latin typeface="微软雅黑" panose="020B0503020204020204" pitchFamily="34" charset="-122"/>
              <a:ea typeface="微软雅黑" panose="020B0503020204020204" pitchFamily="34" charset="-122"/>
            </a:rPr>
            <a:t>雇主希望你说的，是没明着问出来的另一个问题的答案；</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5110061"/>
        <a:ext cx="10129366" cy="882000"/>
      </dsp:txXfrm>
    </dsp:sp>
    <dsp:sp modelId="{DA7A3EF9-CB5B-47EB-A111-A0F4E28DEA62}">
      <dsp:nvSpPr>
        <dsp:cNvPr id="0" name=""/>
        <dsp:cNvSpPr/>
      </dsp:nvSpPr>
      <dsp:spPr>
        <a:xfrm>
          <a:off x="506468" y="487390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dirty="0" smtClean="0">
              <a:solidFill>
                <a:srgbClr val="2777D8"/>
              </a:solidFill>
              <a:latin typeface="微软雅黑" panose="020B0503020204020204" pitchFamily="34" charset="-122"/>
              <a:ea typeface="微软雅黑" panose="020B0503020204020204" pitchFamily="34" charset="-122"/>
            </a:rPr>
            <a:t>他们会问的问题，和你能问的问题</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4896958"/>
        <a:ext cx="7044442" cy="426206"/>
      </dsp:txXfrm>
    </dsp:sp>
    <dsp:sp modelId="{83BD41D9-D555-4B6E-AF88-6135876BAD11}">
      <dsp:nvSpPr>
        <dsp:cNvPr id="0" name=""/>
        <dsp:cNvSpPr/>
      </dsp:nvSpPr>
      <dsp:spPr>
        <a:xfrm>
          <a:off x="0" y="631462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用</a:t>
          </a:r>
          <a:r>
            <a:rPr lang="en-US" sz="2000" kern="12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的时间说，用</a:t>
          </a:r>
          <a:r>
            <a:rPr lang="en-US" sz="2000" kern="1200" smtClean="0">
              <a:solidFill>
                <a:schemeClr val="accent5">
                  <a:lumMod val="50000"/>
                </a:schemeClr>
              </a:solidFill>
              <a:latin typeface="微软雅黑" panose="020B0503020204020204" pitchFamily="34" charset="-122"/>
              <a:ea typeface="微软雅黑" panose="020B0503020204020204" pitchFamily="34" charset="-122"/>
            </a:rPr>
            <a:t>50%</a:t>
          </a: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的时间听；</a:t>
          </a:r>
          <a:endParaRPr lang="zh-CN"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6314621"/>
        <a:ext cx="10129366" cy="882000"/>
      </dsp:txXfrm>
    </dsp:sp>
    <dsp:sp modelId="{B3658B12-B8B9-4873-8247-7DF23FBE38A4}">
      <dsp:nvSpPr>
        <dsp:cNvPr id="0" name=""/>
        <dsp:cNvSpPr/>
      </dsp:nvSpPr>
      <dsp:spPr>
        <a:xfrm>
          <a:off x="506468" y="607846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sz="2400" b="1" kern="1200" dirty="0" smtClean="0">
              <a:solidFill>
                <a:srgbClr val="2777D8"/>
              </a:solidFill>
              <a:latin typeface="微软雅黑" panose="020B0503020204020204" pitchFamily="34" charset="-122"/>
              <a:ea typeface="微软雅黑" panose="020B0503020204020204" pitchFamily="34" charset="-122"/>
            </a:rPr>
            <a:t>面试中，遵循“</a:t>
          </a:r>
          <a:r>
            <a:rPr lang="en-US" sz="2400" b="1" kern="1200" dirty="0" smtClean="0">
              <a:solidFill>
                <a:srgbClr val="2777D8"/>
              </a:solidFill>
              <a:latin typeface="微软雅黑" panose="020B0503020204020204" pitchFamily="34" charset="-122"/>
              <a:ea typeface="微软雅黑" panose="020B0503020204020204" pitchFamily="34" charset="-122"/>
            </a:rPr>
            <a:t>50-50</a:t>
          </a:r>
          <a:r>
            <a:rPr lang="zh-CN" sz="2400" b="1" kern="1200" dirty="0" smtClean="0">
              <a:solidFill>
                <a:srgbClr val="2777D8"/>
              </a:solidFill>
              <a:latin typeface="微软雅黑" panose="020B0503020204020204" pitchFamily="34" charset="-122"/>
              <a:ea typeface="微软雅黑" panose="020B0503020204020204" pitchFamily="34" charset="-122"/>
            </a:rPr>
            <a:t>原则”</a:t>
          </a:r>
          <a:endParaRPr lang="zh-CN" sz="2400" b="1" kern="1200" dirty="0">
            <a:solidFill>
              <a:srgbClr val="2777D8"/>
            </a:solidFill>
            <a:latin typeface="微软雅黑" panose="020B0503020204020204" pitchFamily="34" charset="-122"/>
            <a:ea typeface="微软雅黑" panose="020B0503020204020204" pitchFamily="34" charset="-122"/>
          </a:endParaRPr>
        </a:p>
      </dsp:txBody>
      <dsp:txXfrm>
        <a:off x="529525" y="6101518"/>
        <a:ext cx="7044442" cy="426206"/>
      </dsp:txXfrm>
    </dsp:sp>
    <dsp:sp modelId="{452A13A7-DF69-43D0-9AC0-5E60240B50E5}">
      <dsp:nvSpPr>
        <dsp:cNvPr id="0" name=""/>
        <dsp:cNvSpPr/>
      </dsp:nvSpPr>
      <dsp:spPr>
        <a:xfrm>
          <a:off x="0" y="751918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说话回答问题尽量不超过</a:t>
          </a:r>
          <a:r>
            <a:rPr lang="en-US" sz="2000" kern="1200" smtClean="0">
              <a:solidFill>
                <a:schemeClr val="accent5">
                  <a:lumMod val="50000"/>
                </a:schemeClr>
              </a:solidFill>
              <a:latin typeface="微软雅黑" panose="020B0503020204020204" pitchFamily="34" charset="-122"/>
              <a:ea typeface="微软雅黑" panose="020B0503020204020204" pitchFamily="34" charset="-122"/>
            </a:rPr>
            <a:t>2</a:t>
          </a:r>
          <a:r>
            <a:rPr lang="zh-CN" sz="2000" kern="1200" smtClean="0">
              <a:solidFill>
                <a:schemeClr val="accent5">
                  <a:lumMod val="50000"/>
                </a:schemeClr>
              </a:solidFill>
              <a:latin typeface="微软雅黑" panose="020B0503020204020204" pitchFamily="34" charset="-122"/>
              <a:ea typeface="微软雅黑" panose="020B0503020204020204" pitchFamily="34" charset="-122"/>
            </a:rPr>
            <a:t>分钟；</a:t>
          </a:r>
          <a:endParaRPr lang="zh-CN"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7519181"/>
        <a:ext cx="10129366" cy="882000"/>
      </dsp:txXfrm>
    </dsp:sp>
    <dsp:sp modelId="{D88BECAA-86B9-4794-8777-478AD6F4036C}">
      <dsp:nvSpPr>
        <dsp:cNvPr id="0" name=""/>
        <dsp:cNvSpPr/>
      </dsp:nvSpPr>
      <dsp:spPr>
        <a:xfrm>
          <a:off x="506468" y="728302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sz="2400" b="1" kern="1200" dirty="0" smtClean="0">
              <a:solidFill>
                <a:srgbClr val="2777D8"/>
              </a:solidFill>
              <a:latin typeface="微软雅黑" panose="020B0503020204020204" pitchFamily="34" charset="-122"/>
              <a:ea typeface="微软雅黑" panose="020B0503020204020204" pitchFamily="34" charset="-122"/>
            </a:rPr>
            <a:t>回答问题时，遵循“</a:t>
          </a:r>
          <a:r>
            <a:rPr lang="en-US" sz="2400" b="1" kern="1200" dirty="0" smtClean="0">
              <a:solidFill>
                <a:srgbClr val="2777D8"/>
              </a:solidFill>
              <a:latin typeface="微软雅黑" panose="020B0503020204020204" pitchFamily="34" charset="-122"/>
              <a:ea typeface="微软雅黑" panose="020B0503020204020204" pitchFamily="34" charset="-122"/>
            </a:rPr>
            <a:t>20</a:t>
          </a:r>
          <a:r>
            <a:rPr lang="zh-CN" sz="2400" b="1" kern="1200" dirty="0" smtClean="0">
              <a:solidFill>
                <a:srgbClr val="2777D8"/>
              </a:solidFill>
              <a:latin typeface="微软雅黑" panose="020B0503020204020204" pitchFamily="34" charset="-122"/>
              <a:ea typeface="微软雅黑" panose="020B0503020204020204" pitchFamily="34" charset="-122"/>
            </a:rPr>
            <a:t>秒到</a:t>
          </a:r>
          <a:r>
            <a:rPr lang="en-US" sz="2400" b="1" kern="1200" dirty="0" smtClean="0">
              <a:solidFill>
                <a:srgbClr val="2777D8"/>
              </a:solidFill>
              <a:latin typeface="微软雅黑" panose="020B0503020204020204" pitchFamily="34" charset="-122"/>
              <a:ea typeface="微软雅黑" panose="020B0503020204020204" pitchFamily="34" charset="-122"/>
            </a:rPr>
            <a:t>2</a:t>
          </a:r>
          <a:r>
            <a:rPr lang="zh-CN" sz="2400" b="1" kern="1200" dirty="0" smtClean="0">
              <a:solidFill>
                <a:srgbClr val="2777D8"/>
              </a:solidFill>
              <a:latin typeface="微软雅黑" panose="020B0503020204020204" pitchFamily="34" charset="-122"/>
              <a:ea typeface="微软雅黑" panose="020B0503020204020204" pitchFamily="34" charset="-122"/>
            </a:rPr>
            <a:t>分钟”原则</a:t>
          </a:r>
          <a:endParaRPr lang="zh-CN" sz="2400" b="1" kern="1200" dirty="0">
            <a:solidFill>
              <a:srgbClr val="2777D8"/>
            </a:solidFill>
            <a:latin typeface="微软雅黑" panose="020B0503020204020204" pitchFamily="34" charset="-122"/>
            <a:ea typeface="微软雅黑" panose="020B0503020204020204" pitchFamily="34" charset="-122"/>
          </a:endParaRPr>
        </a:p>
      </dsp:txBody>
      <dsp:txXfrm>
        <a:off x="529525" y="7306078"/>
        <a:ext cx="7044442" cy="426206"/>
      </dsp:txXfrm>
    </dsp:sp>
    <dsp:sp modelId="{13A97048-02AB-40B2-9225-60A06691AEAA}">
      <dsp:nvSpPr>
        <dsp:cNvPr id="0" name=""/>
        <dsp:cNvSpPr/>
      </dsp:nvSpPr>
      <dsp:spPr>
        <a:xfrm>
          <a:off x="0" y="872374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dirty="0" smtClean="0">
              <a:solidFill>
                <a:schemeClr val="accent5">
                  <a:lumMod val="50000"/>
                </a:schemeClr>
              </a:solidFill>
              <a:latin typeface="微软雅黑" panose="020B0503020204020204" pitchFamily="34" charset="-122"/>
              <a:ea typeface="微软雅黑" panose="020B0503020204020204" pitchFamily="34" charset="-122"/>
            </a:rPr>
            <a:t>面试中强调你的唯一目标是“提升组织的效率、服务和标准”；</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8723741"/>
        <a:ext cx="10129366" cy="882000"/>
      </dsp:txXfrm>
    </dsp:sp>
    <dsp:sp modelId="{370407C8-1391-4FD9-9557-87AF60D5AB26}">
      <dsp:nvSpPr>
        <dsp:cNvPr id="0" name=""/>
        <dsp:cNvSpPr/>
      </dsp:nvSpPr>
      <dsp:spPr>
        <a:xfrm>
          <a:off x="506468" y="848758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雇主最关心的是风险</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8510638"/>
        <a:ext cx="7044442" cy="426206"/>
      </dsp:txXfrm>
    </dsp:sp>
    <dsp:sp modelId="{0409EF26-FEF3-4405-B7D2-953BB1BA5E9C}">
      <dsp:nvSpPr>
        <dsp:cNvPr id="0" name=""/>
        <dsp:cNvSpPr/>
      </dsp:nvSpPr>
      <dsp:spPr>
        <a:xfrm>
          <a:off x="0" y="992830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形象和个人习惯、紧张表现、缺乏自信、对他人的态度等；</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9928301"/>
        <a:ext cx="10129366" cy="882000"/>
      </dsp:txXfrm>
    </dsp:sp>
    <dsp:sp modelId="{36C8C100-348D-40A0-8BE6-FF674F0AF2DE}">
      <dsp:nvSpPr>
        <dsp:cNvPr id="0" name=""/>
        <dsp:cNvSpPr/>
      </dsp:nvSpPr>
      <dsp:spPr>
        <a:xfrm>
          <a:off x="506468" y="969214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细节决定成败</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9715198"/>
        <a:ext cx="7044442" cy="426206"/>
      </dsp:txXfrm>
    </dsp:sp>
    <dsp:sp modelId="{DEB3A97E-4F32-417D-8130-EB354B8360B1}">
      <dsp:nvSpPr>
        <dsp:cNvPr id="0" name=""/>
        <dsp:cNvSpPr/>
      </dsp:nvSpPr>
      <dsp:spPr>
        <a:xfrm>
          <a:off x="0" y="1113286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守时排在第一位，你可以“笨”，但不可以不“努力”；</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1132861"/>
        <a:ext cx="10129366" cy="882000"/>
      </dsp:txXfrm>
    </dsp:sp>
    <dsp:sp modelId="{ED636ECD-F43A-4026-8106-4B98E55266F9}">
      <dsp:nvSpPr>
        <dsp:cNvPr id="0" name=""/>
        <dsp:cNvSpPr/>
      </dsp:nvSpPr>
      <dsp:spPr>
        <a:xfrm>
          <a:off x="506468" y="1089670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关注大多数雇主都在乎的通用能力</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0919758"/>
        <a:ext cx="7044442" cy="426206"/>
      </dsp:txXfrm>
    </dsp:sp>
    <dsp:sp modelId="{9B03B26D-F009-4086-BD31-2AEAFD444E62}">
      <dsp:nvSpPr>
        <dsp:cNvPr id="0" name=""/>
        <dsp:cNvSpPr/>
      </dsp:nvSpPr>
      <dsp:spPr>
        <a:xfrm>
          <a:off x="0" y="1233742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证书、产品、照片、视频、代码等；</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2337421"/>
        <a:ext cx="10129366" cy="882000"/>
      </dsp:txXfrm>
    </dsp:sp>
    <dsp:sp modelId="{B7823A1F-B734-422B-8ABE-ADBA2AB692FA}">
      <dsp:nvSpPr>
        <dsp:cNvPr id="0" name=""/>
        <dsp:cNvSpPr/>
      </dsp:nvSpPr>
      <dsp:spPr>
        <a:xfrm>
          <a:off x="506468" y="1210126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面试时带证据，表明你具备某种能力</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2124318"/>
        <a:ext cx="7044442" cy="426206"/>
      </dsp:txXfrm>
    </dsp:sp>
    <dsp:sp modelId="{232357A8-4C16-4EAC-A6F3-B579D2BA91E8}">
      <dsp:nvSpPr>
        <dsp:cNvPr id="0" name=""/>
        <dsp:cNvSpPr/>
      </dsp:nvSpPr>
      <dsp:spPr>
        <a:xfrm>
          <a:off x="0" y="1354198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表达你对同盟军里所有成员的尊重；</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3541981"/>
        <a:ext cx="10129366" cy="882000"/>
      </dsp:txXfrm>
    </dsp:sp>
    <dsp:sp modelId="{84B4A16B-1444-46EA-84E4-781F5353EC04}">
      <dsp:nvSpPr>
        <dsp:cNvPr id="0" name=""/>
        <dsp:cNvSpPr/>
      </dsp:nvSpPr>
      <dsp:spPr>
        <a:xfrm>
          <a:off x="506468" y="1330582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即使前任雇主很糟糕，也不要在面试中贬损他们</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3328878"/>
        <a:ext cx="7044442" cy="426206"/>
      </dsp:txXfrm>
    </dsp:sp>
    <dsp:sp modelId="{80C0C129-3E79-493B-87D5-018B38203BAE}">
      <dsp:nvSpPr>
        <dsp:cNvPr id="0" name=""/>
        <dsp:cNvSpPr/>
      </dsp:nvSpPr>
      <dsp:spPr>
        <a:xfrm>
          <a:off x="0" y="1474654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dirty="0" smtClean="0">
              <a:solidFill>
                <a:schemeClr val="accent5">
                  <a:lumMod val="50000"/>
                </a:schemeClr>
              </a:solidFill>
              <a:latin typeface="微软雅黑" panose="020B0503020204020204" pitchFamily="34" charset="-122"/>
              <a:ea typeface="微软雅黑" panose="020B0503020204020204" pitchFamily="34" charset="-122"/>
            </a:rPr>
            <a:t>了解过去是为了预测你将来的行为；</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4746541"/>
        <a:ext cx="10129366" cy="882000"/>
      </dsp:txXfrm>
    </dsp:sp>
    <dsp:sp modelId="{C4BD8598-E35E-49CB-9751-094BA715F9D4}">
      <dsp:nvSpPr>
        <dsp:cNvPr id="0" name=""/>
        <dsp:cNvSpPr/>
      </dsp:nvSpPr>
      <dsp:spPr>
        <a:xfrm>
          <a:off x="506468" y="1451038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雇主不在乎你的过去</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4533438"/>
        <a:ext cx="7044442" cy="426206"/>
      </dsp:txXfrm>
    </dsp:sp>
    <dsp:sp modelId="{4AD75E93-CFCF-4FB1-AD20-52BA80041ECB}">
      <dsp:nvSpPr>
        <dsp:cNvPr id="0" name=""/>
        <dsp:cNvSpPr/>
      </dsp:nvSpPr>
      <dsp:spPr>
        <a:xfrm>
          <a:off x="0" y="1595110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smtClean="0">
              <a:solidFill>
                <a:schemeClr val="accent5">
                  <a:lumMod val="50000"/>
                </a:schemeClr>
              </a:solidFill>
              <a:latin typeface="微软雅黑" panose="020B0503020204020204" pitchFamily="34" charset="-122"/>
              <a:ea typeface="微软雅黑" panose="020B0503020204020204" pitchFamily="34" charset="-122"/>
            </a:rPr>
            <a:t>越是从过去移向将来，对你越有利；</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5951101"/>
        <a:ext cx="10129366" cy="882000"/>
      </dsp:txXfrm>
    </dsp:sp>
    <dsp:sp modelId="{D6835FFC-553C-489F-B730-2382417A3A59}">
      <dsp:nvSpPr>
        <dsp:cNvPr id="0" name=""/>
        <dsp:cNvSpPr/>
      </dsp:nvSpPr>
      <dsp:spPr>
        <a:xfrm>
          <a:off x="506468" y="15714941"/>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留心面试官问题的时间框架</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5737998"/>
        <a:ext cx="7044442" cy="426206"/>
      </dsp:txXfrm>
    </dsp:sp>
    <dsp:sp modelId="{C81B069E-D033-4F78-BACE-5F1A1EB362C7}">
      <dsp:nvSpPr>
        <dsp:cNvPr id="0" name=""/>
        <dsp:cNvSpPr/>
      </dsp:nvSpPr>
      <dsp:spPr>
        <a:xfrm>
          <a:off x="0" y="17155660"/>
          <a:ext cx="10129366" cy="1260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dirty="0" smtClean="0">
              <a:solidFill>
                <a:schemeClr val="accent5">
                  <a:lumMod val="50000"/>
                </a:schemeClr>
              </a:solidFill>
              <a:latin typeface="微软雅黑" panose="020B0503020204020204" pitchFamily="34" charset="-122"/>
              <a:ea typeface="微软雅黑" panose="020B0503020204020204" pitchFamily="34" charset="-122"/>
            </a:rPr>
            <a:t>我能得到工作吗？什么时候能得到最终消息？最晚什么时候答复？我能联系您吗？其他人会对我感兴趣吗？（第一个问题否定再提出）</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7155660"/>
        <a:ext cx="10129366" cy="1260000"/>
      </dsp:txXfrm>
    </dsp:sp>
    <dsp:sp modelId="{5AEC349D-0BAD-4435-AB5B-0C0F674B6AEF}">
      <dsp:nvSpPr>
        <dsp:cNvPr id="0" name=""/>
        <dsp:cNvSpPr/>
      </dsp:nvSpPr>
      <dsp:spPr>
        <a:xfrm>
          <a:off x="506468" y="16919500"/>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结束面试前，通常你要问五个问题</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6942557"/>
        <a:ext cx="7044442" cy="426206"/>
      </dsp:txXfrm>
    </dsp:sp>
    <dsp:sp modelId="{5A53EC70-4FBF-4D04-9FD1-7CDC155E5906}">
      <dsp:nvSpPr>
        <dsp:cNvPr id="0" name=""/>
        <dsp:cNvSpPr/>
      </dsp:nvSpPr>
      <dsp:spPr>
        <a:xfrm>
          <a:off x="0" y="18738221"/>
          <a:ext cx="10129366" cy="882000"/>
        </a:xfrm>
        <a:prstGeom prst="rect">
          <a:avLst/>
        </a:prstGeom>
        <a:noFill/>
        <a:ln w="25400" cap="flat" cmpd="sng" algn="ctr">
          <a:solidFill>
            <a:srgbClr val="2777D8"/>
          </a:solidFill>
          <a:prstDash val="sysDash"/>
          <a:miter lim="800000"/>
        </a:ln>
        <a:effectLst/>
      </dsp:spPr>
      <dsp:style>
        <a:lnRef idx="1">
          <a:scrgbClr r="0" g="0" b="0"/>
        </a:lnRef>
        <a:fillRef idx="1">
          <a:scrgbClr r="0" g="0" b="0"/>
        </a:fillRef>
        <a:effectRef idx="0">
          <a:scrgbClr r="0" g="0" b="0"/>
        </a:effectRef>
        <a:fontRef idx="minor"/>
      </dsp:style>
      <dsp:txBody>
        <a:bodyPr spcFirstLastPara="0" vert="horz" wrap="square" lIns="786151" tIns="333248" rIns="786151" bIns="142240" numCol="1" spcCol="1270" anchor="t" anchorCtr="0">
          <a:noAutofit/>
        </a:bodyPr>
        <a:lstStyle/>
        <a:p>
          <a:pPr marL="228600" lvl="1" indent="-228600" algn="l" defTabSz="889000" rtl="0">
            <a:lnSpc>
              <a:spcPct val="90000"/>
            </a:lnSpc>
            <a:spcBef>
              <a:spcPct val="0"/>
            </a:spcBef>
            <a:spcAft>
              <a:spcPct val="15000"/>
            </a:spcAft>
            <a:buChar char="••"/>
          </a:pPr>
          <a:r>
            <a:rPr lang="zh-CN" altLang="en-US" sz="2000" kern="1200" dirty="0" smtClean="0">
              <a:solidFill>
                <a:schemeClr val="accent5">
                  <a:lumMod val="50000"/>
                </a:schemeClr>
              </a:solidFill>
              <a:latin typeface="微软雅黑" panose="020B0503020204020204" pitchFamily="34" charset="-122"/>
              <a:ea typeface="微软雅黑" panose="020B0503020204020204" pitchFamily="34" charset="-122"/>
            </a:rPr>
            <a:t>大多数求职者会忽略这个问题，感谢信不必太长，表达清楚即可；</a:t>
          </a:r>
          <a:endParaRPr lang="zh-CN" altLang="en-US" sz="2000" kern="1200" dirty="0">
            <a:solidFill>
              <a:schemeClr val="accent5">
                <a:lumMod val="50000"/>
              </a:schemeClr>
            </a:solidFill>
            <a:latin typeface="微软雅黑" panose="020B0503020204020204" pitchFamily="34" charset="-122"/>
            <a:ea typeface="微软雅黑" panose="020B0503020204020204" pitchFamily="34" charset="-122"/>
          </a:endParaRPr>
        </a:p>
      </dsp:txBody>
      <dsp:txXfrm>
        <a:off x="0" y="18738221"/>
        <a:ext cx="10129366" cy="882000"/>
      </dsp:txXfrm>
    </dsp:sp>
    <dsp:sp modelId="{9A6C1276-CCF5-4947-A94B-41E17741E0BD}">
      <dsp:nvSpPr>
        <dsp:cNvPr id="0" name=""/>
        <dsp:cNvSpPr/>
      </dsp:nvSpPr>
      <dsp:spPr>
        <a:xfrm>
          <a:off x="506468" y="18502060"/>
          <a:ext cx="7090556" cy="472320"/>
        </a:xfrm>
        <a:prstGeom prst="roundRect">
          <a:avLst/>
        </a:prstGeom>
        <a:gradFill rotWithShape="0">
          <a:gsLst>
            <a:gs pos="0">
              <a:schemeClr val="lt1">
                <a:hueOff val="0"/>
                <a:satOff val="0"/>
                <a:lumOff val="0"/>
                <a:alphaOff val="0"/>
                <a:satMod val="103000"/>
                <a:lumMod val="102000"/>
                <a:tint val="94000"/>
              </a:schemeClr>
            </a:gs>
            <a:gs pos="50000">
              <a:schemeClr val="lt1">
                <a:hueOff val="0"/>
                <a:satOff val="0"/>
                <a:lumOff val="0"/>
                <a:alphaOff val="0"/>
                <a:satMod val="110000"/>
                <a:lumMod val="100000"/>
                <a:shade val="100000"/>
              </a:schemeClr>
            </a:gs>
            <a:gs pos="100000">
              <a:schemeClr val="lt1">
                <a:hueOff val="0"/>
                <a:satOff val="0"/>
                <a:lumOff val="0"/>
                <a:alphaOff val="0"/>
                <a:lumMod val="99000"/>
                <a:satMod val="120000"/>
                <a:shade val="78000"/>
              </a:schemeClr>
            </a:gs>
          </a:gsLst>
          <a:lin ang="5400000" scaled="0"/>
        </a:gradFill>
        <a:ln>
          <a:noFill/>
        </a:ln>
        <a:effectLst/>
      </dsp:spPr>
      <dsp:style>
        <a:lnRef idx="0">
          <a:scrgbClr r="0" g="0" b="0"/>
        </a:lnRef>
        <a:fillRef idx="3">
          <a:scrgbClr r="0" g="0" b="0"/>
        </a:fillRef>
        <a:effectRef idx="2">
          <a:scrgbClr r="0" g="0" b="0"/>
        </a:effectRef>
        <a:fontRef idx="minor">
          <a:schemeClr val="lt1"/>
        </a:fontRef>
      </dsp:style>
      <dsp:txBody>
        <a:bodyPr spcFirstLastPara="0" vert="horz" wrap="square" lIns="268006" tIns="0" rIns="268006" bIns="0" numCol="1" spcCol="1270" anchor="ctr" anchorCtr="0">
          <a:noAutofit/>
        </a:bodyPr>
        <a:lstStyle/>
        <a:p>
          <a:pPr lvl="0" algn="l" defTabSz="1066800" rtl="0">
            <a:lnSpc>
              <a:spcPct val="90000"/>
            </a:lnSpc>
            <a:spcBef>
              <a:spcPct val="0"/>
            </a:spcBef>
            <a:spcAft>
              <a:spcPct val="35000"/>
            </a:spcAft>
          </a:pPr>
          <a:r>
            <a:rPr lang="zh-CN" altLang="en-US" sz="2400" b="1" kern="1200" smtClean="0">
              <a:solidFill>
                <a:srgbClr val="2777D8"/>
              </a:solidFill>
              <a:latin typeface="微软雅黑" panose="020B0503020204020204" pitchFamily="34" charset="-122"/>
              <a:ea typeface="微软雅黑" panose="020B0503020204020204" pitchFamily="34" charset="-122"/>
            </a:rPr>
            <a:t>写感谢信的重要性</a:t>
          </a:r>
          <a:endParaRPr lang="zh-CN" altLang="en-US" sz="2400" b="1" kern="1200" dirty="0">
            <a:solidFill>
              <a:srgbClr val="2777D8"/>
            </a:solidFill>
            <a:latin typeface="微软雅黑" panose="020B0503020204020204" pitchFamily="34" charset="-122"/>
            <a:ea typeface="微软雅黑" panose="020B0503020204020204" pitchFamily="34" charset="-122"/>
          </a:endParaRPr>
        </a:p>
      </dsp:txBody>
      <dsp:txXfrm>
        <a:off x="529525" y="18525117"/>
        <a:ext cx="7044442" cy="426206"/>
      </dsp:txXfrm>
    </dsp:sp>
  </dsp:spTree>
</dsp:drawing>
</file>

<file path=ppt/diagrams/layout1.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2">
  <dgm:title val=""/>
  <dgm:desc val=""/>
  <dgm:catLst>
    <dgm:cat type="simple" pri="10200"/>
  </dgm:catLst>
  <dgm:scene3d>
    <a:camera prst="orthographicFront"/>
    <a:lightRig rig="threePt" dir="t"/>
  </dgm:scene3d>
  <dgm:styleLbl name="node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ln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vennNode1">
    <dgm:scene3d>
      <a:camera prst="orthographicFront"/>
      <a:lightRig rig="threePt" dir="t"/>
    </dgm:scene3d>
    <dgm:sp3d/>
    <dgm:txPr/>
    <dgm:style>
      <a:lnRef idx="3">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1">
        <a:scrgbClr r="0" g="0" b="0"/>
      </a:effectRef>
      <a:fontRef idx="minor">
        <a:schemeClr val="lt1"/>
      </a:fontRef>
    </dgm:style>
  </dgm:styleLbl>
  <dgm:styleLbl name="node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node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f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1">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asst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1">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2">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3">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2D4">
    <dgm:scene3d>
      <a:camera prst="orthographicFront"/>
      <a:lightRig rig="threePt" dir="t"/>
    </dgm:scene3d>
    <dgm:sp3d/>
    <dgm:txPr/>
    <dgm:style>
      <a:lnRef idx="3">
        <a:scrgbClr r="0" g="0" b="0"/>
      </a:lnRef>
      <a:fillRef idx="1">
        <a:scrgbClr r="0" g="0" b="0"/>
      </a:fillRef>
      <a:effectRef idx="1">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3">
        <a:scrgbClr r="0" g="0" b="0"/>
      </a:lnRef>
      <a:fillRef idx="1">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393C2-A83B-4067-AD23-8E5A58F3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81AE-7994-4E58-8500-C19AA3929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F5DF3-2258-4437-86AF-EADBB1B32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4A62E-B4F1-452B-B11B-A426E6088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CD51E-7180-4166-8FEE-FC3AD10A0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0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66E9C06-5A56-40B0-8EC9-C1036A00DD7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707B486-51EB-475E-89DB-D035931A47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F3CDA1-107E-4150-A61A-F650EE3FB3F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4841A91-B5E9-419A-AE34-87D69F94A0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10D5742-5B06-458F-8FB9-B4A2EC54D0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87FA-613A-4B02-BA7D-E397FFF8D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9CCE3D6-072F-4C31-B6F9-100080052B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BFBEC5-528F-4551-8123-C68D2D4F9E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3A4ED1A-1AC3-4CD3-8B2A-842204ED786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A904761-596A-4ACB-BC16-4E4D0DF6811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2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53889F-16B7-49A3-99C6-A65EB89A749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A55D7E6-82B3-4DD4-A866-C83B2049EBF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D071A7A-C5FB-4EE2-883B-CC6F0F51196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46CF-FF93-4B54-8B38-2C2FF4F9F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772F-6997-45BE-8D62-BE95C1BB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8A2F-846D-4C75-AEA8-1A316509B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3C57-9C41-47A9-B143-EA8007F8D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88880-231F-41CB-A5DD-A45A860D1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59940-28B8-49E3-9289-CFF639B53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CCD4D8B-D59E-4B25-9711-8F5A8584646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矩形 24"/>
          <p:cNvSpPr/>
          <p:nvPr/>
        </p:nvSpPr>
        <p:spPr>
          <a:xfrm>
            <a:off x="4673520" y="2397600"/>
            <a:ext cx="7511760" cy="4458960"/>
          </a:xfrm>
          <a:prstGeom prst="rect">
            <a:avLst/>
          </a:prstGeom>
          <a:solidFill>
            <a:schemeClr val="bg1">
              <a:alpha val="2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椭圆 25"/>
          <p:cNvSpPr/>
          <p:nvPr/>
        </p:nvSpPr>
        <p:spPr>
          <a:xfrm>
            <a:off x="8598960" y="5724000"/>
            <a:ext cx="960120" cy="960120"/>
          </a:xfrm>
          <a:prstGeom prst="ellipse">
            <a:avLst/>
          </a:prstGeom>
          <a:solidFill>
            <a:schemeClr val="accent5">
              <a:lumMod val="60000"/>
              <a:lumOff val="40000"/>
              <a:alpha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4" name="组合 26"/>
          <p:cNvGrpSpPr/>
          <p:nvPr/>
        </p:nvGrpSpPr>
        <p:grpSpPr>
          <a:xfrm>
            <a:off x="10426320" y="4063320"/>
            <a:ext cx="1406520" cy="1406520"/>
            <a:chOff x="10426320" y="4063320"/>
            <a:chExt cx="1406520" cy="1406520"/>
          </a:xfrm>
        </p:grpSpPr>
        <p:sp>
          <p:nvSpPr>
            <p:cNvPr id="45" name="同心圆 27"/>
            <p:cNvSpPr/>
            <p:nvPr/>
          </p:nvSpPr>
          <p:spPr>
            <a:xfrm>
              <a:off x="10754640" y="4391280"/>
              <a:ext cx="750240" cy="750240"/>
            </a:xfrm>
            <a:prstGeom prst="donut">
              <a:avLst>
                <a:gd name="adj" fmla="val 14927"/>
              </a:avLst>
            </a:prstGeom>
            <a:noFill/>
            <a:ln w="38100">
              <a:solidFill>
                <a:srgbClr val="c60139">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6" name="同心圆 28"/>
            <p:cNvSpPr/>
            <p:nvPr/>
          </p:nvSpPr>
          <p:spPr>
            <a:xfrm>
              <a:off x="10426320" y="4063320"/>
              <a:ext cx="1406520" cy="1406520"/>
            </a:xfrm>
            <a:prstGeom prst="donut">
              <a:avLst>
                <a:gd name="adj" fmla="val 9950"/>
              </a:avLst>
            </a:prstGeom>
            <a:noFill/>
            <a:ln w="63500">
              <a:solidFill>
                <a:srgbClr val="c60139">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7" name="组合 29"/>
          <p:cNvGrpSpPr/>
          <p:nvPr/>
        </p:nvGrpSpPr>
        <p:grpSpPr>
          <a:xfrm>
            <a:off x="10126440" y="5248800"/>
            <a:ext cx="1117080" cy="1149120"/>
            <a:chOff x="10126440" y="5248800"/>
            <a:chExt cx="1117080" cy="1149120"/>
          </a:xfrm>
        </p:grpSpPr>
        <p:sp>
          <p:nvSpPr>
            <p:cNvPr id="48" name="同心圆 30"/>
            <p:cNvSpPr/>
            <p:nvPr/>
          </p:nvSpPr>
          <p:spPr>
            <a:xfrm>
              <a:off x="10387080" y="5517000"/>
              <a:ext cx="595800" cy="612720"/>
            </a:xfrm>
            <a:prstGeom prst="donut">
              <a:avLst>
                <a:gd name="adj" fmla="val 14927"/>
              </a:avLst>
            </a:prstGeom>
            <a:noFill/>
            <a:ln w="38100">
              <a:solidFill>
                <a:srgbClr val="c51c49">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9" name="同心圆 31"/>
            <p:cNvSpPr/>
            <p:nvPr/>
          </p:nvSpPr>
          <p:spPr>
            <a:xfrm>
              <a:off x="10126440" y="5248800"/>
              <a:ext cx="1117080" cy="1149120"/>
            </a:xfrm>
            <a:prstGeom prst="donut">
              <a:avLst>
                <a:gd name="adj" fmla="val 9950"/>
              </a:avLst>
            </a:prstGeom>
            <a:noFill/>
            <a:ln w="63500">
              <a:solidFill>
                <a:srgbClr val="c51c49">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50" name="组合 32"/>
          <p:cNvGrpSpPr/>
          <p:nvPr/>
        </p:nvGrpSpPr>
        <p:grpSpPr>
          <a:xfrm>
            <a:off x="6957000" y="5338440"/>
            <a:ext cx="1406520" cy="1406520"/>
            <a:chOff x="6957000" y="5338440"/>
            <a:chExt cx="1406520" cy="1406520"/>
          </a:xfrm>
        </p:grpSpPr>
        <p:sp>
          <p:nvSpPr>
            <p:cNvPr id="51" name="同心圆 33"/>
            <p:cNvSpPr/>
            <p:nvPr/>
          </p:nvSpPr>
          <p:spPr>
            <a:xfrm>
              <a:off x="7285320" y="5666400"/>
              <a:ext cx="750240" cy="750240"/>
            </a:xfrm>
            <a:prstGeom prst="donut">
              <a:avLst>
                <a:gd name="adj" fmla="val 14927"/>
              </a:avLst>
            </a:prstGeom>
            <a:noFill/>
            <a:ln w="381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2" name="同心圆 34"/>
            <p:cNvSpPr/>
            <p:nvPr/>
          </p:nvSpPr>
          <p:spPr>
            <a:xfrm>
              <a:off x="6957000" y="5338440"/>
              <a:ext cx="1406520" cy="1406520"/>
            </a:xfrm>
            <a:prstGeom prst="donut">
              <a:avLst>
                <a:gd name="adj" fmla="val 9950"/>
              </a:avLst>
            </a:prstGeom>
            <a:noFill/>
            <a:ln w="635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53" name="组合 35"/>
          <p:cNvGrpSpPr/>
          <p:nvPr/>
        </p:nvGrpSpPr>
        <p:grpSpPr>
          <a:xfrm>
            <a:off x="6066000" y="5690160"/>
            <a:ext cx="1079280" cy="1079280"/>
            <a:chOff x="6066000" y="5690160"/>
            <a:chExt cx="1079280" cy="1079280"/>
          </a:xfrm>
        </p:grpSpPr>
        <p:sp>
          <p:nvSpPr>
            <p:cNvPr id="54" name="同心圆 36"/>
            <p:cNvSpPr/>
            <p:nvPr/>
          </p:nvSpPr>
          <p:spPr>
            <a:xfrm>
              <a:off x="6317640" y="5942160"/>
              <a:ext cx="575640" cy="575640"/>
            </a:xfrm>
            <a:prstGeom prst="donut">
              <a:avLst>
                <a:gd name="adj" fmla="val 14927"/>
              </a:avLst>
            </a:prstGeom>
            <a:noFill/>
            <a:ln w="38100">
              <a:solidFill>
                <a:srgbClr val="d16e6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5" name="同心圆 37"/>
            <p:cNvSpPr/>
            <p:nvPr/>
          </p:nvSpPr>
          <p:spPr>
            <a:xfrm>
              <a:off x="6066000" y="5690160"/>
              <a:ext cx="1079280" cy="1079280"/>
            </a:xfrm>
            <a:prstGeom prst="donut">
              <a:avLst>
                <a:gd name="adj" fmla="val 9950"/>
              </a:avLst>
            </a:prstGeom>
            <a:noFill/>
            <a:ln w="63500">
              <a:solidFill>
                <a:srgbClr val="d16e6b"/>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56" name="组合 38"/>
          <p:cNvGrpSpPr/>
          <p:nvPr/>
        </p:nvGrpSpPr>
        <p:grpSpPr>
          <a:xfrm>
            <a:off x="8851680" y="4398840"/>
            <a:ext cx="1276920" cy="1276920"/>
            <a:chOff x="8851680" y="4398840"/>
            <a:chExt cx="1276920" cy="1276920"/>
          </a:xfrm>
        </p:grpSpPr>
        <p:sp>
          <p:nvSpPr>
            <p:cNvPr id="57" name="同心圆 39"/>
            <p:cNvSpPr/>
            <p:nvPr/>
          </p:nvSpPr>
          <p:spPr>
            <a:xfrm>
              <a:off x="9149760" y="4696920"/>
              <a:ext cx="681120" cy="681120"/>
            </a:xfrm>
            <a:prstGeom prst="donut">
              <a:avLst>
                <a:gd name="adj" fmla="val 14927"/>
              </a:avLst>
            </a:prstGeom>
            <a:noFill/>
            <a:ln w="38100">
              <a:solidFill>
                <a:srgbClr val="00b0f0">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58" name="同心圆 40"/>
            <p:cNvSpPr/>
            <p:nvPr/>
          </p:nvSpPr>
          <p:spPr>
            <a:xfrm>
              <a:off x="8851680" y="4398840"/>
              <a:ext cx="1276920" cy="1276920"/>
            </a:xfrm>
            <a:prstGeom prst="donut">
              <a:avLst>
                <a:gd name="adj" fmla="val 9950"/>
              </a:avLst>
            </a:prstGeom>
            <a:noFill/>
            <a:ln w="63500">
              <a:solidFill>
                <a:srgbClr val="00b0f0">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sp>
        <p:nvSpPr>
          <p:cNvPr id="59" name="椭圆 41"/>
          <p:cNvSpPr/>
          <p:nvPr/>
        </p:nvSpPr>
        <p:spPr>
          <a:xfrm>
            <a:off x="7876080" y="4531680"/>
            <a:ext cx="1506960" cy="1506960"/>
          </a:xfrm>
          <a:prstGeom prst="ellipse">
            <a:avLst/>
          </a:prstGeom>
          <a:solidFill>
            <a:srgbClr val="c601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 name="椭圆 42"/>
          <p:cNvSpPr/>
          <p:nvPr/>
        </p:nvSpPr>
        <p:spPr>
          <a:xfrm>
            <a:off x="10886040" y="5536800"/>
            <a:ext cx="1232280" cy="1232280"/>
          </a:xfrm>
          <a:prstGeom prst="ellipse">
            <a:avLst/>
          </a:prstGeom>
          <a:solidFill>
            <a:schemeClr val="accent5">
              <a:lumMod val="75000"/>
              <a:alpha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椭圆 43"/>
          <p:cNvSpPr/>
          <p:nvPr/>
        </p:nvSpPr>
        <p:spPr>
          <a:xfrm flipV="1">
            <a:off x="9616680" y="6292800"/>
            <a:ext cx="475560" cy="475560"/>
          </a:xfrm>
          <a:prstGeom prst="ellipse">
            <a:avLst/>
          </a:prstGeom>
          <a:solidFill>
            <a:srgbClr val="0070c0">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 name="矩形 44"/>
          <p:cNvSpPr/>
          <p:nvPr/>
        </p:nvSpPr>
        <p:spPr>
          <a:xfrm>
            <a:off x="4664160" y="2382840"/>
            <a:ext cx="7511760" cy="4458960"/>
          </a:xfrm>
          <a:prstGeom prst="rect">
            <a:avLst/>
          </a:prstGeom>
          <a:solidFill>
            <a:schemeClr val="bg1">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 name="PlaceHolder 2"/>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64" name="PlaceHolder 3"/>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02" name="PlaceHolder 2"/>
          <p:cNvSpPr>
            <a:spLocks noGrp="1"/>
          </p:cNvSpPr>
          <p:nvPr>
            <p:ph type="dt" idx="5"/>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03" name="PlaceHolder 3"/>
          <p:cNvSpPr>
            <a:spLocks noGrp="1"/>
          </p:cNvSpPr>
          <p:nvPr>
            <p:ph type="ftr" idx="6"/>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4"/>
          <p:cNvSpPr>
            <a:spLocks noGrp="1"/>
          </p:cNvSpPr>
          <p:nvPr>
            <p:ph type="sldNum" idx="7"/>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3460039-357F-4750-B488-AB7B8039195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0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hyperlink" Target="http://www.eeppt.com/moban/" TargetMode="External"/><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diagramData" Target="../diagrams/data4.xml"/><Relationship Id="rId3" Type="http://schemas.openxmlformats.org/officeDocument/2006/relationships/diagramLayout" Target="../diagrams/layout4.xml"/><Relationship Id="rId4" Type="http://schemas.openxmlformats.org/officeDocument/2006/relationships/diagramQuickStyle" Target="../diagrams/quickStyle4.xml"/><Relationship Id="rId5" Type="http://schemas.openxmlformats.org/officeDocument/2006/relationships/diagramColors" Target="../diagrams/colors4.xml"/><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eeppt.com/moban/" TargetMode="External"/><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8" descr=""/>
          <p:cNvPicPr/>
          <p:nvPr/>
        </p:nvPicPr>
        <p:blipFill>
          <a:blip r:embed="rId1"/>
          <a:stretch/>
        </p:blipFill>
        <p:spPr>
          <a:xfrm rot="20452800">
            <a:off x="351000" y="110160"/>
            <a:ext cx="4678560" cy="4478400"/>
          </a:xfrm>
          <a:prstGeom prst="rect">
            <a:avLst/>
          </a:prstGeom>
          <a:ln w="0">
            <a:noFill/>
          </a:ln>
        </p:spPr>
      </p:pic>
      <p:grpSp>
        <p:nvGrpSpPr>
          <p:cNvPr id="143" name="组合 9"/>
          <p:cNvGrpSpPr/>
          <p:nvPr/>
        </p:nvGrpSpPr>
        <p:grpSpPr>
          <a:xfrm>
            <a:off x="3476520" y="3708000"/>
            <a:ext cx="8143200" cy="1978920"/>
            <a:chOff x="3476520" y="3708000"/>
            <a:chExt cx="8143200" cy="1978920"/>
          </a:xfrm>
        </p:grpSpPr>
        <p:sp>
          <p:nvSpPr>
            <p:cNvPr id="144" name="文本框 3"/>
            <p:cNvSpPr/>
            <p:nvPr/>
          </p:nvSpPr>
          <p:spPr>
            <a:xfrm>
              <a:off x="3476880" y="3708000"/>
              <a:ext cx="184320" cy="1015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6000" spc="-1" strike="noStrike">
                <a:solidFill>
                  <a:srgbClr val="002060"/>
                </a:solidFill>
                <a:latin typeface="汉仪菱心体简"/>
                <a:ea typeface="汉仪菱心体简"/>
              </a:endParaRPr>
            </a:p>
          </p:txBody>
        </p:sp>
        <p:cxnSp>
          <p:nvCxnSpPr>
            <p:cNvPr id="145" name="直接连接符 4"/>
            <p:cNvCxnSpPr/>
            <p:nvPr/>
          </p:nvCxnSpPr>
          <p:spPr>
            <a:xfrm>
              <a:off x="3476520" y="4746600"/>
              <a:ext cx="8143560" cy="360"/>
            </a:xfrm>
            <a:prstGeom prst="straightConnector1">
              <a:avLst/>
            </a:prstGeom>
            <a:ln>
              <a:solidFill>
                <a:srgbClr val="5b9bd5"/>
              </a:solidFill>
            </a:ln>
          </p:spPr>
        </p:cxnSp>
        <p:sp>
          <p:nvSpPr>
            <p:cNvPr id="146" name="文本框 5"/>
            <p:cNvSpPr/>
            <p:nvPr/>
          </p:nvSpPr>
          <p:spPr>
            <a:xfrm>
              <a:off x="3573720" y="4753440"/>
              <a:ext cx="7949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800" spc="-1" strike="noStrike">
                  <a:solidFill>
                    <a:srgbClr val="2777d8"/>
                  </a:solidFill>
                  <a:latin typeface="微软雅黑"/>
                  <a:ea typeface="微软雅黑"/>
                </a:rPr>
                <a:t>WHAT COLOR IS YOUR PARACHUTURE?</a:t>
              </a:r>
              <a:endParaRPr b="0" lang="en-US" sz="2800" spc="-1" strike="noStrike">
                <a:solidFill>
                  <a:srgbClr val="000000"/>
                </a:solidFill>
                <a:latin typeface="Arial"/>
              </a:endParaRPr>
            </a:p>
          </p:txBody>
        </p:sp>
        <p:cxnSp>
          <p:nvCxnSpPr>
            <p:cNvPr id="147" name="直接连接符 6"/>
            <p:cNvCxnSpPr/>
            <p:nvPr/>
          </p:nvCxnSpPr>
          <p:spPr>
            <a:xfrm>
              <a:off x="3476520" y="5231520"/>
              <a:ext cx="8143560" cy="360"/>
            </a:xfrm>
            <a:prstGeom prst="straightConnector1">
              <a:avLst/>
            </a:prstGeom>
            <a:ln>
              <a:solidFill>
                <a:srgbClr val="5b9bd5"/>
              </a:solidFill>
            </a:ln>
          </p:spPr>
        </p:cxnSp>
        <p:sp>
          <p:nvSpPr>
            <p:cNvPr id="148" name="文本框 7"/>
            <p:cNvSpPr/>
            <p:nvPr/>
          </p:nvSpPr>
          <p:spPr>
            <a:xfrm>
              <a:off x="3476880" y="5231520"/>
              <a:ext cx="8039160" cy="45540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美</a:t>
              </a: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理查德</a:t>
              </a: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尼尔森</a:t>
              </a:r>
              <a:r>
                <a:rPr b="0" lang="en-US" sz="2000" spc="-1" strike="noStrike">
                  <a:solidFill>
                    <a:srgbClr val="002060"/>
                  </a:solidFill>
                  <a:latin typeface="微软雅黑"/>
                  <a:ea typeface="微软雅黑"/>
                </a:rPr>
                <a:t>·</a:t>
              </a:r>
              <a:r>
                <a:rPr b="0" lang="zh-CN" sz="2000" spc="-1" strike="noStrike">
                  <a:solidFill>
                    <a:srgbClr val="002060"/>
                  </a:solidFill>
                  <a:latin typeface="微软雅黑"/>
                  <a:ea typeface="微软雅黑"/>
                </a:rPr>
                <a:t>鲍利斯  著                       李春雨  王鹏程  陈雁  译</a:t>
              </a:r>
              <a:endParaRPr b="0" lang="en-US" sz="2000" spc="-1" strike="noStrike">
                <a:solidFill>
                  <a:srgbClr val="000000"/>
                </a:solidFill>
                <a:latin typeface="Arial"/>
              </a:endParaRPr>
            </a:p>
          </p:txBody>
        </p:sp>
      </p:grpSp>
      <p:pic>
        <p:nvPicPr>
          <p:cNvPr id="149" name="图片 10" descr=""/>
          <p:cNvPicPr/>
          <p:nvPr/>
        </p:nvPicPr>
        <p:blipFill>
          <a:blip r:embed="rId2"/>
          <a:stretch/>
        </p:blipFill>
        <p:spPr>
          <a:xfrm rot="685200">
            <a:off x="9880560" y="2758680"/>
            <a:ext cx="1244520" cy="1191240"/>
          </a:xfrm>
          <a:prstGeom prst="rect">
            <a:avLst/>
          </a:prstGeom>
          <a:ln w="0">
            <a:noFill/>
          </a:ln>
        </p:spPr>
      </p:pic>
      <p:sp>
        <p:nvSpPr>
          <p:cNvPr id="150" name="矩形 1"/>
          <p:cNvSpPr/>
          <p:nvPr/>
        </p:nvSpPr>
        <p:spPr>
          <a:xfrm>
            <a:off x="3358440" y="1939680"/>
            <a:ext cx="60710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Calibri"/>
              </a:rPr>
              <a:t>你的降落伞是什么颜色通用</a:t>
            </a:r>
            <a:r>
              <a:rPr b="0" lang="en-US" sz="4000" spc="-1" strike="noStrike">
                <a:solidFill>
                  <a:srgbClr val="000000"/>
                </a:solidFill>
                <a:latin typeface="Calibri"/>
              </a:rPr>
              <a:t>PPT</a:t>
            </a:r>
            <a:r>
              <a:rPr b="0" lang="zh-CN" sz="4000" spc="-1" strike="noStrike">
                <a:solidFill>
                  <a:srgbClr val="000000"/>
                </a:solidFill>
                <a:latin typeface="Calibri"/>
              </a:rPr>
              <a:t>模板下载</a:t>
            </a:r>
            <a:endParaRPr b="0" lang="en-US" sz="4000" spc="-1" strike="noStrike">
              <a:solidFill>
                <a:srgbClr val="000000"/>
              </a:solidFill>
              <a:latin typeface="Arial"/>
            </a:endParaRPr>
          </a:p>
        </p:txBody>
      </p:sp>
      <p:sp>
        <p:nvSpPr>
          <p:cNvPr id="151"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圆角矩形 3"/>
          <p:cNvSpPr/>
          <p:nvPr/>
        </p:nvSpPr>
        <p:spPr>
          <a:xfrm>
            <a:off x="633960" y="547920"/>
            <a:ext cx="10724400" cy="6199200"/>
          </a:xfrm>
          <a:prstGeom prst="roundRect">
            <a:avLst>
              <a:gd name="adj" fmla="val 16667"/>
            </a:avLst>
          </a:prstGeom>
          <a:solidFill>
            <a:schemeClr val="bg1">
              <a:alpha val="20000"/>
            </a:schemeClr>
          </a:solidFill>
          <a:ln w="25400">
            <a:solidFill>
              <a:srgbClr val="2777d8"/>
            </a:solidFill>
            <a:prstDash val="dashDot"/>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59" name="组合 6"/>
          <p:cNvGrpSpPr/>
          <p:nvPr/>
        </p:nvGrpSpPr>
        <p:grpSpPr>
          <a:xfrm>
            <a:off x="2219760" y="244800"/>
            <a:ext cx="1808280" cy="746640"/>
            <a:chOff x="2219760" y="244800"/>
            <a:chExt cx="1808280" cy="746640"/>
          </a:xfrm>
        </p:grpSpPr>
        <p:sp>
          <p:nvSpPr>
            <p:cNvPr id="260" name="矩形 4"/>
            <p:cNvSpPr/>
            <p:nvPr/>
          </p:nvSpPr>
          <p:spPr>
            <a:xfrm>
              <a:off x="2219760" y="244800"/>
              <a:ext cx="1808280" cy="746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grpSp>
          <p:nvGrpSpPr>
            <p:cNvPr id="261" name="组合 5"/>
            <p:cNvGrpSpPr/>
            <p:nvPr/>
          </p:nvGrpSpPr>
          <p:grpSpPr>
            <a:xfrm>
              <a:off x="2219760" y="244800"/>
              <a:ext cx="1808280" cy="746640"/>
              <a:chOff x="2219760" y="244800"/>
              <a:chExt cx="1808280" cy="746640"/>
            </a:xfrm>
          </p:grpSpPr>
          <p:sp>
            <p:nvSpPr>
              <p:cNvPr id="262" name="椭圆 1"/>
              <p:cNvSpPr/>
              <p:nvPr/>
            </p:nvSpPr>
            <p:spPr>
              <a:xfrm>
                <a:off x="2219760" y="244800"/>
                <a:ext cx="746640" cy="74664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4000" spc="-1" strike="noStrike">
                    <a:solidFill>
                      <a:srgbClr val="ffffff"/>
                    </a:solidFill>
                    <a:latin typeface="微软雅黑"/>
                    <a:ea typeface="微软雅黑"/>
                  </a:rPr>
                  <a:t>总</a:t>
                </a:r>
                <a:endParaRPr b="0" lang="en-US" sz="4000" spc="-1" strike="noStrike">
                  <a:solidFill>
                    <a:srgbClr val="000000"/>
                  </a:solidFill>
                  <a:latin typeface="Arial"/>
                </a:endParaRPr>
              </a:p>
            </p:txBody>
          </p:sp>
          <p:sp>
            <p:nvSpPr>
              <p:cNvPr id="263" name="椭圆 2"/>
              <p:cNvSpPr/>
              <p:nvPr/>
            </p:nvSpPr>
            <p:spPr>
              <a:xfrm>
                <a:off x="3281400" y="244800"/>
                <a:ext cx="746640" cy="74664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4000" spc="-1" strike="noStrike">
                    <a:solidFill>
                      <a:srgbClr val="ffffff"/>
                    </a:solidFill>
                    <a:latin typeface="微软雅黑"/>
                    <a:ea typeface="微软雅黑"/>
                  </a:rPr>
                  <a:t>结</a:t>
                </a:r>
                <a:endParaRPr b="0" lang="en-US" sz="4000" spc="-1" strike="noStrike">
                  <a:solidFill>
                    <a:srgbClr val="000000"/>
                  </a:solidFill>
                  <a:latin typeface="Arial"/>
                </a:endParaRPr>
              </a:p>
            </p:txBody>
          </p:sp>
        </p:grpSp>
      </p:grpSp>
      <p:sp>
        <p:nvSpPr>
          <p:cNvPr id="264" name="矩形 10"/>
          <p:cNvSpPr/>
          <p:nvPr/>
        </p:nvSpPr>
        <p:spPr>
          <a:xfrm>
            <a:off x="-4100040" y="1365120"/>
            <a:ext cx="21501360" cy="5157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265" name="组合 16"/>
          <p:cNvGrpSpPr/>
          <p:nvPr/>
        </p:nvGrpSpPr>
        <p:grpSpPr>
          <a:xfrm>
            <a:off x="2225520" y="1064520"/>
            <a:ext cx="7740360" cy="5549400"/>
            <a:chOff x="2225520" y="1064520"/>
            <a:chExt cx="7740360" cy="5549400"/>
          </a:xfrm>
        </p:grpSpPr>
        <p:sp>
          <p:nvSpPr>
            <p:cNvPr id="266" name="任意多边形 11"/>
            <p:cNvSpPr/>
            <p:nvPr/>
          </p:nvSpPr>
          <p:spPr>
            <a:xfrm>
              <a:off x="2225520" y="1064520"/>
              <a:ext cx="7740360" cy="990720"/>
            </a:xfrm>
            <a:custGeom>
              <a:avLst/>
              <a:gdLst>
                <a:gd name="textAreaLeft" fmla="*/ 0 w 7740360"/>
                <a:gd name="textAreaRight" fmla="*/ 7740720 w 7740360"/>
                <a:gd name="textAreaTop" fmla="*/ 0 h 990720"/>
                <a:gd name="textAreaBottom" fmla="*/ 991080 h 990720"/>
              </a:gdLst>
              <a:ahLst/>
              <a:rect l="textAreaLeft" t="textAreaTop" r="textAreaRight" b="textAreaBottom"/>
              <a:pathLst>
                <a:path w="7740663" h="991048">
                  <a:moveTo>
                    <a:pt x="0" y="165178"/>
                  </a:moveTo>
                  <a:cubicBezTo>
                    <a:pt x="0" y="73953"/>
                    <a:pt x="73953" y="0"/>
                    <a:pt x="165178" y="0"/>
                  </a:cubicBezTo>
                  <a:lnTo>
                    <a:pt x="7575485" y="0"/>
                  </a:lnTo>
                  <a:cubicBezTo>
                    <a:pt x="7666710" y="0"/>
                    <a:pt x="7740663" y="73953"/>
                    <a:pt x="7740663" y="165178"/>
                  </a:cubicBezTo>
                  <a:lnTo>
                    <a:pt x="7740663" y="825870"/>
                  </a:lnTo>
                  <a:cubicBezTo>
                    <a:pt x="7740663" y="917095"/>
                    <a:pt x="7666710" y="991048"/>
                    <a:pt x="7575485" y="991048"/>
                  </a:cubicBezTo>
                  <a:lnTo>
                    <a:pt x="165178" y="991048"/>
                  </a:lnTo>
                  <a:cubicBezTo>
                    <a:pt x="73953" y="991048"/>
                    <a:pt x="0" y="917095"/>
                    <a:pt x="0" y="825870"/>
                  </a:cubicBezTo>
                  <a:lnTo>
                    <a:pt x="0" y="165178"/>
                  </a:lnTo>
                  <a:close/>
                </a:path>
              </a:pathLst>
            </a:custGeom>
            <a:solidFill>
              <a:srgbClr val="5b9bd5"/>
            </a:solidFill>
            <a:ln w="38100">
              <a:solidFill>
                <a:srgbClr val="2777d8"/>
              </a:solidFill>
              <a:prstDash val="sysDash"/>
            </a:ln>
          </p:spPr>
          <p:style>
            <a:lnRef idx="2"/>
            <a:fillRef idx="0"/>
            <a:effectRef idx="0">
              <a:schemeClr val="accent1">
                <a:hueOff val="0"/>
                <a:satOff val="0"/>
                <a:lumOff val="0"/>
                <a:alphaOff val="0"/>
              </a:schemeClr>
            </a:effectRef>
            <a:fontRef idx="minor"/>
          </p:style>
          <p:txBody>
            <a:bodyPr numCol="1" spcCol="1440" lIns="139680" rIns="139680" tIns="93960" bIns="93960" anchor="ctr">
              <a:noAutofit/>
            </a:bodyPr>
            <a:p>
              <a:pPr algn="just">
                <a:lnSpc>
                  <a:spcPct val="90000"/>
                </a:lnSpc>
                <a:spcAft>
                  <a:spcPts val="839"/>
                </a:spcAft>
              </a:pPr>
              <a:r>
                <a:rPr b="0" lang="zh-CN" sz="2400" spc="-1" strike="noStrike">
                  <a:solidFill>
                    <a:schemeClr val="lt1"/>
                  </a:solidFill>
                  <a:latin typeface="微软雅黑"/>
                  <a:ea typeface="微软雅黑"/>
                </a:rPr>
                <a:t>想要一份完整的社交网址清单？上维基百科，也可参考百度百科；</a:t>
              </a:r>
              <a:endParaRPr b="0" lang="en-US" sz="2400" spc="-1" strike="noStrike">
                <a:solidFill>
                  <a:srgbClr val="000000"/>
                </a:solidFill>
                <a:latin typeface="Arial"/>
              </a:endParaRPr>
            </a:p>
          </p:txBody>
        </p:sp>
        <p:sp>
          <p:nvSpPr>
            <p:cNvPr id="267" name="任意多边形 12"/>
            <p:cNvSpPr/>
            <p:nvPr/>
          </p:nvSpPr>
          <p:spPr>
            <a:xfrm>
              <a:off x="2225520" y="2203920"/>
              <a:ext cx="7740360" cy="990720"/>
            </a:xfrm>
            <a:custGeom>
              <a:avLst/>
              <a:gdLst>
                <a:gd name="textAreaLeft" fmla="*/ 0 w 7740360"/>
                <a:gd name="textAreaRight" fmla="*/ 7740720 w 7740360"/>
                <a:gd name="textAreaTop" fmla="*/ 0 h 990720"/>
                <a:gd name="textAreaBottom" fmla="*/ 991080 h 990720"/>
              </a:gdLst>
              <a:ahLst/>
              <a:rect l="textAreaLeft" t="textAreaTop" r="textAreaRight" b="textAreaBottom"/>
              <a:pathLst>
                <a:path w="7740663" h="991048">
                  <a:moveTo>
                    <a:pt x="0" y="165178"/>
                  </a:moveTo>
                  <a:cubicBezTo>
                    <a:pt x="0" y="73953"/>
                    <a:pt x="73953" y="0"/>
                    <a:pt x="165178" y="0"/>
                  </a:cubicBezTo>
                  <a:lnTo>
                    <a:pt x="7575485" y="0"/>
                  </a:lnTo>
                  <a:cubicBezTo>
                    <a:pt x="7666710" y="0"/>
                    <a:pt x="7740663" y="73953"/>
                    <a:pt x="7740663" y="165178"/>
                  </a:cubicBezTo>
                  <a:lnTo>
                    <a:pt x="7740663" y="825870"/>
                  </a:lnTo>
                  <a:cubicBezTo>
                    <a:pt x="7740663" y="917095"/>
                    <a:pt x="7666710" y="991048"/>
                    <a:pt x="7575485" y="991048"/>
                  </a:cubicBezTo>
                  <a:lnTo>
                    <a:pt x="165178" y="991048"/>
                  </a:lnTo>
                  <a:cubicBezTo>
                    <a:pt x="73953" y="991048"/>
                    <a:pt x="0" y="917095"/>
                    <a:pt x="0" y="825870"/>
                  </a:cubicBezTo>
                  <a:lnTo>
                    <a:pt x="0" y="165178"/>
                  </a:lnTo>
                  <a:close/>
                </a:path>
              </a:pathLst>
            </a:custGeom>
            <a:solidFill>
              <a:srgbClr val="5b9bd5"/>
            </a:solidFill>
            <a:ln w="38100">
              <a:solidFill>
                <a:srgbClr val="2777d8"/>
              </a:solidFill>
              <a:prstDash val="sysDash"/>
            </a:ln>
          </p:spPr>
          <p:style>
            <a:lnRef idx="2"/>
            <a:fillRef idx="0"/>
            <a:effectRef idx="0">
              <a:schemeClr val="accent1">
                <a:hueOff val="0"/>
                <a:satOff val="0"/>
                <a:lumOff val="0"/>
                <a:alphaOff val="0"/>
              </a:schemeClr>
            </a:effectRef>
            <a:fontRef idx="minor"/>
          </p:style>
          <p:txBody>
            <a:bodyPr numCol="1" spcCol="1440" lIns="139680" rIns="139680" tIns="93960" bIns="93960" anchor="ctr">
              <a:noAutofit/>
            </a:bodyPr>
            <a:p>
              <a:pPr algn="just">
                <a:lnSpc>
                  <a:spcPct val="90000"/>
                </a:lnSpc>
                <a:spcAft>
                  <a:spcPts val="839"/>
                </a:spcAft>
              </a:pPr>
              <a:r>
                <a:rPr b="0" lang="zh-CN" sz="2400" spc="-1" strike="noStrike">
                  <a:solidFill>
                    <a:schemeClr val="lt1"/>
                  </a:solidFill>
                  <a:latin typeface="微软雅黑"/>
                  <a:ea typeface="微软雅黑"/>
                </a:rPr>
                <a:t>可以通过阅读社交媒体发来的每日邮件，了解该领域最新情况；</a:t>
              </a:r>
              <a:endParaRPr b="0" lang="en-US" sz="2400" spc="-1" strike="noStrike">
                <a:solidFill>
                  <a:srgbClr val="000000"/>
                </a:solidFill>
                <a:latin typeface="Arial"/>
              </a:endParaRPr>
            </a:p>
          </p:txBody>
        </p:sp>
        <p:sp>
          <p:nvSpPr>
            <p:cNvPr id="268" name="任意多边形 13"/>
            <p:cNvSpPr/>
            <p:nvPr/>
          </p:nvSpPr>
          <p:spPr>
            <a:xfrm>
              <a:off x="2225520" y="3343680"/>
              <a:ext cx="7740360" cy="990720"/>
            </a:xfrm>
            <a:custGeom>
              <a:avLst/>
              <a:gdLst>
                <a:gd name="textAreaLeft" fmla="*/ 0 w 7740360"/>
                <a:gd name="textAreaRight" fmla="*/ 7740720 w 7740360"/>
                <a:gd name="textAreaTop" fmla="*/ 0 h 990720"/>
                <a:gd name="textAreaBottom" fmla="*/ 991080 h 990720"/>
              </a:gdLst>
              <a:ahLst/>
              <a:rect l="textAreaLeft" t="textAreaTop" r="textAreaRight" b="textAreaBottom"/>
              <a:pathLst>
                <a:path w="7740663" h="991048">
                  <a:moveTo>
                    <a:pt x="0" y="165178"/>
                  </a:moveTo>
                  <a:cubicBezTo>
                    <a:pt x="0" y="73953"/>
                    <a:pt x="73953" y="0"/>
                    <a:pt x="165178" y="0"/>
                  </a:cubicBezTo>
                  <a:lnTo>
                    <a:pt x="7575485" y="0"/>
                  </a:lnTo>
                  <a:cubicBezTo>
                    <a:pt x="7666710" y="0"/>
                    <a:pt x="7740663" y="73953"/>
                    <a:pt x="7740663" y="165178"/>
                  </a:cubicBezTo>
                  <a:lnTo>
                    <a:pt x="7740663" y="825870"/>
                  </a:lnTo>
                  <a:cubicBezTo>
                    <a:pt x="7740663" y="917095"/>
                    <a:pt x="7666710" y="991048"/>
                    <a:pt x="7575485" y="991048"/>
                  </a:cubicBezTo>
                  <a:lnTo>
                    <a:pt x="165178" y="991048"/>
                  </a:lnTo>
                  <a:cubicBezTo>
                    <a:pt x="73953" y="991048"/>
                    <a:pt x="0" y="917095"/>
                    <a:pt x="0" y="825870"/>
                  </a:cubicBezTo>
                  <a:lnTo>
                    <a:pt x="0" y="165178"/>
                  </a:lnTo>
                  <a:close/>
                </a:path>
              </a:pathLst>
            </a:custGeom>
            <a:solidFill>
              <a:srgbClr val="5b9bd5"/>
            </a:solidFill>
            <a:ln w="38100">
              <a:solidFill>
                <a:srgbClr val="2777d8"/>
              </a:solidFill>
              <a:prstDash val="sysDash"/>
            </a:ln>
          </p:spPr>
          <p:style>
            <a:lnRef idx="2"/>
            <a:fillRef idx="0"/>
            <a:effectRef idx="0">
              <a:schemeClr val="accent1">
                <a:hueOff val="0"/>
                <a:satOff val="0"/>
                <a:lumOff val="0"/>
                <a:alphaOff val="0"/>
              </a:schemeClr>
            </a:effectRef>
            <a:fontRef idx="minor"/>
          </p:style>
          <p:txBody>
            <a:bodyPr numCol="1" spcCol="1440" lIns="139680" rIns="139680" tIns="93960" bIns="93960" anchor="ctr">
              <a:noAutofit/>
            </a:bodyPr>
            <a:p>
              <a:pPr algn="just">
                <a:lnSpc>
                  <a:spcPct val="90000"/>
                </a:lnSpc>
                <a:spcAft>
                  <a:spcPts val="839"/>
                </a:spcAft>
              </a:pPr>
              <a:r>
                <a:rPr b="0" lang="zh-CN" sz="2400" spc="-1" strike="noStrike">
                  <a:solidFill>
                    <a:schemeClr val="lt1"/>
                  </a:solidFill>
                  <a:latin typeface="微软雅黑"/>
                  <a:ea typeface="微软雅黑"/>
                </a:rPr>
                <a:t>每个社交媒体网站都有不同的范围，不同的重点，以及不同的受众。找到和自己有关的，慎重选择；</a:t>
              </a:r>
              <a:endParaRPr b="0" lang="en-US" sz="2400" spc="-1" strike="noStrike">
                <a:solidFill>
                  <a:srgbClr val="000000"/>
                </a:solidFill>
                <a:latin typeface="Arial"/>
              </a:endParaRPr>
            </a:p>
          </p:txBody>
        </p:sp>
        <p:sp>
          <p:nvSpPr>
            <p:cNvPr id="269" name="任意多边形 14"/>
            <p:cNvSpPr/>
            <p:nvPr/>
          </p:nvSpPr>
          <p:spPr>
            <a:xfrm>
              <a:off x="2225520" y="4483440"/>
              <a:ext cx="7740360" cy="990720"/>
            </a:xfrm>
            <a:custGeom>
              <a:avLst/>
              <a:gdLst>
                <a:gd name="textAreaLeft" fmla="*/ 0 w 7740360"/>
                <a:gd name="textAreaRight" fmla="*/ 7740720 w 7740360"/>
                <a:gd name="textAreaTop" fmla="*/ 0 h 990720"/>
                <a:gd name="textAreaBottom" fmla="*/ 991080 h 990720"/>
              </a:gdLst>
              <a:ahLst/>
              <a:rect l="textAreaLeft" t="textAreaTop" r="textAreaRight" b="textAreaBottom"/>
              <a:pathLst>
                <a:path w="7740663" h="991048">
                  <a:moveTo>
                    <a:pt x="0" y="165178"/>
                  </a:moveTo>
                  <a:cubicBezTo>
                    <a:pt x="0" y="73953"/>
                    <a:pt x="73953" y="0"/>
                    <a:pt x="165178" y="0"/>
                  </a:cubicBezTo>
                  <a:lnTo>
                    <a:pt x="7575485" y="0"/>
                  </a:lnTo>
                  <a:cubicBezTo>
                    <a:pt x="7666710" y="0"/>
                    <a:pt x="7740663" y="73953"/>
                    <a:pt x="7740663" y="165178"/>
                  </a:cubicBezTo>
                  <a:lnTo>
                    <a:pt x="7740663" y="825870"/>
                  </a:lnTo>
                  <a:cubicBezTo>
                    <a:pt x="7740663" y="917095"/>
                    <a:pt x="7666710" y="991048"/>
                    <a:pt x="7575485" y="991048"/>
                  </a:cubicBezTo>
                  <a:lnTo>
                    <a:pt x="165178" y="991048"/>
                  </a:lnTo>
                  <a:cubicBezTo>
                    <a:pt x="73953" y="991048"/>
                    <a:pt x="0" y="917095"/>
                    <a:pt x="0" y="825870"/>
                  </a:cubicBezTo>
                  <a:lnTo>
                    <a:pt x="0" y="165178"/>
                  </a:lnTo>
                  <a:close/>
                </a:path>
              </a:pathLst>
            </a:custGeom>
            <a:solidFill>
              <a:srgbClr val="5b9bd5"/>
            </a:solidFill>
            <a:ln w="38100">
              <a:solidFill>
                <a:srgbClr val="2777d8"/>
              </a:solidFill>
              <a:prstDash val="sysDash"/>
            </a:ln>
          </p:spPr>
          <p:style>
            <a:lnRef idx="2"/>
            <a:fillRef idx="0"/>
            <a:effectRef idx="0">
              <a:schemeClr val="accent1">
                <a:hueOff val="0"/>
                <a:satOff val="0"/>
                <a:lumOff val="0"/>
                <a:alphaOff val="0"/>
              </a:schemeClr>
            </a:effectRef>
            <a:fontRef idx="minor"/>
          </p:style>
          <p:txBody>
            <a:bodyPr numCol="1" spcCol="1440" lIns="139680" rIns="139680" tIns="93960" bIns="93960" anchor="ctr">
              <a:noAutofit/>
            </a:bodyPr>
            <a:p>
              <a:pPr algn="just">
                <a:lnSpc>
                  <a:spcPct val="90000"/>
                </a:lnSpc>
                <a:spcAft>
                  <a:spcPts val="839"/>
                </a:spcAft>
              </a:pPr>
              <a:r>
                <a:rPr b="0" lang="zh-CN" sz="2400" spc="-1" strike="noStrike">
                  <a:solidFill>
                    <a:schemeClr val="lt1"/>
                  </a:solidFill>
                  <a:latin typeface="微软雅黑"/>
                  <a:ea typeface="微软雅黑"/>
                </a:rPr>
                <a:t>大学毕业生想找工作，可以在百度搜索输入“大学生求职”，会找到有帮助的网站；</a:t>
              </a:r>
              <a:endParaRPr b="0" lang="en-US" sz="2400" spc="-1" strike="noStrike">
                <a:solidFill>
                  <a:srgbClr val="000000"/>
                </a:solidFill>
                <a:latin typeface="Arial"/>
              </a:endParaRPr>
            </a:p>
          </p:txBody>
        </p:sp>
        <p:sp>
          <p:nvSpPr>
            <p:cNvPr id="270" name="任意多边形 15"/>
            <p:cNvSpPr/>
            <p:nvPr/>
          </p:nvSpPr>
          <p:spPr>
            <a:xfrm>
              <a:off x="2225520" y="5623200"/>
              <a:ext cx="7740360" cy="990720"/>
            </a:xfrm>
            <a:custGeom>
              <a:avLst/>
              <a:gdLst>
                <a:gd name="textAreaLeft" fmla="*/ 0 w 7740360"/>
                <a:gd name="textAreaRight" fmla="*/ 7740720 w 7740360"/>
                <a:gd name="textAreaTop" fmla="*/ 0 h 990720"/>
                <a:gd name="textAreaBottom" fmla="*/ 991080 h 990720"/>
              </a:gdLst>
              <a:ahLst/>
              <a:rect l="textAreaLeft" t="textAreaTop" r="textAreaRight" b="textAreaBottom"/>
              <a:pathLst>
                <a:path w="7740663" h="991048">
                  <a:moveTo>
                    <a:pt x="0" y="165178"/>
                  </a:moveTo>
                  <a:cubicBezTo>
                    <a:pt x="0" y="73953"/>
                    <a:pt x="73953" y="0"/>
                    <a:pt x="165178" y="0"/>
                  </a:cubicBezTo>
                  <a:lnTo>
                    <a:pt x="7575485" y="0"/>
                  </a:lnTo>
                  <a:cubicBezTo>
                    <a:pt x="7666710" y="0"/>
                    <a:pt x="7740663" y="73953"/>
                    <a:pt x="7740663" y="165178"/>
                  </a:cubicBezTo>
                  <a:lnTo>
                    <a:pt x="7740663" y="825870"/>
                  </a:lnTo>
                  <a:cubicBezTo>
                    <a:pt x="7740663" y="917095"/>
                    <a:pt x="7666710" y="991048"/>
                    <a:pt x="7575485" y="991048"/>
                  </a:cubicBezTo>
                  <a:lnTo>
                    <a:pt x="165178" y="991048"/>
                  </a:lnTo>
                  <a:cubicBezTo>
                    <a:pt x="73953" y="991048"/>
                    <a:pt x="0" y="917095"/>
                    <a:pt x="0" y="825870"/>
                  </a:cubicBezTo>
                  <a:lnTo>
                    <a:pt x="0" y="165178"/>
                  </a:lnTo>
                  <a:close/>
                </a:path>
              </a:pathLst>
            </a:custGeom>
            <a:solidFill>
              <a:srgbClr val="5b9bd5"/>
            </a:solidFill>
            <a:ln w="38100">
              <a:solidFill>
                <a:srgbClr val="2777d8"/>
              </a:solidFill>
              <a:prstDash val="sysDash"/>
            </a:ln>
          </p:spPr>
          <p:style>
            <a:lnRef idx="2"/>
            <a:fillRef idx="0"/>
            <a:effectRef idx="0">
              <a:schemeClr val="accent1">
                <a:hueOff val="0"/>
                <a:satOff val="0"/>
                <a:lumOff val="0"/>
                <a:alphaOff val="0"/>
              </a:schemeClr>
            </a:effectRef>
            <a:fontRef idx="minor"/>
          </p:style>
          <p:txBody>
            <a:bodyPr numCol="1" spcCol="1440" lIns="139680" rIns="139680" tIns="93960" bIns="93960" anchor="ctr">
              <a:noAutofit/>
            </a:bodyPr>
            <a:p>
              <a:pPr algn="just">
                <a:lnSpc>
                  <a:spcPct val="90000"/>
                </a:lnSpc>
                <a:spcAft>
                  <a:spcPts val="839"/>
                </a:spcAft>
              </a:pPr>
              <a:r>
                <a:rPr b="0" lang="zh-CN" sz="2400" spc="-1" strike="noStrike">
                  <a:solidFill>
                    <a:schemeClr val="lt1"/>
                  </a:solidFill>
                  <a:latin typeface="微软雅黑"/>
                  <a:ea typeface="微软雅黑"/>
                </a:rPr>
                <a:t>求职越来越倾向网络化；</a:t>
              </a:r>
              <a:endParaRPr b="0" lang="en-US" sz="2400" spc="-1" strike="noStrike">
                <a:solidFill>
                  <a:srgbClr val="000000"/>
                </a:solidFill>
                <a:latin typeface="Arial"/>
              </a:endParaRPr>
            </a:p>
          </p:txBody>
        </p:sp>
      </p:gr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271" name="图片 8" descr=""/>
          <p:cNvPicPr/>
          <p:nvPr/>
        </p:nvPicPr>
        <p:blipFill>
          <a:blip r:embed="rId1"/>
          <a:stretch/>
        </p:blipFill>
        <p:spPr>
          <a:xfrm rot="20452800">
            <a:off x="2939400" y="949320"/>
            <a:ext cx="3455280" cy="3307320"/>
          </a:xfrm>
          <a:prstGeom prst="rect">
            <a:avLst/>
          </a:prstGeom>
          <a:ln w="0">
            <a:noFill/>
          </a:ln>
        </p:spPr>
      </p:pic>
      <p:cxnSp>
        <p:nvCxnSpPr>
          <p:cNvPr id="272" name="直接连接符 4"/>
          <p:cNvCxnSpPr/>
          <p:nvPr/>
        </p:nvCxnSpPr>
        <p:spPr>
          <a:xfrm>
            <a:off x="5344560" y="3992400"/>
            <a:ext cx="360" cy="1790280"/>
          </a:xfrm>
          <a:prstGeom prst="straightConnector1">
            <a:avLst/>
          </a:prstGeom>
          <a:ln w="127000">
            <a:solidFill>
              <a:srgbClr val="5b9bd5"/>
            </a:solidFill>
          </a:ln>
        </p:spPr>
      </p:cxnSp>
      <p:sp>
        <p:nvSpPr>
          <p:cNvPr id="273" name="文本框 5"/>
          <p:cNvSpPr/>
          <p:nvPr/>
        </p:nvSpPr>
        <p:spPr>
          <a:xfrm>
            <a:off x="5862960" y="4518360"/>
            <a:ext cx="35442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5b9bd5"/>
                </a:solidFill>
                <a:latin typeface="方正综艺简体"/>
                <a:ea typeface="方正综艺简体"/>
              </a:rPr>
              <a:t>Google</a:t>
            </a:r>
            <a:r>
              <a:rPr b="0" lang="zh-CN" sz="4400" spc="-1" strike="noStrike">
                <a:solidFill>
                  <a:srgbClr val="5b9bd5"/>
                </a:solidFill>
                <a:latin typeface="方正综艺简体"/>
                <a:ea typeface="方正综艺简体"/>
              </a:rPr>
              <a:t>就是你的</a:t>
            </a:r>
            <a:endParaRPr b="0" lang="en-US" sz="4400" spc="-1" strike="noStrike">
              <a:solidFill>
                <a:srgbClr val="000000"/>
              </a:solidFill>
              <a:latin typeface="Arial"/>
            </a:endParaRPr>
          </a:p>
          <a:p>
            <a:pPr>
              <a:lnSpc>
                <a:spcPct val="100000"/>
              </a:lnSpc>
            </a:pPr>
            <a:r>
              <a:rPr b="0" lang="zh-CN" sz="4400" spc="-1" strike="noStrike">
                <a:solidFill>
                  <a:srgbClr val="c60139"/>
                </a:solidFill>
                <a:latin typeface="方正综艺简体"/>
                <a:ea typeface="方正综艺简体"/>
              </a:rPr>
              <a:t>简历</a:t>
            </a:r>
            <a:endParaRPr b="0" lang="en-US" sz="4400" spc="-1" strike="noStrike">
              <a:solidFill>
                <a:srgbClr val="000000"/>
              </a:solidFill>
              <a:latin typeface="Arial"/>
            </a:endParaRPr>
          </a:p>
        </p:txBody>
      </p:sp>
      <p:sp>
        <p:nvSpPr>
          <p:cNvPr id="274"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275"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
        <p:nvSpPr>
          <p:cNvPr id="276" name="文本框 1"/>
          <p:cNvSpPr/>
          <p:nvPr/>
        </p:nvSpPr>
        <p:spPr>
          <a:xfrm>
            <a:off x="3549240" y="6024240"/>
            <a:ext cx="50929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2777d8"/>
                </a:solidFill>
                <a:latin typeface="微软雅黑"/>
                <a:ea typeface="微软雅黑"/>
              </a:rPr>
              <a:t>【</a:t>
            </a:r>
            <a:r>
              <a:rPr b="0" lang="zh-CN" sz="1800" spc="-1" strike="noStrike">
                <a:solidFill>
                  <a:srgbClr val="2777d8"/>
                </a:solidFill>
                <a:latin typeface="微软雅黑"/>
                <a:ea typeface="微软雅黑"/>
              </a:rPr>
              <a:t>在中国，更多人习惯用百度，读者在这里可以用“百度”代替“</a:t>
            </a:r>
            <a:r>
              <a:rPr b="0" lang="en-US" sz="1800" spc="-1" strike="noStrike">
                <a:solidFill>
                  <a:srgbClr val="2777d8"/>
                </a:solidFill>
                <a:latin typeface="微软雅黑"/>
                <a:ea typeface="微软雅黑"/>
              </a:rPr>
              <a:t>Google”</a:t>
            </a:r>
            <a:r>
              <a:rPr b="0" lang="zh-CN" sz="1800" spc="-1" strike="noStrike">
                <a:solidFill>
                  <a:srgbClr val="2777d8"/>
                </a:solidFill>
                <a:latin typeface="微软雅黑"/>
                <a:ea typeface="微软雅黑"/>
              </a:rPr>
              <a:t>。</a:t>
            </a:r>
            <a:endParaRPr b="0" lang="en-US" sz="1800" spc="-1" strike="noStrike">
              <a:solidFill>
                <a:srgbClr val="000000"/>
              </a:solidFill>
              <a:latin typeface="Arial"/>
            </a:endParaRPr>
          </a:p>
          <a:p>
            <a:pPr algn="ctr">
              <a:lnSpc>
                <a:spcPct val="100000"/>
              </a:lnSpc>
            </a:pPr>
            <a:r>
              <a:rPr b="0" lang="zh-CN" sz="1800" spc="-1" strike="noStrike">
                <a:solidFill>
                  <a:srgbClr val="2777d8"/>
                </a:solidFill>
                <a:latin typeface="微软雅黑"/>
                <a:ea typeface="微软雅黑"/>
              </a:rPr>
              <a:t>在本章，</a:t>
            </a:r>
            <a:r>
              <a:rPr b="0" lang="en-US" sz="1800" spc="-1" strike="noStrike">
                <a:solidFill>
                  <a:srgbClr val="2777d8"/>
                </a:solidFill>
                <a:latin typeface="微软雅黑"/>
                <a:ea typeface="微软雅黑"/>
              </a:rPr>
              <a:t>Google</a:t>
            </a:r>
            <a:r>
              <a:rPr b="0" lang="zh-CN" sz="1800" spc="-1" strike="noStrike">
                <a:solidFill>
                  <a:srgbClr val="2777d8"/>
                </a:solidFill>
                <a:latin typeface="微软雅黑"/>
                <a:ea typeface="微软雅黑"/>
              </a:rPr>
              <a:t>更多地表达了一种网络搜索的状态和能力。】</a:t>
            </a:r>
            <a:endParaRPr b="0" lang="en-US" sz="18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文本框 2"/>
          <p:cNvSpPr/>
          <p:nvPr/>
        </p:nvSpPr>
        <p:spPr>
          <a:xfrm>
            <a:off x="2263680" y="573480"/>
            <a:ext cx="41097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关于</a:t>
            </a:r>
            <a:r>
              <a:rPr b="0" lang="en-US" sz="2800" spc="-1" strike="noStrike">
                <a:solidFill>
                  <a:srgbClr val="2777d8"/>
                </a:solidFill>
                <a:latin typeface="华康俪金黑W8(P)"/>
                <a:ea typeface="华康俪金黑W8(P)"/>
              </a:rPr>
              <a:t>Google</a:t>
            </a:r>
            <a:r>
              <a:rPr b="0" lang="zh-CN" sz="2800" spc="-1" strike="noStrike">
                <a:solidFill>
                  <a:srgbClr val="2777d8"/>
                </a:solidFill>
                <a:latin typeface="华康俪金黑W8(P)"/>
                <a:ea typeface="华康俪金黑W8(P)"/>
              </a:rPr>
              <a:t>简历，你能</a:t>
            </a:r>
            <a:r>
              <a:rPr b="0" lang="zh-CN" sz="2800" spc="-1" strike="noStrike">
                <a:solidFill>
                  <a:srgbClr val="c60139"/>
                </a:solidFill>
                <a:latin typeface="华康俪金黑W8(P)"/>
                <a:ea typeface="华康俪金黑W8(P)"/>
              </a:rPr>
              <a:t>做点什么</a:t>
            </a:r>
            <a:r>
              <a:rPr b="0" lang="zh-CN" sz="2800" spc="-1" strike="noStrike">
                <a:solidFill>
                  <a:srgbClr val="2777d8"/>
                </a:solidFill>
                <a:latin typeface="华康俪金黑W8(P)"/>
                <a:ea typeface="华康俪金黑W8(P)"/>
              </a:rPr>
              <a:t>？</a:t>
            </a:r>
            <a:endParaRPr b="0" lang="en-US" sz="2800" spc="-1" strike="noStrike">
              <a:solidFill>
                <a:srgbClr val="000000"/>
              </a:solidFill>
              <a:latin typeface="Arial"/>
            </a:endParaRPr>
          </a:p>
        </p:txBody>
      </p:sp>
      <p:grpSp>
        <p:nvGrpSpPr>
          <p:cNvPr id="278" name="组合 5"/>
          <p:cNvGrpSpPr/>
          <p:nvPr/>
        </p:nvGrpSpPr>
        <p:grpSpPr>
          <a:xfrm>
            <a:off x="2437560" y="1339200"/>
            <a:ext cx="7316280" cy="4741920"/>
            <a:chOff x="2437560" y="1339200"/>
            <a:chExt cx="7316280" cy="4741920"/>
          </a:xfrm>
        </p:grpSpPr>
        <p:sp>
          <p:nvSpPr>
            <p:cNvPr id="279" name="直角上箭头 6"/>
            <p:cNvSpPr/>
            <p:nvPr/>
          </p:nvSpPr>
          <p:spPr>
            <a:xfrm rot="5400000">
              <a:off x="2682000" y="2360160"/>
              <a:ext cx="920520" cy="1047960"/>
            </a:xfrm>
            <a:prstGeom prst="bentUpArrow">
              <a:avLst>
                <a:gd name="adj1" fmla="val 32840"/>
                <a:gd name="adj2" fmla="val 25000"/>
                <a:gd name="adj3" fmla="val 35780"/>
              </a:avLst>
            </a:prstGeom>
            <a:solidFill>
              <a:srgbClr val="d1deef"/>
            </a:solidFill>
            <a:ln>
              <a:solidFill>
                <a:srgbClr val="528cc1"/>
              </a:solidFill>
            </a:ln>
          </p:spPr>
          <p:style>
            <a:lnRef idx="2">
              <a:schemeClr val="accent1">
                <a:shade val="80000"/>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任意多边形 7"/>
            <p:cNvSpPr/>
            <p:nvPr/>
          </p:nvSpPr>
          <p:spPr>
            <a:xfrm>
              <a:off x="2437560" y="1339200"/>
              <a:ext cx="1550160" cy="1084680"/>
            </a:xfrm>
            <a:custGeom>
              <a:avLst/>
              <a:gdLst>
                <a:gd name="textAreaLeft" fmla="*/ 0 w 1550160"/>
                <a:gd name="textAreaRight" fmla="*/ 1550520 w 1550160"/>
                <a:gd name="textAreaTop" fmla="*/ 0 h 1084680"/>
                <a:gd name="textAreaBottom" fmla="*/ 1085040 h 1084680"/>
              </a:gdLst>
              <a:ahLst/>
              <a:rect l="textAreaLeft" t="textAreaTop" r="textAreaRight" b="textAreaBottom"/>
              <a:pathLst>
                <a:path w="1550343" h="1085190">
                  <a:moveTo>
                    <a:pt x="0" y="180901"/>
                  </a:moveTo>
                  <a:cubicBezTo>
                    <a:pt x="0" y="80992"/>
                    <a:pt x="80992" y="0"/>
                    <a:pt x="180901" y="0"/>
                  </a:cubicBezTo>
                  <a:lnTo>
                    <a:pt x="1369442" y="0"/>
                  </a:lnTo>
                  <a:cubicBezTo>
                    <a:pt x="1469351" y="0"/>
                    <a:pt x="1550343" y="80992"/>
                    <a:pt x="1550343" y="180901"/>
                  </a:cubicBezTo>
                  <a:lnTo>
                    <a:pt x="1550343" y="904289"/>
                  </a:lnTo>
                  <a:cubicBezTo>
                    <a:pt x="1550343" y="1004198"/>
                    <a:pt x="1469351" y="1085190"/>
                    <a:pt x="1369442" y="1085190"/>
                  </a:cubicBezTo>
                  <a:lnTo>
                    <a:pt x="180901" y="1085190"/>
                  </a:lnTo>
                  <a:cubicBezTo>
                    <a:pt x="80992" y="1085190"/>
                    <a:pt x="0" y="1004198"/>
                    <a:pt x="0" y="904289"/>
                  </a:cubicBezTo>
                  <a:lnTo>
                    <a:pt x="0" y="180901"/>
                  </a:lnTo>
                  <a:close/>
                </a:path>
              </a:pathLst>
            </a:custGeom>
            <a:solidFill>
              <a:srgbClr val="ffffff"/>
            </a:solidFill>
            <a:ln>
              <a:solidFill>
                <a:srgbClr val="528cc1"/>
              </a:solidFill>
            </a:ln>
          </p:spPr>
          <p:style>
            <a:lnRef idx="2">
              <a:schemeClr val="accent1">
                <a:shade val="80000"/>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numCol="1" spcCol="1440" lIns="186480" rIns="186480" tIns="186480" bIns="186480" anchor="ctr">
              <a:noAutofit/>
            </a:bodyPr>
            <a:p>
              <a:pPr algn="ctr">
                <a:lnSpc>
                  <a:spcPct val="90000"/>
                </a:lnSpc>
                <a:spcAft>
                  <a:spcPts val="1225"/>
                </a:spcAft>
              </a:pPr>
              <a:r>
                <a:rPr b="0" lang="zh-CN" sz="3500" spc="-1" strike="noStrike">
                  <a:solidFill>
                    <a:srgbClr val="c60139"/>
                  </a:solidFill>
                  <a:latin typeface="微软雅黑"/>
                  <a:ea typeface="微软雅黑"/>
                </a:rPr>
                <a:t>编辑</a:t>
              </a:r>
              <a:endParaRPr b="0" lang="en-US" sz="3500" spc="-1" strike="noStrike">
                <a:solidFill>
                  <a:srgbClr val="000000"/>
                </a:solidFill>
                <a:latin typeface="Arial"/>
              </a:endParaRPr>
            </a:p>
          </p:txBody>
        </p:sp>
        <p:sp>
          <p:nvSpPr>
            <p:cNvPr id="281" name="任意多边形 8"/>
            <p:cNvSpPr/>
            <p:nvPr/>
          </p:nvSpPr>
          <p:spPr>
            <a:xfrm>
              <a:off x="3988080" y="1442880"/>
              <a:ext cx="2570400" cy="876600"/>
            </a:xfrm>
            <a:custGeom>
              <a:avLst/>
              <a:gdLst>
                <a:gd name="textAreaLeft" fmla="*/ 0 w 2570400"/>
                <a:gd name="textAreaRight" fmla="*/ 2570760 w 2570400"/>
                <a:gd name="textAreaTop" fmla="*/ 0 h 876600"/>
                <a:gd name="textAreaBottom" fmla="*/ 876960 h 876600"/>
              </a:gdLst>
              <a:ahLst/>
              <a:rect l="textAreaLeft" t="textAreaTop" r="textAreaRight" b="textAreaBottom"/>
              <a:pathLst>
                <a:path w="1127572" h="877098">
                  <a:moveTo>
                    <a:pt x="0" y="0"/>
                  </a:moveTo>
                  <a:lnTo>
                    <a:pt x="1127572" y="0"/>
                  </a:lnTo>
                  <a:lnTo>
                    <a:pt x="1127572" y="877098"/>
                  </a:lnTo>
                  <a:lnTo>
                    <a:pt x="0" y="877098"/>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45720" rIns="45720" anchor="ctr">
              <a:noAutofit/>
            </a:bodyPr>
            <a:p>
              <a:pPr lvl="1" marL="57240" indent="-57240" algn="just">
                <a:lnSpc>
                  <a:spcPct val="90000"/>
                </a:lnSpc>
                <a:spcAft>
                  <a:spcPts val="269"/>
                </a:spcAft>
                <a:buClr>
                  <a:srgbClr val="203864"/>
                </a:buClr>
                <a:buFont typeface="Symbol" charset="2"/>
                <a:buChar char=""/>
              </a:pPr>
              <a:r>
                <a:rPr b="0" lang="zh-CN" sz="1800" spc="-1" strike="noStrike">
                  <a:solidFill>
                    <a:schemeClr val="accent5">
                      <a:lumMod val="50000"/>
                    </a:schemeClr>
                  </a:solidFill>
                  <a:latin typeface="微软雅黑"/>
                  <a:ea typeface="微软雅黑"/>
                </a:rPr>
                <a:t>研究每一个社交网站，删掉任何和你想留下的印象背道而驰的内容；</a:t>
              </a:r>
              <a:endParaRPr b="0" lang="en-US" sz="1800" spc="-1" strike="noStrike">
                <a:solidFill>
                  <a:srgbClr val="000000"/>
                </a:solidFill>
                <a:latin typeface="Arial"/>
              </a:endParaRPr>
            </a:p>
          </p:txBody>
        </p:sp>
        <p:sp>
          <p:nvSpPr>
            <p:cNvPr id="282" name="直角上箭头 9"/>
            <p:cNvSpPr/>
            <p:nvPr/>
          </p:nvSpPr>
          <p:spPr>
            <a:xfrm rot="5400000">
              <a:off x="3967560" y="3579120"/>
              <a:ext cx="920520" cy="1047960"/>
            </a:xfrm>
            <a:prstGeom prst="bentUpArrow">
              <a:avLst>
                <a:gd name="adj1" fmla="val 32840"/>
                <a:gd name="adj2" fmla="val 25000"/>
                <a:gd name="adj3" fmla="val 35780"/>
              </a:avLst>
            </a:prstGeom>
            <a:solidFill>
              <a:srgbClr val="d1deef"/>
            </a:solidFill>
            <a:ln>
              <a:solidFill>
                <a:srgbClr val="528cc1"/>
              </a:solidFill>
            </a:ln>
          </p:spPr>
          <p:style>
            <a:lnRef idx="2">
              <a:schemeClr val="accent1">
                <a:shade val="80000"/>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任意多边形 10"/>
            <p:cNvSpPr/>
            <p:nvPr/>
          </p:nvSpPr>
          <p:spPr>
            <a:xfrm>
              <a:off x="3723120" y="2558520"/>
              <a:ext cx="1550160" cy="1084680"/>
            </a:xfrm>
            <a:custGeom>
              <a:avLst/>
              <a:gdLst>
                <a:gd name="textAreaLeft" fmla="*/ 0 w 1550160"/>
                <a:gd name="textAreaRight" fmla="*/ 1550520 w 1550160"/>
                <a:gd name="textAreaTop" fmla="*/ 0 h 1084680"/>
                <a:gd name="textAreaBottom" fmla="*/ 1085040 h 1084680"/>
              </a:gdLst>
              <a:ahLst/>
              <a:rect l="textAreaLeft" t="textAreaTop" r="textAreaRight" b="textAreaBottom"/>
              <a:pathLst>
                <a:path w="1550343" h="1085190">
                  <a:moveTo>
                    <a:pt x="0" y="180901"/>
                  </a:moveTo>
                  <a:cubicBezTo>
                    <a:pt x="0" y="80992"/>
                    <a:pt x="80992" y="0"/>
                    <a:pt x="180901" y="0"/>
                  </a:cubicBezTo>
                  <a:lnTo>
                    <a:pt x="1369442" y="0"/>
                  </a:lnTo>
                  <a:cubicBezTo>
                    <a:pt x="1469351" y="0"/>
                    <a:pt x="1550343" y="80992"/>
                    <a:pt x="1550343" y="180901"/>
                  </a:cubicBezTo>
                  <a:lnTo>
                    <a:pt x="1550343" y="904289"/>
                  </a:lnTo>
                  <a:cubicBezTo>
                    <a:pt x="1550343" y="1004198"/>
                    <a:pt x="1469351" y="1085190"/>
                    <a:pt x="1369442" y="1085190"/>
                  </a:cubicBezTo>
                  <a:lnTo>
                    <a:pt x="180901" y="1085190"/>
                  </a:lnTo>
                  <a:cubicBezTo>
                    <a:pt x="80992" y="1085190"/>
                    <a:pt x="0" y="1004198"/>
                    <a:pt x="0" y="904289"/>
                  </a:cubicBezTo>
                  <a:lnTo>
                    <a:pt x="0" y="180901"/>
                  </a:lnTo>
                  <a:close/>
                </a:path>
              </a:pathLst>
            </a:custGeom>
            <a:solidFill>
              <a:srgbClr val="ffffff"/>
            </a:solidFill>
            <a:ln>
              <a:solidFill>
                <a:srgbClr val="528cc1"/>
              </a:solidFill>
            </a:ln>
          </p:spPr>
          <p:style>
            <a:lnRef idx="2">
              <a:schemeClr val="accent1">
                <a:shade val="80000"/>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numCol="1" spcCol="1440" lIns="186480" rIns="186480" tIns="186480" bIns="186480" anchor="ctr">
              <a:noAutofit/>
            </a:bodyPr>
            <a:p>
              <a:pPr algn="ctr">
                <a:lnSpc>
                  <a:spcPct val="90000"/>
                </a:lnSpc>
                <a:spcAft>
                  <a:spcPts val="1225"/>
                </a:spcAft>
              </a:pPr>
              <a:r>
                <a:rPr b="0" lang="zh-CN" sz="3500" spc="-1" strike="noStrike">
                  <a:solidFill>
                    <a:srgbClr val="c60139"/>
                  </a:solidFill>
                  <a:latin typeface="微软雅黑"/>
                  <a:ea typeface="微软雅黑"/>
                </a:rPr>
                <a:t>填写</a:t>
              </a:r>
              <a:endParaRPr b="0" lang="en-US" sz="3500" spc="-1" strike="noStrike">
                <a:solidFill>
                  <a:srgbClr val="000000"/>
                </a:solidFill>
                <a:latin typeface="Arial"/>
              </a:endParaRPr>
            </a:p>
          </p:txBody>
        </p:sp>
        <p:sp>
          <p:nvSpPr>
            <p:cNvPr id="284" name="任意多边形 11"/>
            <p:cNvSpPr/>
            <p:nvPr/>
          </p:nvSpPr>
          <p:spPr>
            <a:xfrm>
              <a:off x="5273280" y="2661840"/>
              <a:ext cx="2384640" cy="876600"/>
            </a:xfrm>
            <a:custGeom>
              <a:avLst/>
              <a:gdLst>
                <a:gd name="textAreaLeft" fmla="*/ 0 w 2384640"/>
                <a:gd name="textAreaRight" fmla="*/ 2385000 w 2384640"/>
                <a:gd name="textAreaTop" fmla="*/ 0 h 876600"/>
                <a:gd name="textAreaBottom" fmla="*/ 876960 h 876600"/>
              </a:gdLst>
              <a:ahLst/>
              <a:rect l="textAreaLeft" t="textAreaTop" r="textAreaRight" b="textAreaBottom"/>
              <a:pathLst>
                <a:path w="1127572" h="877098">
                  <a:moveTo>
                    <a:pt x="0" y="0"/>
                  </a:moveTo>
                  <a:lnTo>
                    <a:pt x="1127572" y="0"/>
                  </a:lnTo>
                  <a:lnTo>
                    <a:pt x="1127572" y="877098"/>
                  </a:lnTo>
                  <a:lnTo>
                    <a:pt x="0" y="877098"/>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45720" rIns="45720" anchor="ctr">
              <a:noAutofit/>
            </a:bodyPr>
            <a:p>
              <a:pPr lvl="1" marL="57240" indent="-57240" algn="just">
                <a:lnSpc>
                  <a:spcPct val="90000"/>
                </a:lnSpc>
                <a:spcAft>
                  <a:spcPts val="269"/>
                </a:spcAft>
                <a:buClr>
                  <a:srgbClr val="203864"/>
                </a:buClr>
                <a:buFont typeface="Symbol" charset="2"/>
                <a:buChar char=""/>
              </a:pPr>
              <a:r>
                <a:rPr b="0" lang="zh-CN" sz="1800" spc="-1" strike="noStrike">
                  <a:solidFill>
                    <a:schemeClr val="accent5">
                      <a:lumMod val="50000"/>
                    </a:schemeClr>
                  </a:solidFill>
                  <a:latin typeface="微软雅黑"/>
                  <a:ea typeface="微软雅黑"/>
                </a:rPr>
                <a:t>完整填写职业网站的主页，确保信息及时更新；</a:t>
              </a:r>
              <a:endParaRPr b="0" lang="en-US" sz="1800" spc="-1" strike="noStrike">
                <a:solidFill>
                  <a:srgbClr val="000000"/>
                </a:solidFill>
                <a:latin typeface="Arial"/>
              </a:endParaRPr>
            </a:p>
          </p:txBody>
        </p:sp>
        <p:sp>
          <p:nvSpPr>
            <p:cNvPr id="285" name="直角上箭头 12"/>
            <p:cNvSpPr/>
            <p:nvPr/>
          </p:nvSpPr>
          <p:spPr>
            <a:xfrm rot="5400000">
              <a:off x="5252760" y="4798440"/>
              <a:ext cx="920520" cy="1047960"/>
            </a:xfrm>
            <a:prstGeom prst="bentUpArrow">
              <a:avLst>
                <a:gd name="adj1" fmla="val 32840"/>
                <a:gd name="adj2" fmla="val 25000"/>
                <a:gd name="adj3" fmla="val 35780"/>
              </a:avLst>
            </a:prstGeom>
            <a:solidFill>
              <a:srgbClr val="d1deef"/>
            </a:solidFill>
            <a:ln>
              <a:solidFill>
                <a:srgbClr val="528cc1"/>
              </a:solidFill>
            </a:ln>
          </p:spPr>
          <p:style>
            <a:lnRef idx="2">
              <a:schemeClr val="accent1">
                <a:shade val="80000"/>
                <a:hueOff val="0"/>
                <a:satOff val="0"/>
                <a:lumOff val="0"/>
                <a:alphaOff val="0"/>
              </a:schemeClr>
            </a:lnRef>
            <a:fillRef idx="1">
              <a:schemeClr val="accent1">
                <a:tint val="40000"/>
                <a:hueOff val="0"/>
                <a:satOff val="0"/>
                <a:lumOff val="0"/>
                <a:alphaOff val="0"/>
              </a:schemeClr>
            </a:fillRef>
            <a:effectRef idx="0">
              <a:schemeClr val="accent1">
                <a:tint val="40000"/>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任意多边形 13"/>
            <p:cNvSpPr/>
            <p:nvPr/>
          </p:nvSpPr>
          <p:spPr>
            <a:xfrm>
              <a:off x="5008320" y="3777480"/>
              <a:ext cx="1550160" cy="1084680"/>
            </a:xfrm>
            <a:custGeom>
              <a:avLst/>
              <a:gdLst>
                <a:gd name="textAreaLeft" fmla="*/ 0 w 1550160"/>
                <a:gd name="textAreaRight" fmla="*/ 1550520 w 1550160"/>
                <a:gd name="textAreaTop" fmla="*/ 0 h 1084680"/>
                <a:gd name="textAreaBottom" fmla="*/ 1085040 h 1084680"/>
              </a:gdLst>
              <a:ahLst/>
              <a:rect l="textAreaLeft" t="textAreaTop" r="textAreaRight" b="textAreaBottom"/>
              <a:pathLst>
                <a:path w="1550343" h="1085190">
                  <a:moveTo>
                    <a:pt x="0" y="180901"/>
                  </a:moveTo>
                  <a:cubicBezTo>
                    <a:pt x="0" y="80992"/>
                    <a:pt x="80992" y="0"/>
                    <a:pt x="180901" y="0"/>
                  </a:cubicBezTo>
                  <a:lnTo>
                    <a:pt x="1369442" y="0"/>
                  </a:lnTo>
                  <a:cubicBezTo>
                    <a:pt x="1469351" y="0"/>
                    <a:pt x="1550343" y="80992"/>
                    <a:pt x="1550343" y="180901"/>
                  </a:cubicBezTo>
                  <a:lnTo>
                    <a:pt x="1550343" y="904289"/>
                  </a:lnTo>
                  <a:cubicBezTo>
                    <a:pt x="1550343" y="1004198"/>
                    <a:pt x="1469351" y="1085190"/>
                    <a:pt x="1369442" y="1085190"/>
                  </a:cubicBezTo>
                  <a:lnTo>
                    <a:pt x="180901" y="1085190"/>
                  </a:lnTo>
                  <a:cubicBezTo>
                    <a:pt x="80992" y="1085190"/>
                    <a:pt x="0" y="1004198"/>
                    <a:pt x="0" y="904289"/>
                  </a:cubicBezTo>
                  <a:lnTo>
                    <a:pt x="0" y="180901"/>
                  </a:lnTo>
                  <a:close/>
                </a:path>
              </a:pathLst>
            </a:custGeom>
            <a:solidFill>
              <a:srgbClr val="ffffff"/>
            </a:solidFill>
            <a:ln>
              <a:solidFill>
                <a:srgbClr val="528cc1"/>
              </a:solidFill>
            </a:ln>
          </p:spPr>
          <p:style>
            <a:lnRef idx="2">
              <a:schemeClr val="accent1">
                <a:shade val="80000"/>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numCol="1" spcCol="1440" lIns="186480" rIns="186480" tIns="186480" bIns="186480" anchor="ctr">
              <a:noAutofit/>
            </a:bodyPr>
            <a:p>
              <a:pPr algn="ctr">
                <a:lnSpc>
                  <a:spcPct val="90000"/>
                </a:lnSpc>
                <a:spcAft>
                  <a:spcPts val="1225"/>
                </a:spcAft>
              </a:pPr>
              <a:r>
                <a:rPr b="0" lang="zh-CN" sz="3500" spc="-1" strike="noStrike">
                  <a:solidFill>
                    <a:srgbClr val="c60139"/>
                  </a:solidFill>
                  <a:latin typeface="微软雅黑"/>
                  <a:ea typeface="微软雅黑"/>
                </a:rPr>
                <a:t>扩展</a:t>
              </a:r>
              <a:endParaRPr b="0" lang="en-US" sz="3500" spc="-1" strike="noStrike">
                <a:solidFill>
                  <a:srgbClr val="000000"/>
                </a:solidFill>
                <a:latin typeface="Arial"/>
              </a:endParaRPr>
            </a:p>
          </p:txBody>
        </p:sp>
        <p:sp>
          <p:nvSpPr>
            <p:cNvPr id="287" name="任意多边形 14"/>
            <p:cNvSpPr/>
            <p:nvPr/>
          </p:nvSpPr>
          <p:spPr>
            <a:xfrm>
              <a:off x="6558840" y="3880800"/>
              <a:ext cx="1898280" cy="876600"/>
            </a:xfrm>
            <a:custGeom>
              <a:avLst/>
              <a:gdLst>
                <a:gd name="textAreaLeft" fmla="*/ 0 w 1898280"/>
                <a:gd name="textAreaRight" fmla="*/ 1898640 w 1898280"/>
                <a:gd name="textAreaTop" fmla="*/ 0 h 876600"/>
                <a:gd name="textAreaBottom" fmla="*/ 876960 h 876600"/>
              </a:gdLst>
              <a:ahLst/>
              <a:rect l="textAreaLeft" t="textAreaTop" r="textAreaRight" b="textAreaBottom"/>
              <a:pathLst>
                <a:path w="1127572" h="877098">
                  <a:moveTo>
                    <a:pt x="0" y="0"/>
                  </a:moveTo>
                  <a:lnTo>
                    <a:pt x="1127572" y="0"/>
                  </a:lnTo>
                  <a:lnTo>
                    <a:pt x="1127572" y="877098"/>
                  </a:lnTo>
                  <a:lnTo>
                    <a:pt x="0" y="877098"/>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45720" rIns="45720" anchor="ctr">
              <a:noAutofit/>
            </a:bodyPr>
            <a:p>
              <a:pPr lvl="1" marL="57240" indent="-57240" algn="just">
                <a:lnSpc>
                  <a:spcPct val="90000"/>
                </a:lnSpc>
                <a:spcAft>
                  <a:spcPts val="269"/>
                </a:spcAft>
                <a:buClr>
                  <a:srgbClr val="203864"/>
                </a:buClr>
                <a:buFont typeface="Symbol" charset="2"/>
                <a:buChar char=""/>
              </a:pPr>
              <a:r>
                <a:rPr b="0" lang="zh-CN" sz="1800" spc="-1" strike="noStrike">
                  <a:solidFill>
                    <a:schemeClr val="accent5">
                      <a:lumMod val="50000"/>
                    </a:schemeClr>
                  </a:solidFill>
                  <a:latin typeface="微软雅黑"/>
                  <a:ea typeface="微软雅黑"/>
                </a:rPr>
                <a:t>开通博客、微博，在优酷土豆上传视频；</a:t>
              </a:r>
              <a:endParaRPr b="0" lang="en-US" sz="1800" spc="-1" strike="noStrike">
                <a:solidFill>
                  <a:srgbClr val="000000"/>
                </a:solidFill>
                <a:latin typeface="Arial"/>
              </a:endParaRPr>
            </a:p>
          </p:txBody>
        </p:sp>
        <p:sp>
          <p:nvSpPr>
            <p:cNvPr id="288" name="任意多边形 15"/>
            <p:cNvSpPr/>
            <p:nvPr/>
          </p:nvSpPr>
          <p:spPr>
            <a:xfrm>
              <a:off x="6293880" y="4996440"/>
              <a:ext cx="1550160" cy="1084680"/>
            </a:xfrm>
            <a:custGeom>
              <a:avLst/>
              <a:gdLst>
                <a:gd name="textAreaLeft" fmla="*/ 0 w 1550160"/>
                <a:gd name="textAreaRight" fmla="*/ 1550520 w 1550160"/>
                <a:gd name="textAreaTop" fmla="*/ 0 h 1084680"/>
                <a:gd name="textAreaBottom" fmla="*/ 1085040 h 1084680"/>
              </a:gdLst>
              <a:ahLst/>
              <a:rect l="textAreaLeft" t="textAreaTop" r="textAreaRight" b="textAreaBottom"/>
              <a:pathLst>
                <a:path w="1550343" h="1085190">
                  <a:moveTo>
                    <a:pt x="0" y="180901"/>
                  </a:moveTo>
                  <a:cubicBezTo>
                    <a:pt x="0" y="80992"/>
                    <a:pt x="80992" y="0"/>
                    <a:pt x="180901" y="0"/>
                  </a:cubicBezTo>
                  <a:lnTo>
                    <a:pt x="1369442" y="0"/>
                  </a:lnTo>
                  <a:cubicBezTo>
                    <a:pt x="1469351" y="0"/>
                    <a:pt x="1550343" y="80992"/>
                    <a:pt x="1550343" y="180901"/>
                  </a:cubicBezTo>
                  <a:lnTo>
                    <a:pt x="1550343" y="904289"/>
                  </a:lnTo>
                  <a:cubicBezTo>
                    <a:pt x="1550343" y="1004198"/>
                    <a:pt x="1469351" y="1085190"/>
                    <a:pt x="1369442" y="1085190"/>
                  </a:cubicBezTo>
                  <a:lnTo>
                    <a:pt x="180901" y="1085190"/>
                  </a:lnTo>
                  <a:cubicBezTo>
                    <a:pt x="80992" y="1085190"/>
                    <a:pt x="0" y="1004198"/>
                    <a:pt x="0" y="904289"/>
                  </a:cubicBezTo>
                  <a:lnTo>
                    <a:pt x="0" y="180901"/>
                  </a:lnTo>
                  <a:close/>
                </a:path>
              </a:pathLst>
            </a:custGeom>
            <a:solidFill>
              <a:srgbClr val="ffffff"/>
            </a:solidFill>
            <a:ln>
              <a:solidFill>
                <a:srgbClr val="528cc1"/>
              </a:solidFill>
            </a:ln>
          </p:spPr>
          <p:style>
            <a:lnRef idx="2">
              <a:schemeClr val="accent1">
                <a:shade val="80000"/>
                <a:hueOff val="0"/>
                <a:satOff val="0"/>
                <a:lumOff val="0"/>
                <a:alphaOff val="0"/>
              </a:schemeClr>
            </a:lnRef>
            <a:fillRef idx="1">
              <a:schemeClr val="lt1">
                <a:hueOff val="0"/>
                <a:satOff val="0"/>
                <a:lumOff val="0"/>
                <a:alphaOff val="0"/>
              </a:schemeClr>
            </a:fillRef>
            <a:effectRef idx="0">
              <a:schemeClr val="lt1">
                <a:hueOff val="0"/>
                <a:satOff val="0"/>
                <a:lumOff val="0"/>
                <a:alphaOff val="0"/>
              </a:schemeClr>
            </a:effectRef>
            <a:fontRef idx="minor"/>
          </p:style>
          <p:txBody>
            <a:bodyPr numCol="1" spcCol="1440" lIns="186480" rIns="186480" tIns="186480" bIns="186480" anchor="ctr">
              <a:noAutofit/>
            </a:bodyPr>
            <a:p>
              <a:pPr algn="ctr">
                <a:lnSpc>
                  <a:spcPct val="90000"/>
                </a:lnSpc>
                <a:spcAft>
                  <a:spcPts val="1225"/>
                </a:spcAft>
              </a:pPr>
              <a:r>
                <a:rPr b="0" lang="zh-CN" sz="3500" spc="-1" strike="noStrike">
                  <a:solidFill>
                    <a:srgbClr val="c60139"/>
                  </a:solidFill>
                  <a:latin typeface="微软雅黑"/>
                  <a:ea typeface="微软雅黑"/>
                </a:rPr>
                <a:t>增加</a:t>
              </a:r>
              <a:endParaRPr b="0" lang="en-US" sz="3500" spc="-1" strike="noStrike">
                <a:solidFill>
                  <a:srgbClr val="000000"/>
                </a:solidFill>
                <a:latin typeface="Arial"/>
              </a:endParaRPr>
            </a:p>
          </p:txBody>
        </p:sp>
        <p:sp>
          <p:nvSpPr>
            <p:cNvPr id="289" name="任意多边形 16"/>
            <p:cNvSpPr/>
            <p:nvPr/>
          </p:nvSpPr>
          <p:spPr>
            <a:xfrm>
              <a:off x="7844040" y="5099760"/>
              <a:ext cx="1909800" cy="876600"/>
            </a:xfrm>
            <a:custGeom>
              <a:avLst/>
              <a:gdLst>
                <a:gd name="textAreaLeft" fmla="*/ 0 w 1909800"/>
                <a:gd name="textAreaRight" fmla="*/ 1910160 w 1909800"/>
                <a:gd name="textAreaTop" fmla="*/ 0 h 876600"/>
                <a:gd name="textAreaBottom" fmla="*/ 876960 h 876600"/>
              </a:gdLst>
              <a:ahLst/>
              <a:rect l="textAreaLeft" t="textAreaTop" r="textAreaRight" b="textAreaBottom"/>
              <a:pathLst>
                <a:path w="1127572" h="877098">
                  <a:moveTo>
                    <a:pt x="0" y="0"/>
                  </a:moveTo>
                  <a:lnTo>
                    <a:pt x="1127572" y="0"/>
                  </a:lnTo>
                  <a:lnTo>
                    <a:pt x="1127572" y="877098"/>
                  </a:lnTo>
                  <a:lnTo>
                    <a:pt x="0" y="877098"/>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60840" rIns="60840" tIns="60840" bIns="60840" anchor="ctr">
              <a:noAutofit/>
            </a:bodyPr>
            <a:p>
              <a:pPr lvl="1" marL="114480" indent="-114480">
                <a:lnSpc>
                  <a:spcPct val="90000"/>
                </a:lnSpc>
                <a:spcAft>
                  <a:spcPts val="269"/>
                </a:spcAft>
                <a:buClr>
                  <a:srgbClr val="203864"/>
                </a:buClr>
                <a:buFont typeface="Symbol" charset="2"/>
                <a:buChar char=""/>
              </a:pPr>
              <a:r>
                <a:rPr b="0" lang="zh-CN" sz="1800" spc="-1" strike="noStrike">
                  <a:solidFill>
                    <a:schemeClr val="accent5">
                      <a:lumMod val="50000"/>
                    </a:schemeClr>
                  </a:solidFill>
                  <a:latin typeface="微软雅黑"/>
                  <a:ea typeface="微软雅黑"/>
                </a:rPr>
                <a:t>附一份老式简历，贴在网上；</a:t>
              </a:r>
              <a:endParaRPr b="0" lang="en-US" sz="1800" spc="-1" strike="noStrike">
                <a:solidFill>
                  <a:srgbClr val="000000"/>
                </a:solidFill>
                <a:latin typeface="Arial"/>
              </a:endParaRPr>
            </a:p>
          </p:txBody>
        </p:sp>
      </p:grpSp>
      <p:pic>
        <p:nvPicPr>
          <p:cNvPr id="290" name="图片 17" descr=""/>
          <p:cNvPicPr/>
          <p:nvPr/>
        </p:nvPicPr>
        <p:blipFill>
          <a:blip r:embed="rId1"/>
          <a:stretch/>
        </p:blipFill>
        <p:spPr>
          <a:xfrm flipH="1">
            <a:off x="640440" y="374040"/>
            <a:ext cx="921240" cy="921240"/>
          </a:xfrm>
          <a:prstGeom prst="rect">
            <a:avLst/>
          </a:prstGeom>
          <a:ln w="0">
            <a:noFill/>
          </a:ln>
        </p:spPr>
      </p:pic>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文本框 2"/>
          <p:cNvSpPr/>
          <p:nvPr/>
        </p:nvSpPr>
        <p:spPr>
          <a:xfrm>
            <a:off x="2422080" y="573480"/>
            <a:ext cx="415260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给“前</a:t>
            </a:r>
            <a:r>
              <a:rPr b="0" lang="en-US" sz="2800" spc="-1" strike="noStrike">
                <a:solidFill>
                  <a:srgbClr val="2777d8"/>
                </a:solidFill>
                <a:latin typeface="华康俪金黑W8(P)"/>
                <a:ea typeface="华康俪金黑W8(P)"/>
              </a:rPr>
              <a:t>Google</a:t>
            </a:r>
            <a:r>
              <a:rPr b="0" lang="zh-CN" sz="2800" spc="-1" strike="noStrike">
                <a:solidFill>
                  <a:srgbClr val="2777d8"/>
                </a:solidFill>
                <a:latin typeface="华康俪金黑W8(P)"/>
                <a:ea typeface="华康俪金黑W8(P)"/>
              </a:rPr>
              <a:t>时代”简历的</a:t>
            </a:r>
            <a:r>
              <a:rPr b="0" lang="zh-CN" sz="2800" spc="-1" strike="noStrike">
                <a:solidFill>
                  <a:srgbClr val="c60139"/>
                </a:solidFill>
                <a:latin typeface="华康俪金黑W8(P)"/>
                <a:ea typeface="华康俪金黑W8(P)"/>
              </a:rPr>
              <a:t>友情提示</a:t>
            </a:r>
            <a:endParaRPr b="0" lang="en-US" sz="2800" spc="-1" strike="noStrike">
              <a:solidFill>
                <a:srgbClr val="000000"/>
              </a:solidFill>
              <a:latin typeface="Arial"/>
            </a:endParaRPr>
          </a:p>
        </p:txBody>
      </p:sp>
      <p:grpSp>
        <p:nvGrpSpPr>
          <p:cNvPr id="292" name="组合 12"/>
          <p:cNvGrpSpPr/>
          <p:nvPr/>
        </p:nvGrpSpPr>
        <p:grpSpPr>
          <a:xfrm>
            <a:off x="-4520880" y="486360"/>
            <a:ext cx="15542280" cy="6779160"/>
            <a:chOff x="-4520880" y="486360"/>
            <a:chExt cx="15542280" cy="6779160"/>
          </a:xfrm>
        </p:grpSpPr>
        <p:grpSp>
          <p:nvGrpSpPr>
            <p:cNvPr id="293" name="图示 4"/>
            <p:cNvGrpSpPr/>
            <p:nvPr/>
          </p:nvGrpSpPr>
          <p:grpSpPr>
            <a:xfrm>
              <a:off x="-4520880" y="486360"/>
              <a:ext cx="15542280" cy="6779160"/>
              <a:chOff x="-4520880" y="486360"/>
              <a:chExt cx="15542280" cy="6779160"/>
            </a:xfrm>
          </p:grpSpPr>
          <p:sp>
            <p:nvSpPr>
              <p:cNvPr id="294" name=""/>
              <p:cNvSpPr/>
              <p:nvPr/>
            </p:nvSpPr>
            <p:spPr>
              <a:xfrm>
                <a:off x="1170000" y="1357920"/>
                <a:ext cx="9851400" cy="503604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4520880" y="486360"/>
                <a:ext cx="6779160" cy="6779160"/>
              </a:xfrm>
              <a:prstGeom prst="blockArc">
                <a:avLst>
                  <a:gd name="adj1" fmla="val 18900000"/>
                  <a:gd name="adj2" fmla="val 2700000"/>
                  <a:gd name="adj3" fmla="val 319"/>
                </a:avLst>
              </a:prstGeom>
              <a:noFill/>
              <a:ln>
                <a:solidFill>
                  <a:srgbClr val="5b9bd5">
                    <a:shade val="60000"/>
                    <a:hueOff val="0"/>
                    <a:satOff val="0"/>
                    <a:lumOff val="0"/>
                    <a:alphaOff val="0"/>
                  </a:srgbClr>
                </a:solidFill>
              </a:ln>
              <a:scene3d>
                <a:camera prst="orthographicFront"/>
                <a:lightRig dir="t" rig="flat"/>
              </a:scene3d>
              <a:sp3d prstMaterial="matte"/>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1523520" y="1586880"/>
                <a:ext cx="943092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50760" tIns="50760" bIns="50760" anchor="ctr">
                <a:noAutofit/>
              </a:bodyPr>
              <a:p>
                <a:pPr>
                  <a:lnSpc>
                    <a:spcPct val="90000"/>
                  </a:lnSpc>
                  <a:spcAft>
                    <a:spcPts val="700"/>
                  </a:spcAft>
                </a:pPr>
                <a:r>
                  <a:rPr b="0" lang="zh-CN" sz="2000" spc="-1" strike="noStrike">
                    <a:solidFill>
                      <a:schemeClr val="accent5">
                        <a:lumMod val="50000"/>
                      </a:schemeClr>
                    </a:solidFill>
                    <a:latin typeface="微软雅黑"/>
                    <a:ea typeface="微软雅黑"/>
                  </a:rPr>
                  <a:t>投简历时注意隐私，不要让人找出你工作生活的信息；</a:t>
                </a:r>
                <a:endParaRPr b="0" lang="en-US" sz="2000" spc="-1" strike="noStrike">
                  <a:solidFill>
                    <a:srgbClr val="000000"/>
                  </a:solidFill>
                  <a:latin typeface="Arial"/>
                </a:endParaRPr>
              </a:p>
            </p:txBody>
          </p:sp>
          <p:sp>
            <p:nvSpPr>
              <p:cNvPr id="297" name=""/>
              <p:cNvSpPr/>
              <p:nvPr/>
            </p:nvSpPr>
            <p:spPr>
              <a:xfrm>
                <a:off x="1237320" y="152964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1937880" y="2273760"/>
                <a:ext cx="901656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50760" tIns="50760" bIns="50760" anchor="ctr">
                <a:noAutofit/>
              </a:bodyPr>
              <a:p>
                <a:pPr>
                  <a:lnSpc>
                    <a:spcPct val="90000"/>
                  </a:lnSpc>
                  <a:spcAft>
                    <a:spcPts val="700"/>
                  </a:spcAft>
                </a:pPr>
                <a:r>
                  <a:rPr b="0" lang="zh-CN" sz="2000" spc="-1" strike="noStrike">
                    <a:solidFill>
                      <a:schemeClr val="accent5">
                        <a:lumMod val="50000"/>
                      </a:schemeClr>
                    </a:solidFill>
                    <a:latin typeface="微软雅黑"/>
                    <a:ea typeface="微软雅黑"/>
                  </a:rPr>
                  <a:t>发</a:t>
                </a:r>
                <a:r>
                  <a:rPr b="0" lang="en-US" sz="2000" spc="-1" strike="noStrike">
                    <a:solidFill>
                      <a:schemeClr val="accent5">
                        <a:lumMod val="50000"/>
                      </a:schemeClr>
                    </a:solidFill>
                    <a:latin typeface="微软雅黑"/>
                    <a:ea typeface="微软雅黑"/>
                  </a:rPr>
                  <a:t>E-mail</a:t>
                </a:r>
                <a:r>
                  <a:rPr b="0" lang="zh-CN" sz="2000" spc="-1" strike="noStrike">
                    <a:solidFill>
                      <a:schemeClr val="accent5">
                        <a:lumMod val="50000"/>
                      </a:schemeClr>
                    </a:solidFill>
                    <a:latin typeface="微软雅黑"/>
                    <a:ea typeface="微软雅黑"/>
                  </a:rPr>
                  <a:t>时将简历添加到正文</a:t>
                </a:r>
                <a:r>
                  <a:rPr b="0" lang="en-US" sz="2000" spc="-1" strike="noStrike">
                    <a:solidFill>
                      <a:schemeClr val="accent5">
                        <a:lumMod val="50000"/>
                      </a:schemeClr>
                    </a:solidFill>
                    <a:latin typeface="微软雅黑"/>
                    <a:ea typeface="微软雅黑"/>
                  </a:rPr>
                  <a:t>,</a:t>
                </a:r>
                <a:r>
                  <a:rPr b="0" lang="zh-CN" sz="2000" spc="-1" strike="noStrike">
                    <a:solidFill>
                      <a:schemeClr val="accent5">
                        <a:lumMod val="50000"/>
                      </a:schemeClr>
                    </a:solidFill>
                    <a:latin typeface="微软雅黑"/>
                    <a:ea typeface="微软雅黑"/>
                  </a:rPr>
                  <a:t>同时邮寄一份漂亮的打印版，注意纸张质量；</a:t>
                </a:r>
                <a:endParaRPr b="0" lang="en-US" sz="2000" spc="-1" strike="noStrike">
                  <a:solidFill>
                    <a:srgbClr val="000000"/>
                  </a:solidFill>
                  <a:latin typeface="Arial"/>
                </a:endParaRPr>
              </a:p>
            </p:txBody>
          </p:sp>
          <p:sp>
            <p:nvSpPr>
              <p:cNvPr id="299" name=""/>
              <p:cNvSpPr/>
              <p:nvPr/>
            </p:nvSpPr>
            <p:spPr>
              <a:xfrm>
                <a:off x="1651680" y="221652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2165040" y="2960280"/>
                <a:ext cx="878940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50760" tIns="50760" bIns="50760" anchor="ctr">
                <a:noAutofit/>
              </a:bodyPr>
              <a:p>
                <a:pPr>
                  <a:lnSpc>
                    <a:spcPct val="90000"/>
                  </a:lnSpc>
                  <a:spcAft>
                    <a:spcPts val="700"/>
                  </a:spcAft>
                </a:pPr>
                <a:r>
                  <a:rPr b="0" lang="zh-CN" sz="2000" spc="-1" strike="noStrike">
                    <a:solidFill>
                      <a:schemeClr val="accent5">
                        <a:lumMod val="50000"/>
                      </a:schemeClr>
                    </a:solidFill>
                    <a:latin typeface="微软雅黑"/>
                    <a:ea typeface="微软雅黑"/>
                  </a:rPr>
                  <a:t>简历目的要清晰，整合信息；</a:t>
                </a:r>
                <a:endParaRPr b="0" lang="en-US" sz="2000" spc="-1" strike="noStrike">
                  <a:solidFill>
                    <a:srgbClr val="000000"/>
                  </a:solidFill>
                  <a:latin typeface="Arial"/>
                </a:endParaRPr>
              </a:p>
            </p:txBody>
          </p:sp>
          <p:sp>
            <p:nvSpPr>
              <p:cNvPr id="301" name=""/>
              <p:cNvSpPr/>
              <p:nvPr/>
            </p:nvSpPr>
            <p:spPr>
              <a:xfrm>
                <a:off x="1878840" y="290304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
              <p:cNvSpPr/>
              <p:nvPr/>
            </p:nvSpPr>
            <p:spPr>
              <a:xfrm>
                <a:off x="2237400" y="3647160"/>
                <a:ext cx="871668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50760" tIns="50760" bIns="50760" anchor="ctr">
                <a:noAutofit/>
              </a:bodyPr>
              <a:p>
                <a:pPr>
                  <a:lnSpc>
                    <a:spcPct val="90000"/>
                  </a:lnSpc>
                  <a:spcAft>
                    <a:spcPts val="700"/>
                  </a:spcAft>
                </a:pPr>
                <a:r>
                  <a:rPr b="0" lang="zh-CN" sz="2000" spc="-1" strike="noStrike">
                    <a:solidFill>
                      <a:schemeClr val="accent5">
                        <a:lumMod val="50000"/>
                      </a:schemeClr>
                    </a:solidFill>
                    <a:latin typeface="微软雅黑"/>
                    <a:ea typeface="微软雅黑"/>
                  </a:rPr>
                  <a:t>简历的目的是争取面试机会，推销自己；</a:t>
                </a:r>
                <a:endParaRPr b="0" lang="en-US" sz="2000" spc="-1" strike="noStrike">
                  <a:solidFill>
                    <a:srgbClr val="000000"/>
                  </a:solidFill>
                  <a:latin typeface="Arial"/>
                </a:endParaRPr>
              </a:p>
            </p:txBody>
          </p:sp>
          <p:sp>
            <p:nvSpPr>
              <p:cNvPr id="303" name=""/>
              <p:cNvSpPr/>
              <p:nvPr/>
            </p:nvSpPr>
            <p:spPr>
              <a:xfrm>
                <a:off x="1951560" y="358992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304" name=""/>
              <p:cNvSpPr/>
              <p:nvPr/>
            </p:nvSpPr>
            <p:spPr>
              <a:xfrm>
                <a:off x="2165040" y="4334040"/>
                <a:ext cx="878940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50760" tIns="50760" bIns="50760" anchor="ctr">
                <a:noAutofit/>
              </a:bodyPr>
              <a:p>
                <a:pPr>
                  <a:lnSpc>
                    <a:spcPct val="90000"/>
                  </a:lnSpc>
                  <a:spcAft>
                    <a:spcPts val="700"/>
                  </a:spcAft>
                </a:pPr>
                <a:r>
                  <a:rPr b="0" lang="zh-CN" sz="2000" spc="-1" strike="noStrike">
                    <a:solidFill>
                      <a:schemeClr val="accent5">
                        <a:lumMod val="50000"/>
                      </a:schemeClr>
                    </a:solidFill>
                    <a:latin typeface="微软雅黑"/>
                    <a:ea typeface="微软雅黑"/>
                  </a:rPr>
                  <a:t>不简历里提及看不见或不明显的残疾；</a:t>
                </a:r>
                <a:endParaRPr b="0" lang="en-US" sz="2000" spc="-1" strike="noStrike">
                  <a:solidFill>
                    <a:srgbClr val="000000"/>
                  </a:solidFill>
                  <a:latin typeface="Arial"/>
                </a:endParaRPr>
              </a:p>
            </p:txBody>
          </p:sp>
          <p:sp>
            <p:nvSpPr>
              <p:cNvPr id="305" name=""/>
              <p:cNvSpPr/>
              <p:nvPr/>
            </p:nvSpPr>
            <p:spPr>
              <a:xfrm>
                <a:off x="1878840" y="427680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1937880" y="5020560"/>
                <a:ext cx="901656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45720" anchor="ctr">
                <a:noAutofit/>
              </a:bodyPr>
              <a:p>
                <a:pPr>
                  <a:lnSpc>
                    <a:spcPct val="90000"/>
                  </a:lnSpc>
                  <a:spcAft>
                    <a:spcPts val="629"/>
                  </a:spcAft>
                </a:pPr>
                <a:r>
                  <a:rPr b="0" lang="zh-CN" sz="1800" spc="-1" strike="noStrike">
                    <a:solidFill>
                      <a:schemeClr val="accent5">
                        <a:lumMod val="50000"/>
                      </a:schemeClr>
                    </a:solidFill>
                    <a:latin typeface="微软雅黑"/>
                    <a:ea typeface="微软雅黑"/>
                  </a:rPr>
                  <a:t>发简历时如果没有目标雇主，“关键词”很重要；</a:t>
                </a:r>
                <a:endParaRPr b="0" lang="en-US" sz="1800" spc="-1" strike="noStrike">
                  <a:solidFill>
                    <a:srgbClr val="000000"/>
                  </a:solidFill>
                  <a:latin typeface="Arial"/>
                </a:endParaRPr>
              </a:p>
            </p:txBody>
          </p:sp>
          <p:sp>
            <p:nvSpPr>
              <p:cNvPr id="307" name=""/>
              <p:cNvSpPr/>
              <p:nvPr/>
            </p:nvSpPr>
            <p:spPr>
              <a:xfrm>
                <a:off x="1651680" y="496332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1523520" y="5707440"/>
                <a:ext cx="9430920" cy="457200"/>
              </a:xfrm>
              <a:prstGeom prst="rect">
                <a:avLst/>
              </a:prstGeom>
              <a:gradFill rotWithShape="0">
                <a:gsLst>
                  <a:gs pos="50000">
                    <a:srgbClr val="ffffff"/>
                  </a:gs>
                  <a:gs pos="100000">
                    <a:srgbClr val="e2e2e2"/>
                  </a:gs>
                </a:gsLst>
                <a:lin ang="5400000"/>
              </a:gradFill>
              <a:ln w="0">
                <a:noFill/>
              </a:ln>
              <a:scene3d>
                <a:camera prst="orthographicFront"/>
                <a:lightRig dir="t" rig="flat"/>
              </a:scene3d>
              <a:sp3d prstMaterial="plastic">
                <a:bevelT w="120900" h="88900"/>
                <a:bevelB prst="angle" w="88900" h="31750"/>
              </a:sp3d>
            </p:spPr>
            <p:style>
              <a:lnRef idx="0"/>
              <a:fillRef idx="0"/>
              <a:effectRef idx="2"/>
              <a:fontRef idx="minor"/>
            </p:style>
            <p:txBody>
              <a:bodyPr numCol="1" spcCol="1440" lIns="363240" rIns="45720" anchor="ctr">
                <a:noAutofit/>
              </a:bodyPr>
              <a:p>
                <a:pPr>
                  <a:lnSpc>
                    <a:spcPct val="90000"/>
                  </a:lnSpc>
                  <a:spcAft>
                    <a:spcPts val="629"/>
                  </a:spcAft>
                </a:pPr>
                <a:r>
                  <a:rPr b="0" lang="zh-CN" sz="1800" spc="-1" strike="noStrike">
                    <a:solidFill>
                      <a:schemeClr val="accent5">
                        <a:lumMod val="50000"/>
                      </a:schemeClr>
                    </a:solidFill>
                    <a:latin typeface="微软雅黑"/>
                    <a:ea typeface="微软雅黑"/>
                  </a:rPr>
                  <a:t>别把推荐信放在简历里；</a:t>
                </a:r>
                <a:endParaRPr b="0" lang="en-US" sz="1800" spc="-1" strike="noStrike">
                  <a:solidFill>
                    <a:srgbClr val="000000"/>
                  </a:solidFill>
                  <a:latin typeface="Arial"/>
                </a:endParaRPr>
              </a:p>
            </p:txBody>
          </p:sp>
          <p:sp>
            <p:nvSpPr>
              <p:cNvPr id="309" name=""/>
              <p:cNvSpPr/>
              <p:nvPr/>
            </p:nvSpPr>
            <p:spPr>
              <a:xfrm>
                <a:off x="1237320" y="5650200"/>
                <a:ext cx="571680" cy="571680"/>
              </a:xfrm>
              <a:prstGeom prst="ellipse">
                <a:avLst/>
              </a:prstGeom>
              <a:solidFill>
                <a:schemeClr val="lt1">
                  <a:hueOff val="0"/>
                  <a:satOff val="0"/>
                  <a:lumOff val="0"/>
                  <a:alphaOff val="0"/>
                </a:schemeClr>
              </a:solidFill>
              <a:ln>
                <a:solidFill>
                  <a:srgbClr val="5b9bd5">
                    <a:hueOff val="0"/>
                    <a:satOff val="0"/>
                    <a:lumOff val="0"/>
                    <a:alphaOff val="0"/>
                  </a:srgbClr>
                </a:solidFill>
              </a:ln>
              <a:scene3d>
                <a:camera prst="orthographicFront"/>
                <a:lightRig dir="t" rig="flat"/>
              </a:scene3d>
              <a:sp3d extrusionH="12700" z="190500" prstMaterial="plastic">
                <a:bevelT w="50800" h="50800"/>
              </a:sp3d>
            </p:spPr>
            <p:style>
              <a:lnRef idx="1"/>
              <a:fillRef idx="0"/>
              <a:effectRef idx="2"/>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310" name="文本框 5"/>
            <p:cNvSpPr/>
            <p:nvPr/>
          </p:nvSpPr>
          <p:spPr>
            <a:xfrm>
              <a:off x="1276920" y="145584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1</a:t>
              </a:r>
              <a:endParaRPr b="0" lang="en-US" sz="4000" spc="-1" strike="noStrike">
                <a:solidFill>
                  <a:srgbClr val="000000"/>
                </a:solidFill>
                <a:latin typeface="Arial"/>
              </a:endParaRPr>
            </a:p>
          </p:txBody>
        </p:sp>
        <p:sp>
          <p:nvSpPr>
            <p:cNvPr id="311" name="文本框 6"/>
            <p:cNvSpPr/>
            <p:nvPr/>
          </p:nvSpPr>
          <p:spPr>
            <a:xfrm>
              <a:off x="1709280" y="214164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2</a:t>
              </a:r>
              <a:endParaRPr b="0" lang="en-US" sz="4000" spc="-1" strike="noStrike">
                <a:solidFill>
                  <a:srgbClr val="000000"/>
                </a:solidFill>
                <a:latin typeface="Arial"/>
              </a:endParaRPr>
            </a:p>
          </p:txBody>
        </p:sp>
        <p:sp>
          <p:nvSpPr>
            <p:cNvPr id="312" name="文本框 7"/>
            <p:cNvSpPr/>
            <p:nvPr/>
          </p:nvSpPr>
          <p:spPr>
            <a:xfrm>
              <a:off x="1939320" y="283068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3</a:t>
              </a:r>
              <a:endParaRPr b="0" lang="en-US" sz="4000" spc="-1" strike="noStrike">
                <a:solidFill>
                  <a:srgbClr val="000000"/>
                </a:solidFill>
                <a:latin typeface="Arial"/>
              </a:endParaRPr>
            </a:p>
          </p:txBody>
        </p:sp>
        <p:sp>
          <p:nvSpPr>
            <p:cNvPr id="313" name="文本框 8"/>
            <p:cNvSpPr/>
            <p:nvPr/>
          </p:nvSpPr>
          <p:spPr>
            <a:xfrm>
              <a:off x="1967400" y="349740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4</a:t>
              </a:r>
              <a:endParaRPr b="0" lang="en-US" sz="4000" spc="-1" strike="noStrike">
                <a:solidFill>
                  <a:srgbClr val="000000"/>
                </a:solidFill>
                <a:latin typeface="Arial"/>
              </a:endParaRPr>
            </a:p>
          </p:txBody>
        </p:sp>
        <p:sp>
          <p:nvSpPr>
            <p:cNvPr id="314" name="文本框 9"/>
            <p:cNvSpPr/>
            <p:nvPr/>
          </p:nvSpPr>
          <p:spPr>
            <a:xfrm>
              <a:off x="1276920" y="557532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7</a:t>
              </a:r>
              <a:endParaRPr b="0" lang="en-US" sz="4000" spc="-1" strike="noStrike">
                <a:solidFill>
                  <a:srgbClr val="000000"/>
                </a:solidFill>
                <a:latin typeface="Arial"/>
              </a:endParaRPr>
            </a:p>
          </p:txBody>
        </p:sp>
        <p:sp>
          <p:nvSpPr>
            <p:cNvPr id="315" name="文本框 10"/>
            <p:cNvSpPr/>
            <p:nvPr/>
          </p:nvSpPr>
          <p:spPr>
            <a:xfrm>
              <a:off x="1709280" y="489060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6</a:t>
              </a:r>
              <a:endParaRPr b="0" lang="en-US" sz="4000" spc="-1" strike="noStrike">
                <a:solidFill>
                  <a:srgbClr val="000000"/>
                </a:solidFill>
                <a:latin typeface="Arial"/>
              </a:endParaRPr>
            </a:p>
          </p:txBody>
        </p:sp>
        <p:sp>
          <p:nvSpPr>
            <p:cNvPr id="316" name="文本框 11"/>
            <p:cNvSpPr/>
            <p:nvPr/>
          </p:nvSpPr>
          <p:spPr>
            <a:xfrm>
              <a:off x="1939320" y="4224240"/>
              <a:ext cx="4705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c60139"/>
                  </a:solidFill>
                  <a:latin typeface="Broadway"/>
                </a:rPr>
                <a:t>5</a:t>
              </a:r>
              <a:endParaRPr b="0" lang="en-US" sz="4000" spc="-1" strike="noStrike">
                <a:solidFill>
                  <a:srgbClr val="000000"/>
                </a:solidFill>
                <a:latin typeface="Arial"/>
              </a:endParaRPr>
            </a:p>
          </p:txBody>
        </p:sp>
      </p:grpSp>
      <p:pic>
        <p:nvPicPr>
          <p:cNvPr id="317" name="图片 13" descr=""/>
          <p:cNvPicPr/>
          <p:nvPr/>
        </p:nvPicPr>
        <p:blipFill>
          <a:blip r:embed="rId1"/>
          <a:stretch/>
        </p:blipFill>
        <p:spPr>
          <a:xfrm flipH="1">
            <a:off x="640440" y="374040"/>
            <a:ext cx="921240" cy="921240"/>
          </a:xfrm>
          <a:prstGeom prst="rect">
            <a:avLst/>
          </a:prstGeom>
          <a:ln w="0">
            <a:noFill/>
          </a:ln>
        </p:spPr>
      </p:pic>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本框 2"/>
          <p:cNvSpPr/>
          <p:nvPr/>
        </p:nvSpPr>
        <p:spPr>
          <a:xfrm>
            <a:off x="2145960" y="573480"/>
            <a:ext cx="18878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求职面试十大</a:t>
            </a:r>
            <a:r>
              <a:rPr b="0" lang="zh-CN" sz="2800" spc="-1" strike="noStrike">
                <a:solidFill>
                  <a:srgbClr val="c60139"/>
                </a:solidFill>
                <a:latin typeface="华康俪金黑W8(P)"/>
                <a:ea typeface="华康俪金黑W8(P)"/>
              </a:rPr>
              <a:t>错误</a:t>
            </a:r>
            <a:endParaRPr b="0" lang="en-US" sz="2800" spc="-1" strike="noStrike">
              <a:solidFill>
                <a:srgbClr val="000000"/>
              </a:solidFill>
              <a:latin typeface="Arial"/>
            </a:endParaRPr>
          </a:p>
        </p:txBody>
      </p:sp>
      <p:sp>
        <p:nvSpPr>
          <p:cNvPr id="319" name="文本框 3"/>
          <p:cNvSpPr/>
          <p:nvPr/>
        </p:nvSpPr>
        <p:spPr>
          <a:xfrm>
            <a:off x="3683520" y="1419120"/>
            <a:ext cx="2887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2060"/>
                </a:solidFill>
                <a:latin typeface="方正粗宋简体"/>
                <a:ea typeface="方正粗宋简体"/>
              </a:rPr>
              <a:t>只找大公司（如世界</a:t>
            </a:r>
            <a:r>
              <a:rPr b="0" lang="en-US" sz="2400" spc="-1" strike="noStrike">
                <a:solidFill>
                  <a:srgbClr val="002060"/>
                </a:solidFill>
                <a:latin typeface="方正粗宋简体"/>
                <a:ea typeface="方正粗宋简体"/>
              </a:rPr>
              <a:t>500</a:t>
            </a:r>
            <a:r>
              <a:rPr b="0" lang="zh-CN" sz="2400" spc="-1" strike="noStrike">
                <a:solidFill>
                  <a:srgbClr val="002060"/>
                </a:solidFill>
                <a:latin typeface="方正粗宋简体"/>
                <a:ea typeface="方正粗宋简体"/>
              </a:rPr>
              <a:t>强）</a:t>
            </a:r>
            <a:endParaRPr b="0" lang="en-US" sz="2400" spc="-1" strike="noStrike">
              <a:solidFill>
                <a:srgbClr val="000000"/>
              </a:solidFill>
              <a:latin typeface="Arial"/>
            </a:endParaRPr>
          </a:p>
        </p:txBody>
      </p:sp>
      <p:pic>
        <p:nvPicPr>
          <p:cNvPr id="320" name="图片 4" descr=""/>
          <p:cNvPicPr/>
          <p:nvPr/>
        </p:nvPicPr>
        <p:blipFill>
          <a:blip r:embed="rId1"/>
          <a:stretch/>
        </p:blipFill>
        <p:spPr>
          <a:xfrm flipH="1">
            <a:off x="640440" y="374040"/>
            <a:ext cx="921240" cy="921240"/>
          </a:xfrm>
          <a:prstGeom prst="rect">
            <a:avLst/>
          </a:prstGeom>
          <a:ln w="0">
            <a:noFill/>
          </a:ln>
        </p:spPr>
      </p:pic>
      <p:cxnSp>
        <p:nvCxnSpPr>
          <p:cNvPr id="321" name="直接连接符 53"/>
          <p:cNvCxnSpPr/>
          <p:nvPr/>
        </p:nvCxnSpPr>
        <p:spPr>
          <a:xfrm flipH="1">
            <a:off x="8590320" y="10876680"/>
            <a:ext cx="741960" cy="752760"/>
          </a:xfrm>
          <a:prstGeom prst="straightConnector1">
            <a:avLst/>
          </a:prstGeom>
          <a:ln w="38100">
            <a:solidFill>
              <a:srgbClr val="2777d8"/>
            </a:solidFill>
          </a:ln>
        </p:spPr>
      </p:cxnSp>
      <p:grpSp>
        <p:nvGrpSpPr>
          <p:cNvPr id="322" name="组合 57"/>
          <p:cNvGrpSpPr/>
          <p:nvPr/>
        </p:nvGrpSpPr>
        <p:grpSpPr>
          <a:xfrm>
            <a:off x="1753560" y="1438560"/>
            <a:ext cx="989640" cy="5180760"/>
            <a:chOff x="1753560" y="1438560"/>
            <a:chExt cx="989640" cy="5180760"/>
          </a:xfrm>
        </p:grpSpPr>
        <p:grpSp>
          <p:nvGrpSpPr>
            <p:cNvPr id="323" name="组合 55"/>
            <p:cNvGrpSpPr/>
            <p:nvPr/>
          </p:nvGrpSpPr>
          <p:grpSpPr>
            <a:xfrm>
              <a:off x="1801080" y="1438560"/>
              <a:ext cx="942120" cy="5180760"/>
              <a:chOff x="1801080" y="1438560"/>
              <a:chExt cx="942120" cy="5180760"/>
            </a:xfrm>
          </p:grpSpPr>
          <p:cxnSp>
            <p:nvCxnSpPr>
              <p:cNvPr id="324" name="直接连接符 49"/>
              <p:cNvCxnSpPr/>
              <p:nvPr/>
            </p:nvCxnSpPr>
            <p:spPr>
              <a:xfrm flipH="1">
                <a:off x="2030760" y="5843160"/>
                <a:ext cx="538920" cy="546840"/>
              </a:xfrm>
              <a:prstGeom prst="straightConnector1">
                <a:avLst/>
              </a:prstGeom>
              <a:ln w="38100">
                <a:solidFill>
                  <a:srgbClr val="2777d8"/>
                </a:solidFill>
              </a:ln>
            </p:spPr>
          </p:cxnSp>
          <p:cxnSp>
            <p:nvCxnSpPr>
              <p:cNvPr id="325" name="直接连接符 54"/>
              <p:cNvCxnSpPr/>
              <p:nvPr/>
            </p:nvCxnSpPr>
            <p:spPr>
              <a:xfrm>
                <a:off x="1937520" y="4245480"/>
                <a:ext cx="702000" cy="702000"/>
              </a:xfrm>
              <a:prstGeom prst="straightConnector1">
                <a:avLst/>
              </a:prstGeom>
              <a:ln w="38100">
                <a:solidFill>
                  <a:srgbClr val="2777d8"/>
                </a:solidFill>
              </a:ln>
            </p:spPr>
          </p:cxnSp>
          <p:cxnSp>
            <p:nvCxnSpPr>
              <p:cNvPr id="326" name="直接连接符 52"/>
              <p:cNvCxnSpPr/>
              <p:nvPr/>
            </p:nvCxnSpPr>
            <p:spPr>
              <a:xfrm>
                <a:off x="1868040" y="5206680"/>
                <a:ext cx="701640" cy="702000"/>
              </a:xfrm>
              <a:prstGeom prst="straightConnector1">
                <a:avLst/>
              </a:prstGeom>
              <a:ln w="38100">
                <a:solidFill>
                  <a:srgbClr val="2777d8"/>
                </a:solidFill>
              </a:ln>
            </p:spPr>
          </p:cxnSp>
          <p:cxnSp>
            <p:nvCxnSpPr>
              <p:cNvPr id="327" name="直接连接符 48"/>
              <p:cNvCxnSpPr/>
              <p:nvPr/>
            </p:nvCxnSpPr>
            <p:spPr>
              <a:xfrm flipH="1">
                <a:off x="1984320" y="4800960"/>
                <a:ext cx="539280" cy="546840"/>
              </a:xfrm>
              <a:prstGeom prst="straightConnector1">
                <a:avLst/>
              </a:prstGeom>
              <a:ln w="38100">
                <a:solidFill>
                  <a:srgbClr val="2777d8"/>
                </a:solidFill>
              </a:ln>
            </p:spPr>
          </p:cxnSp>
          <p:cxnSp>
            <p:nvCxnSpPr>
              <p:cNvPr id="328" name="直接连接符 47"/>
              <p:cNvCxnSpPr/>
              <p:nvPr/>
            </p:nvCxnSpPr>
            <p:spPr>
              <a:xfrm flipH="1">
                <a:off x="1974960" y="3748680"/>
                <a:ext cx="538920" cy="546840"/>
              </a:xfrm>
              <a:prstGeom prst="straightConnector1">
                <a:avLst/>
              </a:prstGeom>
              <a:ln w="38100">
                <a:solidFill>
                  <a:srgbClr val="2777d8"/>
                </a:solidFill>
              </a:ln>
            </p:spPr>
          </p:cxnSp>
          <p:cxnSp>
            <p:nvCxnSpPr>
              <p:cNvPr id="329" name="直接连接符 50"/>
              <p:cNvCxnSpPr/>
              <p:nvPr/>
            </p:nvCxnSpPr>
            <p:spPr>
              <a:xfrm>
                <a:off x="1932840" y="3172680"/>
                <a:ext cx="701640" cy="702000"/>
              </a:xfrm>
              <a:prstGeom prst="straightConnector1">
                <a:avLst/>
              </a:prstGeom>
              <a:ln w="38100">
                <a:solidFill>
                  <a:srgbClr val="2777d8"/>
                </a:solidFill>
              </a:ln>
            </p:spPr>
          </p:cxnSp>
          <p:cxnSp>
            <p:nvCxnSpPr>
              <p:cNvPr id="330" name="直接连接符 46"/>
              <p:cNvCxnSpPr/>
              <p:nvPr/>
            </p:nvCxnSpPr>
            <p:spPr>
              <a:xfrm flipH="1">
                <a:off x="2017800" y="2688120"/>
                <a:ext cx="538920" cy="546840"/>
              </a:xfrm>
              <a:prstGeom prst="straightConnector1">
                <a:avLst/>
              </a:prstGeom>
              <a:ln w="38100">
                <a:solidFill>
                  <a:srgbClr val="2777d8"/>
                </a:solidFill>
              </a:ln>
            </p:spPr>
          </p:cxnSp>
          <p:cxnSp>
            <p:nvCxnSpPr>
              <p:cNvPr id="331" name="直接连接符 45"/>
              <p:cNvCxnSpPr/>
              <p:nvPr/>
            </p:nvCxnSpPr>
            <p:spPr>
              <a:xfrm>
                <a:off x="1932840" y="2130120"/>
                <a:ext cx="701640" cy="702000"/>
              </a:xfrm>
              <a:prstGeom prst="straightConnector1">
                <a:avLst/>
              </a:prstGeom>
              <a:ln w="38100">
                <a:solidFill>
                  <a:srgbClr val="2777d8"/>
                </a:solidFill>
              </a:ln>
            </p:spPr>
          </p:cxnSp>
          <p:cxnSp>
            <p:nvCxnSpPr>
              <p:cNvPr id="332" name="直接连接符 42"/>
              <p:cNvCxnSpPr/>
              <p:nvPr/>
            </p:nvCxnSpPr>
            <p:spPr>
              <a:xfrm flipH="1">
                <a:off x="1991520" y="1649880"/>
                <a:ext cx="538920" cy="546840"/>
              </a:xfrm>
              <a:prstGeom prst="straightConnector1">
                <a:avLst/>
              </a:prstGeom>
              <a:ln w="38100">
                <a:solidFill>
                  <a:srgbClr val="2777d8"/>
                </a:solidFill>
              </a:ln>
            </p:spPr>
          </p:cxnSp>
          <p:sp>
            <p:nvSpPr>
              <p:cNvPr id="333" name="椭圆 17"/>
              <p:cNvSpPr/>
              <p:nvPr/>
            </p:nvSpPr>
            <p:spPr>
              <a:xfrm>
                <a:off x="2272320" y="143856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1</a:t>
                </a:r>
                <a:endParaRPr b="0" lang="en-US" sz="2400" spc="-1" strike="noStrike">
                  <a:solidFill>
                    <a:srgbClr val="000000"/>
                  </a:solidFill>
                  <a:latin typeface="Arial"/>
                </a:endParaRPr>
              </a:p>
            </p:txBody>
          </p:sp>
          <p:sp>
            <p:nvSpPr>
              <p:cNvPr id="334" name="椭圆 32"/>
              <p:cNvSpPr/>
              <p:nvPr/>
            </p:nvSpPr>
            <p:spPr>
              <a:xfrm>
                <a:off x="2272320" y="248112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3</a:t>
                </a:r>
                <a:endParaRPr b="0" lang="en-US" sz="2400" spc="-1" strike="noStrike">
                  <a:solidFill>
                    <a:srgbClr val="000000"/>
                  </a:solidFill>
                  <a:latin typeface="Arial"/>
                </a:endParaRPr>
              </a:p>
            </p:txBody>
          </p:sp>
          <p:sp>
            <p:nvSpPr>
              <p:cNvPr id="335" name="椭圆 33"/>
              <p:cNvSpPr/>
              <p:nvPr/>
            </p:nvSpPr>
            <p:spPr>
              <a:xfrm>
                <a:off x="2283840" y="352368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5</a:t>
                </a:r>
                <a:endParaRPr b="0" lang="en-US" sz="2400" spc="-1" strike="noStrike">
                  <a:solidFill>
                    <a:srgbClr val="000000"/>
                  </a:solidFill>
                  <a:latin typeface="Arial"/>
                </a:endParaRPr>
              </a:p>
            </p:txBody>
          </p:sp>
          <p:sp>
            <p:nvSpPr>
              <p:cNvPr id="336" name="椭圆 34"/>
              <p:cNvSpPr/>
              <p:nvPr/>
            </p:nvSpPr>
            <p:spPr>
              <a:xfrm>
                <a:off x="2283840" y="456624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7</a:t>
                </a:r>
                <a:endParaRPr b="0" lang="en-US" sz="2400" spc="-1" strike="noStrike">
                  <a:solidFill>
                    <a:srgbClr val="000000"/>
                  </a:solidFill>
                  <a:latin typeface="Arial"/>
                </a:endParaRPr>
              </a:p>
            </p:txBody>
          </p:sp>
          <p:sp>
            <p:nvSpPr>
              <p:cNvPr id="337" name="椭圆 35"/>
              <p:cNvSpPr/>
              <p:nvPr/>
            </p:nvSpPr>
            <p:spPr>
              <a:xfrm>
                <a:off x="2272320" y="560880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9</a:t>
                </a:r>
                <a:endParaRPr b="0" lang="en-US" sz="2400" spc="-1" strike="noStrike">
                  <a:solidFill>
                    <a:srgbClr val="000000"/>
                  </a:solidFill>
                  <a:latin typeface="Arial"/>
                </a:endParaRPr>
              </a:p>
            </p:txBody>
          </p:sp>
          <p:sp>
            <p:nvSpPr>
              <p:cNvPr id="338" name="椭圆 36"/>
              <p:cNvSpPr/>
              <p:nvPr/>
            </p:nvSpPr>
            <p:spPr>
              <a:xfrm>
                <a:off x="1801080" y="199008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2</a:t>
                </a:r>
                <a:endParaRPr b="0" lang="en-US" sz="2400" spc="-1" strike="noStrike">
                  <a:solidFill>
                    <a:srgbClr val="000000"/>
                  </a:solidFill>
                  <a:latin typeface="Arial"/>
                </a:endParaRPr>
              </a:p>
            </p:txBody>
          </p:sp>
          <p:sp>
            <p:nvSpPr>
              <p:cNvPr id="339" name="椭圆 37"/>
              <p:cNvSpPr/>
              <p:nvPr/>
            </p:nvSpPr>
            <p:spPr>
              <a:xfrm>
                <a:off x="1801080" y="303264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4</a:t>
                </a:r>
                <a:endParaRPr b="0" lang="en-US" sz="2400" spc="-1" strike="noStrike">
                  <a:solidFill>
                    <a:srgbClr val="000000"/>
                  </a:solidFill>
                  <a:latin typeface="Arial"/>
                </a:endParaRPr>
              </a:p>
            </p:txBody>
          </p:sp>
          <p:sp>
            <p:nvSpPr>
              <p:cNvPr id="340" name="椭圆 38"/>
              <p:cNvSpPr/>
              <p:nvPr/>
            </p:nvSpPr>
            <p:spPr>
              <a:xfrm>
                <a:off x="1812600" y="407520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6</a:t>
                </a:r>
                <a:endParaRPr b="0" lang="en-US" sz="2400" spc="-1" strike="noStrike">
                  <a:solidFill>
                    <a:srgbClr val="000000"/>
                  </a:solidFill>
                  <a:latin typeface="Arial"/>
                </a:endParaRPr>
              </a:p>
            </p:txBody>
          </p:sp>
          <p:sp>
            <p:nvSpPr>
              <p:cNvPr id="341" name="椭圆 39"/>
              <p:cNvSpPr/>
              <p:nvPr/>
            </p:nvSpPr>
            <p:spPr>
              <a:xfrm>
                <a:off x="1812600" y="511740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2400" spc="-1" strike="noStrike">
                    <a:solidFill>
                      <a:srgbClr val="2777d8"/>
                    </a:solidFill>
                    <a:latin typeface="Broadway-Normal"/>
                  </a:rPr>
                  <a:t>8</a:t>
                </a:r>
                <a:endParaRPr b="0" lang="en-US" sz="2400" spc="-1" strike="noStrike">
                  <a:solidFill>
                    <a:srgbClr val="000000"/>
                  </a:solidFill>
                  <a:latin typeface="Arial"/>
                </a:endParaRPr>
              </a:p>
            </p:txBody>
          </p:sp>
          <p:sp>
            <p:nvSpPr>
              <p:cNvPr id="342" name="椭圆 40"/>
              <p:cNvSpPr/>
              <p:nvPr/>
            </p:nvSpPr>
            <p:spPr>
              <a:xfrm>
                <a:off x="1801080" y="6159960"/>
                <a:ext cx="459360" cy="459360"/>
              </a:xfrm>
              <a:prstGeom prst="ellipse">
                <a:avLst/>
              </a:prstGeom>
              <a:solidFill>
                <a:schemeClr val="bg1"/>
              </a:solidFill>
              <a:ln w="635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sp>
          <p:nvSpPr>
            <p:cNvPr id="343" name="文本框 56"/>
            <p:cNvSpPr/>
            <p:nvPr/>
          </p:nvSpPr>
          <p:spPr>
            <a:xfrm>
              <a:off x="1753560" y="6152760"/>
              <a:ext cx="52848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400" spc="-1" strike="noStrike">
                  <a:solidFill>
                    <a:srgbClr val="2777d8"/>
                  </a:solidFill>
                  <a:latin typeface="Broadway-Normal"/>
                </a:rPr>
                <a:t>10</a:t>
              </a:r>
              <a:endParaRPr b="0" lang="en-US" sz="2400" spc="-1" strike="noStrike">
                <a:solidFill>
                  <a:srgbClr val="000000"/>
                </a:solidFill>
                <a:latin typeface="Arial"/>
              </a:endParaRPr>
            </a:p>
          </p:txBody>
        </p:sp>
      </p:grpSp>
      <p:sp>
        <p:nvSpPr>
          <p:cNvPr id="344" name="文本框 58"/>
          <p:cNvSpPr/>
          <p:nvPr/>
        </p:nvSpPr>
        <p:spPr>
          <a:xfrm>
            <a:off x="3516840" y="2483280"/>
            <a:ext cx="14612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2060"/>
                </a:solidFill>
                <a:latin typeface="方正粗宋简体"/>
                <a:ea typeface="方正粗宋简体"/>
              </a:rPr>
              <a:t>拜访前不做功课</a:t>
            </a:r>
            <a:endParaRPr b="0" lang="en-US" sz="2400" spc="-1" strike="noStrike">
              <a:solidFill>
                <a:srgbClr val="000000"/>
              </a:solidFill>
              <a:latin typeface="Arial"/>
            </a:endParaRPr>
          </a:p>
        </p:txBody>
      </p:sp>
      <p:sp>
        <p:nvSpPr>
          <p:cNvPr id="345" name="文本框 59"/>
          <p:cNvSpPr/>
          <p:nvPr/>
        </p:nvSpPr>
        <p:spPr>
          <a:xfrm>
            <a:off x="3313080" y="1925280"/>
            <a:ext cx="25585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方正粗宋简体"/>
                <a:ea typeface="方正粗宋简体"/>
              </a:rPr>
              <a:t>完全靠自己去拜访想去的公司</a:t>
            </a:r>
            <a:endParaRPr b="0" lang="en-US" sz="2400" spc="-1" strike="noStrike">
              <a:solidFill>
                <a:srgbClr val="000000"/>
              </a:solidFill>
              <a:latin typeface="Arial"/>
            </a:endParaRPr>
          </a:p>
        </p:txBody>
      </p:sp>
      <p:sp>
        <p:nvSpPr>
          <p:cNvPr id="346" name="文本框 60"/>
          <p:cNvSpPr/>
          <p:nvPr/>
        </p:nvSpPr>
        <p:spPr>
          <a:xfrm>
            <a:off x="4062600" y="2989440"/>
            <a:ext cx="4753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方正粗宋简体"/>
                <a:ea typeface="方正粗宋简体"/>
              </a:rPr>
              <a:t>让人力资源部面试你（他们的首要工作是找理由删掉你）</a:t>
            </a:r>
            <a:endParaRPr b="0" lang="en-US" sz="2400" spc="-1" strike="noStrike">
              <a:solidFill>
                <a:srgbClr val="000000"/>
              </a:solidFill>
              <a:latin typeface="Arial"/>
            </a:endParaRPr>
          </a:p>
        </p:txBody>
      </p:sp>
      <p:sp>
        <p:nvSpPr>
          <p:cNvPr id="347" name="文本框 61"/>
          <p:cNvSpPr/>
          <p:nvPr/>
        </p:nvSpPr>
        <p:spPr>
          <a:xfrm>
            <a:off x="3125880" y="4053600"/>
            <a:ext cx="20098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方正粗宋简体"/>
                <a:ea typeface="方正粗宋简体"/>
              </a:rPr>
              <a:t>面试中只讨论你的简历</a:t>
            </a:r>
            <a:endParaRPr b="0" lang="en-US" sz="2400" spc="-1" strike="noStrike">
              <a:solidFill>
                <a:srgbClr val="000000"/>
              </a:solidFill>
              <a:latin typeface="Arial"/>
            </a:endParaRPr>
          </a:p>
        </p:txBody>
      </p:sp>
      <p:sp>
        <p:nvSpPr>
          <p:cNvPr id="348" name="文本框 62"/>
          <p:cNvSpPr/>
          <p:nvPr/>
        </p:nvSpPr>
        <p:spPr>
          <a:xfrm>
            <a:off x="4640760" y="5676120"/>
            <a:ext cx="4753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2060"/>
                </a:solidFill>
                <a:latin typeface="方正粗宋简体"/>
                <a:ea typeface="方正粗宋简体"/>
              </a:rPr>
              <a:t>基本上把自己当作工作乞讨者，卑微祈求雇主赏你份工作</a:t>
            </a:r>
            <a:endParaRPr b="0" lang="en-US" sz="2400" spc="-1" strike="noStrike">
              <a:solidFill>
                <a:srgbClr val="000000"/>
              </a:solidFill>
              <a:latin typeface="Arial"/>
            </a:endParaRPr>
          </a:p>
        </p:txBody>
      </p:sp>
      <p:sp>
        <p:nvSpPr>
          <p:cNvPr id="349" name="文本框 63"/>
          <p:cNvSpPr/>
          <p:nvPr/>
        </p:nvSpPr>
        <p:spPr>
          <a:xfrm>
            <a:off x="4141080" y="3547800"/>
            <a:ext cx="3290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2060"/>
                </a:solidFill>
                <a:latin typeface="方正粗宋简体"/>
                <a:ea typeface="方正粗宋简体"/>
              </a:rPr>
              <a:t>开始面试时不设时间限制，开场白太长</a:t>
            </a:r>
            <a:endParaRPr b="0" lang="en-US" sz="2400" spc="-1" strike="noStrike">
              <a:solidFill>
                <a:srgbClr val="000000"/>
              </a:solidFill>
              <a:latin typeface="Arial"/>
            </a:endParaRPr>
          </a:p>
        </p:txBody>
      </p:sp>
      <p:sp>
        <p:nvSpPr>
          <p:cNvPr id="350" name="文本框 64"/>
          <p:cNvSpPr/>
          <p:nvPr/>
        </p:nvSpPr>
        <p:spPr>
          <a:xfrm>
            <a:off x="3375720" y="5118120"/>
            <a:ext cx="27414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方正粗宋简体"/>
                <a:ea typeface="方正粗宋简体"/>
              </a:rPr>
              <a:t>声称具备某些技能时给不出实例</a:t>
            </a:r>
            <a:endParaRPr b="0" lang="en-US" sz="2400" spc="-1" strike="noStrike">
              <a:solidFill>
                <a:srgbClr val="000000"/>
              </a:solidFill>
              <a:latin typeface="Arial"/>
            </a:endParaRPr>
          </a:p>
        </p:txBody>
      </p:sp>
      <p:sp>
        <p:nvSpPr>
          <p:cNvPr id="351" name="文本框 65"/>
          <p:cNvSpPr/>
          <p:nvPr/>
        </p:nvSpPr>
        <p:spPr>
          <a:xfrm>
            <a:off x="3000960" y="618228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方正粗宋简体"/>
                <a:ea typeface="方正粗宋简体"/>
              </a:rPr>
              <a:t>面试后不写感谢信</a:t>
            </a:r>
            <a:endParaRPr b="0" lang="en-US" sz="2400" spc="-1" strike="noStrike">
              <a:solidFill>
                <a:srgbClr val="000000"/>
              </a:solidFill>
              <a:latin typeface="Arial"/>
            </a:endParaRPr>
          </a:p>
        </p:txBody>
      </p:sp>
      <p:sp>
        <p:nvSpPr>
          <p:cNvPr id="352" name="文本框 66"/>
          <p:cNvSpPr/>
          <p:nvPr/>
        </p:nvSpPr>
        <p:spPr>
          <a:xfrm>
            <a:off x="4515840" y="4611960"/>
            <a:ext cx="4387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2060"/>
                </a:solidFill>
                <a:latin typeface="方正粗宋简体"/>
                <a:ea typeface="方正粗宋简体"/>
              </a:rPr>
              <a:t>整个面试中只讨论你自己及这份工作能给你带来什么</a:t>
            </a:r>
            <a:endParaRPr b="0" lang="en-US" sz="2400" spc="-1" strike="noStrike">
              <a:solidFill>
                <a:srgbClr val="000000"/>
              </a:solidFill>
              <a:latin typeface="Arial"/>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353" name="图片 8" descr=""/>
          <p:cNvPicPr/>
          <p:nvPr/>
        </p:nvPicPr>
        <p:blipFill>
          <a:blip r:embed="rId1"/>
          <a:stretch/>
        </p:blipFill>
        <p:spPr>
          <a:xfrm rot="20452800">
            <a:off x="2939400" y="949320"/>
            <a:ext cx="3455280" cy="3307320"/>
          </a:xfrm>
          <a:prstGeom prst="rect">
            <a:avLst/>
          </a:prstGeom>
          <a:ln w="0">
            <a:noFill/>
          </a:ln>
        </p:spPr>
      </p:pic>
      <p:cxnSp>
        <p:nvCxnSpPr>
          <p:cNvPr id="354" name="直接连接符 4"/>
          <p:cNvCxnSpPr/>
          <p:nvPr/>
        </p:nvCxnSpPr>
        <p:spPr>
          <a:xfrm>
            <a:off x="5344560" y="3992400"/>
            <a:ext cx="360" cy="1790280"/>
          </a:xfrm>
          <a:prstGeom prst="straightConnector1">
            <a:avLst/>
          </a:prstGeom>
          <a:ln w="127000">
            <a:solidFill>
              <a:srgbClr val="5b9bd5"/>
            </a:solidFill>
          </a:ln>
        </p:spPr>
      </p:cxnSp>
      <p:sp>
        <p:nvSpPr>
          <p:cNvPr id="355" name="文本框 5"/>
          <p:cNvSpPr/>
          <p:nvPr/>
        </p:nvSpPr>
        <p:spPr>
          <a:xfrm>
            <a:off x="5990400" y="4518360"/>
            <a:ext cx="310068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5b9bd5"/>
                </a:solidFill>
                <a:latin typeface="方正综艺简体"/>
                <a:ea typeface="方正综艺简体"/>
              </a:rPr>
              <a:t>求职面试的</a:t>
            </a:r>
            <a:r>
              <a:rPr b="0" lang="en-US" sz="4400" spc="-1" strike="noStrike">
                <a:solidFill>
                  <a:srgbClr val="5b9bd5"/>
                </a:solidFill>
                <a:latin typeface="方正综艺简体"/>
                <a:ea typeface="方正综艺简体"/>
              </a:rPr>
              <a:t>16</a:t>
            </a:r>
            <a:r>
              <a:rPr b="0" lang="zh-CN" sz="4400" spc="-1" strike="noStrike">
                <a:solidFill>
                  <a:srgbClr val="5b9bd5"/>
                </a:solidFill>
                <a:latin typeface="方正综艺简体"/>
                <a:ea typeface="方正综艺简体"/>
              </a:rPr>
              <a:t>条</a:t>
            </a:r>
            <a:endParaRPr b="0" lang="en-US" sz="4400" spc="-1" strike="noStrike">
              <a:solidFill>
                <a:srgbClr val="000000"/>
              </a:solidFill>
              <a:latin typeface="Arial"/>
            </a:endParaRPr>
          </a:p>
          <a:p>
            <a:pPr>
              <a:lnSpc>
                <a:spcPct val="100000"/>
              </a:lnSpc>
            </a:pPr>
            <a:r>
              <a:rPr b="0" lang="zh-CN" sz="4400" spc="-1" strike="noStrike">
                <a:solidFill>
                  <a:srgbClr val="c60139"/>
                </a:solidFill>
                <a:latin typeface="方正综艺简体"/>
                <a:ea typeface="方正综艺简体"/>
              </a:rPr>
              <a:t>提示</a:t>
            </a:r>
            <a:endParaRPr b="0" lang="en-US" sz="4400" spc="-1" strike="noStrike">
              <a:solidFill>
                <a:srgbClr val="000000"/>
              </a:solidFill>
              <a:latin typeface="Arial"/>
            </a:endParaRPr>
          </a:p>
        </p:txBody>
      </p:sp>
      <p:sp>
        <p:nvSpPr>
          <p:cNvPr id="356"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357"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1009356496"/>
              </p:ext>
            </p:extLst>
          </p:nvPr>
        </p:nvGraphicFramePr>
        <p:xfrm>
          <a:off x="1036080" y="435960"/>
          <a:ext cx="10128960" cy="19675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1968071109"/>
              </p:ext>
            </p:extLst>
          </p:nvPr>
        </p:nvGraphicFramePr>
        <p:xfrm>
          <a:off x="1031400" y="-6400800"/>
          <a:ext cx="10128960" cy="19675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4018888937"/>
              </p:ext>
            </p:extLst>
          </p:nvPr>
        </p:nvGraphicFramePr>
        <p:xfrm>
          <a:off x="1031400" y="-13240080"/>
          <a:ext cx="10128960" cy="19675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58" name="Text Box 4"/>
          <p:cNvSpPr/>
          <p:nvPr/>
        </p:nvSpPr>
        <p:spPr>
          <a:xfrm>
            <a:off x="259200" y="64612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6"/>
              </a:rPr>
              <a:t>http://www.eeppt.com/moban/</a:t>
            </a:r>
            <a:endParaRPr b="0" lang="en-US" sz="1600" spc="-1" strike="noStrike">
              <a:solidFill>
                <a:srgbClr val="000000"/>
              </a:solidFill>
              <a:latin typeface="Arial"/>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359" name="图片 8" descr=""/>
          <p:cNvPicPr/>
          <p:nvPr/>
        </p:nvPicPr>
        <p:blipFill>
          <a:blip r:embed="rId1"/>
          <a:stretch/>
        </p:blipFill>
        <p:spPr>
          <a:xfrm rot="20452800">
            <a:off x="2939400" y="949320"/>
            <a:ext cx="3455280" cy="3307320"/>
          </a:xfrm>
          <a:prstGeom prst="rect">
            <a:avLst/>
          </a:prstGeom>
          <a:ln w="0">
            <a:noFill/>
          </a:ln>
        </p:spPr>
      </p:pic>
      <p:cxnSp>
        <p:nvCxnSpPr>
          <p:cNvPr id="360" name="直接连接符 4"/>
          <p:cNvCxnSpPr/>
          <p:nvPr/>
        </p:nvCxnSpPr>
        <p:spPr>
          <a:xfrm>
            <a:off x="5344560" y="3992400"/>
            <a:ext cx="360" cy="1790280"/>
          </a:xfrm>
          <a:prstGeom prst="straightConnector1">
            <a:avLst/>
          </a:prstGeom>
          <a:ln w="127000">
            <a:solidFill>
              <a:srgbClr val="5b9bd5"/>
            </a:solidFill>
          </a:ln>
        </p:spPr>
      </p:cxnSp>
      <p:sp>
        <p:nvSpPr>
          <p:cNvPr id="361" name="文本框 5"/>
          <p:cNvSpPr/>
          <p:nvPr/>
        </p:nvSpPr>
        <p:spPr>
          <a:xfrm>
            <a:off x="6246360" y="4518360"/>
            <a:ext cx="252792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5b9bd5"/>
                </a:solidFill>
                <a:latin typeface="方正综艺简体"/>
                <a:ea typeface="方正综艺简体"/>
              </a:rPr>
              <a:t>薪资谈判的六个</a:t>
            </a:r>
            <a:endParaRPr b="0" lang="en-US" sz="4400" spc="-1" strike="noStrike">
              <a:solidFill>
                <a:srgbClr val="000000"/>
              </a:solidFill>
              <a:latin typeface="Arial"/>
            </a:endParaRPr>
          </a:p>
          <a:p>
            <a:pPr>
              <a:lnSpc>
                <a:spcPct val="100000"/>
              </a:lnSpc>
            </a:pPr>
            <a:r>
              <a:rPr b="0" lang="zh-CN" sz="4400" spc="-1" strike="noStrike">
                <a:solidFill>
                  <a:srgbClr val="c60139"/>
                </a:solidFill>
                <a:latin typeface="方正综艺简体"/>
                <a:ea typeface="方正综艺简体"/>
              </a:rPr>
              <a:t>秘密</a:t>
            </a:r>
            <a:endParaRPr b="0" lang="en-US" sz="4400" spc="-1" strike="noStrike">
              <a:solidFill>
                <a:srgbClr val="000000"/>
              </a:solidFill>
              <a:latin typeface="Arial"/>
            </a:endParaRPr>
          </a:p>
        </p:txBody>
      </p:sp>
      <p:sp>
        <p:nvSpPr>
          <p:cNvPr id="362"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363"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
        <p:nvSpPr>
          <p:cNvPr id="364" name="文本框 9"/>
          <p:cNvSpPr/>
          <p:nvPr/>
        </p:nvSpPr>
        <p:spPr>
          <a:xfrm>
            <a:off x="5780520" y="6024240"/>
            <a:ext cx="6307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2777d8"/>
                </a:solidFill>
                <a:latin typeface="微软雅黑"/>
                <a:ea typeface="微软雅黑"/>
              </a:rPr>
              <a:t>【</a:t>
            </a:r>
            <a:r>
              <a:rPr b="0" lang="zh-CN" sz="1800" spc="-1" strike="noStrike">
                <a:solidFill>
                  <a:srgbClr val="2777d8"/>
                </a:solidFill>
                <a:latin typeface="微软雅黑"/>
                <a:ea typeface="微软雅黑"/>
              </a:rPr>
              <a:t>在中国，体制内的单位长期执行国家统一标准，工资变化不大，不建议毕业生谈薪水，工作前了解即可 。</a:t>
            </a:r>
            <a:endParaRPr b="0" lang="en-US" sz="1800" spc="-1" strike="noStrike">
              <a:solidFill>
                <a:srgbClr val="000000"/>
              </a:solidFill>
              <a:latin typeface="Arial"/>
            </a:endParaRPr>
          </a:p>
          <a:p>
            <a:pPr algn="ctr">
              <a:lnSpc>
                <a:spcPct val="100000"/>
              </a:lnSpc>
            </a:pPr>
            <a:r>
              <a:rPr b="0" lang="zh-CN" sz="1800" spc="-1" strike="noStrike">
                <a:solidFill>
                  <a:srgbClr val="2777d8"/>
                </a:solidFill>
                <a:latin typeface="微软雅黑"/>
                <a:ea typeface="微软雅黑"/>
              </a:rPr>
              <a:t>外企和民营企业还有讨价还价的空间】</a:t>
            </a:r>
            <a:endParaRPr b="0" lang="en-US" sz="1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5" descr=""/>
          <p:cNvPicPr/>
          <p:nvPr/>
        </p:nvPicPr>
        <p:blipFill>
          <a:blip r:embed="rId1"/>
          <a:stretch/>
        </p:blipFill>
        <p:spPr>
          <a:xfrm>
            <a:off x="7712280" y="283320"/>
            <a:ext cx="4399920" cy="6600240"/>
          </a:xfrm>
          <a:prstGeom prst="rect">
            <a:avLst/>
          </a:prstGeom>
          <a:ln w="0">
            <a:noFill/>
          </a:ln>
        </p:spPr>
      </p:pic>
      <p:sp>
        <p:nvSpPr>
          <p:cNvPr id="153" name="文本框 6"/>
          <p:cNvSpPr/>
          <p:nvPr/>
        </p:nvSpPr>
        <p:spPr>
          <a:xfrm>
            <a:off x="439560" y="758160"/>
            <a:ext cx="7272360" cy="10818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spcBef>
                <a:spcPts val="901"/>
              </a:spcBef>
              <a:tabLst>
                <a:tab algn="l" pos="0"/>
              </a:tabLst>
            </a:pPr>
            <a:r>
              <a:rPr b="0" lang="zh-CN" sz="2400" spc="-1" strike="noStrike">
                <a:solidFill>
                  <a:schemeClr val="accent5"/>
                </a:solidFill>
                <a:latin typeface="微软雅黑"/>
                <a:ea typeface="微软雅黑"/>
              </a:rPr>
              <a:t>如果有人问我求职读什么书，我的回答是：读那些活了很多很多年的求职书，因为其中一定记录着找到职业这门技术中，真正有价值的、重要的和不变的原则。</a:t>
            </a:r>
            <a:endParaRPr b="0" lang="en-US" sz="2400" spc="-1" strike="noStrike">
              <a:solidFill>
                <a:srgbClr val="000000"/>
              </a:solidFill>
              <a:latin typeface="Arial"/>
            </a:endParaRPr>
          </a:p>
          <a:p>
            <a:pPr algn="just">
              <a:lnSpc>
                <a:spcPct val="120000"/>
              </a:lnSpc>
              <a:spcBef>
                <a:spcPts val="901"/>
              </a:spcBef>
              <a:tabLst>
                <a:tab algn="l" pos="0"/>
              </a:tabLst>
            </a:pPr>
            <a:r>
              <a:rPr b="0" lang="zh-CN" sz="2400" spc="-1" strike="noStrike">
                <a:solidFill>
                  <a:schemeClr val="accent5"/>
                </a:solidFill>
                <a:latin typeface="微软雅黑"/>
                <a:ea typeface="微软雅黑"/>
              </a:rPr>
              <a:t>《你的降落伞是什么颜色？》就是这样一本经久不衰的职场书。你今天看到的大部分教你求职的书籍，几乎都是这本书不同程度的改写版、扩张版。</a:t>
            </a:r>
            <a:endParaRPr b="0" lang="en-US" sz="2400" spc="-1" strike="noStrike">
              <a:solidFill>
                <a:srgbClr val="000000"/>
              </a:solidFill>
              <a:latin typeface="Arial"/>
            </a:endParaRPr>
          </a:p>
        </p:txBody>
      </p:sp>
      <p:sp>
        <p:nvSpPr>
          <p:cNvPr id="154" name="文本框 7"/>
          <p:cNvSpPr/>
          <p:nvPr/>
        </p:nvSpPr>
        <p:spPr>
          <a:xfrm>
            <a:off x="3688920" y="4321800"/>
            <a:ext cx="1964160" cy="760320"/>
          </a:xfrm>
          <a:prstGeom prst="rect">
            <a:avLst/>
          </a:prstGeom>
          <a:noFill/>
          <a:ln w="0">
            <a:noFill/>
          </a:ln>
        </p:spPr>
        <p:style>
          <a:lnRef idx="0"/>
          <a:fillRef idx="0"/>
          <a:effectRef idx="0"/>
          <a:fontRef idx="minor"/>
        </p:style>
        <p:txBody>
          <a:bodyPr wrap="none" lIns="90000" rIns="90000" tIns="45000" bIns="45000" anchor="t">
            <a:spAutoFit/>
          </a:bodyPr>
          <a:p>
            <a:pPr algn="just">
              <a:lnSpc>
                <a:spcPct val="100000"/>
              </a:lnSpc>
            </a:pPr>
            <a:r>
              <a:rPr b="0" lang="en-US" sz="2000" spc="-1" strike="noStrike">
                <a:solidFill>
                  <a:schemeClr val="accent5">
                    <a:lumMod val="50000"/>
                  </a:schemeClr>
                </a:solidFill>
                <a:latin typeface="方正粗宋简体"/>
                <a:ea typeface="方正粗宋简体"/>
              </a:rPr>
              <a:t>——</a:t>
            </a:r>
            <a:r>
              <a:rPr b="0" lang="zh-CN" sz="2000" spc="-1" strike="noStrike">
                <a:solidFill>
                  <a:schemeClr val="accent5">
                    <a:lumMod val="50000"/>
                  </a:schemeClr>
                </a:solidFill>
                <a:latin typeface="方正粗宋简体"/>
                <a:ea typeface="方正粗宋简体"/>
              </a:rPr>
              <a:t>《</a:t>
            </a:r>
            <a:r>
              <a:rPr b="0" lang="zh-CN" sz="2000" spc="-1" strike="noStrike">
                <a:solidFill>
                  <a:schemeClr val="accent5">
                    <a:lumMod val="50000"/>
                  </a:schemeClr>
                </a:solidFill>
                <a:latin typeface="方正粗宋简体"/>
                <a:ea typeface="方正粗宋简体"/>
              </a:rPr>
              <a:t>拆掉思维里的墙》《你的生命有什么可能》作者</a:t>
            </a:r>
            <a:endParaRPr b="0" lang="en-US" sz="2000" spc="-1" strike="noStrike">
              <a:solidFill>
                <a:srgbClr val="000000"/>
              </a:solidFill>
              <a:latin typeface="Arial"/>
            </a:endParaRPr>
          </a:p>
          <a:p>
            <a:pPr algn="just">
              <a:lnSpc>
                <a:spcPct val="100000"/>
              </a:lnSpc>
            </a:pPr>
            <a:r>
              <a:rPr b="0" lang="en-US" sz="2000" spc="-1" strike="noStrike">
                <a:solidFill>
                  <a:schemeClr val="accent5">
                    <a:lumMod val="50000"/>
                  </a:schemeClr>
                </a:solidFill>
                <a:latin typeface="方正粗宋简体"/>
                <a:ea typeface="方正粗宋简体"/>
              </a:rPr>
              <a:t>         </a:t>
            </a:r>
            <a:r>
              <a:rPr b="0" lang="zh-CN" sz="2000" spc="-1" strike="noStrike">
                <a:solidFill>
                  <a:schemeClr val="accent5">
                    <a:lumMod val="50000"/>
                  </a:schemeClr>
                </a:solidFill>
                <a:latin typeface="方正粗宋简体"/>
                <a:ea typeface="方正粗宋简体"/>
              </a:rPr>
              <a:t>新精英总裁 </a:t>
            </a:r>
            <a:r>
              <a:rPr b="0" lang="zh-CN" sz="2400" spc="-1" strike="noStrike">
                <a:solidFill>
                  <a:schemeClr val="accent5">
                    <a:lumMod val="50000"/>
                  </a:schemeClr>
                </a:solidFill>
                <a:latin typeface="方正粗宋简体"/>
                <a:ea typeface="方正粗宋简体"/>
              </a:rPr>
              <a:t>古典</a:t>
            </a:r>
            <a:endParaRPr b="0" lang="en-US" sz="2400" spc="-1" strike="noStrike">
              <a:solidFill>
                <a:srgbClr val="000000"/>
              </a:solidFill>
              <a:latin typeface="Arial"/>
            </a:endParaRPr>
          </a:p>
        </p:txBody>
      </p:sp>
      <p:pic>
        <p:nvPicPr>
          <p:cNvPr id="155" name="图片 2" descr=""/>
          <p:cNvPicPr/>
          <p:nvPr/>
        </p:nvPicPr>
        <p:blipFill>
          <a:blip r:embed="rId2"/>
          <a:srcRect l="48127" t="14438" r="22509" b="62373"/>
          <a:stretch/>
        </p:blipFill>
        <p:spPr>
          <a:xfrm>
            <a:off x="218520" y="173520"/>
            <a:ext cx="2824560" cy="2128680"/>
          </a:xfrm>
          <a:prstGeom prst="rect">
            <a:avLst/>
          </a:prstGeom>
          <a:ln w="0">
            <a:noFill/>
          </a:ln>
        </p:spPr>
      </p:pic>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1"/>
          <p:cNvSpPr/>
          <p:nvPr/>
        </p:nvSpPr>
        <p:spPr>
          <a:xfrm>
            <a:off x="2434320" y="573480"/>
            <a:ext cx="2029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一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366" name="图片 2" descr=""/>
          <p:cNvPicPr/>
          <p:nvPr/>
        </p:nvPicPr>
        <p:blipFill>
          <a:blip r:embed="rId1"/>
          <a:stretch/>
        </p:blipFill>
        <p:spPr>
          <a:xfrm flipH="1">
            <a:off x="640440" y="374040"/>
            <a:ext cx="921240" cy="921240"/>
          </a:xfrm>
          <a:prstGeom prst="rect">
            <a:avLst/>
          </a:prstGeom>
          <a:ln w="0">
            <a:noFill/>
          </a:ln>
        </p:spPr>
      </p:pic>
      <p:sp>
        <p:nvSpPr>
          <p:cNvPr id="367" name="文本框 3"/>
          <p:cNvSpPr/>
          <p:nvPr/>
        </p:nvSpPr>
        <p:spPr>
          <a:xfrm>
            <a:off x="2466360" y="1295640"/>
            <a:ext cx="7259040" cy="5284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chemeClr val="accent5">
                    <a:lumMod val="50000"/>
                  </a:schemeClr>
                </a:solidFill>
                <a:latin typeface="方正粗宋简体"/>
                <a:ea typeface="方正粗宋简体"/>
              </a:rPr>
              <a:t>       </a:t>
            </a:r>
            <a:r>
              <a:rPr b="0" lang="zh-CN" sz="2400" spc="-1" strike="noStrike">
                <a:solidFill>
                  <a:schemeClr val="accent5">
                    <a:lumMod val="50000"/>
                  </a:schemeClr>
                </a:solidFill>
                <a:latin typeface="方正粗宋简体"/>
                <a:ea typeface="方正粗宋简体"/>
              </a:rPr>
              <a:t>绝不要谈论薪水，除非在面试流程结束时，他们明确说想要你。</a:t>
            </a:r>
            <a:endParaRPr b="0" lang="en-US" sz="2400" spc="-1" strike="noStrike">
              <a:solidFill>
                <a:srgbClr val="000000"/>
              </a:solidFill>
              <a:latin typeface="Arial"/>
            </a:endParaRPr>
          </a:p>
        </p:txBody>
      </p:sp>
      <p:grpSp>
        <p:nvGrpSpPr>
          <p:cNvPr id="368" name="组合 40"/>
          <p:cNvGrpSpPr/>
          <p:nvPr/>
        </p:nvGrpSpPr>
        <p:grpSpPr>
          <a:xfrm>
            <a:off x="1491840" y="2316600"/>
            <a:ext cx="9415440" cy="3930480"/>
            <a:chOff x="1491840" y="2316600"/>
            <a:chExt cx="9415440" cy="3930480"/>
          </a:xfrm>
        </p:grpSpPr>
        <p:grpSp>
          <p:nvGrpSpPr>
            <p:cNvPr id="369" name="组合 36"/>
            <p:cNvGrpSpPr/>
            <p:nvPr/>
          </p:nvGrpSpPr>
          <p:grpSpPr>
            <a:xfrm>
              <a:off x="3134880" y="4019040"/>
              <a:ext cx="3685680" cy="1843920"/>
              <a:chOff x="3134880" y="4019040"/>
              <a:chExt cx="3685680" cy="1843920"/>
            </a:xfrm>
          </p:grpSpPr>
          <p:sp>
            <p:nvSpPr>
              <p:cNvPr id="370" name="文本框 27"/>
              <p:cNvSpPr/>
              <p:nvPr/>
            </p:nvSpPr>
            <p:spPr>
              <a:xfrm>
                <a:off x="3134880" y="546840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你是谁？</a:t>
                </a:r>
                <a:endParaRPr b="0" lang="en-US" sz="2000" spc="-1" strike="noStrike">
                  <a:solidFill>
                    <a:srgbClr val="000000"/>
                  </a:solidFill>
                  <a:latin typeface="Arial"/>
                </a:endParaRPr>
              </a:p>
            </p:txBody>
          </p:sp>
          <p:sp>
            <p:nvSpPr>
              <p:cNvPr id="371" name="文本框 28"/>
              <p:cNvSpPr/>
              <p:nvPr/>
            </p:nvSpPr>
            <p:spPr>
              <a:xfrm>
                <a:off x="4034160" y="4966920"/>
                <a:ext cx="943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我们喜欢你</a:t>
                </a:r>
                <a:endParaRPr b="0" lang="en-US" sz="2000" spc="-1" strike="noStrike">
                  <a:solidFill>
                    <a:srgbClr val="000000"/>
                  </a:solidFill>
                  <a:latin typeface="Arial"/>
                </a:endParaRPr>
              </a:p>
            </p:txBody>
          </p:sp>
          <p:sp>
            <p:nvSpPr>
              <p:cNvPr id="372" name="文本框 29"/>
              <p:cNvSpPr/>
              <p:nvPr/>
            </p:nvSpPr>
            <p:spPr>
              <a:xfrm>
                <a:off x="4830840" y="450792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我们爱你</a:t>
                </a:r>
                <a:endParaRPr b="0" lang="en-US" sz="2000" spc="-1" strike="noStrike">
                  <a:solidFill>
                    <a:srgbClr val="000000"/>
                  </a:solidFill>
                  <a:latin typeface="Arial"/>
                </a:endParaRPr>
              </a:p>
            </p:txBody>
          </p:sp>
          <p:sp>
            <p:nvSpPr>
              <p:cNvPr id="373" name="文本框 30"/>
              <p:cNvSpPr/>
              <p:nvPr/>
            </p:nvSpPr>
            <p:spPr>
              <a:xfrm>
                <a:off x="5725080" y="4019040"/>
                <a:ext cx="1095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我们必须要你</a:t>
                </a:r>
                <a:endParaRPr b="0" lang="en-US" sz="2000" spc="-1" strike="noStrike">
                  <a:solidFill>
                    <a:srgbClr val="000000"/>
                  </a:solidFill>
                  <a:latin typeface="Arial"/>
                </a:endParaRPr>
              </a:p>
            </p:txBody>
          </p:sp>
        </p:grpSp>
        <p:grpSp>
          <p:nvGrpSpPr>
            <p:cNvPr id="374" name="组合 39"/>
            <p:cNvGrpSpPr/>
            <p:nvPr/>
          </p:nvGrpSpPr>
          <p:grpSpPr>
            <a:xfrm>
              <a:off x="1491840" y="2316600"/>
              <a:ext cx="9415440" cy="3930480"/>
              <a:chOff x="1491840" y="2316600"/>
              <a:chExt cx="9415440" cy="3930480"/>
            </a:xfrm>
          </p:grpSpPr>
          <p:grpSp>
            <p:nvGrpSpPr>
              <p:cNvPr id="375" name="组合 22"/>
              <p:cNvGrpSpPr/>
              <p:nvPr/>
            </p:nvGrpSpPr>
            <p:grpSpPr>
              <a:xfrm>
                <a:off x="2039400" y="2799360"/>
                <a:ext cx="8140680" cy="3237480"/>
                <a:chOff x="2039400" y="2799360"/>
                <a:chExt cx="8140680" cy="3237480"/>
              </a:xfrm>
            </p:grpSpPr>
            <p:grpSp>
              <p:nvGrpSpPr>
                <p:cNvPr id="376" name="组合 18"/>
                <p:cNvGrpSpPr/>
                <p:nvPr/>
              </p:nvGrpSpPr>
              <p:grpSpPr>
                <a:xfrm>
                  <a:off x="2039400" y="2799360"/>
                  <a:ext cx="8140680" cy="3237480"/>
                  <a:chOff x="2039400" y="2799360"/>
                  <a:chExt cx="8140680" cy="3237480"/>
                </a:xfrm>
              </p:grpSpPr>
              <p:cxnSp>
                <p:nvCxnSpPr>
                  <p:cNvPr id="377" name="直接箭头连接符 5"/>
                  <p:cNvCxnSpPr/>
                  <p:nvPr/>
                </p:nvCxnSpPr>
                <p:spPr>
                  <a:xfrm>
                    <a:off x="2039400" y="6036840"/>
                    <a:ext cx="8141040" cy="360"/>
                  </a:xfrm>
                  <a:prstGeom prst="straightConnector1">
                    <a:avLst/>
                  </a:prstGeom>
                  <a:ln w="25400">
                    <a:solidFill>
                      <a:srgbClr val="2777d8"/>
                    </a:solidFill>
                    <a:tailEnd len="med" type="triangle" w="med"/>
                  </a:ln>
                </p:spPr>
              </p:cxnSp>
              <p:cxnSp>
                <p:nvCxnSpPr>
                  <p:cNvPr id="378" name="直接箭头连接符 8"/>
                  <p:cNvCxnSpPr/>
                  <p:nvPr/>
                </p:nvCxnSpPr>
                <p:spPr>
                  <a:xfrm flipV="1">
                    <a:off x="2039400" y="2799360"/>
                    <a:ext cx="360" cy="3237840"/>
                  </a:xfrm>
                  <a:prstGeom prst="straightConnector1">
                    <a:avLst/>
                  </a:prstGeom>
                  <a:ln w="25400">
                    <a:solidFill>
                      <a:srgbClr val="2777d8"/>
                    </a:solidFill>
                    <a:tailEnd len="med" type="triangle" w="med"/>
                  </a:ln>
                </p:spPr>
              </p:cxnSp>
            </p:grpSp>
            <p:cxnSp>
              <p:nvCxnSpPr>
                <p:cNvPr id="379" name="直接连接符 13"/>
                <p:cNvCxnSpPr/>
                <p:nvPr/>
              </p:nvCxnSpPr>
              <p:spPr>
                <a:xfrm>
                  <a:off x="6109920" y="3708720"/>
                  <a:ext cx="3168000" cy="360"/>
                </a:xfrm>
                <a:prstGeom prst="straightConnector1">
                  <a:avLst/>
                </a:prstGeom>
                <a:ln w="25400">
                  <a:solidFill>
                    <a:srgbClr val="2777d8"/>
                  </a:solidFill>
                </a:ln>
              </p:spPr>
            </p:cxnSp>
            <p:cxnSp>
              <p:nvCxnSpPr>
                <p:cNvPr id="380" name="直接连接符 14"/>
                <p:cNvCxnSpPr/>
                <p:nvPr/>
              </p:nvCxnSpPr>
              <p:spPr>
                <a:xfrm flipV="1">
                  <a:off x="9263520" y="3708720"/>
                  <a:ext cx="360" cy="2328480"/>
                </a:xfrm>
                <a:prstGeom prst="straightConnector1">
                  <a:avLst/>
                </a:prstGeom>
                <a:ln w="25400">
                  <a:solidFill>
                    <a:srgbClr val="2777d8"/>
                  </a:solidFill>
                </a:ln>
              </p:spPr>
            </p:cxnSp>
            <p:cxnSp>
              <p:nvCxnSpPr>
                <p:cNvPr id="381" name="直接连接符 20"/>
                <p:cNvCxnSpPr/>
                <p:nvPr/>
              </p:nvCxnSpPr>
              <p:spPr>
                <a:xfrm flipV="1">
                  <a:off x="2039400" y="3694680"/>
                  <a:ext cx="4070880" cy="2328480"/>
                </a:xfrm>
                <a:prstGeom prst="straightConnector1">
                  <a:avLst/>
                </a:prstGeom>
                <a:ln w="25400">
                  <a:solidFill>
                    <a:srgbClr val="2777d8"/>
                  </a:solidFill>
                </a:ln>
              </p:spPr>
            </p:cxnSp>
          </p:grpSp>
          <p:sp>
            <p:nvSpPr>
              <p:cNvPr id="382" name="文本框 23"/>
              <p:cNvSpPr/>
              <p:nvPr/>
            </p:nvSpPr>
            <p:spPr>
              <a:xfrm>
                <a:off x="10421280" y="5852520"/>
                <a:ext cx="4860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时间</a:t>
                </a:r>
                <a:endParaRPr b="0" lang="en-US" sz="2000" spc="-1" strike="noStrike">
                  <a:solidFill>
                    <a:srgbClr val="000000"/>
                  </a:solidFill>
                  <a:latin typeface="Arial"/>
                </a:endParaRPr>
              </a:p>
            </p:txBody>
          </p:sp>
          <p:sp>
            <p:nvSpPr>
              <p:cNvPr id="383" name="文本框 24"/>
              <p:cNvSpPr/>
              <p:nvPr/>
            </p:nvSpPr>
            <p:spPr>
              <a:xfrm>
                <a:off x="1491840" y="2316600"/>
                <a:ext cx="1095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你讨价的地位</a:t>
                </a:r>
                <a:endParaRPr b="0" lang="en-US" sz="2000" spc="-1" strike="noStrike">
                  <a:solidFill>
                    <a:srgbClr val="000000"/>
                  </a:solidFill>
                  <a:latin typeface="Arial"/>
                </a:endParaRPr>
              </a:p>
            </p:txBody>
          </p:sp>
          <p:sp>
            <p:nvSpPr>
              <p:cNvPr id="384" name="文本框 25"/>
              <p:cNvSpPr/>
              <p:nvPr/>
            </p:nvSpPr>
            <p:spPr>
              <a:xfrm>
                <a:off x="9383040" y="4878360"/>
                <a:ext cx="4860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太晚</a:t>
                </a:r>
                <a:endParaRPr b="0" lang="en-US" sz="2000" spc="-1" strike="noStrike">
                  <a:solidFill>
                    <a:srgbClr val="000000"/>
                  </a:solidFill>
                  <a:latin typeface="Arial"/>
                </a:endParaRPr>
              </a:p>
            </p:txBody>
          </p:sp>
          <p:sp>
            <p:nvSpPr>
              <p:cNvPr id="385" name="文本框 26"/>
              <p:cNvSpPr/>
              <p:nvPr/>
            </p:nvSpPr>
            <p:spPr>
              <a:xfrm>
                <a:off x="8715600" y="3750840"/>
                <a:ext cx="10954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我们得到了你</a:t>
                </a:r>
                <a:endParaRPr b="0" lang="en-US" sz="2000" spc="-1" strike="noStrike">
                  <a:solidFill>
                    <a:srgbClr val="000000"/>
                  </a:solidFill>
                  <a:latin typeface="Arial"/>
                </a:endParaRPr>
              </a:p>
            </p:txBody>
          </p:sp>
          <p:sp>
            <p:nvSpPr>
              <p:cNvPr id="386" name="文本框 31"/>
              <p:cNvSpPr/>
              <p:nvPr/>
            </p:nvSpPr>
            <p:spPr>
              <a:xfrm>
                <a:off x="6581160" y="3265200"/>
                <a:ext cx="790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最佳时机</a:t>
                </a:r>
                <a:endParaRPr b="0" lang="en-US" sz="2000" spc="-1" strike="noStrike">
                  <a:solidFill>
                    <a:srgbClr val="000000"/>
                  </a:solidFill>
                  <a:latin typeface="Arial"/>
                </a:endParaRPr>
              </a:p>
            </p:txBody>
          </p:sp>
          <p:sp>
            <p:nvSpPr>
              <p:cNvPr id="387" name="椭圆 32"/>
              <p:cNvSpPr/>
              <p:nvPr/>
            </p:nvSpPr>
            <p:spPr>
              <a:xfrm>
                <a:off x="2612160" y="5577120"/>
                <a:ext cx="182520" cy="18252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8" name="椭圆 33"/>
              <p:cNvSpPr/>
              <p:nvPr/>
            </p:nvSpPr>
            <p:spPr>
              <a:xfrm>
                <a:off x="3490560" y="5075640"/>
                <a:ext cx="182520" cy="18252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9" name="椭圆 34"/>
              <p:cNvSpPr/>
              <p:nvPr/>
            </p:nvSpPr>
            <p:spPr>
              <a:xfrm>
                <a:off x="4293000" y="4608360"/>
                <a:ext cx="182520" cy="18252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椭圆 35"/>
              <p:cNvSpPr/>
              <p:nvPr/>
            </p:nvSpPr>
            <p:spPr>
              <a:xfrm>
                <a:off x="5194440" y="4090320"/>
                <a:ext cx="182520" cy="18252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1" name="文本框 37"/>
              <p:cNvSpPr/>
              <p:nvPr/>
            </p:nvSpPr>
            <p:spPr>
              <a:xfrm>
                <a:off x="2182680" y="5078520"/>
                <a:ext cx="4860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000" spc="-1" strike="noStrike">
                    <a:solidFill>
                      <a:schemeClr val="accent5">
                        <a:lumMod val="50000"/>
                      </a:schemeClr>
                    </a:solidFill>
                    <a:latin typeface="微软雅黑"/>
                    <a:ea typeface="微软雅黑"/>
                  </a:rPr>
                  <a:t>太早</a:t>
                </a:r>
                <a:endParaRPr b="0" lang="en-US" sz="2000" spc="-1" strike="noStrike">
                  <a:solidFill>
                    <a:srgbClr val="000000"/>
                  </a:solidFill>
                  <a:latin typeface="Arial"/>
                </a:endParaRPr>
              </a:p>
            </p:txBody>
          </p:sp>
          <p:sp>
            <p:nvSpPr>
              <p:cNvPr id="392" name="椭圆 38"/>
              <p:cNvSpPr/>
              <p:nvPr/>
            </p:nvSpPr>
            <p:spPr>
              <a:xfrm>
                <a:off x="9172080" y="3610440"/>
                <a:ext cx="182520" cy="182520"/>
              </a:xfrm>
              <a:prstGeom prst="ellipse">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393" name="文本框 41"/>
          <p:cNvSpPr/>
          <p:nvPr/>
        </p:nvSpPr>
        <p:spPr>
          <a:xfrm>
            <a:off x="5471640" y="6234840"/>
            <a:ext cx="12477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000" spc="-1" strike="noStrike">
                <a:solidFill>
                  <a:schemeClr val="accent5">
                    <a:lumMod val="50000"/>
                  </a:schemeClr>
                </a:solidFill>
                <a:latin typeface="微软雅黑"/>
                <a:ea typeface="微软雅黑"/>
              </a:rPr>
              <a:t>何时做薪资谈判</a:t>
            </a:r>
            <a:endParaRPr b="0" lang="en-US" sz="2000" spc="-1" strike="noStrike">
              <a:solidFill>
                <a:srgbClr val="000000"/>
              </a:solidFill>
              <a:latin typeface="Arial"/>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文本框 1"/>
          <p:cNvSpPr/>
          <p:nvPr/>
        </p:nvSpPr>
        <p:spPr>
          <a:xfrm>
            <a:off x="2291760" y="573480"/>
            <a:ext cx="2314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二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395" name="图片 2" descr=""/>
          <p:cNvPicPr/>
          <p:nvPr/>
        </p:nvPicPr>
        <p:blipFill>
          <a:blip r:embed="rId1"/>
          <a:stretch/>
        </p:blipFill>
        <p:spPr>
          <a:xfrm flipH="1">
            <a:off x="640440" y="374040"/>
            <a:ext cx="921240" cy="921240"/>
          </a:xfrm>
          <a:prstGeom prst="rect">
            <a:avLst/>
          </a:prstGeom>
          <a:ln w="0">
            <a:noFill/>
          </a:ln>
        </p:spPr>
      </p:pic>
      <p:sp>
        <p:nvSpPr>
          <p:cNvPr id="396" name="文本框 3"/>
          <p:cNvSpPr/>
          <p:nvPr/>
        </p:nvSpPr>
        <p:spPr>
          <a:xfrm>
            <a:off x="2883600" y="1295640"/>
            <a:ext cx="6400440" cy="5284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chemeClr val="accent5">
                    <a:lumMod val="50000"/>
                  </a:schemeClr>
                </a:solidFill>
                <a:latin typeface="方正粗宋简体"/>
                <a:ea typeface="方正粗宋简体"/>
              </a:rPr>
              <a:t>       </a:t>
            </a:r>
            <a:r>
              <a:rPr b="0" lang="zh-CN" sz="2400" spc="-1" strike="noStrike">
                <a:solidFill>
                  <a:schemeClr val="accent5">
                    <a:lumMod val="50000"/>
                  </a:schemeClr>
                </a:solidFill>
                <a:latin typeface="方正粗宋简体"/>
                <a:ea typeface="方正粗宋简体"/>
              </a:rPr>
              <a:t>薪资谈判的目的，是发掘出雇主最多愿意给你多少钱。</a:t>
            </a:r>
            <a:endParaRPr b="0" lang="en-US" sz="2400" spc="-1" strike="noStrike">
              <a:solidFill>
                <a:srgbClr val="000000"/>
              </a:solidFill>
              <a:latin typeface="Arial"/>
            </a:endParaRPr>
          </a:p>
        </p:txBody>
      </p:sp>
      <p:grpSp>
        <p:nvGrpSpPr>
          <p:cNvPr id="397" name="组合 10"/>
          <p:cNvGrpSpPr/>
          <p:nvPr/>
        </p:nvGrpSpPr>
        <p:grpSpPr>
          <a:xfrm>
            <a:off x="1624680" y="2916720"/>
            <a:ext cx="8942400" cy="1875600"/>
            <a:chOff x="1624680" y="2916720"/>
            <a:chExt cx="8942400" cy="1875600"/>
          </a:xfrm>
        </p:grpSpPr>
        <p:sp>
          <p:nvSpPr>
            <p:cNvPr id="398" name="文本框 6"/>
            <p:cNvSpPr/>
            <p:nvPr/>
          </p:nvSpPr>
          <p:spPr>
            <a:xfrm>
              <a:off x="1824480" y="2917080"/>
              <a:ext cx="84024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雇主希望支付的最低工资，到能够支付的最高工资的范围有一个区间；</a:t>
              </a:r>
              <a:endParaRPr b="0" lang="en-US" sz="2400" spc="-1" strike="noStrike">
                <a:solidFill>
                  <a:srgbClr val="000000"/>
                </a:solidFill>
                <a:latin typeface="Arial"/>
              </a:endParaRPr>
            </a:p>
          </p:txBody>
        </p:sp>
        <p:sp>
          <p:nvSpPr>
            <p:cNvPr id="399" name="矩形 7"/>
            <p:cNvSpPr/>
            <p:nvPr/>
          </p:nvSpPr>
          <p:spPr>
            <a:xfrm>
              <a:off x="1824480" y="4154040"/>
              <a:ext cx="8742600" cy="6382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chemeClr val="accent5">
                      <a:lumMod val="50000"/>
                    </a:schemeClr>
                  </a:solidFill>
                  <a:latin typeface="微软雅黑"/>
                  <a:ea typeface="微软雅黑"/>
                </a:rPr>
                <a:t>在这个区间，你有权通过谈判，得到他们能提供的最高工资；</a:t>
              </a:r>
              <a:endParaRPr b="0" lang="en-US" sz="2400" spc="-1" strike="noStrike">
                <a:solidFill>
                  <a:srgbClr val="000000"/>
                </a:solidFill>
                <a:latin typeface="Arial"/>
              </a:endParaRPr>
            </a:p>
          </p:txBody>
        </p:sp>
        <p:cxnSp>
          <p:nvCxnSpPr>
            <p:cNvPr id="400" name="直接连接符 8"/>
            <p:cNvCxnSpPr/>
            <p:nvPr/>
          </p:nvCxnSpPr>
          <p:spPr>
            <a:xfrm>
              <a:off x="1624680" y="2916720"/>
              <a:ext cx="360" cy="468000"/>
            </a:xfrm>
            <a:prstGeom prst="straightConnector1">
              <a:avLst/>
            </a:prstGeom>
            <a:ln w="190500">
              <a:solidFill>
                <a:srgbClr val="2777d8"/>
              </a:solidFill>
            </a:ln>
          </p:spPr>
        </p:cxnSp>
        <p:cxnSp>
          <p:nvCxnSpPr>
            <p:cNvPr id="401" name="直接连接符 9"/>
            <p:cNvCxnSpPr/>
            <p:nvPr/>
          </p:nvCxnSpPr>
          <p:spPr>
            <a:xfrm>
              <a:off x="1624680" y="4159080"/>
              <a:ext cx="360" cy="468000"/>
            </a:xfrm>
            <a:prstGeom prst="straightConnector1">
              <a:avLst/>
            </a:prstGeom>
            <a:ln w="190500">
              <a:solidFill>
                <a:srgbClr val="2777d8"/>
              </a:solidFill>
            </a:ln>
          </p:spPr>
        </p:cxnSp>
      </p:gr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文本框 1"/>
          <p:cNvSpPr/>
          <p:nvPr/>
        </p:nvSpPr>
        <p:spPr>
          <a:xfrm>
            <a:off x="2291760" y="573480"/>
            <a:ext cx="2314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三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403" name="图片 2" descr=""/>
          <p:cNvPicPr/>
          <p:nvPr/>
        </p:nvPicPr>
        <p:blipFill>
          <a:blip r:embed="rId1"/>
          <a:stretch/>
        </p:blipFill>
        <p:spPr>
          <a:xfrm flipH="1">
            <a:off x="640440" y="374040"/>
            <a:ext cx="921240" cy="921240"/>
          </a:xfrm>
          <a:prstGeom prst="rect">
            <a:avLst/>
          </a:prstGeom>
          <a:ln w="0">
            <a:noFill/>
          </a:ln>
        </p:spPr>
      </p:pic>
      <p:sp>
        <p:nvSpPr>
          <p:cNvPr id="404" name="矩形 5"/>
          <p:cNvSpPr/>
          <p:nvPr/>
        </p:nvSpPr>
        <p:spPr>
          <a:xfrm>
            <a:off x="4777200" y="1303560"/>
            <a:ext cx="2637720" cy="967320"/>
          </a:xfrm>
          <a:prstGeom prst="rect">
            <a:avLst/>
          </a:prstGeom>
          <a:noFill/>
          <a:ln w="0">
            <a:noFill/>
          </a:ln>
        </p:spPr>
        <p:style>
          <a:lnRef idx="0"/>
          <a:fillRef idx="0"/>
          <a:effectRef idx="0"/>
          <a:fontRef idx="minor"/>
        </p:style>
        <p:txBody>
          <a:bodyPr wrap="none" lIns="90000" rIns="90000" tIns="45000" bIns="45000" anchor="t">
            <a:spAutoFit/>
          </a:bodyPr>
          <a:p>
            <a:pPr>
              <a:lnSpc>
                <a:spcPct val="120000"/>
              </a:lnSpc>
            </a:pPr>
            <a:r>
              <a:rPr b="0" lang="en-US" sz="2400" spc="-1" strike="noStrike">
                <a:solidFill>
                  <a:srgbClr val="203864"/>
                </a:solidFill>
                <a:latin typeface="方正粗宋简体"/>
                <a:ea typeface="方正粗宋简体"/>
              </a:rPr>
              <a:t>       </a:t>
            </a:r>
            <a:r>
              <a:rPr b="0" lang="zh-CN" sz="2400" spc="-1" strike="noStrike">
                <a:solidFill>
                  <a:srgbClr val="203864"/>
                </a:solidFill>
                <a:latin typeface="方正粗宋简体"/>
                <a:ea typeface="方正粗宋简体"/>
              </a:rPr>
              <a:t>薪资谈判中，千万别做</a:t>
            </a:r>
            <a:endParaRPr b="0" lang="en-US" sz="2400" spc="-1" strike="noStrike">
              <a:solidFill>
                <a:srgbClr val="000000"/>
              </a:solidFill>
              <a:latin typeface="Arial"/>
            </a:endParaRPr>
          </a:p>
          <a:p>
            <a:pPr>
              <a:lnSpc>
                <a:spcPct val="120000"/>
              </a:lnSpc>
            </a:pPr>
            <a:r>
              <a:rPr b="0" lang="zh-CN" sz="2400" spc="-1" strike="noStrike">
                <a:solidFill>
                  <a:srgbClr val="203864"/>
                </a:solidFill>
                <a:latin typeface="方正粗宋简体"/>
                <a:ea typeface="方正粗宋简体"/>
              </a:rPr>
              <a:t>先提数字的一方。</a:t>
            </a:r>
            <a:endParaRPr b="0" lang="en-US" sz="2400" spc="-1" strike="noStrike">
              <a:solidFill>
                <a:srgbClr val="000000"/>
              </a:solidFill>
              <a:latin typeface="Arial"/>
            </a:endParaRPr>
          </a:p>
        </p:txBody>
      </p:sp>
      <p:grpSp>
        <p:nvGrpSpPr>
          <p:cNvPr id="405" name="组合 14"/>
          <p:cNvGrpSpPr/>
          <p:nvPr/>
        </p:nvGrpSpPr>
        <p:grpSpPr>
          <a:xfrm>
            <a:off x="1624680" y="2916720"/>
            <a:ext cx="8942400" cy="1523880"/>
            <a:chOff x="1624680" y="2916720"/>
            <a:chExt cx="8942400" cy="1523880"/>
          </a:xfrm>
        </p:grpSpPr>
        <p:sp>
          <p:nvSpPr>
            <p:cNvPr id="406" name="文本框 6"/>
            <p:cNvSpPr/>
            <p:nvPr/>
          </p:nvSpPr>
          <p:spPr>
            <a:xfrm>
              <a:off x="1824480" y="291708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成千上万面试表明：谈判中先提及数字的人，最后通常会输；</a:t>
              </a:r>
              <a:endParaRPr b="0" lang="en-US" sz="2400" spc="-1" strike="noStrike">
                <a:solidFill>
                  <a:srgbClr val="000000"/>
                </a:solidFill>
                <a:latin typeface="Arial"/>
              </a:endParaRPr>
            </a:p>
          </p:txBody>
        </p:sp>
        <p:sp>
          <p:nvSpPr>
            <p:cNvPr id="407" name="矩形 8"/>
            <p:cNvSpPr/>
            <p:nvPr/>
          </p:nvSpPr>
          <p:spPr>
            <a:xfrm>
              <a:off x="1824480" y="380232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rgbClr val="203864"/>
                  </a:solidFill>
                  <a:latin typeface="微软雅黑"/>
                  <a:ea typeface="微软雅黑"/>
                </a:rPr>
                <a:t>若对方要求你先提数字，你可以这样回应：“你们设立了这个职位，那一定对该职位的薪水有所考虑了，我想先听听那个数字。”</a:t>
              </a:r>
              <a:endParaRPr b="0" lang="en-US" sz="2400" spc="-1" strike="noStrike">
                <a:solidFill>
                  <a:srgbClr val="000000"/>
                </a:solidFill>
                <a:latin typeface="Arial"/>
              </a:endParaRPr>
            </a:p>
          </p:txBody>
        </p:sp>
        <p:cxnSp>
          <p:nvCxnSpPr>
            <p:cNvPr id="408" name="直接连接符 10"/>
            <p:cNvCxnSpPr/>
            <p:nvPr/>
          </p:nvCxnSpPr>
          <p:spPr>
            <a:xfrm>
              <a:off x="1624680" y="2916720"/>
              <a:ext cx="360" cy="468000"/>
            </a:xfrm>
            <a:prstGeom prst="straightConnector1">
              <a:avLst/>
            </a:prstGeom>
            <a:ln w="190500">
              <a:solidFill>
                <a:srgbClr val="2777d8"/>
              </a:solidFill>
            </a:ln>
          </p:spPr>
        </p:cxnSp>
        <p:cxnSp>
          <p:nvCxnSpPr>
            <p:cNvPr id="409" name="直接连接符 13"/>
            <p:cNvCxnSpPr/>
            <p:nvPr/>
          </p:nvCxnSpPr>
          <p:spPr>
            <a:xfrm>
              <a:off x="1624680" y="3807360"/>
              <a:ext cx="360" cy="468000"/>
            </a:xfrm>
            <a:prstGeom prst="straightConnector1">
              <a:avLst/>
            </a:prstGeom>
            <a:ln w="190500">
              <a:solidFill>
                <a:srgbClr val="2777d8"/>
              </a:solidFill>
            </a:ln>
          </p:spPr>
        </p:cxnSp>
      </p:gr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文本框 1"/>
          <p:cNvSpPr/>
          <p:nvPr/>
        </p:nvSpPr>
        <p:spPr>
          <a:xfrm>
            <a:off x="2291760" y="573480"/>
            <a:ext cx="2314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四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411" name="图片 2" descr=""/>
          <p:cNvPicPr/>
          <p:nvPr/>
        </p:nvPicPr>
        <p:blipFill>
          <a:blip r:embed="rId1"/>
          <a:stretch/>
        </p:blipFill>
        <p:spPr>
          <a:xfrm flipH="1">
            <a:off x="640440" y="374040"/>
            <a:ext cx="921240" cy="921240"/>
          </a:xfrm>
          <a:prstGeom prst="rect">
            <a:avLst/>
          </a:prstGeom>
          <a:ln w="0">
            <a:noFill/>
          </a:ln>
        </p:spPr>
      </p:pic>
      <p:sp>
        <p:nvSpPr>
          <p:cNvPr id="412" name="文本框 4"/>
          <p:cNvSpPr/>
          <p:nvPr/>
        </p:nvSpPr>
        <p:spPr>
          <a:xfrm>
            <a:off x="2799360" y="1295640"/>
            <a:ext cx="6625800" cy="5284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chemeClr val="accent5">
                    <a:lumMod val="50000"/>
                  </a:schemeClr>
                </a:solidFill>
                <a:latin typeface="方正粗宋简体"/>
                <a:ea typeface="方正粗宋简体"/>
              </a:rPr>
              <a:t>       </a:t>
            </a:r>
            <a:r>
              <a:rPr b="0" lang="zh-CN" sz="2400" spc="-1" strike="noStrike">
                <a:solidFill>
                  <a:schemeClr val="accent5">
                    <a:lumMod val="50000"/>
                  </a:schemeClr>
                </a:solidFill>
                <a:latin typeface="方正粗宋简体"/>
                <a:ea typeface="方正粗宋简体"/>
              </a:rPr>
              <a:t>面试之前，详细调查市场上相关职位，以及目标公司相关职位的薪水状况。</a:t>
            </a:r>
            <a:endParaRPr b="0" lang="en-US" sz="2400" spc="-1" strike="noStrike">
              <a:solidFill>
                <a:srgbClr val="000000"/>
              </a:solidFill>
              <a:latin typeface="Arial"/>
            </a:endParaRPr>
          </a:p>
        </p:txBody>
      </p:sp>
      <p:grpSp>
        <p:nvGrpSpPr>
          <p:cNvPr id="413" name="组合 19"/>
          <p:cNvGrpSpPr/>
          <p:nvPr/>
        </p:nvGrpSpPr>
        <p:grpSpPr>
          <a:xfrm>
            <a:off x="1624680" y="2916720"/>
            <a:ext cx="8942400" cy="1523880"/>
            <a:chOff x="1624680" y="2916720"/>
            <a:chExt cx="8942400" cy="1523880"/>
          </a:xfrm>
        </p:grpSpPr>
        <p:sp>
          <p:nvSpPr>
            <p:cNvPr id="414" name="文本框 20"/>
            <p:cNvSpPr/>
            <p:nvPr/>
          </p:nvSpPr>
          <p:spPr>
            <a:xfrm>
              <a:off x="1824480" y="291708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线上薪资调查：上网，搜寻特定地区的职位、职业、行业；</a:t>
              </a:r>
              <a:endParaRPr b="0" lang="en-US" sz="2400" spc="-1" strike="noStrike">
                <a:solidFill>
                  <a:srgbClr val="000000"/>
                </a:solidFill>
                <a:latin typeface="Arial"/>
              </a:endParaRPr>
            </a:p>
          </p:txBody>
        </p:sp>
        <p:sp>
          <p:nvSpPr>
            <p:cNvPr id="415" name="矩形 21"/>
            <p:cNvSpPr/>
            <p:nvPr/>
          </p:nvSpPr>
          <p:spPr>
            <a:xfrm>
              <a:off x="1824480" y="380232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rgbClr val="203864"/>
                  </a:solidFill>
                  <a:latin typeface="微软雅黑"/>
                  <a:ea typeface="微软雅黑"/>
                </a:rPr>
                <a:t>线下薪资调查：去找人交流，也要调查工资之外的福利待遇；</a:t>
              </a:r>
              <a:endParaRPr b="0" lang="en-US" sz="2400" spc="-1" strike="noStrike">
                <a:solidFill>
                  <a:srgbClr val="000000"/>
                </a:solidFill>
                <a:latin typeface="Arial"/>
              </a:endParaRPr>
            </a:p>
          </p:txBody>
        </p:sp>
        <p:cxnSp>
          <p:nvCxnSpPr>
            <p:cNvPr id="416" name="直接连接符 22"/>
            <p:cNvCxnSpPr/>
            <p:nvPr/>
          </p:nvCxnSpPr>
          <p:spPr>
            <a:xfrm>
              <a:off x="1624680" y="2916720"/>
              <a:ext cx="360" cy="468000"/>
            </a:xfrm>
            <a:prstGeom prst="straightConnector1">
              <a:avLst/>
            </a:prstGeom>
            <a:ln w="190500">
              <a:solidFill>
                <a:srgbClr val="2777d8"/>
              </a:solidFill>
            </a:ln>
          </p:spPr>
        </p:cxnSp>
        <p:cxnSp>
          <p:nvCxnSpPr>
            <p:cNvPr id="417" name="直接连接符 23"/>
            <p:cNvCxnSpPr/>
            <p:nvPr/>
          </p:nvCxnSpPr>
          <p:spPr>
            <a:xfrm>
              <a:off x="1624680" y="3807360"/>
              <a:ext cx="360" cy="468000"/>
            </a:xfrm>
            <a:prstGeom prst="straightConnector1">
              <a:avLst/>
            </a:prstGeom>
            <a:ln w="190500">
              <a:solidFill>
                <a:srgbClr val="2777d8"/>
              </a:solidFill>
            </a:ln>
          </p:spPr>
        </p:cxnSp>
      </p:gr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文本框 1"/>
          <p:cNvSpPr/>
          <p:nvPr/>
        </p:nvSpPr>
        <p:spPr>
          <a:xfrm>
            <a:off x="2291760" y="573480"/>
            <a:ext cx="2314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五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419" name="图片 2" descr=""/>
          <p:cNvPicPr/>
          <p:nvPr/>
        </p:nvPicPr>
        <p:blipFill>
          <a:blip r:embed="rId1"/>
          <a:stretch/>
        </p:blipFill>
        <p:spPr>
          <a:xfrm flipH="1">
            <a:off x="640440" y="374040"/>
            <a:ext cx="921240" cy="921240"/>
          </a:xfrm>
          <a:prstGeom prst="rect">
            <a:avLst/>
          </a:prstGeom>
          <a:ln w="0">
            <a:noFill/>
          </a:ln>
        </p:spPr>
      </p:pic>
      <p:sp>
        <p:nvSpPr>
          <p:cNvPr id="420" name="文本框 3"/>
          <p:cNvSpPr/>
          <p:nvPr/>
        </p:nvSpPr>
        <p:spPr>
          <a:xfrm>
            <a:off x="2883600" y="1295640"/>
            <a:ext cx="6400440" cy="52848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en-US" sz="2400" spc="-1" strike="noStrike">
                <a:solidFill>
                  <a:schemeClr val="accent5">
                    <a:lumMod val="50000"/>
                  </a:schemeClr>
                </a:solidFill>
                <a:latin typeface="方正粗宋简体"/>
                <a:ea typeface="方正粗宋简体"/>
              </a:rPr>
              <a:t>       </a:t>
            </a:r>
            <a:r>
              <a:rPr b="0" lang="zh-CN" sz="2400" spc="-1" strike="noStrike">
                <a:solidFill>
                  <a:schemeClr val="accent5">
                    <a:lumMod val="50000"/>
                  </a:schemeClr>
                </a:solidFill>
                <a:latin typeface="方正粗宋简体"/>
                <a:ea typeface="方正粗宋简体"/>
              </a:rPr>
              <a:t>研究雇主脑海里的薪资区间，根据对方的区间，决定自己的期望区间。</a:t>
            </a:r>
            <a:endParaRPr b="0" lang="en-US" sz="2400" spc="-1" strike="noStrike">
              <a:solidFill>
                <a:srgbClr val="000000"/>
              </a:solidFill>
              <a:latin typeface="Arial"/>
            </a:endParaRPr>
          </a:p>
        </p:txBody>
      </p:sp>
      <p:grpSp>
        <p:nvGrpSpPr>
          <p:cNvPr id="421" name="组合 9"/>
          <p:cNvGrpSpPr/>
          <p:nvPr/>
        </p:nvGrpSpPr>
        <p:grpSpPr>
          <a:xfrm>
            <a:off x="1624680" y="2916720"/>
            <a:ext cx="8942400" cy="1523880"/>
            <a:chOff x="1624680" y="2916720"/>
            <a:chExt cx="8942400" cy="1523880"/>
          </a:xfrm>
        </p:grpSpPr>
        <p:sp>
          <p:nvSpPr>
            <p:cNvPr id="422" name="文本框 15"/>
            <p:cNvSpPr/>
            <p:nvPr/>
          </p:nvSpPr>
          <p:spPr>
            <a:xfrm>
              <a:off x="1824480" y="291708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区间：雇主最少愿意付你多少，到最多能付你多少；</a:t>
              </a:r>
              <a:endParaRPr b="0" lang="en-US" sz="2400" spc="-1" strike="noStrike">
                <a:solidFill>
                  <a:srgbClr val="000000"/>
                </a:solidFill>
                <a:latin typeface="Arial"/>
              </a:endParaRPr>
            </a:p>
          </p:txBody>
        </p:sp>
        <p:sp>
          <p:nvSpPr>
            <p:cNvPr id="423" name="矩形 16"/>
            <p:cNvSpPr/>
            <p:nvPr/>
          </p:nvSpPr>
          <p:spPr>
            <a:xfrm>
              <a:off x="1824480" y="380232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rgbClr val="203864"/>
                  </a:solidFill>
                  <a:latin typeface="微软雅黑"/>
                  <a:ea typeface="微软雅黑"/>
                </a:rPr>
                <a:t>范围：低于你上面那人赚的，高于你下面那人赚的 ；</a:t>
              </a:r>
              <a:endParaRPr b="0" lang="en-US" sz="2400" spc="-1" strike="noStrike">
                <a:solidFill>
                  <a:srgbClr val="000000"/>
                </a:solidFill>
                <a:latin typeface="Arial"/>
              </a:endParaRPr>
            </a:p>
          </p:txBody>
        </p:sp>
        <p:cxnSp>
          <p:nvCxnSpPr>
            <p:cNvPr id="424" name="直接连接符 17"/>
            <p:cNvCxnSpPr/>
            <p:nvPr/>
          </p:nvCxnSpPr>
          <p:spPr>
            <a:xfrm>
              <a:off x="1624680" y="2916720"/>
              <a:ext cx="360" cy="468000"/>
            </a:xfrm>
            <a:prstGeom prst="straightConnector1">
              <a:avLst/>
            </a:prstGeom>
            <a:ln w="190500">
              <a:solidFill>
                <a:srgbClr val="2777d8"/>
              </a:solidFill>
            </a:ln>
          </p:spPr>
        </p:cxnSp>
        <p:cxnSp>
          <p:nvCxnSpPr>
            <p:cNvPr id="425" name="直接连接符 18"/>
            <p:cNvCxnSpPr/>
            <p:nvPr/>
          </p:nvCxnSpPr>
          <p:spPr>
            <a:xfrm>
              <a:off x="1624680" y="3807360"/>
              <a:ext cx="360" cy="468000"/>
            </a:xfrm>
            <a:prstGeom prst="straightConnector1">
              <a:avLst/>
            </a:prstGeom>
            <a:ln w="190500">
              <a:solidFill>
                <a:srgbClr val="2777d8"/>
              </a:solidFill>
            </a:ln>
          </p:spPr>
        </p:cxnSp>
      </p:gr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
          <p:cNvSpPr/>
          <p:nvPr/>
        </p:nvSpPr>
        <p:spPr>
          <a:xfrm>
            <a:off x="2291760" y="573480"/>
            <a:ext cx="2314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薪资谈判的</a:t>
            </a:r>
            <a:r>
              <a:rPr b="0" lang="zh-CN" sz="2800" spc="-1" strike="noStrike">
                <a:solidFill>
                  <a:srgbClr val="c60139"/>
                </a:solidFill>
                <a:latin typeface="华康俪金黑W8(P)"/>
                <a:ea typeface="华康俪金黑W8(P)"/>
              </a:rPr>
              <a:t>第六个</a:t>
            </a:r>
            <a:r>
              <a:rPr b="0" lang="zh-CN" sz="2800" spc="-1" strike="noStrike">
                <a:solidFill>
                  <a:srgbClr val="2777d8"/>
                </a:solidFill>
                <a:latin typeface="华康俪金黑W8(P)"/>
                <a:ea typeface="华康俪金黑W8(P)"/>
              </a:rPr>
              <a:t>秘密</a:t>
            </a:r>
            <a:endParaRPr b="0" lang="en-US" sz="2800" spc="-1" strike="noStrike">
              <a:solidFill>
                <a:srgbClr val="000000"/>
              </a:solidFill>
              <a:latin typeface="Arial"/>
            </a:endParaRPr>
          </a:p>
        </p:txBody>
      </p:sp>
      <p:pic>
        <p:nvPicPr>
          <p:cNvPr id="427" name="图片 2" descr=""/>
          <p:cNvPicPr/>
          <p:nvPr/>
        </p:nvPicPr>
        <p:blipFill>
          <a:blip r:embed="rId1"/>
          <a:stretch/>
        </p:blipFill>
        <p:spPr>
          <a:xfrm flipH="1">
            <a:off x="640440" y="374040"/>
            <a:ext cx="921240" cy="921240"/>
          </a:xfrm>
          <a:prstGeom prst="rect">
            <a:avLst/>
          </a:prstGeom>
          <a:ln w="0">
            <a:noFill/>
          </a:ln>
        </p:spPr>
      </p:pic>
      <p:sp>
        <p:nvSpPr>
          <p:cNvPr id="428" name="矩形 4"/>
          <p:cNvSpPr/>
          <p:nvPr/>
        </p:nvSpPr>
        <p:spPr>
          <a:xfrm>
            <a:off x="4340880" y="1303200"/>
            <a:ext cx="35082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5">
                    <a:lumMod val="50000"/>
                  </a:schemeClr>
                </a:solidFill>
                <a:latin typeface="方正粗宋简体"/>
                <a:ea typeface="方正粗宋简体"/>
              </a:rPr>
              <a:t>知道如何结束薪资谈判，别“悬而未决”。</a:t>
            </a:r>
            <a:endParaRPr b="0" lang="en-US" sz="2400" spc="-1" strike="noStrike">
              <a:solidFill>
                <a:srgbClr val="000000"/>
              </a:solidFill>
              <a:latin typeface="Arial"/>
            </a:endParaRPr>
          </a:p>
        </p:txBody>
      </p:sp>
      <p:grpSp>
        <p:nvGrpSpPr>
          <p:cNvPr id="429" name="组合 11"/>
          <p:cNvGrpSpPr/>
          <p:nvPr/>
        </p:nvGrpSpPr>
        <p:grpSpPr>
          <a:xfrm>
            <a:off x="1624680" y="2916720"/>
            <a:ext cx="8942400" cy="2002320"/>
            <a:chOff x="1624680" y="2916720"/>
            <a:chExt cx="8942400" cy="2002320"/>
          </a:xfrm>
        </p:grpSpPr>
        <p:sp>
          <p:nvSpPr>
            <p:cNvPr id="430" name="文本框 7"/>
            <p:cNvSpPr/>
            <p:nvPr/>
          </p:nvSpPr>
          <p:spPr>
            <a:xfrm>
              <a:off x="1824480" y="291708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薪资谈判不该只谈完工资就结束，否则就要讨论福利</a:t>
              </a:r>
              <a:r>
                <a:rPr b="0" lang="en-US" sz="2400" spc="-1" strike="noStrike">
                  <a:solidFill>
                    <a:schemeClr val="accent5">
                      <a:lumMod val="50000"/>
                    </a:schemeClr>
                  </a:solidFill>
                  <a:latin typeface="微软雅黑"/>
                  <a:ea typeface="微软雅黑"/>
                </a:rPr>
                <a:t>——五险一金、带薪休假、培训等； </a:t>
              </a:r>
              <a:endParaRPr b="0" lang="en-US" sz="2400" spc="-1" strike="noStrike">
                <a:solidFill>
                  <a:srgbClr val="000000"/>
                </a:solidFill>
                <a:latin typeface="Arial"/>
              </a:endParaRPr>
            </a:p>
          </p:txBody>
        </p:sp>
        <p:sp>
          <p:nvSpPr>
            <p:cNvPr id="431" name="矩形 8"/>
            <p:cNvSpPr/>
            <p:nvPr/>
          </p:nvSpPr>
          <p:spPr>
            <a:xfrm>
              <a:off x="1824480" y="4280760"/>
              <a:ext cx="8742600" cy="638280"/>
            </a:xfrm>
            <a:prstGeom prst="rect">
              <a:avLst/>
            </a:prstGeom>
            <a:noFill/>
            <a:ln w="0">
              <a:noFill/>
            </a:ln>
          </p:spPr>
          <p:style>
            <a:lnRef idx="0"/>
            <a:fillRef idx="0"/>
            <a:effectRef idx="0"/>
            <a:fontRef idx="minor"/>
          </p:style>
          <p:txBody>
            <a:bodyPr lIns="90000" rIns="90000" tIns="45000" bIns="45000" anchor="t">
              <a:spAutoFit/>
            </a:bodyPr>
            <a:p>
              <a:pPr algn="just">
                <a:lnSpc>
                  <a:spcPct val="150000"/>
                </a:lnSpc>
              </a:pPr>
              <a:r>
                <a:rPr b="0" lang="zh-CN" sz="2400" spc="-1" strike="noStrike">
                  <a:solidFill>
                    <a:schemeClr val="accent5">
                      <a:lumMod val="50000"/>
                    </a:schemeClr>
                  </a:solidFill>
                  <a:latin typeface="微软雅黑"/>
                  <a:ea typeface="微软雅黑"/>
                </a:rPr>
                <a:t>写下来，并签字</a:t>
              </a:r>
              <a:r>
                <a:rPr b="0" lang="zh-CN" sz="2400" spc="-1" strike="noStrike">
                  <a:solidFill>
                    <a:srgbClr val="203864"/>
                  </a:solidFill>
                  <a:latin typeface="微软雅黑"/>
                  <a:ea typeface="微软雅黑"/>
                </a:rPr>
                <a:t>；</a:t>
              </a:r>
              <a:endParaRPr b="0" lang="en-US" sz="2400" spc="-1" strike="noStrike">
                <a:solidFill>
                  <a:srgbClr val="000000"/>
                </a:solidFill>
                <a:latin typeface="Arial"/>
              </a:endParaRPr>
            </a:p>
          </p:txBody>
        </p:sp>
        <p:cxnSp>
          <p:nvCxnSpPr>
            <p:cNvPr id="432" name="直接连接符 9"/>
            <p:cNvCxnSpPr/>
            <p:nvPr/>
          </p:nvCxnSpPr>
          <p:spPr>
            <a:xfrm>
              <a:off x="1624680" y="2916720"/>
              <a:ext cx="360" cy="468000"/>
            </a:xfrm>
            <a:prstGeom prst="straightConnector1">
              <a:avLst/>
            </a:prstGeom>
            <a:ln w="190500">
              <a:solidFill>
                <a:srgbClr val="2777d8"/>
              </a:solidFill>
            </a:ln>
          </p:spPr>
        </p:cxnSp>
        <p:cxnSp>
          <p:nvCxnSpPr>
            <p:cNvPr id="433" name="直接连接符 10"/>
            <p:cNvCxnSpPr/>
            <p:nvPr/>
          </p:nvCxnSpPr>
          <p:spPr>
            <a:xfrm>
              <a:off x="1624680" y="4285440"/>
              <a:ext cx="360" cy="468360"/>
            </a:xfrm>
            <a:prstGeom prst="straightConnector1">
              <a:avLst/>
            </a:prstGeom>
            <a:ln w="190500">
              <a:solidFill>
                <a:srgbClr val="2777d8"/>
              </a:solidFill>
            </a:ln>
          </p:spPr>
        </p:cxnSp>
      </p:gr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4" name="图片 8" descr=""/>
          <p:cNvPicPr/>
          <p:nvPr/>
        </p:nvPicPr>
        <p:blipFill>
          <a:blip r:embed="rId1"/>
          <a:stretch/>
        </p:blipFill>
        <p:spPr>
          <a:xfrm rot="20452800">
            <a:off x="2939400" y="949320"/>
            <a:ext cx="3455280" cy="3307320"/>
          </a:xfrm>
          <a:prstGeom prst="rect">
            <a:avLst/>
          </a:prstGeom>
          <a:ln w="0">
            <a:noFill/>
          </a:ln>
        </p:spPr>
      </p:pic>
      <p:cxnSp>
        <p:nvCxnSpPr>
          <p:cNvPr id="435" name="直接连接符 4"/>
          <p:cNvCxnSpPr/>
          <p:nvPr/>
        </p:nvCxnSpPr>
        <p:spPr>
          <a:xfrm>
            <a:off x="5344560" y="3992400"/>
            <a:ext cx="360" cy="1790280"/>
          </a:xfrm>
          <a:prstGeom prst="straightConnector1">
            <a:avLst/>
          </a:prstGeom>
          <a:ln w="127000">
            <a:solidFill>
              <a:srgbClr val="5b9bd5"/>
            </a:solidFill>
          </a:ln>
        </p:spPr>
      </p:cxnSp>
      <p:sp>
        <p:nvSpPr>
          <p:cNvPr id="436" name="文本框 5"/>
          <p:cNvSpPr/>
          <p:nvPr/>
        </p:nvSpPr>
        <p:spPr>
          <a:xfrm>
            <a:off x="6131520" y="4518360"/>
            <a:ext cx="219312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5b9bd5"/>
                </a:solidFill>
                <a:latin typeface="方正综艺简体"/>
                <a:ea typeface="方正综艺简体"/>
              </a:rPr>
              <a:t>求职</a:t>
            </a:r>
            <a:r>
              <a:rPr b="0" lang="zh-CN" sz="4400" spc="-1" strike="noStrike">
                <a:solidFill>
                  <a:srgbClr val="c60139"/>
                </a:solidFill>
                <a:latin typeface="方正综艺简体"/>
                <a:ea typeface="方正综艺简体"/>
              </a:rPr>
              <a:t>不顺</a:t>
            </a:r>
            <a:r>
              <a:rPr b="0" lang="zh-CN" sz="4400" spc="-1" strike="noStrike">
                <a:solidFill>
                  <a:srgbClr val="5b9bd5"/>
                </a:solidFill>
                <a:latin typeface="方正综艺简体"/>
                <a:ea typeface="方正综艺简体"/>
              </a:rPr>
              <a:t>时该</a:t>
            </a:r>
            <a:endParaRPr b="0" lang="en-US" sz="4400" spc="-1" strike="noStrike">
              <a:solidFill>
                <a:srgbClr val="000000"/>
              </a:solidFill>
              <a:latin typeface="Arial"/>
            </a:endParaRPr>
          </a:p>
          <a:p>
            <a:pPr>
              <a:lnSpc>
                <a:spcPct val="100000"/>
              </a:lnSpc>
            </a:pPr>
            <a:r>
              <a:rPr b="0" lang="zh-CN" sz="4400" spc="-1" strike="noStrike">
                <a:solidFill>
                  <a:srgbClr val="5b9bd5"/>
                </a:solidFill>
                <a:latin typeface="方正综艺简体"/>
                <a:ea typeface="方正综艺简体"/>
              </a:rPr>
              <a:t>怎么办？</a:t>
            </a:r>
            <a:endParaRPr b="0" lang="en-US" sz="4400" spc="-1" strike="noStrike">
              <a:solidFill>
                <a:srgbClr val="000000"/>
              </a:solidFill>
              <a:latin typeface="Arial"/>
            </a:endParaRPr>
          </a:p>
        </p:txBody>
      </p:sp>
      <p:sp>
        <p:nvSpPr>
          <p:cNvPr id="437"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438"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文本框 1"/>
          <p:cNvSpPr/>
          <p:nvPr/>
        </p:nvSpPr>
        <p:spPr>
          <a:xfrm>
            <a:off x="2364840" y="573480"/>
            <a:ext cx="2527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工欲善其事，必先</a:t>
            </a:r>
            <a:r>
              <a:rPr b="0" lang="zh-CN" sz="2800" spc="-1" strike="noStrike">
                <a:solidFill>
                  <a:srgbClr val="c60139"/>
                </a:solidFill>
                <a:latin typeface="华康俪金黑W8(P)"/>
                <a:ea typeface="华康俪金黑W8(P)"/>
              </a:rPr>
              <a:t>利其器</a:t>
            </a:r>
            <a:endParaRPr b="0" lang="en-US" sz="2800" spc="-1" strike="noStrike">
              <a:solidFill>
                <a:srgbClr val="000000"/>
              </a:solidFill>
              <a:latin typeface="Arial"/>
            </a:endParaRPr>
          </a:p>
        </p:txBody>
      </p:sp>
      <p:pic>
        <p:nvPicPr>
          <p:cNvPr id="440" name="图片 2" descr=""/>
          <p:cNvPicPr/>
          <p:nvPr/>
        </p:nvPicPr>
        <p:blipFill>
          <a:blip r:embed="rId1"/>
          <a:stretch/>
        </p:blipFill>
        <p:spPr>
          <a:xfrm flipH="1">
            <a:off x="640440" y="374040"/>
            <a:ext cx="921240" cy="921240"/>
          </a:xfrm>
          <a:prstGeom prst="rect">
            <a:avLst/>
          </a:prstGeom>
          <a:ln w="0">
            <a:noFill/>
          </a:ln>
        </p:spPr>
      </p:pic>
      <p:grpSp>
        <p:nvGrpSpPr>
          <p:cNvPr id="441" name="组合 5"/>
          <p:cNvGrpSpPr/>
          <p:nvPr/>
        </p:nvGrpSpPr>
        <p:grpSpPr>
          <a:xfrm>
            <a:off x="1255320" y="2362680"/>
            <a:ext cx="9681120" cy="2982960"/>
            <a:chOff x="1255320" y="2362680"/>
            <a:chExt cx="9681120" cy="2982960"/>
          </a:xfrm>
        </p:grpSpPr>
        <p:sp>
          <p:nvSpPr>
            <p:cNvPr id="442" name="L 形 6"/>
            <p:cNvSpPr/>
            <p:nvPr/>
          </p:nvSpPr>
          <p:spPr>
            <a:xfrm rot="5400000">
              <a:off x="2138760" y="2613960"/>
              <a:ext cx="1246680" cy="3013560"/>
            </a:xfrm>
            <a:prstGeom prst="corner">
              <a:avLst>
                <a:gd name="adj1" fmla="val 16120"/>
                <a:gd name="adj2" fmla="val 16110"/>
              </a:avLst>
            </a:prstGeom>
            <a:gradFill rotWithShape="0">
              <a:gsLst>
                <a:gs pos="0">
                  <a:srgbClr val="71a6da"/>
                </a:gs>
                <a:gs pos="100000">
                  <a:srgbClr val="549ada"/>
                </a:gs>
              </a:gsLst>
              <a:lin ang="10800000"/>
            </a:gradFill>
            <a:ln>
              <a:solidFill>
                <a:srgbClr val="5b9bd5"/>
              </a:solidFill>
            </a:ln>
          </p:spPr>
          <p:style>
            <a:lnRef idx="1">
              <a:schemeClr val="accen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任意多边形 7"/>
            <p:cNvSpPr/>
            <p:nvPr/>
          </p:nvSpPr>
          <p:spPr>
            <a:xfrm>
              <a:off x="1554120" y="3703680"/>
              <a:ext cx="2720520" cy="1641960"/>
            </a:xfrm>
            <a:custGeom>
              <a:avLst/>
              <a:gdLst>
                <a:gd name="textAreaLeft" fmla="*/ 0 w 2720520"/>
                <a:gd name="textAreaRight" fmla="*/ 2720880 w 2720520"/>
                <a:gd name="textAreaTop" fmla="*/ 0 h 1641960"/>
                <a:gd name="textAreaBottom" fmla="*/ 1642320 h 1641960"/>
              </a:gdLst>
              <a:ahLst/>
              <a:rect l="textAreaLeft" t="textAreaTop" r="textAreaRight" b="textAreaBottom"/>
              <a:pathLst>
                <a:path w="830160" h="727684">
                  <a:moveTo>
                    <a:pt x="0" y="0"/>
                  </a:moveTo>
                  <a:lnTo>
                    <a:pt x="830160" y="0"/>
                  </a:lnTo>
                  <a:lnTo>
                    <a:pt x="830160" y="727684"/>
                  </a:lnTo>
                  <a:lnTo>
                    <a:pt x="0" y="727684"/>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76320" rIns="76320" tIns="76320" bIns="76320" anchor="t">
              <a:noAutofit/>
            </a:bodyPr>
            <a:p>
              <a:pPr algn="just">
                <a:lnSpc>
                  <a:spcPct val="120000"/>
                </a:lnSpc>
                <a:spcAft>
                  <a:spcPts val="700"/>
                </a:spcAft>
              </a:pPr>
              <a:r>
                <a:rPr b="0" lang="zh-CN" sz="2000" spc="-1" strike="noStrike">
                  <a:solidFill>
                    <a:schemeClr val="accent5">
                      <a:lumMod val="50000"/>
                    </a:schemeClr>
                  </a:solidFill>
                  <a:latin typeface="微软雅黑"/>
                  <a:ea typeface="微软雅黑"/>
                </a:rPr>
                <a:t>面对的力量超出你的控制，找出能掌握的部分，尝试不同的方式。</a:t>
              </a:r>
              <a:endParaRPr b="0" lang="en-US" sz="2000" spc="-1" strike="noStrike">
                <a:solidFill>
                  <a:srgbClr val="000000"/>
                </a:solidFill>
                <a:latin typeface="Arial"/>
              </a:endParaRPr>
            </a:p>
          </p:txBody>
        </p:sp>
        <p:sp>
          <p:nvSpPr>
            <p:cNvPr id="444" name="等腰三角形 8"/>
            <p:cNvSpPr/>
            <p:nvPr/>
          </p:nvSpPr>
          <p:spPr>
            <a:xfrm>
              <a:off x="3761640" y="2930760"/>
              <a:ext cx="513000" cy="353160"/>
            </a:xfrm>
            <a:prstGeom prst="triangle">
              <a:avLst>
                <a:gd name="adj" fmla="val 100000"/>
              </a:avLst>
            </a:prstGeom>
            <a:gradFill rotWithShape="0">
              <a:gsLst>
                <a:gs pos="0">
                  <a:srgbClr val="71a6da"/>
                </a:gs>
                <a:gs pos="100000">
                  <a:srgbClr val="549ada"/>
                </a:gs>
              </a:gsLst>
              <a:lin ang="5400000"/>
            </a:gradFill>
            <a:ln>
              <a:solidFill>
                <a:srgbClr val="5b9bd5"/>
              </a:solidFill>
            </a:ln>
          </p:spPr>
          <p:style>
            <a:lnRef idx="1">
              <a:schemeClr val="accen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5" name="L 形 9"/>
            <p:cNvSpPr/>
            <p:nvPr/>
          </p:nvSpPr>
          <p:spPr>
            <a:xfrm rot="5400000">
              <a:off x="5469840" y="2046240"/>
              <a:ext cx="1246680" cy="3013560"/>
            </a:xfrm>
            <a:prstGeom prst="corner">
              <a:avLst>
                <a:gd name="adj1" fmla="val 16120"/>
                <a:gd name="adj2" fmla="val 16110"/>
              </a:avLst>
            </a:prstGeom>
            <a:gradFill rotWithShape="0">
              <a:gsLst>
                <a:gs pos="0">
                  <a:srgbClr val="71a6da"/>
                </a:gs>
                <a:gs pos="100000">
                  <a:srgbClr val="549ada"/>
                </a:gs>
              </a:gsLst>
              <a:lin ang="10800000"/>
            </a:gradFill>
            <a:ln>
              <a:solidFill>
                <a:srgbClr val="5b9bd5"/>
              </a:solidFill>
            </a:ln>
          </p:spPr>
          <p:style>
            <a:lnRef idx="1">
              <a:schemeClr val="accen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任意多边形 10"/>
            <p:cNvSpPr/>
            <p:nvPr/>
          </p:nvSpPr>
          <p:spPr>
            <a:xfrm>
              <a:off x="4885200" y="3136320"/>
              <a:ext cx="2720520" cy="1641960"/>
            </a:xfrm>
            <a:custGeom>
              <a:avLst/>
              <a:gdLst>
                <a:gd name="textAreaLeft" fmla="*/ 0 w 2720520"/>
                <a:gd name="textAreaRight" fmla="*/ 2720880 w 2720520"/>
                <a:gd name="textAreaTop" fmla="*/ 0 h 1641960"/>
                <a:gd name="textAreaBottom" fmla="*/ 1642320 h 1641960"/>
              </a:gdLst>
              <a:ahLst/>
              <a:rect l="textAreaLeft" t="textAreaTop" r="textAreaRight" b="textAreaBottom"/>
              <a:pathLst>
                <a:path w="830160" h="727684">
                  <a:moveTo>
                    <a:pt x="0" y="0"/>
                  </a:moveTo>
                  <a:lnTo>
                    <a:pt x="830160" y="0"/>
                  </a:lnTo>
                  <a:lnTo>
                    <a:pt x="830160" y="727684"/>
                  </a:lnTo>
                  <a:lnTo>
                    <a:pt x="0" y="727684"/>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76320" rIns="76320" tIns="76320" bIns="76320" anchor="t">
              <a:noAutofit/>
            </a:bodyPr>
            <a:p>
              <a:pPr algn="just">
                <a:lnSpc>
                  <a:spcPct val="120000"/>
                </a:lnSpc>
                <a:spcAft>
                  <a:spcPts val="700"/>
                </a:spcAft>
              </a:pPr>
              <a:r>
                <a:rPr b="0" lang="zh-CN" sz="2000" spc="-1" strike="noStrike">
                  <a:solidFill>
                    <a:schemeClr val="accent5">
                      <a:lumMod val="50000"/>
                    </a:schemeClr>
                  </a:solidFill>
                  <a:latin typeface="微软雅黑"/>
                  <a:ea typeface="微软雅黑"/>
                </a:rPr>
                <a:t>再努力一些，比以往更努力。别光努力，要用不同的方式努力，及目前为止没采取过的方式。</a:t>
              </a:r>
              <a:endParaRPr b="0" lang="en-US" sz="2000" spc="-1" strike="noStrike">
                <a:solidFill>
                  <a:srgbClr val="000000"/>
                </a:solidFill>
                <a:latin typeface="Arial"/>
              </a:endParaRPr>
            </a:p>
          </p:txBody>
        </p:sp>
        <p:sp>
          <p:nvSpPr>
            <p:cNvPr id="447" name="等腰三角形 11"/>
            <p:cNvSpPr/>
            <p:nvPr/>
          </p:nvSpPr>
          <p:spPr>
            <a:xfrm>
              <a:off x="7092360" y="2363400"/>
              <a:ext cx="513000" cy="353160"/>
            </a:xfrm>
            <a:prstGeom prst="triangle">
              <a:avLst>
                <a:gd name="adj" fmla="val 100000"/>
              </a:avLst>
            </a:prstGeom>
            <a:gradFill rotWithShape="0">
              <a:gsLst>
                <a:gs pos="0">
                  <a:srgbClr val="71a6da"/>
                </a:gs>
                <a:gs pos="100000">
                  <a:srgbClr val="549ada"/>
                </a:gs>
              </a:gsLst>
              <a:lin ang="5400000"/>
            </a:gradFill>
            <a:ln>
              <a:solidFill>
                <a:srgbClr val="5b9bd5"/>
              </a:solidFill>
            </a:ln>
          </p:spPr>
          <p:style>
            <a:lnRef idx="1">
              <a:schemeClr val="accen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8" name="L 形 12"/>
            <p:cNvSpPr/>
            <p:nvPr/>
          </p:nvSpPr>
          <p:spPr>
            <a:xfrm rot="5400000">
              <a:off x="8800560" y="1478880"/>
              <a:ext cx="1246680" cy="3013560"/>
            </a:xfrm>
            <a:prstGeom prst="corner">
              <a:avLst>
                <a:gd name="adj1" fmla="val 16120"/>
                <a:gd name="adj2" fmla="val 16110"/>
              </a:avLst>
            </a:prstGeom>
            <a:gradFill rotWithShape="0">
              <a:gsLst>
                <a:gs pos="0">
                  <a:srgbClr val="71a6da"/>
                </a:gs>
                <a:gs pos="100000">
                  <a:srgbClr val="549ada"/>
                </a:gs>
              </a:gsLst>
              <a:lin ang="10800000"/>
            </a:gradFill>
            <a:ln>
              <a:solidFill>
                <a:srgbClr val="5b9bd5"/>
              </a:solidFill>
            </a:ln>
          </p:spPr>
          <p:style>
            <a:lnRef idx="1">
              <a:schemeClr val="accent1">
                <a:hueOff val="0"/>
                <a:satOff val="0"/>
                <a:lumOff val="0"/>
                <a:alphaOff val="0"/>
              </a:schemeClr>
            </a:lnRef>
            <a:fillRef idx="3">
              <a:schemeClr val="accent1">
                <a:hueOff val="0"/>
                <a:satOff val="0"/>
                <a:lumOff val="0"/>
                <a:alphaOff val="0"/>
              </a:schemeClr>
            </a:fillRef>
            <a:effectRef idx="2">
              <a:schemeClr val="accent1">
                <a:hueOff val="0"/>
                <a:satOff val="0"/>
                <a:lumOff val="0"/>
                <a:alphaOff val="0"/>
              </a:schemeClr>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49" name="任意多边形 13"/>
            <p:cNvSpPr/>
            <p:nvPr/>
          </p:nvSpPr>
          <p:spPr>
            <a:xfrm>
              <a:off x="8215920" y="2568600"/>
              <a:ext cx="2720520" cy="1641960"/>
            </a:xfrm>
            <a:custGeom>
              <a:avLst/>
              <a:gdLst>
                <a:gd name="textAreaLeft" fmla="*/ 0 w 2720520"/>
                <a:gd name="textAreaRight" fmla="*/ 2720880 w 2720520"/>
                <a:gd name="textAreaTop" fmla="*/ 0 h 1641960"/>
                <a:gd name="textAreaBottom" fmla="*/ 1642320 h 1641960"/>
              </a:gdLst>
              <a:ahLst/>
              <a:rect l="textAreaLeft" t="textAreaTop" r="textAreaRight" b="textAreaBottom"/>
              <a:pathLst>
                <a:path w="830160" h="727684">
                  <a:moveTo>
                    <a:pt x="0" y="0"/>
                  </a:moveTo>
                  <a:lnTo>
                    <a:pt x="830160" y="0"/>
                  </a:lnTo>
                  <a:lnTo>
                    <a:pt x="830160" y="727684"/>
                  </a:lnTo>
                  <a:lnTo>
                    <a:pt x="0" y="727684"/>
                  </a:lnTo>
                  <a:lnTo>
                    <a:pt x="0" y="0"/>
                  </a:lnTo>
                  <a:close/>
                </a:path>
              </a:pathLst>
            </a:custGeom>
            <a:noFill/>
            <a:ln w="0">
              <a:noFill/>
            </a:ln>
          </p:spPr>
          <p:style>
            <a:lnRef idx="0">
              <a:schemeClr val="dk1">
                <a:alpha val="0"/>
                <a:hueOff val="0"/>
                <a:satOff val="0"/>
                <a:lumOff val="0"/>
                <a:alphaOff val="0"/>
              </a:schemeClr>
            </a:lnRef>
            <a:fillRef idx="0">
              <a:schemeClr val="lt1">
                <a:alpha val="0"/>
                <a:hueOff val="0"/>
                <a:satOff val="0"/>
                <a:lumOff val="0"/>
                <a:alphaOff val="0"/>
              </a:schemeClr>
            </a:fillRef>
            <a:effectRef idx="0">
              <a:schemeClr val="lt1">
                <a:alpha val="0"/>
                <a:hueOff val="0"/>
                <a:satOff val="0"/>
                <a:lumOff val="0"/>
                <a:alphaOff val="0"/>
              </a:schemeClr>
            </a:effectRef>
            <a:fontRef idx="minor"/>
          </p:style>
          <p:txBody>
            <a:bodyPr numCol="1" spcCol="1440" lIns="76320" rIns="76320" tIns="76320" bIns="76320" anchor="t">
              <a:noAutofit/>
            </a:bodyPr>
            <a:p>
              <a:pPr algn="just">
                <a:lnSpc>
                  <a:spcPct val="120000"/>
                </a:lnSpc>
                <a:spcAft>
                  <a:spcPts val="700"/>
                </a:spcAft>
              </a:pPr>
              <a:r>
                <a:rPr b="0" lang="zh-CN" sz="2000" spc="-1" strike="noStrike">
                  <a:solidFill>
                    <a:schemeClr val="accent5">
                      <a:lumMod val="50000"/>
                    </a:schemeClr>
                  </a:solidFill>
                  <a:latin typeface="微软雅黑"/>
                  <a:ea typeface="微软雅黑"/>
                </a:rPr>
                <a:t>对任何工作而言：工具不同，结果完全不同。</a:t>
              </a:r>
              <a:endParaRPr b="0" lang="en-US" sz="2000" spc="-1" strike="noStrike">
                <a:solidFill>
                  <a:srgbClr val="000000"/>
                </a:solidFill>
                <a:latin typeface="Arial"/>
              </a:endParaRPr>
            </a:p>
          </p:txBody>
        </p:sp>
      </p:grpSp>
      <p:sp>
        <p:nvSpPr>
          <p:cNvPr id="450" name="Text Box 4"/>
          <p:cNvSpPr/>
          <p:nvPr/>
        </p:nvSpPr>
        <p:spPr>
          <a:xfrm>
            <a:off x="259200" y="64612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2"/>
              </a:rPr>
              <a:t>http://www.eeppt.com/moban/</a:t>
            </a:r>
            <a:endParaRPr b="0" lang="en-US" sz="1600" spc="-1" strike="noStrike">
              <a:solidFill>
                <a:srgbClr val="000000"/>
              </a:solidFill>
              <a:latin typeface="Arial"/>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文本框 2"/>
          <p:cNvSpPr/>
          <p:nvPr/>
        </p:nvSpPr>
        <p:spPr>
          <a:xfrm>
            <a:off x="2073240" y="573480"/>
            <a:ext cx="16747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求职的</a:t>
            </a:r>
            <a:r>
              <a:rPr b="0" lang="zh-CN" sz="2800" spc="-1" strike="noStrike">
                <a:solidFill>
                  <a:srgbClr val="c60139"/>
                </a:solidFill>
                <a:latin typeface="华康俪金黑W8(P)"/>
                <a:ea typeface="华康俪金黑W8(P)"/>
              </a:rPr>
              <a:t>两种方式</a:t>
            </a:r>
            <a:endParaRPr b="0" lang="en-US" sz="2800" spc="-1" strike="noStrike">
              <a:solidFill>
                <a:srgbClr val="000000"/>
              </a:solidFill>
              <a:latin typeface="Arial"/>
            </a:endParaRPr>
          </a:p>
        </p:txBody>
      </p:sp>
      <p:pic>
        <p:nvPicPr>
          <p:cNvPr id="452" name="图片 3" descr=""/>
          <p:cNvPicPr/>
          <p:nvPr/>
        </p:nvPicPr>
        <p:blipFill>
          <a:blip r:embed="rId1"/>
          <a:stretch/>
        </p:blipFill>
        <p:spPr>
          <a:xfrm flipH="1">
            <a:off x="640440" y="374040"/>
            <a:ext cx="921240" cy="921240"/>
          </a:xfrm>
          <a:prstGeom prst="rect">
            <a:avLst/>
          </a:prstGeom>
          <a:ln w="0">
            <a:noFill/>
          </a:ln>
        </p:spPr>
      </p:pic>
      <p:graphicFrame>
        <p:nvGraphicFramePr>
          <p:cNvPr id="453" name="表格 4"/>
          <p:cNvGraphicFramePr/>
          <p:nvPr/>
        </p:nvGraphicFramePr>
        <p:xfrm>
          <a:off x="695880" y="1841040"/>
          <a:ext cx="10799640" cy="6428160"/>
        </p:xfrm>
        <a:graphic>
          <a:graphicData uri="http://schemas.openxmlformats.org/drawingml/2006/table">
            <a:tbl>
              <a:tblPr/>
              <a:tblGrid>
                <a:gridCol w="2880000"/>
                <a:gridCol w="3600000"/>
                <a:gridCol w="4320000"/>
              </a:tblGrid>
              <a:tr h="720000">
                <a:tc>
                  <a:txBody>
                    <a:bodyPr anchor="ctr">
                      <a:noAutofit/>
                    </a:bodyPr>
                    <a:p>
                      <a:pPr algn="just">
                        <a:lnSpc>
                          <a:spcPct val="100000"/>
                        </a:lnSpc>
                      </a:pPr>
                      <a:endParaRPr b="1" lang="en-US" sz="1800" spc="-1" strike="noStrike">
                        <a:solidFill>
                          <a:srgbClr val="000000"/>
                        </a:solidFill>
                        <a:latin typeface="Calibri"/>
                      </a:endParaRPr>
                    </a:p>
                  </a:txBody>
                  <a:tcPr anchor="ctr" marL="91440" marR="91440">
                    <a:lnL>
                      <a:noFill/>
                    </a:lnL>
                    <a:lnR w="12240">
                      <a:solidFill>
                        <a:srgbClr val="2777d8"/>
                      </a:solidFill>
                    </a:lnR>
                    <a:lnT w="12240">
                      <a:solidFill>
                        <a:srgbClr val="4472c4"/>
                      </a:solidFill>
                    </a:lnT>
                    <a:lnB w="12240">
                      <a:solidFill>
                        <a:srgbClr val="4472c4"/>
                      </a:solidFill>
                    </a:lnB>
                    <a:noFill/>
                  </a:tcPr>
                </a:tc>
                <a:tc>
                  <a:txBody>
                    <a:bodyPr anchor="ctr">
                      <a:noAutofit/>
                    </a:bodyPr>
                    <a:p>
                      <a:pPr algn="just">
                        <a:lnSpc>
                          <a:spcPct val="100000"/>
                        </a:lnSpc>
                      </a:pPr>
                      <a:r>
                        <a:rPr b="1" lang="zh-CN" sz="2800" spc="-1" strike="noStrike">
                          <a:solidFill>
                            <a:schemeClr val="accent5">
                              <a:lumMod val="50000"/>
                            </a:schemeClr>
                          </a:solidFill>
                          <a:latin typeface="微软雅黑"/>
                          <a:ea typeface="微软雅黑"/>
                        </a:rPr>
                        <a:t>传统方式</a:t>
                      </a:r>
                      <a:endParaRPr b="0" lang="en-US" sz="2800" spc="-1" strike="noStrike">
                        <a:solidFill>
                          <a:srgbClr val="000000"/>
                        </a:solidFill>
                        <a:latin typeface="Arial"/>
                      </a:endParaRPr>
                    </a:p>
                  </a:txBody>
                  <a:tcPr anchor="ctr" marL="91440" marR="91440">
                    <a:lnL w="12240">
                      <a:solidFill>
                        <a:srgbClr val="2777d8"/>
                      </a:solidFill>
                    </a:lnL>
                    <a:lnR w="12240">
                      <a:solidFill>
                        <a:srgbClr val="2777d8"/>
                      </a:solidFill>
                    </a:lnR>
                    <a:lnT w="12240">
                      <a:solidFill>
                        <a:srgbClr val="4472c4"/>
                      </a:solidFill>
                    </a:lnT>
                    <a:lnB w="12240">
                      <a:solidFill>
                        <a:srgbClr val="4472c4"/>
                      </a:solidFill>
                    </a:lnB>
                    <a:noFill/>
                  </a:tcPr>
                </a:tc>
                <a:tc>
                  <a:txBody>
                    <a:bodyPr anchor="ctr">
                      <a:noAutofit/>
                    </a:bodyPr>
                    <a:p>
                      <a:pPr algn="just">
                        <a:lnSpc>
                          <a:spcPct val="100000"/>
                        </a:lnSpc>
                      </a:pPr>
                      <a:r>
                        <a:rPr b="1" lang="zh-CN" sz="2800" spc="-1" strike="noStrike">
                          <a:solidFill>
                            <a:schemeClr val="accent5">
                              <a:lumMod val="50000"/>
                            </a:schemeClr>
                          </a:solidFill>
                          <a:latin typeface="微软雅黑"/>
                          <a:ea typeface="微软雅黑"/>
                        </a:rPr>
                        <a:t>创造性方式</a:t>
                      </a:r>
                      <a:endParaRPr b="0" lang="en-US" sz="2800" spc="-1" strike="noStrike">
                        <a:solidFill>
                          <a:srgbClr val="000000"/>
                        </a:solidFill>
                        <a:latin typeface="Arial"/>
                      </a:endParaRPr>
                    </a:p>
                  </a:txBody>
                  <a:tcPr anchor="ctr" marL="91440" marR="91440">
                    <a:lnL>
                      <a:noFill/>
                    </a:lnL>
                    <a:lnR>
                      <a:noFill/>
                    </a:lnR>
                    <a:lnT w="12240">
                      <a:solidFill>
                        <a:srgbClr val="4472c4"/>
                      </a:solidFill>
                    </a:lnT>
                    <a:lnB w="12240">
                      <a:solidFill>
                        <a:srgbClr val="4472c4"/>
                      </a:solid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在找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一份工作</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理想工作”：在喜欢的领域，运用喜欢的知识和技能</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看待自己？</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工作乞丐”，能被录用感到太幸运了</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资源”，能录用你，他们将感到幸运</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基本计划</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求职前，琢磨如何“推销”自己</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求职前，琢磨自己最想干什么工作</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准备工作</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做研究，看劳动力市场需要什么。“能干什么就对付干吧。”</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研究自己，找出自己最擅长做什么，最爱做什么。“工作得有热情。”</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决定接触哪个雇主？</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等着对方宣布空缺</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搜集信息，找出对哪家公司最感兴趣，即使那时他们没有空缺</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联系对方？</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通过简历</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通过“牵线搭桥者”（认识你也认识对方的人），用社交媒体找到这些中介</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简历的目的是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推销自己，说明为什么自己应该被录用</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获得面试机会</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果能面试，你的主要目标是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tabLst>
                          <a:tab algn="l" pos="0"/>
                        </a:tabLst>
                      </a:pPr>
                      <a:r>
                        <a:rPr b="0" lang="zh-CN" sz="1800" spc="-1" strike="noStrike">
                          <a:solidFill>
                            <a:schemeClr val="accent5">
                              <a:lumMod val="50000"/>
                            </a:schemeClr>
                          </a:solidFill>
                          <a:latin typeface="微软雅黑"/>
                          <a:ea typeface="微软雅黑"/>
                        </a:rPr>
                        <a:t>推销自己，说明为什么自己应该被录用</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得到下一次面试机会</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面试中你谈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自己，自己的经验、能力</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50%</a:t>
                      </a:r>
                      <a:r>
                        <a:rPr b="0" lang="zh-CN" sz="1800" spc="-1" strike="noStrike">
                          <a:solidFill>
                            <a:schemeClr val="accent5">
                              <a:lumMod val="50000"/>
                            </a:schemeClr>
                          </a:solidFill>
                          <a:latin typeface="微软雅黑"/>
                          <a:ea typeface="微软雅黑"/>
                        </a:rPr>
                        <a:t>的时间让对方问问题，</a:t>
                      </a:r>
                      <a:r>
                        <a:rPr b="0" lang="en-US" sz="1800" spc="-1" strike="noStrike">
                          <a:solidFill>
                            <a:schemeClr val="accent5">
                              <a:lumMod val="50000"/>
                            </a:schemeClr>
                          </a:solidFill>
                          <a:latin typeface="微软雅黑"/>
                          <a:ea typeface="微软雅黑"/>
                        </a:rPr>
                        <a:t>50%</a:t>
                      </a:r>
                      <a:r>
                        <a:rPr b="0" lang="zh-CN" sz="1800" spc="-1" strike="noStrike">
                          <a:solidFill>
                            <a:schemeClr val="accent5">
                              <a:lumMod val="50000"/>
                            </a:schemeClr>
                          </a:solidFill>
                          <a:latin typeface="微软雅黑"/>
                          <a:ea typeface="微软雅黑"/>
                        </a:rPr>
                        <a:t>的时间向对方问问题，了解工作内容、公司状况</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想弄清楚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他们想要我吗？</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我想要他们吗？”（以及“他们想要我吗？”）</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结束最后一轮面试？</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问对方：“何时能得到您的答复？”（让事情悬而未决）</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果你决定要在那儿工作，你会问：“我相信自己是公司要找的人根据咱们谈的这些，您会录用我们？”（你在寻求结论）</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被录用后，开始工作前，你会做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w="12240">
                      <a:solidFill>
                        <a:srgbClr val="4472c4"/>
                      </a:solid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发感谢信。休息，放松，庆祝自己求职成功</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w="12240">
                      <a:solidFill>
                        <a:srgbClr val="4472c4"/>
                      </a:solid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发感谢信。继续求职（因为不可预知的原因，开始工作前，</a:t>
                      </a:r>
                      <a:r>
                        <a:rPr b="0" lang="en-US" sz="1800" spc="-1" strike="noStrike">
                          <a:solidFill>
                            <a:schemeClr val="accent5">
                              <a:lumMod val="50000"/>
                            </a:schemeClr>
                          </a:solidFill>
                          <a:latin typeface="微软雅黑"/>
                          <a:ea typeface="微软雅黑"/>
                        </a:rPr>
                        <a:t>offer</a:t>
                      </a:r>
                      <a:r>
                        <a:rPr b="0" lang="zh-CN" sz="1800" spc="-1" strike="noStrike">
                          <a:solidFill>
                            <a:schemeClr val="accent5">
                              <a:lumMod val="50000"/>
                            </a:schemeClr>
                          </a:solidFill>
                          <a:latin typeface="微软雅黑"/>
                          <a:ea typeface="微软雅黑"/>
                        </a:rPr>
                        <a:t>，即录用确认可能会变化）</a:t>
                      </a:r>
                      <a:endParaRPr b="0" lang="en-US" sz="1800" spc="-1" strike="noStrike">
                        <a:solidFill>
                          <a:srgbClr val="000000"/>
                        </a:solidFill>
                        <a:latin typeface="Arial"/>
                      </a:endParaRPr>
                    </a:p>
                  </a:txBody>
                  <a:tcPr anchor="ctr" marL="91440" marR="91440">
                    <a:lnL>
                      <a:noFill/>
                    </a:lnL>
                    <a:lnR>
                      <a:noFill/>
                    </a:lnR>
                    <a:lnT>
                      <a:noFill/>
                    </a:lnT>
                    <a:lnB w="12240">
                      <a:solidFill>
                        <a:srgbClr val="4472c4"/>
                      </a:solidFill>
                    </a:lnB>
                    <a:noFill/>
                  </a:tcPr>
                </a:tc>
              </a:tr>
            </a:tbl>
          </a:graphicData>
        </a:graphic>
      </p:graphicFrame>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表格 1"/>
          <p:cNvGraphicFramePr/>
          <p:nvPr/>
        </p:nvGraphicFramePr>
        <p:xfrm>
          <a:off x="695880" y="-5023440"/>
          <a:ext cx="10799640" cy="7043040"/>
        </p:xfrm>
        <a:graphic>
          <a:graphicData uri="http://schemas.openxmlformats.org/drawingml/2006/table">
            <a:tbl>
              <a:tblPr/>
              <a:tblGrid>
                <a:gridCol w="2880000"/>
                <a:gridCol w="3600000"/>
                <a:gridCol w="4320000"/>
              </a:tblGrid>
              <a:tr h="720000">
                <a:tc>
                  <a:txBody>
                    <a:bodyPr anchor="ctr">
                      <a:noAutofit/>
                    </a:bodyPr>
                    <a:p>
                      <a:pPr algn="just">
                        <a:lnSpc>
                          <a:spcPct val="100000"/>
                        </a:lnSpc>
                      </a:pPr>
                      <a:endParaRPr b="1" lang="en-US" sz="1800" spc="-1" strike="noStrike">
                        <a:solidFill>
                          <a:srgbClr val="000000"/>
                        </a:solidFill>
                        <a:latin typeface="Calibri"/>
                      </a:endParaRPr>
                    </a:p>
                  </a:txBody>
                  <a:tcPr anchor="ctr" marL="91440" marR="91440">
                    <a:lnL>
                      <a:noFill/>
                    </a:lnL>
                    <a:lnR w="12240">
                      <a:solidFill>
                        <a:srgbClr val="2777d8"/>
                      </a:solidFill>
                    </a:lnR>
                    <a:lnT w="12240">
                      <a:solidFill>
                        <a:srgbClr val="4472c4"/>
                      </a:solidFill>
                    </a:lnT>
                    <a:lnB w="12240">
                      <a:solidFill>
                        <a:srgbClr val="4472c4"/>
                      </a:solidFill>
                    </a:lnB>
                    <a:noFill/>
                  </a:tcPr>
                </a:tc>
                <a:tc>
                  <a:txBody>
                    <a:bodyPr anchor="ctr">
                      <a:noAutofit/>
                    </a:bodyPr>
                    <a:p>
                      <a:pPr algn="just">
                        <a:lnSpc>
                          <a:spcPct val="100000"/>
                        </a:lnSpc>
                      </a:pPr>
                      <a:r>
                        <a:rPr b="1" lang="zh-CN" sz="2800" spc="-1" strike="noStrike">
                          <a:solidFill>
                            <a:schemeClr val="accent5">
                              <a:lumMod val="50000"/>
                            </a:schemeClr>
                          </a:solidFill>
                          <a:latin typeface="微软雅黑"/>
                          <a:ea typeface="微软雅黑"/>
                        </a:rPr>
                        <a:t>传统方式</a:t>
                      </a:r>
                      <a:endParaRPr b="0" lang="en-US" sz="2800" spc="-1" strike="noStrike">
                        <a:solidFill>
                          <a:srgbClr val="000000"/>
                        </a:solidFill>
                        <a:latin typeface="Arial"/>
                      </a:endParaRPr>
                    </a:p>
                  </a:txBody>
                  <a:tcPr anchor="ctr" marL="91440" marR="91440">
                    <a:lnL w="12240">
                      <a:solidFill>
                        <a:srgbClr val="2777d8"/>
                      </a:solidFill>
                    </a:lnL>
                    <a:lnR w="12240">
                      <a:solidFill>
                        <a:srgbClr val="2777d8"/>
                      </a:solidFill>
                    </a:lnR>
                    <a:lnT w="12240">
                      <a:solidFill>
                        <a:srgbClr val="4472c4"/>
                      </a:solidFill>
                    </a:lnT>
                    <a:lnB w="12240">
                      <a:solidFill>
                        <a:srgbClr val="4472c4"/>
                      </a:solidFill>
                    </a:lnB>
                    <a:noFill/>
                  </a:tcPr>
                </a:tc>
                <a:tc>
                  <a:txBody>
                    <a:bodyPr anchor="ctr">
                      <a:noAutofit/>
                    </a:bodyPr>
                    <a:p>
                      <a:pPr algn="just">
                        <a:lnSpc>
                          <a:spcPct val="100000"/>
                        </a:lnSpc>
                      </a:pPr>
                      <a:r>
                        <a:rPr b="1" lang="zh-CN" sz="2800" spc="-1" strike="noStrike">
                          <a:solidFill>
                            <a:schemeClr val="accent5">
                              <a:lumMod val="50000"/>
                            </a:schemeClr>
                          </a:solidFill>
                          <a:latin typeface="微软雅黑"/>
                          <a:ea typeface="微软雅黑"/>
                        </a:rPr>
                        <a:t>创造性方式</a:t>
                      </a:r>
                      <a:endParaRPr b="0" lang="en-US" sz="2800" spc="-1" strike="noStrike">
                        <a:solidFill>
                          <a:srgbClr val="000000"/>
                        </a:solidFill>
                        <a:latin typeface="Arial"/>
                      </a:endParaRPr>
                    </a:p>
                  </a:txBody>
                  <a:tcPr anchor="ctr" marL="91440" marR="91440">
                    <a:lnL>
                      <a:noFill/>
                    </a:lnL>
                    <a:lnR>
                      <a:noFill/>
                    </a:lnR>
                    <a:lnT w="12240">
                      <a:solidFill>
                        <a:srgbClr val="4472c4"/>
                      </a:solidFill>
                    </a:lnT>
                    <a:lnB w="12240">
                      <a:solidFill>
                        <a:srgbClr val="4472c4"/>
                      </a:solid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在找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一份工作</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理想工作”：在喜欢的领域，运用喜欢的知识和技能</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看待自己？</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工作乞丐”，能被录用感到太幸运了</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资源”，能录用你，他们将感到幸运</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基本计划</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求职前，琢磨如何“推销”自己</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求职前，琢磨自己最想干什么工作</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准备工作</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做研究，看劳动力市场需要什么。“能干什么就对付干吧。”</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研究自己，找出自己最擅长做什么，最爱做什么。“工作得有热情。”</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决定接触哪个雇主？</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等着对方宣布空缺</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搜集信息，找出对哪家公司最感兴趣，即使那时他们没有空缺</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联系对方？</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通过简历</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通过“牵线搭桥者”（认识你也认识对方的人），用社交媒体找到这些中介</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简历的目的是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推销自己，说明为什么自己应该被录用</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获得面试机会</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果能面试，你的主要目标是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tabLst>
                          <a:tab algn="l" pos="0"/>
                        </a:tabLst>
                      </a:pPr>
                      <a:r>
                        <a:rPr b="0" lang="zh-CN" sz="1800" spc="-1" strike="noStrike">
                          <a:solidFill>
                            <a:schemeClr val="accent5">
                              <a:lumMod val="50000"/>
                            </a:schemeClr>
                          </a:solidFill>
                          <a:latin typeface="微软雅黑"/>
                          <a:ea typeface="微软雅黑"/>
                        </a:rPr>
                        <a:t>推销自己，说明为什么自己应该被录用</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得到下一次面试机会</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面试中你谈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自己，自己的经验、能力</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50%</a:t>
                      </a:r>
                      <a:r>
                        <a:rPr b="0" lang="zh-CN" sz="1800" spc="-1" strike="noStrike">
                          <a:solidFill>
                            <a:schemeClr val="accent5">
                              <a:lumMod val="50000"/>
                            </a:schemeClr>
                          </a:solidFill>
                          <a:latin typeface="微软雅黑"/>
                          <a:ea typeface="微软雅黑"/>
                        </a:rPr>
                        <a:t>的时间让对方问问题，</a:t>
                      </a:r>
                      <a:r>
                        <a:rPr b="0" lang="en-US" sz="1800" spc="-1" strike="noStrike">
                          <a:solidFill>
                            <a:schemeClr val="accent5">
                              <a:lumMod val="50000"/>
                            </a:schemeClr>
                          </a:solidFill>
                          <a:latin typeface="微软雅黑"/>
                          <a:ea typeface="微软雅黑"/>
                        </a:rPr>
                        <a:t>50%</a:t>
                      </a:r>
                      <a:r>
                        <a:rPr b="0" lang="zh-CN" sz="1800" spc="-1" strike="noStrike">
                          <a:solidFill>
                            <a:schemeClr val="accent5">
                              <a:lumMod val="50000"/>
                            </a:schemeClr>
                          </a:solidFill>
                          <a:latin typeface="微软雅黑"/>
                          <a:ea typeface="微软雅黑"/>
                        </a:rPr>
                        <a:t>的时间向对方问问题，了解工作内容、公司状况</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想弄清楚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他们想要我吗？</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noFill/>
                  </a:tcPr>
                </a:tc>
                <a:tc>
                  <a:txBody>
                    <a:bodyPr anchor="ctr">
                      <a:noAutofit/>
                    </a:bodyPr>
                    <a:p>
                      <a:pPr algn="just">
                        <a:lnSpc>
                          <a:spcPct val="120000"/>
                        </a:lnSpc>
                      </a:pPr>
                      <a:r>
                        <a:rPr b="0" lang="en-US" sz="1800" spc="-1" strike="noStrike">
                          <a:solidFill>
                            <a:schemeClr val="accent5">
                              <a:lumMod val="50000"/>
                            </a:schemeClr>
                          </a:solidFill>
                          <a:latin typeface="微软雅黑"/>
                          <a:ea typeface="微软雅黑"/>
                        </a:rPr>
                        <a:t>“</a:t>
                      </a:r>
                      <a:r>
                        <a:rPr b="0" lang="zh-CN" sz="1800" spc="-1" strike="noStrike">
                          <a:solidFill>
                            <a:schemeClr val="accent5">
                              <a:lumMod val="50000"/>
                            </a:schemeClr>
                          </a:solidFill>
                          <a:latin typeface="微软雅黑"/>
                          <a:ea typeface="微软雅黑"/>
                        </a:rPr>
                        <a:t>我想要他们吗？”（以及“他们想要我吗？”）</a:t>
                      </a:r>
                      <a:endParaRPr b="0" lang="en-US" sz="1800" spc="-1" strike="noStrike">
                        <a:solidFill>
                          <a:srgbClr val="000000"/>
                        </a:solidFill>
                        <a:latin typeface="Arial"/>
                      </a:endParaRPr>
                    </a:p>
                  </a:txBody>
                  <a:tcPr anchor="ctr" marL="91440" marR="91440">
                    <a:lnL>
                      <a:noFill/>
                    </a:lnL>
                    <a:lnR>
                      <a:noFill/>
                    </a:lnR>
                    <a:lnT>
                      <a:noFill/>
                    </a:lnT>
                    <a:lnB>
                      <a:noFill/>
                    </a:lnB>
                    <a:no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何结束最后一轮面试？</a:t>
                      </a:r>
                      <a:endParaRPr b="0" lang="en-US" sz="1800" spc="-1" strike="noStrike">
                        <a:solidFill>
                          <a:srgbClr val="000000"/>
                        </a:solidFill>
                        <a:latin typeface="Arial"/>
                      </a:endParaRPr>
                    </a:p>
                  </a:txBody>
                  <a:tcPr anchor="ctr" marL="91440" marR="91440">
                    <a:lnL>
                      <a:no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你问对方：“何时能得到您的答复？”（让事情悬而未决）</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a:noFill/>
                    </a:lnB>
                    <a:solidFill>
                      <a:schemeClr val="accent5"/>
                    </a:solid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如果你决定要在那儿工作，你会问：“我相信自己是公司要找的人根据咱们谈的这些，您会录用我们？”（你在寻求结论）</a:t>
                      </a:r>
                      <a:endParaRPr b="0" lang="en-US" sz="1800" spc="-1" strike="noStrike">
                        <a:solidFill>
                          <a:srgbClr val="000000"/>
                        </a:solidFill>
                        <a:latin typeface="Arial"/>
                      </a:endParaRPr>
                    </a:p>
                  </a:txBody>
                  <a:tcPr anchor="ctr" marL="91440" marR="91440">
                    <a:lnL>
                      <a:noFill/>
                    </a:lnL>
                    <a:lnR>
                      <a:noFill/>
                    </a:lnR>
                    <a:lnT>
                      <a:noFill/>
                    </a:lnT>
                    <a:lnB>
                      <a:noFill/>
                    </a:lnB>
                    <a:solidFill>
                      <a:schemeClr val="accent5"/>
                    </a:solidFill>
                  </a:tcPr>
                </a:tc>
              </a:tr>
              <a:tr h="370800">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被录用后，开始工作前，你会做什么？</a:t>
                      </a:r>
                      <a:endParaRPr b="0" lang="en-US" sz="1800" spc="-1" strike="noStrike">
                        <a:solidFill>
                          <a:srgbClr val="000000"/>
                        </a:solidFill>
                        <a:latin typeface="Arial"/>
                      </a:endParaRPr>
                    </a:p>
                  </a:txBody>
                  <a:tcPr anchor="ctr" marL="91440" marR="91440">
                    <a:lnL>
                      <a:noFill/>
                    </a:lnL>
                    <a:lnR w="12240">
                      <a:solidFill>
                        <a:srgbClr val="2777d8"/>
                      </a:solidFill>
                    </a:lnR>
                    <a:lnT>
                      <a:noFill/>
                    </a:lnT>
                    <a:lnB w="12240">
                      <a:solidFill>
                        <a:srgbClr val="4472c4"/>
                      </a:solid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发感谢信。休息，放松，庆祝自己求职成功</a:t>
                      </a:r>
                      <a:endParaRPr b="0" lang="en-US" sz="1800" spc="-1" strike="noStrike">
                        <a:solidFill>
                          <a:srgbClr val="000000"/>
                        </a:solidFill>
                        <a:latin typeface="Arial"/>
                      </a:endParaRPr>
                    </a:p>
                  </a:txBody>
                  <a:tcPr anchor="ctr" marL="91440" marR="91440">
                    <a:lnL w="12240">
                      <a:solidFill>
                        <a:srgbClr val="2777d8"/>
                      </a:solidFill>
                    </a:lnL>
                    <a:lnR w="12240">
                      <a:solidFill>
                        <a:srgbClr val="2777d8"/>
                      </a:solidFill>
                    </a:lnR>
                    <a:lnT>
                      <a:noFill/>
                    </a:lnT>
                    <a:lnB w="12240">
                      <a:solidFill>
                        <a:srgbClr val="4472c4"/>
                      </a:solidFill>
                    </a:lnB>
                    <a:noFill/>
                  </a:tcPr>
                </a:tc>
                <a:tc>
                  <a:txBody>
                    <a:bodyPr anchor="ctr">
                      <a:noAutofit/>
                    </a:bodyPr>
                    <a:p>
                      <a:pPr algn="just">
                        <a:lnSpc>
                          <a:spcPct val="120000"/>
                        </a:lnSpc>
                      </a:pPr>
                      <a:r>
                        <a:rPr b="0" lang="zh-CN" sz="1800" spc="-1" strike="noStrike">
                          <a:solidFill>
                            <a:schemeClr val="accent5">
                              <a:lumMod val="50000"/>
                            </a:schemeClr>
                          </a:solidFill>
                          <a:latin typeface="微软雅黑"/>
                          <a:ea typeface="微软雅黑"/>
                        </a:rPr>
                        <a:t>发感谢信。继续求职（因为不可预知的原因，开始工作前，</a:t>
                      </a:r>
                      <a:r>
                        <a:rPr b="0" lang="en-US" sz="1800" spc="-1" strike="noStrike">
                          <a:solidFill>
                            <a:schemeClr val="accent5">
                              <a:lumMod val="50000"/>
                            </a:schemeClr>
                          </a:solidFill>
                          <a:latin typeface="微软雅黑"/>
                          <a:ea typeface="微软雅黑"/>
                        </a:rPr>
                        <a:t>offer</a:t>
                      </a:r>
                      <a:r>
                        <a:rPr b="0" lang="zh-CN" sz="1800" spc="-1" strike="noStrike">
                          <a:solidFill>
                            <a:schemeClr val="accent5">
                              <a:lumMod val="50000"/>
                            </a:schemeClr>
                          </a:solidFill>
                          <a:latin typeface="微软雅黑"/>
                          <a:ea typeface="微软雅黑"/>
                        </a:rPr>
                        <a:t>，即录用确认可能会变化）</a:t>
                      </a:r>
                      <a:endParaRPr b="0" lang="en-US" sz="1800" spc="-1" strike="noStrike">
                        <a:solidFill>
                          <a:srgbClr val="000000"/>
                        </a:solidFill>
                        <a:latin typeface="Arial"/>
                      </a:endParaRPr>
                    </a:p>
                  </a:txBody>
                  <a:tcPr anchor="ctr" marL="91440" marR="91440">
                    <a:lnL>
                      <a:noFill/>
                    </a:lnL>
                    <a:lnR>
                      <a:noFill/>
                    </a:lnR>
                    <a:lnT>
                      <a:noFill/>
                    </a:lnT>
                    <a:lnB w="12240">
                      <a:solidFill>
                        <a:srgbClr val="4472c4"/>
                      </a:solidFill>
                    </a:lnB>
                    <a:noFill/>
                  </a:tcPr>
                </a:tc>
              </a:tr>
            </a:tbl>
          </a:graphicData>
        </a:graphic>
      </p:graphicFrame>
      <p:sp>
        <p:nvSpPr>
          <p:cNvPr id="455" name="文本框 2"/>
          <p:cNvSpPr/>
          <p:nvPr/>
        </p:nvSpPr>
        <p:spPr>
          <a:xfrm>
            <a:off x="2714760" y="5261400"/>
            <a:ext cx="7107840" cy="11869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50000"/>
              </a:lnSpc>
              <a:buClr>
                <a:srgbClr val="203864"/>
              </a:buClr>
              <a:buFont typeface="Wingdings" charset="2"/>
              <a:buChar char=""/>
            </a:pPr>
            <a:r>
              <a:rPr b="0" lang="zh-CN" sz="2400" spc="-1" strike="noStrike">
                <a:solidFill>
                  <a:schemeClr val="accent5">
                    <a:lumMod val="50000"/>
                  </a:schemeClr>
                </a:solidFill>
                <a:latin typeface="微软雅黑"/>
                <a:ea typeface="微软雅黑"/>
              </a:rPr>
              <a:t>传统方式：分析劳动力市场需求，确定能工作的地方，被动地通过简历接触对方；</a:t>
            </a:r>
            <a:endParaRPr b="0" lang="en-US" sz="2400" spc="-1" strike="noStrike">
              <a:solidFill>
                <a:srgbClr val="000000"/>
              </a:solidFill>
              <a:latin typeface="Arial"/>
            </a:endParaRPr>
          </a:p>
          <a:p>
            <a:pPr marL="343080" indent="-343080">
              <a:lnSpc>
                <a:spcPct val="150000"/>
              </a:lnSpc>
              <a:buClr>
                <a:srgbClr val="203864"/>
              </a:buClr>
              <a:buFont typeface="Wingdings" charset="2"/>
              <a:buChar char=""/>
            </a:pPr>
            <a:r>
              <a:rPr b="0" lang="zh-CN" sz="2400" spc="-1" strike="noStrike">
                <a:solidFill>
                  <a:schemeClr val="accent5">
                    <a:lumMod val="50000"/>
                  </a:schemeClr>
                </a:solidFill>
                <a:latin typeface="微软雅黑"/>
                <a:ea typeface="微软雅黑"/>
              </a:rPr>
              <a:t>创造性方式：对自己做详细盘点，决定怎样的公司适合自己，主动出击；</a:t>
            </a:r>
            <a:endParaRPr b="0" lang="en-US" sz="24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图片 2" descr=""/>
          <p:cNvPicPr/>
          <p:nvPr/>
        </p:nvPicPr>
        <p:blipFill>
          <a:blip r:embed="rId1"/>
          <a:stretch/>
        </p:blipFill>
        <p:spPr>
          <a:xfrm>
            <a:off x="135720" y="398160"/>
            <a:ext cx="4307040" cy="6459480"/>
          </a:xfrm>
          <a:prstGeom prst="rect">
            <a:avLst/>
          </a:prstGeom>
          <a:ln w="0">
            <a:noFill/>
          </a:ln>
        </p:spPr>
      </p:pic>
      <p:sp>
        <p:nvSpPr>
          <p:cNvPr id="157" name="文本框 3"/>
          <p:cNvSpPr/>
          <p:nvPr/>
        </p:nvSpPr>
        <p:spPr>
          <a:xfrm>
            <a:off x="4688280" y="1149840"/>
            <a:ext cx="6816960" cy="152064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spcBef>
                <a:spcPts val="901"/>
              </a:spcBef>
              <a:tabLst>
                <a:tab algn="l" pos="0"/>
              </a:tabLst>
            </a:pPr>
            <a:r>
              <a:rPr b="0" lang="zh-CN" sz="2400" spc="-1" strike="noStrike">
                <a:solidFill>
                  <a:schemeClr val="accent5"/>
                </a:solidFill>
                <a:latin typeface="微软雅黑"/>
                <a:ea typeface="微软雅黑"/>
              </a:rPr>
              <a:t>理查德</a:t>
            </a:r>
            <a:r>
              <a:rPr b="0" lang="en-US" sz="2400" spc="-1" strike="noStrike">
                <a:solidFill>
                  <a:schemeClr val="accent5"/>
                </a:solidFill>
                <a:latin typeface="微软雅黑"/>
                <a:ea typeface="微软雅黑"/>
              </a:rPr>
              <a:t>·</a:t>
            </a:r>
            <a:r>
              <a:rPr b="0" lang="zh-CN" sz="2400" spc="-1" strike="noStrike">
                <a:solidFill>
                  <a:schemeClr val="accent5"/>
                </a:solidFill>
                <a:latin typeface="微软雅黑"/>
                <a:ea typeface="微软雅黑"/>
              </a:rPr>
              <a:t>尼尔森</a:t>
            </a:r>
            <a:r>
              <a:rPr b="0" lang="en-US" sz="2400" spc="-1" strike="noStrike">
                <a:solidFill>
                  <a:schemeClr val="accent5"/>
                </a:solidFill>
                <a:latin typeface="微软雅黑"/>
                <a:ea typeface="微软雅黑"/>
              </a:rPr>
              <a:t>·</a:t>
            </a:r>
            <a:r>
              <a:rPr b="0" lang="zh-CN" sz="2400" spc="-1" strike="noStrike">
                <a:solidFill>
                  <a:schemeClr val="accent5"/>
                </a:solidFill>
                <a:latin typeface="微软雅黑"/>
                <a:ea typeface="微软雅黑"/>
              </a:rPr>
              <a:t>鲍利斯是美国最顶尖的职业专家，他的《你的降落伞是什么颜色？》也是全球最畅销的求职类书籍之一。</a:t>
            </a:r>
            <a:endParaRPr b="0" lang="en-US" sz="2400" spc="-1" strike="noStrike">
              <a:solidFill>
                <a:srgbClr val="000000"/>
              </a:solidFill>
              <a:latin typeface="Arial"/>
            </a:endParaRPr>
          </a:p>
          <a:p>
            <a:pPr algn="just">
              <a:lnSpc>
                <a:spcPct val="120000"/>
              </a:lnSpc>
              <a:spcBef>
                <a:spcPts val="901"/>
              </a:spcBef>
              <a:tabLst>
                <a:tab algn="l" pos="0"/>
              </a:tabLst>
            </a:pPr>
            <a:r>
              <a:rPr b="0" lang="zh-CN" sz="2400" spc="-1" strike="noStrike">
                <a:solidFill>
                  <a:schemeClr val="accent5"/>
                </a:solidFill>
                <a:latin typeface="微软雅黑"/>
                <a:ea typeface="微软雅黑"/>
              </a:rPr>
              <a:t>本书的目标是让职场人直面自己、直面自己所处的环境和遇到的问题，从而了解自己真正的价值所在，找到能真正实现自我价值的平台。</a:t>
            </a:r>
            <a:endParaRPr b="0" lang="en-US" sz="2400" spc="-1" strike="noStrike">
              <a:solidFill>
                <a:srgbClr val="000000"/>
              </a:solidFill>
              <a:latin typeface="Arial"/>
            </a:endParaRPr>
          </a:p>
        </p:txBody>
      </p:sp>
      <p:sp>
        <p:nvSpPr>
          <p:cNvPr id="158" name="文本框 4"/>
          <p:cNvSpPr/>
          <p:nvPr/>
        </p:nvSpPr>
        <p:spPr>
          <a:xfrm>
            <a:off x="7925400" y="4457160"/>
            <a:ext cx="30974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5">
                    <a:lumMod val="50000"/>
                  </a:schemeClr>
                </a:solidFill>
                <a:latin typeface="方正粗宋简体"/>
                <a:ea typeface="方正粗宋简体"/>
              </a:rPr>
              <a:t>——</a:t>
            </a:r>
            <a:r>
              <a:rPr b="0" lang="zh-CN" sz="2000" spc="-1" strike="noStrike">
                <a:solidFill>
                  <a:schemeClr val="accent5">
                    <a:lumMod val="50000"/>
                  </a:schemeClr>
                </a:solidFill>
                <a:latin typeface="方正粗宋简体"/>
                <a:ea typeface="方正粗宋简体"/>
              </a:rPr>
              <a:t>猎聘网创始人兼</a:t>
            </a:r>
            <a:r>
              <a:rPr b="0" lang="en-US" sz="2000" spc="-1" strike="noStrike">
                <a:solidFill>
                  <a:schemeClr val="accent5">
                    <a:lumMod val="50000"/>
                  </a:schemeClr>
                </a:solidFill>
                <a:latin typeface="方正粗宋简体"/>
                <a:ea typeface="方正粗宋简体"/>
              </a:rPr>
              <a:t>CEO </a:t>
            </a:r>
            <a:r>
              <a:rPr b="0" lang="zh-CN" sz="2400" spc="-1" strike="noStrike">
                <a:solidFill>
                  <a:schemeClr val="accent5">
                    <a:lumMod val="50000"/>
                  </a:schemeClr>
                </a:solidFill>
                <a:latin typeface="方正粗宋简体"/>
                <a:ea typeface="方正粗宋简体"/>
              </a:rPr>
              <a:t>戴科彬</a:t>
            </a:r>
            <a:endParaRPr b="0" lang="en-US" sz="2400" spc="-1" strike="noStrike">
              <a:solidFill>
                <a:srgbClr val="000000"/>
              </a:solidFill>
              <a:latin typeface="Arial"/>
            </a:endParaRPr>
          </a:p>
        </p:txBody>
      </p:sp>
      <p:pic>
        <p:nvPicPr>
          <p:cNvPr id="159" name="图片 5" descr=""/>
          <p:cNvPicPr/>
          <p:nvPr/>
        </p:nvPicPr>
        <p:blipFill>
          <a:blip r:embed="rId2"/>
          <a:srcRect l="48127" t="14438" r="22509" b="62373"/>
          <a:stretch/>
        </p:blipFill>
        <p:spPr>
          <a:xfrm>
            <a:off x="4408200" y="241920"/>
            <a:ext cx="2824560" cy="2128680"/>
          </a:xfrm>
          <a:prstGeom prst="rect">
            <a:avLst/>
          </a:prstGeom>
          <a:ln w="0">
            <a:noFill/>
          </a:ln>
        </p:spPr>
      </p:pic>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56" name="图片 8" descr=""/>
          <p:cNvPicPr/>
          <p:nvPr/>
        </p:nvPicPr>
        <p:blipFill>
          <a:blip r:embed="rId1"/>
          <a:stretch/>
        </p:blipFill>
        <p:spPr>
          <a:xfrm rot="20452800">
            <a:off x="2939400" y="949320"/>
            <a:ext cx="3455280" cy="3307320"/>
          </a:xfrm>
          <a:prstGeom prst="rect">
            <a:avLst/>
          </a:prstGeom>
          <a:ln w="0">
            <a:noFill/>
          </a:ln>
        </p:spPr>
      </p:pic>
      <p:cxnSp>
        <p:nvCxnSpPr>
          <p:cNvPr id="457" name="直接连接符 4"/>
          <p:cNvCxnSpPr/>
          <p:nvPr/>
        </p:nvCxnSpPr>
        <p:spPr>
          <a:xfrm>
            <a:off x="5344560" y="3992400"/>
            <a:ext cx="360" cy="1790280"/>
          </a:xfrm>
          <a:prstGeom prst="straightConnector1">
            <a:avLst/>
          </a:prstGeom>
          <a:ln w="127000">
            <a:solidFill>
              <a:srgbClr val="5b9bd5"/>
            </a:solidFill>
          </a:ln>
        </p:spPr>
      </p:cxnSp>
      <p:sp>
        <p:nvSpPr>
          <p:cNvPr id="458" name="文本框 5"/>
          <p:cNvSpPr/>
          <p:nvPr/>
        </p:nvSpPr>
        <p:spPr>
          <a:xfrm>
            <a:off x="6131520" y="4518360"/>
            <a:ext cx="219276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5b9bd5"/>
                </a:solidFill>
                <a:latin typeface="方正综艺简体"/>
                <a:ea typeface="方正综艺简体"/>
              </a:rPr>
              <a:t>如何应对你的</a:t>
            </a:r>
            <a:endParaRPr b="0" lang="en-US" sz="4400" spc="-1" strike="noStrike">
              <a:solidFill>
                <a:srgbClr val="000000"/>
              </a:solidFill>
              <a:latin typeface="Arial"/>
            </a:endParaRPr>
          </a:p>
          <a:p>
            <a:pPr>
              <a:lnSpc>
                <a:spcPct val="100000"/>
              </a:lnSpc>
            </a:pPr>
            <a:r>
              <a:rPr b="0" lang="zh-CN" sz="4400" spc="-1" strike="noStrike">
                <a:solidFill>
                  <a:srgbClr val="c60139"/>
                </a:solidFill>
                <a:latin typeface="方正综艺简体"/>
                <a:ea typeface="方正综艺简体"/>
              </a:rPr>
              <a:t>缺陷</a:t>
            </a:r>
            <a:r>
              <a:rPr b="0" lang="zh-CN" sz="4400" spc="-1" strike="noStrike">
                <a:solidFill>
                  <a:srgbClr val="5b9bd5"/>
                </a:solidFill>
                <a:latin typeface="方正综艺简体"/>
                <a:ea typeface="方正综艺简体"/>
              </a:rPr>
              <a:t>？</a:t>
            </a:r>
            <a:endParaRPr b="0" lang="en-US" sz="4400" spc="-1" strike="noStrike">
              <a:solidFill>
                <a:srgbClr val="000000"/>
              </a:solidFill>
              <a:latin typeface="Arial"/>
            </a:endParaRPr>
          </a:p>
        </p:txBody>
      </p:sp>
      <p:sp>
        <p:nvSpPr>
          <p:cNvPr id="459"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460"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矩形 6"/>
          <p:cNvSpPr/>
          <p:nvPr/>
        </p:nvSpPr>
        <p:spPr>
          <a:xfrm>
            <a:off x="0" y="4684320"/>
            <a:ext cx="12191760" cy="1861920"/>
          </a:xfrm>
          <a:prstGeom prst="rect">
            <a:avLst/>
          </a:prstGeom>
          <a:solidFill>
            <a:schemeClr val="bg1">
              <a:alpha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2" name="文本框 1"/>
          <p:cNvSpPr/>
          <p:nvPr/>
        </p:nvSpPr>
        <p:spPr>
          <a:xfrm>
            <a:off x="2613960" y="573480"/>
            <a:ext cx="2029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不要对所有雇主</a:t>
            </a:r>
            <a:r>
              <a:rPr b="0" lang="zh-CN" sz="2800" spc="-1" strike="noStrike">
                <a:solidFill>
                  <a:srgbClr val="c60139"/>
                </a:solidFill>
                <a:latin typeface="华康俪金黑W8(P)"/>
                <a:ea typeface="华康俪金黑W8(P)"/>
              </a:rPr>
              <a:t>一概而论</a:t>
            </a:r>
            <a:endParaRPr b="0" lang="en-US" sz="2800" spc="-1" strike="noStrike">
              <a:solidFill>
                <a:srgbClr val="000000"/>
              </a:solidFill>
              <a:latin typeface="Arial"/>
            </a:endParaRPr>
          </a:p>
        </p:txBody>
      </p:sp>
      <p:pic>
        <p:nvPicPr>
          <p:cNvPr id="463" name="图片 2" descr=""/>
          <p:cNvPicPr/>
          <p:nvPr/>
        </p:nvPicPr>
        <p:blipFill>
          <a:blip r:embed="rId1"/>
          <a:stretch/>
        </p:blipFill>
        <p:spPr>
          <a:xfrm flipH="1">
            <a:off x="640440" y="374040"/>
            <a:ext cx="921240" cy="921240"/>
          </a:xfrm>
          <a:prstGeom prst="rect">
            <a:avLst/>
          </a:prstGeom>
          <a:ln w="0">
            <a:noFill/>
          </a:ln>
        </p:spPr>
      </p:pic>
      <p:graphicFrame>
        <p:nvGraphicFramePr>
          <p:cNvPr id="4" name="Diagram4"/>
          <p:cNvGraphicFramePr/>
          <p:nvPr>
            <p:extLst>
              <p:ext uri="{D42A27DB-BD31-4B8C-83A1-F6EECF244321}">
                <p14:modId xmlns:p14="http://schemas.microsoft.com/office/powerpoint/2010/main" val="1153807809"/>
              </p:ext>
            </p:extLst>
          </p:nvPr>
        </p:nvGraphicFramePr>
        <p:xfrm>
          <a:off x="2109960" y="1904040"/>
          <a:ext cx="7971840" cy="22150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64" name="文本框 5"/>
          <p:cNvSpPr/>
          <p:nvPr/>
        </p:nvSpPr>
        <p:spPr>
          <a:xfrm>
            <a:off x="1587240" y="4684320"/>
            <a:ext cx="9017280" cy="14061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20000"/>
              </a:lnSpc>
              <a:buClr>
                <a:srgbClr val="203864"/>
              </a:buClr>
              <a:buFont typeface="Wingdings" charset="2"/>
              <a:buChar char=""/>
            </a:pPr>
            <a:r>
              <a:rPr b="0" lang="zh-CN" sz="2400" spc="-1" strike="noStrike">
                <a:solidFill>
                  <a:schemeClr val="accent5">
                    <a:lumMod val="50000"/>
                  </a:schemeClr>
                </a:solidFill>
                <a:latin typeface="微软雅黑"/>
                <a:ea typeface="微软雅黑"/>
              </a:rPr>
              <a:t>如果面试你的雇主明显在意你的缺陷，你只需平静地结束面试，并询问他们是否知道其他人可能对你的技能感兴趣；</a:t>
            </a:r>
            <a:endParaRPr b="0" lang="en-US" sz="2400" spc="-1" strike="noStrike">
              <a:solidFill>
                <a:srgbClr val="000000"/>
              </a:solidFill>
              <a:latin typeface="Arial"/>
            </a:endParaRPr>
          </a:p>
          <a:p>
            <a:pPr marL="343080" indent="-343080" algn="just">
              <a:lnSpc>
                <a:spcPct val="120000"/>
              </a:lnSpc>
              <a:buClr>
                <a:srgbClr val="203864"/>
              </a:buClr>
              <a:buFont typeface="Wingdings" charset="2"/>
              <a:buChar char=""/>
            </a:pPr>
            <a:r>
              <a:rPr b="0" lang="zh-CN" sz="2400" spc="-1" strike="noStrike">
                <a:solidFill>
                  <a:schemeClr val="accent5">
                    <a:lumMod val="50000"/>
                  </a:schemeClr>
                </a:solidFill>
                <a:latin typeface="微软雅黑"/>
                <a:ea typeface="微软雅黑"/>
              </a:rPr>
              <a:t>注意礼貌，面试结束当天晚上给雇主写感谢信，无论他们使你多么生气；</a:t>
            </a:r>
            <a:endParaRPr b="0" lang="en-US" sz="2400" spc="-1" strike="noStrike">
              <a:solidFill>
                <a:srgbClr val="000000"/>
              </a:solidFill>
              <a:latin typeface="Arial"/>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文本框 1"/>
          <p:cNvSpPr/>
          <p:nvPr/>
        </p:nvSpPr>
        <p:spPr>
          <a:xfrm>
            <a:off x="2219040" y="573480"/>
            <a:ext cx="2101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每个人</a:t>
            </a:r>
            <a:r>
              <a:rPr b="0" lang="zh-CN" sz="2800" spc="-1" strike="noStrike">
                <a:solidFill>
                  <a:srgbClr val="c60139"/>
                </a:solidFill>
                <a:latin typeface="华康俪金黑W8(P)"/>
                <a:ea typeface="华康俪金黑W8(P)"/>
              </a:rPr>
              <a:t>都</a:t>
            </a:r>
            <a:r>
              <a:rPr b="0" lang="zh-CN" sz="2800" spc="-1" strike="noStrike">
                <a:solidFill>
                  <a:srgbClr val="2777d8"/>
                </a:solidFill>
                <a:latin typeface="华康俪金黑W8(P)"/>
                <a:ea typeface="华康俪金黑W8(P)"/>
              </a:rPr>
              <a:t>是有缺陷的</a:t>
            </a:r>
            <a:endParaRPr b="0" lang="en-US" sz="2800" spc="-1" strike="noStrike">
              <a:solidFill>
                <a:srgbClr val="000000"/>
              </a:solidFill>
              <a:latin typeface="Arial"/>
            </a:endParaRPr>
          </a:p>
        </p:txBody>
      </p:sp>
      <p:pic>
        <p:nvPicPr>
          <p:cNvPr id="466" name="图片 2" descr=""/>
          <p:cNvPicPr/>
          <p:nvPr/>
        </p:nvPicPr>
        <p:blipFill>
          <a:blip r:embed="rId1"/>
          <a:stretch/>
        </p:blipFill>
        <p:spPr>
          <a:xfrm flipH="1">
            <a:off x="640440" y="374040"/>
            <a:ext cx="921240" cy="921240"/>
          </a:xfrm>
          <a:prstGeom prst="rect">
            <a:avLst/>
          </a:prstGeom>
          <a:ln w="0">
            <a:noFill/>
          </a:ln>
        </p:spPr>
      </p:pic>
      <p:grpSp>
        <p:nvGrpSpPr>
          <p:cNvPr id="467" name="组合 10"/>
          <p:cNvGrpSpPr/>
          <p:nvPr/>
        </p:nvGrpSpPr>
        <p:grpSpPr>
          <a:xfrm>
            <a:off x="552960" y="1989360"/>
            <a:ext cx="10562040" cy="2878920"/>
            <a:chOff x="552960" y="1989360"/>
            <a:chExt cx="10562040" cy="2878920"/>
          </a:xfrm>
        </p:grpSpPr>
        <p:sp>
          <p:nvSpPr>
            <p:cNvPr id="468" name="文本框 3"/>
            <p:cNvSpPr/>
            <p:nvPr/>
          </p:nvSpPr>
          <p:spPr>
            <a:xfrm>
              <a:off x="3360240" y="2062800"/>
              <a:ext cx="6216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5">
                      <a:lumMod val="50000"/>
                    </a:schemeClr>
                  </a:solidFill>
                  <a:latin typeface="微软雅黑"/>
                  <a:ea typeface="微软雅黑"/>
                </a:rPr>
                <a:t>真正的缺陷在于没有能力：总有些事情是我们无能为力的，原因并不重要；</a:t>
              </a:r>
              <a:endParaRPr b="0" lang="en-US" sz="2400" spc="-1" strike="noStrike">
                <a:solidFill>
                  <a:srgbClr val="000000"/>
                </a:solidFill>
                <a:latin typeface="Arial"/>
              </a:endParaRPr>
            </a:p>
          </p:txBody>
        </p:sp>
        <p:sp>
          <p:nvSpPr>
            <p:cNvPr id="469" name="同心圆 5"/>
            <p:cNvSpPr/>
            <p:nvPr/>
          </p:nvSpPr>
          <p:spPr>
            <a:xfrm>
              <a:off x="552960" y="1989360"/>
              <a:ext cx="608040" cy="608040"/>
            </a:xfrm>
            <a:prstGeom prst="donut">
              <a:avLst>
                <a:gd name="adj" fmla="val 25000"/>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70" name="矩形 6"/>
            <p:cNvSpPr/>
            <p:nvPr/>
          </p:nvSpPr>
          <p:spPr>
            <a:xfrm>
              <a:off x="1297800" y="3198240"/>
              <a:ext cx="98172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chemeClr val="accent5">
                      <a:lumMod val="50000"/>
                    </a:schemeClr>
                  </a:solidFill>
                  <a:latin typeface="微软雅黑"/>
                  <a:ea typeface="微软雅黑"/>
                </a:rPr>
                <a:t>世界上有无数种技能，没有人知道具体数字，普通人终究无法全部掌握；</a:t>
              </a:r>
              <a:endParaRPr b="0" lang="en-US" sz="2400" spc="-1" strike="noStrike">
                <a:solidFill>
                  <a:srgbClr val="000000"/>
                </a:solidFill>
                <a:latin typeface="Arial"/>
              </a:endParaRPr>
            </a:p>
          </p:txBody>
        </p:sp>
        <p:sp>
          <p:nvSpPr>
            <p:cNvPr id="471" name="矩形 7"/>
            <p:cNvSpPr/>
            <p:nvPr/>
          </p:nvSpPr>
          <p:spPr>
            <a:xfrm>
              <a:off x="2860560" y="4333680"/>
              <a:ext cx="47530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5">
                      <a:lumMod val="50000"/>
                    </a:schemeClr>
                  </a:solidFill>
                  <a:latin typeface="微软雅黑"/>
                  <a:ea typeface="微软雅黑"/>
                </a:rPr>
                <a:t>求职时若自己真的有缺陷，要知道它并不影响你找工作；</a:t>
              </a:r>
              <a:endParaRPr b="0" lang="en-US" sz="2400" spc="-1" strike="noStrike">
                <a:solidFill>
                  <a:srgbClr val="000000"/>
                </a:solidFill>
                <a:latin typeface="Arial"/>
              </a:endParaRPr>
            </a:p>
          </p:txBody>
        </p:sp>
        <p:sp>
          <p:nvSpPr>
            <p:cNvPr id="472" name="同心圆 8"/>
            <p:cNvSpPr/>
            <p:nvPr/>
          </p:nvSpPr>
          <p:spPr>
            <a:xfrm>
              <a:off x="552960" y="3124800"/>
              <a:ext cx="608040" cy="608040"/>
            </a:xfrm>
            <a:prstGeom prst="donut">
              <a:avLst>
                <a:gd name="adj" fmla="val 25000"/>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73" name="同心圆 9"/>
            <p:cNvSpPr/>
            <p:nvPr/>
          </p:nvSpPr>
          <p:spPr>
            <a:xfrm>
              <a:off x="552960" y="4260240"/>
              <a:ext cx="608040" cy="608040"/>
            </a:xfrm>
            <a:prstGeom prst="donut">
              <a:avLst>
                <a:gd name="adj" fmla="val 25000"/>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 name="组合 29"/>
          <p:cNvGrpSpPr/>
          <p:nvPr/>
        </p:nvGrpSpPr>
        <p:grpSpPr>
          <a:xfrm>
            <a:off x="6066000" y="4063320"/>
            <a:ext cx="6052320" cy="2706120"/>
            <a:chOff x="6066000" y="4063320"/>
            <a:chExt cx="6052320" cy="2706120"/>
          </a:xfrm>
        </p:grpSpPr>
        <p:sp>
          <p:nvSpPr>
            <p:cNvPr id="475" name="椭圆 24"/>
            <p:cNvSpPr/>
            <p:nvPr/>
          </p:nvSpPr>
          <p:spPr>
            <a:xfrm>
              <a:off x="8598960" y="5724000"/>
              <a:ext cx="960120" cy="960120"/>
            </a:xfrm>
            <a:prstGeom prst="ellipse">
              <a:avLst/>
            </a:prstGeom>
            <a:solidFill>
              <a:schemeClr val="accent5">
                <a:lumMod val="60000"/>
                <a:lumOff val="40000"/>
                <a:alpha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476" name="组合 8"/>
            <p:cNvGrpSpPr/>
            <p:nvPr/>
          </p:nvGrpSpPr>
          <p:grpSpPr>
            <a:xfrm>
              <a:off x="10426320" y="4063320"/>
              <a:ext cx="1406520" cy="1406520"/>
              <a:chOff x="10426320" y="4063320"/>
              <a:chExt cx="1406520" cy="1406520"/>
            </a:xfrm>
          </p:grpSpPr>
          <p:sp>
            <p:nvSpPr>
              <p:cNvPr id="477" name="同心圆 6"/>
              <p:cNvSpPr/>
              <p:nvPr/>
            </p:nvSpPr>
            <p:spPr>
              <a:xfrm>
                <a:off x="10754640" y="4391280"/>
                <a:ext cx="750240" cy="750240"/>
              </a:xfrm>
              <a:prstGeom prst="donut">
                <a:avLst>
                  <a:gd name="adj" fmla="val 14927"/>
                </a:avLst>
              </a:prstGeom>
              <a:noFill/>
              <a:ln w="381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78" name="同心圆 7"/>
              <p:cNvSpPr/>
              <p:nvPr/>
            </p:nvSpPr>
            <p:spPr>
              <a:xfrm>
                <a:off x="10426320" y="4063320"/>
                <a:ext cx="1406520" cy="1406520"/>
              </a:xfrm>
              <a:prstGeom prst="donut">
                <a:avLst>
                  <a:gd name="adj" fmla="val 9950"/>
                </a:avLst>
              </a:prstGeom>
              <a:noFill/>
              <a:ln w="635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79" name="组合 9"/>
            <p:cNvGrpSpPr/>
            <p:nvPr/>
          </p:nvGrpSpPr>
          <p:grpSpPr>
            <a:xfrm>
              <a:off x="10126440" y="5248800"/>
              <a:ext cx="1117080" cy="1149120"/>
              <a:chOff x="10126440" y="5248800"/>
              <a:chExt cx="1117080" cy="1149120"/>
            </a:xfrm>
          </p:grpSpPr>
          <p:sp>
            <p:nvSpPr>
              <p:cNvPr id="480" name="同心圆 10"/>
              <p:cNvSpPr/>
              <p:nvPr/>
            </p:nvSpPr>
            <p:spPr>
              <a:xfrm>
                <a:off x="10387080" y="5517000"/>
                <a:ext cx="595800" cy="612720"/>
              </a:xfrm>
              <a:prstGeom prst="donut">
                <a:avLst>
                  <a:gd name="adj" fmla="val 14927"/>
                </a:avLst>
              </a:prstGeom>
              <a:noFill/>
              <a:ln w="38100">
                <a:solidFill>
                  <a:srgbClr val="5b9bd5">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81" name="同心圆 11"/>
              <p:cNvSpPr/>
              <p:nvPr/>
            </p:nvSpPr>
            <p:spPr>
              <a:xfrm>
                <a:off x="10126440" y="5248800"/>
                <a:ext cx="1117080" cy="1149120"/>
              </a:xfrm>
              <a:prstGeom prst="donut">
                <a:avLst>
                  <a:gd name="adj" fmla="val 9950"/>
                </a:avLst>
              </a:prstGeom>
              <a:noFill/>
              <a:ln w="63500">
                <a:solidFill>
                  <a:srgbClr val="771b22">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82" name="组合 12"/>
            <p:cNvGrpSpPr/>
            <p:nvPr/>
          </p:nvGrpSpPr>
          <p:grpSpPr>
            <a:xfrm>
              <a:off x="6957000" y="5338440"/>
              <a:ext cx="1406520" cy="1406520"/>
              <a:chOff x="6957000" y="5338440"/>
              <a:chExt cx="1406520" cy="1406520"/>
            </a:xfrm>
          </p:grpSpPr>
          <p:sp>
            <p:nvSpPr>
              <p:cNvPr id="483" name="同心圆 13"/>
              <p:cNvSpPr/>
              <p:nvPr/>
            </p:nvSpPr>
            <p:spPr>
              <a:xfrm>
                <a:off x="7285320" y="5666400"/>
                <a:ext cx="750240" cy="750240"/>
              </a:xfrm>
              <a:prstGeom prst="donut">
                <a:avLst>
                  <a:gd name="adj" fmla="val 14927"/>
                </a:avLst>
              </a:prstGeom>
              <a:noFill/>
              <a:ln w="381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84" name="同心圆 14"/>
              <p:cNvSpPr/>
              <p:nvPr/>
            </p:nvSpPr>
            <p:spPr>
              <a:xfrm>
                <a:off x="6957000" y="5338440"/>
                <a:ext cx="1406520" cy="1406520"/>
              </a:xfrm>
              <a:prstGeom prst="donut">
                <a:avLst>
                  <a:gd name="adj" fmla="val 9950"/>
                </a:avLst>
              </a:prstGeom>
              <a:noFill/>
              <a:ln w="63500">
                <a:solidFill>
                  <a:srgbClr val="2777d8">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85" name="组合 15"/>
            <p:cNvGrpSpPr/>
            <p:nvPr/>
          </p:nvGrpSpPr>
          <p:grpSpPr>
            <a:xfrm>
              <a:off x="6066000" y="5690160"/>
              <a:ext cx="1079280" cy="1079280"/>
              <a:chOff x="6066000" y="5690160"/>
              <a:chExt cx="1079280" cy="1079280"/>
            </a:xfrm>
          </p:grpSpPr>
          <p:sp>
            <p:nvSpPr>
              <p:cNvPr id="486" name="同心圆 16"/>
              <p:cNvSpPr/>
              <p:nvPr/>
            </p:nvSpPr>
            <p:spPr>
              <a:xfrm>
                <a:off x="6317640" y="5942160"/>
                <a:ext cx="575640" cy="575640"/>
              </a:xfrm>
              <a:prstGeom prst="donut">
                <a:avLst>
                  <a:gd name="adj" fmla="val 14927"/>
                </a:avLst>
              </a:prstGeom>
              <a:noFill/>
              <a:ln w="38100">
                <a:solidFill>
                  <a:srgbClr val="c60139">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87" name="同心圆 17"/>
              <p:cNvSpPr/>
              <p:nvPr/>
            </p:nvSpPr>
            <p:spPr>
              <a:xfrm>
                <a:off x="6066000" y="5690160"/>
                <a:ext cx="1079280" cy="1079280"/>
              </a:xfrm>
              <a:prstGeom prst="donut">
                <a:avLst>
                  <a:gd name="adj" fmla="val 9950"/>
                </a:avLst>
              </a:prstGeom>
              <a:noFill/>
              <a:ln w="63500">
                <a:solidFill>
                  <a:srgbClr val="ff0000">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grpSp>
          <p:nvGrpSpPr>
            <p:cNvPr id="488" name="组合 18"/>
            <p:cNvGrpSpPr/>
            <p:nvPr/>
          </p:nvGrpSpPr>
          <p:grpSpPr>
            <a:xfrm>
              <a:off x="8851680" y="4398840"/>
              <a:ext cx="1276920" cy="1276920"/>
              <a:chOff x="8851680" y="4398840"/>
              <a:chExt cx="1276920" cy="1276920"/>
            </a:xfrm>
          </p:grpSpPr>
          <p:sp>
            <p:nvSpPr>
              <p:cNvPr id="489" name="同心圆 19"/>
              <p:cNvSpPr/>
              <p:nvPr/>
            </p:nvSpPr>
            <p:spPr>
              <a:xfrm>
                <a:off x="9149760" y="4696920"/>
                <a:ext cx="681120" cy="681120"/>
              </a:xfrm>
              <a:prstGeom prst="donut">
                <a:avLst>
                  <a:gd name="adj" fmla="val 14927"/>
                </a:avLst>
              </a:prstGeom>
              <a:noFill/>
              <a:ln w="38100">
                <a:solidFill>
                  <a:srgbClr val="00b0f0">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490" name="同心圆 20"/>
              <p:cNvSpPr/>
              <p:nvPr/>
            </p:nvSpPr>
            <p:spPr>
              <a:xfrm>
                <a:off x="8851680" y="4398840"/>
                <a:ext cx="1276920" cy="1276920"/>
              </a:xfrm>
              <a:prstGeom prst="donut">
                <a:avLst>
                  <a:gd name="adj" fmla="val 9950"/>
                </a:avLst>
              </a:prstGeom>
              <a:noFill/>
              <a:ln w="63500">
                <a:solidFill>
                  <a:srgbClr val="00b0f0">
                    <a:alpha val="7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sp>
          <p:nvSpPr>
            <p:cNvPr id="491" name="椭圆 22"/>
            <p:cNvSpPr/>
            <p:nvPr/>
          </p:nvSpPr>
          <p:spPr>
            <a:xfrm>
              <a:off x="10886040" y="5536800"/>
              <a:ext cx="1232280" cy="1232280"/>
            </a:xfrm>
            <a:prstGeom prst="ellipse">
              <a:avLst/>
            </a:prstGeom>
            <a:solidFill>
              <a:schemeClr val="accent5">
                <a:lumMod val="75000"/>
                <a:alpha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2" name="椭圆 23"/>
            <p:cNvSpPr/>
            <p:nvPr/>
          </p:nvSpPr>
          <p:spPr>
            <a:xfrm flipV="1">
              <a:off x="9616680" y="6292800"/>
              <a:ext cx="475560" cy="475560"/>
            </a:xfrm>
            <a:prstGeom prst="ellipse">
              <a:avLst/>
            </a:prstGeom>
            <a:solidFill>
              <a:srgbClr val="0070c0">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93" name="矩形 2"/>
          <p:cNvSpPr/>
          <p:nvPr/>
        </p:nvSpPr>
        <p:spPr>
          <a:xfrm>
            <a:off x="-176400" y="1476360"/>
            <a:ext cx="12544560" cy="3913920"/>
          </a:xfrm>
          <a:prstGeom prst="rect">
            <a:avLst/>
          </a:prstGeom>
          <a:solidFill>
            <a:srgbClr val="2777d8">
              <a:alpha val="8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4" name="椭圆 21"/>
          <p:cNvSpPr/>
          <p:nvPr/>
        </p:nvSpPr>
        <p:spPr>
          <a:xfrm>
            <a:off x="7876080" y="4531680"/>
            <a:ext cx="1506960" cy="1506960"/>
          </a:xfrm>
          <a:prstGeom prst="ellipse">
            <a:avLst/>
          </a:prstGeom>
          <a:solidFill>
            <a:srgbClr val="c60139">
              <a:alpha val="5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95" name="文本框 1"/>
          <p:cNvSpPr/>
          <p:nvPr/>
        </p:nvSpPr>
        <p:spPr>
          <a:xfrm>
            <a:off x="955440" y="2636640"/>
            <a:ext cx="10288080" cy="207396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20000"/>
              </a:lnSpc>
              <a:spcBef>
                <a:spcPts val="901"/>
              </a:spcBef>
              <a:spcAft>
                <a:spcPts val="901"/>
              </a:spcAft>
              <a:buClr>
                <a:srgbClr val="dae3f3"/>
              </a:buClr>
              <a:buFont typeface="Wingdings" charset="2"/>
              <a:buChar char=""/>
            </a:pPr>
            <a:r>
              <a:rPr b="0" lang="zh-CN" sz="2400" spc="-1" strike="noStrike">
                <a:solidFill>
                  <a:schemeClr val="accent5">
                    <a:lumMod val="20000"/>
                    <a:lumOff val="80000"/>
                  </a:schemeClr>
                </a:solidFill>
                <a:latin typeface="微软雅黑"/>
                <a:ea typeface="微软雅黑"/>
              </a:rPr>
              <a:t>《</a:t>
            </a:r>
            <a:r>
              <a:rPr b="0" lang="zh-CN" sz="2400" spc="-1" strike="noStrike">
                <a:solidFill>
                  <a:schemeClr val="accent5">
                    <a:lumMod val="20000"/>
                    <a:lumOff val="80000"/>
                  </a:schemeClr>
                </a:solidFill>
                <a:latin typeface="微软雅黑"/>
                <a:ea typeface="微软雅黑"/>
              </a:rPr>
              <a:t>你的降落伞是什么颜色？》被称为美国的“职场圣经”，而黑天鹅图书这一版在翻译过程中在不改变原有风格的基础上增加了很多有用的本土信息，使得这一版很接地气。</a:t>
            </a:r>
            <a:endParaRPr b="0" lang="en-US" sz="2400" spc="-1" strike="noStrike">
              <a:solidFill>
                <a:srgbClr val="000000"/>
              </a:solidFill>
              <a:latin typeface="Arial"/>
            </a:endParaRPr>
          </a:p>
          <a:p>
            <a:pPr marL="343080" indent="-343080" algn="just">
              <a:lnSpc>
                <a:spcPct val="120000"/>
              </a:lnSpc>
              <a:spcBef>
                <a:spcPts val="901"/>
              </a:spcBef>
              <a:spcAft>
                <a:spcPts val="901"/>
              </a:spcAft>
              <a:buClr>
                <a:srgbClr val="dae3f3"/>
              </a:buClr>
              <a:buFont typeface="Wingdings" charset="2"/>
              <a:buChar char=""/>
            </a:pPr>
            <a:r>
              <a:rPr b="0" lang="zh-CN" sz="2400" spc="-1" strike="noStrike">
                <a:solidFill>
                  <a:schemeClr val="accent5">
                    <a:lumMod val="20000"/>
                    <a:lumOff val="80000"/>
                  </a:schemeClr>
                </a:solidFill>
                <a:latin typeface="微软雅黑"/>
                <a:ea typeface="微软雅黑"/>
              </a:rPr>
              <a:t>书中更有花图介绍及练习让读者更好地了解自己</a:t>
            </a:r>
            <a:r>
              <a:rPr b="0" lang="en-US" sz="2400" spc="-1" strike="noStrike">
                <a:solidFill>
                  <a:schemeClr val="accent5">
                    <a:lumMod val="20000"/>
                    <a:lumOff val="80000"/>
                  </a:schemeClr>
                </a:solidFill>
                <a:latin typeface="微软雅黑"/>
                <a:ea typeface="微软雅黑"/>
              </a:rPr>
              <a:t>,</a:t>
            </a:r>
            <a:r>
              <a:rPr b="0" lang="zh-CN" sz="2400" spc="-1" strike="noStrike">
                <a:solidFill>
                  <a:schemeClr val="accent5">
                    <a:lumMod val="20000"/>
                    <a:lumOff val="80000"/>
                  </a:schemeClr>
                </a:solidFill>
                <a:latin typeface="微软雅黑"/>
                <a:ea typeface="微软雅黑"/>
              </a:rPr>
              <a:t>还有跳槽创业相关详细内容。若你正对求职或者自己感到迷茫，不妨看看本书。</a:t>
            </a:r>
            <a:endParaRPr b="0" lang="en-US" sz="2400" spc="-1" strike="noStrike">
              <a:solidFill>
                <a:srgbClr val="000000"/>
              </a:solidFill>
              <a:latin typeface="Arial"/>
            </a:endParaRPr>
          </a:p>
        </p:txBody>
      </p:sp>
      <p:grpSp>
        <p:nvGrpSpPr>
          <p:cNvPr id="496" name="组合 30"/>
          <p:cNvGrpSpPr/>
          <p:nvPr/>
        </p:nvGrpSpPr>
        <p:grpSpPr>
          <a:xfrm>
            <a:off x="955440" y="1904400"/>
            <a:ext cx="1930680" cy="584640"/>
            <a:chOff x="955440" y="1904400"/>
            <a:chExt cx="1930680" cy="584640"/>
          </a:xfrm>
        </p:grpSpPr>
        <p:sp>
          <p:nvSpPr>
            <p:cNvPr id="497" name="矩形 3"/>
            <p:cNvSpPr/>
            <p:nvPr/>
          </p:nvSpPr>
          <p:spPr>
            <a:xfrm>
              <a:off x="1485720" y="1904400"/>
              <a:ext cx="14004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c51c49"/>
                  </a:solidFill>
                  <a:latin typeface="方正粗宋简体"/>
                  <a:ea typeface="方正粗宋简体"/>
                </a:rPr>
                <a:t>写在最后：</a:t>
              </a:r>
              <a:endParaRPr b="0" lang="en-US" sz="3200" spc="-1" strike="noStrike">
                <a:solidFill>
                  <a:srgbClr val="000000"/>
                </a:solidFill>
                <a:latin typeface="Arial"/>
              </a:endParaRPr>
            </a:p>
          </p:txBody>
        </p:sp>
        <p:cxnSp>
          <p:nvCxnSpPr>
            <p:cNvPr id="498" name="直接连接符 5"/>
            <p:cNvCxnSpPr/>
            <p:nvPr/>
          </p:nvCxnSpPr>
          <p:spPr>
            <a:xfrm>
              <a:off x="955440" y="1904400"/>
              <a:ext cx="360" cy="585000"/>
            </a:xfrm>
            <a:prstGeom prst="straightConnector1">
              <a:avLst/>
            </a:prstGeom>
            <a:ln w="152400">
              <a:solidFill>
                <a:srgbClr val="c51c49"/>
              </a:solidFill>
            </a:ln>
          </p:spPr>
        </p:cxnSp>
      </p:gr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图片 2" descr=""/>
          <p:cNvPicPr/>
          <p:nvPr/>
        </p:nvPicPr>
        <p:blipFill>
          <a:blip r:embed="rId1"/>
          <a:stretch/>
        </p:blipFill>
        <p:spPr>
          <a:xfrm>
            <a:off x="7629840" y="105840"/>
            <a:ext cx="4569120" cy="6857640"/>
          </a:xfrm>
          <a:prstGeom prst="rect">
            <a:avLst/>
          </a:prstGeom>
          <a:ln w="0">
            <a:noFill/>
          </a:ln>
        </p:spPr>
      </p:pic>
      <p:sp>
        <p:nvSpPr>
          <p:cNvPr id="161" name="文本框 3"/>
          <p:cNvSpPr/>
          <p:nvPr/>
        </p:nvSpPr>
        <p:spPr>
          <a:xfrm>
            <a:off x="295200" y="1067760"/>
            <a:ext cx="7912080" cy="1081800"/>
          </a:xfrm>
          <a:prstGeom prst="rect">
            <a:avLst/>
          </a:prstGeom>
          <a:noFill/>
          <a:ln w="0">
            <a:noFill/>
          </a:ln>
        </p:spPr>
        <p:style>
          <a:lnRef idx="0"/>
          <a:fillRef idx="0"/>
          <a:effectRef idx="0"/>
          <a:fontRef idx="minor"/>
        </p:style>
        <p:txBody>
          <a:bodyPr lIns="90000" rIns="90000" tIns="45000" bIns="45000" anchor="t">
            <a:spAutoFit/>
          </a:bodyPr>
          <a:p>
            <a:pPr algn="just">
              <a:lnSpc>
                <a:spcPct val="120000"/>
              </a:lnSpc>
              <a:spcBef>
                <a:spcPts val="901"/>
              </a:spcBef>
              <a:tabLst>
                <a:tab algn="l" pos="0"/>
              </a:tabLst>
            </a:pPr>
            <a:r>
              <a:rPr b="0" lang="zh-CN" sz="2400" spc="-1" strike="noStrike">
                <a:solidFill>
                  <a:schemeClr val="accent5"/>
                </a:solidFill>
                <a:latin typeface="微软雅黑"/>
                <a:ea typeface="微软雅黑"/>
              </a:rPr>
              <a:t>越来越多的企业开始通过社交网络了解一个求职者，而不仅仅依赖你的简历。谷歌一下，你可以发现你在社交网站上留下的痕迹。</a:t>
            </a:r>
            <a:endParaRPr b="0" lang="en-US" sz="2400" spc="-1" strike="noStrike">
              <a:solidFill>
                <a:srgbClr val="000000"/>
              </a:solidFill>
              <a:latin typeface="Arial"/>
            </a:endParaRPr>
          </a:p>
          <a:p>
            <a:pPr algn="just">
              <a:lnSpc>
                <a:spcPct val="120000"/>
              </a:lnSpc>
              <a:spcBef>
                <a:spcPts val="901"/>
              </a:spcBef>
              <a:tabLst>
                <a:tab algn="l" pos="0"/>
              </a:tabLst>
            </a:pPr>
            <a:r>
              <a:rPr b="0" lang="zh-CN" sz="2400" spc="-1" strike="noStrike">
                <a:solidFill>
                  <a:schemeClr val="accent5"/>
                </a:solidFill>
                <a:latin typeface="微软雅黑"/>
                <a:ea typeface="微软雅黑"/>
              </a:rPr>
              <a:t>这些痕迹会给你带来怎样的前景？没想过这个问题，那请看看这本书吧。想飞翔，必须带上降落伞啊！</a:t>
            </a:r>
            <a:endParaRPr b="0" lang="en-US" sz="2400" spc="-1" strike="noStrike">
              <a:solidFill>
                <a:srgbClr val="000000"/>
              </a:solidFill>
              <a:latin typeface="Arial"/>
            </a:endParaRPr>
          </a:p>
        </p:txBody>
      </p:sp>
      <p:sp>
        <p:nvSpPr>
          <p:cNvPr id="162" name="文本框 4"/>
          <p:cNvSpPr/>
          <p:nvPr/>
        </p:nvSpPr>
        <p:spPr>
          <a:xfrm>
            <a:off x="3613320" y="3740760"/>
            <a:ext cx="1645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chemeClr val="accent5">
                    <a:lumMod val="50000"/>
                  </a:schemeClr>
                </a:solidFill>
                <a:latin typeface="方正粗宋简体"/>
                <a:ea typeface="方正粗宋简体"/>
              </a:rPr>
              <a:t>——</a:t>
            </a:r>
            <a:r>
              <a:rPr b="0" lang="zh-CN" sz="2000" spc="-1" strike="noStrike">
                <a:solidFill>
                  <a:schemeClr val="accent5">
                    <a:lumMod val="50000"/>
                  </a:schemeClr>
                </a:solidFill>
                <a:latin typeface="方正粗宋简体"/>
                <a:ea typeface="方正粗宋简体"/>
              </a:rPr>
              <a:t>《</a:t>
            </a:r>
            <a:r>
              <a:rPr b="0" lang="zh-CN" sz="2000" spc="-1" strike="noStrike">
                <a:solidFill>
                  <a:schemeClr val="accent5">
                    <a:lumMod val="50000"/>
                  </a:schemeClr>
                </a:solidFill>
                <a:latin typeface="方正粗宋简体"/>
                <a:ea typeface="方正粗宋简体"/>
              </a:rPr>
              <a:t>不要等到毕业以后》《学会独立思考：学习篇》作者 </a:t>
            </a:r>
            <a:r>
              <a:rPr b="0" lang="zh-CN" sz="2400" spc="-1" strike="noStrike">
                <a:solidFill>
                  <a:schemeClr val="accent5">
                    <a:lumMod val="50000"/>
                  </a:schemeClr>
                </a:solidFill>
                <a:latin typeface="方正粗宋简体"/>
                <a:ea typeface="方正粗宋简体"/>
              </a:rPr>
              <a:t>秋叶</a:t>
            </a:r>
            <a:endParaRPr b="0" lang="en-US" sz="2400" spc="-1" strike="noStrike">
              <a:solidFill>
                <a:srgbClr val="000000"/>
              </a:solidFill>
              <a:latin typeface="Arial"/>
            </a:endParaRPr>
          </a:p>
        </p:txBody>
      </p:sp>
      <p:pic>
        <p:nvPicPr>
          <p:cNvPr id="163" name="图片 5" descr=""/>
          <p:cNvPicPr/>
          <p:nvPr/>
        </p:nvPicPr>
        <p:blipFill>
          <a:blip r:embed="rId2"/>
          <a:srcRect l="48127" t="14438" r="22509" b="62373"/>
          <a:stretch/>
        </p:blipFill>
        <p:spPr>
          <a:xfrm>
            <a:off x="218520" y="173520"/>
            <a:ext cx="2824560" cy="212868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164" name="图片 8" descr=""/>
          <p:cNvPicPr/>
          <p:nvPr/>
        </p:nvPicPr>
        <p:blipFill>
          <a:blip r:embed="rId1"/>
          <a:stretch/>
        </p:blipFill>
        <p:spPr>
          <a:xfrm rot="20452800">
            <a:off x="2939400" y="949320"/>
            <a:ext cx="3455280" cy="3307320"/>
          </a:xfrm>
          <a:prstGeom prst="rect">
            <a:avLst/>
          </a:prstGeom>
          <a:ln w="0">
            <a:noFill/>
          </a:ln>
        </p:spPr>
      </p:pic>
      <p:cxnSp>
        <p:nvCxnSpPr>
          <p:cNvPr id="165" name="直接连接符 4"/>
          <p:cNvCxnSpPr/>
          <p:nvPr/>
        </p:nvCxnSpPr>
        <p:spPr>
          <a:xfrm>
            <a:off x="5344560" y="3992400"/>
            <a:ext cx="360" cy="1790280"/>
          </a:xfrm>
          <a:prstGeom prst="straightConnector1">
            <a:avLst/>
          </a:prstGeom>
          <a:ln w="127000">
            <a:solidFill>
              <a:srgbClr val="5b9bd5"/>
            </a:solidFill>
          </a:ln>
        </p:spPr>
      </p:cxnSp>
      <p:sp>
        <p:nvSpPr>
          <p:cNvPr id="166" name="文本框 5"/>
          <p:cNvSpPr/>
          <p:nvPr/>
        </p:nvSpPr>
        <p:spPr>
          <a:xfrm>
            <a:off x="6360480" y="4518360"/>
            <a:ext cx="286344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400" spc="-1" strike="noStrike">
                <a:solidFill>
                  <a:srgbClr val="5b9bd5"/>
                </a:solidFill>
                <a:latin typeface="方正综艺简体"/>
                <a:ea typeface="方正综艺简体"/>
              </a:rPr>
              <a:t>对于求职者，这是</a:t>
            </a:r>
            <a:endParaRPr b="0" lang="en-US" sz="4400" spc="-1" strike="noStrike">
              <a:solidFill>
                <a:srgbClr val="000000"/>
              </a:solidFill>
              <a:latin typeface="Arial"/>
            </a:endParaRPr>
          </a:p>
          <a:p>
            <a:pPr>
              <a:lnSpc>
                <a:spcPct val="100000"/>
              </a:lnSpc>
            </a:pPr>
            <a:r>
              <a:rPr b="0" lang="zh-CN" sz="4400" spc="-1" strike="noStrike">
                <a:solidFill>
                  <a:srgbClr val="c60139"/>
                </a:solidFill>
                <a:latin typeface="方正综艺简体"/>
                <a:ea typeface="方正综艺简体"/>
              </a:rPr>
              <a:t>全新</a:t>
            </a:r>
            <a:r>
              <a:rPr b="0" lang="zh-CN" sz="4400" spc="-1" strike="noStrike">
                <a:solidFill>
                  <a:srgbClr val="5b9bd5"/>
                </a:solidFill>
                <a:latin typeface="方正综艺简体"/>
                <a:ea typeface="方正综艺简体"/>
              </a:rPr>
              <a:t>的世界</a:t>
            </a:r>
            <a:endParaRPr b="0" lang="en-US" sz="4400" spc="-1" strike="noStrike">
              <a:solidFill>
                <a:srgbClr val="000000"/>
              </a:solidFill>
              <a:latin typeface="Arial"/>
            </a:endParaRPr>
          </a:p>
        </p:txBody>
      </p:sp>
      <p:sp>
        <p:nvSpPr>
          <p:cNvPr id="167" name="文本框 6"/>
          <p:cNvSpPr/>
          <p:nvPr/>
        </p:nvSpPr>
        <p:spPr>
          <a:xfrm>
            <a:off x="1473480" y="3992400"/>
            <a:ext cx="3675600" cy="106452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en-US" sz="3200" spc="-1" strike="noStrike">
                <a:solidFill>
                  <a:srgbClr val="808080"/>
                </a:solidFill>
                <a:latin typeface="微软雅黑"/>
                <a:ea typeface="微软雅黑"/>
              </a:rPr>
              <a:t>WHAT COLOR IS</a:t>
            </a:r>
            <a:endParaRPr b="0" lang="en-US" sz="3200" spc="-1" strike="noStrike">
              <a:solidFill>
                <a:srgbClr val="000000"/>
              </a:solidFill>
              <a:latin typeface="Arial"/>
            </a:endParaRPr>
          </a:p>
          <a:p>
            <a:pPr algn="r">
              <a:lnSpc>
                <a:spcPct val="100000"/>
              </a:lnSpc>
            </a:pPr>
            <a:r>
              <a:rPr b="0" lang="en-US" sz="3200" spc="-1" strike="noStrike">
                <a:solidFill>
                  <a:srgbClr val="808080"/>
                </a:solidFill>
                <a:latin typeface="微软雅黑"/>
                <a:ea typeface="微软雅黑"/>
              </a:rPr>
              <a:t>YOUR PARACHUTE</a:t>
            </a:r>
            <a:endParaRPr b="0" lang="en-US" sz="3200" spc="-1" strike="noStrike">
              <a:solidFill>
                <a:srgbClr val="000000"/>
              </a:solidFill>
              <a:latin typeface="Arial"/>
            </a:endParaRPr>
          </a:p>
        </p:txBody>
      </p:sp>
      <p:cxnSp>
        <p:nvCxnSpPr>
          <p:cNvPr id="168" name="直接连接符 7"/>
          <p:cNvCxnSpPr/>
          <p:nvPr/>
        </p:nvCxnSpPr>
        <p:spPr>
          <a:xfrm>
            <a:off x="5572800" y="4205880"/>
            <a:ext cx="1114200" cy="360"/>
          </a:xfrm>
          <a:prstGeom prst="straightConnector1">
            <a:avLst/>
          </a:prstGeom>
          <a:ln w="254000">
            <a:solidFill>
              <a:srgbClr val="000000">
                <a:lumMod val="50000"/>
                <a:lumOff val="50000"/>
              </a:srgbClr>
            </a:solidFill>
          </a:ln>
        </p:spPr>
      </p:cxn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同心圆 8"/>
          <p:cNvSpPr/>
          <p:nvPr/>
        </p:nvSpPr>
        <p:spPr>
          <a:xfrm>
            <a:off x="6301800" y="4574520"/>
            <a:ext cx="1702440" cy="1702440"/>
          </a:xfrm>
          <a:prstGeom prst="donut">
            <a:avLst>
              <a:gd name="adj" fmla="val 13045"/>
            </a:avLst>
          </a:prstGeom>
          <a:solidFill>
            <a:srgbClr val="6dbdf5">
              <a:alpha val="3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0" name="文本框 9"/>
          <p:cNvSpPr/>
          <p:nvPr/>
        </p:nvSpPr>
        <p:spPr>
          <a:xfrm>
            <a:off x="2219040" y="573480"/>
            <a:ext cx="21013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我们面对的八股</a:t>
            </a:r>
            <a:r>
              <a:rPr b="0" lang="zh-CN" sz="2800" spc="-1" strike="noStrike">
                <a:solidFill>
                  <a:srgbClr val="c60139"/>
                </a:solidFill>
                <a:latin typeface="华康俪金黑W8(P)"/>
                <a:ea typeface="华康俪金黑W8(P)"/>
              </a:rPr>
              <a:t>力量</a:t>
            </a:r>
            <a:endParaRPr b="0" lang="en-US" sz="2800" spc="-1" strike="noStrike">
              <a:solidFill>
                <a:srgbClr val="000000"/>
              </a:solidFill>
              <a:latin typeface="Arial"/>
            </a:endParaRPr>
          </a:p>
        </p:txBody>
      </p:sp>
      <p:sp>
        <p:nvSpPr>
          <p:cNvPr id="171" name="文本框 10"/>
          <p:cNvSpPr/>
          <p:nvPr/>
        </p:nvSpPr>
        <p:spPr>
          <a:xfrm>
            <a:off x="2242800" y="1549800"/>
            <a:ext cx="9948960" cy="5210280"/>
          </a:xfrm>
          <a:prstGeom prst="rect">
            <a:avLst/>
          </a:prstGeom>
          <a:solidFill>
            <a:schemeClr val="bg1">
              <a:alpha val="70000"/>
            </a:schemeClr>
          </a:solidFill>
          <a:ln w="0">
            <a:noFill/>
          </a:ln>
        </p:spPr>
        <p:style>
          <a:lnRef idx="0"/>
          <a:fillRef idx="0"/>
          <a:effectRef idx="0"/>
          <a:fontRef idx="minor"/>
        </p:style>
        <p:txBody>
          <a:bodyPr lIns="90000" rIns="90000" tIns="45000" bIns="45000" anchor="t">
            <a:spAutoFit/>
          </a:bodyPr>
          <a:p>
            <a:pPr>
              <a:lnSpc>
                <a:spcPct val="210000"/>
              </a:lnSpc>
            </a:pPr>
            <a:r>
              <a:rPr b="0" lang="zh-CN" sz="2000" spc="-1" strike="noStrike">
                <a:solidFill>
                  <a:schemeClr val="accent5">
                    <a:lumMod val="50000"/>
                  </a:schemeClr>
                </a:solidFill>
                <a:latin typeface="微软雅黑"/>
                <a:ea typeface="微软雅黑"/>
              </a:rPr>
              <a:t>保守情绪蔓延</a:t>
            </a:r>
            <a:r>
              <a:rPr b="0" lang="en-US" sz="2000" spc="-1" strike="noStrike">
                <a:solidFill>
                  <a:schemeClr val="accent5">
                    <a:lumMod val="50000"/>
                  </a:schemeClr>
                </a:solidFill>
                <a:latin typeface="微软雅黑"/>
                <a:ea typeface="微软雅黑"/>
              </a:rPr>
              <a:t>——政府倾向紧缩政策</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找到一份工作的平均时间大幅提高——低薪易就业，高薪难找</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文化影响人们找工作的方式——“快文化”之下，难下功夫琢磨工作</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大学生就业率情况——人口急剧增加，工作能力低于要求</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长期失业——感觉被社会抛弃</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雇主为梦想中的员工保留空缺——期待下周有更好的人来应聘</a:t>
            </a:r>
            <a:endParaRPr b="0" lang="en-US" sz="2000" spc="-1" strike="noStrike">
              <a:solidFill>
                <a:srgbClr val="000000"/>
              </a:solidFill>
              <a:latin typeface="Arial"/>
            </a:endParaRPr>
          </a:p>
          <a:p>
            <a:pPr>
              <a:lnSpc>
                <a:spcPct val="210000"/>
              </a:lnSpc>
            </a:pPr>
            <a:r>
              <a:rPr b="0" lang="zh-CN" sz="2000" spc="-1" strike="noStrike">
                <a:solidFill>
                  <a:schemeClr val="accent5">
                    <a:lumMod val="50000"/>
                  </a:schemeClr>
                </a:solidFill>
                <a:latin typeface="微软雅黑"/>
                <a:ea typeface="微软雅黑"/>
              </a:rPr>
              <a:t>找工作变成重复性行为——工作的平均长度开始缩短</a:t>
            </a:r>
            <a:endParaRPr b="0" lang="en-US" sz="2000" spc="-1" strike="noStrike">
              <a:solidFill>
                <a:srgbClr val="000000"/>
              </a:solidFill>
              <a:latin typeface="Arial"/>
            </a:endParaRPr>
          </a:p>
          <a:p>
            <a:pPr>
              <a:lnSpc>
                <a:spcPct val="210000"/>
              </a:lnSpc>
            </a:pPr>
            <a:r>
              <a:rPr b="0" lang="en-US" sz="2000" spc="-1" strike="noStrike">
                <a:solidFill>
                  <a:schemeClr val="accent5">
                    <a:lumMod val="50000"/>
                  </a:schemeClr>
                </a:solidFill>
                <a:latin typeface="微软雅黑"/>
                <a:ea typeface="微软雅黑"/>
              </a:rPr>
              <a:t>08</a:t>
            </a:r>
            <a:r>
              <a:rPr b="0" lang="zh-CN" sz="2000" spc="-1" strike="noStrike">
                <a:solidFill>
                  <a:schemeClr val="accent5">
                    <a:lumMod val="50000"/>
                  </a:schemeClr>
                </a:solidFill>
                <a:latin typeface="微软雅黑"/>
                <a:ea typeface="微软雅黑"/>
              </a:rPr>
              <a:t>年以前管用的求职方式现在不灵了——形势大变</a:t>
            </a:r>
            <a:endParaRPr b="0" lang="en-US" sz="2000" spc="-1" strike="noStrike">
              <a:solidFill>
                <a:srgbClr val="000000"/>
              </a:solidFill>
              <a:latin typeface="Arial"/>
            </a:endParaRPr>
          </a:p>
        </p:txBody>
      </p:sp>
      <p:grpSp>
        <p:nvGrpSpPr>
          <p:cNvPr id="172" name="组合 29"/>
          <p:cNvGrpSpPr/>
          <p:nvPr/>
        </p:nvGrpSpPr>
        <p:grpSpPr>
          <a:xfrm>
            <a:off x="1718640" y="1563480"/>
            <a:ext cx="405360" cy="5383800"/>
            <a:chOff x="1718640" y="1563480"/>
            <a:chExt cx="405360" cy="5383800"/>
          </a:xfrm>
        </p:grpSpPr>
        <p:sp>
          <p:nvSpPr>
            <p:cNvPr id="173" name="同心圆 11"/>
            <p:cNvSpPr/>
            <p:nvPr/>
          </p:nvSpPr>
          <p:spPr>
            <a:xfrm>
              <a:off x="1718640" y="178020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4" name="同心圆 19"/>
            <p:cNvSpPr/>
            <p:nvPr/>
          </p:nvSpPr>
          <p:spPr>
            <a:xfrm>
              <a:off x="1718640" y="241920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5" name="同心圆 20"/>
            <p:cNvSpPr/>
            <p:nvPr/>
          </p:nvSpPr>
          <p:spPr>
            <a:xfrm>
              <a:off x="1718640" y="305856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6" name="同心圆 21"/>
            <p:cNvSpPr/>
            <p:nvPr/>
          </p:nvSpPr>
          <p:spPr>
            <a:xfrm>
              <a:off x="1718640" y="369756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7" name="同心圆 22"/>
            <p:cNvSpPr/>
            <p:nvPr/>
          </p:nvSpPr>
          <p:spPr>
            <a:xfrm>
              <a:off x="1718640" y="433656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8" name="同心圆 23"/>
            <p:cNvSpPr/>
            <p:nvPr/>
          </p:nvSpPr>
          <p:spPr>
            <a:xfrm>
              <a:off x="1718640" y="497592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79" name="同心圆 24"/>
            <p:cNvSpPr/>
            <p:nvPr/>
          </p:nvSpPr>
          <p:spPr>
            <a:xfrm>
              <a:off x="1718640" y="561492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0" name="同心圆 25"/>
            <p:cNvSpPr/>
            <p:nvPr/>
          </p:nvSpPr>
          <p:spPr>
            <a:xfrm>
              <a:off x="1718640" y="6253920"/>
              <a:ext cx="405360" cy="405360"/>
            </a:xfrm>
            <a:prstGeom prst="donut">
              <a:avLst>
                <a:gd name="adj" fmla="val 23688"/>
              </a:avLst>
            </a:prstGeom>
            <a:no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cxnSp>
          <p:nvCxnSpPr>
            <p:cNvPr id="181" name="直接连接符 27"/>
            <p:cNvCxnSpPr/>
            <p:nvPr/>
          </p:nvCxnSpPr>
          <p:spPr>
            <a:xfrm>
              <a:off x="1927080" y="1563480"/>
              <a:ext cx="360" cy="5384160"/>
            </a:xfrm>
            <a:prstGeom prst="straightConnector1">
              <a:avLst/>
            </a:prstGeom>
            <a:ln w="38100">
              <a:solidFill>
                <a:srgbClr val="2777d8"/>
              </a:solidFill>
            </a:ln>
          </p:spPr>
        </p:cxnSp>
      </p:grpSp>
      <p:pic>
        <p:nvPicPr>
          <p:cNvPr id="182" name="图片 2" descr=""/>
          <p:cNvPicPr/>
          <p:nvPr/>
        </p:nvPicPr>
        <p:blipFill>
          <a:blip r:embed="rId1"/>
          <a:stretch/>
        </p:blipFill>
        <p:spPr>
          <a:xfrm flipH="1">
            <a:off x="640440" y="374040"/>
            <a:ext cx="921240" cy="92124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矩形 38"/>
          <p:cNvSpPr/>
          <p:nvPr/>
        </p:nvSpPr>
        <p:spPr>
          <a:xfrm>
            <a:off x="4977000" y="1933560"/>
            <a:ext cx="7188120" cy="48614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文本框 2"/>
          <p:cNvSpPr/>
          <p:nvPr/>
        </p:nvSpPr>
        <p:spPr>
          <a:xfrm>
            <a:off x="2796480" y="574200"/>
            <a:ext cx="38080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2777d8"/>
                </a:solidFill>
                <a:latin typeface="华康俪金黑W8(P)"/>
                <a:ea typeface="华康俪金黑W8(P)"/>
              </a:rPr>
              <a:t>雇主招人方式和求职者的求职方式</a:t>
            </a:r>
            <a:r>
              <a:rPr b="0" lang="zh-CN" sz="2800" spc="-1" strike="noStrike">
                <a:solidFill>
                  <a:srgbClr val="c60139"/>
                </a:solidFill>
                <a:latin typeface="华康俪金黑W8(P)"/>
                <a:ea typeface="华康俪金黑W8(P)"/>
              </a:rPr>
              <a:t>相反</a:t>
            </a:r>
            <a:endParaRPr b="0" lang="en-US" sz="2800" spc="-1" strike="noStrike">
              <a:solidFill>
                <a:srgbClr val="000000"/>
              </a:solidFill>
              <a:latin typeface="Arial"/>
            </a:endParaRPr>
          </a:p>
        </p:txBody>
      </p:sp>
      <p:sp>
        <p:nvSpPr>
          <p:cNvPr id="185" name="文本框 49"/>
          <p:cNvSpPr/>
          <p:nvPr/>
        </p:nvSpPr>
        <p:spPr>
          <a:xfrm>
            <a:off x="4996800" y="1100880"/>
            <a:ext cx="2192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chemeClr val="accent5">
                    <a:lumMod val="75000"/>
                  </a:schemeClr>
                </a:solidFill>
                <a:latin typeface="微软雅黑"/>
                <a:ea typeface="微软雅黑"/>
              </a:rPr>
              <a:t>雇主倾向的填补空缺方式</a:t>
            </a:r>
            <a:endParaRPr b="0" lang="en-US" sz="2400" spc="-1" strike="noStrike">
              <a:solidFill>
                <a:srgbClr val="000000"/>
              </a:solidFill>
              <a:latin typeface="Arial"/>
            </a:endParaRPr>
          </a:p>
        </p:txBody>
      </p:sp>
      <p:grpSp>
        <p:nvGrpSpPr>
          <p:cNvPr id="186" name="组合 37"/>
          <p:cNvGrpSpPr/>
          <p:nvPr/>
        </p:nvGrpSpPr>
        <p:grpSpPr>
          <a:xfrm>
            <a:off x="545040" y="1402560"/>
            <a:ext cx="10895400" cy="10929240"/>
            <a:chOff x="545040" y="1402560"/>
            <a:chExt cx="10895400" cy="10929240"/>
          </a:xfrm>
        </p:grpSpPr>
        <p:grpSp>
          <p:nvGrpSpPr>
            <p:cNvPr id="187" name="组合 36"/>
            <p:cNvGrpSpPr/>
            <p:nvPr/>
          </p:nvGrpSpPr>
          <p:grpSpPr>
            <a:xfrm>
              <a:off x="545040" y="1402560"/>
              <a:ext cx="10895400" cy="10584000"/>
              <a:chOff x="545040" y="1402560"/>
              <a:chExt cx="10895400" cy="10584000"/>
            </a:xfrm>
          </p:grpSpPr>
          <p:grpSp>
            <p:nvGrpSpPr>
              <p:cNvPr id="188" name="组合 48"/>
              <p:cNvGrpSpPr/>
              <p:nvPr/>
            </p:nvGrpSpPr>
            <p:grpSpPr>
              <a:xfrm>
                <a:off x="1602360" y="1794600"/>
                <a:ext cx="9262440" cy="10191960"/>
                <a:chOff x="1602360" y="1794600"/>
                <a:chExt cx="9262440" cy="10191960"/>
              </a:xfrm>
            </p:grpSpPr>
            <p:sp>
              <p:nvSpPr>
                <p:cNvPr id="189" name="等腰三角形 12"/>
                <p:cNvSpPr/>
                <p:nvPr/>
              </p:nvSpPr>
              <p:spPr>
                <a:xfrm flipV="1">
                  <a:off x="1602360" y="1793880"/>
                  <a:ext cx="9262440" cy="10191960"/>
                </a:xfrm>
                <a:prstGeom prst="triangle">
                  <a:avLst>
                    <a:gd name="adj" fmla="val 50000"/>
                  </a:avLst>
                </a:prstGeom>
                <a:solidFill>
                  <a:schemeClr val="bg1">
                    <a:alpha val="58000"/>
                  </a:schemeClr>
                </a:solid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90" name="直接连接符 15"/>
                <p:cNvCxnSpPr/>
                <p:nvPr/>
              </p:nvCxnSpPr>
              <p:spPr>
                <a:xfrm>
                  <a:off x="2426040" y="3614760"/>
                  <a:ext cx="7599240" cy="360"/>
                </a:xfrm>
                <a:prstGeom prst="straightConnector1">
                  <a:avLst/>
                </a:prstGeom>
                <a:ln w="38100">
                  <a:solidFill>
                    <a:srgbClr val="2777d8"/>
                  </a:solidFill>
                </a:ln>
              </p:spPr>
            </p:cxnSp>
            <p:grpSp>
              <p:nvGrpSpPr>
                <p:cNvPr id="191" name="组合 19"/>
                <p:cNvGrpSpPr/>
                <p:nvPr/>
              </p:nvGrpSpPr>
              <p:grpSpPr>
                <a:xfrm>
                  <a:off x="4069080" y="2095920"/>
                  <a:ext cx="4295880" cy="8310960"/>
                  <a:chOff x="4069080" y="2095920"/>
                  <a:chExt cx="4295880" cy="8310960"/>
                </a:xfrm>
              </p:grpSpPr>
              <p:sp>
                <p:nvSpPr>
                  <p:cNvPr id="192" name="文本框 3"/>
                  <p:cNvSpPr/>
                  <p:nvPr/>
                </p:nvSpPr>
                <p:spPr>
                  <a:xfrm>
                    <a:off x="4069080" y="2095920"/>
                    <a:ext cx="429588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从内部：提升全职员工、转正兼职员工，或雇用以前的合同工、临时工。</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雇主的想法：我要招聘那些了解其表现的人。（低风险策略）</a:t>
                    </a:r>
                    <a:endParaRPr b="0" lang="en-US" sz="2000" spc="-1" strike="noStrike">
                      <a:solidFill>
                        <a:srgbClr val="000000"/>
                      </a:solidFill>
                      <a:latin typeface="Arial"/>
                    </a:endParaRPr>
                  </a:p>
                </p:txBody>
              </p:sp>
              <p:sp>
                <p:nvSpPr>
                  <p:cNvPr id="193" name="文本框 4"/>
                  <p:cNvSpPr/>
                  <p:nvPr/>
                </p:nvSpPr>
                <p:spPr>
                  <a:xfrm>
                    <a:off x="5874840" y="2894040"/>
                    <a:ext cx="68400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c60139"/>
                        </a:solidFill>
                        <a:latin typeface="微软雅黑"/>
                        <a:ea typeface="微软雅黑"/>
                      </a:rPr>
                      <a:t>对求职者的启示：看看能否被以前干过临时工、合同工、</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顾问的地方雇用，谋求一份全职工作。</a:t>
                    </a:r>
                    <a:endParaRPr b="0" lang="en-US" sz="2000" spc="-1" strike="noStrike">
                      <a:solidFill>
                        <a:srgbClr val="000000"/>
                      </a:solidFill>
                      <a:latin typeface="Arial"/>
                    </a:endParaRPr>
                  </a:p>
                </p:txBody>
              </p:sp>
              <p:sp>
                <p:nvSpPr>
                  <p:cNvPr id="194" name="文本框 5"/>
                  <p:cNvSpPr/>
                  <p:nvPr/>
                </p:nvSpPr>
                <p:spPr>
                  <a:xfrm>
                    <a:off x="4221360" y="3691800"/>
                    <a:ext cx="399096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注重证据：雇用能够提供证明，表示自己具备雇主要求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能力，以及能干什么的人。</a:t>
                    </a:r>
                    <a:endParaRPr b="0" lang="en-US" sz="2000" spc="-1" strike="noStrike">
                      <a:solidFill>
                        <a:srgbClr val="000000"/>
                      </a:solidFill>
                      <a:latin typeface="Arial"/>
                    </a:endParaRPr>
                  </a:p>
                </p:txBody>
              </p:sp>
              <p:sp>
                <p:nvSpPr>
                  <p:cNvPr id="195" name="文本框 6"/>
                  <p:cNvSpPr/>
                  <p:nvPr/>
                </p:nvSpPr>
                <p:spPr>
                  <a:xfrm>
                    <a:off x="4526280" y="4489920"/>
                    <a:ext cx="338148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c60139"/>
                        </a:solidFill>
                        <a:latin typeface="微软雅黑"/>
                        <a:ea typeface="微软雅黑"/>
                      </a:rPr>
                      <a:t>对求职者的启示：如果你是一个程序员，带着你编的</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程序；如果是摄影师，带着照片；如果是顾问，</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带着成功案例。</a:t>
                    </a:r>
                    <a:endParaRPr b="0" lang="en-US" sz="2000" spc="-1" strike="noStrike">
                      <a:solidFill>
                        <a:srgbClr val="000000"/>
                      </a:solidFill>
                      <a:latin typeface="Arial"/>
                    </a:endParaRPr>
                  </a:p>
                </p:txBody>
              </p:sp>
              <p:sp>
                <p:nvSpPr>
                  <p:cNvPr id="196" name="文本框 7"/>
                  <p:cNvSpPr/>
                  <p:nvPr/>
                </p:nvSpPr>
                <p:spPr>
                  <a:xfrm>
                    <a:off x="4907520" y="5595480"/>
                    <a:ext cx="261936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通过朋友或同事推荐：雇用可靠的人</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比如雇主的朋友和你一起工作过）。</a:t>
                    </a:r>
                    <a:endParaRPr b="0" lang="en-US" sz="2000" spc="-1" strike="noStrike">
                      <a:solidFill>
                        <a:srgbClr val="000000"/>
                      </a:solidFill>
                      <a:latin typeface="Arial"/>
                    </a:endParaRPr>
                  </a:p>
                </p:txBody>
              </p:sp>
              <p:sp>
                <p:nvSpPr>
                  <p:cNvPr id="197" name="文本框 8"/>
                  <p:cNvSpPr/>
                  <p:nvPr/>
                </p:nvSpPr>
                <p:spPr>
                  <a:xfrm>
                    <a:off x="4703400" y="6393240"/>
                    <a:ext cx="302760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c60139"/>
                        </a:solidFill>
                        <a:latin typeface="微软雅黑"/>
                        <a:ea typeface="微软雅黑"/>
                      </a:rPr>
                      <a:t>找到你目标雇主公司的人，</a:t>
                    </a:r>
                    <a:r>
                      <a:rPr b="0" lang="en-US" sz="2000" spc="-1" strike="noStrike">
                        <a:solidFill>
                          <a:srgbClr val="c60139"/>
                        </a:solidFill>
                        <a:latin typeface="微软雅黑"/>
                        <a:ea typeface="微软雅黑"/>
                      </a:rPr>
                      <a:t>TA</a:t>
                    </a:r>
                    <a:r>
                      <a:rPr b="0" lang="zh-CN" sz="2000" spc="-1" strike="noStrike">
                        <a:solidFill>
                          <a:srgbClr val="c60139"/>
                        </a:solidFill>
                        <a:latin typeface="微软雅黑"/>
                        <a:ea typeface="微软雅黑"/>
                      </a:rPr>
                      <a:t>认识负责</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招聘的同事，了解你的工作，</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并愿意牵线搭桥。</a:t>
                    </a:r>
                    <a:endParaRPr b="0" lang="en-US" sz="2000" spc="-1" strike="noStrike">
                      <a:solidFill>
                        <a:srgbClr val="000000"/>
                      </a:solidFill>
                      <a:latin typeface="Arial"/>
                    </a:endParaRPr>
                  </a:p>
                </p:txBody>
              </p:sp>
              <p:sp>
                <p:nvSpPr>
                  <p:cNvPr id="198" name="文本框 9"/>
                  <p:cNvSpPr/>
                  <p:nvPr/>
                </p:nvSpPr>
                <p:spPr>
                  <a:xfrm>
                    <a:off x="5212080" y="7499160"/>
                    <a:ext cx="200988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通过猎头或中介：这些机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会代表雇主寻找合适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目标。</a:t>
                    </a:r>
                    <a:endParaRPr b="0" lang="en-US" sz="2000" spc="-1" strike="noStrike">
                      <a:solidFill>
                        <a:srgbClr val="000000"/>
                      </a:solidFill>
                      <a:latin typeface="Arial"/>
                    </a:endParaRPr>
                  </a:p>
                </p:txBody>
              </p:sp>
              <p:sp>
                <p:nvSpPr>
                  <p:cNvPr id="199" name="文本框 10"/>
                  <p:cNvSpPr/>
                  <p:nvPr/>
                </p:nvSpPr>
                <p:spPr>
                  <a:xfrm>
                    <a:off x="5592960" y="9402480"/>
                    <a:ext cx="124776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简历：即使简历</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是求职者主动</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发送的</a:t>
                    </a:r>
                    <a:endParaRPr b="0" lang="en-US" sz="2000" spc="-1" strike="noStrike">
                      <a:solidFill>
                        <a:srgbClr val="000000"/>
                      </a:solidFill>
                      <a:latin typeface="Arial"/>
                    </a:endParaRPr>
                  </a:p>
                </p:txBody>
              </p:sp>
              <p:sp>
                <p:nvSpPr>
                  <p:cNvPr id="200" name="文本框 18"/>
                  <p:cNvSpPr/>
                  <p:nvPr/>
                </p:nvSpPr>
                <p:spPr>
                  <a:xfrm>
                    <a:off x="5517000" y="8604720"/>
                    <a:ext cx="1400400" cy="6994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2000" spc="-1" strike="noStrike">
                        <a:solidFill>
                          <a:srgbClr val="2777d8"/>
                        </a:solidFill>
                        <a:latin typeface="微软雅黑"/>
                        <a:ea typeface="微软雅黑"/>
                      </a:rPr>
                      <a:t>招聘启事（网络，</a:t>
                    </a:r>
                    <a:endParaRPr b="0" lang="en-US" sz="2000" spc="-1" strike="noStrike">
                      <a:solidFill>
                        <a:srgbClr val="000000"/>
                      </a:solidFill>
                      <a:latin typeface="Arial"/>
                    </a:endParaRPr>
                  </a:p>
                  <a:p>
                    <a:pPr algn="r">
                      <a:lnSpc>
                        <a:spcPct val="100000"/>
                      </a:lnSpc>
                    </a:pPr>
                    <a:r>
                      <a:rPr b="0" lang="zh-CN" sz="2000" spc="-1" strike="noStrike">
                        <a:solidFill>
                          <a:srgbClr val="2777d8"/>
                        </a:solidFill>
                        <a:latin typeface="微软雅黑"/>
                        <a:ea typeface="微软雅黑"/>
                      </a:rPr>
                      <a:t>报纸，等等）。</a:t>
                    </a:r>
                    <a:endParaRPr b="0" lang="en-US" sz="2000" spc="-1" strike="noStrike">
                      <a:solidFill>
                        <a:srgbClr val="000000"/>
                      </a:solidFill>
                      <a:latin typeface="Arial"/>
                    </a:endParaRPr>
                  </a:p>
                </p:txBody>
              </p:sp>
            </p:grpSp>
            <p:cxnSp>
              <p:nvCxnSpPr>
                <p:cNvPr id="201" name="直接连接符 23"/>
                <p:cNvCxnSpPr/>
                <p:nvPr/>
              </p:nvCxnSpPr>
              <p:spPr>
                <a:xfrm>
                  <a:off x="4154760" y="7422840"/>
                  <a:ext cx="4152960" cy="360"/>
                </a:xfrm>
                <a:prstGeom prst="straightConnector1">
                  <a:avLst/>
                </a:prstGeom>
                <a:ln w="38100">
                  <a:solidFill>
                    <a:srgbClr val="2777d8"/>
                  </a:solidFill>
                </a:ln>
              </p:spPr>
            </p:cxnSp>
            <p:cxnSp>
              <p:nvCxnSpPr>
                <p:cNvPr id="202" name="直接连接符 34"/>
                <p:cNvCxnSpPr/>
                <p:nvPr/>
              </p:nvCxnSpPr>
              <p:spPr>
                <a:xfrm>
                  <a:off x="4676400" y="8561160"/>
                  <a:ext cx="3144240" cy="360"/>
                </a:xfrm>
                <a:prstGeom prst="straightConnector1">
                  <a:avLst/>
                </a:prstGeom>
                <a:ln w="38100">
                  <a:solidFill>
                    <a:srgbClr val="2777d8"/>
                  </a:solidFill>
                </a:ln>
              </p:spPr>
            </p:cxnSp>
            <p:cxnSp>
              <p:nvCxnSpPr>
                <p:cNvPr id="203" name="直接连接符 43"/>
                <p:cNvCxnSpPr/>
                <p:nvPr/>
              </p:nvCxnSpPr>
              <p:spPr>
                <a:xfrm>
                  <a:off x="3294360" y="5513760"/>
                  <a:ext cx="5858640" cy="5760"/>
                </a:xfrm>
                <a:prstGeom prst="straightConnector1">
                  <a:avLst/>
                </a:prstGeom>
                <a:ln w="38100">
                  <a:solidFill>
                    <a:srgbClr val="2777d8"/>
                  </a:solidFill>
                </a:ln>
              </p:spPr>
            </p:cxnSp>
            <p:cxnSp>
              <p:nvCxnSpPr>
                <p:cNvPr id="204" name="直接连接符 46"/>
                <p:cNvCxnSpPr/>
                <p:nvPr/>
              </p:nvCxnSpPr>
              <p:spPr>
                <a:xfrm>
                  <a:off x="5007240" y="9321480"/>
                  <a:ext cx="2422800" cy="360"/>
                </a:xfrm>
                <a:prstGeom prst="straightConnector1">
                  <a:avLst/>
                </a:prstGeom>
                <a:ln w="38100">
                  <a:solidFill>
                    <a:srgbClr val="2777d8"/>
                  </a:solidFill>
                </a:ln>
              </p:spPr>
            </p:cxnSp>
          </p:grpSp>
          <p:sp>
            <p:nvSpPr>
              <p:cNvPr id="205" name="上箭头 52"/>
              <p:cNvSpPr/>
              <p:nvPr/>
            </p:nvSpPr>
            <p:spPr>
              <a:xfrm rot="9272400">
                <a:off x="696600" y="1531440"/>
                <a:ext cx="801360" cy="885960"/>
              </a:xfrm>
              <a:prstGeom prst="upArrow">
                <a:avLst>
                  <a:gd name="adj1" fmla="val 50000"/>
                  <a:gd name="adj2" fmla="val 50000"/>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6" name="文本框 53"/>
              <p:cNvSpPr/>
              <p:nvPr/>
            </p:nvSpPr>
            <p:spPr>
              <a:xfrm>
                <a:off x="1016640" y="223488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1</a:t>
                </a:r>
                <a:endParaRPr b="0" lang="en-US" sz="7200" spc="-1" strike="noStrike">
                  <a:solidFill>
                    <a:srgbClr val="000000"/>
                  </a:solidFill>
                  <a:latin typeface="Arial"/>
                </a:endParaRPr>
              </a:p>
            </p:txBody>
          </p:sp>
          <p:sp>
            <p:nvSpPr>
              <p:cNvPr id="207" name="文本框 54"/>
              <p:cNvSpPr/>
              <p:nvPr/>
            </p:nvSpPr>
            <p:spPr>
              <a:xfrm>
                <a:off x="1841400" y="416520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2</a:t>
                </a:r>
                <a:endParaRPr b="0" lang="en-US" sz="7200" spc="-1" strike="noStrike">
                  <a:solidFill>
                    <a:srgbClr val="000000"/>
                  </a:solidFill>
                  <a:latin typeface="Arial"/>
                </a:endParaRPr>
              </a:p>
            </p:txBody>
          </p:sp>
          <p:sp>
            <p:nvSpPr>
              <p:cNvPr id="208" name="文本框 55"/>
              <p:cNvSpPr/>
              <p:nvPr/>
            </p:nvSpPr>
            <p:spPr>
              <a:xfrm>
                <a:off x="2661120" y="603684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3</a:t>
                </a:r>
                <a:endParaRPr b="0" lang="en-US" sz="7200" spc="-1" strike="noStrike">
                  <a:solidFill>
                    <a:srgbClr val="000000"/>
                  </a:solidFill>
                  <a:latin typeface="Arial"/>
                </a:endParaRPr>
              </a:p>
            </p:txBody>
          </p:sp>
          <p:sp>
            <p:nvSpPr>
              <p:cNvPr id="209" name="文本框 26"/>
              <p:cNvSpPr/>
              <p:nvPr/>
            </p:nvSpPr>
            <p:spPr>
              <a:xfrm>
                <a:off x="3367440" y="74505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4</a:t>
                </a:r>
                <a:endParaRPr b="0" lang="en-US" sz="7200" spc="-1" strike="noStrike">
                  <a:solidFill>
                    <a:srgbClr val="000000"/>
                  </a:solidFill>
                  <a:latin typeface="Arial"/>
                </a:endParaRPr>
              </a:p>
            </p:txBody>
          </p:sp>
          <p:sp>
            <p:nvSpPr>
              <p:cNvPr id="210" name="文本框 27"/>
              <p:cNvSpPr/>
              <p:nvPr/>
            </p:nvSpPr>
            <p:spPr>
              <a:xfrm>
                <a:off x="3873240" y="835560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5</a:t>
                </a:r>
                <a:endParaRPr b="0" lang="en-US" sz="7200" spc="-1" strike="noStrike">
                  <a:solidFill>
                    <a:srgbClr val="000000"/>
                  </a:solidFill>
                  <a:latin typeface="Arial"/>
                </a:endParaRPr>
              </a:p>
            </p:txBody>
          </p:sp>
          <p:sp>
            <p:nvSpPr>
              <p:cNvPr id="211" name="文本框 28"/>
              <p:cNvSpPr/>
              <p:nvPr/>
            </p:nvSpPr>
            <p:spPr>
              <a:xfrm>
                <a:off x="4600440" y="1021824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6</a:t>
                </a:r>
                <a:endParaRPr b="0" lang="en-US" sz="7200" spc="-1" strike="noStrike">
                  <a:solidFill>
                    <a:srgbClr val="000000"/>
                  </a:solidFill>
                  <a:latin typeface="Arial"/>
                </a:endParaRPr>
              </a:p>
            </p:txBody>
          </p:sp>
          <p:sp>
            <p:nvSpPr>
              <p:cNvPr id="212" name="文本框 29"/>
              <p:cNvSpPr/>
              <p:nvPr/>
            </p:nvSpPr>
            <p:spPr>
              <a:xfrm>
                <a:off x="7152120" y="1022472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404040"/>
                    </a:solidFill>
                    <a:latin typeface="Broadway"/>
                  </a:rPr>
                  <a:t>1</a:t>
                </a:r>
                <a:endParaRPr b="0" lang="en-US" sz="7200" spc="-1" strike="noStrike">
                  <a:solidFill>
                    <a:srgbClr val="000000"/>
                  </a:solidFill>
                  <a:latin typeface="Arial"/>
                </a:endParaRPr>
              </a:p>
            </p:txBody>
          </p:sp>
          <p:sp>
            <p:nvSpPr>
              <p:cNvPr id="213" name="文本框 30"/>
              <p:cNvSpPr/>
              <p:nvPr/>
            </p:nvSpPr>
            <p:spPr>
              <a:xfrm>
                <a:off x="7952400" y="836964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404040"/>
                    </a:solidFill>
                    <a:latin typeface="Broadway"/>
                  </a:rPr>
                  <a:t>2</a:t>
                </a:r>
                <a:endParaRPr b="0" lang="en-US" sz="7200" spc="-1" strike="noStrike">
                  <a:solidFill>
                    <a:srgbClr val="000000"/>
                  </a:solidFill>
                  <a:latin typeface="Arial"/>
                </a:endParaRPr>
              </a:p>
            </p:txBody>
          </p:sp>
          <p:sp>
            <p:nvSpPr>
              <p:cNvPr id="214" name="文本框 31"/>
              <p:cNvSpPr/>
              <p:nvPr/>
            </p:nvSpPr>
            <p:spPr>
              <a:xfrm>
                <a:off x="8408520" y="742320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404040"/>
                    </a:solidFill>
                    <a:latin typeface="Broadway"/>
                  </a:rPr>
                  <a:t>3</a:t>
                </a:r>
                <a:endParaRPr b="0" lang="en-US" sz="7200" spc="-1" strike="noStrike">
                  <a:solidFill>
                    <a:srgbClr val="000000"/>
                  </a:solidFill>
                  <a:latin typeface="Arial"/>
                </a:endParaRPr>
              </a:p>
            </p:txBody>
          </p:sp>
          <p:sp>
            <p:nvSpPr>
              <p:cNvPr id="215" name="文本框 32"/>
              <p:cNvSpPr/>
              <p:nvPr/>
            </p:nvSpPr>
            <p:spPr>
              <a:xfrm>
                <a:off x="9002520" y="60753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4</a:t>
                </a:r>
                <a:endParaRPr b="0" lang="en-US" sz="7200" spc="-1" strike="noStrike">
                  <a:solidFill>
                    <a:srgbClr val="000000"/>
                  </a:solidFill>
                  <a:latin typeface="Arial"/>
                </a:endParaRPr>
              </a:p>
            </p:txBody>
          </p:sp>
          <p:sp>
            <p:nvSpPr>
              <p:cNvPr id="216" name="文本框 33"/>
              <p:cNvSpPr/>
              <p:nvPr/>
            </p:nvSpPr>
            <p:spPr>
              <a:xfrm>
                <a:off x="9880560" y="41997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5</a:t>
                </a:r>
                <a:endParaRPr b="0" lang="en-US" sz="7200" spc="-1" strike="noStrike">
                  <a:solidFill>
                    <a:srgbClr val="000000"/>
                  </a:solidFill>
                  <a:latin typeface="Arial"/>
                </a:endParaRPr>
              </a:p>
            </p:txBody>
          </p:sp>
          <p:sp>
            <p:nvSpPr>
              <p:cNvPr id="217" name="文本框 35"/>
              <p:cNvSpPr/>
              <p:nvPr/>
            </p:nvSpPr>
            <p:spPr>
              <a:xfrm>
                <a:off x="10736640" y="220392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6</a:t>
                </a:r>
                <a:endParaRPr b="0" lang="en-US" sz="7200" spc="-1" strike="noStrike">
                  <a:solidFill>
                    <a:srgbClr val="000000"/>
                  </a:solidFill>
                  <a:latin typeface="Arial"/>
                </a:endParaRPr>
              </a:p>
            </p:txBody>
          </p:sp>
        </p:grpSp>
        <p:sp>
          <p:nvSpPr>
            <p:cNvPr id="218" name="上箭头 47"/>
            <p:cNvSpPr/>
            <p:nvPr/>
          </p:nvSpPr>
          <p:spPr>
            <a:xfrm rot="1402800">
              <a:off x="6485040" y="11323080"/>
              <a:ext cx="801360" cy="885960"/>
            </a:xfrm>
            <a:prstGeom prst="upArrow">
              <a:avLst>
                <a:gd name="adj1" fmla="val 50000"/>
                <a:gd name="adj2" fmla="val 50000"/>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pic>
        <p:nvPicPr>
          <p:cNvPr id="219" name="图片 39" descr=""/>
          <p:cNvPicPr/>
          <p:nvPr/>
        </p:nvPicPr>
        <p:blipFill>
          <a:blip r:embed="rId1"/>
          <a:stretch/>
        </p:blipFill>
        <p:spPr>
          <a:xfrm flipH="1">
            <a:off x="640440" y="374040"/>
            <a:ext cx="921240" cy="921240"/>
          </a:xfrm>
          <a:prstGeom prst="rect">
            <a:avLst/>
          </a:prstGeom>
          <a:ln w="0">
            <a:noFill/>
          </a:ln>
        </p:spPr>
      </p:pic>
      <p:sp>
        <p:nvSpPr>
          <p:cNvPr id="220" name="Text Box 4"/>
          <p:cNvSpPr/>
          <p:nvPr/>
        </p:nvSpPr>
        <p:spPr>
          <a:xfrm>
            <a:off x="259200" y="6461280"/>
            <a:ext cx="71514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owerpoint</a:t>
            </a:r>
            <a:r>
              <a:rPr b="0" lang="zh-CN" sz="1600" spc="-1" strike="noStrike">
                <a:solidFill>
                  <a:srgbClr val="000000"/>
                </a:solidFill>
                <a:latin typeface="Arial"/>
                <a:ea typeface="宋体"/>
              </a:rPr>
              <a:t>模板下载</a:t>
            </a:r>
            <a:r>
              <a:rPr b="0" lang="en-US" sz="1600" spc="-1" strike="noStrike" u="sng">
                <a:solidFill>
                  <a:srgbClr val="0563c1"/>
                </a:solidFill>
                <a:uFillTx/>
                <a:latin typeface="Arial"/>
                <a:ea typeface="宋体"/>
                <a:hlinkClick r:id="rId2"/>
              </a:rPr>
              <a:t>http://www.eeppt.com/moban/</a:t>
            </a:r>
            <a:endParaRPr b="0" lang="en-US" sz="16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组合 19"/>
          <p:cNvGrpSpPr/>
          <p:nvPr/>
        </p:nvGrpSpPr>
        <p:grpSpPr>
          <a:xfrm>
            <a:off x="540360" y="-5450760"/>
            <a:ext cx="10895400" cy="10929240"/>
            <a:chOff x="540360" y="-5450760"/>
            <a:chExt cx="10895400" cy="10929240"/>
          </a:xfrm>
        </p:grpSpPr>
        <p:grpSp>
          <p:nvGrpSpPr>
            <p:cNvPr id="222" name="组合 20"/>
            <p:cNvGrpSpPr/>
            <p:nvPr/>
          </p:nvGrpSpPr>
          <p:grpSpPr>
            <a:xfrm>
              <a:off x="540360" y="-5450760"/>
              <a:ext cx="10895400" cy="10584000"/>
              <a:chOff x="540360" y="-5450760"/>
              <a:chExt cx="10895400" cy="10584000"/>
            </a:xfrm>
          </p:grpSpPr>
          <p:grpSp>
            <p:nvGrpSpPr>
              <p:cNvPr id="223" name="组合 22"/>
              <p:cNvGrpSpPr/>
              <p:nvPr/>
            </p:nvGrpSpPr>
            <p:grpSpPr>
              <a:xfrm>
                <a:off x="1597680" y="-5058720"/>
                <a:ext cx="9262440" cy="10191960"/>
                <a:chOff x="1597680" y="-5058720"/>
                <a:chExt cx="9262440" cy="10191960"/>
              </a:xfrm>
            </p:grpSpPr>
            <p:sp>
              <p:nvSpPr>
                <p:cNvPr id="224" name="等腰三角形 36"/>
                <p:cNvSpPr/>
                <p:nvPr/>
              </p:nvSpPr>
              <p:spPr>
                <a:xfrm flipV="1">
                  <a:off x="1597680" y="-5059080"/>
                  <a:ext cx="9262440" cy="10191960"/>
                </a:xfrm>
                <a:prstGeom prst="triangle">
                  <a:avLst>
                    <a:gd name="adj" fmla="val 50000"/>
                  </a:avLst>
                </a:prstGeom>
                <a:solidFill>
                  <a:schemeClr val="bg1">
                    <a:alpha val="58000"/>
                  </a:schemeClr>
                </a:solidFill>
                <a:ln w="38100">
                  <a:solidFill>
                    <a:srgbClr val="2777d8"/>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25" name="直接连接符 37"/>
                <p:cNvCxnSpPr/>
                <p:nvPr/>
              </p:nvCxnSpPr>
              <p:spPr>
                <a:xfrm>
                  <a:off x="2421360" y="-3238200"/>
                  <a:ext cx="7599240" cy="360"/>
                </a:xfrm>
                <a:prstGeom prst="straightConnector1">
                  <a:avLst/>
                </a:prstGeom>
                <a:ln w="38100">
                  <a:solidFill>
                    <a:srgbClr val="2777d8"/>
                  </a:solidFill>
                </a:ln>
              </p:spPr>
            </p:cxnSp>
            <p:grpSp>
              <p:nvGrpSpPr>
                <p:cNvPr id="226" name="组合 38"/>
                <p:cNvGrpSpPr/>
                <p:nvPr/>
              </p:nvGrpSpPr>
              <p:grpSpPr>
                <a:xfrm>
                  <a:off x="4064400" y="-4757400"/>
                  <a:ext cx="4295880" cy="8310960"/>
                  <a:chOff x="4064400" y="-4757400"/>
                  <a:chExt cx="4295880" cy="8310960"/>
                </a:xfrm>
              </p:grpSpPr>
              <p:sp>
                <p:nvSpPr>
                  <p:cNvPr id="227" name="文本框 43"/>
                  <p:cNvSpPr/>
                  <p:nvPr/>
                </p:nvSpPr>
                <p:spPr>
                  <a:xfrm>
                    <a:off x="4064400" y="-4757400"/>
                    <a:ext cx="429588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从内部：提升全职员工、转正兼职员工，或雇用以前的合同工、临时工。</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雇主的想法：我要招聘那些了解其表现的人。（低风险策略）</a:t>
                    </a:r>
                    <a:endParaRPr b="0" lang="en-US" sz="2000" spc="-1" strike="noStrike">
                      <a:solidFill>
                        <a:srgbClr val="000000"/>
                      </a:solidFill>
                      <a:latin typeface="Arial"/>
                    </a:endParaRPr>
                  </a:p>
                </p:txBody>
              </p:sp>
              <p:sp>
                <p:nvSpPr>
                  <p:cNvPr id="228" name="文本框 44"/>
                  <p:cNvSpPr/>
                  <p:nvPr/>
                </p:nvSpPr>
                <p:spPr>
                  <a:xfrm>
                    <a:off x="5870160" y="-3959280"/>
                    <a:ext cx="68400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000000"/>
                        </a:solidFill>
                        <a:latin typeface="微软雅黑"/>
                        <a:ea typeface="微软雅黑"/>
                      </a:rPr>
                      <a:t>对求职者的启示：看看能否被以前干过临时工、合同工、</a:t>
                    </a:r>
                    <a:endParaRPr b="0" lang="en-US" sz="2000" spc="-1" strike="noStrike">
                      <a:solidFill>
                        <a:srgbClr val="000000"/>
                      </a:solidFill>
                      <a:latin typeface="Arial"/>
                    </a:endParaRPr>
                  </a:p>
                  <a:p>
                    <a:pPr algn="ctr">
                      <a:lnSpc>
                        <a:spcPct val="100000"/>
                      </a:lnSpc>
                    </a:pPr>
                    <a:r>
                      <a:rPr b="0" lang="zh-CN" sz="2000" spc="-1" strike="noStrike">
                        <a:solidFill>
                          <a:srgbClr val="000000"/>
                        </a:solidFill>
                        <a:latin typeface="微软雅黑"/>
                        <a:ea typeface="微软雅黑"/>
                      </a:rPr>
                      <a:t>顾问的地方雇用，谋求一份全职工作。</a:t>
                    </a:r>
                    <a:endParaRPr b="0" lang="en-US" sz="2000" spc="-1" strike="noStrike">
                      <a:solidFill>
                        <a:srgbClr val="000000"/>
                      </a:solidFill>
                      <a:latin typeface="Arial"/>
                    </a:endParaRPr>
                  </a:p>
                </p:txBody>
              </p:sp>
              <p:sp>
                <p:nvSpPr>
                  <p:cNvPr id="229" name="文本框 45"/>
                  <p:cNvSpPr/>
                  <p:nvPr/>
                </p:nvSpPr>
                <p:spPr>
                  <a:xfrm>
                    <a:off x="4216680" y="-3161520"/>
                    <a:ext cx="399096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注重证据：雇用能够提供证明，表示自己具备雇主要求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能力，以及能干什么的人。</a:t>
                    </a:r>
                    <a:endParaRPr b="0" lang="en-US" sz="2000" spc="-1" strike="noStrike">
                      <a:solidFill>
                        <a:srgbClr val="000000"/>
                      </a:solidFill>
                      <a:latin typeface="Arial"/>
                    </a:endParaRPr>
                  </a:p>
                </p:txBody>
              </p:sp>
              <p:sp>
                <p:nvSpPr>
                  <p:cNvPr id="230" name="文本框 46"/>
                  <p:cNvSpPr/>
                  <p:nvPr/>
                </p:nvSpPr>
                <p:spPr>
                  <a:xfrm>
                    <a:off x="4521600" y="-2363760"/>
                    <a:ext cx="338148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000000"/>
                        </a:solidFill>
                        <a:latin typeface="微软雅黑"/>
                        <a:ea typeface="微软雅黑"/>
                      </a:rPr>
                      <a:t>对求职者的启示：如果你是一个程序员，带着你编的</a:t>
                    </a:r>
                    <a:endParaRPr b="0" lang="en-US" sz="2000" spc="-1" strike="noStrike">
                      <a:solidFill>
                        <a:srgbClr val="000000"/>
                      </a:solidFill>
                      <a:latin typeface="Arial"/>
                    </a:endParaRPr>
                  </a:p>
                  <a:p>
                    <a:pPr algn="ctr">
                      <a:lnSpc>
                        <a:spcPct val="100000"/>
                      </a:lnSpc>
                    </a:pPr>
                    <a:r>
                      <a:rPr b="0" lang="zh-CN" sz="2000" spc="-1" strike="noStrike">
                        <a:solidFill>
                          <a:srgbClr val="000000"/>
                        </a:solidFill>
                        <a:latin typeface="微软雅黑"/>
                        <a:ea typeface="微软雅黑"/>
                      </a:rPr>
                      <a:t>程序；如果是摄影师，带着照片；如果是顾问，</a:t>
                    </a:r>
                    <a:endParaRPr b="0" lang="en-US" sz="2000" spc="-1" strike="noStrike">
                      <a:solidFill>
                        <a:srgbClr val="000000"/>
                      </a:solidFill>
                      <a:latin typeface="Arial"/>
                    </a:endParaRPr>
                  </a:p>
                  <a:p>
                    <a:pPr algn="ctr">
                      <a:lnSpc>
                        <a:spcPct val="100000"/>
                      </a:lnSpc>
                    </a:pPr>
                    <a:r>
                      <a:rPr b="0" lang="zh-CN" sz="2000" spc="-1" strike="noStrike">
                        <a:solidFill>
                          <a:srgbClr val="000000"/>
                        </a:solidFill>
                        <a:latin typeface="微软雅黑"/>
                        <a:ea typeface="微软雅黑"/>
                      </a:rPr>
                      <a:t>带着成功案例。</a:t>
                    </a:r>
                    <a:endParaRPr b="0" lang="en-US" sz="2000" spc="-1" strike="noStrike">
                      <a:solidFill>
                        <a:srgbClr val="000000"/>
                      </a:solidFill>
                      <a:latin typeface="Arial"/>
                    </a:endParaRPr>
                  </a:p>
                </p:txBody>
              </p:sp>
              <p:sp>
                <p:nvSpPr>
                  <p:cNvPr id="231" name="文本框 47"/>
                  <p:cNvSpPr/>
                  <p:nvPr/>
                </p:nvSpPr>
                <p:spPr>
                  <a:xfrm>
                    <a:off x="4902840" y="-1257840"/>
                    <a:ext cx="2619360" cy="6994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通过朋友或同事推荐：雇用可靠的人</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比如雇主的朋友和你一起工作过）。</a:t>
                    </a:r>
                    <a:endParaRPr b="0" lang="en-US" sz="2000" spc="-1" strike="noStrike">
                      <a:solidFill>
                        <a:srgbClr val="000000"/>
                      </a:solidFill>
                      <a:latin typeface="Arial"/>
                    </a:endParaRPr>
                  </a:p>
                </p:txBody>
              </p:sp>
              <p:sp>
                <p:nvSpPr>
                  <p:cNvPr id="232" name="文本框 48"/>
                  <p:cNvSpPr/>
                  <p:nvPr/>
                </p:nvSpPr>
                <p:spPr>
                  <a:xfrm>
                    <a:off x="4698720" y="-460080"/>
                    <a:ext cx="302760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c60139"/>
                        </a:solidFill>
                        <a:latin typeface="微软雅黑"/>
                        <a:ea typeface="微软雅黑"/>
                      </a:rPr>
                      <a:t>找到你目标雇主公司的人，</a:t>
                    </a:r>
                    <a:r>
                      <a:rPr b="0" lang="en-US" sz="2000" spc="-1" strike="noStrike">
                        <a:solidFill>
                          <a:srgbClr val="c60139"/>
                        </a:solidFill>
                        <a:latin typeface="微软雅黑"/>
                        <a:ea typeface="微软雅黑"/>
                      </a:rPr>
                      <a:t>TA</a:t>
                    </a:r>
                    <a:r>
                      <a:rPr b="0" lang="zh-CN" sz="2000" spc="-1" strike="noStrike">
                        <a:solidFill>
                          <a:srgbClr val="c60139"/>
                        </a:solidFill>
                        <a:latin typeface="微软雅黑"/>
                        <a:ea typeface="微软雅黑"/>
                      </a:rPr>
                      <a:t>认识负责</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招聘的同事，了解你的工作，</a:t>
                    </a:r>
                    <a:endParaRPr b="0" lang="en-US" sz="2000" spc="-1" strike="noStrike">
                      <a:solidFill>
                        <a:srgbClr val="000000"/>
                      </a:solidFill>
                      <a:latin typeface="Arial"/>
                    </a:endParaRPr>
                  </a:p>
                  <a:p>
                    <a:pPr algn="ctr">
                      <a:lnSpc>
                        <a:spcPct val="100000"/>
                      </a:lnSpc>
                    </a:pPr>
                    <a:r>
                      <a:rPr b="0" lang="zh-CN" sz="2000" spc="-1" strike="noStrike">
                        <a:solidFill>
                          <a:srgbClr val="c60139"/>
                        </a:solidFill>
                        <a:latin typeface="微软雅黑"/>
                        <a:ea typeface="微软雅黑"/>
                      </a:rPr>
                      <a:t>并愿意牵线搭桥。</a:t>
                    </a:r>
                    <a:endParaRPr b="0" lang="en-US" sz="2000" spc="-1" strike="noStrike">
                      <a:solidFill>
                        <a:srgbClr val="000000"/>
                      </a:solidFill>
                      <a:latin typeface="Arial"/>
                    </a:endParaRPr>
                  </a:p>
                </p:txBody>
              </p:sp>
              <p:sp>
                <p:nvSpPr>
                  <p:cNvPr id="233" name="文本框 49"/>
                  <p:cNvSpPr/>
                  <p:nvPr/>
                </p:nvSpPr>
                <p:spPr>
                  <a:xfrm>
                    <a:off x="5207400" y="645840"/>
                    <a:ext cx="200988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通过猎头或中介：这些机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会代表雇主寻找合适的</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目标。</a:t>
                    </a:r>
                    <a:endParaRPr b="0" lang="en-US" sz="2000" spc="-1" strike="noStrike">
                      <a:solidFill>
                        <a:srgbClr val="000000"/>
                      </a:solidFill>
                      <a:latin typeface="Arial"/>
                    </a:endParaRPr>
                  </a:p>
                </p:txBody>
              </p:sp>
              <p:sp>
                <p:nvSpPr>
                  <p:cNvPr id="234" name="文本框 50"/>
                  <p:cNvSpPr/>
                  <p:nvPr/>
                </p:nvSpPr>
                <p:spPr>
                  <a:xfrm>
                    <a:off x="5588280" y="2549160"/>
                    <a:ext cx="1247760" cy="1004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2777d8"/>
                        </a:solidFill>
                        <a:latin typeface="微软雅黑"/>
                        <a:ea typeface="微软雅黑"/>
                      </a:rPr>
                      <a:t>简历：即使简历</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是求职者主动</a:t>
                    </a:r>
                    <a:endParaRPr b="0" lang="en-US" sz="2000" spc="-1" strike="noStrike">
                      <a:solidFill>
                        <a:srgbClr val="000000"/>
                      </a:solidFill>
                      <a:latin typeface="Arial"/>
                    </a:endParaRPr>
                  </a:p>
                  <a:p>
                    <a:pPr algn="ctr">
                      <a:lnSpc>
                        <a:spcPct val="100000"/>
                      </a:lnSpc>
                    </a:pPr>
                    <a:r>
                      <a:rPr b="0" lang="zh-CN" sz="2000" spc="-1" strike="noStrike">
                        <a:solidFill>
                          <a:srgbClr val="2777d8"/>
                        </a:solidFill>
                        <a:latin typeface="微软雅黑"/>
                        <a:ea typeface="微软雅黑"/>
                      </a:rPr>
                      <a:t>发送的。</a:t>
                    </a:r>
                    <a:endParaRPr b="0" lang="en-US" sz="2000" spc="-1" strike="noStrike">
                      <a:solidFill>
                        <a:srgbClr val="000000"/>
                      </a:solidFill>
                      <a:latin typeface="Arial"/>
                    </a:endParaRPr>
                  </a:p>
                </p:txBody>
              </p:sp>
              <p:sp>
                <p:nvSpPr>
                  <p:cNvPr id="235" name="文本框 51"/>
                  <p:cNvSpPr/>
                  <p:nvPr/>
                </p:nvSpPr>
                <p:spPr>
                  <a:xfrm>
                    <a:off x="5512320" y="1751400"/>
                    <a:ext cx="1400400" cy="6994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zh-CN" sz="2000" spc="-1" strike="noStrike">
                        <a:solidFill>
                          <a:srgbClr val="2777d8"/>
                        </a:solidFill>
                        <a:latin typeface="微软雅黑"/>
                        <a:ea typeface="微软雅黑"/>
                      </a:rPr>
                      <a:t>招聘启事（网络，</a:t>
                    </a:r>
                    <a:endParaRPr b="0" lang="en-US" sz="2000" spc="-1" strike="noStrike">
                      <a:solidFill>
                        <a:srgbClr val="000000"/>
                      </a:solidFill>
                      <a:latin typeface="Arial"/>
                    </a:endParaRPr>
                  </a:p>
                  <a:p>
                    <a:pPr algn="r">
                      <a:lnSpc>
                        <a:spcPct val="100000"/>
                      </a:lnSpc>
                    </a:pPr>
                    <a:r>
                      <a:rPr b="0" lang="zh-CN" sz="2000" spc="-1" strike="noStrike">
                        <a:solidFill>
                          <a:srgbClr val="2777d8"/>
                        </a:solidFill>
                        <a:latin typeface="微软雅黑"/>
                        <a:ea typeface="微软雅黑"/>
                      </a:rPr>
                      <a:t>报纸，等等）。</a:t>
                    </a:r>
                    <a:endParaRPr b="0" lang="en-US" sz="2000" spc="-1" strike="noStrike">
                      <a:solidFill>
                        <a:srgbClr val="000000"/>
                      </a:solidFill>
                      <a:latin typeface="Arial"/>
                    </a:endParaRPr>
                  </a:p>
                </p:txBody>
              </p:sp>
            </p:grpSp>
            <p:cxnSp>
              <p:nvCxnSpPr>
                <p:cNvPr id="236" name="直接连接符 39"/>
                <p:cNvCxnSpPr/>
                <p:nvPr/>
              </p:nvCxnSpPr>
              <p:spPr>
                <a:xfrm>
                  <a:off x="4150080" y="569520"/>
                  <a:ext cx="4152960" cy="360"/>
                </a:xfrm>
                <a:prstGeom prst="straightConnector1">
                  <a:avLst/>
                </a:prstGeom>
                <a:ln w="38100">
                  <a:solidFill>
                    <a:srgbClr val="2777d8"/>
                  </a:solidFill>
                </a:ln>
              </p:spPr>
            </p:cxnSp>
            <p:cxnSp>
              <p:nvCxnSpPr>
                <p:cNvPr id="237" name="直接连接符 40"/>
                <p:cNvCxnSpPr/>
                <p:nvPr/>
              </p:nvCxnSpPr>
              <p:spPr>
                <a:xfrm>
                  <a:off x="4671720" y="1707840"/>
                  <a:ext cx="3144240" cy="360"/>
                </a:xfrm>
                <a:prstGeom prst="straightConnector1">
                  <a:avLst/>
                </a:prstGeom>
                <a:ln w="38100">
                  <a:solidFill>
                    <a:srgbClr val="2777d8"/>
                  </a:solidFill>
                </a:ln>
              </p:spPr>
            </p:cxnSp>
            <p:cxnSp>
              <p:nvCxnSpPr>
                <p:cNvPr id="238" name="直接连接符 41"/>
                <p:cNvCxnSpPr/>
                <p:nvPr/>
              </p:nvCxnSpPr>
              <p:spPr>
                <a:xfrm>
                  <a:off x="3289680" y="-1339200"/>
                  <a:ext cx="5858640" cy="5760"/>
                </a:xfrm>
                <a:prstGeom prst="straightConnector1">
                  <a:avLst/>
                </a:prstGeom>
                <a:ln w="38100">
                  <a:solidFill>
                    <a:srgbClr val="2777d8"/>
                  </a:solidFill>
                </a:ln>
              </p:spPr>
            </p:cxnSp>
            <p:cxnSp>
              <p:nvCxnSpPr>
                <p:cNvPr id="239" name="直接连接符 42"/>
                <p:cNvCxnSpPr/>
                <p:nvPr/>
              </p:nvCxnSpPr>
              <p:spPr>
                <a:xfrm>
                  <a:off x="5002920" y="2467800"/>
                  <a:ext cx="2422440" cy="360"/>
                </a:xfrm>
                <a:prstGeom prst="straightConnector1">
                  <a:avLst/>
                </a:prstGeom>
                <a:ln w="38100">
                  <a:solidFill>
                    <a:srgbClr val="2777d8"/>
                  </a:solidFill>
                </a:ln>
              </p:spPr>
            </p:cxnSp>
          </p:grpSp>
          <p:sp>
            <p:nvSpPr>
              <p:cNvPr id="240" name="上箭头 23"/>
              <p:cNvSpPr/>
              <p:nvPr/>
            </p:nvSpPr>
            <p:spPr>
              <a:xfrm rot="9272400">
                <a:off x="691920" y="-5321520"/>
                <a:ext cx="801360" cy="885960"/>
              </a:xfrm>
              <a:prstGeom prst="upArrow">
                <a:avLst>
                  <a:gd name="adj1" fmla="val 50000"/>
                  <a:gd name="adj2" fmla="val 50000"/>
                </a:avLst>
              </a:prstGeom>
              <a:solidFill>
                <a:srgbClr val="2777d8"/>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文本框 24"/>
              <p:cNvSpPr/>
              <p:nvPr/>
            </p:nvSpPr>
            <p:spPr>
              <a:xfrm>
                <a:off x="1011960" y="-461844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1</a:t>
                </a:r>
                <a:endParaRPr b="0" lang="en-US" sz="7200" spc="-1" strike="noStrike">
                  <a:solidFill>
                    <a:srgbClr val="000000"/>
                  </a:solidFill>
                  <a:latin typeface="Arial"/>
                </a:endParaRPr>
              </a:p>
            </p:txBody>
          </p:sp>
          <p:sp>
            <p:nvSpPr>
              <p:cNvPr id="242" name="文本框 25"/>
              <p:cNvSpPr/>
              <p:nvPr/>
            </p:nvSpPr>
            <p:spPr>
              <a:xfrm>
                <a:off x="1836720" y="-268812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2</a:t>
                </a:r>
                <a:endParaRPr b="0" lang="en-US" sz="7200" spc="-1" strike="noStrike">
                  <a:solidFill>
                    <a:srgbClr val="000000"/>
                  </a:solidFill>
                  <a:latin typeface="Arial"/>
                </a:endParaRPr>
              </a:p>
            </p:txBody>
          </p:sp>
          <p:sp>
            <p:nvSpPr>
              <p:cNvPr id="243" name="文本框 26"/>
              <p:cNvSpPr/>
              <p:nvPr/>
            </p:nvSpPr>
            <p:spPr>
              <a:xfrm>
                <a:off x="2656440" y="-81648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3</a:t>
                </a:r>
                <a:endParaRPr b="0" lang="en-US" sz="7200" spc="-1" strike="noStrike">
                  <a:solidFill>
                    <a:srgbClr val="000000"/>
                  </a:solidFill>
                  <a:latin typeface="Arial"/>
                </a:endParaRPr>
              </a:p>
            </p:txBody>
          </p:sp>
          <p:sp>
            <p:nvSpPr>
              <p:cNvPr id="244" name="文本框 27"/>
              <p:cNvSpPr/>
              <p:nvPr/>
            </p:nvSpPr>
            <p:spPr>
              <a:xfrm>
                <a:off x="3362760" y="59688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4</a:t>
                </a:r>
                <a:endParaRPr b="0" lang="en-US" sz="7200" spc="-1" strike="noStrike">
                  <a:solidFill>
                    <a:srgbClr val="000000"/>
                  </a:solidFill>
                  <a:latin typeface="Arial"/>
                </a:endParaRPr>
              </a:p>
            </p:txBody>
          </p:sp>
          <p:sp>
            <p:nvSpPr>
              <p:cNvPr id="245" name="文本框 28"/>
              <p:cNvSpPr/>
              <p:nvPr/>
            </p:nvSpPr>
            <p:spPr>
              <a:xfrm>
                <a:off x="3868560" y="150228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5</a:t>
                </a:r>
                <a:endParaRPr b="0" lang="en-US" sz="7200" spc="-1" strike="noStrike">
                  <a:solidFill>
                    <a:srgbClr val="000000"/>
                  </a:solidFill>
                  <a:latin typeface="Arial"/>
                </a:endParaRPr>
              </a:p>
            </p:txBody>
          </p:sp>
          <p:sp>
            <p:nvSpPr>
              <p:cNvPr id="246" name="文本框 29"/>
              <p:cNvSpPr/>
              <p:nvPr/>
            </p:nvSpPr>
            <p:spPr>
              <a:xfrm>
                <a:off x="4595760" y="336492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2777d8"/>
                    </a:solidFill>
                    <a:latin typeface="Broadway"/>
                  </a:rPr>
                  <a:t>6</a:t>
                </a:r>
                <a:endParaRPr b="0" lang="en-US" sz="7200" spc="-1" strike="noStrike">
                  <a:solidFill>
                    <a:srgbClr val="000000"/>
                  </a:solidFill>
                  <a:latin typeface="Arial"/>
                </a:endParaRPr>
              </a:p>
            </p:txBody>
          </p:sp>
          <p:sp>
            <p:nvSpPr>
              <p:cNvPr id="247" name="文本框 30"/>
              <p:cNvSpPr/>
              <p:nvPr/>
            </p:nvSpPr>
            <p:spPr>
              <a:xfrm>
                <a:off x="7147440" y="337140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1</a:t>
                </a:r>
                <a:endParaRPr b="0" lang="en-US" sz="7200" spc="-1" strike="noStrike">
                  <a:solidFill>
                    <a:srgbClr val="000000"/>
                  </a:solidFill>
                  <a:latin typeface="Arial"/>
                </a:endParaRPr>
              </a:p>
            </p:txBody>
          </p:sp>
          <p:sp>
            <p:nvSpPr>
              <p:cNvPr id="248" name="文本框 31"/>
              <p:cNvSpPr/>
              <p:nvPr/>
            </p:nvSpPr>
            <p:spPr>
              <a:xfrm>
                <a:off x="7947720" y="151632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2</a:t>
                </a:r>
                <a:endParaRPr b="0" lang="en-US" sz="7200" spc="-1" strike="noStrike">
                  <a:solidFill>
                    <a:srgbClr val="000000"/>
                  </a:solidFill>
                  <a:latin typeface="Arial"/>
                </a:endParaRPr>
              </a:p>
            </p:txBody>
          </p:sp>
          <p:sp>
            <p:nvSpPr>
              <p:cNvPr id="249" name="文本框 32"/>
              <p:cNvSpPr/>
              <p:nvPr/>
            </p:nvSpPr>
            <p:spPr>
              <a:xfrm>
                <a:off x="8403840" y="56988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3</a:t>
                </a:r>
                <a:endParaRPr b="0" lang="en-US" sz="7200" spc="-1" strike="noStrike">
                  <a:solidFill>
                    <a:srgbClr val="000000"/>
                  </a:solidFill>
                  <a:latin typeface="Arial"/>
                </a:endParaRPr>
              </a:p>
            </p:txBody>
          </p:sp>
          <p:sp>
            <p:nvSpPr>
              <p:cNvPr id="250" name="文本框 33"/>
              <p:cNvSpPr/>
              <p:nvPr/>
            </p:nvSpPr>
            <p:spPr>
              <a:xfrm>
                <a:off x="8997840" y="-7779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c60139"/>
                    </a:solidFill>
                    <a:latin typeface="Broadway"/>
                  </a:rPr>
                  <a:t>4</a:t>
                </a:r>
                <a:endParaRPr b="0" lang="en-US" sz="7200" spc="-1" strike="noStrike">
                  <a:solidFill>
                    <a:srgbClr val="000000"/>
                  </a:solidFill>
                  <a:latin typeface="Arial"/>
                </a:endParaRPr>
              </a:p>
            </p:txBody>
          </p:sp>
          <p:sp>
            <p:nvSpPr>
              <p:cNvPr id="251" name="文本框 34"/>
              <p:cNvSpPr/>
              <p:nvPr/>
            </p:nvSpPr>
            <p:spPr>
              <a:xfrm>
                <a:off x="9875880" y="-26535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404040"/>
                    </a:solidFill>
                    <a:latin typeface="Broadway"/>
                  </a:rPr>
                  <a:t>5</a:t>
                </a:r>
                <a:endParaRPr b="0" lang="en-US" sz="7200" spc="-1" strike="noStrike">
                  <a:solidFill>
                    <a:srgbClr val="000000"/>
                  </a:solidFill>
                  <a:latin typeface="Arial"/>
                </a:endParaRPr>
              </a:p>
            </p:txBody>
          </p:sp>
          <p:sp>
            <p:nvSpPr>
              <p:cNvPr id="252" name="文本框 35"/>
              <p:cNvSpPr/>
              <p:nvPr/>
            </p:nvSpPr>
            <p:spPr>
              <a:xfrm>
                <a:off x="10731960" y="-4649760"/>
                <a:ext cx="7038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7200" spc="-1" strike="noStrike">
                    <a:solidFill>
                      <a:srgbClr val="404040"/>
                    </a:solidFill>
                    <a:latin typeface="Broadway"/>
                  </a:rPr>
                  <a:t>6</a:t>
                </a:r>
                <a:endParaRPr b="0" lang="en-US" sz="7200" spc="-1" strike="noStrike">
                  <a:solidFill>
                    <a:srgbClr val="000000"/>
                  </a:solidFill>
                  <a:latin typeface="Arial"/>
                </a:endParaRPr>
              </a:p>
            </p:txBody>
          </p:sp>
        </p:grpSp>
        <p:sp>
          <p:nvSpPr>
            <p:cNvPr id="253" name="上箭头 21"/>
            <p:cNvSpPr/>
            <p:nvPr/>
          </p:nvSpPr>
          <p:spPr>
            <a:xfrm rot="1402800">
              <a:off x="6480360" y="4469760"/>
              <a:ext cx="801360" cy="885960"/>
            </a:xfrm>
            <a:prstGeom prst="upArrow">
              <a:avLst>
                <a:gd name="adj1" fmla="val 50000"/>
                <a:gd name="adj2" fmla="val 50000"/>
              </a:avLst>
            </a:prstGeom>
            <a:solidFill>
              <a:srgbClr val="c6013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c60139"/>
                </a:solidFill>
                <a:latin typeface="Calibri"/>
              </a:endParaRPr>
            </a:p>
          </p:txBody>
        </p:sp>
      </p:grpSp>
      <p:sp>
        <p:nvSpPr>
          <p:cNvPr id="254" name="文本框 52"/>
          <p:cNvSpPr/>
          <p:nvPr/>
        </p:nvSpPr>
        <p:spPr>
          <a:xfrm>
            <a:off x="5021280" y="5758200"/>
            <a:ext cx="2192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c60139"/>
                </a:solidFill>
                <a:latin typeface="微软雅黑"/>
                <a:ea typeface="微软雅黑"/>
              </a:rPr>
              <a:t>求职者倾向的找工作方式</a:t>
            </a:r>
            <a:endParaRPr b="0" lang="en-US" sz="24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2"/>
          <p:cNvSpPr/>
          <p:nvPr/>
        </p:nvSpPr>
        <p:spPr>
          <a:xfrm>
            <a:off x="2615040" y="573480"/>
            <a:ext cx="42775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2777d8"/>
                </a:solidFill>
                <a:latin typeface="华康俪金黑W8(P)"/>
                <a:ea typeface="华康俪金黑W8(P)"/>
              </a:rPr>
              <a:t>2008</a:t>
            </a:r>
            <a:r>
              <a:rPr b="0" lang="zh-CN" sz="2800" spc="-1" strike="noStrike">
                <a:solidFill>
                  <a:srgbClr val="2777d8"/>
                </a:solidFill>
                <a:latin typeface="华康俪金黑W8(P)"/>
                <a:ea typeface="华康俪金黑W8(P)"/>
              </a:rPr>
              <a:t>年以后，人们更倾向于在</a:t>
            </a:r>
            <a:r>
              <a:rPr b="0" lang="zh-CN" sz="2800" spc="-1" strike="noStrike">
                <a:solidFill>
                  <a:srgbClr val="c60139"/>
                </a:solidFill>
                <a:latin typeface="华康俪金黑W8(P)"/>
                <a:ea typeface="华康俪金黑W8(P)"/>
              </a:rPr>
              <a:t>网上求职</a:t>
            </a:r>
            <a:endParaRPr b="0" lang="en-US" sz="2800" spc="-1" strike="noStrike">
              <a:solidFill>
                <a:srgbClr val="000000"/>
              </a:solidFill>
              <a:latin typeface="Arial"/>
            </a:endParaRPr>
          </a:p>
        </p:txBody>
      </p:sp>
      <p:graphicFrame>
        <p:nvGraphicFramePr>
          <p:cNvPr id="256" name="表格 3"/>
          <p:cNvGraphicFramePr/>
          <p:nvPr/>
        </p:nvGraphicFramePr>
        <p:xfrm>
          <a:off x="2031840" y="1395000"/>
          <a:ext cx="8127720" cy="5220000"/>
        </p:xfrm>
        <a:graphic>
          <a:graphicData uri="http://schemas.openxmlformats.org/drawingml/2006/table">
            <a:tbl>
              <a:tblPr/>
              <a:tblGrid>
                <a:gridCol w="2709000"/>
                <a:gridCol w="2709000"/>
                <a:gridCol w="2709000"/>
              </a:tblGrid>
              <a:tr h="900000">
                <a:tc>
                  <a:txBody>
                    <a:bodyPr anchor="ctr">
                      <a:noAutofit/>
                    </a:bodyPr>
                    <a:p>
                      <a:pPr algn="ctr">
                        <a:lnSpc>
                          <a:spcPct val="100000"/>
                        </a:lnSpc>
                      </a:pPr>
                      <a:r>
                        <a:rPr b="1" lang="zh-CN" sz="3200" spc="-1" strike="noStrike">
                          <a:solidFill>
                            <a:srgbClr val="ffffff"/>
                          </a:solidFill>
                          <a:latin typeface="微软雅黑"/>
                          <a:ea typeface="微软雅黑"/>
                        </a:rPr>
                        <a:t>互联网</a:t>
                      </a:r>
                      <a:endParaRPr b="0" lang="en-US" sz="32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5b9bd5"/>
                    </a:solidFill>
                  </a:tcPr>
                </a:tc>
                <a:tc>
                  <a:txBody>
                    <a:bodyPr anchor="ctr">
                      <a:noAutofit/>
                    </a:bodyPr>
                    <a:p>
                      <a:pPr algn="ctr">
                        <a:lnSpc>
                          <a:spcPct val="100000"/>
                        </a:lnSpc>
                      </a:pPr>
                      <a:r>
                        <a:rPr b="1" lang="zh-CN" sz="3200" spc="-1" strike="noStrike">
                          <a:solidFill>
                            <a:srgbClr val="ffffff"/>
                          </a:solidFill>
                          <a:latin typeface="微软雅黑"/>
                          <a:ea typeface="微软雅黑"/>
                        </a:rPr>
                        <a:t>移动互联网</a:t>
                      </a:r>
                      <a:endParaRPr b="0" lang="en-US" sz="3200" spc="-1" strike="noStrike">
                        <a:solidFill>
                          <a:srgbClr val="000000"/>
                        </a:solidFill>
                        <a:latin typeface="Arial"/>
                      </a:endParaRPr>
                    </a:p>
                  </a:txBody>
                  <a:tcPr anchor="ctr" marL="91440" marR="91440">
                    <a:lnL>
                      <a:noFill/>
                    </a:lnL>
                    <a:lnR>
                      <a:noFill/>
                    </a:lnR>
                    <a:lnT w="12240">
                      <a:solidFill>
                        <a:srgbClr val="203864"/>
                      </a:solidFill>
                    </a:lnT>
                    <a:lnB w="12240">
                      <a:solidFill>
                        <a:srgbClr val="203864"/>
                      </a:solidFill>
                    </a:lnB>
                    <a:solidFill>
                      <a:srgbClr val="5b9bd5"/>
                    </a:solidFill>
                  </a:tcPr>
                </a:tc>
                <a:tc>
                  <a:txBody>
                    <a:bodyPr anchor="ctr">
                      <a:noAutofit/>
                    </a:bodyPr>
                    <a:p>
                      <a:pPr algn="ctr">
                        <a:lnSpc>
                          <a:spcPct val="100000"/>
                        </a:lnSpc>
                      </a:pPr>
                      <a:r>
                        <a:rPr b="1" lang="zh-CN" sz="3200" spc="-1" strike="noStrike">
                          <a:solidFill>
                            <a:srgbClr val="ffffff"/>
                          </a:solidFill>
                          <a:latin typeface="微软雅黑"/>
                          <a:ea typeface="微软雅黑"/>
                        </a:rPr>
                        <a:t>学习型</a:t>
                      </a:r>
                      <a:endParaRPr b="0" lang="en-US" sz="32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5b9bd5"/>
                    </a:solidFill>
                  </a:tcPr>
                </a:tc>
              </a:tr>
              <a:tr h="720000">
                <a:tc>
                  <a:txBody>
                    <a:bodyPr anchor="ctr">
                      <a:noAutofit/>
                    </a:bodyPr>
                    <a:p>
                      <a:pPr algn="ctr">
                        <a:lnSpc>
                          <a:spcPct val="100000"/>
                        </a:lnSpc>
                      </a:pPr>
                      <a:r>
                        <a:rPr b="0" lang="zh-CN" sz="2800" spc="-1" strike="noStrike">
                          <a:solidFill>
                            <a:srgbClr val="2777d8"/>
                          </a:solidFill>
                          <a:latin typeface="微软雅黑"/>
                          <a:ea typeface="微软雅黑"/>
                        </a:rPr>
                        <a:t>智联招聘</a:t>
                      </a:r>
                      <a:endParaRPr b="0" lang="en-US" sz="28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微信</a:t>
                      </a:r>
                      <a:endParaRPr b="0" lang="en-US" sz="2800" spc="-1" strike="noStrike">
                        <a:solidFill>
                          <a:srgbClr val="000000"/>
                        </a:solidFill>
                        <a:latin typeface="Arial"/>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网易公开课</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r h="720000">
                <a:tc>
                  <a:txBody>
                    <a:bodyPr anchor="ctr">
                      <a:noAutofit/>
                    </a:bodyPr>
                    <a:p>
                      <a:pPr algn="ctr">
                        <a:lnSpc>
                          <a:spcPct val="100000"/>
                        </a:lnSpc>
                      </a:pPr>
                      <a:r>
                        <a:rPr b="0" lang="zh-CN" sz="2800" spc="-1" strike="noStrike">
                          <a:solidFill>
                            <a:srgbClr val="2777d8"/>
                          </a:solidFill>
                          <a:latin typeface="微软雅黑"/>
                          <a:ea typeface="微软雅黑"/>
                        </a:rPr>
                        <a:t>大街网</a:t>
                      </a:r>
                      <a:endParaRPr b="0" lang="en-US" sz="28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新浪微博</a:t>
                      </a:r>
                      <a:endParaRPr b="0" lang="en-US" sz="2800" spc="-1" strike="noStrike">
                        <a:solidFill>
                          <a:srgbClr val="000000"/>
                        </a:solidFill>
                        <a:latin typeface="Arial"/>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多贝网</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r h="720000">
                <a:tc>
                  <a:txBody>
                    <a:bodyPr anchor="ctr">
                      <a:noAutofit/>
                    </a:bodyPr>
                    <a:p>
                      <a:pPr algn="ctr">
                        <a:lnSpc>
                          <a:spcPct val="100000"/>
                        </a:lnSpc>
                      </a:pPr>
                      <a:r>
                        <a:rPr b="0" lang="zh-CN" sz="2800" spc="-1" strike="noStrike">
                          <a:solidFill>
                            <a:srgbClr val="2777d8"/>
                          </a:solidFill>
                          <a:latin typeface="微软雅黑"/>
                          <a:ea typeface="微软雅黑"/>
                        </a:rPr>
                        <a:t>若邻网</a:t>
                      </a:r>
                      <a:endParaRPr b="0" lang="en-US" sz="28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endParaRPr b="0" lang="en-US" sz="2800" spc="-1" strike="noStrike">
                        <a:solidFill>
                          <a:srgbClr val="2777d8"/>
                        </a:solidFill>
                        <a:latin typeface="微软雅黑"/>
                        <a:ea typeface="微软雅黑"/>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第九课堂</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r h="720000">
                <a:tc>
                  <a:txBody>
                    <a:bodyPr anchor="ctr">
                      <a:noAutofit/>
                    </a:bodyPr>
                    <a:p>
                      <a:pPr algn="ctr">
                        <a:lnSpc>
                          <a:spcPct val="100000"/>
                        </a:lnSpc>
                      </a:pPr>
                      <a:r>
                        <a:rPr b="0" lang="zh-CN" sz="2800" spc="-1" strike="noStrike">
                          <a:solidFill>
                            <a:srgbClr val="2777d8"/>
                          </a:solidFill>
                          <a:latin typeface="微软雅黑"/>
                          <a:ea typeface="微软雅黑"/>
                        </a:rPr>
                        <a:t>知乎</a:t>
                      </a:r>
                      <a:endParaRPr b="0" lang="en-US" sz="28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endParaRPr b="0" lang="en-US" sz="2800" spc="-1" strike="noStrike">
                        <a:solidFill>
                          <a:srgbClr val="2777d8"/>
                        </a:solidFill>
                        <a:latin typeface="微软雅黑"/>
                        <a:ea typeface="微软雅黑"/>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腾讯精品课</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r h="720000">
                <a:tc>
                  <a:txBody>
                    <a:bodyPr anchor="ctr">
                      <a:noAutofit/>
                    </a:bodyPr>
                    <a:p>
                      <a:pPr algn="ctr">
                        <a:lnSpc>
                          <a:spcPct val="100000"/>
                        </a:lnSpc>
                      </a:pPr>
                      <a:r>
                        <a:rPr b="0" lang="zh-CN" sz="2800" spc="-1" strike="noStrike">
                          <a:solidFill>
                            <a:srgbClr val="2777d8"/>
                          </a:solidFill>
                          <a:latin typeface="微软雅黑"/>
                          <a:ea typeface="微软雅黑"/>
                        </a:rPr>
                        <a:t>人人</a:t>
                      </a:r>
                      <a:endParaRPr b="0" lang="en-US" sz="2800" spc="-1" strike="noStrike">
                        <a:solidFill>
                          <a:srgbClr val="000000"/>
                        </a:solidFill>
                        <a:latin typeface="Arial"/>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endParaRPr b="0" lang="en-US" sz="2800" spc="-1" strike="noStrike">
                        <a:solidFill>
                          <a:srgbClr val="2777d8"/>
                        </a:solidFill>
                        <a:latin typeface="微软雅黑"/>
                        <a:ea typeface="微软雅黑"/>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zh-CN" sz="2800" spc="-1" strike="noStrike">
                          <a:solidFill>
                            <a:srgbClr val="2777d8"/>
                          </a:solidFill>
                          <a:latin typeface="微软雅黑"/>
                          <a:ea typeface="微软雅黑"/>
                        </a:rPr>
                        <a:t>淘宝同学</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r h="720000">
                <a:tc>
                  <a:txBody>
                    <a:bodyPr anchor="ctr">
                      <a:noAutofit/>
                    </a:bodyPr>
                    <a:p>
                      <a:pPr algn="ctr">
                        <a:lnSpc>
                          <a:spcPct val="100000"/>
                        </a:lnSpc>
                      </a:pPr>
                      <a:endParaRPr b="0" lang="en-US" sz="2800" spc="-1" strike="noStrike">
                        <a:solidFill>
                          <a:srgbClr val="000000"/>
                        </a:solidFill>
                        <a:latin typeface="微软雅黑"/>
                        <a:ea typeface="微软雅黑"/>
                      </a:endParaRPr>
                    </a:p>
                  </a:txBody>
                  <a:tcPr anchor="ctr" marL="91440" marR="91440">
                    <a:lnL w="12240">
                      <a:solidFill>
                        <a:srgbClr val="203864"/>
                      </a:solid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endParaRPr b="0" lang="en-US" sz="2800" spc="-1" strike="noStrike">
                        <a:solidFill>
                          <a:srgbClr val="000000"/>
                        </a:solidFill>
                        <a:latin typeface="微软雅黑"/>
                        <a:ea typeface="微软雅黑"/>
                      </a:endParaRPr>
                    </a:p>
                  </a:txBody>
                  <a:tcPr anchor="ctr" marL="91440" marR="91440">
                    <a:lnL>
                      <a:noFill/>
                    </a:lnL>
                    <a:lnR>
                      <a:noFill/>
                    </a:lnR>
                    <a:lnT w="12240">
                      <a:solidFill>
                        <a:srgbClr val="203864"/>
                      </a:solidFill>
                    </a:lnT>
                    <a:lnB w="12240">
                      <a:solidFill>
                        <a:srgbClr val="203864"/>
                      </a:solidFill>
                    </a:lnB>
                    <a:solidFill>
                      <a:srgbClr val="ffffff">
                        <a:alpha val="40000"/>
                      </a:srgbClr>
                    </a:solidFill>
                  </a:tcPr>
                </a:tc>
                <a:tc>
                  <a:txBody>
                    <a:bodyPr anchor="ctr">
                      <a:noAutofit/>
                    </a:bodyPr>
                    <a:p>
                      <a:pPr algn="ctr">
                        <a:lnSpc>
                          <a:spcPct val="100000"/>
                        </a:lnSpc>
                      </a:pPr>
                      <a:r>
                        <a:rPr b="0" lang="en-US" sz="2800" spc="-1" strike="noStrike">
                          <a:solidFill>
                            <a:srgbClr val="000000"/>
                          </a:solidFill>
                          <a:latin typeface="微软雅黑"/>
                          <a:ea typeface="微软雅黑"/>
                        </a:rPr>
                        <a:t> </a:t>
                      </a:r>
                      <a:endParaRPr b="0" lang="en-US" sz="2800" spc="-1" strike="noStrike">
                        <a:solidFill>
                          <a:srgbClr val="000000"/>
                        </a:solidFill>
                        <a:latin typeface="Arial"/>
                      </a:endParaRPr>
                    </a:p>
                  </a:txBody>
                  <a:tcPr anchor="ctr" marL="91440" marR="91440">
                    <a:lnL>
                      <a:noFill/>
                    </a:lnL>
                    <a:lnR w="12240">
                      <a:solidFill>
                        <a:srgbClr val="203864"/>
                      </a:solidFill>
                    </a:lnR>
                    <a:lnT w="12240">
                      <a:solidFill>
                        <a:srgbClr val="203864"/>
                      </a:solidFill>
                    </a:lnT>
                    <a:lnB w="12240">
                      <a:solidFill>
                        <a:srgbClr val="203864"/>
                      </a:solidFill>
                    </a:lnB>
                    <a:solidFill>
                      <a:srgbClr val="ffffff">
                        <a:alpha val="40000"/>
                      </a:srgbClr>
                    </a:solidFill>
                  </a:tcPr>
                </a:tc>
              </a:tr>
            </a:tbl>
          </a:graphicData>
        </a:graphic>
      </p:graphicFrame>
      <p:pic>
        <p:nvPicPr>
          <p:cNvPr id="257" name="图片 4" descr=""/>
          <p:cNvPicPr/>
          <p:nvPr/>
        </p:nvPicPr>
        <p:blipFill>
          <a:blip r:embed="rId1"/>
          <a:stretch/>
        </p:blipFill>
        <p:spPr>
          <a:xfrm flipH="1">
            <a:off x="640440" y="374040"/>
            <a:ext cx="921240" cy="921240"/>
          </a:xfrm>
          <a:prstGeom prst="rect">
            <a:avLst/>
          </a:prstGeom>
          <a:ln w="0">
            <a:noFill/>
          </a:ln>
        </p:spPr>
      </p:pic>
    </p:spTree>
  </p:cSld>
  <p:transition spd="slow">
    <p:push dir="u"/>
  </p:transition>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Words>4073</Words>
  <Paragraphs>420</Paragraphs>
  <Company>Sky123.Org</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9T14:27:44Z</dcterms:created>
  <dc:creator>Windows 用户</dc:creator>
  <dc:description/>
  <dc:language>en-US</dc:language>
  <cp:lastModifiedBy>王玉清</cp:lastModifiedBy>
  <dcterms:modified xsi:type="dcterms:W3CDTF">2016-03-01T06:58:26Z</dcterms:modified>
  <cp:revision>12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33</vt:r8>
  </property>
</Properties>
</file>