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ECDE-5694-4B49-ACE5-A5E828AC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22C7-95D6-4A70-A8CB-D4EC7C07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C159-9012-4365-BCB0-E494AFCD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5653-58F1-47E4-98BB-83D9D2B1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8D98-BB4B-4386-AF43-B59B5BFC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2810-49D1-4627-BA03-E416566C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B754-A1BF-4795-BEED-F7B6E2A0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F7E3-378D-4500-90C8-61FA8400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8580-32DC-45E8-9D6F-ECEF36E0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2096-DAF3-4F14-8366-F4817C22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996A-8E03-495A-A350-9397571E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370B-8357-4A73-99E3-6EEB20AC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8B2E-81F3-4995-A40D-83BF3408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F617-2B9A-4248-81DC-0EAB1090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25A3-B407-4E04-BECB-F8F271FA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C0E3-0568-45E2-8F02-7CD8B08E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FB34-2E0D-4D36-ABA2-0FA6B5F7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919-6CDE-41E6-BBAB-5156212E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9757-57DB-4C89-B1B7-8EF23E43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2AAE-33EA-46E5-861B-72675159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3657-1CB6-41D1-AAA9-61EE462C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9DB-A52E-4697-91FE-FAC5B36A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27A1-A7C2-4A41-90D0-654CFCF6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2A6-CFE0-47B5-8999-472E382B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-720"/>
            <a:ext cx="12189960" cy="6858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9F531F-58CF-4592-AEDC-78C894C25EF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-720"/>
            <a:ext cx="12189960" cy="6858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D9D95C-F19D-4B7A-972A-5E6841293F3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7" descr=""/>
          <p:cNvPicPr/>
          <p:nvPr/>
        </p:nvPicPr>
        <p:blipFill>
          <a:blip r:embed="rId1"/>
          <a:stretch/>
        </p:blipFill>
        <p:spPr>
          <a:xfrm>
            <a:off x="2834280" y="2245320"/>
            <a:ext cx="6701040" cy="2021040"/>
          </a:xfrm>
          <a:prstGeom prst="rect">
            <a:avLst/>
          </a:prstGeom>
          <a:ln w="0">
            <a:noFill/>
          </a:ln>
        </p:spPr>
      </p:pic>
      <p:sp>
        <p:nvSpPr>
          <p:cNvPr id="85" name="矩形 8"/>
          <p:cNvSpPr/>
          <p:nvPr/>
        </p:nvSpPr>
        <p:spPr>
          <a:xfrm>
            <a:off x="2784240" y="4080240"/>
            <a:ext cx="7033320" cy="878760"/>
          </a:xfrm>
          <a:prstGeom prst="rect">
            <a:avLst/>
          </a:prstGeom>
          <a:solidFill>
            <a:srgbClr val="61a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文本框 6"/>
          <p:cNvSpPr/>
          <p:nvPr/>
        </p:nvSpPr>
        <p:spPr>
          <a:xfrm>
            <a:off x="1314000" y="4232160"/>
            <a:ext cx="93499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年终工作总结通用</a:t>
            </a:r>
            <a:r>
              <a:rPr b="0" lang="en-US" sz="40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10"/>
          <p:cNvSpPr/>
          <p:nvPr/>
        </p:nvSpPr>
        <p:spPr>
          <a:xfrm>
            <a:off x="2943360" y="944640"/>
            <a:ext cx="6378840" cy="1144080"/>
          </a:xfrm>
          <a:custGeom>
            <a:avLst/>
            <a:gdLst>
              <a:gd name="textAreaLeft" fmla="*/ 0 w 6378840"/>
              <a:gd name="textAreaRight" fmla="*/ 6379200 w 6378840"/>
              <a:gd name="textAreaTop" fmla="*/ 0 h 1144080"/>
              <a:gd name="textAreaBottom" fmla="*/ 1144440 h 1144080"/>
            </a:gdLst>
            <a:ahLst/>
            <a:rect l="textAreaLeft" t="textAreaTop" r="textAreaRight" b="textAreaBottom"/>
            <a:pathLst>
              <a:path w="4883137" h="876006">
                <a:moveTo>
                  <a:pt x="2441568" y="0"/>
                </a:moveTo>
                <a:cubicBezTo>
                  <a:pt x="3401612" y="0"/>
                  <a:pt x="4248046" y="294086"/>
                  <a:pt x="4747866" y="741385"/>
                </a:cubicBezTo>
                <a:lnTo>
                  <a:pt x="4883137" y="876006"/>
                </a:lnTo>
                <a:lnTo>
                  <a:pt x="4782905" y="876006"/>
                </a:lnTo>
                <a:lnTo>
                  <a:pt x="4650145" y="760946"/>
                </a:lnTo>
                <a:cubicBezTo>
                  <a:pt x="4141798" y="360074"/>
                  <a:pt x="3341609" y="101600"/>
                  <a:pt x="2441568" y="101600"/>
                </a:cubicBezTo>
                <a:cubicBezTo>
                  <a:pt x="1541528" y="101600"/>
                  <a:pt x="741338" y="360074"/>
                  <a:pt x="232992" y="760946"/>
                </a:cubicBezTo>
                <a:lnTo>
                  <a:pt x="100232" y="876006"/>
                </a:lnTo>
                <a:lnTo>
                  <a:pt x="0" y="876006"/>
                </a:lnTo>
                <a:lnTo>
                  <a:pt x="135270" y="741385"/>
                </a:lnTo>
                <a:cubicBezTo>
                  <a:pt x="635090" y="294086"/>
                  <a:pt x="1481524" y="0"/>
                  <a:pt x="2441568" y="0"/>
                </a:cubicBezTo>
                <a:close/>
              </a:path>
            </a:pathLst>
          </a:custGeom>
          <a:solidFill>
            <a:srgbClr val="80614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4"/>
          <p:cNvSpPr/>
          <p:nvPr/>
        </p:nvSpPr>
        <p:spPr>
          <a:xfrm>
            <a:off x="0" y="0"/>
            <a:ext cx="2933280" cy="6857640"/>
          </a:xfrm>
          <a:prstGeom prst="rect">
            <a:avLst/>
          </a:prstGeom>
          <a:solidFill>
            <a:srgbClr val="61a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0" name="图片 5" descr=""/>
          <p:cNvPicPr/>
          <p:nvPr/>
        </p:nvPicPr>
        <p:blipFill>
          <a:blip r:embed="rId1"/>
          <a:stretch/>
        </p:blipFill>
        <p:spPr>
          <a:xfrm>
            <a:off x="390600" y="792360"/>
            <a:ext cx="2152080" cy="45396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6"/>
          <p:cNvSpPr/>
          <p:nvPr/>
        </p:nvSpPr>
        <p:spPr>
          <a:xfrm>
            <a:off x="1605960" y="151128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8"/>
          <p:cNvSpPr/>
          <p:nvPr/>
        </p:nvSpPr>
        <p:spPr>
          <a:xfrm>
            <a:off x="2001240" y="2349360"/>
            <a:ext cx="482400" cy="482400"/>
          </a:xfrm>
          <a:prstGeom prst="ellipse">
            <a:avLst/>
          </a:pr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chemeClr val="lt1"/>
                </a:solidFill>
                <a:latin typeface="造字工房悦黑体验版常规体"/>
                <a:ea typeface="造字工房悦黑体验版常规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9"/>
          <p:cNvSpPr/>
          <p:nvPr/>
        </p:nvSpPr>
        <p:spPr>
          <a:xfrm>
            <a:off x="2001240" y="3018240"/>
            <a:ext cx="482400" cy="482400"/>
          </a:xfrm>
          <a:prstGeom prst="ellipse">
            <a:avLst/>
          </a:pr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chemeClr val="lt1"/>
                </a:solidFill>
                <a:latin typeface="造字工房悦黑体验版常规体"/>
                <a:ea typeface="造字工房悦黑体验版常规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10"/>
          <p:cNvSpPr/>
          <p:nvPr/>
        </p:nvSpPr>
        <p:spPr>
          <a:xfrm>
            <a:off x="2001240" y="3687120"/>
            <a:ext cx="482400" cy="482400"/>
          </a:xfrm>
          <a:prstGeom prst="ellipse">
            <a:avLst/>
          </a:pr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chemeClr val="lt1"/>
                </a:solidFill>
                <a:latin typeface="造字工房悦黑体验版常规体"/>
                <a:ea typeface="造字工房悦黑体验版常规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11"/>
          <p:cNvSpPr/>
          <p:nvPr/>
        </p:nvSpPr>
        <p:spPr>
          <a:xfrm>
            <a:off x="2001240" y="4356000"/>
            <a:ext cx="482400" cy="482400"/>
          </a:xfrm>
          <a:prstGeom prst="ellipse">
            <a:avLst/>
          </a:pr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chemeClr val="lt1"/>
                </a:solidFill>
                <a:latin typeface="造字工房悦黑体验版常规体"/>
                <a:ea typeface="造字工房悦黑体验版常规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2"/>
          <p:cNvSpPr/>
          <p:nvPr/>
        </p:nvSpPr>
        <p:spPr>
          <a:xfrm>
            <a:off x="2001240" y="5024880"/>
            <a:ext cx="482400" cy="482400"/>
          </a:xfrm>
          <a:prstGeom prst="ellipse">
            <a:avLst/>
          </a:pr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chemeClr val="lt1"/>
                </a:solidFill>
                <a:latin typeface="造字工房悦黑体验版常规体"/>
                <a:ea typeface="造字工房悦黑体验版常规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直接连接符 14"/>
          <p:cNvCxnSpPr/>
          <p:nvPr/>
        </p:nvCxnSpPr>
        <p:spPr>
          <a:xfrm flipV="1">
            <a:off x="2483640" y="2219040"/>
            <a:ext cx="450360" cy="399960"/>
          </a:xfrm>
          <a:prstGeom prst="straightConnector1">
            <a:avLst/>
          </a:prstGeom>
          <a:ln w="22225">
            <a:solidFill>
              <a:srgbClr val="ffffff"/>
            </a:solidFill>
          </a:ln>
        </p:spPr>
      </p:cxnSp>
      <p:grpSp>
        <p:nvGrpSpPr>
          <p:cNvPr id="98" name="组合 24"/>
          <p:cNvGrpSpPr/>
          <p:nvPr/>
        </p:nvGrpSpPr>
        <p:grpSpPr>
          <a:xfrm>
            <a:off x="3055320" y="2158920"/>
            <a:ext cx="7930080" cy="2675160"/>
            <a:chOff x="3055320" y="2158920"/>
            <a:chExt cx="7930080" cy="2675160"/>
          </a:xfrm>
        </p:grpSpPr>
        <p:cxnSp>
          <p:nvCxnSpPr>
            <p:cNvPr id="99" name="直接连接符 19"/>
            <p:cNvCxnSpPr/>
            <p:nvPr/>
          </p:nvCxnSpPr>
          <p:spPr>
            <a:xfrm>
              <a:off x="3055320" y="2158920"/>
              <a:ext cx="7930440" cy="360"/>
            </a:xfrm>
            <a:prstGeom prst="straightConnector1">
              <a:avLst/>
            </a:prstGeom>
            <a:ln>
              <a:solidFill>
                <a:srgbClr val="61a000"/>
              </a:solidFill>
            </a:ln>
          </p:spPr>
        </p:cxnSp>
        <p:cxnSp>
          <p:nvCxnSpPr>
            <p:cNvPr id="100" name="直接连接符 20"/>
            <p:cNvCxnSpPr/>
            <p:nvPr/>
          </p:nvCxnSpPr>
          <p:spPr>
            <a:xfrm>
              <a:off x="3055320" y="2827800"/>
              <a:ext cx="7930440" cy="360"/>
            </a:xfrm>
            <a:prstGeom prst="straightConnector1">
              <a:avLst/>
            </a:prstGeom>
            <a:ln>
              <a:solidFill>
                <a:srgbClr val="61a000"/>
              </a:solidFill>
            </a:ln>
          </p:spPr>
        </p:cxnSp>
        <p:cxnSp>
          <p:nvCxnSpPr>
            <p:cNvPr id="101" name="直接连接符 21"/>
            <p:cNvCxnSpPr/>
            <p:nvPr/>
          </p:nvCxnSpPr>
          <p:spPr>
            <a:xfrm>
              <a:off x="3055320" y="3496320"/>
              <a:ext cx="7930440" cy="360"/>
            </a:xfrm>
            <a:prstGeom prst="straightConnector1">
              <a:avLst/>
            </a:prstGeom>
            <a:ln>
              <a:solidFill>
                <a:srgbClr val="61a000"/>
              </a:solidFill>
            </a:ln>
          </p:spPr>
        </p:cxnSp>
        <p:cxnSp>
          <p:nvCxnSpPr>
            <p:cNvPr id="102" name="直接连接符 22"/>
            <p:cNvCxnSpPr/>
            <p:nvPr/>
          </p:nvCxnSpPr>
          <p:spPr>
            <a:xfrm>
              <a:off x="3055320" y="4165200"/>
              <a:ext cx="7930440" cy="360"/>
            </a:xfrm>
            <a:prstGeom prst="straightConnector1">
              <a:avLst/>
            </a:prstGeom>
            <a:ln>
              <a:solidFill>
                <a:srgbClr val="61a000"/>
              </a:solidFill>
            </a:ln>
          </p:spPr>
        </p:cxnSp>
        <p:cxnSp>
          <p:nvCxnSpPr>
            <p:cNvPr id="103" name="直接连接符 23"/>
            <p:cNvCxnSpPr/>
            <p:nvPr/>
          </p:nvCxnSpPr>
          <p:spPr>
            <a:xfrm>
              <a:off x="3055320" y="4834080"/>
              <a:ext cx="7930440" cy="360"/>
            </a:xfrm>
            <a:prstGeom prst="straightConnector1">
              <a:avLst/>
            </a:prstGeom>
            <a:ln>
              <a:solidFill>
                <a:srgbClr val="61a000"/>
              </a:solidFill>
            </a:ln>
          </p:spPr>
        </p:cxnSp>
      </p:grpSp>
      <p:sp>
        <p:nvSpPr>
          <p:cNvPr id="104" name="文本框 25"/>
          <p:cNvSpPr/>
          <p:nvPr/>
        </p:nvSpPr>
        <p:spPr>
          <a:xfrm>
            <a:off x="4581000" y="1665360"/>
            <a:ext cx="2913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2016</a:t>
            </a:r>
            <a:r>
              <a:rPr b="0" lang="zh-CN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年工作计划</a:t>
            </a:r>
            <a:r>
              <a:rPr b="0" lang="en-US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6"/>
          <p:cNvSpPr/>
          <p:nvPr/>
        </p:nvSpPr>
        <p:spPr>
          <a:xfrm>
            <a:off x="4581000" y="2334240"/>
            <a:ext cx="2913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2016</a:t>
            </a:r>
            <a:r>
              <a:rPr b="0" lang="zh-CN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年工作计划</a:t>
            </a:r>
            <a:r>
              <a:rPr b="0" lang="en-US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7"/>
          <p:cNvSpPr/>
          <p:nvPr/>
        </p:nvSpPr>
        <p:spPr>
          <a:xfrm>
            <a:off x="4581000" y="3003120"/>
            <a:ext cx="2913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2016</a:t>
            </a:r>
            <a:r>
              <a:rPr b="0" lang="zh-CN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年工作计划</a:t>
            </a:r>
            <a:r>
              <a:rPr b="0" lang="en-US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28"/>
          <p:cNvSpPr/>
          <p:nvPr/>
        </p:nvSpPr>
        <p:spPr>
          <a:xfrm>
            <a:off x="4581000" y="3671640"/>
            <a:ext cx="2913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2016</a:t>
            </a:r>
            <a:r>
              <a:rPr b="0" lang="zh-CN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年工作计划</a:t>
            </a:r>
            <a:r>
              <a:rPr b="0" lang="en-US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9"/>
          <p:cNvSpPr/>
          <p:nvPr/>
        </p:nvSpPr>
        <p:spPr>
          <a:xfrm>
            <a:off x="4581000" y="4340520"/>
            <a:ext cx="2913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2016</a:t>
            </a:r>
            <a:r>
              <a:rPr b="0" lang="zh-CN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年工作计划</a:t>
            </a:r>
            <a:r>
              <a:rPr b="0" lang="en-US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接连接符 32"/>
          <p:cNvCxnSpPr/>
          <p:nvPr/>
        </p:nvCxnSpPr>
        <p:spPr>
          <a:xfrm flipV="1">
            <a:off x="2483640" y="2907720"/>
            <a:ext cx="450360" cy="399960"/>
          </a:xfrm>
          <a:prstGeom prst="straightConnector1">
            <a:avLst/>
          </a:prstGeom>
          <a:ln w="22225">
            <a:solidFill>
              <a:srgbClr val="ffffff"/>
            </a:solidFill>
          </a:ln>
        </p:spPr>
      </p:cxnSp>
      <p:cxnSp>
        <p:nvCxnSpPr>
          <p:cNvPr id="110" name="直接连接符 33"/>
          <p:cNvCxnSpPr/>
          <p:nvPr/>
        </p:nvCxnSpPr>
        <p:spPr>
          <a:xfrm flipV="1">
            <a:off x="2483640" y="3596760"/>
            <a:ext cx="450360" cy="399960"/>
          </a:xfrm>
          <a:prstGeom prst="straightConnector1">
            <a:avLst/>
          </a:prstGeom>
          <a:ln w="22225">
            <a:solidFill>
              <a:srgbClr val="ffffff"/>
            </a:solidFill>
          </a:ln>
        </p:spPr>
      </p:cxnSp>
      <p:cxnSp>
        <p:nvCxnSpPr>
          <p:cNvPr id="111" name="直接连接符 34"/>
          <p:cNvCxnSpPr/>
          <p:nvPr/>
        </p:nvCxnSpPr>
        <p:spPr>
          <a:xfrm flipV="1">
            <a:off x="2483640" y="4285800"/>
            <a:ext cx="450360" cy="399600"/>
          </a:xfrm>
          <a:prstGeom prst="straightConnector1">
            <a:avLst/>
          </a:prstGeom>
          <a:ln w="22225">
            <a:solidFill>
              <a:srgbClr val="ffffff"/>
            </a:solidFill>
          </a:ln>
        </p:spPr>
      </p:cxnSp>
      <p:cxnSp>
        <p:nvCxnSpPr>
          <p:cNvPr id="112" name="直接连接符 35"/>
          <p:cNvCxnSpPr/>
          <p:nvPr/>
        </p:nvCxnSpPr>
        <p:spPr>
          <a:xfrm flipV="1">
            <a:off x="2483640" y="4974480"/>
            <a:ext cx="450360" cy="399960"/>
          </a:xfrm>
          <a:prstGeom prst="straightConnector1">
            <a:avLst/>
          </a:prstGeom>
          <a:ln w="22225">
            <a:solidFill>
              <a:srgbClr val="ffffff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4"/>
          <p:cNvSpPr/>
          <p:nvPr/>
        </p:nvSpPr>
        <p:spPr>
          <a:xfrm>
            <a:off x="0" y="0"/>
            <a:ext cx="2933280" cy="1891800"/>
          </a:xfrm>
          <a:prstGeom prst="rect">
            <a:avLst/>
          </a:prstGeom>
          <a:solidFill>
            <a:srgbClr val="61a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4" name="图片 5" descr=""/>
          <p:cNvPicPr/>
          <p:nvPr/>
        </p:nvPicPr>
        <p:blipFill>
          <a:blip r:embed="rId1"/>
          <a:stretch/>
        </p:blipFill>
        <p:spPr>
          <a:xfrm>
            <a:off x="390600" y="792360"/>
            <a:ext cx="2152080" cy="453960"/>
          </a:xfrm>
          <a:prstGeom prst="rect">
            <a:avLst/>
          </a:prstGeom>
          <a:ln w="0">
            <a:noFill/>
          </a:ln>
        </p:spPr>
      </p:pic>
      <p:cxnSp>
        <p:nvCxnSpPr>
          <p:cNvPr id="115" name="直接连接符 19"/>
          <p:cNvCxnSpPr/>
          <p:nvPr/>
        </p:nvCxnSpPr>
        <p:spPr>
          <a:xfrm>
            <a:off x="3055320" y="2838960"/>
            <a:ext cx="7930440" cy="360"/>
          </a:xfrm>
          <a:prstGeom prst="straightConnector1">
            <a:avLst/>
          </a:prstGeom>
          <a:ln>
            <a:solidFill>
              <a:srgbClr val="61a000"/>
            </a:solidFill>
          </a:ln>
        </p:spPr>
      </p:cxnSp>
      <p:sp>
        <p:nvSpPr>
          <p:cNvPr id="116" name="矩形 30"/>
          <p:cNvSpPr/>
          <p:nvPr/>
        </p:nvSpPr>
        <p:spPr>
          <a:xfrm>
            <a:off x="1839960" y="2839320"/>
            <a:ext cx="1093320" cy="913680"/>
          </a:xfrm>
          <a:prstGeom prst="rect">
            <a:avLst/>
          </a:prstGeom>
          <a:solidFill>
            <a:srgbClr val="61a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4800" spc="-1" strike="noStrike">
                <a:solidFill>
                  <a:schemeClr val="lt1"/>
                </a:solidFill>
                <a:latin typeface="造字工房悦黑体验版常规体"/>
                <a:ea typeface="造字工房悦黑体验版常规体"/>
              </a:rPr>
              <a:t>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直接连接符 31"/>
          <p:cNvCxnSpPr/>
          <p:nvPr/>
        </p:nvCxnSpPr>
        <p:spPr>
          <a:xfrm>
            <a:off x="3055320" y="3753000"/>
            <a:ext cx="7930440" cy="360"/>
          </a:xfrm>
          <a:prstGeom prst="straightConnector1">
            <a:avLst/>
          </a:prstGeom>
          <a:ln>
            <a:solidFill>
              <a:srgbClr val="61a00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4"/>
          <p:cNvSpPr/>
          <p:nvPr/>
        </p:nvSpPr>
        <p:spPr>
          <a:xfrm>
            <a:off x="1466640" y="251640"/>
            <a:ext cx="2913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2016</a:t>
            </a:r>
            <a:r>
              <a:rPr b="0" lang="zh-CN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年工作计划</a:t>
            </a:r>
            <a:r>
              <a:rPr b="0" lang="en-US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0" y="0"/>
            <a:ext cx="1093320" cy="913680"/>
          </a:xfrm>
          <a:prstGeom prst="rect">
            <a:avLst/>
          </a:prstGeom>
          <a:solidFill>
            <a:srgbClr val="61a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chemeClr val="lt1"/>
                </a:solidFill>
                <a:latin typeface="造字工房悦黑体验版常规体"/>
                <a:ea typeface="造字工房悦黑体验版常规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接连接符 6"/>
          <p:cNvCxnSpPr/>
          <p:nvPr/>
        </p:nvCxnSpPr>
        <p:spPr>
          <a:xfrm>
            <a:off x="1215360" y="913680"/>
            <a:ext cx="10659240" cy="360"/>
          </a:xfrm>
          <a:prstGeom prst="straightConnector1">
            <a:avLst/>
          </a:prstGeom>
          <a:ln>
            <a:solidFill>
              <a:srgbClr val="61a000"/>
            </a:solidFill>
          </a:ln>
        </p:spPr>
      </p:cxnSp>
      <p:sp>
        <p:nvSpPr>
          <p:cNvPr id="121" name="椭圆 7"/>
          <p:cNvSpPr/>
          <p:nvPr/>
        </p:nvSpPr>
        <p:spPr>
          <a:xfrm>
            <a:off x="1326240" y="1495440"/>
            <a:ext cx="2006280" cy="2006280"/>
          </a:xfrm>
          <a:prstGeom prst="ellipse">
            <a:avLst/>
          </a:prstGeom>
          <a:solidFill>
            <a:srgbClr val="a05d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文本框 9"/>
          <p:cNvSpPr/>
          <p:nvPr/>
        </p:nvSpPr>
        <p:spPr>
          <a:xfrm>
            <a:off x="1096560" y="3624120"/>
            <a:ext cx="246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2016</a:t>
            </a:r>
            <a:r>
              <a:rPr b="0" lang="zh-CN" sz="20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年工作计划</a:t>
            </a:r>
            <a:r>
              <a:rPr b="0" lang="en-US" sz="20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1"/>
          <p:cNvSpPr/>
          <p:nvPr/>
        </p:nvSpPr>
        <p:spPr>
          <a:xfrm>
            <a:off x="733680" y="4145760"/>
            <a:ext cx="3191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方正兰亭刊黑_GBK"/>
                <a:ea typeface="方正兰亭刊黑_GBK"/>
              </a:rPr>
              <a:t>免费共享资源精选以及部分原创作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12"/>
          <p:cNvSpPr/>
          <p:nvPr/>
        </p:nvSpPr>
        <p:spPr>
          <a:xfrm>
            <a:off x="5103000" y="1495440"/>
            <a:ext cx="2006280" cy="2006280"/>
          </a:xfrm>
          <a:prstGeom prst="ellipse">
            <a:avLst/>
          </a:prstGeom>
          <a:solidFill>
            <a:srgbClr val="a092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文本框 13"/>
          <p:cNvSpPr/>
          <p:nvPr/>
        </p:nvSpPr>
        <p:spPr>
          <a:xfrm>
            <a:off x="4873320" y="3624120"/>
            <a:ext cx="246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2016</a:t>
            </a:r>
            <a:r>
              <a:rPr b="0" lang="zh-CN" sz="20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年工作计划</a:t>
            </a:r>
            <a:r>
              <a:rPr b="0" lang="en-US" sz="20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4"/>
          <p:cNvSpPr/>
          <p:nvPr/>
        </p:nvSpPr>
        <p:spPr>
          <a:xfrm>
            <a:off x="4510440" y="4145760"/>
            <a:ext cx="3191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方正兰亭刊黑_GBK"/>
                <a:ea typeface="方正兰亭刊黑_GBK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15"/>
          <p:cNvSpPr/>
          <p:nvPr/>
        </p:nvSpPr>
        <p:spPr>
          <a:xfrm>
            <a:off x="8879760" y="1495440"/>
            <a:ext cx="2006280" cy="2006280"/>
          </a:xfrm>
          <a:prstGeom prst="ellipse">
            <a:avLst/>
          </a:prstGeom>
          <a:solidFill>
            <a:srgbClr val="61a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文本框 16"/>
          <p:cNvSpPr/>
          <p:nvPr/>
        </p:nvSpPr>
        <p:spPr>
          <a:xfrm>
            <a:off x="8650080" y="3624120"/>
            <a:ext cx="246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2016</a:t>
            </a:r>
            <a:r>
              <a:rPr b="0" lang="zh-CN" sz="20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年工作计划</a:t>
            </a:r>
            <a:r>
              <a:rPr b="0" lang="en-US" sz="20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7"/>
          <p:cNvSpPr/>
          <p:nvPr/>
        </p:nvSpPr>
        <p:spPr>
          <a:xfrm>
            <a:off x="8286840" y="4145760"/>
            <a:ext cx="3191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方正兰亭刊黑_GBK"/>
                <a:ea typeface="方正兰亭刊黑_GBK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19" descr=""/>
          <p:cNvPicPr/>
          <p:nvPr/>
        </p:nvPicPr>
        <p:blipFill>
          <a:blip r:embed="rId1"/>
          <a:stretch/>
        </p:blipFill>
        <p:spPr>
          <a:xfrm>
            <a:off x="1877760" y="2058840"/>
            <a:ext cx="914760" cy="88020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0" descr=""/>
          <p:cNvPicPr/>
          <p:nvPr/>
        </p:nvPicPr>
        <p:blipFill>
          <a:blip r:embed="rId2"/>
          <a:stretch/>
        </p:blipFill>
        <p:spPr>
          <a:xfrm>
            <a:off x="9475920" y="2023560"/>
            <a:ext cx="852480" cy="8103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22" descr=""/>
          <p:cNvPicPr/>
          <p:nvPr/>
        </p:nvPicPr>
        <p:blipFill>
          <a:blip r:embed="rId3"/>
          <a:stretch/>
        </p:blipFill>
        <p:spPr>
          <a:xfrm>
            <a:off x="5688720" y="1965240"/>
            <a:ext cx="856080" cy="92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4"/>
          <p:cNvSpPr/>
          <p:nvPr/>
        </p:nvSpPr>
        <p:spPr>
          <a:xfrm>
            <a:off x="1466640" y="251640"/>
            <a:ext cx="2913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2016</a:t>
            </a:r>
            <a:r>
              <a:rPr b="0" lang="zh-CN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年工作计划</a:t>
            </a:r>
            <a:r>
              <a:rPr b="0" lang="en-US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"/>
          <p:cNvSpPr/>
          <p:nvPr/>
        </p:nvSpPr>
        <p:spPr>
          <a:xfrm>
            <a:off x="0" y="0"/>
            <a:ext cx="1093320" cy="913680"/>
          </a:xfrm>
          <a:prstGeom prst="rect">
            <a:avLst/>
          </a:prstGeom>
          <a:solidFill>
            <a:srgbClr val="61a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chemeClr val="lt1"/>
                </a:solidFill>
                <a:latin typeface="造字工房悦黑体验版常规体"/>
                <a:ea typeface="造字工房悦黑体验版常规体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直接连接符 6"/>
          <p:cNvCxnSpPr/>
          <p:nvPr/>
        </p:nvCxnSpPr>
        <p:spPr>
          <a:xfrm>
            <a:off x="1215360" y="913680"/>
            <a:ext cx="10659240" cy="360"/>
          </a:xfrm>
          <a:prstGeom prst="straightConnector1">
            <a:avLst/>
          </a:prstGeom>
          <a:ln>
            <a:solidFill>
              <a:srgbClr val="61a000"/>
            </a:solidFill>
          </a:ln>
        </p:spPr>
      </p:cxnSp>
      <p:sp>
        <p:nvSpPr>
          <p:cNvPr id="136" name="任意多边形 18"/>
          <p:cNvSpPr/>
          <p:nvPr/>
        </p:nvSpPr>
        <p:spPr>
          <a:xfrm>
            <a:off x="1827720" y="3564720"/>
            <a:ext cx="1351800" cy="675720"/>
          </a:xfrm>
          <a:custGeom>
            <a:avLst/>
            <a:gdLst>
              <a:gd name="textAreaLeft" fmla="*/ 0 w 1351800"/>
              <a:gd name="textAreaRight" fmla="*/ 1352160 w 1351800"/>
              <a:gd name="textAreaTop" fmla="*/ 0 h 675720"/>
              <a:gd name="textAreaBottom" fmla="*/ 676080 h 675720"/>
            </a:gdLst>
            <a:ahLst/>
            <a:rect l="textAreaLeft" t="textAreaTop" r="textAreaRight" b="textAreaBottom"/>
            <a:pathLst>
              <a:path w="2006600" h="1003300">
                <a:moveTo>
                  <a:pt x="0" y="0"/>
                </a:moveTo>
                <a:lnTo>
                  <a:pt x="2006600" y="0"/>
                </a:lnTo>
                <a:cubicBezTo>
                  <a:pt x="2006600" y="554107"/>
                  <a:pt x="1557407" y="1003300"/>
                  <a:pt x="1003300" y="1003300"/>
                </a:cubicBezTo>
                <a:cubicBezTo>
                  <a:pt x="449193" y="1003300"/>
                  <a:pt x="0" y="554107"/>
                  <a:pt x="0" y="0"/>
                </a:cubicBezTo>
                <a:close/>
              </a:path>
            </a:pathLst>
          </a:custGeom>
          <a:solidFill>
            <a:srgbClr val="a05d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造字工房悦黑体验版常规体"/>
                <a:ea typeface="造字工房悦黑体验版常规体"/>
              </a:rPr>
              <a:t>1</a:t>
            </a:r>
            <a:r>
              <a:rPr b="0" lang="zh-CN" sz="2400" spc="-1" strike="noStrike">
                <a:solidFill>
                  <a:schemeClr val="lt1"/>
                </a:solidFill>
                <a:latin typeface="造字工房悦黑体验版常规体"/>
                <a:ea typeface="造字工房悦黑体验版常规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"/>
          <p:cNvSpPr/>
          <p:nvPr/>
        </p:nvSpPr>
        <p:spPr>
          <a:xfrm>
            <a:off x="1049040" y="3453840"/>
            <a:ext cx="9670320" cy="45360"/>
          </a:xfrm>
          <a:prstGeom prst="rect">
            <a:avLst/>
          </a:prstGeom>
          <a:solidFill>
            <a:srgbClr val="a092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任意多边形 20"/>
          <p:cNvSpPr/>
          <p:nvPr/>
        </p:nvSpPr>
        <p:spPr>
          <a:xfrm>
            <a:off x="3179880" y="2719800"/>
            <a:ext cx="1351800" cy="675720"/>
          </a:xfrm>
          <a:custGeom>
            <a:avLst/>
            <a:gdLst>
              <a:gd name="textAreaLeft" fmla="*/ 0 w 1351800"/>
              <a:gd name="textAreaRight" fmla="*/ 1352160 w 1351800"/>
              <a:gd name="textAreaTop" fmla="*/ 0 h 675720"/>
              <a:gd name="textAreaBottom" fmla="*/ 676080 h 675720"/>
            </a:gdLst>
            <a:ahLst/>
            <a:rect l="textAreaLeft" t="textAreaTop" r="textAreaRight" b="textAreaBottom"/>
            <a:pathLst>
              <a:path w="2006600" h="1003300">
                <a:moveTo>
                  <a:pt x="1003300" y="0"/>
                </a:moveTo>
                <a:cubicBezTo>
                  <a:pt x="1557407" y="0"/>
                  <a:pt x="2006600" y="449193"/>
                  <a:pt x="2006600" y="1003300"/>
                </a:cubicBezTo>
                <a:lnTo>
                  <a:pt x="0" y="1003300"/>
                </a:lnTo>
                <a:cubicBezTo>
                  <a:pt x="0" y="449193"/>
                  <a:pt x="449193" y="0"/>
                  <a:pt x="1003300" y="0"/>
                </a:cubicBezTo>
                <a:close/>
              </a:path>
            </a:pathLst>
          </a:custGeom>
          <a:solidFill>
            <a:srgbClr val="a092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造字工房悦黑体验版常规体"/>
                <a:ea typeface="造字工房悦黑体验版常规体"/>
              </a:rPr>
              <a:t>2</a:t>
            </a:r>
            <a:r>
              <a:rPr b="0" lang="zh-CN" sz="2400" spc="-1" strike="noStrike">
                <a:solidFill>
                  <a:schemeClr val="lt1"/>
                </a:solidFill>
                <a:latin typeface="造字工房悦黑体验版常规体"/>
                <a:ea typeface="造字工房悦黑体验版常规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21"/>
          <p:cNvSpPr/>
          <p:nvPr/>
        </p:nvSpPr>
        <p:spPr>
          <a:xfrm>
            <a:off x="4532400" y="3564720"/>
            <a:ext cx="1351800" cy="675720"/>
          </a:xfrm>
          <a:custGeom>
            <a:avLst/>
            <a:gdLst>
              <a:gd name="textAreaLeft" fmla="*/ 0 w 1351800"/>
              <a:gd name="textAreaRight" fmla="*/ 1352160 w 1351800"/>
              <a:gd name="textAreaTop" fmla="*/ 0 h 675720"/>
              <a:gd name="textAreaBottom" fmla="*/ 676080 h 675720"/>
            </a:gdLst>
            <a:ahLst/>
            <a:rect l="textAreaLeft" t="textAreaTop" r="textAreaRight" b="textAreaBottom"/>
            <a:pathLst>
              <a:path w="2006600" h="1003300">
                <a:moveTo>
                  <a:pt x="0" y="0"/>
                </a:moveTo>
                <a:lnTo>
                  <a:pt x="2006600" y="0"/>
                </a:lnTo>
                <a:cubicBezTo>
                  <a:pt x="2006600" y="554107"/>
                  <a:pt x="1557407" y="1003300"/>
                  <a:pt x="1003300" y="1003300"/>
                </a:cubicBezTo>
                <a:cubicBezTo>
                  <a:pt x="449193" y="1003300"/>
                  <a:pt x="0" y="554107"/>
                  <a:pt x="0" y="0"/>
                </a:cubicBezTo>
                <a:close/>
              </a:path>
            </a:pathLst>
          </a:custGeom>
          <a:solidFill>
            <a:srgbClr val="a05d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造字工房悦黑体验版常规体"/>
                <a:ea typeface="造字工房悦黑体验版常规体"/>
              </a:rPr>
              <a:t>3</a:t>
            </a:r>
            <a:r>
              <a:rPr b="0" lang="zh-CN" sz="2400" spc="-1" strike="noStrike">
                <a:solidFill>
                  <a:schemeClr val="lt1"/>
                </a:solidFill>
                <a:latin typeface="造字工房悦黑体验版常规体"/>
                <a:ea typeface="造字工房悦黑体验版常规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22"/>
          <p:cNvSpPr/>
          <p:nvPr/>
        </p:nvSpPr>
        <p:spPr>
          <a:xfrm>
            <a:off x="5884560" y="2719800"/>
            <a:ext cx="1351800" cy="675720"/>
          </a:xfrm>
          <a:custGeom>
            <a:avLst/>
            <a:gdLst>
              <a:gd name="textAreaLeft" fmla="*/ 0 w 1351800"/>
              <a:gd name="textAreaRight" fmla="*/ 1352160 w 1351800"/>
              <a:gd name="textAreaTop" fmla="*/ 0 h 675720"/>
              <a:gd name="textAreaBottom" fmla="*/ 676080 h 675720"/>
            </a:gdLst>
            <a:ahLst/>
            <a:rect l="textAreaLeft" t="textAreaTop" r="textAreaRight" b="textAreaBottom"/>
            <a:pathLst>
              <a:path w="2006600" h="1003300">
                <a:moveTo>
                  <a:pt x="1003300" y="0"/>
                </a:moveTo>
                <a:cubicBezTo>
                  <a:pt x="1557407" y="0"/>
                  <a:pt x="2006600" y="449193"/>
                  <a:pt x="2006600" y="1003300"/>
                </a:cubicBezTo>
                <a:lnTo>
                  <a:pt x="0" y="1003300"/>
                </a:lnTo>
                <a:cubicBezTo>
                  <a:pt x="0" y="449193"/>
                  <a:pt x="449193" y="0"/>
                  <a:pt x="1003300" y="0"/>
                </a:cubicBezTo>
                <a:close/>
              </a:path>
            </a:pathLst>
          </a:custGeom>
          <a:solidFill>
            <a:srgbClr val="a092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造字工房悦黑体验版常规体"/>
                <a:ea typeface="造字工房悦黑体验版常规体"/>
              </a:rPr>
              <a:t>4</a:t>
            </a:r>
            <a:r>
              <a:rPr b="0" lang="zh-CN" sz="2400" spc="-1" strike="noStrike">
                <a:solidFill>
                  <a:schemeClr val="lt1"/>
                </a:solidFill>
                <a:latin typeface="造字工房悦黑体验版常规体"/>
                <a:ea typeface="造字工房悦黑体验版常规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23"/>
          <p:cNvSpPr/>
          <p:nvPr/>
        </p:nvSpPr>
        <p:spPr>
          <a:xfrm>
            <a:off x="7236720" y="3564720"/>
            <a:ext cx="1351800" cy="675720"/>
          </a:xfrm>
          <a:custGeom>
            <a:avLst/>
            <a:gdLst>
              <a:gd name="textAreaLeft" fmla="*/ 0 w 1351800"/>
              <a:gd name="textAreaRight" fmla="*/ 1352160 w 1351800"/>
              <a:gd name="textAreaTop" fmla="*/ 0 h 675720"/>
              <a:gd name="textAreaBottom" fmla="*/ 676080 h 675720"/>
            </a:gdLst>
            <a:ahLst/>
            <a:rect l="textAreaLeft" t="textAreaTop" r="textAreaRight" b="textAreaBottom"/>
            <a:pathLst>
              <a:path w="2006600" h="1003300">
                <a:moveTo>
                  <a:pt x="0" y="0"/>
                </a:moveTo>
                <a:lnTo>
                  <a:pt x="2006600" y="0"/>
                </a:lnTo>
                <a:cubicBezTo>
                  <a:pt x="2006600" y="554107"/>
                  <a:pt x="1557407" y="1003300"/>
                  <a:pt x="1003300" y="1003300"/>
                </a:cubicBezTo>
                <a:cubicBezTo>
                  <a:pt x="449193" y="1003300"/>
                  <a:pt x="0" y="554107"/>
                  <a:pt x="0" y="0"/>
                </a:cubicBezTo>
                <a:close/>
              </a:path>
            </a:pathLst>
          </a:custGeom>
          <a:solidFill>
            <a:srgbClr val="a05d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造字工房悦黑体验版常规体"/>
                <a:ea typeface="造字工房悦黑体验版常规体"/>
              </a:rPr>
              <a:t>5</a:t>
            </a:r>
            <a:r>
              <a:rPr b="0" lang="zh-CN" sz="2400" spc="-1" strike="noStrike">
                <a:solidFill>
                  <a:schemeClr val="lt1"/>
                </a:solidFill>
                <a:latin typeface="造字工房悦黑体验版常规体"/>
                <a:ea typeface="造字工房悦黑体验版常规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24"/>
          <p:cNvSpPr/>
          <p:nvPr/>
        </p:nvSpPr>
        <p:spPr>
          <a:xfrm>
            <a:off x="8589240" y="2719800"/>
            <a:ext cx="1351800" cy="675720"/>
          </a:xfrm>
          <a:custGeom>
            <a:avLst/>
            <a:gdLst>
              <a:gd name="textAreaLeft" fmla="*/ 0 w 1351800"/>
              <a:gd name="textAreaRight" fmla="*/ 1352160 w 1351800"/>
              <a:gd name="textAreaTop" fmla="*/ 0 h 675720"/>
              <a:gd name="textAreaBottom" fmla="*/ 676080 h 675720"/>
            </a:gdLst>
            <a:ahLst/>
            <a:rect l="textAreaLeft" t="textAreaTop" r="textAreaRight" b="textAreaBottom"/>
            <a:pathLst>
              <a:path w="2006600" h="1003300">
                <a:moveTo>
                  <a:pt x="1003300" y="0"/>
                </a:moveTo>
                <a:cubicBezTo>
                  <a:pt x="1557407" y="0"/>
                  <a:pt x="2006600" y="449193"/>
                  <a:pt x="2006600" y="1003300"/>
                </a:cubicBezTo>
                <a:lnTo>
                  <a:pt x="0" y="1003300"/>
                </a:lnTo>
                <a:cubicBezTo>
                  <a:pt x="0" y="449193"/>
                  <a:pt x="449193" y="0"/>
                  <a:pt x="1003300" y="0"/>
                </a:cubicBezTo>
                <a:close/>
              </a:path>
            </a:pathLst>
          </a:custGeom>
          <a:solidFill>
            <a:srgbClr val="a092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造字工房悦黑体验版常规体"/>
                <a:ea typeface="造字工房悦黑体验版常规体"/>
              </a:rPr>
              <a:t>6</a:t>
            </a:r>
            <a:r>
              <a:rPr b="0" lang="zh-CN" sz="2400" spc="-1" strike="noStrike">
                <a:solidFill>
                  <a:schemeClr val="lt1"/>
                </a:solidFill>
                <a:latin typeface="造字工房悦黑体验版常规体"/>
                <a:ea typeface="造字工房悦黑体验版常规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等腰三角形 26"/>
          <p:cNvSpPr/>
          <p:nvPr/>
        </p:nvSpPr>
        <p:spPr>
          <a:xfrm rot="5400000">
            <a:off x="10710720" y="3419280"/>
            <a:ext cx="132840" cy="114480"/>
          </a:xfrm>
          <a:prstGeom prst="triangle">
            <a:avLst>
              <a:gd name="adj" fmla="val 50000"/>
            </a:avLst>
          </a:prstGeom>
          <a:solidFill>
            <a:srgbClr val="a092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600" bIns="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4"/>
          <p:cNvSpPr/>
          <p:nvPr/>
        </p:nvSpPr>
        <p:spPr>
          <a:xfrm>
            <a:off x="0" y="0"/>
            <a:ext cx="2933280" cy="1891800"/>
          </a:xfrm>
          <a:prstGeom prst="rect">
            <a:avLst/>
          </a:prstGeom>
          <a:solidFill>
            <a:srgbClr val="61a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45" name="图片 5" descr=""/>
          <p:cNvPicPr/>
          <p:nvPr/>
        </p:nvPicPr>
        <p:blipFill>
          <a:blip r:embed="rId1"/>
          <a:stretch/>
        </p:blipFill>
        <p:spPr>
          <a:xfrm>
            <a:off x="390600" y="792360"/>
            <a:ext cx="2152080" cy="453960"/>
          </a:xfrm>
          <a:prstGeom prst="rect">
            <a:avLst/>
          </a:prstGeom>
          <a:ln w="0">
            <a:noFill/>
          </a:ln>
        </p:spPr>
      </p:pic>
      <p:cxnSp>
        <p:nvCxnSpPr>
          <p:cNvPr id="146" name="直接连接符 19"/>
          <p:cNvCxnSpPr/>
          <p:nvPr/>
        </p:nvCxnSpPr>
        <p:spPr>
          <a:xfrm>
            <a:off x="3055320" y="2838960"/>
            <a:ext cx="7930440" cy="360"/>
          </a:xfrm>
          <a:prstGeom prst="straightConnector1">
            <a:avLst/>
          </a:prstGeom>
          <a:ln>
            <a:solidFill>
              <a:srgbClr val="61a000"/>
            </a:solidFill>
          </a:ln>
        </p:spPr>
      </p:cxnSp>
      <p:sp>
        <p:nvSpPr>
          <p:cNvPr id="147" name="文本框 25"/>
          <p:cNvSpPr/>
          <p:nvPr/>
        </p:nvSpPr>
        <p:spPr>
          <a:xfrm>
            <a:off x="3524400" y="3090600"/>
            <a:ext cx="4785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2016</a:t>
            </a:r>
            <a:r>
              <a:rPr b="0" lang="zh-CN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年工作计划</a:t>
            </a:r>
            <a:r>
              <a:rPr b="0" lang="en-US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模板</a:t>
            </a:r>
            <a:r>
              <a:rPr b="0" lang="en-US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@PPT</a:t>
            </a:r>
            <a:r>
              <a:rPr b="0" lang="zh-CN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宝藏模板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30"/>
          <p:cNvSpPr/>
          <p:nvPr/>
        </p:nvSpPr>
        <p:spPr>
          <a:xfrm>
            <a:off x="1839960" y="2839320"/>
            <a:ext cx="1093320" cy="913680"/>
          </a:xfrm>
          <a:prstGeom prst="rect">
            <a:avLst/>
          </a:prstGeom>
          <a:solidFill>
            <a:srgbClr val="61a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4800" spc="-1" strike="noStrike">
                <a:solidFill>
                  <a:schemeClr val="lt1"/>
                </a:solidFill>
                <a:latin typeface="造字工房悦黑体验版常规体"/>
                <a:ea typeface="造字工房悦黑体验版常规体"/>
              </a:rPr>
              <a:t>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直接连接符 31"/>
          <p:cNvCxnSpPr/>
          <p:nvPr/>
        </p:nvCxnSpPr>
        <p:spPr>
          <a:xfrm>
            <a:off x="3055320" y="3753000"/>
            <a:ext cx="7930440" cy="360"/>
          </a:xfrm>
          <a:prstGeom prst="straightConnector1">
            <a:avLst/>
          </a:prstGeom>
          <a:ln>
            <a:solidFill>
              <a:srgbClr val="61a00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4"/>
          <p:cNvSpPr/>
          <p:nvPr/>
        </p:nvSpPr>
        <p:spPr>
          <a:xfrm>
            <a:off x="1466640" y="251640"/>
            <a:ext cx="2913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2016</a:t>
            </a:r>
            <a:r>
              <a:rPr b="0" lang="zh-CN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年工作计划</a:t>
            </a:r>
            <a:r>
              <a:rPr b="0" lang="en-US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5"/>
          <p:cNvSpPr/>
          <p:nvPr/>
        </p:nvSpPr>
        <p:spPr>
          <a:xfrm>
            <a:off x="0" y="0"/>
            <a:ext cx="1093320" cy="913680"/>
          </a:xfrm>
          <a:prstGeom prst="rect">
            <a:avLst/>
          </a:prstGeom>
          <a:solidFill>
            <a:srgbClr val="61a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chemeClr val="lt1"/>
                </a:solidFill>
                <a:latin typeface="造字工房悦黑体验版常规体"/>
                <a:ea typeface="造字工房悦黑体验版常规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直接连接符 6"/>
          <p:cNvCxnSpPr/>
          <p:nvPr/>
        </p:nvCxnSpPr>
        <p:spPr>
          <a:xfrm>
            <a:off x="1215360" y="913680"/>
            <a:ext cx="10659240" cy="360"/>
          </a:xfrm>
          <a:prstGeom prst="straightConnector1">
            <a:avLst/>
          </a:prstGeom>
          <a:ln>
            <a:solidFill>
              <a:srgbClr val="61a000"/>
            </a:solidFill>
          </a:ln>
        </p:spPr>
      </p:cxnSp>
      <p:sp>
        <p:nvSpPr>
          <p:cNvPr id="153" name="椭圆 25"/>
          <p:cNvSpPr/>
          <p:nvPr/>
        </p:nvSpPr>
        <p:spPr>
          <a:xfrm>
            <a:off x="5056920" y="2422800"/>
            <a:ext cx="2006280" cy="2006280"/>
          </a:xfrm>
          <a:prstGeom prst="ellipse">
            <a:avLst/>
          </a:prstGeom>
          <a:solidFill>
            <a:srgbClr val="61a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任意多边形 35"/>
          <p:cNvSpPr/>
          <p:nvPr/>
        </p:nvSpPr>
        <p:spPr>
          <a:xfrm>
            <a:off x="2297520" y="1609200"/>
            <a:ext cx="3161160" cy="1717920"/>
          </a:xfrm>
          <a:custGeom>
            <a:avLst/>
            <a:gdLst>
              <a:gd name="textAreaLeft" fmla="*/ 0 w 3161160"/>
              <a:gd name="textAreaRight" fmla="*/ 3161520 w 3161160"/>
              <a:gd name="textAreaTop" fmla="*/ 0 h 1717920"/>
              <a:gd name="textAreaBottom" fmla="*/ 1718280 h 1717920"/>
            </a:gdLst>
            <a:ahLst/>
            <a:rect l="textAreaLeft" t="textAreaTop" r="textAreaRight" b="textAreaBottom"/>
            <a:pathLst>
              <a:path w="3161480" h="1718445">
                <a:moveTo>
                  <a:pt x="1718445" y="0"/>
                </a:moveTo>
                <a:cubicBezTo>
                  <a:pt x="2311615" y="0"/>
                  <a:pt x="2834590" y="300537"/>
                  <a:pt x="3143407" y="757646"/>
                </a:cubicBezTo>
                <a:lnTo>
                  <a:pt x="3161480" y="787396"/>
                </a:lnTo>
                <a:lnTo>
                  <a:pt x="3097828" y="826065"/>
                </a:lnTo>
                <a:cubicBezTo>
                  <a:pt x="2813186" y="1018366"/>
                  <a:pt x="2616292" y="1330687"/>
                  <a:pt x="2579760" y="1690415"/>
                </a:cubicBezTo>
                <a:lnTo>
                  <a:pt x="2578345" y="1718445"/>
                </a:lnTo>
                <a:lnTo>
                  <a:pt x="0" y="1718445"/>
                </a:lnTo>
                <a:cubicBezTo>
                  <a:pt x="0" y="769375"/>
                  <a:pt x="769375" y="0"/>
                  <a:pt x="1718445" y="0"/>
                </a:cubicBezTo>
                <a:close/>
              </a:path>
            </a:pathLst>
          </a:custGeom>
          <a:solidFill>
            <a:srgbClr val="a05d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造字工房悦黑体验版常规体"/>
              <a:ea typeface="造字工房悦黑体验版常规体"/>
            </a:endParaRPr>
          </a:p>
        </p:txBody>
      </p:sp>
      <p:sp>
        <p:nvSpPr>
          <p:cNvPr id="155" name="任意多边形 37"/>
          <p:cNvSpPr/>
          <p:nvPr/>
        </p:nvSpPr>
        <p:spPr>
          <a:xfrm>
            <a:off x="2297520" y="3466440"/>
            <a:ext cx="3139200" cy="1717920"/>
          </a:xfrm>
          <a:custGeom>
            <a:avLst/>
            <a:gdLst>
              <a:gd name="textAreaLeft" fmla="*/ 0 w 3139200"/>
              <a:gd name="textAreaRight" fmla="*/ 3139560 w 3139200"/>
              <a:gd name="textAreaTop" fmla="*/ 0 h 1717920"/>
              <a:gd name="textAreaBottom" fmla="*/ 1718280 h 1717920"/>
            </a:gdLst>
            <a:ahLst/>
            <a:rect l="textAreaLeft" t="textAreaTop" r="textAreaRight" b="textAreaBottom"/>
            <a:pathLst>
              <a:path w="3139498" h="1718445">
                <a:moveTo>
                  <a:pt x="0" y="0"/>
                </a:moveTo>
                <a:lnTo>
                  <a:pt x="2575904" y="0"/>
                </a:lnTo>
                <a:lnTo>
                  <a:pt x="2579760" y="76361"/>
                </a:lnTo>
                <a:cubicBezTo>
                  <a:pt x="2616292" y="436089"/>
                  <a:pt x="2813186" y="748411"/>
                  <a:pt x="3097828" y="940711"/>
                </a:cubicBezTo>
                <a:lnTo>
                  <a:pt x="3139498" y="966026"/>
                </a:lnTo>
                <a:lnTo>
                  <a:pt x="3044481" y="1093091"/>
                </a:lnTo>
                <a:cubicBezTo>
                  <a:pt x="2729293" y="1475011"/>
                  <a:pt x="2252297" y="1718445"/>
                  <a:pt x="1718445" y="1718445"/>
                </a:cubicBezTo>
                <a:cubicBezTo>
                  <a:pt x="769375" y="1718445"/>
                  <a:pt x="0" y="949071"/>
                  <a:pt x="0" y="0"/>
                </a:cubicBezTo>
                <a:close/>
              </a:path>
            </a:pathLst>
          </a:custGeom>
          <a:solidFill>
            <a:srgbClr val="61a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造字工房悦黑体验版常规体"/>
              <a:ea typeface="造字工房悦黑体验版常规体"/>
            </a:endParaRPr>
          </a:p>
        </p:txBody>
      </p:sp>
      <p:sp>
        <p:nvSpPr>
          <p:cNvPr id="156" name="任意多边形 43"/>
          <p:cNvSpPr/>
          <p:nvPr/>
        </p:nvSpPr>
        <p:spPr>
          <a:xfrm>
            <a:off x="6683400" y="3466440"/>
            <a:ext cx="3139200" cy="1717920"/>
          </a:xfrm>
          <a:custGeom>
            <a:avLst/>
            <a:gdLst>
              <a:gd name="textAreaLeft" fmla="*/ 0 w 3139200"/>
              <a:gd name="textAreaRight" fmla="*/ 3139560 w 3139200"/>
              <a:gd name="textAreaTop" fmla="*/ 0 h 1717920"/>
              <a:gd name="textAreaBottom" fmla="*/ 1718280 h 1717920"/>
            </a:gdLst>
            <a:ahLst/>
            <a:rect l="textAreaLeft" t="textAreaTop" r="textAreaRight" b="textAreaBottom"/>
            <a:pathLst>
              <a:path w="3139498" h="1718445">
                <a:moveTo>
                  <a:pt x="563594" y="0"/>
                </a:moveTo>
                <a:lnTo>
                  <a:pt x="3139498" y="0"/>
                </a:lnTo>
                <a:cubicBezTo>
                  <a:pt x="3139498" y="949071"/>
                  <a:pt x="2370124" y="1718445"/>
                  <a:pt x="1421053" y="1718445"/>
                </a:cubicBezTo>
                <a:cubicBezTo>
                  <a:pt x="887201" y="1718445"/>
                  <a:pt x="410206" y="1475011"/>
                  <a:pt x="95018" y="1093091"/>
                </a:cubicBezTo>
                <a:lnTo>
                  <a:pt x="0" y="966025"/>
                </a:lnTo>
                <a:lnTo>
                  <a:pt x="41670" y="940710"/>
                </a:lnTo>
                <a:cubicBezTo>
                  <a:pt x="326312" y="748410"/>
                  <a:pt x="523206" y="436088"/>
                  <a:pt x="559738" y="76360"/>
                </a:cubicBezTo>
                <a:lnTo>
                  <a:pt x="563594" y="0"/>
                </a:lnTo>
                <a:close/>
              </a:path>
            </a:pathLst>
          </a:custGeom>
          <a:solidFill>
            <a:srgbClr val="80614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造字工房悦黑体验版常规体"/>
              <a:ea typeface="造字工房悦黑体验版常规体"/>
            </a:endParaRPr>
          </a:p>
        </p:txBody>
      </p:sp>
      <p:sp>
        <p:nvSpPr>
          <p:cNvPr id="157" name="任意多边形 41"/>
          <p:cNvSpPr/>
          <p:nvPr/>
        </p:nvSpPr>
        <p:spPr>
          <a:xfrm>
            <a:off x="6661440" y="1609200"/>
            <a:ext cx="3161160" cy="1717920"/>
          </a:xfrm>
          <a:custGeom>
            <a:avLst/>
            <a:gdLst>
              <a:gd name="textAreaLeft" fmla="*/ 0 w 3161160"/>
              <a:gd name="textAreaRight" fmla="*/ 3161520 w 3161160"/>
              <a:gd name="textAreaTop" fmla="*/ 0 h 1717920"/>
              <a:gd name="textAreaBottom" fmla="*/ 1718280 h 1717920"/>
            </a:gdLst>
            <a:ahLst/>
            <a:rect l="textAreaLeft" t="textAreaTop" r="textAreaRight" b="textAreaBottom"/>
            <a:pathLst>
              <a:path w="3161479" h="1718445">
                <a:moveTo>
                  <a:pt x="1443034" y="0"/>
                </a:moveTo>
                <a:cubicBezTo>
                  <a:pt x="2392105" y="0"/>
                  <a:pt x="3161479" y="769375"/>
                  <a:pt x="3161479" y="1718445"/>
                </a:cubicBezTo>
                <a:lnTo>
                  <a:pt x="583135" y="1718445"/>
                </a:lnTo>
                <a:lnTo>
                  <a:pt x="581719" y="1690414"/>
                </a:lnTo>
                <a:cubicBezTo>
                  <a:pt x="545187" y="1330686"/>
                  <a:pt x="348293" y="1018365"/>
                  <a:pt x="63651" y="826064"/>
                </a:cubicBezTo>
                <a:lnTo>
                  <a:pt x="0" y="787395"/>
                </a:lnTo>
                <a:lnTo>
                  <a:pt x="18073" y="757646"/>
                </a:lnTo>
                <a:cubicBezTo>
                  <a:pt x="326890" y="300537"/>
                  <a:pt x="849865" y="0"/>
                  <a:pt x="1443034" y="0"/>
                </a:cubicBezTo>
                <a:close/>
              </a:path>
            </a:pathLst>
          </a:custGeom>
          <a:solidFill>
            <a:srgbClr val="99a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造字工房悦黑体验版常规体"/>
              <a:ea typeface="造字工房悦黑体验版常规体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546840" y="62622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文本框 4"/>
          <p:cNvSpPr/>
          <p:nvPr/>
        </p:nvSpPr>
        <p:spPr>
          <a:xfrm>
            <a:off x="1466640" y="251640"/>
            <a:ext cx="2913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2016</a:t>
            </a:r>
            <a:r>
              <a:rPr b="0" lang="zh-CN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年工作计划</a:t>
            </a:r>
            <a:r>
              <a:rPr b="0" lang="en-US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造字工房悦黑体验版常规体"/>
                <a:ea typeface="造字工房悦黑体验版常规体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0" y="0"/>
            <a:ext cx="1093320" cy="913680"/>
          </a:xfrm>
          <a:prstGeom prst="rect">
            <a:avLst/>
          </a:prstGeom>
          <a:solidFill>
            <a:srgbClr val="61a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chemeClr val="lt1"/>
                </a:solidFill>
                <a:latin typeface="造字工房悦黑体验版常规体"/>
                <a:ea typeface="造字工房悦黑体验版常规体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直接连接符 6"/>
          <p:cNvCxnSpPr/>
          <p:nvPr/>
        </p:nvCxnSpPr>
        <p:spPr>
          <a:xfrm>
            <a:off x="1215360" y="913680"/>
            <a:ext cx="10659240" cy="360"/>
          </a:xfrm>
          <a:prstGeom prst="straightConnector1">
            <a:avLst/>
          </a:prstGeom>
          <a:ln>
            <a:solidFill>
              <a:srgbClr val="61a000"/>
            </a:solidFill>
          </a:ln>
        </p:spPr>
      </p:cxnSp>
      <p:pic>
        <p:nvPicPr>
          <p:cNvPr id="162" name="图片 16" descr=""/>
          <p:cNvPicPr/>
          <p:nvPr/>
        </p:nvPicPr>
        <p:blipFill>
          <a:blip r:embed="rId1"/>
          <a:stretch/>
        </p:blipFill>
        <p:spPr>
          <a:xfrm>
            <a:off x="1417320" y="3150720"/>
            <a:ext cx="4092480" cy="1234080"/>
          </a:xfrm>
          <a:prstGeom prst="rect">
            <a:avLst/>
          </a:prstGeom>
          <a:ln w="0">
            <a:noFill/>
          </a:ln>
        </p:spPr>
      </p:pic>
      <p:sp>
        <p:nvSpPr>
          <p:cNvPr id="163" name="任意多边形 29"/>
          <p:cNvSpPr/>
          <p:nvPr/>
        </p:nvSpPr>
        <p:spPr>
          <a:xfrm>
            <a:off x="834120" y="2335320"/>
            <a:ext cx="4882680" cy="875520"/>
          </a:xfrm>
          <a:custGeom>
            <a:avLst/>
            <a:gdLst>
              <a:gd name="textAreaLeft" fmla="*/ 0 w 4882680"/>
              <a:gd name="textAreaRight" fmla="*/ 4883040 w 4882680"/>
              <a:gd name="textAreaTop" fmla="*/ 0 h 875520"/>
              <a:gd name="textAreaBottom" fmla="*/ 875880 h 875520"/>
            </a:gdLst>
            <a:ahLst/>
            <a:rect l="textAreaLeft" t="textAreaTop" r="textAreaRight" b="textAreaBottom"/>
            <a:pathLst>
              <a:path w="4883137" h="876006">
                <a:moveTo>
                  <a:pt x="2441568" y="0"/>
                </a:moveTo>
                <a:cubicBezTo>
                  <a:pt x="3401612" y="0"/>
                  <a:pt x="4248046" y="294086"/>
                  <a:pt x="4747866" y="741385"/>
                </a:cubicBezTo>
                <a:lnTo>
                  <a:pt x="4883137" y="876006"/>
                </a:lnTo>
                <a:lnTo>
                  <a:pt x="4782905" y="876006"/>
                </a:lnTo>
                <a:lnTo>
                  <a:pt x="4650145" y="760946"/>
                </a:lnTo>
                <a:cubicBezTo>
                  <a:pt x="4141798" y="360074"/>
                  <a:pt x="3341609" y="101600"/>
                  <a:pt x="2441568" y="101600"/>
                </a:cubicBezTo>
                <a:cubicBezTo>
                  <a:pt x="1541528" y="101600"/>
                  <a:pt x="741338" y="360074"/>
                  <a:pt x="232992" y="760946"/>
                </a:cubicBezTo>
                <a:lnTo>
                  <a:pt x="100232" y="876006"/>
                </a:lnTo>
                <a:lnTo>
                  <a:pt x="0" y="876006"/>
                </a:lnTo>
                <a:lnTo>
                  <a:pt x="135270" y="741385"/>
                </a:lnTo>
                <a:cubicBezTo>
                  <a:pt x="635090" y="294086"/>
                  <a:pt x="1481524" y="0"/>
                  <a:pt x="2441568" y="0"/>
                </a:cubicBezTo>
                <a:close/>
              </a:path>
            </a:pathLst>
          </a:custGeom>
          <a:solidFill>
            <a:srgbClr val="80614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任意多边形 34"/>
          <p:cNvSpPr/>
          <p:nvPr/>
        </p:nvSpPr>
        <p:spPr>
          <a:xfrm rot="10800000">
            <a:off x="834840" y="3947760"/>
            <a:ext cx="4882680" cy="875520"/>
          </a:xfrm>
          <a:custGeom>
            <a:avLst/>
            <a:gdLst>
              <a:gd name="textAreaLeft" fmla="*/ 0 w 4882680"/>
              <a:gd name="textAreaRight" fmla="*/ 4883040 w 4882680"/>
              <a:gd name="textAreaTop" fmla="*/ 0 h 875520"/>
              <a:gd name="textAreaBottom" fmla="*/ 875880 h 875520"/>
            </a:gdLst>
            <a:ahLst/>
            <a:rect l="textAreaLeft" t="textAreaTop" r="textAreaRight" b="textAreaBottom"/>
            <a:pathLst>
              <a:path w="4883137" h="876006">
                <a:moveTo>
                  <a:pt x="2441568" y="0"/>
                </a:moveTo>
                <a:cubicBezTo>
                  <a:pt x="3401612" y="0"/>
                  <a:pt x="4248046" y="294086"/>
                  <a:pt x="4747866" y="741385"/>
                </a:cubicBezTo>
                <a:lnTo>
                  <a:pt x="4883137" y="876006"/>
                </a:lnTo>
                <a:lnTo>
                  <a:pt x="4782905" y="876006"/>
                </a:lnTo>
                <a:lnTo>
                  <a:pt x="4650145" y="760946"/>
                </a:lnTo>
                <a:cubicBezTo>
                  <a:pt x="4141798" y="360074"/>
                  <a:pt x="3341609" y="101600"/>
                  <a:pt x="2441568" y="101600"/>
                </a:cubicBezTo>
                <a:cubicBezTo>
                  <a:pt x="1541528" y="101600"/>
                  <a:pt x="741338" y="360074"/>
                  <a:pt x="232992" y="760946"/>
                </a:cubicBezTo>
                <a:lnTo>
                  <a:pt x="100232" y="876006"/>
                </a:lnTo>
                <a:lnTo>
                  <a:pt x="0" y="876006"/>
                </a:lnTo>
                <a:lnTo>
                  <a:pt x="135270" y="741385"/>
                </a:lnTo>
                <a:cubicBezTo>
                  <a:pt x="635090" y="294086"/>
                  <a:pt x="1481524" y="0"/>
                  <a:pt x="2441568" y="0"/>
                </a:cubicBezTo>
                <a:close/>
              </a:path>
            </a:pathLst>
          </a:custGeom>
          <a:solidFill>
            <a:srgbClr val="80614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文本框 4"/>
          <p:cNvSpPr/>
          <p:nvPr/>
        </p:nvSpPr>
        <p:spPr>
          <a:xfrm>
            <a:off x="3714480" y="2017440"/>
            <a:ext cx="49464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806143"/>
                </a:solidFill>
                <a:latin typeface="微软雅黑 Light"/>
                <a:ea typeface="微软雅黑 Light"/>
              </a:rPr>
              <a:t>THANK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任意多边形 6"/>
          <p:cNvSpPr/>
          <p:nvPr/>
        </p:nvSpPr>
        <p:spPr>
          <a:xfrm>
            <a:off x="2662920" y="1141560"/>
            <a:ext cx="6667560" cy="1195920"/>
          </a:xfrm>
          <a:custGeom>
            <a:avLst/>
            <a:gdLst>
              <a:gd name="textAreaLeft" fmla="*/ 0 w 6667560"/>
              <a:gd name="textAreaRight" fmla="*/ 6667920 w 6667560"/>
              <a:gd name="textAreaTop" fmla="*/ 0 h 1195920"/>
              <a:gd name="textAreaBottom" fmla="*/ 1196280 h 1195920"/>
            </a:gdLst>
            <a:ahLst/>
            <a:rect l="textAreaLeft" t="textAreaTop" r="textAreaRight" b="textAreaBottom"/>
            <a:pathLst>
              <a:path w="4883137" h="876006">
                <a:moveTo>
                  <a:pt x="2441568" y="0"/>
                </a:moveTo>
                <a:cubicBezTo>
                  <a:pt x="3401612" y="0"/>
                  <a:pt x="4248046" y="294086"/>
                  <a:pt x="4747866" y="741385"/>
                </a:cubicBezTo>
                <a:lnTo>
                  <a:pt x="4883137" y="876006"/>
                </a:lnTo>
                <a:lnTo>
                  <a:pt x="4782905" y="876006"/>
                </a:lnTo>
                <a:lnTo>
                  <a:pt x="4650145" y="760946"/>
                </a:lnTo>
                <a:cubicBezTo>
                  <a:pt x="4141798" y="360074"/>
                  <a:pt x="3341609" y="101600"/>
                  <a:pt x="2441568" y="101600"/>
                </a:cubicBezTo>
                <a:cubicBezTo>
                  <a:pt x="1541528" y="101600"/>
                  <a:pt x="741338" y="360074"/>
                  <a:pt x="232992" y="760946"/>
                </a:cubicBezTo>
                <a:lnTo>
                  <a:pt x="100232" y="876006"/>
                </a:lnTo>
                <a:lnTo>
                  <a:pt x="0" y="876006"/>
                </a:lnTo>
                <a:lnTo>
                  <a:pt x="135270" y="741385"/>
                </a:lnTo>
                <a:cubicBezTo>
                  <a:pt x="635090" y="294086"/>
                  <a:pt x="1481524" y="0"/>
                  <a:pt x="2441568" y="0"/>
                </a:cubicBezTo>
                <a:close/>
              </a:path>
            </a:pathLst>
          </a:custGeom>
          <a:solidFill>
            <a:srgbClr val="80614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任意多边形 7"/>
          <p:cNvSpPr/>
          <p:nvPr/>
        </p:nvSpPr>
        <p:spPr>
          <a:xfrm rot="10800000">
            <a:off x="2663280" y="3742200"/>
            <a:ext cx="6667560" cy="1195920"/>
          </a:xfrm>
          <a:custGeom>
            <a:avLst/>
            <a:gdLst>
              <a:gd name="textAreaLeft" fmla="*/ 0 w 6667560"/>
              <a:gd name="textAreaRight" fmla="*/ 6667920 w 6667560"/>
              <a:gd name="textAreaTop" fmla="*/ 0 h 1195920"/>
              <a:gd name="textAreaBottom" fmla="*/ 1196280 h 1195920"/>
            </a:gdLst>
            <a:ahLst/>
            <a:rect l="textAreaLeft" t="textAreaTop" r="textAreaRight" b="textAreaBottom"/>
            <a:pathLst>
              <a:path w="4883137" h="876006">
                <a:moveTo>
                  <a:pt x="2441568" y="0"/>
                </a:moveTo>
                <a:cubicBezTo>
                  <a:pt x="3401612" y="0"/>
                  <a:pt x="4248046" y="294086"/>
                  <a:pt x="4747866" y="741385"/>
                </a:cubicBezTo>
                <a:lnTo>
                  <a:pt x="4883137" y="876006"/>
                </a:lnTo>
                <a:lnTo>
                  <a:pt x="4782905" y="876006"/>
                </a:lnTo>
                <a:lnTo>
                  <a:pt x="4650145" y="760946"/>
                </a:lnTo>
                <a:cubicBezTo>
                  <a:pt x="4141798" y="360074"/>
                  <a:pt x="3341609" y="101600"/>
                  <a:pt x="2441568" y="101600"/>
                </a:cubicBezTo>
                <a:cubicBezTo>
                  <a:pt x="1541528" y="101600"/>
                  <a:pt x="741338" y="360074"/>
                  <a:pt x="232992" y="760946"/>
                </a:cubicBezTo>
                <a:lnTo>
                  <a:pt x="100232" y="876006"/>
                </a:lnTo>
                <a:lnTo>
                  <a:pt x="0" y="876006"/>
                </a:lnTo>
                <a:lnTo>
                  <a:pt x="135270" y="741385"/>
                </a:lnTo>
                <a:cubicBezTo>
                  <a:pt x="635090" y="294086"/>
                  <a:pt x="1481524" y="0"/>
                  <a:pt x="2441568" y="0"/>
                </a:cubicBezTo>
                <a:close/>
              </a:path>
            </a:pathLst>
          </a:custGeom>
          <a:solidFill>
            <a:srgbClr val="80614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  <Words>146</Words>
  <Paragraphs>3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9T08:51:29Z</dcterms:created>
  <dc:creator>YANGS-PC</dc:creator>
  <dc:description/>
  <dc:language>en-US</dc:language>
  <cp:lastModifiedBy>王玉清</cp:lastModifiedBy>
  <dcterms:modified xsi:type="dcterms:W3CDTF">2016-03-05T12:45:16Z</dcterms:modified>
  <cp:revision>4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9</vt:r8>
  </property>
</Properties>
</file>