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5C7-4F08-4C3B-A178-5549A8E51E9F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Notes Placeholder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A59F-046A-47C7-A3E8-4B4F56CC2C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-3479760" y="0"/>
            <a:ext cx="7486560" cy="5614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440" y="1806480"/>
            <a:ext cx="50864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9% engaged with a peer who had addressed the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% followed industry conversations on the t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% posted questions on social networking sites looking for suggestions/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 connected directly with potential solution providers via social networking chann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Demand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96F-4038-4820-94CB-852160DA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9800" y="421020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658-4FD0-43B7-821C-8BD4B01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9556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F25-CCDE-4F70-89C7-8F6FE918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748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0552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980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0748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0552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50A-D2EB-4767-BA7A-F46207A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980-96BE-4DCE-89A4-2BD89757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837-FC2C-4FFB-B49E-51AE2CBC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00F-C8A0-4608-839E-084CB12F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85E-9659-48FC-9BC0-9CEA94D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9800" y="314280"/>
            <a:ext cx="712440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FED-0341-47CE-8437-8956AB1E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62A-3271-4C88-A8AA-98C510D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9556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D88-1AA9-464A-9A8D-3611618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254-BE4E-4D63-8367-B2285CA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55"/>
          <p:cNvSpPr/>
          <p:nvPr/>
        </p:nvSpPr>
        <p:spPr>
          <a:xfrm>
            <a:off x="-68400" y="4041720"/>
            <a:ext cx="1743120" cy="1909800"/>
          </a:xfrm>
          <a:prstGeom prst="wedgeRectCallout">
            <a:avLst>
              <a:gd name="adj1" fmla="val -13921"/>
              <a:gd name="adj2" fmla="val 63694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ular Callout 52"/>
          <p:cNvSpPr/>
          <p:nvPr/>
        </p:nvSpPr>
        <p:spPr>
          <a:xfrm>
            <a:off x="520560" y="109548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ular Callout 51"/>
          <p:cNvSpPr/>
          <p:nvPr/>
        </p:nvSpPr>
        <p:spPr>
          <a:xfrm>
            <a:off x="1879560" y="282600"/>
            <a:ext cx="190836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val 53"/>
          <p:cNvSpPr/>
          <p:nvPr/>
        </p:nvSpPr>
        <p:spPr>
          <a:xfrm>
            <a:off x="520560" y="5729400"/>
            <a:ext cx="1909800" cy="11937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val 129"/>
          <p:cNvSpPr/>
          <p:nvPr/>
        </p:nvSpPr>
        <p:spPr>
          <a:xfrm>
            <a:off x="-44280" y="-58680"/>
            <a:ext cx="1447560" cy="1674720"/>
          </a:xfrm>
          <a:prstGeom prst="wedgeRectCallout">
            <a:avLst>
              <a:gd name="adj1" fmla="val -10481"/>
              <a:gd name="adj2" fmla="val 62958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ular Callout 130"/>
          <p:cNvSpPr/>
          <p:nvPr/>
        </p:nvSpPr>
        <p:spPr>
          <a:xfrm>
            <a:off x="923760" y="-160200"/>
            <a:ext cx="1909800" cy="1908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2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ular Callout 131"/>
          <p:cNvSpPr/>
          <p:nvPr/>
        </p:nvSpPr>
        <p:spPr>
          <a:xfrm>
            <a:off x="0" y="66024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132"/>
          <p:cNvSpPr/>
          <p:nvPr/>
        </p:nvSpPr>
        <p:spPr>
          <a:xfrm>
            <a:off x="7497720" y="-58680"/>
            <a:ext cx="1693800" cy="1674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133"/>
          <p:cNvSpPr/>
          <p:nvPr/>
        </p:nvSpPr>
        <p:spPr>
          <a:xfrm>
            <a:off x="6118200" y="-58680"/>
            <a:ext cx="1908360" cy="1703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34"/>
          <p:cNvSpPr/>
          <p:nvPr/>
        </p:nvSpPr>
        <p:spPr>
          <a:xfrm>
            <a:off x="7494480" y="1095480"/>
            <a:ext cx="1697040" cy="1909800"/>
          </a:xfrm>
          <a:prstGeom prst="wedgeRectCallout">
            <a:avLst>
              <a:gd name="adj1" fmla="val -12222"/>
              <a:gd name="adj2" fmla="val 63328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35"/>
          <p:cNvSpPr/>
          <p:nvPr/>
        </p:nvSpPr>
        <p:spPr>
          <a:xfrm>
            <a:off x="8056440" y="5140440"/>
            <a:ext cx="1138320" cy="1758960"/>
          </a:xfrm>
          <a:prstGeom prst="wedgeRectCallout">
            <a:avLst>
              <a:gd name="adj1" fmla="val 4759"/>
              <a:gd name="adj2" fmla="val 59694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ular Callout 136"/>
          <p:cNvSpPr/>
          <p:nvPr/>
        </p:nvSpPr>
        <p:spPr>
          <a:xfrm>
            <a:off x="6661080" y="436248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137"/>
          <p:cNvSpPr/>
          <p:nvPr/>
        </p:nvSpPr>
        <p:spPr>
          <a:xfrm>
            <a:off x="-68400" y="4948200"/>
            <a:ext cx="1352520" cy="1909800"/>
          </a:xfrm>
          <a:prstGeom prst="wedgeRectCallout">
            <a:avLst>
              <a:gd name="adj1" fmla="val 370"/>
              <a:gd name="adj2" fmla="val 60634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Rectangular Callout 138"/>
          <p:cNvSpPr/>
          <p:nvPr/>
        </p:nvSpPr>
        <p:spPr>
          <a:xfrm>
            <a:off x="708120" y="4791240"/>
            <a:ext cx="1909800" cy="1908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Rectangular Callout 139"/>
          <p:cNvSpPr/>
          <p:nvPr/>
        </p:nvSpPr>
        <p:spPr>
          <a:xfrm>
            <a:off x="6118200" y="784080"/>
            <a:ext cx="190836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Rectangular Callout 140"/>
          <p:cNvSpPr/>
          <p:nvPr/>
        </p:nvSpPr>
        <p:spPr>
          <a:xfrm>
            <a:off x="6459480" y="514044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117"/>
          <p:cNvSpPr/>
          <p:nvPr/>
        </p:nvSpPr>
        <p:spPr>
          <a:xfrm>
            <a:off x="8397720" y="598320"/>
            <a:ext cx="793800" cy="1252800"/>
          </a:xfrm>
          <a:prstGeom prst="wedgeRectCallout">
            <a:avLst>
              <a:gd name="adj1" fmla="val 5652"/>
              <a:gd name="adj2" fmla="val 59500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Rectangular Callout 118"/>
          <p:cNvSpPr/>
          <p:nvPr/>
        </p:nvSpPr>
        <p:spPr>
          <a:xfrm>
            <a:off x="6350040" y="206280"/>
            <a:ext cx="1041480" cy="10414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Rectangular Callout 119"/>
          <p:cNvSpPr/>
          <p:nvPr/>
        </p:nvSpPr>
        <p:spPr>
          <a:xfrm>
            <a:off x="6872400" y="1450800"/>
            <a:ext cx="1217520" cy="12178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Rectangular Callout 120"/>
          <p:cNvSpPr/>
          <p:nvPr/>
        </p:nvSpPr>
        <p:spPr>
          <a:xfrm>
            <a:off x="7219800" y="2049480"/>
            <a:ext cx="1041480" cy="10414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Rectangular Callout 121"/>
          <p:cNvSpPr/>
          <p:nvPr/>
        </p:nvSpPr>
        <p:spPr>
          <a:xfrm>
            <a:off x="7750080" y="2662200"/>
            <a:ext cx="720720" cy="720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123"/>
          <p:cNvSpPr/>
          <p:nvPr/>
        </p:nvSpPr>
        <p:spPr>
          <a:xfrm>
            <a:off x="1501920" y="-98280"/>
            <a:ext cx="1030320" cy="4572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Rectangular Callout 125"/>
          <p:cNvSpPr/>
          <p:nvPr/>
        </p:nvSpPr>
        <p:spPr>
          <a:xfrm>
            <a:off x="277920" y="4321080"/>
            <a:ext cx="1396800" cy="1397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126"/>
          <p:cNvSpPr/>
          <p:nvPr/>
        </p:nvSpPr>
        <p:spPr>
          <a:xfrm>
            <a:off x="5791320" y="6489720"/>
            <a:ext cx="1116000" cy="444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127"/>
          <p:cNvSpPr/>
          <p:nvPr/>
        </p:nvSpPr>
        <p:spPr>
          <a:xfrm>
            <a:off x="6127920" y="6408720"/>
            <a:ext cx="1236600" cy="525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128"/>
          <p:cNvSpPr/>
          <p:nvPr/>
        </p:nvSpPr>
        <p:spPr>
          <a:xfrm>
            <a:off x="7577280" y="6408720"/>
            <a:ext cx="1211040" cy="525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Rectangular Callout 96"/>
          <p:cNvSpPr/>
          <p:nvPr/>
        </p:nvSpPr>
        <p:spPr>
          <a:xfrm>
            <a:off x="11160" y="4941720"/>
            <a:ext cx="611280" cy="6112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97"/>
          <p:cNvSpPr/>
          <p:nvPr/>
        </p:nvSpPr>
        <p:spPr>
          <a:xfrm>
            <a:off x="-68400" y="6172200"/>
            <a:ext cx="776520" cy="7509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98"/>
          <p:cNvSpPr/>
          <p:nvPr/>
        </p:nvSpPr>
        <p:spPr>
          <a:xfrm>
            <a:off x="-68400" y="5159520"/>
            <a:ext cx="561960" cy="896760"/>
          </a:xfrm>
          <a:prstGeom prst="wedgeRectCallout">
            <a:avLst>
              <a:gd name="adj1" fmla="val 6060"/>
              <a:gd name="adj2" fmla="val 59412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Rectangular Callout 100"/>
          <p:cNvSpPr/>
          <p:nvPr/>
        </p:nvSpPr>
        <p:spPr>
          <a:xfrm>
            <a:off x="474840" y="836640"/>
            <a:ext cx="909360" cy="911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Rectangular Callout 101"/>
          <p:cNvSpPr/>
          <p:nvPr/>
        </p:nvSpPr>
        <p:spPr>
          <a:xfrm>
            <a:off x="318960" y="1452600"/>
            <a:ext cx="773280" cy="772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104"/>
          <p:cNvSpPr/>
          <p:nvPr/>
        </p:nvSpPr>
        <p:spPr>
          <a:xfrm>
            <a:off x="7302600" y="-58680"/>
            <a:ext cx="911160" cy="747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105"/>
          <p:cNvSpPr/>
          <p:nvPr/>
        </p:nvSpPr>
        <p:spPr>
          <a:xfrm>
            <a:off x="8718480" y="-58680"/>
            <a:ext cx="473040" cy="611280"/>
          </a:xfrm>
          <a:prstGeom prst="wedgeRectCallout">
            <a:avLst>
              <a:gd name="adj1" fmla="val -4111"/>
              <a:gd name="adj2" fmla="val 61592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Rectangular Callout 106"/>
          <p:cNvSpPr/>
          <p:nvPr/>
        </p:nvSpPr>
        <p:spPr>
          <a:xfrm>
            <a:off x="7748640" y="282600"/>
            <a:ext cx="1128600" cy="1128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107"/>
          <p:cNvSpPr/>
          <p:nvPr/>
        </p:nvSpPr>
        <p:spPr>
          <a:xfrm>
            <a:off x="8915400" y="749160"/>
            <a:ext cx="276120" cy="908280"/>
          </a:xfrm>
          <a:prstGeom prst="wedgeRectCallout">
            <a:avLst>
              <a:gd name="adj1" fmla="val 28611"/>
              <a:gd name="adj2" fmla="val 54578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Rectangular Callout 108"/>
          <p:cNvSpPr/>
          <p:nvPr/>
        </p:nvSpPr>
        <p:spPr>
          <a:xfrm>
            <a:off x="7591320" y="728640"/>
            <a:ext cx="968400" cy="9698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Rectangular Callout 109"/>
          <p:cNvSpPr/>
          <p:nvPr/>
        </p:nvSpPr>
        <p:spPr>
          <a:xfrm>
            <a:off x="7470720" y="1327320"/>
            <a:ext cx="608040" cy="6076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Rectangular Callout 110"/>
          <p:cNvSpPr/>
          <p:nvPr/>
        </p:nvSpPr>
        <p:spPr>
          <a:xfrm>
            <a:off x="7629480" y="5611680"/>
            <a:ext cx="739800" cy="7383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Rectangular Callout 111"/>
          <p:cNvSpPr/>
          <p:nvPr/>
        </p:nvSpPr>
        <p:spPr>
          <a:xfrm>
            <a:off x="6972480" y="5241960"/>
            <a:ext cx="739440" cy="73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Rectangular Callout 112"/>
          <p:cNvSpPr/>
          <p:nvPr/>
        </p:nvSpPr>
        <p:spPr>
          <a:xfrm>
            <a:off x="7494480" y="4927680"/>
            <a:ext cx="738360" cy="73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Rectangular Callout 113"/>
          <p:cNvSpPr/>
          <p:nvPr/>
        </p:nvSpPr>
        <p:spPr>
          <a:xfrm>
            <a:off x="8229600" y="5667480"/>
            <a:ext cx="604800" cy="604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ular Callout 114"/>
          <p:cNvSpPr/>
          <p:nvPr/>
        </p:nvSpPr>
        <p:spPr>
          <a:xfrm>
            <a:off x="8078760" y="4097160"/>
            <a:ext cx="554040" cy="5540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ular Callout 115"/>
          <p:cNvSpPr/>
          <p:nvPr/>
        </p:nvSpPr>
        <p:spPr>
          <a:xfrm>
            <a:off x="8412120" y="5057640"/>
            <a:ext cx="554040" cy="5540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16"/>
          <p:cNvSpPr/>
          <p:nvPr/>
        </p:nvSpPr>
        <p:spPr>
          <a:xfrm>
            <a:off x="8688240" y="4791240"/>
            <a:ext cx="503280" cy="552240"/>
          </a:xfrm>
          <a:prstGeom prst="wedgeRectCallout">
            <a:avLst>
              <a:gd name="adj1" fmla="val -13657"/>
              <a:gd name="adj2" fmla="val 63638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436800" y="644976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377-D21A-434D-B86F-25F8972E73DF}" type="datetime">
              <a:rPr b="0" lang="zh-CN" sz="9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1181160" y="6449760"/>
            <a:ext cx="52560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572760" y="6449760"/>
            <a:ext cx="6080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5D6-1FAE-46B5-84AC-2C03A95405F0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54"/>
          <p:cNvSpPr/>
          <p:nvPr/>
        </p:nvSpPr>
        <p:spPr>
          <a:xfrm>
            <a:off x="1582560" y="5454720"/>
            <a:ext cx="1909800" cy="14684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ular Callout 56"/>
          <p:cNvSpPr/>
          <p:nvPr/>
        </p:nvSpPr>
        <p:spPr>
          <a:xfrm>
            <a:off x="8570880" y="3382920"/>
            <a:ext cx="306360" cy="3063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ular Callout 57"/>
          <p:cNvSpPr/>
          <p:nvPr/>
        </p:nvSpPr>
        <p:spPr>
          <a:xfrm>
            <a:off x="8397720" y="3537000"/>
            <a:ext cx="306720" cy="304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ular Callout 58"/>
          <p:cNvSpPr/>
          <p:nvPr/>
        </p:nvSpPr>
        <p:spPr>
          <a:xfrm>
            <a:off x="8609040" y="3689280"/>
            <a:ext cx="306360" cy="304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ular Callout 59"/>
          <p:cNvSpPr/>
          <p:nvPr/>
        </p:nvSpPr>
        <p:spPr>
          <a:xfrm>
            <a:off x="155520" y="2698920"/>
            <a:ext cx="466920" cy="4665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ular Callout 60"/>
          <p:cNvSpPr/>
          <p:nvPr/>
        </p:nvSpPr>
        <p:spPr>
          <a:xfrm>
            <a:off x="474840" y="3166920"/>
            <a:ext cx="458640" cy="459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ular Callout 61"/>
          <p:cNvSpPr/>
          <p:nvPr/>
        </p:nvSpPr>
        <p:spPr>
          <a:xfrm>
            <a:off x="270000" y="3382920"/>
            <a:ext cx="352440" cy="351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62"/>
          <p:cNvSpPr/>
          <p:nvPr/>
        </p:nvSpPr>
        <p:spPr>
          <a:xfrm>
            <a:off x="-84240" y="2581200"/>
            <a:ext cx="1359000" cy="1909800"/>
          </a:xfrm>
          <a:prstGeom prst="wedgeRectCallout">
            <a:avLst>
              <a:gd name="adj1" fmla="val 138"/>
              <a:gd name="adj2" fmla="val 60680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ular Callout 63"/>
          <p:cNvSpPr/>
          <p:nvPr/>
        </p:nvSpPr>
        <p:spPr>
          <a:xfrm>
            <a:off x="6172200" y="2395440"/>
            <a:ext cx="1219320" cy="12178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2"/>
          <p:cNvSpPr/>
          <p:nvPr/>
        </p:nvSpPr>
        <p:spPr>
          <a:xfrm>
            <a:off x="0" y="41400"/>
            <a:ext cx="1044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ziliao/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624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欧美简洁大气商务科技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6686640" y="3251160"/>
            <a:ext cx="2336760" cy="816840"/>
            <a:chOff x="6686640" y="3251160"/>
            <a:chExt cx="2336760" cy="816840"/>
          </a:xfrm>
        </p:grpSpPr>
        <p:sp>
          <p:nvSpPr>
            <p:cNvPr id="105" name="Isosceles Triangle 5"/>
            <p:cNvSpPr/>
            <p:nvPr/>
          </p:nvSpPr>
          <p:spPr>
            <a:xfrm flipV="1" rot="10800000">
              <a:off x="8151840" y="352368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Isosceles Triangle 6"/>
            <p:cNvSpPr/>
            <p:nvPr/>
          </p:nvSpPr>
          <p:spPr>
            <a:xfrm flipV="1" rot="10800000">
              <a:off x="7519320" y="374328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Isosceles Triangle 7"/>
            <p:cNvSpPr/>
            <p:nvPr/>
          </p:nvSpPr>
          <p:spPr>
            <a:xfrm flipV="1" rot="10800000">
              <a:off x="8056440" y="3267000"/>
              <a:ext cx="468000" cy="19224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Isosceles Triangle 8"/>
            <p:cNvSpPr/>
            <p:nvPr/>
          </p:nvSpPr>
          <p:spPr>
            <a:xfrm flipV="1" rot="10800000">
              <a:off x="8789400" y="3458520"/>
              <a:ext cx="234000" cy="9612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Isosceles Triangle 9"/>
            <p:cNvSpPr/>
            <p:nvPr/>
          </p:nvSpPr>
          <p:spPr>
            <a:xfrm flipV="1" rot="10800000">
              <a:off x="6686640" y="3251160"/>
              <a:ext cx="1974960" cy="8121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Rectangle 3"/>
          <p:cNvSpPr/>
          <p:nvPr/>
        </p:nvSpPr>
        <p:spPr>
          <a:xfrm>
            <a:off x="0" y="0"/>
            <a:ext cx="1000080" cy="3333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440" y="870120"/>
            <a:ext cx="712476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9117"/>
                </a:solidFill>
                <a:latin typeface="华文细黑"/>
                <a:ea typeface="华文细黑"/>
              </a:rPr>
              <a:t>LOG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0F93-B9AF-4B4C-8E50-E9D1E08BDC4B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D806-4FA5-4BD9-BA00-5E3A895EA2AB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398600" y="1309680"/>
            <a:ext cx="53974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d5e00"/>
                </a:solidFill>
                <a:latin typeface="Calibri"/>
                <a:ea typeface="宋体"/>
              </a:rPr>
              <a:t>Go Deep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6781-3CF8-4036-BA2D-AC56B3B8D437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EFF-7116-4140-B8C9-E0E86C0EFEB4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17171"/>
                </a:solidFill>
                <a:latin typeface="Calibri"/>
                <a:ea typeface="宋体"/>
              </a:rPr>
              <a:t>Big News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440" y="1806480"/>
            <a:ext cx="7388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SunTrust Banks, Inc. : March 09, 2012 </a:t>
            </a:r>
            <a:br>
              <a:rPr sz="1800"/>
            </a:br>
            <a:r>
              <a:rPr b="1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SunTrust Names Anil Cheriyan New Chief Information Offic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ATLANTA, March 9, 2012/PRNewswire/ -- SunTrust Banks, Inc. (NYSE: STI) today announced that Anil Cheriyan has been named the Company's new Chief Information Officer.  He will join SunTrust on </a:t>
            </a:r>
            <a:r>
              <a:rPr b="1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April 2, 2012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, and report to Chairman and Chief Executive Officer William H. Rogers, J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Mr. Cheriyan succeeds Tim Sullivan, who has served as Chief Information Officer since 2003 and is retiring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7AA-0E92-47B3-958B-44DDDF6C7729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3285-5A9A-4AE3-AF63-05A27CAD6CB3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441240" y="1240920"/>
            <a:ext cx="4249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e24a19"/>
                </a:solidFill>
                <a:latin typeface="Calibri"/>
                <a:ea typeface="宋体"/>
              </a:rPr>
              <a:t>84%</a:t>
            </a:r>
            <a:r>
              <a:rPr b="0" lang="zh-CN" sz="4800" spc="-1" strike="noStrike">
                <a:solidFill>
                  <a:srgbClr val="e24a19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595959"/>
                </a:solidFill>
                <a:latin typeface="Calibri"/>
                <a:ea typeface="宋体"/>
              </a:rPr>
              <a:t>of the time an executive will take a meeting when someone from inside their organization (a </a:t>
            </a:r>
            <a:r>
              <a:rPr b="0" lang="zh-CN" sz="3200" spc="-1" strike="noStrike" u="sng">
                <a:solidFill>
                  <a:srgbClr val="595959"/>
                </a:solidFill>
                <a:uFillTx/>
                <a:latin typeface="Calibri"/>
                <a:ea typeface="宋体"/>
              </a:rPr>
              <a:t>credible</a:t>
            </a:r>
            <a:r>
              <a:rPr b="0" lang="zh-CN" sz="3200" spc="-1" strike="noStrike">
                <a:solidFill>
                  <a:srgbClr val="595959"/>
                </a:solidFill>
                <a:latin typeface="Calibri"/>
                <a:ea typeface="宋体"/>
              </a:rPr>
              <a:t> sponsor) makes the introdu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345960" y="58420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5e00"/>
                </a:solidFill>
                <a:latin typeface="Calibri"/>
                <a:ea typeface="宋体"/>
              </a:rPr>
              <a:t>Source: Selling to the C-Su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0" y="6743880"/>
            <a:ext cx="9144000" cy="114120"/>
          </a:xfrm>
          <a:prstGeom prst="rect">
            <a:avLst/>
          </a:prstGeom>
          <a:gradFill rotWithShape="0">
            <a:gsLst>
              <a:gs pos="0">
                <a:srgbClr val="e89117"/>
              </a:gs>
              <a:gs pos="100000">
                <a:srgbClr val="94210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7086600" y="4952880"/>
            <a:ext cx="20574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8160" y="56844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d5e00"/>
                </a:solidFill>
                <a:latin typeface="A-OTF MainichiNewspapersM Pro L"/>
                <a:ea typeface="A-OTF MainichiNewspapersM Pro L"/>
              </a:rPr>
              <a:t>Are you ready to move the conversation forward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6296040" y="5935680"/>
            <a:ext cx="2336760" cy="816840"/>
            <a:chOff x="6296040" y="5935680"/>
            <a:chExt cx="2336760" cy="816840"/>
          </a:xfrm>
        </p:grpSpPr>
        <p:sp>
          <p:nvSpPr>
            <p:cNvPr id="505" name="Isosceles Triangle 7"/>
            <p:cNvSpPr/>
            <p:nvPr/>
          </p:nvSpPr>
          <p:spPr>
            <a:xfrm flipV="1" rot="10800000">
              <a:off x="7761240" y="620820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Isosceles Triangle 8"/>
            <p:cNvSpPr/>
            <p:nvPr/>
          </p:nvSpPr>
          <p:spPr>
            <a:xfrm flipV="1" rot="10800000">
              <a:off x="7128720" y="642780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Isosceles Triangle 9"/>
            <p:cNvSpPr/>
            <p:nvPr/>
          </p:nvSpPr>
          <p:spPr>
            <a:xfrm flipV="1" rot="10800000">
              <a:off x="7665840" y="5951520"/>
              <a:ext cx="468000" cy="19224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Isosceles Triangle 10"/>
            <p:cNvSpPr/>
            <p:nvPr/>
          </p:nvSpPr>
          <p:spPr>
            <a:xfrm flipV="1" rot="10800000">
              <a:off x="8398800" y="6143040"/>
              <a:ext cx="234000" cy="9612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Isosceles Triangle 11"/>
            <p:cNvSpPr/>
            <p:nvPr/>
          </p:nvSpPr>
          <p:spPr>
            <a:xfrm flipV="1" rot="10800000">
              <a:off x="6296040" y="5935680"/>
              <a:ext cx="1974960" cy="8121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0" name="Picture 12" descr=""/>
          <p:cNvPicPr/>
          <p:nvPr/>
        </p:nvPicPr>
        <p:blipFill>
          <a:blip r:embed="rId2"/>
          <a:stretch/>
        </p:blipFill>
        <p:spPr>
          <a:xfrm>
            <a:off x="5497560" y="797040"/>
            <a:ext cx="35733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2B28-CD19-4E68-B2C6-32C82D374A0B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rcRect l="6583" t="0" r="0" b="18898"/>
          <a:stretch/>
        </p:blipFill>
        <p:spPr>
          <a:xfrm>
            <a:off x="762120" y="3313080"/>
            <a:ext cx="3862440" cy="2236680"/>
          </a:xfrm>
          <a:prstGeom prst="rect">
            <a:avLst/>
          </a:prstGeom>
          <a:ln w="9360">
            <a:solidFill>
              <a:srgbClr val="b14600"/>
            </a:solidFill>
            <a:miter/>
          </a:ln>
        </p:spPr>
      </p:pic>
      <p:sp>
        <p:nvSpPr>
          <p:cNvPr id="141" name=""/>
          <p:cNvSpPr txBox="1"/>
          <p:nvPr/>
        </p:nvSpPr>
        <p:spPr>
          <a:xfrm>
            <a:off x="762120" y="1095120"/>
            <a:ext cx="70768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Buyers complete </a:t>
            </a:r>
            <a:r>
              <a:rPr b="1" lang="zh-CN" sz="4400" spc="-1" strike="noStrike">
                <a:solidFill>
                  <a:srgbClr val="ed5e00"/>
                </a:solidFill>
                <a:latin typeface="DFMingLight-B5"/>
                <a:ea typeface="DFMingLight-B5"/>
              </a:rPr>
              <a:t>80%</a:t>
            </a:r>
            <a:r>
              <a:rPr b="1" lang="zh-CN" sz="3600" spc="-1" strike="noStrike">
                <a:solidFill>
                  <a:srgbClr val="ed5e00"/>
                </a:solidFill>
                <a:latin typeface="DFMingLight-B5"/>
                <a:ea typeface="DFMingLight-B5"/>
              </a:rPr>
              <a:t> </a:t>
            </a:r>
            <a:r>
              <a:rPr b="0" lang="zh-CN" sz="32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of the buying cycle before interacting with s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—</a:t>
            </a:r>
            <a:r>
              <a:rPr b="0" lang="zh-CN" sz="18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Source: HBR, Gartn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1198080" y="3313800"/>
            <a:ext cx="1282680" cy="448560"/>
            <a:chOff x="1198080" y="3313800"/>
            <a:chExt cx="1282680" cy="448560"/>
          </a:xfrm>
        </p:grpSpPr>
        <p:sp>
          <p:nvSpPr>
            <p:cNvPr id="143" name="Isosceles Triangle 32"/>
            <p:cNvSpPr/>
            <p:nvPr/>
          </p:nvSpPr>
          <p:spPr>
            <a:xfrm flipV="1">
              <a:off x="1242720" y="3434040"/>
              <a:ext cx="433440" cy="17820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Isosceles Triangle 33"/>
            <p:cNvSpPr/>
            <p:nvPr/>
          </p:nvSpPr>
          <p:spPr>
            <a:xfrm flipV="1">
              <a:off x="1590120" y="3313440"/>
              <a:ext cx="433440" cy="17820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Isosceles Triangle 34"/>
            <p:cNvSpPr/>
            <p:nvPr/>
          </p:nvSpPr>
          <p:spPr>
            <a:xfrm flipV="1">
              <a:off x="1472400" y="3648600"/>
              <a:ext cx="256680" cy="10548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Isosceles Triangle 35"/>
            <p:cNvSpPr/>
            <p:nvPr/>
          </p:nvSpPr>
          <p:spPr>
            <a:xfrm flipV="1">
              <a:off x="1198080" y="3595320"/>
              <a:ext cx="128160" cy="525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Isosceles Triangle 36"/>
            <p:cNvSpPr/>
            <p:nvPr/>
          </p:nvSpPr>
          <p:spPr>
            <a:xfrm flipV="1">
              <a:off x="1396440" y="3315960"/>
              <a:ext cx="1084320" cy="44640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Isosceles Triangle 37"/>
          <p:cNvSpPr/>
          <p:nvPr/>
        </p:nvSpPr>
        <p:spPr>
          <a:xfrm flipV="1" rot="16200000">
            <a:off x="487440" y="4694400"/>
            <a:ext cx="844560" cy="295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29121"/>
              </a:gs>
              <a:gs pos="100000">
                <a:srgbClr val="ce3000"/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B3B-E19B-4EFD-8366-BF2D2C796BCA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16"/>
          <p:cNvSpPr/>
          <p:nvPr/>
        </p:nvSpPr>
        <p:spPr>
          <a:xfrm flipH="1">
            <a:off x="1767600" y="6005520"/>
            <a:ext cx="90828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429080" y="1695600"/>
            <a:ext cx="4529160" cy="2768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4828680"/>
            <a:ext cx="7124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17171"/>
                </a:solidFill>
                <a:latin typeface="DFGangBiW2-B5"/>
                <a:ea typeface="DFGangBiW2-B5"/>
              </a:rPr>
              <a:t>Today’s Buy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3440" y="1014480"/>
            <a:ext cx="50864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Leverages the social we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Does their own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Owns the buying pro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Is impat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Avoids ri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Expects immediate val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F31-7849-47F3-B02A-F171150D4A8B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6"/>
          <p:cNvSpPr/>
          <p:nvPr/>
        </p:nvSpPr>
        <p:spPr>
          <a:xfrm flipH="1">
            <a:off x="1767600" y="6005520"/>
            <a:ext cx="90828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00200" y="898560"/>
            <a:ext cx="4087800" cy="4832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92280" y="2762280"/>
            <a:ext cx="7126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d5e00"/>
                </a:solidFill>
                <a:latin typeface="Calibri"/>
                <a:ea typeface="宋体"/>
              </a:rPr>
              <a:t>Sales is Often Disconnecte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CEA-B315-44B6-92CD-935CD214DEC2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8453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920" y="31428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d5e00"/>
                </a:solidFill>
                <a:latin typeface="Calibri"/>
                <a:ea typeface="MS PGothic"/>
              </a:rPr>
              <a:t>Use Social to Connect on a Personal Leve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719-56AE-490D-ADAB-06A1835A8637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E3C-1566-43E0-8C38-46829AF62398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6267600"/>
            <a:ext cx="9144000" cy="59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traight Connector 6"/>
          <p:cNvSpPr/>
          <p:nvPr/>
        </p:nvSpPr>
        <p:spPr>
          <a:xfrm>
            <a:off x="0" y="6267600"/>
            <a:ext cx="9144000" cy="0"/>
          </a:xfrm>
          <a:prstGeom prst="line">
            <a:avLst/>
          </a:prstGeom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traight Connector 10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4572000" y="1085760"/>
            <a:ext cx="4189320" cy="4238640"/>
            <a:chOff x="4572000" y="1085760"/>
            <a:chExt cx="4189320" cy="4238640"/>
          </a:xfrm>
        </p:grpSpPr>
        <p:sp>
          <p:nvSpPr>
            <p:cNvPr id="279" name="Oval 9"/>
            <p:cNvSpPr/>
            <p:nvPr/>
          </p:nvSpPr>
          <p:spPr>
            <a:xfrm>
              <a:off x="5555160" y="1085760"/>
              <a:ext cx="2223000" cy="2248920"/>
            </a:xfrm>
            <a:prstGeom prst="ellipse">
              <a:avLst/>
            </a:prstGeom>
            <a:solidFill>
              <a:srgbClr val="fedd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5811480" y="1388520"/>
              <a:ext cx="1710000" cy="7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Busines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cum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1"/>
            <p:cNvSpPr/>
            <p:nvPr/>
          </p:nvSpPr>
          <p:spPr>
            <a:xfrm>
              <a:off x="6538320" y="2080440"/>
              <a:ext cx="2223000" cy="2248920"/>
            </a:xfrm>
            <a:prstGeom prst="ellipse">
              <a:avLst/>
            </a:prstGeom>
            <a:solidFill>
              <a:srgbClr val="c4d73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7735320" y="2340000"/>
              <a:ext cx="85500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ocial Media Savv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3"/>
            <p:cNvSpPr/>
            <p:nvPr/>
          </p:nvSpPr>
          <p:spPr>
            <a:xfrm>
              <a:off x="5555160" y="3075480"/>
              <a:ext cx="2223000" cy="2248920"/>
            </a:xfrm>
            <a:prstGeom prst="ellipse">
              <a:avLst/>
            </a:prstGeo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5811480" y="4308120"/>
              <a:ext cx="1710000" cy="7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le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ki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5"/>
            <p:cNvSpPr/>
            <p:nvPr/>
          </p:nvSpPr>
          <p:spPr>
            <a:xfrm>
              <a:off x="4572000" y="2080440"/>
              <a:ext cx="2223000" cy="2248920"/>
            </a:xfrm>
            <a:prstGeom prst="ellipse">
              <a:avLst/>
            </a:prstGeom>
            <a:solidFill>
              <a:srgbClr val="ed5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4743000" y="2340000"/>
              <a:ext cx="85500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eople Ski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Success Require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8" name="Group 18"/>
          <p:cNvGrpSpPr/>
          <p:nvPr/>
        </p:nvGrpSpPr>
        <p:grpSpPr>
          <a:xfrm>
            <a:off x="-635400" y="5777640"/>
            <a:ext cx="1929240" cy="576360"/>
            <a:chOff x="-635400" y="5777640"/>
            <a:chExt cx="1929240" cy="576360"/>
          </a:xfrm>
        </p:grpSpPr>
        <p:sp>
          <p:nvSpPr>
            <p:cNvPr id="289" name="Isosceles Triangle 6"/>
            <p:cNvSpPr/>
            <p:nvPr/>
          </p:nvSpPr>
          <p:spPr>
            <a:xfrm flipV="1" rot="10800000">
              <a:off x="574560" y="5970240"/>
              <a:ext cx="651600" cy="22860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Isosceles Triangle 7"/>
            <p:cNvSpPr/>
            <p:nvPr/>
          </p:nvSpPr>
          <p:spPr>
            <a:xfrm flipV="1" rot="10800000">
              <a:off x="52560" y="6125040"/>
              <a:ext cx="651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Isosceles Triangle 8"/>
            <p:cNvSpPr/>
            <p:nvPr/>
          </p:nvSpPr>
          <p:spPr>
            <a:xfrm flipV="1" rot="10800000">
              <a:off x="495360" y="5789520"/>
              <a:ext cx="386280" cy="1353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Isosceles Triangle 9"/>
            <p:cNvSpPr/>
            <p:nvPr/>
          </p:nvSpPr>
          <p:spPr>
            <a:xfrm flipV="1" rot="10800000">
              <a:off x="1100880" y="5925240"/>
              <a:ext cx="192960" cy="6768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Isosceles Triangle 11"/>
            <p:cNvSpPr/>
            <p:nvPr/>
          </p:nvSpPr>
          <p:spPr>
            <a:xfrm flipV="1" rot="10800000">
              <a:off x="-635400" y="5777280"/>
              <a:ext cx="1630440" cy="5727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Text Box 8"/>
          <p:cNvSpPr/>
          <p:nvPr/>
        </p:nvSpPr>
        <p:spPr>
          <a:xfrm>
            <a:off x="573120" y="5913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5F8-6B5A-4857-8D61-DE750038B773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d5e00"/>
                </a:solidFill>
                <a:latin typeface="CoventryScriptFLF"/>
                <a:ea typeface="宋体"/>
              </a:rPr>
              <a:t>An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83880" y="1523520"/>
            <a:ext cx="479124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Have a pl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Define your prosp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Pick the RIGHT t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Implement consistent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Measure and tr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8749-4A7A-4EDE-B848-DBB9F8646F05}" type="slidenum"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29:00Z</dcterms:created>
  <dc:creator>Barb</dc:creator>
  <dc:description/>
  <dc:language>en-US</dc:language>
  <cp:lastModifiedBy>a</cp:lastModifiedBy>
  <cp:lastPrinted>1899-12-30T00:00:00Z</cp:lastPrinted>
  <dcterms:modified xsi:type="dcterms:W3CDTF">2015-07-25T01:59:5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