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F0240-4B0F-4D0C-AD00-79742613EA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move the slid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1D996-CED7-40D3-B5DA-4B1D86518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- </a:t>
            </a:r>
            <a:fld id="{97395363-4A08-4EF4-B5A2-DABF00133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9800"/>
            <a:ext cx="5486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ing on level you may follow this cycle many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repetitions the better your are at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0134B-0A42-4DAC-AD0B-0431B3AEB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y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id Barram or FB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Y THE BOO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1649-B304-46D8-A272-577E6CB68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FB52-74AD-458B-94C4-7F93CAF57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12A4-03E0-4B51-B201-1B85C1107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6F61-7C09-4E87-A2F1-88C1DE0DF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B2D3E-6B6B-4B6F-AFEF-B949BF2EB3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BD83-9357-40D9-AE75-C0E87E21E0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4EB1-1D47-4DF6-8379-EC2C140BE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F1B49-1CDD-4375-8CAE-4CC840F02A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C2BA-B384-458E-810E-DF4656073E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DCF0C-8C53-47B3-86CC-4AB806325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C46E-A3CE-43CA-8E41-79A6421D0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0686-1267-476A-9937-D5ACD5AFB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2BC97-CC89-4AAF-841F-766C7B2540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9FE38-1EFF-44AE-8583-8233ECE33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73CB-C7C4-4C4C-B9DD-F3675B0B4A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33E8E-FD95-449B-9601-0529F79E9D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5147E-9EF5-49E9-BBB2-7B76348E56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037-4D2D-49E1-A166-A39F8C58AA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263-9C69-478F-B925-24C2DA7610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33C-AAE1-41B0-8BD0-957E19F316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5BE-6C32-48F9-A35B-C25E796614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1524-9933-4D1D-902D-DCEAAA077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A81C-FB19-49A7-800A-0E5514C34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523-F7B2-48B8-ADB0-86F4144E78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A1FE-0BD6-4A25-AD6A-BA067E7EB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39B-B47F-4AF3-829C-4E2D4EA674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F58E-10ED-43F1-B3E5-B2216DB735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C237-349E-44AC-B70D-F1272030EA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60DB-0D93-45F3-8E62-70CDADB54F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5837-86CB-4ABE-93A9-A9685D561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6792-1D23-4FF1-8AB4-82E0FCA43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83A9-2132-41DB-BED6-242530FDA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D0BC-027E-49D2-9A5F-4295B367C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3B42-8AA0-43FA-8F65-5C0605490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5750-19EC-49E8-AC6B-803F905F3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CBFC-47D5-4769-BAE8-DA3C5B094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A948E-8237-4C49-97F1-674E7B7F3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1585D-D8B6-4280-9A3C-805D9A2A1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67616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19D66-5D0D-45D2-A572-29255BFE06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76964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欧美商业完整版</a:t>
            </a:r>
            <a:r>
              <a:rPr b="1" lang="en-US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PPT</a:t>
            </a:r>
            <a:r>
              <a:rPr b="1" lang="zh-CN" sz="4000" spc="-1" strike="noStrike">
                <a:solidFill>
                  <a:srgbClr val="002d46"/>
                </a:solidFill>
                <a:latin typeface="Arial (Headings)"/>
                <a:ea typeface="宋体"/>
              </a:rPr>
              <a:t>模板免费下载</a:t>
            </a:r>
            <a:endParaRPr b="1" lang="en-US" sz="40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54580-CBD1-45DC-AFBF-AF5B2C429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tructure of 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085760" y="860400"/>
            <a:ext cx="6991560" cy="44737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1085760" y="5456160"/>
            <a:ext cx="6991560" cy="5637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(Headings)"/>
              </a:rPr>
              <a:t>Changing the culture requires a focus on the Social Architecture and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A4E58-54E0-4C45-8FA3-CB4267AB01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ocial Architec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54440" y="1055520"/>
            <a:ext cx="2835000" cy="45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t">
            <a:normAutofit/>
          </a:bodyPr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real” social archite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by those attributes and behaviors which are seen to lead to promotion and advanc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the attributes and behaviors espoused by the leadership as being desi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6680" indent="-1634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HPC Toolset.jpg"/>
          <p:cNvPicPr/>
          <p:nvPr/>
        </p:nvPicPr>
        <p:blipFill>
          <a:blip r:embed="rId1"/>
          <a:stretch/>
        </p:blipFill>
        <p:spPr>
          <a:xfrm>
            <a:off x="304920" y="9874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66E15-BFC3-443C-ACA4-A828640F2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Operating System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486400" y="987480"/>
            <a:ext cx="3048120" cy="4952880"/>
          </a:xfrm>
          <a:custGeom>
            <a:avLst/>
            <a:gdLst>
              <a:gd name="textAreaLeft" fmla="*/ 75600 w 3048120"/>
              <a:gd name="textAreaRight" fmla="*/ 2972520 w 3048120"/>
              <a:gd name="textAreaTop" fmla="*/ 75600 h 4952880"/>
              <a:gd name="textAreaBottom" fmla="*/ 4877280 h 4952880"/>
            </a:gdLst>
            <a:ahLst/>
            <a:rect l="textAreaLeft" t="textAreaTop" r="textAreaRight" b="textAreaBottom"/>
            <a:pathLst>
              <a:path w="21600" h="35096">
                <a:moveTo>
                  <a:pt x="1837" y="0"/>
                </a:moveTo>
                <a:arcTo wR="1837" hR="1837" stAng="16200000" swAng="-5400000"/>
                <a:lnTo>
                  <a:pt x="0" y="33259"/>
                </a:lnTo>
                <a:arcTo wR="1837" hR="1837" stAng="10800000" swAng="-5400000"/>
                <a:lnTo>
                  <a:pt x="19763" y="35096"/>
                </a:lnTo>
                <a:arcTo wR="1837" hR="1837" stAng="5400000" swAng="-5400000"/>
                <a:lnTo>
                  <a:pt x="21600" y="1837"/>
                </a:lnTo>
                <a:arcTo wR="1837" hR="183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rm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“real”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 by the activities to which leadership gives highest priority and devotes mo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management practice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dictable sequence of events used year after year to run the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s of day-to-day prior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ols, techniques and processes at Levels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HPC Toolset.jpg"/>
          <p:cNvPicPr/>
          <p:nvPr/>
        </p:nvPicPr>
        <p:blipFill>
          <a:blip r:embed="rId1"/>
          <a:stretch/>
        </p:blipFill>
        <p:spPr>
          <a:xfrm>
            <a:off x="304920" y="987480"/>
            <a:ext cx="51814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tart with Roles of Leadership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1426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ble for Strategic Planning and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to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n Annual Commi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or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Daily Operational Commi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56105-2B53-4EFC-9762-F05936863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888840" y="5334120"/>
            <a:ext cx="7264440" cy="6858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(Headings)"/>
              </a:rPr>
              <a:t>Establishing culture begins with clarifying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(Headings)"/>
              </a:rPr>
              <a:t>roles &amp;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Brace 7"/>
          <p:cNvSpPr/>
          <p:nvPr/>
        </p:nvSpPr>
        <p:spPr>
          <a:xfrm flipH="1">
            <a:off x="4274280" y="11430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Brace 8"/>
          <p:cNvSpPr/>
          <p:nvPr/>
        </p:nvSpPr>
        <p:spPr>
          <a:xfrm flipH="1">
            <a:off x="4266360" y="25146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Brace 9"/>
          <p:cNvSpPr/>
          <p:nvPr/>
        </p:nvSpPr>
        <p:spPr>
          <a:xfrm flipH="1">
            <a:off x="4266360" y="3886200"/>
            <a:ext cx="297000" cy="1066680"/>
          </a:xfrm>
          <a:custGeom>
            <a:avLst/>
            <a:gdLst>
              <a:gd name="textAreaLeft" fmla="*/ -360 w 297000"/>
              <a:gd name="textAreaRight" fmla="*/ 106920 w 297000"/>
              <a:gd name="textAreaTop" fmla="*/ 7560 h 1066680"/>
              <a:gd name="textAreaBottom" fmla="*/ 1059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7622"/>
            </a:solidFill>
            <a:miter/>
          </a:ln>
          <a:effectLst>
            <a:outerShdw dist="20160" dir="54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440" y="14479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10"/>
          <p:cNvSpPr/>
          <p:nvPr/>
        </p:nvSpPr>
        <p:spPr>
          <a:xfrm>
            <a:off x="304920" y="2819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dle Management/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10"/>
          <p:cNvSpPr/>
          <p:nvPr/>
        </p:nvSpPr>
        <p:spPr>
          <a:xfrm>
            <a:off x="30492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or/Front Line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9A6A8-A9D0-4BC1-81BE-0ABA23B12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ulture Transformation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4952880"/>
            <a:ext cx="7925040" cy="7794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ycle must occur at each level of the organization, however, with different tools and prac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457200" y="1143000"/>
            <a:ext cx="4165560" cy="2514600"/>
          </a:xfrm>
          <a:prstGeom prst="roundRect">
            <a:avLst>
              <a:gd name="adj" fmla="val 103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3360" indent="-15336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s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ing tools and practices (operating system) with the values of an organization (social archite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3360" indent="-153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ard Playbook for creating the leadership culture which will drive 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HPC Toolset.jpg"/>
          <p:cNvPicPr/>
          <p:nvPr/>
        </p:nvPicPr>
        <p:blipFill>
          <a:blip r:embed="rId1"/>
          <a:stretch/>
        </p:blipFill>
        <p:spPr>
          <a:xfrm>
            <a:off x="4648320" y="828720"/>
            <a:ext cx="40640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ycles of Use Ecosystem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00400" y="941400"/>
            <a:ext cx="54864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ols to plan, establish and target initiat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cate, Translate and Deplo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goals and targets with L2 and L3 Leadersh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late into executable pla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ploy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ing Performance and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ols, forums to discuss and evaluate performance to targ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gaps, create plans to improve and assign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ecuting to Close Ga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llaborative problem solving Lean, Six Sigma, FOC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ent &amp; Celebrating Succe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inforcing methods for desired results (repeatable) and behavi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blem solving methods &amp; too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AE1ED-02A3-4B64-B742-FEAF7EC88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76720" y="5313240"/>
            <a:ext cx="4724280" cy="77940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High Performing Culture is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 an eco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380880" y="990720"/>
            <a:ext cx="2486160" cy="5257800"/>
            <a:chOff x="380880" y="990720"/>
            <a:chExt cx="2486160" cy="5257800"/>
          </a:xfrm>
        </p:grpSpPr>
        <p:sp>
          <p:nvSpPr>
            <p:cNvPr id="223" name="Curved Right Arrow 8"/>
            <p:cNvSpPr/>
            <p:nvPr/>
          </p:nvSpPr>
          <p:spPr>
            <a:xfrm flipH="1" rot="10800000">
              <a:off x="1176120" y="2027160"/>
              <a:ext cx="519120" cy="861840"/>
            </a:xfrm>
            <a:custGeom>
              <a:avLst/>
              <a:gdLst>
                <a:gd name="textAreaLeft" fmla="*/ 69480 w 519120"/>
                <a:gd name="textAreaRight" fmla="*/ 449640 w 519120"/>
                <a:gd name="textAreaTop" fmla="*/ 166680 h 861840"/>
                <a:gd name="textAreaBottom" fmla="*/ 630360 h 86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362" stAng="-5400000" swAng="-5400000"/>
                  <a:lnTo>
                    <a:pt x="0" y="11613"/>
                  </a:lnTo>
                  <a:arcTo wR="21600" hR="8362" stAng="10800000" swAng="-3377810"/>
                  <a:lnTo>
                    <a:pt x="16200" y="21334"/>
                  </a:lnTo>
                  <a:lnTo>
                    <a:pt x="21600" y="18349"/>
                  </a:lnTo>
                  <a:lnTo>
                    <a:pt x="16200" y="14831"/>
                  </a:lnTo>
                  <a:lnTo>
                    <a:pt x="16200" y="16457"/>
                  </a:lnTo>
                  <a:arcTo wR="21600" hR="8362" stAng="7422190" swAng="3114587"/>
                  <a:lnTo>
                    <a:pt x="412" y="9987"/>
                  </a:lnTo>
                  <a:arcTo wR="21600" hR="8362" stAng="-10536778" swAng="5136778"/>
                  <a:close/>
                </a:path>
                <a:path fill="darkenLess" w="21600" h="21600">
                  <a:moveTo>
                    <a:pt x="21600" y="0"/>
                  </a:moveTo>
                  <a:arcTo wR="21600" hR="8362" stAng="-5400000" swAng="-5400000"/>
                  <a:lnTo>
                    <a:pt x="0" y="8362"/>
                  </a:lnTo>
                  <a:arcTo wR="21600" hR="8362" stAng="10800000" swAng="-263222"/>
                  <a:lnTo>
                    <a:pt x="412" y="9987"/>
                  </a:lnTo>
                  <a:arcTo wR="21600" hR="8362" stAng="-10536778" swAng="5136778"/>
                  <a:close/>
                </a:path>
              </a:pathLst>
            </a:custGeom>
            <a:gradFill rotWithShape="0">
              <a:gsLst>
                <a:gs pos="0">
                  <a:srgbClr val="9bc1ff"/>
                </a:gs>
                <a:gs pos="100000">
                  <a:srgbClr val="002d46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Curved Left Arrow 9"/>
            <p:cNvSpPr/>
            <p:nvPr/>
          </p:nvSpPr>
          <p:spPr>
            <a:xfrm>
              <a:off x="1770120" y="2102040"/>
              <a:ext cx="517320" cy="860400"/>
            </a:xfrm>
            <a:custGeom>
              <a:avLst/>
              <a:gdLst>
                <a:gd name="textAreaLeft" fmla="*/ 69120 w 517320"/>
                <a:gd name="textAreaRight" fmla="*/ 448200 w 517320"/>
                <a:gd name="textAreaTop" fmla="*/ 166320 h 860400"/>
                <a:gd name="textAreaBottom" fmla="*/ 62928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365" stAng="-5400000" swAng="5400000"/>
                  <a:lnTo>
                    <a:pt x="21600" y="11612"/>
                  </a:lnTo>
                  <a:arcTo wR="21600" hR="8365" stAng="0" swAng="3378379"/>
                  <a:lnTo>
                    <a:pt x="5400" y="21334"/>
                  </a:lnTo>
                  <a:lnTo>
                    <a:pt x="0" y="18353"/>
                  </a:lnTo>
                  <a:lnTo>
                    <a:pt x="5400" y="14839"/>
                  </a:lnTo>
                  <a:lnTo>
                    <a:pt x="5400" y="16463"/>
                  </a:lnTo>
                  <a:arcTo wR="21600" hR="8365" stAng="3378379" swAng="-3115495"/>
                  <a:lnTo>
                    <a:pt x="21189" y="9988"/>
                  </a:lnTo>
                  <a:arcTo wR="21600" hR="8365" stAng="-262883" swAng="-5137117"/>
                  <a:close/>
                </a:path>
                <a:path fill="darkenLess" w="21600" h="21600">
                  <a:moveTo>
                    <a:pt x="0" y="0"/>
                  </a:moveTo>
                  <a:arcTo wR="21600" hR="8365" stAng="-5400000" swAng="5400000"/>
                  <a:lnTo>
                    <a:pt x="21600" y="11612"/>
                  </a:lnTo>
                  <a:arcTo wR="21600" hR="8365" stAng="0" swAng="-262883"/>
                  <a:lnTo>
                    <a:pt x="21189" y="9988"/>
                  </a:lnTo>
                  <a:arcTo wR="21600" hR="8365" stAng="-262883" swAng="-5137117"/>
                  <a:close/>
                </a:path>
              </a:pathLst>
            </a:custGeom>
            <a:gradFill rotWithShape="0">
              <a:gsLst>
                <a:gs pos="0">
                  <a:srgbClr val="9bc1ff"/>
                </a:gs>
                <a:gs pos="100000">
                  <a:srgbClr val="002d46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0"/>
            <p:cNvSpPr/>
            <p:nvPr/>
          </p:nvSpPr>
          <p:spPr>
            <a:xfrm>
              <a:off x="380880" y="2025720"/>
              <a:ext cx="94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1"/>
            <p:cNvSpPr/>
            <p:nvPr/>
          </p:nvSpPr>
          <p:spPr>
            <a:xfrm>
              <a:off x="1297080" y="1734120"/>
              <a:ext cx="79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2"/>
            <p:cNvSpPr/>
            <p:nvPr/>
          </p:nvSpPr>
          <p:spPr>
            <a:xfrm>
              <a:off x="2071080" y="2025720"/>
              <a:ext cx="79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3"/>
            <p:cNvSpPr/>
            <p:nvPr/>
          </p:nvSpPr>
          <p:spPr>
            <a:xfrm>
              <a:off x="483120" y="281664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ri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"/>
            <p:cNvSpPr/>
            <p:nvPr/>
          </p:nvSpPr>
          <p:spPr>
            <a:xfrm>
              <a:off x="1926360" y="2816640"/>
              <a:ext cx="73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5"/>
            <p:cNvSpPr/>
            <p:nvPr/>
          </p:nvSpPr>
          <p:spPr>
            <a:xfrm>
              <a:off x="453600" y="1617480"/>
              <a:ext cx="2387880" cy="1663560"/>
            </a:xfrm>
            <a:prstGeom prst="rect">
              <a:avLst/>
            </a:prstGeom>
            <a:noFill/>
            <a:ln w="9360">
              <a:solidFill>
                <a:srgbClr val="002d46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Down Arrow 16"/>
            <p:cNvSpPr/>
            <p:nvPr/>
          </p:nvSpPr>
          <p:spPr>
            <a:xfrm>
              <a:off x="1393560" y="3380040"/>
              <a:ext cx="579240" cy="5061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cf7622"/>
            </a:solidFill>
            <a:ln w="9360">
              <a:solidFill>
                <a:srgbClr val="cf7622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7"/>
            <p:cNvSpPr/>
            <p:nvPr/>
          </p:nvSpPr>
          <p:spPr>
            <a:xfrm>
              <a:off x="453240" y="990720"/>
              <a:ext cx="2387880" cy="580680"/>
            </a:xfrm>
            <a:prstGeom prst="rect">
              <a:avLst/>
            </a:prstGeom>
            <a:solidFill>
              <a:srgbClr val="002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ve Elements of a Forest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453600" y="4584960"/>
              <a:ext cx="2387880" cy="1663560"/>
            </a:xfrm>
            <a:prstGeom prst="rect">
              <a:avLst/>
            </a:prstGeom>
            <a:noFill/>
            <a:ln w="9360">
              <a:solidFill>
                <a:srgbClr val="002d46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9"/>
            <p:cNvSpPr/>
            <p:nvPr/>
          </p:nvSpPr>
          <p:spPr>
            <a:xfrm>
              <a:off x="453240" y="3957120"/>
              <a:ext cx="2387880" cy="580680"/>
            </a:xfrm>
            <a:prstGeom prst="rect">
              <a:avLst/>
            </a:prstGeom>
            <a:solidFill>
              <a:srgbClr val="002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ve Elements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of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0" descr="HPC Toolset.jpg"/>
            <p:cNvPicPr/>
            <p:nvPr/>
          </p:nvPicPr>
          <p:blipFill>
            <a:blip r:embed="rId1"/>
            <a:stretch/>
          </p:blipFill>
          <p:spPr>
            <a:xfrm>
              <a:off x="803160" y="4608000"/>
              <a:ext cx="16761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d46"/>
                </a:solidFill>
                <a:latin typeface="Arial (Headings)"/>
                <a:ea typeface="宋体"/>
              </a:rPr>
              <a:t>Senior Leadership Cycles of Use – Example</a:t>
            </a:r>
            <a:endParaRPr b="1" lang="en-US" sz="28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010E0-2BB0-49F7-9E2C-F33396F78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4281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1600200" y="61722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4094B-FB42-40B4-9B6E-27E46B481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380880" y="3352680"/>
            <a:ext cx="2210040" cy="2667240"/>
          </a:xfrm>
          <a:custGeom>
            <a:avLst/>
            <a:gdLst>
              <a:gd name="textAreaLeft" fmla="*/ 295920 w 2210040"/>
              <a:gd name="textAreaRight" fmla="*/ 1914120 w 2210040"/>
              <a:gd name="textAreaTop" fmla="*/ 448920 h 2667240"/>
              <a:gd name="textAreaBottom" fmla="*/ 202284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2" stAng="-5400000" swAng="-5400000"/>
                <a:lnTo>
                  <a:pt x="0" y="12744"/>
                </a:lnTo>
                <a:arcTo wR="21600" hR="7272" stAng="10800000" swAng="-2615910"/>
                <a:lnTo>
                  <a:pt x="14400" y="21184"/>
                </a:lnTo>
                <a:lnTo>
                  <a:pt x="21600" y="17280"/>
                </a:lnTo>
                <a:lnTo>
                  <a:pt x="14400" y="12544"/>
                </a:lnTo>
                <a:lnTo>
                  <a:pt x="14400" y="14128"/>
                </a:lnTo>
                <a:arcTo wR="21600" hR="7272" stAng="8184090" swAng="2148825"/>
                <a:lnTo>
                  <a:pt x="1587" y="10008"/>
                </a:lnTo>
                <a:arcTo wR="21600" hR="7272" stAng="-10332915" swAng="4932915"/>
                <a:close/>
              </a:path>
              <a:path fill="darkenLess" w="21600" h="21600">
                <a:moveTo>
                  <a:pt x="21600" y="0"/>
                </a:moveTo>
                <a:arcTo wR="21600" hR="7272" stAng="-5400000" swAng="-5400000"/>
                <a:lnTo>
                  <a:pt x="0" y="7272"/>
                </a:lnTo>
                <a:arcTo wR="21600" hR="7272" stAng="10800000" swAng="-467085"/>
                <a:lnTo>
                  <a:pt x="1587" y="10008"/>
                </a:lnTo>
                <a:arcTo wR="21600" hR="7272" stAng="-10332915" swAng="4932915"/>
                <a:close/>
              </a:path>
            </a:pathLst>
          </a:cu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 flipH="1">
            <a:off x="6552360" y="3352680"/>
            <a:ext cx="2210040" cy="2667240"/>
          </a:xfrm>
          <a:custGeom>
            <a:avLst/>
            <a:gdLst>
              <a:gd name="textAreaLeft" fmla="*/ 295920 w 2210040"/>
              <a:gd name="textAreaRight" fmla="*/ 1914120 w 2210040"/>
              <a:gd name="textAreaTop" fmla="*/ 448920 h 2667240"/>
              <a:gd name="textAreaBottom" fmla="*/ 202284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2" stAng="-5400000" swAng="-5400000"/>
                <a:lnTo>
                  <a:pt x="0" y="12744"/>
                </a:lnTo>
                <a:arcTo wR="21600" hR="7272" stAng="10800000" swAng="-2615910"/>
                <a:lnTo>
                  <a:pt x="14400" y="21184"/>
                </a:lnTo>
                <a:lnTo>
                  <a:pt x="21600" y="17280"/>
                </a:lnTo>
                <a:lnTo>
                  <a:pt x="14400" y="12544"/>
                </a:lnTo>
                <a:lnTo>
                  <a:pt x="14400" y="14128"/>
                </a:lnTo>
                <a:arcTo wR="21600" hR="7272" stAng="8184090" swAng="2148825"/>
                <a:lnTo>
                  <a:pt x="1587" y="10008"/>
                </a:lnTo>
                <a:arcTo wR="21600" hR="7272" stAng="-10332915" swAng="4932915"/>
                <a:close/>
              </a:path>
              <a:path fill="darkenLess" w="21600" h="21600">
                <a:moveTo>
                  <a:pt x="21600" y="0"/>
                </a:moveTo>
                <a:arcTo wR="21600" hR="7272" stAng="-5400000" swAng="-5400000"/>
                <a:lnTo>
                  <a:pt x="0" y="7272"/>
                </a:lnTo>
                <a:arcTo wR="21600" hR="7272" stAng="10800000" swAng="-467085"/>
                <a:lnTo>
                  <a:pt x="1587" y="10008"/>
                </a:lnTo>
                <a:arcTo wR="21600" hR="7272" stAng="-10332915" swAng="4932915"/>
                <a:close/>
              </a:path>
            </a:pathLst>
          </a:cu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Mid-Level Leadership Cycles of Us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grpSp>
        <p:nvGrpSpPr>
          <p:cNvPr id="246" name="Group 7"/>
          <p:cNvGrpSpPr/>
          <p:nvPr/>
        </p:nvGrpSpPr>
        <p:grpSpPr>
          <a:xfrm>
            <a:off x="304920" y="990720"/>
            <a:ext cx="8533440" cy="3199680"/>
            <a:chOff x="304920" y="990720"/>
            <a:chExt cx="8533440" cy="3199680"/>
          </a:xfrm>
        </p:grpSpPr>
        <p:sp>
          <p:nvSpPr>
            <p:cNvPr id="247" name="AutoShape 3"/>
            <p:cNvSpPr/>
            <p:nvPr/>
          </p:nvSpPr>
          <p:spPr>
            <a:xfrm>
              <a:off x="304920" y="990720"/>
              <a:ext cx="8533440" cy="31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_s6148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400000" y="1441080"/>
              <a:ext cx="640440" cy="229752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6149"/>
            <p:cNvCxnSpPr>
              <a:stCxn id="252" idx="0"/>
              <a:endCxn id="250" idx="2"/>
            </p:cNvCxnSpPr>
            <p:nvPr/>
          </p:nvCxnSpPr>
          <p:spPr>
            <a:xfrm flipH="1" flipV="1" rot="5400000">
              <a:off x="3102840" y="1440720"/>
              <a:ext cx="640440" cy="2298600"/>
            </a:xfrm>
            <a:prstGeom prst="bentConnector3">
              <a:avLst>
                <a:gd name="adj1" fmla="val 17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6150"/>
            <p:cNvSpPr/>
            <p:nvPr/>
          </p:nvSpPr>
          <p:spPr>
            <a:xfrm>
              <a:off x="2602800" y="99072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the Proces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d  Focus”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6151"/>
            <p:cNvSpPr/>
            <p:nvPr/>
          </p:nvSpPr>
          <p:spPr>
            <a:xfrm>
              <a:off x="304920" y="291024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6809chargen"/>
                </a:rPr>
                <a:t>Strategic Deployment Implemen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“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Critical Few” Proces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Action Plan at Point of Imp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Bowling Cha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6152"/>
            <p:cNvSpPr/>
            <p:nvPr/>
          </p:nvSpPr>
          <p:spPr>
            <a:xfrm>
              <a:off x="4899600" y="2910240"/>
              <a:ext cx="3938400" cy="127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6809chargen"/>
                </a:rPr>
                <a:t>Daily Manag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Operating Unit Responsibility </a:t>
              </a:r>
              <a:r>
                <a:rPr b="0" lang="en-US" sz="1300" spc="-1" strike="noStrike">
                  <a:solidFill>
                    <a:srgbClr val="000000"/>
                  </a:solidFill>
                  <a:latin typeface="Lucida Grande"/>
                </a:rPr>
                <a:t>–</a:t>
              </a: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 SQDC KPI’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6809chargen"/>
                </a:rPr>
                <a:t>KPI Bowling Cha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12"/>
          <p:cNvSpPr/>
          <p:nvPr/>
        </p:nvSpPr>
        <p:spPr>
          <a:xfrm>
            <a:off x="2629080" y="4648320"/>
            <a:ext cx="38862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THLY OPERATIONS REVIE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parate SD and KPI Re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 Repor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ward Focus on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blems &amp; Opportun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ick Response Countermea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Front Line Leadership Cycles of Us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37262-B1F0-4193-A6BC-65C5CAB24D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DSC00078"/>
          <p:cNvPicPr/>
          <p:nvPr/>
        </p:nvPicPr>
        <p:blipFill>
          <a:blip r:embed="rId1"/>
          <a:srcRect l="0" t="0" r="7874" b="0"/>
          <a:stretch/>
        </p:blipFill>
        <p:spPr>
          <a:xfrm>
            <a:off x="3632040" y="1562040"/>
            <a:ext cx="5054760" cy="36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258" name="Rectangle 7"/>
          <p:cNvSpPr/>
          <p:nvPr/>
        </p:nvSpPr>
        <p:spPr>
          <a:xfrm>
            <a:off x="571680" y="1523880"/>
            <a:ext cx="283176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ront-Line “Scorecard” &amp; Performance Managemen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dentify opportunities in Operations Performance Reviews (OP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to address gaps and align to business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  <a:ea typeface="宋体"/>
              </a:rPr>
              <a:t>Leadership Talent Development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basic objectives of talent are hel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ploy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stand where they can be most successful as well as how they can best develop within the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 better by making better hiring and promotion decisions and managing employees more effectively through improved mentoring and co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talent correctly, maximizing employee productivity and being more proactive in succession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mponents of an effective talent development system are recruitment, assessment, on-boarding, development planning, performance management and career “path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D98D-501F-47BD-A072-D6F7C24DF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Agenda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and It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High Perform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High Perform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s of Use 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1EE6E-9470-4C78-A575-CDAF14BAD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Reality Is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987120"/>
            <a:ext cx="805644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hanges with Leadership are not just technical / process oriented. The reality is that the challenge is with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cf7622"/>
                </a:solidFill>
                <a:latin typeface="Arial"/>
              </a:rPr>
              <a:t>PEOP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133720" y="4019400"/>
            <a:ext cx="5092560" cy="1467000"/>
            <a:chOff x="2133720" y="4019400"/>
            <a:chExt cx="5092560" cy="1467000"/>
          </a:xfrm>
        </p:grpSpPr>
        <p:pic>
          <p:nvPicPr>
            <p:cNvPr id="266" name="Picture 22" descr="agencyby060600005"/>
            <p:cNvPicPr/>
            <p:nvPr/>
          </p:nvPicPr>
          <p:blipFill>
            <a:blip r:embed="rId1"/>
            <a:srcRect l="0" t="0" r="0" b="47720"/>
            <a:stretch/>
          </p:blipFill>
          <p:spPr>
            <a:xfrm>
              <a:off x="2133720" y="4019400"/>
              <a:ext cx="276876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3" descr="agencyby060600005"/>
            <p:cNvPicPr/>
            <p:nvPr/>
          </p:nvPicPr>
          <p:blipFill>
            <a:blip r:embed="rId2"/>
            <a:srcRect l="5962" t="53036" r="0" b="0"/>
            <a:stretch/>
          </p:blipFill>
          <p:spPr>
            <a:xfrm>
              <a:off x="4622760" y="4248000"/>
              <a:ext cx="2603520" cy="12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Slide Number Placeholder 6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F2E72-C259-407B-A39A-154AB88F4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772400" y="615636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2B9B0-E402-400C-9B27-2FBE10160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High Performance Leadership Roadmap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84360" y="1981080"/>
            <a:ext cx="1676160" cy="13971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w="1056" h="880">
                <a:moveTo>
                  <a:pt x="761" y="0"/>
                </a:moveTo>
                <a:lnTo>
                  <a:pt x="0" y="0"/>
                </a:lnTo>
                <a:lnTo>
                  <a:pt x="0" y="880"/>
                </a:lnTo>
                <a:lnTo>
                  <a:pt x="769" y="880"/>
                </a:lnTo>
                <a:lnTo>
                  <a:pt x="1056" y="436"/>
                </a:lnTo>
                <a:lnTo>
                  <a:pt x="761" y="0"/>
                </a:lnTo>
              </a:path>
            </a:pathLst>
          </a:custGeom>
          <a:solidFill>
            <a:srgbClr val="95b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5256360" y="1981080"/>
            <a:ext cx="1677960" cy="1395360"/>
            <a:chOff x="5256360" y="1981080"/>
            <a:chExt cx="1677960" cy="1395360"/>
          </a:xfrm>
        </p:grpSpPr>
        <p:sp>
          <p:nvSpPr>
            <p:cNvPr id="275" name="Freeform 5"/>
            <p:cNvSpPr/>
            <p:nvPr/>
          </p:nvSpPr>
          <p:spPr>
            <a:xfrm>
              <a:off x="5256360" y="1981080"/>
              <a:ext cx="1677960" cy="13953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57" h="879">
                  <a:moveTo>
                    <a:pt x="763" y="0"/>
                  </a:moveTo>
                  <a:lnTo>
                    <a:pt x="0" y="0"/>
                  </a:lnTo>
                  <a:lnTo>
                    <a:pt x="287" y="438"/>
                  </a:lnTo>
                  <a:lnTo>
                    <a:pt x="0" y="879"/>
                  </a:lnTo>
                  <a:lnTo>
                    <a:pt x="771" y="879"/>
                  </a:lnTo>
                  <a:lnTo>
                    <a:pt x="1057" y="435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8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5256360" y="1981080"/>
              <a:ext cx="1677960" cy="13953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57" h="879">
                  <a:moveTo>
                    <a:pt x="763" y="0"/>
                  </a:moveTo>
                  <a:lnTo>
                    <a:pt x="0" y="0"/>
                  </a:lnTo>
                  <a:lnTo>
                    <a:pt x="287" y="438"/>
                  </a:lnTo>
                  <a:lnTo>
                    <a:pt x="0" y="879"/>
                  </a:lnTo>
                  <a:lnTo>
                    <a:pt x="771" y="879"/>
                  </a:lnTo>
                  <a:lnTo>
                    <a:pt x="1057" y="435"/>
                  </a:lnTo>
                  <a:lnTo>
                    <a:pt x="763" y="0"/>
                  </a:lnTo>
                </a:path>
              </a:pathLst>
            </a:custGeom>
            <a:solidFill>
              <a:srgbClr val="ed9f4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9"/>
          <p:cNvGrpSpPr/>
          <p:nvPr/>
        </p:nvGrpSpPr>
        <p:grpSpPr>
          <a:xfrm>
            <a:off x="2208240" y="1981080"/>
            <a:ext cx="1677960" cy="1397160"/>
            <a:chOff x="2208240" y="1981080"/>
            <a:chExt cx="1677960" cy="1397160"/>
          </a:xfrm>
        </p:grpSpPr>
        <p:sp>
          <p:nvSpPr>
            <p:cNvPr id="278" name="Freeform 8"/>
            <p:cNvSpPr/>
            <p:nvPr/>
          </p:nvSpPr>
          <p:spPr>
            <a:xfrm>
              <a:off x="2208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2208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37609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10"/>
          <p:cNvSpPr/>
          <p:nvPr/>
        </p:nvSpPr>
        <p:spPr>
          <a:xfrm>
            <a:off x="690480" y="2374920"/>
            <a:ext cx="139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988920" y="24382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ccess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2611440" y="2355840"/>
            <a:ext cx="107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2712960" y="2409840"/>
            <a:ext cx="97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ntify Candi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075360" y="251460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1079640" y="3387600"/>
            <a:ext cx="174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684360" y="3429000"/>
            <a:ext cx="137160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3 develops succession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leadership r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skills for success and create skill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cted future 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2800440" y="3373560"/>
            <a:ext cx="1647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284560" y="3429000"/>
            <a:ext cx="114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Cycle of Use outcomes to identify key L1 and L2 candid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6019920" y="3373560"/>
            <a:ext cx="219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5180040" y="3429000"/>
            <a:ext cx="1371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pilot candidates from existing role and begin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 L3 men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progress each trim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3"/>
          <p:cNvGrpSpPr/>
          <p:nvPr/>
        </p:nvGrpSpPr>
        <p:grpSpPr>
          <a:xfrm>
            <a:off x="3732120" y="1981080"/>
            <a:ext cx="1677960" cy="1397160"/>
            <a:chOff x="3732120" y="1981080"/>
            <a:chExt cx="1677960" cy="1397160"/>
          </a:xfrm>
        </p:grpSpPr>
        <p:sp>
          <p:nvSpPr>
            <p:cNvPr id="292" name="Freeform 22"/>
            <p:cNvSpPr/>
            <p:nvPr/>
          </p:nvSpPr>
          <p:spPr>
            <a:xfrm>
              <a:off x="373212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7e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373212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002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4"/>
          <p:cNvSpPr/>
          <p:nvPr/>
        </p:nvSpPr>
        <p:spPr>
          <a:xfrm>
            <a:off x="4295880" y="2433600"/>
            <a:ext cx="9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sess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6780240" y="1981080"/>
            <a:ext cx="1677960" cy="1397160"/>
            <a:chOff x="6780240" y="1981080"/>
            <a:chExt cx="1677960" cy="1397160"/>
          </a:xfrm>
        </p:grpSpPr>
        <p:sp>
          <p:nvSpPr>
            <p:cNvPr id="296" name="Freeform 26"/>
            <p:cNvSpPr/>
            <p:nvPr/>
          </p:nvSpPr>
          <p:spPr>
            <a:xfrm>
              <a:off x="6780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"/>
            <p:cNvSpPr/>
            <p:nvPr/>
          </p:nvSpPr>
          <p:spPr>
            <a:xfrm>
              <a:off x="6780240" y="1981080"/>
              <a:ext cx="1677960" cy="1397160"/>
            </a:xfrm>
            <a:custGeom>
              <a:avLst/>
              <a:gdLst>
                <a:gd name="textAreaLeft" fmla="*/ 0 w 1677960"/>
                <a:gd name="textAreaRight" fmla="*/ 1678320 w 167796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057" h="880">
                  <a:moveTo>
                    <a:pt x="762" y="0"/>
                  </a:moveTo>
                  <a:lnTo>
                    <a:pt x="0" y="0"/>
                  </a:lnTo>
                  <a:lnTo>
                    <a:pt x="286" y="438"/>
                  </a:lnTo>
                  <a:lnTo>
                    <a:pt x="0" y="880"/>
                  </a:lnTo>
                  <a:lnTo>
                    <a:pt x="771" y="880"/>
                  </a:lnTo>
                  <a:lnTo>
                    <a:pt x="1057" y="436"/>
                  </a:lnTo>
                  <a:lnTo>
                    <a:pt x="762" y="0"/>
                  </a:lnTo>
                </a:path>
              </a:pathLst>
            </a:custGeom>
            <a:solidFill>
              <a:srgbClr val="cf762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28"/>
          <p:cNvSpPr/>
          <p:nvPr/>
        </p:nvSpPr>
        <p:spPr>
          <a:xfrm>
            <a:off x="7389720" y="2438280"/>
            <a:ext cx="835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going R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3732120" y="342900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ess Candidates relative to skill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6780240" y="35053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rot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608040" y="1143000"/>
            <a:ext cx="7696080" cy="533520"/>
          </a:xfrm>
          <a:prstGeom prst="rect">
            <a:avLst/>
          </a:prstGeom>
          <a:solidFill>
            <a:srgbClr val="002d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 3 Leadership and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531720" y="5143680"/>
            <a:ext cx="7848720" cy="761760"/>
          </a:xfrm>
          <a:prstGeom prst="rect">
            <a:avLst/>
          </a:prstGeom>
          <a:solidFill>
            <a:srgbClr val="002d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 Resources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3"/>
          <p:cNvSpPr/>
          <p:nvPr/>
        </p:nvSpPr>
        <p:spPr>
          <a:xfrm>
            <a:off x="106524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4"/>
          <p:cNvSpPr/>
          <p:nvPr/>
        </p:nvSpPr>
        <p:spPr>
          <a:xfrm>
            <a:off x="2589120" y="4800600"/>
            <a:ext cx="60984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5"/>
          <p:cNvSpPr/>
          <p:nvPr/>
        </p:nvSpPr>
        <p:spPr>
          <a:xfrm>
            <a:off x="411336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5637240" y="4800600"/>
            <a:ext cx="60948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7161120" y="4800600"/>
            <a:ext cx="609840" cy="343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C7400-A8C6-4B03-9B44-74715061C4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01000" cy="40388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12600" y="1727280"/>
            <a:ext cx="203400" cy="39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2d46"/>
                </a:solidFill>
                <a:latin typeface="Arial (Headings)"/>
                <a:ea typeface="宋体"/>
              </a:rPr>
              <a:t>Leadership Development Skills Matrix – Example</a:t>
            </a:r>
            <a:endParaRPr b="1" lang="en-US" sz="26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609480" y="5257800"/>
            <a:ext cx="7848720" cy="6094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cf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sed on required skills for succession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C78FB-9EF6-43FB-9B80-1C1BD04A7A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492360" y="296532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038480" y="279396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d46"/>
                </a:solidFill>
                <a:latin typeface="Arial"/>
              </a:rPr>
              <a:t>High Performance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d46"/>
                </a:solidFill>
                <a:latin typeface="Arial"/>
              </a:rPr>
              <a:t>Case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meeting_manandwoman.jpg"/>
          <p:cNvPicPr/>
          <p:nvPr/>
        </p:nvPicPr>
        <p:blipFill>
          <a:blip r:embed="rId1"/>
          <a:stretch/>
        </p:blipFill>
        <p:spPr>
          <a:xfrm>
            <a:off x="457200" y="689040"/>
            <a:ext cx="3444840" cy="517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lient Case Study: Financial Servic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990360"/>
            <a:ext cx="5257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ees: 20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Footprint: 50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of Business: Treasury an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ie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cy: Growth by M &amp;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5 systems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confederation of st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anagement tied only to finan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y complex and non-standardize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CAF34-E983-4088-ACA9-8A3F25C2C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Currency2"/>
          <p:cNvPicPr/>
          <p:nvPr/>
        </p:nvPicPr>
        <p:blipFill>
          <a:blip r:embed="rId1"/>
          <a:stretch/>
        </p:blipFill>
        <p:spPr>
          <a:xfrm>
            <a:off x="6043680" y="1914480"/>
            <a:ext cx="2490840" cy="3114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B8FD5-1F7F-413D-9C5D-88B4923EB7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Journey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rcRect l="0" t="12417" r="0" b="0"/>
          <a:stretch/>
        </p:blipFill>
        <p:spPr>
          <a:xfrm>
            <a:off x="990720" y="1685880"/>
            <a:ext cx="7162560" cy="4300560"/>
          </a:xfrm>
          <a:prstGeom prst="rect">
            <a:avLst/>
          </a:prstGeom>
          <a:ln w="0">
            <a:noFill/>
          </a:ln>
        </p:spPr>
      </p:pic>
      <p:sp>
        <p:nvSpPr>
          <p:cNvPr id="328" name="Rounded Rectangle 6"/>
          <p:cNvSpPr/>
          <p:nvPr/>
        </p:nvSpPr>
        <p:spPr>
          <a:xfrm>
            <a:off x="914400" y="10666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838080" y="107640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Journey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"/>
          <p:cNvSpPr/>
          <p:nvPr/>
        </p:nvSpPr>
        <p:spPr>
          <a:xfrm>
            <a:off x="2438280" y="1066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2362320" y="12272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12"/>
          <p:cNvSpPr/>
          <p:nvPr/>
        </p:nvSpPr>
        <p:spPr>
          <a:xfrm>
            <a:off x="388620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3809880" y="12366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533412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5257800" y="123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st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6781680" y="10764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6705720" y="1236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Before Cultural Transformation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the need for cultura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 confederation of “sta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/ function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nsistent service delivery / High Performanc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d the Performance Culture acros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 / interviews – all levels &amp; geograp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and operating parameter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356FE-309A-48FB-B4B1-75B286211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914400" y="5029200"/>
            <a:ext cx="7405560" cy="6508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 levels participated in survey 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lp us better understand our opportun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General Assessment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performance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improvemen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and reward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071BC-4384-4FFC-A17B-2CD592A142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762120" y="4267080"/>
            <a:ext cx="7543800" cy="60984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rengths from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3880" y="5987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2d46"/>
                </a:solidFill>
                <a:latin typeface="Arial (Headings)"/>
                <a:ea typeface="宋体"/>
              </a:rPr>
              <a:t>Some Social / Cultural Assessment Outcomes</a:t>
            </a:r>
            <a:endParaRPr b="1" lang="en-US" sz="29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1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but inconsistent, messages across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emphasis on valuing employees / sustaining a positive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is not a cultural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theme of cynicism at larg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definition of values; inconsistent definition of tools/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6DCA8-5739-48F8-B1C5-283E9107F8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914400" y="4911840"/>
            <a:ext cx="7272360" cy="65088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negative work environment results in cy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havior and a lack of company pr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Some Operating Assessment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lignment of goals perceived as performanc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reviews skewed toward financi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front line resources not tapped to dr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ountability, follow-through driver of poo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 compensation not linked to individ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6532A-2872-4CCA-A5A7-14DFA885E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4944960"/>
            <a:ext cx="8372520" cy="77004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erational opportunities at the beginning of our jour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With You Today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1DAB7-DF8E-42C3-83F8-5BD6AAC82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800" y="1066680"/>
            <a:ext cx="6019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nt Jame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ice-President, Guidon Performance Solutions, L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5 years experience in application of Lean and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experience migrating Kaizen and Lean thinking from manufacturing to front and back offic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experience in retail, healthcare, financial services, information technology, and telecommun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JimDickey2072_lowres.jpg"/>
          <p:cNvPicPr/>
          <p:nvPr/>
        </p:nvPicPr>
        <p:blipFill>
          <a:blip r:embed="rId1"/>
          <a:stretch/>
        </p:blipFill>
        <p:spPr>
          <a:xfrm>
            <a:off x="762120" y="3429000"/>
            <a:ext cx="18288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15"/>
          <p:cNvSpPr/>
          <p:nvPr/>
        </p:nvSpPr>
        <p:spPr>
          <a:xfrm>
            <a:off x="2971800" y="3809880"/>
            <a:ext cx="5715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im Dic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ice-President, Guidon Performance Solutions, L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5 years experience in application of Lean and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founder of Guidon Performance Solutions – the pioneer in applying LeanSigm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non-industrial and non-traditional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experience in retail, healthcare, financial services, telecommunications and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oneered groundbreaking approach to managing capacity and staffing in highly complex, highly variable operating environ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BrentJameson2651_lowres.jpg"/>
          <p:cNvPicPr/>
          <p:nvPr/>
        </p:nvPicPr>
        <p:blipFill>
          <a:blip r:embed="rId2"/>
          <a:stretch/>
        </p:blipFill>
        <p:spPr>
          <a:xfrm>
            <a:off x="762120" y="83808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33ED8-A9E1-48D3-9DCA-15F5D37C8E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Year 3 Outcome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87120"/>
            <a:ext cx="45720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e Engagement Surve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mproved by 15%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ts under management gre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8% over the same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ystem Platforms reduc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6 from over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ed the need for over 1 million square feet of operations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associates remained flat at 2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office call center"/>
          <p:cNvPicPr/>
          <p:nvPr/>
        </p:nvPicPr>
        <p:blipFill>
          <a:blip r:embed="rId1"/>
          <a:stretch/>
        </p:blipFill>
        <p:spPr>
          <a:xfrm>
            <a:off x="5549760" y="1752480"/>
            <a:ext cx="2679840" cy="278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E0EF6-2543-44A8-B010-86D6948AA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lient Case Study: Business Results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084320" y="2048040"/>
            <a:ext cx="34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% Annualize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930320" y="1000080"/>
            <a:ext cx="42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2d46"/>
                </a:solidFill>
                <a:uFillTx/>
                <a:latin typeface="Arial"/>
              </a:rPr>
              <a:t>N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720800" y="3770280"/>
            <a:ext cx="45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2d46"/>
                </a:solidFill>
                <a:uFillTx/>
                <a:latin typeface="Arial"/>
              </a:rPr>
              <a:t>Net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192320" y="474516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% Annualize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380880" y="1916280"/>
            <a:ext cx="595440" cy="625320"/>
          </a:xfrm>
          <a:prstGeom prst="upArrow">
            <a:avLst>
              <a:gd name="adj1" fmla="val 50000"/>
              <a:gd name="adj2" fmla="val 26255"/>
            </a:avLst>
          </a:prstGeom>
          <a:solidFill>
            <a:srgbClr val="002d4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52520" y="4567320"/>
            <a:ext cx="595080" cy="625320"/>
          </a:xfrm>
          <a:prstGeom prst="upArrow">
            <a:avLst>
              <a:gd name="adj1" fmla="val 50000"/>
              <a:gd name="adj2" fmla="val 26270"/>
            </a:avLst>
          </a:prstGeom>
          <a:solidFill>
            <a:srgbClr val="002d4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4567320" y="1852560"/>
            <a:ext cx="1066680" cy="1066680"/>
          </a:xfrm>
          <a:prstGeom prst="ellipse">
            <a:avLst/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6678720" y="1143000"/>
            <a:ext cx="1838160" cy="1838160"/>
          </a:xfrm>
          <a:prstGeom prst="ellipse">
            <a:avLst/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8"/>
          <p:cNvSpPr/>
          <p:nvPr/>
        </p:nvSpPr>
        <p:spPr>
          <a:xfrm>
            <a:off x="4795920" y="22208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9"/>
          <p:cNvSpPr/>
          <p:nvPr/>
        </p:nvSpPr>
        <p:spPr>
          <a:xfrm>
            <a:off x="7254720" y="187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ight Arrow 20"/>
          <p:cNvSpPr/>
          <p:nvPr/>
        </p:nvSpPr>
        <p:spPr>
          <a:xfrm>
            <a:off x="5829480" y="1916280"/>
            <a:ext cx="642600" cy="97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1"/>
          <p:cNvSpPr/>
          <p:nvPr/>
        </p:nvSpPr>
        <p:spPr>
          <a:xfrm>
            <a:off x="4467240" y="31035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.6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2"/>
          <p:cNvSpPr/>
          <p:nvPr/>
        </p:nvSpPr>
        <p:spPr>
          <a:xfrm>
            <a:off x="7005600" y="31035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.4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3"/>
          <p:cNvSpPr/>
          <p:nvPr/>
        </p:nvSpPr>
        <p:spPr>
          <a:xfrm>
            <a:off x="4438800" y="4560840"/>
            <a:ext cx="1033200" cy="990720"/>
          </a:xfrm>
          <a:prstGeom prst="rect">
            <a:avLst/>
          </a:prstGeom>
          <a:solidFill>
            <a:srgbClr val="95b3d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4"/>
          <p:cNvSpPr/>
          <p:nvPr/>
        </p:nvSpPr>
        <p:spPr>
          <a:xfrm>
            <a:off x="4643280" y="4871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6737400" y="3857760"/>
            <a:ext cx="1779480" cy="1704960"/>
          </a:xfrm>
          <a:prstGeom prst="rect">
            <a:avLst/>
          </a:prstGeom>
          <a:solidFill>
            <a:srgbClr val="002d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ight Arrow 26"/>
          <p:cNvSpPr/>
          <p:nvPr/>
        </p:nvSpPr>
        <p:spPr>
          <a:xfrm>
            <a:off x="5829480" y="4589640"/>
            <a:ext cx="642600" cy="97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  <a:effectLst>
            <a:outerShdw dist="23040" dir="5400000" blurRad="0" rotWithShape="0">
              <a:srgbClr val="80808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7"/>
          <p:cNvSpPr/>
          <p:nvPr/>
        </p:nvSpPr>
        <p:spPr>
          <a:xfrm>
            <a:off x="7257960" y="4560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8"/>
          <p:cNvSpPr/>
          <p:nvPr/>
        </p:nvSpPr>
        <p:spPr>
          <a:xfrm>
            <a:off x="4365720" y="5638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5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9"/>
          <p:cNvSpPr/>
          <p:nvPr/>
        </p:nvSpPr>
        <p:spPr>
          <a:xfrm>
            <a:off x="6700680" y="56498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And Finally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20" y="2057040"/>
            <a:ext cx="526248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day you may make progress.  Every step may be fruitful.  Yet there will stretch out before you an ever-lengthening, ever-ascending, ever-improving path.  You know you will never get to the end of the journey.  But this, so far from discouraging, only adds to the joy and glory of the climb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Winston Churchill on Persever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Churchill-in-quebec-1944-23-0201a.gif"/>
          <p:cNvPicPr/>
          <p:nvPr/>
        </p:nvPicPr>
        <p:blipFill>
          <a:blip r:embed="rId1"/>
          <a:stretch/>
        </p:blipFill>
        <p:spPr>
          <a:xfrm>
            <a:off x="5638680" y="1676520"/>
            <a:ext cx="2819520" cy="355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  <p:sp>
        <p:nvSpPr>
          <p:cNvPr id="390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0F106-934B-4D9F-AE86-13493B7EA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Questions?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1955880" y="6669000"/>
            <a:ext cx="600552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© 2008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C1BCE-DACD-479B-88D2-FFD2DCC286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5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Content Placeholder 8" descr="1009933_45151285.jpg"/>
          <p:cNvPicPr/>
          <p:nvPr/>
        </p:nvPicPr>
        <p:blipFill>
          <a:blip r:embed="rId1"/>
          <a:srcRect l="-36538" t="0" r="-36538" b="0"/>
          <a:stretch/>
        </p:blipFill>
        <p:spPr>
          <a:xfrm>
            <a:off x="457200" y="13716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68F69-219C-4F1C-A57A-1F28C98C50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2343240"/>
            <a:ext cx="79250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·tu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ttitudes, values, goals and practices that characterizes a company or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Webster’s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D8FA1-DFDA-426B-A102-0339B3A0C5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What Is Corporat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is represented in the norms and unwritten rules that guide employe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ultures are shaped by a variety of influ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th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gerprints of the company founders, current leaders and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“happe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4648320"/>
            <a:ext cx="7924680" cy="761760"/>
          </a:xfrm>
          <a:prstGeom prst="roundRect">
            <a:avLst>
              <a:gd name="adj" fmla="val 16667"/>
            </a:avLst>
          </a:prstGeom>
          <a:solidFill>
            <a:srgbClr val="cf7622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an accept the hand you have been dealt or you can take action to chang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219320" y="61898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he Power of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6680" y="1155240"/>
            <a:ext cx="40813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ulture can have a significant impact on a firm's long-term economic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ultures inhibiting strong performance are not rare; they develop easily, even in firms full of reasonable and intelligent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ough to change, corporate cultures can be made more performance-enh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258C-AEC0-4D40-A450-3C3A19E3C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28600" y="228600"/>
            <a:ext cx="875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4920" y="1219320"/>
            <a:ext cx="82677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457200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otter and James Hesket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rporate Culture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752px-TourDeFrance_2005_07_09"/>
          <p:cNvPicPr/>
          <p:nvPr/>
        </p:nvPicPr>
        <p:blipFill>
          <a:blip r:embed="rId1"/>
          <a:stretch/>
        </p:blipFill>
        <p:spPr>
          <a:xfrm>
            <a:off x="5105520" y="1371600"/>
            <a:ext cx="3657600" cy="3100320"/>
          </a:xfrm>
          <a:prstGeom prst="rect">
            <a:avLst/>
          </a:prstGeom>
          <a:ln w="0">
            <a:noFill/>
          </a:ln>
        </p:spPr>
      </p:pic>
      <p:sp>
        <p:nvSpPr>
          <p:cNvPr id="158" name="Down Arrow 10"/>
          <p:cNvSpPr/>
          <p:nvPr/>
        </p:nvSpPr>
        <p:spPr>
          <a:xfrm>
            <a:off x="1066680" y="2286000"/>
            <a:ext cx="236232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11"/>
          <p:cNvSpPr/>
          <p:nvPr/>
        </p:nvSpPr>
        <p:spPr>
          <a:xfrm>
            <a:off x="1066680" y="4495680"/>
            <a:ext cx="23623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f7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25C0C-5812-4883-AE61-FC7AD51A60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Creating a High Performance Culture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42670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lture of a company is the behavior of its leaders.  Leaders get the behavior they exhibit and tolerate.  You change the culture of a company by changing the behavior of its leade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800600" y="527544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rry Boss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rmer CEO, Honey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10"/>
          <p:cNvSpPr/>
          <p:nvPr/>
        </p:nvSpPr>
        <p:spPr>
          <a:xfrm>
            <a:off x="533520" y="1284120"/>
            <a:ext cx="8153280" cy="1839960"/>
          </a:xfrm>
          <a:prstGeom prst="roundRect">
            <a:avLst>
              <a:gd name="adj" fmla="val 16667"/>
            </a:avLst>
          </a:prstGeom>
          <a:solidFill>
            <a:srgbClr val="002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09480" y="18176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of shared beliefs, values, attitudes, goals and actions at all levels focused on superior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43000" y="1284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f7622"/>
                </a:solidFill>
                <a:latin typeface="Arial"/>
              </a:rPr>
              <a:t>High Performanc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8"/>
          <p:cNvSpPr/>
          <p:nvPr/>
        </p:nvSpPr>
        <p:spPr>
          <a:xfrm>
            <a:off x="1752480" y="3409920"/>
            <a:ext cx="5639040" cy="704880"/>
          </a:xfrm>
          <a:prstGeom prst="downArrow">
            <a:avLst>
              <a:gd name="adj1" fmla="val 50000"/>
              <a:gd name="adj2" fmla="val 48481"/>
            </a:avLst>
          </a:prstGeom>
          <a:solidFill>
            <a:srgbClr val="cf7622"/>
          </a:solidFill>
          <a:ln w="25560">
            <a:solidFill>
              <a:srgbClr val="cf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 (Headings)"/>
                <a:ea typeface="宋体"/>
              </a:rPr>
              <a:t>Transformation Will Require a Change In Thinking…</a:t>
            </a:r>
            <a:endParaRPr b="1" lang="en-US" sz="3200" spc="-1" strike="noStrike">
              <a:solidFill>
                <a:srgbClr val="002d46"/>
              </a:solidFill>
              <a:latin typeface="Arial (Headings)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2176560"/>
            <a:ext cx="7467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are very open minded about new things. As long as they are exactly like the old on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67160" y="3203640"/>
            <a:ext cx="19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Charles Ke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R2D2"/>
          <p:cNvPicPr/>
          <p:nvPr/>
        </p:nvPicPr>
        <p:blipFill>
          <a:blip r:embed="rId1"/>
          <a:stretch/>
        </p:blipFill>
        <p:spPr>
          <a:xfrm>
            <a:off x="528480" y="399096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R2D2"/>
          <p:cNvPicPr/>
          <p:nvPr/>
        </p:nvPicPr>
        <p:blipFill>
          <a:blip r:embed="rId2"/>
          <a:stretch/>
        </p:blipFill>
        <p:spPr>
          <a:xfrm>
            <a:off x="1724040" y="402444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R2D2"/>
          <p:cNvPicPr/>
          <p:nvPr/>
        </p:nvPicPr>
        <p:blipFill>
          <a:blip r:embed="rId3"/>
          <a:stretch/>
        </p:blipFill>
        <p:spPr>
          <a:xfrm>
            <a:off x="2830680" y="3987720"/>
            <a:ext cx="1130040" cy="16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R2D2"/>
          <p:cNvPicPr/>
          <p:nvPr/>
        </p:nvPicPr>
        <p:blipFill>
          <a:blip r:embed="rId4"/>
          <a:stretch/>
        </p:blipFill>
        <p:spPr>
          <a:xfrm>
            <a:off x="3978360" y="4002120"/>
            <a:ext cx="1130040" cy="166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R2D2"/>
          <p:cNvPicPr/>
          <p:nvPr/>
        </p:nvPicPr>
        <p:blipFill>
          <a:blip r:embed="rId5"/>
          <a:stretch/>
        </p:blipFill>
        <p:spPr>
          <a:xfrm>
            <a:off x="5133960" y="397512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R2D2"/>
          <p:cNvPicPr/>
          <p:nvPr/>
        </p:nvPicPr>
        <p:blipFill>
          <a:blip r:embed="rId6"/>
          <a:stretch/>
        </p:blipFill>
        <p:spPr>
          <a:xfrm>
            <a:off x="6270480" y="3962520"/>
            <a:ext cx="1130400" cy="166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R2D2"/>
          <p:cNvPicPr/>
          <p:nvPr/>
        </p:nvPicPr>
        <p:blipFill>
          <a:blip r:embed="rId7"/>
          <a:stretch/>
        </p:blipFill>
        <p:spPr>
          <a:xfrm>
            <a:off x="7404120" y="3975120"/>
            <a:ext cx="1130400" cy="166356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11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A8A87-885B-4342-9BFF-8A6C2B122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2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1"/>
          <p:cNvSpPr/>
          <p:nvPr/>
        </p:nvSpPr>
        <p:spPr>
          <a:xfrm>
            <a:off x="1676520" y="649296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9 Guidon Performance Solutions, LLC.  All rights reserved. Guidon Performance Solutions is a licensee of LeanSigma®, a service mark of TBM Consulting Group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7772400" y="617220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8B0ED-15DC-4A9C-8D93-440D08031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80880" y="2838600"/>
            <a:ext cx="655344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fundamental forces that drive GE…a common operating system and common social architectur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 Wel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 1999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200px-Jack-welch"/>
          <p:cNvPicPr/>
          <p:nvPr/>
        </p:nvPicPr>
        <p:blipFill>
          <a:blip r:embed="rId1"/>
          <a:stretch/>
        </p:blipFill>
        <p:spPr>
          <a:xfrm>
            <a:off x="6934320" y="1619280"/>
            <a:ext cx="1673280" cy="2133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1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10:14Z</dcterms:created>
  <dc:creator>ppt宝藏</dc:creator>
  <dc:description/>
  <dc:language>en-US</dc:language>
  <cp:lastModifiedBy>a</cp:lastModifiedBy>
  <cp:lastPrinted>2009-07-28T16:42:27Z</cp:lastPrinted>
  <dcterms:modified xsi:type="dcterms:W3CDTF">2015-07-25T02:54:42Z</dcterms:modified>
  <cp:revision>13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