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C9E-FA79-4CB1-A6B3-AAA7C9CA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A34-1D27-42FA-BECB-54345AF8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495-F842-423F-A339-B68D7124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4CAA-7BC8-476F-BAED-6AE2DAAE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3DA-2451-4B26-8746-918412F7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0CD-A6E4-4566-99C0-A2CB3A83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5CC-BF22-40B8-BB77-6F75B800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B7A-BDAA-4100-A4DF-913857DC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BED-B627-479D-8C5E-E7D4A1A2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9E4-0377-4138-BBBE-E0061AD0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E59-8D7C-4BEE-8F5E-D7203530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15C-59E1-425F-9BF1-328A1301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7348-D3EB-4685-A40F-5A98FCAD39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58760" y="1890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漂亮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929720" y="928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19976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5212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15688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072280" y="1214280"/>
            <a:ext cx="8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3143160" y="2500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425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55695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072280" y="1500120"/>
            <a:ext cx="8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1926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2283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640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001000" y="1000080"/>
            <a:ext cx="85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640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7120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2118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2118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143920" y="1000080"/>
            <a:ext cx="8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214280" y="4929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51408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4977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62864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 flipH="1">
            <a:off x="8357400" y="928800"/>
            <a:ext cx="18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33548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49978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34261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12117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DB9-BD75-42FA-B294-372A8E374F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47:00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