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983-AB61-45DC-A1F3-74B9EF6A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636-80D6-4C38-933C-826F31BF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E91-7CDA-4D66-B997-01C978EC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C02-CE15-4441-857F-8C36ECEC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26C-A701-4AF2-9649-32F31F62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706-43C5-4ECB-9CE3-B251BED2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6C8-AC9C-44DB-BE8F-CC40623C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9AE-A360-4B69-9422-4B9DFC1F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3AF-8805-4DE7-A334-90F39DFA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A3F-230B-4910-AAF1-353869C4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6DA-F1E2-49FD-81DF-3CB208F9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5BC-FA06-4007-9584-5E3A27A4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D945-2DEC-4E93-BE2A-787926322B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2861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14800" y="49291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92560" y="189000"/>
            <a:ext cx="281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背景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929720" y="9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997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212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15688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072280" y="1214280"/>
            <a:ext cx="8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314316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425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5569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072280" y="1500120"/>
            <a:ext cx="8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926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2283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001000" y="1000080"/>
            <a:ext cx="8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640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7120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211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2118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143920" y="1000080"/>
            <a:ext cx="8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214280" y="4929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1408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497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5C8-9FC8-4D81-BE0E-EC3FD5A27E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 flipH="1">
            <a:off x="8357400" y="928800"/>
            <a:ext cx="18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33548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997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426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1211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20T07:44:10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