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hdphoto1.wdp" ContentType="image/vnd.ms-photo"/>
  <Override PartName="/ppt/media/image16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8.jpeg" ContentType="image/jpeg"/>
  <Override PartName="/ppt/media/image14.png" ContentType="image/png"/>
  <Override PartName="/ppt/media/hdphoto2.wdp" ContentType="image/vnd.ms-photo"/>
  <Override PartName="/ppt/media/image17.png" ContentType="image/pn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00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  <a:r>
              <a:rPr b="0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此单击添加图表标题</a:t>
            </a:r>
          </a:p>
        </c:rich>
      </c:tx>
      <c:layout>
        <c:manualLayout>
          <c:xMode val="edge"/>
          <c:yMode val="edge"/>
          <c:x val="0.367701153530231"/>
          <c:y val="0.0665072810258639"/>
        </c:manualLayout>
      </c:layout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车型1</c:v>
                </c:pt>
              </c:strCache>
            </c:strRef>
          </c:tx>
          <c:spPr>
            <a:blipFill rotWithShape="0">
              <a:blip r:embed="rId1">
                <a:alphaModFix amt="89000"/>
              </a:blip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011年</c:v>
                </c:pt>
                <c:pt idx="1">
                  <c:v>2012年</c:v>
                </c:pt>
                <c:pt idx="2">
                  <c:v>2013年</c:v>
                </c:pt>
                <c:pt idx="3">
                  <c:v>2014年</c:v>
                </c:pt>
                <c:pt idx="4">
                  <c:v>2015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.1</c:v>
                </c:pt>
                <c:pt idx="1">
                  <c:v>2.5</c:v>
                </c:pt>
                <c:pt idx="2">
                  <c:v>2.9</c:v>
                </c:pt>
                <c:pt idx="3">
                  <c:v>3.8</c:v>
                </c:pt>
                <c:pt idx="4">
                  <c:v>5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车型2</c:v>
                </c:pt>
              </c:strCache>
            </c:strRef>
          </c:tx>
          <c:spPr>
            <a:blipFill rotWithShape="0">
              <a:blip r:embed="rId2"/>
              <a:tile tx="0" ty="0" sx="100000" sy="100000" algn="tl"/>
            </a:blip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2011年</c:v>
                </c:pt>
                <c:pt idx="1">
                  <c:v>2012年</c:v>
                </c:pt>
                <c:pt idx="2">
                  <c:v>2013年</c:v>
                </c:pt>
                <c:pt idx="3">
                  <c:v>2014年</c:v>
                </c:pt>
                <c:pt idx="4">
                  <c:v>2015年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2.7</c:v>
                </c:pt>
                <c:pt idx="1">
                  <c:v>3</c:v>
                </c:pt>
                <c:pt idx="2">
                  <c:v>4</c:v>
                </c:pt>
                <c:pt idx="3">
                  <c:v>4.38</c:v>
                </c:pt>
                <c:pt idx="4">
                  <c:v>6.1</c:v>
                </c:pt>
              </c:numCache>
            </c:numRef>
          </c:val>
        </c:ser>
        <c:gapWidth val="160"/>
        <c:overlap val="-27"/>
        <c:axId val="21959029"/>
        <c:axId val="78186021"/>
      </c:barChart>
      <c:catAx>
        <c:axId val="2195902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595959"/>
                </a:solidFill>
                <a:latin typeface="微软雅黑"/>
              </a:defRPr>
            </a:pPr>
          </a:p>
        </c:txPr>
        <c:crossAx val="78186021"/>
        <c:crosses val="autoZero"/>
        <c:auto val="1"/>
        <c:lblAlgn val="ctr"/>
        <c:lblOffset val="100"/>
        <c:noMultiLvlLbl val="0"/>
      </c:catAx>
      <c:valAx>
        <c:axId val="7818602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959029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360670071532337"/>
          <c:y val="0.903669540600545"/>
          <c:w val="0.271100590884796"/>
          <c:h val="0.080057267966073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AEC-C3B4-4839-ACAE-F8364652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04F-5855-4F12-B451-84652DAA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CA6-F821-4047-A73C-FF0845E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1EE-AF5F-4F87-B47A-B9A48799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0A6-C85B-4DBC-B07C-F2DA710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C68-60A5-4C5C-A342-59931129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26F-A0BE-403C-A4FB-79CBAD3D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BC7-C22D-4DDE-A919-909353B5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699-6D89-4006-9DAA-53B7E58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304-79C8-47C8-BC37-F60958D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8C2-9684-4147-9A7B-AFEBDFC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F83-5566-40D4-A15F-63FB11C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c4c4">
                <a:alpha val="63137"/>
              </a:srgbClr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68FE95-FDC2-424E-8019-E919B1741B1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microsoft.com/office/2007/relationships/hdphoto" Target="../media/hdphoto2.wdp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0" t="4748" r="0" b="11608"/>
          <a:stretch/>
        </p:blipFill>
        <p:spPr>
          <a:xfrm>
            <a:off x="0" y="-43560"/>
            <a:ext cx="12242160" cy="690120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99"/>
          <p:cNvSpPr/>
          <p:nvPr/>
        </p:nvSpPr>
        <p:spPr>
          <a:xfrm>
            <a:off x="5072400" y="-43560"/>
            <a:ext cx="7169760" cy="6901200"/>
          </a:xfrm>
          <a:custGeom>
            <a:avLst/>
            <a:gdLst>
              <a:gd name="textAreaLeft" fmla="*/ 0 w 7169760"/>
              <a:gd name="textAreaRight" fmla="*/ 7170120 w 7169760"/>
              <a:gd name="textAreaTop" fmla="*/ 0 h 6901200"/>
              <a:gd name="textAreaBottom" fmla="*/ 6901560 h 6901200"/>
            </a:gdLst>
            <a:ahLst/>
            <a:rect l="textAreaLeft" t="textAreaTop" r="textAreaRight" b="textAreaBottom"/>
            <a:pathLst>
              <a:path w="7170059" h="6901543">
                <a:moveTo>
                  <a:pt x="1725386" y="0"/>
                </a:moveTo>
                <a:lnTo>
                  <a:pt x="7170059" y="0"/>
                </a:lnTo>
                <a:lnTo>
                  <a:pt x="7170059" y="6901543"/>
                </a:lnTo>
                <a:lnTo>
                  <a:pt x="0" y="6901543"/>
                </a:lnTo>
                <a:close/>
              </a:path>
            </a:pathLst>
          </a:custGeom>
          <a:solidFill>
            <a:schemeClr val="tx1">
              <a:lumMod val="95000"/>
              <a:lumOff val="5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文本框 8"/>
          <p:cNvSpPr/>
          <p:nvPr/>
        </p:nvSpPr>
        <p:spPr>
          <a:xfrm>
            <a:off x="759960" y="3979800"/>
            <a:ext cx="10764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行业产品宣传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05"/>
          <p:cNvSpPr/>
          <p:nvPr/>
        </p:nvSpPr>
        <p:spPr>
          <a:xfrm>
            <a:off x="5993280" y="494856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单击添加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7845120" y="1542960"/>
            <a:ext cx="1678680" cy="1678680"/>
          </a:xfrm>
          <a:custGeom>
            <a:avLst/>
            <a:gdLst>
              <a:gd name="textAreaLeft" fmla="*/ 0 w 1678680"/>
              <a:gd name="textAreaRight" fmla="*/ 1679040 w 1678680"/>
              <a:gd name="textAreaTop" fmla="*/ 0 h 1678680"/>
              <a:gd name="textAreaBottom" fmla="*/ 1679040 h 1678680"/>
            </a:gdLst>
            <a:ahLst/>
            <a:rect l="textAreaLeft" t="textAreaTop" r="textAreaRight" b="textAreaBottom"/>
            <a:pathLst>
              <a:path w="1184" h="1184">
                <a:moveTo>
                  <a:pt x="639" y="515"/>
                </a:moveTo>
                <a:cubicBezTo>
                  <a:pt x="914" y="271"/>
                  <a:pt x="914" y="271"/>
                  <a:pt x="914" y="271"/>
                </a:cubicBezTo>
                <a:cubicBezTo>
                  <a:pt x="671" y="548"/>
                  <a:pt x="671" y="548"/>
                  <a:pt x="671" y="548"/>
                </a:cubicBezTo>
                <a:cubicBezTo>
                  <a:pt x="679" y="561"/>
                  <a:pt x="683" y="576"/>
                  <a:pt x="683" y="592"/>
                </a:cubicBezTo>
                <a:cubicBezTo>
                  <a:pt x="683" y="643"/>
                  <a:pt x="642" y="683"/>
                  <a:pt x="592" y="683"/>
                </a:cubicBezTo>
                <a:cubicBezTo>
                  <a:pt x="542" y="683"/>
                  <a:pt x="501" y="643"/>
                  <a:pt x="501" y="592"/>
                </a:cubicBezTo>
                <a:cubicBezTo>
                  <a:pt x="501" y="542"/>
                  <a:pt x="542" y="502"/>
                  <a:pt x="592" y="502"/>
                </a:cubicBezTo>
                <a:cubicBezTo>
                  <a:pt x="610" y="502"/>
                  <a:pt x="625" y="507"/>
                  <a:pt x="639" y="515"/>
                </a:cubicBezTo>
                <a:close/>
                <a:moveTo>
                  <a:pt x="1184" y="592"/>
                </a:moveTo>
                <a:cubicBezTo>
                  <a:pt x="1184" y="919"/>
                  <a:pt x="919" y="1184"/>
                  <a:pt x="592" y="1184"/>
                </a:cubicBezTo>
                <a:cubicBezTo>
                  <a:pt x="266" y="1184"/>
                  <a:pt x="0" y="919"/>
                  <a:pt x="0" y="592"/>
                </a:cubicBezTo>
                <a:cubicBezTo>
                  <a:pt x="0" y="266"/>
                  <a:pt x="266" y="0"/>
                  <a:pt x="592" y="0"/>
                </a:cubicBezTo>
                <a:cubicBezTo>
                  <a:pt x="919" y="0"/>
                  <a:pt x="1184" y="266"/>
                  <a:pt x="1184" y="592"/>
                </a:cubicBezTo>
                <a:close/>
                <a:moveTo>
                  <a:pt x="1055" y="793"/>
                </a:moveTo>
                <a:cubicBezTo>
                  <a:pt x="980" y="763"/>
                  <a:pt x="980" y="763"/>
                  <a:pt x="980" y="763"/>
                </a:cubicBezTo>
                <a:cubicBezTo>
                  <a:pt x="989" y="742"/>
                  <a:pt x="989" y="742"/>
                  <a:pt x="989" y="742"/>
                </a:cubicBezTo>
                <a:cubicBezTo>
                  <a:pt x="1063" y="772"/>
                  <a:pt x="1063" y="772"/>
                  <a:pt x="1063" y="772"/>
                </a:cubicBezTo>
                <a:cubicBezTo>
                  <a:pt x="1082" y="723"/>
                  <a:pt x="1093" y="670"/>
                  <a:pt x="1095" y="616"/>
                </a:cubicBezTo>
                <a:cubicBezTo>
                  <a:pt x="1016" y="616"/>
                  <a:pt x="1016" y="616"/>
                  <a:pt x="1016" y="616"/>
                </a:cubicBezTo>
                <a:cubicBezTo>
                  <a:pt x="1016" y="569"/>
                  <a:pt x="1016" y="569"/>
                  <a:pt x="1016" y="569"/>
                </a:cubicBezTo>
                <a:cubicBezTo>
                  <a:pt x="1095" y="569"/>
                  <a:pt x="1095" y="569"/>
                  <a:pt x="1095" y="569"/>
                </a:cubicBezTo>
                <a:cubicBezTo>
                  <a:pt x="1093" y="512"/>
                  <a:pt x="1081" y="458"/>
                  <a:pt x="1061" y="408"/>
                </a:cubicBezTo>
                <a:cubicBezTo>
                  <a:pt x="987" y="439"/>
                  <a:pt x="987" y="439"/>
                  <a:pt x="987" y="439"/>
                </a:cubicBezTo>
                <a:cubicBezTo>
                  <a:pt x="978" y="417"/>
                  <a:pt x="978" y="417"/>
                  <a:pt x="978" y="417"/>
                </a:cubicBezTo>
                <a:cubicBezTo>
                  <a:pt x="1052" y="386"/>
                  <a:pt x="1052" y="386"/>
                  <a:pt x="1052" y="386"/>
                </a:cubicBezTo>
                <a:cubicBezTo>
                  <a:pt x="1001" y="272"/>
                  <a:pt x="908" y="180"/>
                  <a:pt x="793" y="130"/>
                </a:cubicBezTo>
                <a:cubicBezTo>
                  <a:pt x="763" y="204"/>
                  <a:pt x="763" y="204"/>
                  <a:pt x="763" y="204"/>
                </a:cubicBezTo>
                <a:cubicBezTo>
                  <a:pt x="741" y="196"/>
                  <a:pt x="741" y="196"/>
                  <a:pt x="741" y="196"/>
                </a:cubicBezTo>
                <a:cubicBezTo>
                  <a:pt x="772" y="122"/>
                  <a:pt x="772" y="122"/>
                  <a:pt x="772" y="122"/>
                </a:cubicBezTo>
                <a:cubicBezTo>
                  <a:pt x="723" y="103"/>
                  <a:pt x="670" y="92"/>
                  <a:pt x="615" y="89"/>
                </a:cubicBezTo>
                <a:cubicBezTo>
                  <a:pt x="615" y="169"/>
                  <a:pt x="615" y="169"/>
                  <a:pt x="615" y="169"/>
                </a:cubicBezTo>
                <a:cubicBezTo>
                  <a:pt x="569" y="169"/>
                  <a:pt x="569" y="169"/>
                  <a:pt x="569" y="169"/>
                </a:cubicBezTo>
                <a:cubicBezTo>
                  <a:pt x="569" y="89"/>
                  <a:pt x="569" y="89"/>
                  <a:pt x="569" y="89"/>
                </a:cubicBezTo>
                <a:cubicBezTo>
                  <a:pt x="512" y="92"/>
                  <a:pt x="458" y="104"/>
                  <a:pt x="407" y="124"/>
                </a:cubicBezTo>
                <a:cubicBezTo>
                  <a:pt x="439" y="198"/>
                  <a:pt x="439" y="198"/>
                  <a:pt x="439" y="198"/>
                </a:cubicBezTo>
                <a:cubicBezTo>
                  <a:pt x="417" y="207"/>
                  <a:pt x="417" y="207"/>
                  <a:pt x="417" y="207"/>
                </a:cubicBezTo>
                <a:cubicBezTo>
                  <a:pt x="386" y="133"/>
                  <a:pt x="386" y="133"/>
                  <a:pt x="386" y="133"/>
                </a:cubicBezTo>
                <a:cubicBezTo>
                  <a:pt x="337" y="155"/>
                  <a:pt x="292" y="185"/>
                  <a:pt x="253" y="220"/>
                </a:cubicBezTo>
                <a:cubicBezTo>
                  <a:pt x="309" y="277"/>
                  <a:pt x="309" y="277"/>
                  <a:pt x="309" y="277"/>
                </a:cubicBezTo>
                <a:cubicBezTo>
                  <a:pt x="276" y="309"/>
                  <a:pt x="276" y="309"/>
                  <a:pt x="276" y="309"/>
                </a:cubicBezTo>
                <a:cubicBezTo>
                  <a:pt x="220" y="253"/>
                  <a:pt x="220" y="253"/>
                  <a:pt x="220" y="253"/>
                </a:cubicBezTo>
                <a:cubicBezTo>
                  <a:pt x="183" y="294"/>
                  <a:pt x="152" y="340"/>
                  <a:pt x="130" y="392"/>
                </a:cubicBezTo>
                <a:cubicBezTo>
                  <a:pt x="204" y="422"/>
                  <a:pt x="204" y="422"/>
                  <a:pt x="204" y="422"/>
                </a:cubicBezTo>
                <a:cubicBezTo>
                  <a:pt x="196" y="443"/>
                  <a:pt x="196" y="443"/>
                  <a:pt x="196" y="443"/>
                </a:cubicBezTo>
                <a:cubicBezTo>
                  <a:pt x="121" y="413"/>
                  <a:pt x="121" y="413"/>
                  <a:pt x="121" y="413"/>
                </a:cubicBezTo>
                <a:cubicBezTo>
                  <a:pt x="103" y="462"/>
                  <a:pt x="92" y="515"/>
                  <a:pt x="89" y="569"/>
                </a:cubicBezTo>
                <a:cubicBezTo>
                  <a:pt x="169" y="569"/>
                  <a:pt x="169" y="569"/>
                  <a:pt x="169" y="569"/>
                </a:cubicBezTo>
                <a:cubicBezTo>
                  <a:pt x="169" y="616"/>
                  <a:pt x="169" y="616"/>
                  <a:pt x="169" y="616"/>
                </a:cubicBezTo>
                <a:cubicBezTo>
                  <a:pt x="89" y="616"/>
                  <a:pt x="89" y="616"/>
                  <a:pt x="89" y="616"/>
                </a:cubicBezTo>
                <a:cubicBezTo>
                  <a:pt x="92" y="673"/>
                  <a:pt x="104" y="727"/>
                  <a:pt x="124" y="777"/>
                </a:cubicBezTo>
                <a:cubicBezTo>
                  <a:pt x="197" y="746"/>
                  <a:pt x="197" y="746"/>
                  <a:pt x="197" y="746"/>
                </a:cubicBezTo>
                <a:cubicBezTo>
                  <a:pt x="206" y="768"/>
                  <a:pt x="206" y="768"/>
                  <a:pt x="206" y="768"/>
                </a:cubicBezTo>
                <a:cubicBezTo>
                  <a:pt x="133" y="799"/>
                  <a:pt x="133" y="799"/>
                  <a:pt x="133" y="799"/>
                </a:cubicBezTo>
                <a:cubicBezTo>
                  <a:pt x="155" y="848"/>
                  <a:pt x="184" y="892"/>
                  <a:pt x="220" y="932"/>
                </a:cubicBezTo>
                <a:cubicBezTo>
                  <a:pt x="276" y="876"/>
                  <a:pt x="276" y="876"/>
                  <a:pt x="276" y="876"/>
                </a:cubicBezTo>
                <a:cubicBezTo>
                  <a:pt x="309" y="908"/>
                  <a:pt x="309" y="908"/>
                  <a:pt x="309" y="908"/>
                </a:cubicBezTo>
                <a:cubicBezTo>
                  <a:pt x="253" y="964"/>
                  <a:pt x="253" y="964"/>
                  <a:pt x="253" y="964"/>
                </a:cubicBezTo>
                <a:cubicBezTo>
                  <a:pt x="343" y="1046"/>
                  <a:pt x="462" y="1097"/>
                  <a:pt x="592" y="1097"/>
                </a:cubicBezTo>
                <a:cubicBezTo>
                  <a:pt x="723" y="1097"/>
                  <a:pt x="842" y="1046"/>
                  <a:pt x="932" y="964"/>
                </a:cubicBezTo>
                <a:cubicBezTo>
                  <a:pt x="875" y="908"/>
                  <a:pt x="875" y="908"/>
                  <a:pt x="875" y="908"/>
                </a:cubicBezTo>
                <a:cubicBezTo>
                  <a:pt x="908" y="876"/>
                  <a:pt x="908" y="876"/>
                  <a:pt x="908" y="876"/>
                </a:cubicBezTo>
                <a:cubicBezTo>
                  <a:pt x="964" y="932"/>
                  <a:pt x="964" y="932"/>
                  <a:pt x="964" y="932"/>
                </a:cubicBezTo>
                <a:cubicBezTo>
                  <a:pt x="1002" y="891"/>
                  <a:pt x="1032" y="844"/>
                  <a:pt x="1055" y="793"/>
                </a:cubicBezTo>
                <a:close/>
                <a:moveTo>
                  <a:pt x="425" y="909"/>
                </a:moveTo>
                <a:cubicBezTo>
                  <a:pt x="760" y="909"/>
                  <a:pt x="760" y="909"/>
                  <a:pt x="760" y="909"/>
                </a:cubicBezTo>
                <a:cubicBezTo>
                  <a:pt x="760" y="843"/>
                  <a:pt x="760" y="843"/>
                  <a:pt x="760" y="843"/>
                </a:cubicBezTo>
                <a:cubicBezTo>
                  <a:pt x="425" y="843"/>
                  <a:pt x="425" y="843"/>
                  <a:pt x="425" y="843"/>
                </a:cubicBezTo>
                <a:lnTo>
                  <a:pt x="425" y="909"/>
                </a:lnTo>
                <a:close/>
              </a:path>
            </a:pathLst>
          </a:custGeom>
          <a:solidFill>
            <a:schemeClr val="bg1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205"/>
          <p:cNvSpPr/>
          <p:nvPr/>
        </p:nvSpPr>
        <p:spPr>
          <a:xfrm>
            <a:off x="4905360" y="-43560"/>
            <a:ext cx="7169760" cy="6901200"/>
          </a:xfrm>
          <a:custGeom>
            <a:avLst/>
            <a:gdLst>
              <a:gd name="textAreaLeft" fmla="*/ 0 w 7169760"/>
              <a:gd name="textAreaRight" fmla="*/ 7170120 w 7169760"/>
              <a:gd name="textAreaTop" fmla="*/ 0 h 6901200"/>
              <a:gd name="textAreaBottom" fmla="*/ 6901560 h 6901200"/>
            </a:gdLst>
            <a:ahLst/>
            <a:rect l="textAreaLeft" t="textAreaTop" r="textAreaRight" b="textAreaBottom"/>
            <a:pathLst>
              <a:path w="7170059" h="6901543">
                <a:moveTo>
                  <a:pt x="1725386" y="0"/>
                </a:moveTo>
                <a:lnTo>
                  <a:pt x="1839397" y="0"/>
                </a:lnTo>
                <a:lnTo>
                  <a:pt x="114011" y="6901542"/>
                </a:lnTo>
                <a:lnTo>
                  <a:pt x="7170059" y="6901542"/>
                </a:lnTo>
                <a:lnTo>
                  <a:pt x="7170059" y="6901543"/>
                </a:lnTo>
                <a:lnTo>
                  <a:pt x="0" y="6901543"/>
                </a:lnTo>
                <a:close/>
              </a:path>
            </a:pathLst>
          </a:custGeom>
          <a:solidFill>
            <a:schemeClr val="tx1">
              <a:lumMod val="95000"/>
              <a:lumOff val="5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2"/>
          <p:cNvSpPr/>
          <p:nvPr/>
        </p:nvSpPr>
        <p:spPr>
          <a:xfrm>
            <a:off x="1449000" y="490680"/>
            <a:ext cx="1359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2226960" y="1806480"/>
            <a:ext cx="3868920" cy="587880"/>
            <a:chOff x="2226960" y="1806480"/>
            <a:chExt cx="3868920" cy="587880"/>
          </a:xfrm>
        </p:grpSpPr>
        <p:sp>
          <p:nvSpPr>
            <p:cNvPr id="50" name="Rectangle 384"/>
            <p:cNvSpPr/>
            <p:nvPr/>
          </p:nvSpPr>
          <p:spPr>
            <a:xfrm rot="16200000">
              <a:off x="3880440" y="158400"/>
              <a:ext cx="559800" cy="3855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385" descr=""/>
            <p:cNvPicPr/>
            <p:nvPr/>
          </p:nvPicPr>
          <p:blipFill>
            <a:blip r:embed="rId1"/>
            <a:stretch/>
          </p:blipFill>
          <p:spPr>
            <a:xfrm rot="16200000">
              <a:off x="3877200" y="176040"/>
              <a:ext cx="567720" cy="38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86" descr=""/>
            <p:cNvPicPr/>
            <p:nvPr/>
          </p:nvPicPr>
          <p:blipFill>
            <a:blip r:embed="rId2"/>
            <a:stretch/>
          </p:blipFill>
          <p:spPr>
            <a:xfrm rot="16200000">
              <a:off x="3954960" y="203760"/>
              <a:ext cx="47160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Freeform 387"/>
            <p:cNvSpPr/>
            <p:nvPr/>
          </p:nvSpPr>
          <p:spPr>
            <a:xfrm rot="16200000">
              <a:off x="4061520" y="333000"/>
              <a:ext cx="32040" cy="352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528720"/>
                <a:gd name="textAreaBottom" fmla="*/ 3529080 h 3528720"/>
              </a:gdLst>
              <a:ahLst/>
              <a:rect l="textAreaLeft" t="textAreaTop" r="textAreaRight" b="textAreaBottom"/>
              <a:pathLst>
                <a:path w="52" h="4703">
                  <a:moveTo>
                    <a:pt x="52" y="4703"/>
                  </a:moveTo>
                  <a:lnTo>
                    <a:pt x="0" y="4703"/>
                  </a:lnTo>
                  <a:lnTo>
                    <a:pt x="0" y="4511"/>
                  </a:lnTo>
                  <a:lnTo>
                    <a:pt x="52" y="4511"/>
                  </a:lnTo>
                  <a:lnTo>
                    <a:pt x="52" y="4703"/>
                  </a:lnTo>
                  <a:close/>
                  <a:moveTo>
                    <a:pt x="52" y="4201"/>
                  </a:moveTo>
                  <a:lnTo>
                    <a:pt x="0" y="4201"/>
                  </a:lnTo>
                  <a:lnTo>
                    <a:pt x="0" y="4010"/>
                  </a:lnTo>
                  <a:lnTo>
                    <a:pt x="52" y="4010"/>
                  </a:lnTo>
                  <a:lnTo>
                    <a:pt x="52" y="4201"/>
                  </a:lnTo>
                  <a:close/>
                  <a:moveTo>
                    <a:pt x="52" y="3700"/>
                  </a:moveTo>
                  <a:lnTo>
                    <a:pt x="0" y="3700"/>
                  </a:lnTo>
                  <a:lnTo>
                    <a:pt x="0" y="3509"/>
                  </a:lnTo>
                  <a:lnTo>
                    <a:pt x="52" y="3509"/>
                  </a:lnTo>
                  <a:lnTo>
                    <a:pt x="52" y="3700"/>
                  </a:lnTo>
                  <a:close/>
                  <a:moveTo>
                    <a:pt x="52" y="3199"/>
                  </a:moveTo>
                  <a:lnTo>
                    <a:pt x="0" y="3199"/>
                  </a:lnTo>
                  <a:lnTo>
                    <a:pt x="0" y="3007"/>
                  </a:lnTo>
                  <a:lnTo>
                    <a:pt x="52" y="3007"/>
                  </a:lnTo>
                  <a:lnTo>
                    <a:pt x="52" y="3199"/>
                  </a:lnTo>
                  <a:close/>
                  <a:moveTo>
                    <a:pt x="52" y="2698"/>
                  </a:moveTo>
                  <a:lnTo>
                    <a:pt x="0" y="2698"/>
                  </a:lnTo>
                  <a:lnTo>
                    <a:pt x="0" y="2506"/>
                  </a:lnTo>
                  <a:lnTo>
                    <a:pt x="52" y="2506"/>
                  </a:lnTo>
                  <a:lnTo>
                    <a:pt x="52" y="2698"/>
                  </a:lnTo>
                  <a:close/>
                  <a:moveTo>
                    <a:pt x="52" y="2197"/>
                  </a:moveTo>
                  <a:lnTo>
                    <a:pt x="0" y="2197"/>
                  </a:lnTo>
                  <a:lnTo>
                    <a:pt x="0" y="2005"/>
                  </a:lnTo>
                  <a:lnTo>
                    <a:pt x="52" y="2005"/>
                  </a:lnTo>
                  <a:lnTo>
                    <a:pt x="52" y="2197"/>
                  </a:lnTo>
                  <a:close/>
                  <a:moveTo>
                    <a:pt x="52" y="1695"/>
                  </a:moveTo>
                  <a:lnTo>
                    <a:pt x="0" y="1695"/>
                  </a:lnTo>
                  <a:lnTo>
                    <a:pt x="0" y="1504"/>
                  </a:lnTo>
                  <a:lnTo>
                    <a:pt x="52" y="1504"/>
                  </a:lnTo>
                  <a:lnTo>
                    <a:pt x="52" y="1695"/>
                  </a:lnTo>
                  <a:close/>
                  <a:moveTo>
                    <a:pt x="52" y="1194"/>
                  </a:moveTo>
                  <a:lnTo>
                    <a:pt x="0" y="1194"/>
                  </a:lnTo>
                  <a:lnTo>
                    <a:pt x="0" y="1003"/>
                  </a:lnTo>
                  <a:lnTo>
                    <a:pt x="52" y="1003"/>
                  </a:lnTo>
                  <a:lnTo>
                    <a:pt x="52" y="1194"/>
                  </a:lnTo>
                  <a:close/>
                  <a:moveTo>
                    <a:pt x="52" y="693"/>
                  </a:moveTo>
                  <a:lnTo>
                    <a:pt x="0" y="693"/>
                  </a:lnTo>
                  <a:lnTo>
                    <a:pt x="0" y="502"/>
                  </a:lnTo>
                  <a:lnTo>
                    <a:pt x="52" y="502"/>
                  </a:lnTo>
                  <a:lnTo>
                    <a:pt x="52" y="693"/>
                  </a:lnTo>
                  <a:close/>
                  <a:moveTo>
                    <a:pt x="52" y="194"/>
                  </a:moveTo>
                  <a:lnTo>
                    <a:pt x="0" y="194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94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Picture 388" descr=""/>
            <p:cNvPicPr/>
            <p:nvPr/>
          </p:nvPicPr>
          <p:blipFill>
            <a:blip r:embed="rId3"/>
            <a:stretch/>
          </p:blipFill>
          <p:spPr>
            <a:xfrm rot="16200000">
              <a:off x="4041360" y="336960"/>
              <a:ext cx="43920" cy="354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组合 42"/>
          <p:cNvGrpSpPr/>
          <p:nvPr/>
        </p:nvGrpSpPr>
        <p:grpSpPr>
          <a:xfrm>
            <a:off x="1056240" y="1497960"/>
            <a:ext cx="1180080" cy="1201680"/>
            <a:chOff x="1056240" y="1497960"/>
            <a:chExt cx="1180080" cy="1201680"/>
          </a:xfrm>
        </p:grpSpPr>
        <p:sp>
          <p:nvSpPr>
            <p:cNvPr id="56" name="任意多边形 39"/>
            <p:cNvSpPr/>
            <p:nvPr/>
          </p:nvSpPr>
          <p:spPr>
            <a:xfrm rot="10800000">
              <a:off x="1056240" y="1497960"/>
              <a:ext cx="1180080" cy="120168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任意多边形 40"/>
            <p:cNvSpPr/>
            <p:nvPr/>
          </p:nvSpPr>
          <p:spPr>
            <a:xfrm rot="10800000">
              <a:off x="1106280" y="1553760"/>
              <a:ext cx="1071000" cy="1090440"/>
            </a:xfrm>
            <a:custGeom>
              <a:avLst/>
              <a:gdLst>
                <a:gd name="textAreaLeft" fmla="*/ 0 w 1071000"/>
                <a:gd name="textAreaRight" fmla="*/ 1071360 w 107100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" name="文本框 41"/>
            <p:cNvSpPr/>
            <p:nvPr/>
          </p:nvSpPr>
          <p:spPr>
            <a:xfrm>
              <a:off x="1087200" y="1806480"/>
              <a:ext cx="1108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51" strike="noStrike">
                  <a:solidFill>
                    <a:srgbClr val="ffffff"/>
                  </a:solidFill>
                  <a:latin typeface="Calibri"/>
                </a:rPr>
                <a:t>ST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6"/>
          <p:cNvGrpSpPr/>
          <p:nvPr/>
        </p:nvGrpSpPr>
        <p:grpSpPr>
          <a:xfrm>
            <a:off x="9875160" y="1483920"/>
            <a:ext cx="1260720" cy="1260720"/>
            <a:chOff x="9875160" y="1483920"/>
            <a:chExt cx="1260720" cy="1260720"/>
          </a:xfrm>
        </p:grpSpPr>
        <p:sp>
          <p:nvSpPr>
            <p:cNvPr id="60" name="椭圆 43"/>
            <p:cNvSpPr/>
            <p:nvPr/>
          </p:nvSpPr>
          <p:spPr>
            <a:xfrm>
              <a:off x="9875160" y="1483920"/>
              <a:ext cx="1260720" cy="1260720"/>
            </a:xfrm>
            <a:prstGeom prst="ellipse">
              <a:avLst/>
            </a:prstGeom>
            <a:solidFill>
              <a:srgbClr val="f2453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" name="文本框 44"/>
            <p:cNvSpPr/>
            <p:nvPr/>
          </p:nvSpPr>
          <p:spPr>
            <a:xfrm>
              <a:off x="10106280" y="1576080"/>
              <a:ext cx="91872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51" strike="noStrike">
                  <a:solidFill>
                    <a:srgbClr val="ffffff"/>
                  </a:solidFill>
                  <a:latin typeface="Calibri"/>
                </a:rPr>
                <a:t>TENE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45"/>
            <p:cNvSpPr/>
            <p:nvPr/>
          </p:nvSpPr>
          <p:spPr>
            <a:xfrm>
              <a:off x="9979560" y="2073600"/>
              <a:ext cx="1051920" cy="8172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" name="组合 56"/>
          <p:cNvGrpSpPr/>
          <p:nvPr/>
        </p:nvGrpSpPr>
        <p:grpSpPr>
          <a:xfrm>
            <a:off x="6096240" y="1806120"/>
            <a:ext cx="3792960" cy="588240"/>
            <a:chOff x="6096240" y="1806120"/>
            <a:chExt cx="3792960" cy="588240"/>
          </a:xfrm>
        </p:grpSpPr>
        <p:sp>
          <p:nvSpPr>
            <p:cNvPr id="64" name="Rectangle 384"/>
            <p:cNvSpPr/>
            <p:nvPr/>
          </p:nvSpPr>
          <p:spPr>
            <a:xfrm flipV="1" rot="16200000">
              <a:off x="7713720" y="195480"/>
              <a:ext cx="559800" cy="37803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Picture 385" descr=""/>
            <p:cNvPicPr/>
            <p:nvPr/>
          </p:nvPicPr>
          <p:blipFill>
            <a:blip r:embed="rId4"/>
            <a:stretch/>
          </p:blipFill>
          <p:spPr>
            <a:xfrm flipH="1" rot="5400000">
              <a:off x="7709040" y="213840"/>
              <a:ext cx="567720" cy="37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86" descr=""/>
            <p:cNvPicPr/>
            <p:nvPr/>
          </p:nvPicPr>
          <p:blipFill>
            <a:blip r:embed="rId5"/>
            <a:stretch/>
          </p:blipFill>
          <p:spPr>
            <a:xfrm flipH="1" rot="5400000">
              <a:off x="7728120" y="240840"/>
              <a:ext cx="47160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Freeform 387"/>
            <p:cNvSpPr/>
            <p:nvPr/>
          </p:nvSpPr>
          <p:spPr>
            <a:xfrm flipV="1" rot="16200000">
              <a:off x="8058600" y="366480"/>
              <a:ext cx="32040" cy="3459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360 h 3459600"/>
                <a:gd name="textAreaBottom" fmla="*/ 3460320 h 3459600"/>
              </a:gdLst>
              <a:ahLst/>
              <a:rect l="textAreaLeft" t="textAreaTop" r="textAreaRight" b="textAreaBottom"/>
              <a:pathLst>
                <a:path w="52" h="4703">
                  <a:moveTo>
                    <a:pt x="52" y="4703"/>
                  </a:moveTo>
                  <a:lnTo>
                    <a:pt x="0" y="4703"/>
                  </a:lnTo>
                  <a:lnTo>
                    <a:pt x="0" y="4511"/>
                  </a:lnTo>
                  <a:lnTo>
                    <a:pt x="52" y="4511"/>
                  </a:lnTo>
                  <a:lnTo>
                    <a:pt x="52" y="4703"/>
                  </a:lnTo>
                  <a:close/>
                  <a:moveTo>
                    <a:pt x="52" y="4201"/>
                  </a:moveTo>
                  <a:lnTo>
                    <a:pt x="0" y="4201"/>
                  </a:lnTo>
                  <a:lnTo>
                    <a:pt x="0" y="4010"/>
                  </a:lnTo>
                  <a:lnTo>
                    <a:pt x="52" y="4010"/>
                  </a:lnTo>
                  <a:lnTo>
                    <a:pt x="52" y="4201"/>
                  </a:lnTo>
                  <a:close/>
                  <a:moveTo>
                    <a:pt x="52" y="3700"/>
                  </a:moveTo>
                  <a:lnTo>
                    <a:pt x="0" y="3700"/>
                  </a:lnTo>
                  <a:lnTo>
                    <a:pt x="0" y="3509"/>
                  </a:lnTo>
                  <a:lnTo>
                    <a:pt x="52" y="3509"/>
                  </a:lnTo>
                  <a:lnTo>
                    <a:pt x="52" y="3700"/>
                  </a:lnTo>
                  <a:close/>
                  <a:moveTo>
                    <a:pt x="52" y="3199"/>
                  </a:moveTo>
                  <a:lnTo>
                    <a:pt x="0" y="3199"/>
                  </a:lnTo>
                  <a:lnTo>
                    <a:pt x="0" y="3007"/>
                  </a:lnTo>
                  <a:lnTo>
                    <a:pt x="52" y="3007"/>
                  </a:lnTo>
                  <a:lnTo>
                    <a:pt x="52" y="3199"/>
                  </a:lnTo>
                  <a:close/>
                  <a:moveTo>
                    <a:pt x="52" y="2698"/>
                  </a:moveTo>
                  <a:lnTo>
                    <a:pt x="0" y="2698"/>
                  </a:lnTo>
                  <a:lnTo>
                    <a:pt x="0" y="2506"/>
                  </a:lnTo>
                  <a:lnTo>
                    <a:pt x="52" y="2506"/>
                  </a:lnTo>
                  <a:lnTo>
                    <a:pt x="52" y="2698"/>
                  </a:lnTo>
                  <a:close/>
                  <a:moveTo>
                    <a:pt x="52" y="2197"/>
                  </a:moveTo>
                  <a:lnTo>
                    <a:pt x="0" y="2197"/>
                  </a:lnTo>
                  <a:lnTo>
                    <a:pt x="0" y="2005"/>
                  </a:lnTo>
                  <a:lnTo>
                    <a:pt x="52" y="2005"/>
                  </a:lnTo>
                  <a:lnTo>
                    <a:pt x="52" y="2197"/>
                  </a:lnTo>
                  <a:close/>
                  <a:moveTo>
                    <a:pt x="52" y="1695"/>
                  </a:moveTo>
                  <a:lnTo>
                    <a:pt x="0" y="1695"/>
                  </a:lnTo>
                  <a:lnTo>
                    <a:pt x="0" y="1504"/>
                  </a:lnTo>
                  <a:lnTo>
                    <a:pt x="52" y="1504"/>
                  </a:lnTo>
                  <a:lnTo>
                    <a:pt x="52" y="1695"/>
                  </a:lnTo>
                  <a:close/>
                  <a:moveTo>
                    <a:pt x="52" y="1194"/>
                  </a:moveTo>
                  <a:lnTo>
                    <a:pt x="0" y="1194"/>
                  </a:lnTo>
                  <a:lnTo>
                    <a:pt x="0" y="1003"/>
                  </a:lnTo>
                  <a:lnTo>
                    <a:pt x="52" y="1003"/>
                  </a:lnTo>
                  <a:lnTo>
                    <a:pt x="52" y="1194"/>
                  </a:lnTo>
                  <a:close/>
                  <a:moveTo>
                    <a:pt x="52" y="693"/>
                  </a:moveTo>
                  <a:lnTo>
                    <a:pt x="0" y="693"/>
                  </a:lnTo>
                  <a:lnTo>
                    <a:pt x="0" y="502"/>
                  </a:lnTo>
                  <a:lnTo>
                    <a:pt x="52" y="502"/>
                  </a:lnTo>
                  <a:lnTo>
                    <a:pt x="52" y="693"/>
                  </a:lnTo>
                  <a:close/>
                  <a:moveTo>
                    <a:pt x="52" y="194"/>
                  </a:moveTo>
                  <a:lnTo>
                    <a:pt x="0" y="194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94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Picture 388" descr=""/>
            <p:cNvPicPr/>
            <p:nvPr/>
          </p:nvPicPr>
          <p:blipFill>
            <a:blip r:embed="rId6"/>
            <a:stretch/>
          </p:blipFill>
          <p:spPr>
            <a:xfrm flipH="1" rot="5400000">
              <a:off x="8066520" y="371520"/>
              <a:ext cx="43920" cy="347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组合 91"/>
          <p:cNvGrpSpPr/>
          <p:nvPr/>
        </p:nvGrpSpPr>
        <p:grpSpPr>
          <a:xfrm>
            <a:off x="2224440" y="3067920"/>
            <a:ext cx="1258560" cy="1258560"/>
            <a:chOff x="2224440" y="3067920"/>
            <a:chExt cx="1258560" cy="1258560"/>
          </a:xfrm>
        </p:grpSpPr>
        <p:sp>
          <p:nvSpPr>
            <p:cNvPr id="70" name="圆角矩形 77"/>
            <p:cNvSpPr/>
            <p:nvPr/>
          </p:nvSpPr>
          <p:spPr>
            <a:xfrm>
              <a:off x="222444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圆角矩形 89"/>
            <p:cNvSpPr/>
            <p:nvPr/>
          </p:nvSpPr>
          <p:spPr>
            <a:xfrm>
              <a:off x="2298960" y="3142800"/>
              <a:ext cx="1097640" cy="1097640"/>
            </a:xfrm>
            <a:prstGeom prst="roundRect">
              <a:avLst>
                <a:gd name="adj" fmla="val 12732"/>
              </a:avLst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2" name="矩形 90"/>
          <p:cNvSpPr/>
          <p:nvPr/>
        </p:nvSpPr>
        <p:spPr>
          <a:xfrm>
            <a:off x="2472480" y="3054960"/>
            <a:ext cx="712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92"/>
          <p:cNvGrpSpPr/>
          <p:nvPr/>
        </p:nvGrpSpPr>
        <p:grpSpPr>
          <a:xfrm>
            <a:off x="3822480" y="3067920"/>
            <a:ext cx="1258560" cy="1258560"/>
            <a:chOff x="3822480" y="3067920"/>
            <a:chExt cx="1258560" cy="1258560"/>
          </a:xfrm>
        </p:grpSpPr>
        <p:sp>
          <p:nvSpPr>
            <p:cNvPr id="74" name="圆角矩形 93"/>
            <p:cNvSpPr/>
            <p:nvPr/>
          </p:nvSpPr>
          <p:spPr>
            <a:xfrm>
              <a:off x="382248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eef2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" name="圆角矩形 94"/>
            <p:cNvSpPr/>
            <p:nvPr/>
          </p:nvSpPr>
          <p:spPr>
            <a:xfrm>
              <a:off x="389700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eef26d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" name="组合 95"/>
          <p:cNvGrpSpPr/>
          <p:nvPr/>
        </p:nvGrpSpPr>
        <p:grpSpPr>
          <a:xfrm>
            <a:off x="5420520" y="3067920"/>
            <a:ext cx="1258560" cy="1258560"/>
            <a:chOff x="5420520" y="3067920"/>
            <a:chExt cx="1258560" cy="1258560"/>
          </a:xfrm>
        </p:grpSpPr>
        <p:sp>
          <p:nvSpPr>
            <p:cNvPr id="77" name="圆角矩形 96"/>
            <p:cNvSpPr/>
            <p:nvPr/>
          </p:nvSpPr>
          <p:spPr>
            <a:xfrm>
              <a:off x="542052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f27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圆角矩形 97"/>
            <p:cNvSpPr/>
            <p:nvPr/>
          </p:nvSpPr>
          <p:spPr>
            <a:xfrm>
              <a:off x="549504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f27405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9" name="组合 98"/>
          <p:cNvGrpSpPr/>
          <p:nvPr/>
        </p:nvGrpSpPr>
        <p:grpSpPr>
          <a:xfrm>
            <a:off x="7018560" y="3067920"/>
            <a:ext cx="1258560" cy="1258560"/>
            <a:chOff x="7018560" y="3067920"/>
            <a:chExt cx="1258560" cy="1258560"/>
          </a:xfrm>
        </p:grpSpPr>
        <p:sp>
          <p:nvSpPr>
            <p:cNvPr id="80" name="圆角矩形 99"/>
            <p:cNvSpPr/>
            <p:nvPr/>
          </p:nvSpPr>
          <p:spPr>
            <a:xfrm>
              <a:off x="701856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圆角矩形 100"/>
            <p:cNvSpPr/>
            <p:nvPr/>
          </p:nvSpPr>
          <p:spPr>
            <a:xfrm>
              <a:off x="709308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f24535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2" name="组合 101"/>
          <p:cNvGrpSpPr/>
          <p:nvPr/>
        </p:nvGrpSpPr>
        <p:grpSpPr>
          <a:xfrm>
            <a:off x="8616600" y="3067920"/>
            <a:ext cx="1258560" cy="1258560"/>
            <a:chOff x="8616600" y="3067920"/>
            <a:chExt cx="1258560" cy="1258560"/>
          </a:xfrm>
        </p:grpSpPr>
        <p:sp>
          <p:nvSpPr>
            <p:cNvPr id="83" name="圆角矩形 102"/>
            <p:cNvSpPr/>
            <p:nvPr/>
          </p:nvSpPr>
          <p:spPr>
            <a:xfrm>
              <a:off x="861660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圆角矩形 103"/>
            <p:cNvSpPr/>
            <p:nvPr/>
          </p:nvSpPr>
          <p:spPr>
            <a:xfrm>
              <a:off x="8691120" y="3142800"/>
              <a:ext cx="1097640" cy="1097640"/>
            </a:xfrm>
            <a:prstGeom prst="roundRect">
              <a:avLst>
                <a:gd name="adj" fmla="val 12732"/>
              </a:avLst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5" name="矩形 105"/>
          <p:cNvSpPr/>
          <p:nvPr/>
        </p:nvSpPr>
        <p:spPr>
          <a:xfrm>
            <a:off x="4107600" y="3054960"/>
            <a:ext cx="68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262626"/>
                </a:solidFill>
                <a:latin typeface="Calibri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6"/>
          <p:cNvSpPr/>
          <p:nvPr/>
        </p:nvSpPr>
        <p:spPr>
          <a:xfrm>
            <a:off x="5707800" y="3054960"/>
            <a:ext cx="671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7"/>
          <p:cNvSpPr/>
          <p:nvPr/>
        </p:nvSpPr>
        <p:spPr>
          <a:xfrm>
            <a:off x="7266240" y="3054960"/>
            <a:ext cx="746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8"/>
          <p:cNvSpPr/>
          <p:nvPr/>
        </p:nvSpPr>
        <p:spPr>
          <a:xfrm>
            <a:off x="8924760" y="3054960"/>
            <a:ext cx="630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9"/>
          <p:cNvSpPr/>
          <p:nvPr/>
        </p:nvSpPr>
        <p:spPr>
          <a:xfrm>
            <a:off x="213840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0"/>
          <p:cNvSpPr/>
          <p:nvPr/>
        </p:nvSpPr>
        <p:spPr>
          <a:xfrm>
            <a:off x="371268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11"/>
          <p:cNvSpPr/>
          <p:nvPr/>
        </p:nvSpPr>
        <p:spPr>
          <a:xfrm>
            <a:off x="531936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12"/>
          <p:cNvSpPr/>
          <p:nvPr/>
        </p:nvSpPr>
        <p:spPr>
          <a:xfrm>
            <a:off x="690624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3"/>
          <p:cNvSpPr/>
          <p:nvPr/>
        </p:nvSpPr>
        <p:spPr>
          <a:xfrm>
            <a:off x="852372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0" descr=""/>
          <p:cNvPicPr/>
          <p:nvPr/>
        </p:nvPicPr>
        <p:blipFill>
          <a:blip r:embed="rId7"/>
          <a:stretch/>
        </p:blipFill>
        <p:spPr>
          <a:xfrm flipH="1">
            <a:off x="9920160" y="429840"/>
            <a:ext cx="1291680" cy="774360"/>
          </a:xfrm>
          <a:prstGeom prst="rect">
            <a:avLst/>
          </a:prstGeom>
          <a:ln w="0">
            <a:noFill/>
          </a:ln>
        </p:spPr>
      </p:pic>
      <p:sp>
        <p:nvSpPr>
          <p:cNvPr id="95" name="矩形 5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文本框 52"/>
          <p:cNvSpPr/>
          <p:nvPr/>
        </p:nvSpPr>
        <p:spPr>
          <a:xfrm>
            <a:off x="30092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51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98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文本框 1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2226960" y="1806480"/>
            <a:ext cx="3868920" cy="587880"/>
            <a:chOff x="2226960" y="1806480"/>
            <a:chExt cx="3868920" cy="587880"/>
          </a:xfrm>
        </p:grpSpPr>
        <p:sp>
          <p:nvSpPr>
            <p:cNvPr id="107" name="Rectangle 384"/>
            <p:cNvSpPr/>
            <p:nvPr/>
          </p:nvSpPr>
          <p:spPr>
            <a:xfrm rot="16200000">
              <a:off x="3880440" y="158400"/>
              <a:ext cx="559800" cy="3855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385" descr=""/>
            <p:cNvPicPr/>
            <p:nvPr/>
          </p:nvPicPr>
          <p:blipFill>
            <a:blip r:embed="rId1"/>
            <a:stretch/>
          </p:blipFill>
          <p:spPr>
            <a:xfrm rot="16200000">
              <a:off x="3877200" y="176040"/>
              <a:ext cx="567720" cy="38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86" descr=""/>
            <p:cNvPicPr/>
            <p:nvPr/>
          </p:nvPicPr>
          <p:blipFill>
            <a:blip r:embed="rId2"/>
            <a:stretch/>
          </p:blipFill>
          <p:spPr>
            <a:xfrm rot="16200000">
              <a:off x="3954960" y="203760"/>
              <a:ext cx="47160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Freeform 387"/>
            <p:cNvSpPr/>
            <p:nvPr/>
          </p:nvSpPr>
          <p:spPr>
            <a:xfrm rot="16200000">
              <a:off x="4061520" y="333000"/>
              <a:ext cx="32040" cy="352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528720"/>
                <a:gd name="textAreaBottom" fmla="*/ 3529080 h 3528720"/>
              </a:gdLst>
              <a:ahLst/>
              <a:rect l="textAreaLeft" t="textAreaTop" r="textAreaRight" b="textAreaBottom"/>
              <a:pathLst>
                <a:path w="52" h="4703">
                  <a:moveTo>
                    <a:pt x="52" y="4703"/>
                  </a:moveTo>
                  <a:lnTo>
                    <a:pt x="0" y="4703"/>
                  </a:lnTo>
                  <a:lnTo>
                    <a:pt x="0" y="4511"/>
                  </a:lnTo>
                  <a:lnTo>
                    <a:pt x="52" y="4511"/>
                  </a:lnTo>
                  <a:lnTo>
                    <a:pt x="52" y="4703"/>
                  </a:lnTo>
                  <a:close/>
                  <a:moveTo>
                    <a:pt x="52" y="4201"/>
                  </a:moveTo>
                  <a:lnTo>
                    <a:pt x="0" y="4201"/>
                  </a:lnTo>
                  <a:lnTo>
                    <a:pt x="0" y="4010"/>
                  </a:lnTo>
                  <a:lnTo>
                    <a:pt x="52" y="4010"/>
                  </a:lnTo>
                  <a:lnTo>
                    <a:pt x="52" y="4201"/>
                  </a:lnTo>
                  <a:close/>
                  <a:moveTo>
                    <a:pt x="52" y="3700"/>
                  </a:moveTo>
                  <a:lnTo>
                    <a:pt x="0" y="3700"/>
                  </a:lnTo>
                  <a:lnTo>
                    <a:pt x="0" y="3509"/>
                  </a:lnTo>
                  <a:lnTo>
                    <a:pt x="52" y="3509"/>
                  </a:lnTo>
                  <a:lnTo>
                    <a:pt x="52" y="3700"/>
                  </a:lnTo>
                  <a:close/>
                  <a:moveTo>
                    <a:pt x="52" y="3199"/>
                  </a:moveTo>
                  <a:lnTo>
                    <a:pt x="0" y="3199"/>
                  </a:lnTo>
                  <a:lnTo>
                    <a:pt x="0" y="3007"/>
                  </a:lnTo>
                  <a:lnTo>
                    <a:pt x="52" y="3007"/>
                  </a:lnTo>
                  <a:lnTo>
                    <a:pt x="52" y="3199"/>
                  </a:lnTo>
                  <a:close/>
                  <a:moveTo>
                    <a:pt x="52" y="2698"/>
                  </a:moveTo>
                  <a:lnTo>
                    <a:pt x="0" y="2698"/>
                  </a:lnTo>
                  <a:lnTo>
                    <a:pt x="0" y="2506"/>
                  </a:lnTo>
                  <a:lnTo>
                    <a:pt x="52" y="2506"/>
                  </a:lnTo>
                  <a:lnTo>
                    <a:pt x="52" y="2698"/>
                  </a:lnTo>
                  <a:close/>
                  <a:moveTo>
                    <a:pt x="52" y="2197"/>
                  </a:moveTo>
                  <a:lnTo>
                    <a:pt x="0" y="2197"/>
                  </a:lnTo>
                  <a:lnTo>
                    <a:pt x="0" y="2005"/>
                  </a:lnTo>
                  <a:lnTo>
                    <a:pt x="52" y="2005"/>
                  </a:lnTo>
                  <a:lnTo>
                    <a:pt x="52" y="2197"/>
                  </a:lnTo>
                  <a:close/>
                  <a:moveTo>
                    <a:pt x="52" y="1695"/>
                  </a:moveTo>
                  <a:lnTo>
                    <a:pt x="0" y="1695"/>
                  </a:lnTo>
                  <a:lnTo>
                    <a:pt x="0" y="1504"/>
                  </a:lnTo>
                  <a:lnTo>
                    <a:pt x="52" y="1504"/>
                  </a:lnTo>
                  <a:lnTo>
                    <a:pt x="52" y="1695"/>
                  </a:lnTo>
                  <a:close/>
                  <a:moveTo>
                    <a:pt x="52" y="1194"/>
                  </a:moveTo>
                  <a:lnTo>
                    <a:pt x="0" y="1194"/>
                  </a:lnTo>
                  <a:lnTo>
                    <a:pt x="0" y="1003"/>
                  </a:lnTo>
                  <a:lnTo>
                    <a:pt x="52" y="1003"/>
                  </a:lnTo>
                  <a:lnTo>
                    <a:pt x="52" y="1194"/>
                  </a:lnTo>
                  <a:close/>
                  <a:moveTo>
                    <a:pt x="52" y="693"/>
                  </a:moveTo>
                  <a:lnTo>
                    <a:pt x="0" y="693"/>
                  </a:lnTo>
                  <a:lnTo>
                    <a:pt x="0" y="502"/>
                  </a:lnTo>
                  <a:lnTo>
                    <a:pt x="52" y="502"/>
                  </a:lnTo>
                  <a:lnTo>
                    <a:pt x="52" y="693"/>
                  </a:lnTo>
                  <a:close/>
                  <a:moveTo>
                    <a:pt x="52" y="194"/>
                  </a:moveTo>
                  <a:lnTo>
                    <a:pt x="0" y="194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94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Picture 388" descr=""/>
            <p:cNvPicPr/>
            <p:nvPr/>
          </p:nvPicPr>
          <p:blipFill>
            <a:blip r:embed="rId3"/>
            <a:stretch/>
          </p:blipFill>
          <p:spPr>
            <a:xfrm rot="16200000">
              <a:off x="4041360" y="336960"/>
              <a:ext cx="43920" cy="354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42"/>
          <p:cNvGrpSpPr/>
          <p:nvPr/>
        </p:nvGrpSpPr>
        <p:grpSpPr>
          <a:xfrm>
            <a:off x="1056240" y="1497960"/>
            <a:ext cx="1180080" cy="1201680"/>
            <a:chOff x="1056240" y="1497960"/>
            <a:chExt cx="1180080" cy="1201680"/>
          </a:xfrm>
        </p:grpSpPr>
        <p:sp>
          <p:nvSpPr>
            <p:cNvPr id="113" name="任意多边形 39"/>
            <p:cNvSpPr/>
            <p:nvPr/>
          </p:nvSpPr>
          <p:spPr>
            <a:xfrm rot="10800000">
              <a:off x="1056240" y="1497960"/>
              <a:ext cx="1180080" cy="120168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任意多边形 40"/>
            <p:cNvSpPr/>
            <p:nvPr/>
          </p:nvSpPr>
          <p:spPr>
            <a:xfrm rot="10800000">
              <a:off x="1106280" y="1553760"/>
              <a:ext cx="1071000" cy="1090440"/>
            </a:xfrm>
            <a:custGeom>
              <a:avLst/>
              <a:gdLst>
                <a:gd name="textAreaLeft" fmla="*/ 0 w 1071000"/>
                <a:gd name="textAreaRight" fmla="*/ 1071360 w 107100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文本框 41"/>
            <p:cNvSpPr/>
            <p:nvPr/>
          </p:nvSpPr>
          <p:spPr>
            <a:xfrm>
              <a:off x="1087200" y="1806480"/>
              <a:ext cx="1108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51" strike="noStrike">
                  <a:solidFill>
                    <a:srgbClr val="ffffff"/>
                  </a:solidFill>
                  <a:latin typeface="Calibri"/>
                </a:rPr>
                <a:t>ST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6"/>
          <p:cNvGrpSpPr/>
          <p:nvPr/>
        </p:nvGrpSpPr>
        <p:grpSpPr>
          <a:xfrm>
            <a:off x="9875160" y="1483920"/>
            <a:ext cx="1260720" cy="1260720"/>
            <a:chOff x="9875160" y="1483920"/>
            <a:chExt cx="1260720" cy="1260720"/>
          </a:xfrm>
        </p:grpSpPr>
        <p:sp>
          <p:nvSpPr>
            <p:cNvPr id="117" name="椭圆 43"/>
            <p:cNvSpPr/>
            <p:nvPr/>
          </p:nvSpPr>
          <p:spPr>
            <a:xfrm>
              <a:off x="9875160" y="1483920"/>
              <a:ext cx="1260720" cy="1260720"/>
            </a:xfrm>
            <a:prstGeom prst="ellipse">
              <a:avLst/>
            </a:prstGeom>
            <a:solidFill>
              <a:srgbClr val="f2453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文本框 44"/>
            <p:cNvSpPr/>
            <p:nvPr/>
          </p:nvSpPr>
          <p:spPr>
            <a:xfrm>
              <a:off x="10106280" y="1576080"/>
              <a:ext cx="91872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51" strike="noStrike">
                  <a:solidFill>
                    <a:srgbClr val="ffffff"/>
                  </a:solidFill>
                  <a:latin typeface="Calibri"/>
                </a:rPr>
                <a:t>TENE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圆角矩形 45"/>
            <p:cNvSpPr/>
            <p:nvPr/>
          </p:nvSpPr>
          <p:spPr>
            <a:xfrm>
              <a:off x="9979560" y="2073600"/>
              <a:ext cx="1051920" cy="8172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0" name="组合 56"/>
          <p:cNvGrpSpPr/>
          <p:nvPr/>
        </p:nvGrpSpPr>
        <p:grpSpPr>
          <a:xfrm>
            <a:off x="6096240" y="1806120"/>
            <a:ext cx="3792960" cy="588240"/>
            <a:chOff x="6096240" y="1806120"/>
            <a:chExt cx="3792960" cy="588240"/>
          </a:xfrm>
        </p:grpSpPr>
        <p:sp>
          <p:nvSpPr>
            <p:cNvPr id="121" name="Rectangle 384"/>
            <p:cNvSpPr/>
            <p:nvPr/>
          </p:nvSpPr>
          <p:spPr>
            <a:xfrm flipV="1" rot="16200000">
              <a:off x="7713720" y="195480"/>
              <a:ext cx="559800" cy="37803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385" descr=""/>
            <p:cNvPicPr/>
            <p:nvPr/>
          </p:nvPicPr>
          <p:blipFill>
            <a:blip r:embed="rId4"/>
            <a:stretch/>
          </p:blipFill>
          <p:spPr>
            <a:xfrm flipH="1" rot="5400000">
              <a:off x="7709040" y="213840"/>
              <a:ext cx="567720" cy="37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386" descr=""/>
            <p:cNvPicPr/>
            <p:nvPr/>
          </p:nvPicPr>
          <p:blipFill>
            <a:blip r:embed="rId5"/>
            <a:stretch/>
          </p:blipFill>
          <p:spPr>
            <a:xfrm flipH="1" rot="5400000">
              <a:off x="7728120" y="240840"/>
              <a:ext cx="47160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Freeform 387"/>
            <p:cNvSpPr/>
            <p:nvPr/>
          </p:nvSpPr>
          <p:spPr>
            <a:xfrm flipV="1" rot="16200000">
              <a:off x="8058600" y="366480"/>
              <a:ext cx="32040" cy="3459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360 h 3459600"/>
                <a:gd name="textAreaBottom" fmla="*/ 3460320 h 3459600"/>
              </a:gdLst>
              <a:ahLst/>
              <a:rect l="textAreaLeft" t="textAreaTop" r="textAreaRight" b="textAreaBottom"/>
              <a:pathLst>
                <a:path w="52" h="4703">
                  <a:moveTo>
                    <a:pt x="52" y="4703"/>
                  </a:moveTo>
                  <a:lnTo>
                    <a:pt x="0" y="4703"/>
                  </a:lnTo>
                  <a:lnTo>
                    <a:pt x="0" y="4511"/>
                  </a:lnTo>
                  <a:lnTo>
                    <a:pt x="52" y="4511"/>
                  </a:lnTo>
                  <a:lnTo>
                    <a:pt x="52" y="4703"/>
                  </a:lnTo>
                  <a:close/>
                  <a:moveTo>
                    <a:pt x="52" y="4201"/>
                  </a:moveTo>
                  <a:lnTo>
                    <a:pt x="0" y="4201"/>
                  </a:lnTo>
                  <a:lnTo>
                    <a:pt x="0" y="4010"/>
                  </a:lnTo>
                  <a:lnTo>
                    <a:pt x="52" y="4010"/>
                  </a:lnTo>
                  <a:lnTo>
                    <a:pt x="52" y="4201"/>
                  </a:lnTo>
                  <a:close/>
                  <a:moveTo>
                    <a:pt x="52" y="3700"/>
                  </a:moveTo>
                  <a:lnTo>
                    <a:pt x="0" y="3700"/>
                  </a:lnTo>
                  <a:lnTo>
                    <a:pt x="0" y="3509"/>
                  </a:lnTo>
                  <a:lnTo>
                    <a:pt x="52" y="3509"/>
                  </a:lnTo>
                  <a:lnTo>
                    <a:pt x="52" y="3700"/>
                  </a:lnTo>
                  <a:close/>
                  <a:moveTo>
                    <a:pt x="52" y="3199"/>
                  </a:moveTo>
                  <a:lnTo>
                    <a:pt x="0" y="3199"/>
                  </a:lnTo>
                  <a:lnTo>
                    <a:pt x="0" y="3007"/>
                  </a:lnTo>
                  <a:lnTo>
                    <a:pt x="52" y="3007"/>
                  </a:lnTo>
                  <a:lnTo>
                    <a:pt x="52" y="3199"/>
                  </a:lnTo>
                  <a:close/>
                  <a:moveTo>
                    <a:pt x="52" y="2698"/>
                  </a:moveTo>
                  <a:lnTo>
                    <a:pt x="0" y="2698"/>
                  </a:lnTo>
                  <a:lnTo>
                    <a:pt x="0" y="2506"/>
                  </a:lnTo>
                  <a:lnTo>
                    <a:pt x="52" y="2506"/>
                  </a:lnTo>
                  <a:lnTo>
                    <a:pt x="52" y="2698"/>
                  </a:lnTo>
                  <a:close/>
                  <a:moveTo>
                    <a:pt x="52" y="2197"/>
                  </a:moveTo>
                  <a:lnTo>
                    <a:pt x="0" y="2197"/>
                  </a:lnTo>
                  <a:lnTo>
                    <a:pt x="0" y="2005"/>
                  </a:lnTo>
                  <a:lnTo>
                    <a:pt x="52" y="2005"/>
                  </a:lnTo>
                  <a:lnTo>
                    <a:pt x="52" y="2197"/>
                  </a:lnTo>
                  <a:close/>
                  <a:moveTo>
                    <a:pt x="52" y="1695"/>
                  </a:moveTo>
                  <a:lnTo>
                    <a:pt x="0" y="1695"/>
                  </a:lnTo>
                  <a:lnTo>
                    <a:pt x="0" y="1504"/>
                  </a:lnTo>
                  <a:lnTo>
                    <a:pt x="52" y="1504"/>
                  </a:lnTo>
                  <a:lnTo>
                    <a:pt x="52" y="1695"/>
                  </a:lnTo>
                  <a:close/>
                  <a:moveTo>
                    <a:pt x="52" y="1194"/>
                  </a:moveTo>
                  <a:lnTo>
                    <a:pt x="0" y="1194"/>
                  </a:lnTo>
                  <a:lnTo>
                    <a:pt x="0" y="1003"/>
                  </a:lnTo>
                  <a:lnTo>
                    <a:pt x="52" y="1003"/>
                  </a:lnTo>
                  <a:lnTo>
                    <a:pt x="52" y="1194"/>
                  </a:lnTo>
                  <a:close/>
                  <a:moveTo>
                    <a:pt x="52" y="693"/>
                  </a:moveTo>
                  <a:lnTo>
                    <a:pt x="0" y="693"/>
                  </a:lnTo>
                  <a:lnTo>
                    <a:pt x="0" y="502"/>
                  </a:lnTo>
                  <a:lnTo>
                    <a:pt x="52" y="502"/>
                  </a:lnTo>
                  <a:lnTo>
                    <a:pt x="52" y="693"/>
                  </a:lnTo>
                  <a:close/>
                  <a:moveTo>
                    <a:pt x="52" y="194"/>
                  </a:moveTo>
                  <a:lnTo>
                    <a:pt x="0" y="194"/>
                  </a:lnTo>
                  <a:lnTo>
                    <a:pt x="0" y="0"/>
                  </a:lnTo>
                  <a:lnTo>
                    <a:pt x="52" y="0"/>
                  </a:lnTo>
                  <a:lnTo>
                    <a:pt x="52" y="194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Picture 388" descr=""/>
            <p:cNvPicPr/>
            <p:nvPr/>
          </p:nvPicPr>
          <p:blipFill>
            <a:blip r:embed="rId6"/>
            <a:stretch/>
          </p:blipFill>
          <p:spPr>
            <a:xfrm flipH="1" rot="5400000">
              <a:off x="8066520" y="371520"/>
              <a:ext cx="43920" cy="347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组合 91"/>
          <p:cNvGrpSpPr/>
          <p:nvPr/>
        </p:nvGrpSpPr>
        <p:grpSpPr>
          <a:xfrm>
            <a:off x="2224440" y="3067920"/>
            <a:ext cx="1258560" cy="1258560"/>
            <a:chOff x="2224440" y="3067920"/>
            <a:chExt cx="1258560" cy="1258560"/>
          </a:xfrm>
        </p:grpSpPr>
        <p:sp>
          <p:nvSpPr>
            <p:cNvPr id="127" name="圆角矩形 77"/>
            <p:cNvSpPr/>
            <p:nvPr/>
          </p:nvSpPr>
          <p:spPr>
            <a:xfrm>
              <a:off x="222444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圆角矩形 89"/>
            <p:cNvSpPr/>
            <p:nvPr/>
          </p:nvSpPr>
          <p:spPr>
            <a:xfrm>
              <a:off x="2298960" y="3142800"/>
              <a:ext cx="1097640" cy="1097640"/>
            </a:xfrm>
            <a:prstGeom prst="roundRect">
              <a:avLst>
                <a:gd name="adj" fmla="val 12732"/>
              </a:avLst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9" name="矩形 90"/>
          <p:cNvSpPr/>
          <p:nvPr/>
        </p:nvSpPr>
        <p:spPr>
          <a:xfrm>
            <a:off x="2472480" y="3054960"/>
            <a:ext cx="7128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6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117"/>
          <p:cNvSpPr/>
          <p:nvPr/>
        </p:nvSpPr>
        <p:spPr>
          <a:xfrm>
            <a:off x="15440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18" descr=""/>
          <p:cNvPicPr/>
          <p:nvPr/>
        </p:nvPicPr>
        <p:blipFill>
          <a:blip r:embed="rId7"/>
          <a:stretch/>
        </p:blipFill>
        <p:spPr>
          <a:xfrm flipH="1">
            <a:off x="2201040" y="1717200"/>
            <a:ext cx="1291680" cy="7743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52"/>
          <p:cNvSpPr/>
          <p:nvPr/>
        </p:nvSpPr>
        <p:spPr>
          <a:xfrm>
            <a:off x="213840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53"/>
          <p:cNvSpPr/>
          <p:nvPr/>
        </p:nvSpPr>
        <p:spPr>
          <a:xfrm>
            <a:off x="371268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54"/>
          <p:cNvSpPr/>
          <p:nvPr/>
        </p:nvSpPr>
        <p:spPr>
          <a:xfrm>
            <a:off x="531936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5"/>
          <p:cNvSpPr/>
          <p:nvPr/>
        </p:nvSpPr>
        <p:spPr>
          <a:xfrm>
            <a:off x="690624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2"/>
          <p:cNvSpPr/>
          <p:nvPr/>
        </p:nvSpPr>
        <p:spPr>
          <a:xfrm>
            <a:off x="8523720" y="4856040"/>
            <a:ext cx="14666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单击添加文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72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139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81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63"/>
          <p:cNvGrpSpPr/>
          <p:nvPr/>
        </p:nvGrpSpPr>
        <p:grpSpPr>
          <a:xfrm>
            <a:off x="3822480" y="3067920"/>
            <a:ext cx="1258560" cy="1258560"/>
            <a:chOff x="3822480" y="3067920"/>
            <a:chExt cx="1258560" cy="1258560"/>
          </a:xfrm>
        </p:grpSpPr>
        <p:sp>
          <p:nvSpPr>
            <p:cNvPr id="148" name="圆角矩形 64"/>
            <p:cNvSpPr/>
            <p:nvPr/>
          </p:nvSpPr>
          <p:spPr>
            <a:xfrm>
              <a:off x="382248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eef2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圆角矩形 65"/>
            <p:cNvSpPr/>
            <p:nvPr/>
          </p:nvSpPr>
          <p:spPr>
            <a:xfrm>
              <a:off x="389700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eef26d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0" name="组合 66"/>
          <p:cNvGrpSpPr/>
          <p:nvPr/>
        </p:nvGrpSpPr>
        <p:grpSpPr>
          <a:xfrm>
            <a:off x="5420520" y="3067920"/>
            <a:ext cx="1258560" cy="1258560"/>
            <a:chOff x="5420520" y="3067920"/>
            <a:chExt cx="1258560" cy="1258560"/>
          </a:xfrm>
        </p:grpSpPr>
        <p:sp>
          <p:nvSpPr>
            <p:cNvPr id="151" name="圆角矩形 67"/>
            <p:cNvSpPr/>
            <p:nvPr/>
          </p:nvSpPr>
          <p:spPr>
            <a:xfrm>
              <a:off x="542052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f27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圆角矩形 68"/>
            <p:cNvSpPr/>
            <p:nvPr/>
          </p:nvSpPr>
          <p:spPr>
            <a:xfrm>
              <a:off x="549504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f27405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3" name="组合 69"/>
          <p:cNvGrpSpPr/>
          <p:nvPr/>
        </p:nvGrpSpPr>
        <p:grpSpPr>
          <a:xfrm>
            <a:off x="7018560" y="3067920"/>
            <a:ext cx="1258560" cy="1258560"/>
            <a:chOff x="7018560" y="3067920"/>
            <a:chExt cx="1258560" cy="1258560"/>
          </a:xfrm>
        </p:grpSpPr>
        <p:sp>
          <p:nvSpPr>
            <p:cNvPr id="154" name="圆角矩形 70"/>
            <p:cNvSpPr/>
            <p:nvPr/>
          </p:nvSpPr>
          <p:spPr>
            <a:xfrm>
              <a:off x="701856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圆角矩形 71"/>
            <p:cNvSpPr/>
            <p:nvPr/>
          </p:nvSpPr>
          <p:spPr>
            <a:xfrm>
              <a:off x="7093080" y="3142800"/>
              <a:ext cx="1097640" cy="1097640"/>
            </a:xfrm>
            <a:prstGeom prst="roundRect">
              <a:avLst>
                <a:gd name="adj" fmla="val 12732"/>
              </a:avLst>
            </a:prstGeom>
            <a:solidFill>
              <a:srgbClr val="f24535"/>
            </a:solidFill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6" name="组合 82"/>
          <p:cNvGrpSpPr/>
          <p:nvPr/>
        </p:nvGrpSpPr>
        <p:grpSpPr>
          <a:xfrm>
            <a:off x="8616600" y="3067920"/>
            <a:ext cx="1258560" cy="1258560"/>
            <a:chOff x="8616600" y="3067920"/>
            <a:chExt cx="1258560" cy="1258560"/>
          </a:xfrm>
        </p:grpSpPr>
        <p:sp>
          <p:nvSpPr>
            <p:cNvPr id="157" name="圆角矩形 83"/>
            <p:cNvSpPr/>
            <p:nvPr/>
          </p:nvSpPr>
          <p:spPr>
            <a:xfrm>
              <a:off x="8616600" y="3067920"/>
              <a:ext cx="1258560" cy="1258560"/>
            </a:xfrm>
            <a:prstGeom prst="roundRect">
              <a:avLst>
                <a:gd name="adj" fmla="val 12732"/>
              </a:avLst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圆角矩形 84"/>
            <p:cNvSpPr/>
            <p:nvPr/>
          </p:nvSpPr>
          <p:spPr>
            <a:xfrm>
              <a:off x="8691120" y="3142800"/>
              <a:ext cx="1097640" cy="1097640"/>
            </a:xfrm>
            <a:prstGeom prst="roundRect">
              <a:avLst>
                <a:gd name="adj" fmla="val 12732"/>
              </a:avLst>
            </a:pr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9" name="矩形 85"/>
          <p:cNvSpPr/>
          <p:nvPr/>
        </p:nvSpPr>
        <p:spPr>
          <a:xfrm>
            <a:off x="4107600" y="3054960"/>
            <a:ext cx="68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262626"/>
                </a:solidFill>
                <a:latin typeface="Calibri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6"/>
          <p:cNvSpPr/>
          <p:nvPr/>
        </p:nvSpPr>
        <p:spPr>
          <a:xfrm>
            <a:off x="5707800" y="3054960"/>
            <a:ext cx="671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7"/>
          <p:cNvSpPr/>
          <p:nvPr/>
        </p:nvSpPr>
        <p:spPr>
          <a:xfrm>
            <a:off x="7266240" y="3054960"/>
            <a:ext cx="746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8"/>
          <p:cNvSpPr/>
          <p:nvPr/>
        </p:nvSpPr>
        <p:spPr>
          <a:xfrm>
            <a:off x="8924760" y="3054960"/>
            <a:ext cx="630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96"/>
          <p:cNvSpPr/>
          <p:nvPr/>
        </p:nvSpPr>
        <p:spPr>
          <a:xfrm>
            <a:off x="3799800" y="3071160"/>
            <a:ext cx="1285920" cy="1285920"/>
          </a:xfrm>
          <a:prstGeom prst="roundRect">
            <a:avLst>
              <a:gd name="adj" fmla="val 12732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圆角矩形 101"/>
          <p:cNvSpPr/>
          <p:nvPr/>
        </p:nvSpPr>
        <p:spPr>
          <a:xfrm>
            <a:off x="5402520" y="3071160"/>
            <a:ext cx="1285920" cy="1285920"/>
          </a:xfrm>
          <a:prstGeom prst="roundRect">
            <a:avLst>
              <a:gd name="adj" fmla="val 12732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圆角矩形 102"/>
          <p:cNvSpPr/>
          <p:nvPr/>
        </p:nvSpPr>
        <p:spPr>
          <a:xfrm>
            <a:off x="6994080" y="3071160"/>
            <a:ext cx="1285920" cy="1285920"/>
          </a:xfrm>
          <a:prstGeom prst="roundRect">
            <a:avLst>
              <a:gd name="adj" fmla="val 12732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圆角矩形 103"/>
          <p:cNvSpPr/>
          <p:nvPr/>
        </p:nvSpPr>
        <p:spPr>
          <a:xfrm>
            <a:off x="8597160" y="3071160"/>
            <a:ext cx="1285920" cy="1285920"/>
          </a:xfrm>
          <a:prstGeom prst="roundRect">
            <a:avLst>
              <a:gd name="adj" fmla="val 12732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36"/>
          <p:cNvGrpSpPr/>
          <p:nvPr/>
        </p:nvGrpSpPr>
        <p:grpSpPr>
          <a:xfrm>
            <a:off x="1055520" y="1615320"/>
            <a:ext cx="2107800" cy="2107800"/>
            <a:chOff x="1055520" y="1615320"/>
            <a:chExt cx="2107800" cy="2107800"/>
          </a:xfrm>
        </p:grpSpPr>
        <p:sp>
          <p:nvSpPr>
            <p:cNvPr id="168" name="椭圆 23"/>
            <p:cNvSpPr/>
            <p:nvPr/>
          </p:nvSpPr>
          <p:spPr>
            <a:xfrm>
              <a:off x="1055520" y="1615320"/>
              <a:ext cx="2107800" cy="2107800"/>
            </a:xfrm>
            <a:prstGeom prst="ellipse">
              <a:avLst/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椭圆 24"/>
            <p:cNvSpPr/>
            <p:nvPr/>
          </p:nvSpPr>
          <p:spPr>
            <a:xfrm>
              <a:off x="1167840" y="1727280"/>
              <a:ext cx="1883520" cy="1883520"/>
            </a:xfrm>
            <a:prstGeom prst="ellipse">
              <a:avLst/>
            </a:pr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0" name="组合 37"/>
          <p:cNvGrpSpPr/>
          <p:nvPr/>
        </p:nvGrpSpPr>
        <p:grpSpPr>
          <a:xfrm>
            <a:off x="3756600" y="1615320"/>
            <a:ext cx="2107800" cy="2107800"/>
            <a:chOff x="3756600" y="1615320"/>
            <a:chExt cx="2107800" cy="2107800"/>
          </a:xfrm>
        </p:grpSpPr>
        <p:sp>
          <p:nvSpPr>
            <p:cNvPr id="171" name="椭圆 38"/>
            <p:cNvSpPr/>
            <p:nvPr/>
          </p:nvSpPr>
          <p:spPr>
            <a:xfrm>
              <a:off x="3756600" y="1615320"/>
              <a:ext cx="2107800" cy="2107800"/>
            </a:xfrm>
            <a:prstGeom prst="ellipse">
              <a:avLst/>
            </a:prstGeom>
            <a:solidFill>
              <a:srgbClr val="eef26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39"/>
            <p:cNvSpPr/>
            <p:nvPr/>
          </p:nvSpPr>
          <p:spPr>
            <a:xfrm>
              <a:off x="3868920" y="1727280"/>
              <a:ext cx="1883520" cy="1883520"/>
            </a:xfrm>
            <a:prstGeom prst="ellipse">
              <a:avLst/>
            </a:prstGeom>
            <a:solidFill>
              <a:srgbClr val="eef26d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3" name="组合 40"/>
          <p:cNvGrpSpPr/>
          <p:nvPr/>
        </p:nvGrpSpPr>
        <p:grpSpPr>
          <a:xfrm>
            <a:off x="6457680" y="1615320"/>
            <a:ext cx="2107800" cy="2107800"/>
            <a:chOff x="6457680" y="1615320"/>
            <a:chExt cx="2107800" cy="2107800"/>
          </a:xfrm>
        </p:grpSpPr>
        <p:sp>
          <p:nvSpPr>
            <p:cNvPr id="174" name="椭圆 41"/>
            <p:cNvSpPr/>
            <p:nvPr/>
          </p:nvSpPr>
          <p:spPr>
            <a:xfrm>
              <a:off x="6457680" y="1615320"/>
              <a:ext cx="2107800" cy="2107800"/>
            </a:xfrm>
            <a:prstGeom prst="ellipse">
              <a:avLst/>
            </a:prstGeom>
            <a:solidFill>
              <a:srgbClr val="f27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椭圆 42"/>
            <p:cNvSpPr/>
            <p:nvPr/>
          </p:nvSpPr>
          <p:spPr>
            <a:xfrm>
              <a:off x="6570000" y="1727280"/>
              <a:ext cx="1883520" cy="1883520"/>
            </a:xfrm>
            <a:prstGeom prst="ellipse">
              <a:avLst/>
            </a:prstGeom>
            <a:solidFill>
              <a:srgbClr val="f27405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6" name="组合 43"/>
          <p:cNvGrpSpPr/>
          <p:nvPr/>
        </p:nvGrpSpPr>
        <p:grpSpPr>
          <a:xfrm>
            <a:off x="9028440" y="1615320"/>
            <a:ext cx="2107800" cy="2107800"/>
            <a:chOff x="9028440" y="1615320"/>
            <a:chExt cx="2107800" cy="2107800"/>
          </a:xfrm>
        </p:grpSpPr>
        <p:sp>
          <p:nvSpPr>
            <p:cNvPr id="177" name="椭圆 44"/>
            <p:cNvSpPr/>
            <p:nvPr/>
          </p:nvSpPr>
          <p:spPr>
            <a:xfrm>
              <a:off x="9028440" y="1615320"/>
              <a:ext cx="2107800" cy="2107800"/>
            </a:xfrm>
            <a:prstGeom prst="ellipse">
              <a:avLst/>
            </a:pr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椭圆 45"/>
            <p:cNvSpPr/>
            <p:nvPr/>
          </p:nvSpPr>
          <p:spPr>
            <a:xfrm>
              <a:off x="9140400" y="1727280"/>
              <a:ext cx="1883520" cy="1883520"/>
            </a:xfrm>
            <a:prstGeom prst="ellipse">
              <a:avLst/>
            </a:prstGeom>
            <a:solidFill>
              <a:srgbClr val="f24535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9" name="文本框 51"/>
          <p:cNvSpPr/>
          <p:nvPr/>
        </p:nvSpPr>
        <p:spPr>
          <a:xfrm>
            <a:off x="1392840" y="411840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4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181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文本框 72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3"/>
          <p:cNvSpPr/>
          <p:nvPr/>
        </p:nvSpPr>
        <p:spPr>
          <a:xfrm>
            <a:off x="16556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4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725"/>
          <p:cNvSpPr/>
          <p:nvPr/>
        </p:nvSpPr>
        <p:spPr>
          <a:xfrm>
            <a:off x="1592640" y="2126160"/>
            <a:ext cx="1033920" cy="1086120"/>
          </a:xfrm>
          <a:custGeom>
            <a:avLst/>
            <a:gdLst>
              <a:gd name="textAreaLeft" fmla="*/ 0 w 1033920"/>
              <a:gd name="textAreaRight" fmla="*/ 1034280 w 1033920"/>
              <a:gd name="textAreaTop" fmla="*/ 0 h 1086120"/>
              <a:gd name="textAreaBottom" fmla="*/ 1086480 h 1086120"/>
            </a:gdLst>
            <a:ahLst/>
            <a:rect l="textAreaLeft" t="textAreaTop" r="textAreaRight" b="textAreaBottom"/>
            <a:pathLst>
              <a:path w="228" h="240">
                <a:moveTo>
                  <a:pt x="93" y="105"/>
                </a:moveTo>
                <a:cubicBezTo>
                  <a:pt x="93" y="28"/>
                  <a:pt x="93" y="28"/>
                  <a:pt x="93" y="28"/>
                </a:cubicBezTo>
                <a:cubicBezTo>
                  <a:pt x="113" y="28"/>
                  <a:pt x="113" y="28"/>
                  <a:pt x="113" y="28"/>
                </a:cubicBezTo>
                <a:cubicBezTo>
                  <a:pt x="133" y="28"/>
                  <a:pt x="140" y="28"/>
                  <a:pt x="148" y="31"/>
                </a:cubicBezTo>
                <a:cubicBezTo>
                  <a:pt x="161" y="36"/>
                  <a:pt x="169" y="48"/>
                  <a:pt x="169" y="66"/>
                </a:cubicBezTo>
                <a:cubicBezTo>
                  <a:pt x="169" y="78"/>
                  <a:pt x="165" y="89"/>
                  <a:pt x="158" y="95"/>
                </a:cubicBezTo>
                <a:cubicBezTo>
                  <a:pt x="150" y="102"/>
                  <a:pt x="139" y="105"/>
                  <a:pt x="115" y="105"/>
                </a:cubicBezTo>
                <a:cubicBezTo>
                  <a:pt x="93" y="105"/>
                  <a:pt x="93" y="105"/>
                  <a:pt x="93" y="105"/>
                </a:cubicBezTo>
                <a:close/>
                <a:moveTo>
                  <a:pt x="93" y="132"/>
                </a:moveTo>
                <a:cubicBezTo>
                  <a:pt x="124" y="132"/>
                  <a:pt x="124" y="132"/>
                  <a:pt x="124" y="132"/>
                </a:cubicBezTo>
                <a:cubicBezTo>
                  <a:pt x="165" y="132"/>
                  <a:pt x="185" y="129"/>
                  <a:pt x="201" y="120"/>
                </a:cubicBezTo>
                <a:cubicBezTo>
                  <a:pt x="218" y="109"/>
                  <a:pt x="228" y="90"/>
                  <a:pt x="228" y="67"/>
                </a:cubicBezTo>
                <a:cubicBezTo>
                  <a:pt x="228" y="46"/>
                  <a:pt x="219" y="28"/>
                  <a:pt x="202" y="17"/>
                </a:cubicBezTo>
                <a:cubicBezTo>
                  <a:pt x="186" y="5"/>
                  <a:pt x="163" y="0"/>
                  <a:pt x="1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8"/>
                  <a:pt x="0" y="28"/>
                  <a:pt x="0" y="28"/>
                </a:cubicBezTo>
                <a:cubicBezTo>
                  <a:pt x="13" y="28"/>
                  <a:pt x="13" y="28"/>
                  <a:pt x="13" y="28"/>
                </a:cubicBezTo>
                <a:cubicBezTo>
                  <a:pt x="34" y="28"/>
                  <a:pt x="36" y="30"/>
                  <a:pt x="36" y="50"/>
                </a:cubicBezTo>
                <a:cubicBezTo>
                  <a:pt x="36" y="191"/>
                  <a:pt x="36" y="191"/>
                  <a:pt x="36" y="191"/>
                </a:cubicBezTo>
                <a:cubicBezTo>
                  <a:pt x="36" y="211"/>
                  <a:pt x="34" y="213"/>
                  <a:pt x="13" y="213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40"/>
                  <a:pt x="0" y="240"/>
                  <a:pt x="0" y="240"/>
                </a:cubicBezTo>
                <a:cubicBezTo>
                  <a:pt x="131" y="240"/>
                  <a:pt x="131" y="240"/>
                  <a:pt x="131" y="240"/>
                </a:cubicBezTo>
                <a:cubicBezTo>
                  <a:pt x="131" y="213"/>
                  <a:pt x="131" y="213"/>
                  <a:pt x="131" y="213"/>
                </a:cubicBezTo>
                <a:cubicBezTo>
                  <a:pt x="115" y="213"/>
                  <a:pt x="115" y="213"/>
                  <a:pt x="115" y="213"/>
                </a:cubicBezTo>
                <a:cubicBezTo>
                  <a:pt x="95" y="213"/>
                  <a:pt x="93" y="211"/>
                  <a:pt x="93" y="191"/>
                </a:cubicBezTo>
                <a:lnTo>
                  <a:pt x="93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组合 1"/>
          <p:cNvGrpSpPr/>
          <p:nvPr/>
        </p:nvGrpSpPr>
        <p:grpSpPr>
          <a:xfrm>
            <a:off x="6690240" y="2372040"/>
            <a:ext cx="1643040" cy="594000"/>
            <a:chOff x="6690240" y="2372040"/>
            <a:chExt cx="1643040" cy="594000"/>
          </a:xfrm>
        </p:grpSpPr>
        <p:sp>
          <p:nvSpPr>
            <p:cNvPr id="193" name="Freeform 461"/>
            <p:cNvSpPr/>
            <p:nvPr/>
          </p:nvSpPr>
          <p:spPr>
            <a:xfrm>
              <a:off x="6690240" y="2590560"/>
              <a:ext cx="1643040" cy="3754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40" h="55">
                  <a:moveTo>
                    <a:pt x="181" y="30"/>
                  </a:moveTo>
                  <a:cubicBezTo>
                    <a:pt x="184" y="29"/>
                    <a:pt x="187" y="28"/>
                    <a:pt x="190" y="25"/>
                  </a:cubicBezTo>
                  <a:cubicBezTo>
                    <a:pt x="193" y="20"/>
                    <a:pt x="194" y="15"/>
                    <a:pt x="192" y="9"/>
                  </a:cubicBezTo>
                  <a:cubicBezTo>
                    <a:pt x="190" y="4"/>
                    <a:pt x="184" y="0"/>
                    <a:pt x="178" y="0"/>
                  </a:cubicBezTo>
                  <a:cubicBezTo>
                    <a:pt x="173" y="0"/>
                    <a:pt x="167" y="4"/>
                    <a:pt x="165" y="9"/>
                  </a:cubicBezTo>
                  <a:cubicBezTo>
                    <a:pt x="163" y="15"/>
                    <a:pt x="164" y="20"/>
                    <a:pt x="167" y="25"/>
                  </a:cubicBezTo>
                  <a:cubicBezTo>
                    <a:pt x="170" y="28"/>
                    <a:pt x="173" y="29"/>
                    <a:pt x="176" y="30"/>
                  </a:cubicBezTo>
                  <a:cubicBezTo>
                    <a:pt x="67" y="30"/>
                    <a:pt x="67" y="30"/>
                    <a:pt x="67" y="30"/>
                  </a:cubicBezTo>
                  <a:cubicBezTo>
                    <a:pt x="70" y="29"/>
                    <a:pt x="72" y="27"/>
                    <a:pt x="74" y="25"/>
                  </a:cubicBezTo>
                  <a:cubicBezTo>
                    <a:pt x="79" y="19"/>
                    <a:pt x="78" y="11"/>
                    <a:pt x="73" y="6"/>
                  </a:cubicBezTo>
                  <a:cubicBezTo>
                    <a:pt x="68" y="1"/>
                    <a:pt x="61" y="0"/>
                    <a:pt x="55" y="4"/>
                  </a:cubicBezTo>
                  <a:cubicBezTo>
                    <a:pt x="49" y="8"/>
                    <a:pt x="47" y="16"/>
                    <a:pt x="50" y="22"/>
                  </a:cubicBezTo>
                  <a:cubicBezTo>
                    <a:pt x="51" y="24"/>
                    <a:pt x="53" y="26"/>
                    <a:pt x="55" y="28"/>
                  </a:cubicBezTo>
                  <a:cubicBezTo>
                    <a:pt x="56" y="29"/>
                    <a:pt x="57" y="29"/>
                    <a:pt x="59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2" y="43"/>
                    <a:pt x="2" y="43"/>
                    <a:pt x="2" y="43"/>
                  </a:cubicBezTo>
                  <a:cubicBezTo>
                    <a:pt x="3" y="48"/>
                    <a:pt x="6" y="51"/>
                    <a:pt x="10" y="53"/>
                  </a:cubicBezTo>
                  <a:cubicBezTo>
                    <a:pt x="12" y="54"/>
                    <a:pt x="15" y="54"/>
                    <a:pt x="17" y="54"/>
                  </a:cubicBezTo>
                  <a:cubicBezTo>
                    <a:pt x="19" y="53"/>
                    <a:pt x="21" y="53"/>
                    <a:pt x="23" y="52"/>
                  </a:cubicBezTo>
                  <a:cubicBezTo>
                    <a:pt x="25" y="50"/>
                    <a:pt x="26" y="48"/>
                    <a:pt x="27" y="46"/>
                  </a:cubicBezTo>
                  <a:cubicBezTo>
                    <a:pt x="28" y="46"/>
                    <a:pt x="28" y="46"/>
                    <a:pt x="28" y="46"/>
                  </a:cubicBezTo>
                  <a:cubicBezTo>
                    <a:pt x="28" y="46"/>
                    <a:pt x="28" y="46"/>
                    <a:pt x="28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9" y="46"/>
                    <a:pt x="29" y="47"/>
                    <a:pt x="29" y="47"/>
                  </a:cubicBezTo>
                  <a:cubicBezTo>
                    <a:pt x="30" y="49"/>
                    <a:pt x="33" y="51"/>
                    <a:pt x="35" y="52"/>
                  </a:cubicBezTo>
                  <a:cubicBezTo>
                    <a:pt x="37" y="53"/>
                    <a:pt x="39" y="54"/>
                    <a:pt x="42" y="54"/>
                  </a:cubicBezTo>
                  <a:cubicBezTo>
                    <a:pt x="46" y="54"/>
                    <a:pt x="49" y="53"/>
                    <a:pt x="51" y="50"/>
                  </a:cubicBezTo>
                  <a:cubicBezTo>
                    <a:pt x="52" y="49"/>
                    <a:pt x="53" y="48"/>
                    <a:pt x="54" y="47"/>
                  </a:cubicBezTo>
                  <a:cubicBezTo>
                    <a:pt x="54" y="47"/>
                    <a:pt x="55" y="47"/>
                    <a:pt x="55" y="47"/>
                  </a:cubicBezTo>
                  <a:cubicBezTo>
                    <a:pt x="55" y="47"/>
                    <a:pt x="55" y="47"/>
                    <a:pt x="55" y="48"/>
                  </a:cubicBezTo>
                  <a:cubicBezTo>
                    <a:pt x="57" y="50"/>
                    <a:pt x="58" y="51"/>
                    <a:pt x="61" y="53"/>
                  </a:cubicBezTo>
                  <a:cubicBezTo>
                    <a:pt x="63" y="54"/>
                    <a:pt x="65" y="54"/>
                    <a:pt x="68" y="54"/>
                  </a:cubicBezTo>
                  <a:cubicBezTo>
                    <a:pt x="70" y="54"/>
                    <a:pt x="72" y="54"/>
                    <a:pt x="74" y="52"/>
                  </a:cubicBezTo>
                  <a:cubicBezTo>
                    <a:pt x="76" y="51"/>
                    <a:pt x="78" y="49"/>
                    <a:pt x="79" y="48"/>
                  </a:cubicBezTo>
                  <a:cubicBezTo>
                    <a:pt x="79" y="48"/>
                    <a:pt x="79" y="48"/>
                    <a:pt x="80" y="48"/>
                  </a:cubicBezTo>
                  <a:cubicBezTo>
                    <a:pt x="80" y="48"/>
                    <a:pt x="80" y="48"/>
                    <a:pt x="80" y="48"/>
                  </a:cubicBezTo>
                  <a:cubicBezTo>
                    <a:pt x="80" y="48"/>
                    <a:pt x="80" y="48"/>
                    <a:pt x="80" y="48"/>
                  </a:cubicBezTo>
                  <a:cubicBezTo>
                    <a:pt x="80" y="48"/>
                    <a:pt x="81" y="48"/>
                    <a:pt x="81" y="48"/>
                  </a:cubicBezTo>
                  <a:cubicBezTo>
                    <a:pt x="82" y="50"/>
                    <a:pt x="83" y="51"/>
                    <a:pt x="85" y="53"/>
                  </a:cubicBezTo>
                  <a:cubicBezTo>
                    <a:pt x="87" y="54"/>
                    <a:pt x="90" y="54"/>
                    <a:pt x="92" y="55"/>
                  </a:cubicBezTo>
                  <a:cubicBezTo>
                    <a:pt x="94" y="55"/>
                    <a:pt x="96" y="54"/>
                    <a:pt x="99" y="53"/>
                  </a:cubicBezTo>
                  <a:cubicBezTo>
                    <a:pt x="101" y="52"/>
                    <a:pt x="102" y="50"/>
                    <a:pt x="103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104" y="48"/>
                    <a:pt x="105" y="48"/>
                    <a:pt x="105" y="48"/>
                  </a:cubicBezTo>
                  <a:cubicBezTo>
                    <a:pt x="105" y="48"/>
                    <a:pt x="105" y="48"/>
                    <a:pt x="105" y="49"/>
                  </a:cubicBezTo>
                  <a:cubicBezTo>
                    <a:pt x="106" y="50"/>
                    <a:pt x="109" y="52"/>
                    <a:pt x="111" y="53"/>
                  </a:cubicBezTo>
                  <a:cubicBezTo>
                    <a:pt x="115" y="55"/>
                    <a:pt x="122" y="55"/>
                    <a:pt x="125" y="51"/>
                  </a:cubicBezTo>
                  <a:cubicBezTo>
                    <a:pt x="127" y="50"/>
                    <a:pt x="128" y="49"/>
                    <a:pt x="128" y="47"/>
                  </a:cubicBezTo>
                  <a:cubicBezTo>
                    <a:pt x="128" y="47"/>
                    <a:pt x="129" y="47"/>
                    <a:pt x="129" y="47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29" y="47"/>
                    <a:pt x="129" y="47"/>
                    <a:pt x="130" y="47"/>
                  </a:cubicBezTo>
                  <a:cubicBezTo>
                    <a:pt x="130" y="47"/>
                    <a:pt x="130" y="47"/>
                    <a:pt x="130" y="48"/>
                  </a:cubicBezTo>
                  <a:cubicBezTo>
                    <a:pt x="131" y="50"/>
                    <a:pt x="133" y="51"/>
                    <a:pt x="135" y="53"/>
                  </a:cubicBezTo>
                  <a:cubicBezTo>
                    <a:pt x="140" y="55"/>
                    <a:pt x="147" y="55"/>
                    <a:pt x="151" y="51"/>
                  </a:cubicBezTo>
                  <a:cubicBezTo>
                    <a:pt x="152" y="50"/>
                    <a:pt x="153" y="49"/>
                    <a:pt x="154" y="47"/>
                  </a:cubicBezTo>
                  <a:cubicBezTo>
                    <a:pt x="154" y="47"/>
                    <a:pt x="154" y="47"/>
                    <a:pt x="154" y="47"/>
                  </a:cubicBezTo>
                  <a:cubicBezTo>
                    <a:pt x="154" y="47"/>
                    <a:pt x="154" y="47"/>
                    <a:pt x="154" y="47"/>
                  </a:cubicBezTo>
                  <a:cubicBezTo>
                    <a:pt x="154" y="47"/>
                    <a:pt x="155" y="47"/>
                    <a:pt x="155" y="47"/>
                  </a:cubicBezTo>
                  <a:cubicBezTo>
                    <a:pt x="155" y="47"/>
                    <a:pt x="155" y="47"/>
                    <a:pt x="155" y="48"/>
                  </a:cubicBezTo>
                  <a:cubicBezTo>
                    <a:pt x="156" y="49"/>
                    <a:pt x="158" y="52"/>
                    <a:pt x="160" y="52"/>
                  </a:cubicBezTo>
                  <a:cubicBezTo>
                    <a:pt x="162" y="54"/>
                    <a:pt x="165" y="54"/>
                    <a:pt x="167" y="54"/>
                  </a:cubicBezTo>
                  <a:cubicBezTo>
                    <a:pt x="170" y="54"/>
                    <a:pt x="172" y="54"/>
                    <a:pt x="174" y="53"/>
                  </a:cubicBezTo>
                  <a:cubicBezTo>
                    <a:pt x="176" y="51"/>
                    <a:pt x="177" y="50"/>
                    <a:pt x="179" y="48"/>
                  </a:cubicBezTo>
                  <a:cubicBezTo>
                    <a:pt x="179" y="47"/>
                    <a:pt x="179" y="47"/>
                    <a:pt x="179" y="47"/>
                  </a:cubicBezTo>
                  <a:cubicBezTo>
                    <a:pt x="179" y="47"/>
                    <a:pt x="179" y="47"/>
                    <a:pt x="179" y="47"/>
                  </a:cubicBezTo>
                  <a:cubicBezTo>
                    <a:pt x="179" y="47"/>
                    <a:pt x="180" y="47"/>
                    <a:pt x="180" y="47"/>
                  </a:cubicBezTo>
                  <a:cubicBezTo>
                    <a:pt x="180" y="47"/>
                    <a:pt x="180" y="47"/>
                    <a:pt x="180" y="48"/>
                  </a:cubicBezTo>
                  <a:cubicBezTo>
                    <a:pt x="182" y="50"/>
                    <a:pt x="183" y="51"/>
                    <a:pt x="186" y="53"/>
                  </a:cubicBezTo>
                  <a:cubicBezTo>
                    <a:pt x="188" y="54"/>
                    <a:pt x="190" y="54"/>
                    <a:pt x="193" y="54"/>
                  </a:cubicBezTo>
                  <a:cubicBezTo>
                    <a:pt x="196" y="54"/>
                    <a:pt x="198" y="53"/>
                    <a:pt x="200" y="52"/>
                  </a:cubicBezTo>
                  <a:cubicBezTo>
                    <a:pt x="202" y="51"/>
                    <a:pt x="203" y="49"/>
                    <a:pt x="204" y="47"/>
                  </a:cubicBezTo>
                  <a:cubicBezTo>
                    <a:pt x="204" y="47"/>
                    <a:pt x="204" y="47"/>
                    <a:pt x="204" y="47"/>
                  </a:cubicBezTo>
                  <a:cubicBezTo>
                    <a:pt x="205" y="46"/>
                    <a:pt x="205" y="46"/>
                    <a:pt x="205" y="46"/>
                  </a:cubicBezTo>
                  <a:cubicBezTo>
                    <a:pt x="205" y="46"/>
                    <a:pt x="205" y="46"/>
                    <a:pt x="205" y="47"/>
                  </a:cubicBezTo>
                  <a:cubicBezTo>
                    <a:pt x="205" y="47"/>
                    <a:pt x="206" y="47"/>
                    <a:pt x="206" y="47"/>
                  </a:cubicBezTo>
                  <a:cubicBezTo>
                    <a:pt x="207" y="49"/>
                    <a:pt x="209" y="51"/>
                    <a:pt x="211" y="52"/>
                  </a:cubicBezTo>
                  <a:cubicBezTo>
                    <a:pt x="213" y="53"/>
                    <a:pt x="215" y="54"/>
                    <a:pt x="218" y="54"/>
                  </a:cubicBezTo>
                  <a:cubicBezTo>
                    <a:pt x="220" y="54"/>
                    <a:pt x="221" y="53"/>
                    <a:pt x="223" y="53"/>
                  </a:cubicBezTo>
                  <a:cubicBezTo>
                    <a:pt x="226" y="52"/>
                    <a:pt x="229" y="49"/>
                    <a:pt x="230" y="46"/>
                  </a:cubicBezTo>
                  <a:cubicBezTo>
                    <a:pt x="240" y="29"/>
                    <a:pt x="240" y="29"/>
                    <a:pt x="240" y="29"/>
                  </a:cubicBezTo>
                  <a:cubicBezTo>
                    <a:pt x="181" y="30"/>
                    <a:pt x="181" y="30"/>
                    <a:pt x="18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462"/>
            <p:cNvSpPr/>
            <p:nvPr/>
          </p:nvSpPr>
          <p:spPr>
            <a:xfrm>
              <a:off x="6854040" y="2372040"/>
              <a:ext cx="1274040" cy="313920"/>
            </a:xfrm>
            <a:custGeom>
              <a:avLst/>
              <a:gdLst>
                <a:gd name="textAreaLeft" fmla="*/ 0 w 1274040"/>
                <a:gd name="textAreaRight" fmla="*/ 1274400 w 127404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186" h="46">
                  <a:moveTo>
                    <a:pt x="126" y="18"/>
                  </a:moveTo>
                  <a:cubicBezTo>
                    <a:pt x="111" y="0"/>
                    <a:pt x="111" y="0"/>
                    <a:pt x="111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0" y="16"/>
                    <a:pt x="40" y="16"/>
                    <a:pt x="40" y="16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2"/>
                    <a:pt x="23" y="39"/>
                    <a:pt x="26" y="36"/>
                  </a:cubicBezTo>
                  <a:cubicBezTo>
                    <a:pt x="32" y="29"/>
                    <a:pt x="42" y="28"/>
                    <a:pt x="49" y="33"/>
                  </a:cubicBezTo>
                  <a:cubicBezTo>
                    <a:pt x="52" y="35"/>
                    <a:pt x="54" y="38"/>
                    <a:pt x="55" y="41"/>
                  </a:cubicBezTo>
                  <a:cubicBezTo>
                    <a:pt x="55" y="43"/>
                    <a:pt x="56" y="45"/>
                    <a:pt x="56" y="46"/>
                  </a:cubicBezTo>
                  <a:cubicBezTo>
                    <a:pt x="137" y="45"/>
                    <a:pt x="137" y="45"/>
                    <a:pt x="137" y="45"/>
                  </a:cubicBezTo>
                  <a:cubicBezTo>
                    <a:pt x="138" y="42"/>
                    <a:pt x="139" y="39"/>
                    <a:pt x="141" y="36"/>
                  </a:cubicBezTo>
                  <a:cubicBezTo>
                    <a:pt x="147" y="29"/>
                    <a:pt x="157" y="28"/>
                    <a:pt x="164" y="33"/>
                  </a:cubicBezTo>
                  <a:cubicBezTo>
                    <a:pt x="167" y="35"/>
                    <a:pt x="169" y="37"/>
                    <a:pt x="170" y="40"/>
                  </a:cubicBezTo>
                  <a:cubicBezTo>
                    <a:pt x="171" y="41"/>
                    <a:pt x="172" y="43"/>
                    <a:pt x="172" y="45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83" y="22"/>
                    <a:pt x="183" y="22"/>
                    <a:pt x="183" y="22"/>
                  </a:cubicBezTo>
                  <a:cubicBezTo>
                    <a:pt x="126" y="18"/>
                    <a:pt x="126" y="18"/>
                    <a:pt x="12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3"/>
          <p:cNvGrpSpPr/>
          <p:nvPr/>
        </p:nvGrpSpPr>
        <p:grpSpPr>
          <a:xfrm>
            <a:off x="4498560" y="2034720"/>
            <a:ext cx="623880" cy="1268280"/>
            <a:chOff x="4498560" y="2034720"/>
            <a:chExt cx="623880" cy="1268280"/>
          </a:xfrm>
        </p:grpSpPr>
        <p:sp>
          <p:nvSpPr>
            <p:cNvPr id="196" name="Freeform 475"/>
            <p:cNvSpPr/>
            <p:nvPr/>
          </p:nvSpPr>
          <p:spPr>
            <a:xfrm>
              <a:off x="4498560" y="2034720"/>
              <a:ext cx="323640" cy="1268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40" h="213">
                  <a:moveTo>
                    <a:pt x="27" y="206"/>
                  </a:moveTo>
                  <a:cubicBezTo>
                    <a:pt x="27" y="212"/>
                    <a:pt x="24" y="213"/>
                    <a:pt x="21" y="213"/>
                  </a:cubicBezTo>
                  <a:cubicBezTo>
                    <a:pt x="17" y="213"/>
                    <a:pt x="14" y="212"/>
                    <a:pt x="14" y="206"/>
                  </a:cubicBezTo>
                  <a:cubicBezTo>
                    <a:pt x="14" y="161"/>
                    <a:pt x="14" y="117"/>
                    <a:pt x="14" y="72"/>
                  </a:cubicBezTo>
                  <a:cubicBezTo>
                    <a:pt x="3" y="64"/>
                    <a:pt x="0" y="53"/>
                    <a:pt x="2" y="39"/>
                  </a:cubicBezTo>
                  <a:cubicBezTo>
                    <a:pt x="4" y="26"/>
                    <a:pt x="7" y="13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1" y="15"/>
                    <a:pt x="11" y="31"/>
                    <a:pt x="11" y="47"/>
                  </a:cubicBezTo>
                  <a:cubicBezTo>
                    <a:pt x="12" y="47"/>
                    <a:pt x="12" y="47"/>
                    <a:pt x="13" y="47"/>
                  </a:cubicBezTo>
                  <a:cubicBezTo>
                    <a:pt x="14" y="31"/>
                    <a:pt x="15" y="15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8" y="15"/>
                    <a:pt x="18" y="31"/>
                    <a:pt x="19" y="47"/>
                  </a:cubicBezTo>
                  <a:cubicBezTo>
                    <a:pt x="20" y="47"/>
                    <a:pt x="21" y="47"/>
                    <a:pt x="22" y="47"/>
                  </a:cubicBezTo>
                  <a:cubicBezTo>
                    <a:pt x="22" y="31"/>
                    <a:pt x="23" y="15"/>
                    <a:pt x="24" y="0"/>
                  </a:cubicBezTo>
                  <a:cubicBezTo>
                    <a:pt x="24" y="0"/>
                    <a:pt x="25" y="0"/>
                    <a:pt x="25" y="0"/>
                  </a:cubicBezTo>
                  <a:cubicBezTo>
                    <a:pt x="26" y="15"/>
                    <a:pt x="27" y="31"/>
                    <a:pt x="27" y="47"/>
                  </a:cubicBezTo>
                  <a:cubicBezTo>
                    <a:pt x="28" y="47"/>
                    <a:pt x="30" y="47"/>
                    <a:pt x="31" y="47"/>
                  </a:cubicBezTo>
                  <a:cubicBezTo>
                    <a:pt x="31" y="31"/>
                    <a:pt x="31" y="15"/>
                    <a:pt x="31" y="0"/>
                  </a:cubicBezTo>
                  <a:cubicBezTo>
                    <a:pt x="31" y="0"/>
                    <a:pt x="32" y="0"/>
                    <a:pt x="32" y="0"/>
                  </a:cubicBezTo>
                  <a:cubicBezTo>
                    <a:pt x="34" y="13"/>
                    <a:pt x="36" y="26"/>
                    <a:pt x="39" y="39"/>
                  </a:cubicBezTo>
                  <a:cubicBezTo>
                    <a:pt x="40" y="54"/>
                    <a:pt x="37" y="66"/>
                    <a:pt x="26" y="72"/>
                  </a:cubicBezTo>
                  <a:cubicBezTo>
                    <a:pt x="26" y="117"/>
                    <a:pt x="26" y="161"/>
                    <a:pt x="27" y="206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  <a:alpha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476"/>
            <p:cNvSpPr/>
            <p:nvPr/>
          </p:nvSpPr>
          <p:spPr>
            <a:xfrm>
              <a:off x="4907160" y="2034720"/>
              <a:ext cx="215280" cy="12682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24" h="214">
                  <a:moveTo>
                    <a:pt x="24" y="2"/>
                  </a:moveTo>
                  <a:cubicBezTo>
                    <a:pt x="24" y="70"/>
                    <a:pt x="24" y="139"/>
                    <a:pt x="24" y="208"/>
                  </a:cubicBezTo>
                  <a:cubicBezTo>
                    <a:pt x="23" y="212"/>
                    <a:pt x="21" y="214"/>
                    <a:pt x="17" y="214"/>
                  </a:cubicBezTo>
                  <a:cubicBezTo>
                    <a:pt x="13" y="214"/>
                    <a:pt x="11" y="213"/>
                    <a:pt x="11" y="208"/>
                  </a:cubicBezTo>
                  <a:cubicBezTo>
                    <a:pt x="11" y="174"/>
                    <a:pt x="11" y="139"/>
                    <a:pt x="11" y="105"/>
                  </a:cubicBezTo>
                  <a:cubicBezTo>
                    <a:pt x="11" y="98"/>
                    <a:pt x="11" y="92"/>
                    <a:pt x="5" y="86"/>
                  </a:cubicBezTo>
                  <a:cubicBezTo>
                    <a:pt x="2" y="84"/>
                    <a:pt x="0" y="80"/>
                    <a:pt x="0" y="75"/>
                  </a:cubicBezTo>
                  <a:cubicBezTo>
                    <a:pt x="0" y="54"/>
                    <a:pt x="0" y="34"/>
                    <a:pt x="1" y="14"/>
                  </a:cubicBezTo>
                  <a:cubicBezTo>
                    <a:pt x="0" y="0"/>
                    <a:pt x="14" y="1"/>
                    <a:pt x="24" y="2"/>
                  </a:cubicBezTo>
                  <a:close/>
                </a:path>
              </a:pathLst>
            </a:custGeom>
            <a:solidFill>
              <a:schemeClr val="tx1">
                <a:lumMod val="85000"/>
                <a:lumOff val="15000"/>
                <a:alpha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9557640" y="2018520"/>
            <a:ext cx="1049040" cy="1301040"/>
            <a:chOff x="9557640" y="2018520"/>
            <a:chExt cx="1049040" cy="1301040"/>
          </a:xfrm>
        </p:grpSpPr>
        <p:sp>
          <p:nvSpPr>
            <p:cNvPr id="199" name="Freeform 480"/>
            <p:cNvSpPr/>
            <p:nvPr/>
          </p:nvSpPr>
          <p:spPr>
            <a:xfrm>
              <a:off x="9557640" y="2018520"/>
              <a:ext cx="1049040" cy="1301040"/>
            </a:xfrm>
            <a:custGeom>
              <a:avLst/>
              <a:gdLst>
                <a:gd name="textAreaLeft" fmla="*/ 0 w 1049040"/>
                <a:gd name="textAreaRight" fmla="*/ 1049400 w 1049040"/>
                <a:gd name="textAreaTop" fmla="*/ 0 h 1301040"/>
                <a:gd name="textAreaBottom" fmla="*/ 1301400 h 1301040"/>
              </a:gdLst>
              <a:ahLst/>
              <a:rect l="textAreaLeft" t="textAreaTop" r="textAreaRight" b="textAreaBottom"/>
              <a:pathLst>
                <a:path w="193" h="240">
                  <a:moveTo>
                    <a:pt x="0" y="223"/>
                  </a:moveTo>
                  <a:cubicBezTo>
                    <a:pt x="51" y="223"/>
                    <a:pt x="51" y="223"/>
                    <a:pt x="51" y="223"/>
                  </a:cubicBezTo>
                  <a:cubicBezTo>
                    <a:pt x="51" y="9"/>
                    <a:pt x="51" y="9"/>
                    <a:pt x="51" y="9"/>
                  </a:cubicBezTo>
                  <a:cubicBezTo>
                    <a:pt x="51" y="9"/>
                    <a:pt x="51" y="9"/>
                    <a:pt x="51" y="9"/>
                  </a:cubicBezTo>
                  <a:cubicBezTo>
                    <a:pt x="51" y="4"/>
                    <a:pt x="55" y="0"/>
                    <a:pt x="60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42" y="0"/>
                    <a:pt x="146" y="4"/>
                    <a:pt x="146" y="9"/>
                  </a:cubicBezTo>
                  <a:cubicBezTo>
                    <a:pt x="146" y="24"/>
                    <a:pt x="146" y="24"/>
                    <a:pt x="146" y="24"/>
                  </a:cubicBezTo>
                  <a:cubicBezTo>
                    <a:pt x="167" y="41"/>
                    <a:pt x="167" y="41"/>
                    <a:pt x="167" y="41"/>
                  </a:cubicBezTo>
                  <a:cubicBezTo>
                    <a:pt x="171" y="44"/>
                    <a:pt x="173" y="49"/>
                    <a:pt x="173" y="53"/>
                  </a:cubicBezTo>
                  <a:cubicBezTo>
                    <a:pt x="173" y="83"/>
                    <a:pt x="173" y="110"/>
                    <a:pt x="173" y="134"/>
                  </a:cubicBezTo>
                  <a:cubicBezTo>
                    <a:pt x="173" y="161"/>
                    <a:pt x="189" y="182"/>
                    <a:pt x="189" y="202"/>
                  </a:cubicBezTo>
                  <a:cubicBezTo>
                    <a:pt x="189" y="213"/>
                    <a:pt x="181" y="221"/>
                    <a:pt x="171" y="221"/>
                  </a:cubicBezTo>
                  <a:cubicBezTo>
                    <a:pt x="162" y="221"/>
                    <a:pt x="154" y="214"/>
                    <a:pt x="152" y="206"/>
                  </a:cubicBezTo>
                  <a:cubicBezTo>
                    <a:pt x="148" y="192"/>
                    <a:pt x="150" y="122"/>
                    <a:pt x="150" y="106"/>
                  </a:cubicBezTo>
                  <a:cubicBezTo>
                    <a:pt x="146" y="106"/>
                    <a:pt x="146" y="106"/>
                    <a:pt x="146" y="106"/>
                  </a:cubicBezTo>
                  <a:cubicBezTo>
                    <a:pt x="146" y="223"/>
                    <a:pt x="146" y="223"/>
                    <a:pt x="146" y="223"/>
                  </a:cubicBezTo>
                  <a:cubicBezTo>
                    <a:pt x="193" y="223"/>
                    <a:pt x="193" y="223"/>
                    <a:pt x="193" y="223"/>
                  </a:cubicBezTo>
                  <a:cubicBezTo>
                    <a:pt x="193" y="240"/>
                    <a:pt x="193" y="240"/>
                    <a:pt x="193" y="240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0" y="223"/>
                    <a:pt x="0" y="223"/>
                    <a:pt x="0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482"/>
            <p:cNvSpPr/>
            <p:nvPr/>
          </p:nvSpPr>
          <p:spPr>
            <a:xfrm>
              <a:off x="9904680" y="2083680"/>
              <a:ext cx="376560" cy="303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69" h="56">
                  <a:moveTo>
                    <a:pt x="6" y="0"/>
                  </a:moveTo>
                  <a:cubicBezTo>
                    <a:pt x="63" y="0"/>
                    <a:pt x="63" y="0"/>
                    <a:pt x="63" y="0"/>
                  </a:cubicBezTo>
                  <a:cubicBezTo>
                    <a:pt x="66" y="0"/>
                    <a:pt x="69" y="3"/>
                    <a:pt x="69" y="6"/>
                  </a:cubicBezTo>
                  <a:cubicBezTo>
                    <a:pt x="69" y="50"/>
                    <a:pt x="69" y="50"/>
                    <a:pt x="69" y="50"/>
                  </a:cubicBezTo>
                  <a:cubicBezTo>
                    <a:pt x="69" y="53"/>
                    <a:pt x="66" y="56"/>
                    <a:pt x="63" y="56"/>
                  </a:cubicBezTo>
                  <a:cubicBezTo>
                    <a:pt x="6" y="56"/>
                    <a:pt x="6" y="56"/>
                    <a:pt x="6" y="56"/>
                  </a:cubicBezTo>
                  <a:cubicBezTo>
                    <a:pt x="3" y="56"/>
                    <a:pt x="0" y="53"/>
                    <a:pt x="0" y="5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24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文本框 48"/>
          <p:cNvSpPr/>
          <p:nvPr/>
        </p:nvSpPr>
        <p:spPr>
          <a:xfrm>
            <a:off x="1049760" y="4713480"/>
            <a:ext cx="2113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5"/>
          <p:cNvSpPr/>
          <p:nvPr/>
        </p:nvSpPr>
        <p:spPr>
          <a:xfrm>
            <a:off x="4099680" y="411840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6"/>
          <p:cNvSpPr/>
          <p:nvPr/>
        </p:nvSpPr>
        <p:spPr>
          <a:xfrm>
            <a:off x="3756600" y="4713480"/>
            <a:ext cx="2113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7"/>
          <p:cNvSpPr/>
          <p:nvPr/>
        </p:nvSpPr>
        <p:spPr>
          <a:xfrm>
            <a:off x="6806520" y="411840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8"/>
          <p:cNvSpPr/>
          <p:nvPr/>
        </p:nvSpPr>
        <p:spPr>
          <a:xfrm>
            <a:off x="6463800" y="4713480"/>
            <a:ext cx="2113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9"/>
          <p:cNvSpPr/>
          <p:nvPr/>
        </p:nvSpPr>
        <p:spPr>
          <a:xfrm>
            <a:off x="9371160" y="411840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0"/>
          <p:cNvSpPr/>
          <p:nvPr/>
        </p:nvSpPr>
        <p:spPr>
          <a:xfrm>
            <a:off x="9028440" y="4713480"/>
            <a:ext cx="2113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"/>
          <p:cNvSpPr/>
          <p:nvPr/>
        </p:nvSpPr>
        <p:spPr>
          <a:xfrm>
            <a:off x="16556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同心圆 102"/>
          <p:cNvSpPr/>
          <p:nvPr/>
        </p:nvSpPr>
        <p:spPr>
          <a:xfrm>
            <a:off x="3764520" y="1097640"/>
            <a:ext cx="4662360" cy="4662360"/>
          </a:xfrm>
          <a:prstGeom prst="donut">
            <a:avLst>
              <a:gd name="adj" fmla="val 22195"/>
            </a:avLst>
          </a:prstGeom>
          <a:solidFill>
            <a:srgbClr val="4c4e4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椭圆 103"/>
          <p:cNvSpPr/>
          <p:nvPr/>
        </p:nvSpPr>
        <p:spPr>
          <a:xfrm>
            <a:off x="3808440" y="1141560"/>
            <a:ext cx="4574880" cy="4574880"/>
          </a:xfrm>
          <a:prstGeom prst="ellipse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椭圆 256"/>
          <p:cNvSpPr/>
          <p:nvPr/>
        </p:nvSpPr>
        <p:spPr>
          <a:xfrm>
            <a:off x="4749840" y="2082960"/>
            <a:ext cx="2692080" cy="2692080"/>
          </a:xfrm>
          <a:prstGeom prst="ellipse">
            <a:avLst/>
          </a:prstGeom>
          <a:noFill/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椭圆 257"/>
          <p:cNvSpPr/>
          <p:nvPr/>
        </p:nvSpPr>
        <p:spPr>
          <a:xfrm>
            <a:off x="4241880" y="1574640"/>
            <a:ext cx="3708000" cy="3708000"/>
          </a:xfrm>
          <a:prstGeom prst="ellipse">
            <a:avLst/>
          </a:prstGeom>
          <a:noFill/>
          <a:ln w="31750">
            <a:solidFill>
              <a:srgbClr val="ffffff"/>
            </a:solidFill>
            <a:prstDash val="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4" name="图片 258" descr=""/>
          <p:cNvPicPr/>
          <p:nvPr/>
        </p:nvPicPr>
        <p:blipFill>
          <a:blip r:embed="rId1"/>
          <a:stretch/>
        </p:blipFill>
        <p:spPr>
          <a:xfrm flipH="1" rot="19145400">
            <a:off x="4511160" y="2033280"/>
            <a:ext cx="956520" cy="5734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259" descr=""/>
          <p:cNvPicPr/>
          <p:nvPr/>
        </p:nvPicPr>
        <p:blipFill>
          <a:blip r:embed="rId2"/>
          <a:stretch/>
        </p:blipFill>
        <p:spPr>
          <a:xfrm flipH="1" rot="2879400">
            <a:off x="6816600" y="2104920"/>
            <a:ext cx="956520" cy="5734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60" descr=""/>
          <p:cNvPicPr/>
          <p:nvPr/>
        </p:nvPicPr>
        <p:blipFill>
          <a:blip r:embed="rId3"/>
          <a:stretch/>
        </p:blipFill>
        <p:spPr>
          <a:xfrm flipH="1" rot="13387800">
            <a:off x="4456080" y="4199760"/>
            <a:ext cx="956520" cy="5734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261" descr=""/>
          <p:cNvPicPr/>
          <p:nvPr/>
        </p:nvPicPr>
        <p:blipFill>
          <a:blip r:embed="rId4"/>
          <a:stretch/>
        </p:blipFill>
        <p:spPr>
          <a:xfrm flipH="1" rot="8016000">
            <a:off x="6776280" y="4252680"/>
            <a:ext cx="956520" cy="5734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08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1000" contrast="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783320" y="2130120"/>
            <a:ext cx="2578320" cy="257832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合 124"/>
          <p:cNvGrpSpPr/>
          <p:nvPr/>
        </p:nvGrpSpPr>
        <p:grpSpPr>
          <a:xfrm>
            <a:off x="1062720" y="1494360"/>
            <a:ext cx="3965400" cy="934920"/>
            <a:chOff x="1062720" y="1494360"/>
            <a:chExt cx="3965400" cy="934920"/>
          </a:xfrm>
        </p:grpSpPr>
        <p:sp>
          <p:nvSpPr>
            <p:cNvPr id="220" name="同心圆 112"/>
            <p:cNvSpPr/>
            <p:nvPr/>
          </p:nvSpPr>
          <p:spPr>
            <a:xfrm>
              <a:off x="4867560" y="2268720"/>
              <a:ext cx="16056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1" name="肘形连接符 114"/>
            <p:cNvCxnSpPr>
              <a:stCxn id="220" idx="2"/>
              <a:endCxn id="222" idx="1"/>
            </p:cNvCxnSpPr>
            <p:nvPr/>
          </p:nvCxnSpPr>
          <p:spPr>
            <a:xfrm rot="10800000">
              <a:off x="1223280" y="1574280"/>
              <a:ext cx="3644280" cy="774720"/>
            </a:xfrm>
            <a:prstGeom prst="bentConnector2">
              <a:avLst/>
            </a:prstGeom>
            <a:ln w="31750">
              <a:solidFill>
                <a:srgbClr val="f27405">
                  <a:alpha val="60000"/>
                </a:srgbClr>
              </a:solidFill>
            </a:ln>
          </p:spPr>
        </p:cxnSp>
        <p:sp>
          <p:nvSpPr>
            <p:cNvPr id="222" name="同心圆 282"/>
            <p:cNvSpPr/>
            <p:nvPr/>
          </p:nvSpPr>
          <p:spPr>
            <a:xfrm>
              <a:off x="1062720" y="1494360"/>
              <a:ext cx="16056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293"/>
          <p:cNvGrpSpPr/>
          <p:nvPr/>
        </p:nvGrpSpPr>
        <p:grpSpPr>
          <a:xfrm>
            <a:off x="7206120" y="1494360"/>
            <a:ext cx="3930120" cy="934920"/>
            <a:chOff x="7206120" y="1494360"/>
            <a:chExt cx="3930120" cy="934920"/>
          </a:xfrm>
        </p:grpSpPr>
        <p:sp>
          <p:nvSpPr>
            <p:cNvPr id="224" name="同心圆 294"/>
            <p:cNvSpPr/>
            <p:nvPr/>
          </p:nvSpPr>
          <p:spPr>
            <a:xfrm flipH="1">
              <a:off x="7206120" y="2268720"/>
              <a:ext cx="15912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5" name="肘形连接符 295"/>
            <p:cNvCxnSpPr>
              <a:stCxn id="224" idx="2"/>
              <a:endCxn id="226" idx="1"/>
            </p:cNvCxnSpPr>
            <p:nvPr/>
          </p:nvCxnSpPr>
          <p:spPr>
            <a:xfrm flipV="1">
              <a:off x="7365240" y="1574640"/>
              <a:ext cx="3611880" cy="774720"/>
            </a:xfrm>
            <a:prstGeom prst="bentConnector2">
              <a:avLst/>
            </a:prstGeom>
            <a:ln w="31750">
              <a:solidFill>
                <a:srgbClr val="f27405">
                  <a:alpha val="60000"/>
                </a:srgbClr>
              </a:solidFill>
            </a:ln>
          </p:spPr>
        </p:cxnSp>
        <p:sp>
          <p:nvSpPr>
            <p:cNvPr id="226" name="同心圆 296"/>
            <p:cNvSpPr/>
            <p:nvPr/>
          </p:nvSpPr>
          <p:spPr>
            <a:xfrm flipH="1">
              <a:off x="10977120" y="1494360"/>
              <a:ext cx="15912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297"/>
          <p:cNvGrpSpPr/>
          <p:nvPr/>
        </p:nvGrpSpPr>
        <p:grpSpPr>
          <a:xfrm>
            <a:off x="1062720" y="4441320"/>
            <a:ext cx="3965400" cy="934920"/>
            <a:chOff x="1062720" y="4441320"/>
            <a:chExt cx="3965400" cy="934920"/>
          </a:xfrm>
        </p:grpSpPr>
        <p:sp>
          <p:nvSpPr>
            <p:cNvPr id="228" name="同心圆 298"/>
            <p:cNvSpPr/>
            <p:nvPr/>
          </p:nvSpPr>
          <p:spPr>
            <a:xfrm flipV="1">
              <a:off x="4867560" y="4441320"/>
              <a:ext cx="16056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9" name="肘形连接符 299"/>
            <p:cNvCxnSpPr>
              <a:stCxn id="228" idx="2"/>
              <a:endCxn id="230" idx="1"/>
            </p:cNvCxnSpPr>
            <p:nvPr/>
          </p:nvCxnSpPr>
          <p:spPr>
            <a:xfrm flipV="1" rot="10800000">
              <a:off x="1223280" y="4521240"/>
              <a:ext cx="3644280" cy="774720"/>
            </a:xfrm>
            <a:prstGeom prst="bentConnector2">
              <a:avLst/>
            </a:prstGeom>
            <a:ln w="31750">
              <a:solidFill>
                <a:srgbClr val="f27405">
                  <a:alpha val="60000"/>
                </a:srgbClr>
              </a:solidFill>
            </a:ln>
          </p:spPr>
        </p:cxnSp>
        <p:sp>
          <p:nvSpPr>
            <p:cNvPr id="230" name="同心圆 300"/>
            <p:cNvSpPr/>
            <p:nvPr/>
          </p:nvSpPr>
          <p:spPr>
            <a:xfrm flipV="1">
              <a:off x="1062720" y="5215680"/>
              <a:ext cx="160560" cy="160560"/>
            </a:xfrm>
            <a:prstGeom prst="donut">
              <a:avLst>
                <a:gd name="adj" fmla="val 17017"/>
              </a:avLst>
            </a:prstGeom>
            <a:solidFill>
              <a:srgbClr val="f27405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01"/>
          <p:cNvGrpSpPr/>
          <p:nvPr/>
        </p:nvGrpSpPr>
        <p:grpSpPr>
          <a:xfrm>
            <a:off x="7206480" y="4441680"/>
            <a:ext cx="3940920" cy="934560"/>
            <a:chOff x="7206480" y="4441680"/>
            <a:chExt cx="3940920" cy="934560"/>
          </a:xfrm>
        </p:grpSpPr>
        <p:sp>
          <p:nvSpPr>
            <p:cNvPr id="232" name="同心圆 302"/>
            <p:cNvSpPr/>
            <p:nvPr/>
          </p:nvSpPr>
          <p:spPr>
            <a:xfrm rot="10800000">
              <a:off x="7206480" y="4441680"/>
              <a:ext cx="159480" cy="160560"/>
            </a:xfrm>
            <a:prstGeom prst="donut">
              <a:avLst>
                <a:gd name="adj" fmla="val 17017"/>
              </a:avLst>
            </a:prstGeom>
            <a:noFill/>
            <a:ln w="31750">
              <a:solidFill>
                <a:srgbClr val="f27405">
                  <a:alpha val="60000"/>
                </a:srgbClr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3" name="肘形连接符 303"/>
            <p:cNvCxnSpPr>
              <a:stCxn id="232" idx="2"/>
              <a:endCxn id="234" idx="1"/>
            </p:cNvCxnSpPr>
            <p:nvPr/>
          </p:nvCxnSpPr>
          <p:spPr>
            <a:xfrm>
              <a:off x="7365600" y="4521600"/>
              <a:ext cx="3622320" cy="774720"/>
            </a:xfrm>
            <a:prstGeom prst="bentConnector2">
              <a:avLst/>
            </a:prstGeom>
            <a:ln w="31750">
              <a:solidFill>
                <a:srgbClr val="f27405">
                  <a:alpha val="60000"/>
                </a:srgbClr>
              </a:solidFill>
            </a:ln>
          </p:spPr>
        </p:cxnSp>
        <p:sp>
          <p:nvSpPr>
            <p:cNvPr id="234" name="同心圆 304"/>
            <p:cNvSpPr/>
            <p:nvPr/>
          </p:nvSpPr>
          <p:spPr>
            <a:xfrm rot="10800000">
              <a:off x="10987920" y="5215680"/>
              <a:ext cx="159480" cy="160560"/>
            </a:xfrm>
            <a:prstGeom prst="donut">
              <a:avLst>
                <a:gd name="adj" fmla="val 17017"/>
              </a:avLst>
            </a:prstGeom>
            <a:noFill/>
            <a:ln w="31750">
              <a:solidFill>
                <a:srgbClr val="f27405">
                  <a:alpha val="60000"/>
                </a:srgbClr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Freeform 109"/>
          <p:cNvSpPr/>
          <p:nvPr/>
        </p:nvSpPr>
        <p:spPr>
          <a:xfrm>
            <a:off x="1094760" y="1707120"/>
            <a:ext cx="750960" cy="810720"/>
          </a:xfrm>
          <a:custGeom>
            <a:avLst/>
            <a:gdLst>
              <a:gd name="textAreaLeft" fmla="*/ 0 w 750960"/>
              <a:gd name="textAreaRight" fmla="*/ 751320 w 75096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646" h="698">
                <a:moveTo>
                  <a:pt x="508" y="357"/>
                </a:moveTo>
                <a:cubicBezTo>
                  <a:pt x="646" y="220"/>
                  <a:pt x="646" y="220"/>
                  <a:pt x="646" y="220"/>
                </a:cubicBezTo>
                <a:cubicBezTo>
                  <a:pt x="508" y="82"/>
                  <a:pt x="508" y="82"/>
                  <a:pt x="508" y="82"/>
                </a:cubicBezTo>
                <a:cubicBezTo>
                  <a:pt x="323" y="82"/>
                  <a:pt x="323" y="82"/>
                  <a:pt x="323" y="82"/>
                </a:cubicBezTo>
                <a:cubicBezTo>
                  <a:pt x="323" y="15"/>
                  <a:pt x="323" y="15"/>
                  <a:pt x="323" y="15"/>
                </a:cubicBezTo>
                <a:cubicBezTo>
                  <a:pt x="323" y="7"/>
                  <a:pt x="316" y="0"/>
                  <a:pt x="308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45" y="0"/>
                  <a:pt x="238" y="7"/>
                  <a:pt x="238" y="15"/>
                </a:cubicBezTo>
                <a:cubicBezTo>
                  <a:pt x="238" y="82"/>
                  <a:pt x="238" y="82"/>
                  <a:pt x="238" y="82"/>
                </a:cubicBezTo>
                <a:cubicBezTo>
                  <a:pt x="7" y="82"/>
                  <a:pt x="7" y="82"/>
                  <a:pt x="7" y="82"/>
                </a:cubicBezTo>
                <a:cubicBezTo>
                  <a:pt x="3" y="82"/>
                  <a:pt x="0" y="85"/>
                  <a:pt x="0" y="89"/>
                </a:cubicBezTo>
                <a:cubicBezTo>
                  <a:pt x="0" y="350"/>
                  <a:pt x="0" y="350"/>
                  <a:pt x="0" y="350"/>
                </a:cubicBezTo>
                <a:cubicBezTo>
                  <a:pt x="0" y="354"/>
                  <a:pt x="3" y="357"/>
                  <a:pt x="7" y="357"/>
                </a:cubicBezTo>
                <a:cubicBezTo>
                  <a:pt x="238" y="357"/>
                  <a:pt x="238" y="357"/>
                  <a:pt x="238" y="357"/>
                </a:cubicBezTo>
                <a:cubicBezTo>
                  <a:pt x="238" y="412"/>
                  <a:pt x="238" y="412"/>
                  <a:pt x="238" y="412"/>
                </a:cubicBezTo>
                <a:cubicBezTo>
                  <a:pt x="152" y="412"/>
                  <a:pt x="152" y="412"/>
                  <a:pt x="152" y="412"/>
                </a:cubicBezTo>
                <a:cubicBezTo>
                  <a:pt x="83" y="480"/>
                  <a:pt x="83" y="480"/>
                  <a:pt x="83" y="480"/>
                </a:cubicBezTo>
                <a:cubicBezTo>
                  <a:pt x="152" y="549"/>
                  <a:pt x="152" y="549"/>
                  <a:pt x="152" y="549"/>
                </a:cubicBezTo>
                <a:cubicBezTo>
                  <a:pt x="238" y="549"/>
                  <a:pt x="238" y="549"/>
                  <a:pt x="238" y="549"/>
                </a:cubicBezTo>
                <a:cubicBezTo>
                  <a:pt x="238" y="683"/>
                  <a:pt x="238" y="683"/>
                  <a:pt x="238" y="683"/>
                </a:cubicBezTo>
                <a:cubicBezTo>
                  <a:pt x="238" y="691"/>
                  <a:pt x="245" y="698"/>
                  <a:pt x="253" y="698"/>
                </a:cubicBezTo>
                <a:cubicBezTo>
                  <a:pt x="308" y="698"/>
                  <a:pt x="308" y="698"/>
                  <a:pt x="308" y="698"/>
                </a:cubicBezTo>
                <a:cubicBezTo>
                  <a:pt x="316" y="698"/>
                  <a:pt x="323" y="691"/>
                  <a:pt x="323" y="683"/>
                </a:cubicBezTo>
                <a:cubicBezTo>
                  <a:pt x="323" y="549"/>
                  <a:pt x="323" y="549"/>
                  <a:pt x="323" y="549"/>
                </a:cubicBezTo>
                <a:cubicBezTo>
                  <a:pt x="428" y="549"/>
                  <a:pt x="428" y="549"/>
                  <a:pt x="428" y="549"/>
                </a:cubicBezTo>
                <a:cubicBezTo>
                  <a:pt x="432" y="549"/>
                  <a:pt x="436" y="546"/>
                  <a:pt x="436" y="542"/>
                </a:cubicBezTo>
                <a:cubicBezTo>
                  <a:pt x="436" y="419"/>
                  <a:pt x="436" y="419"/>
                  <a:pt x="436" y="419"/>
                </a:cubicBezTo>
                <a:cubicBezTo>
                  <a:pt x="436" y="415"/>
                  <a:pt x="432" y="412"/>
                  <a:pt x="428" y="412"/>
                </a:cubicBezTo>
                <a:cubicBezTo>
                  <a:pt x="323" y="412"/>
                  <a:pt x="323" y="412"/>
                  <a:pt x="323" y="412"/>
                </a:cubicBezTo>
                <a:cubicBezTo>
                  <a:pt x="323" y="357"/>
                  <a:pt x="323" y="357"/>
                  <a:pt x="323" y="357"/>
                </a:cubicBezTo>
                <a:cubicBezTo>
                  <a:pt x="508" y="357"/>
                  <a:pt x="508" y="357"/>
                  <a:pt x="508" y="357"/>
                </a:cubicBezTo>
                <a:close/>
              </a:path>
            </a:pathLst>
          </a:custGeom>
          <a:solidFill>
            <a:srgbClr val="f2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253"/>
          <p:cNvSpPr/>
          <p:nvPr/>
        </p:nvSpPr>
        <p:spPr>
          <a:xfrm>
            <a:off x="1263600" y="1793160"/>
            <a:ext cx="38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09"/>
          <p:cNvSpPr/>
          <p:nvPr/>
        </p:nvSpPr>
        <p:spPr>
          <a:xfrm>
            <a:off x="8796960" y="1763640"/>
            <a:ext cx="750960" cy="810720"/>
          </a:xfrm>
          <a:custGeom>
            <a:avLst/>
            <a:gdLst>
              <a:gd name="textAreaLeft" fmla="*/ 0 w 750960"/>
              <a:gd name="textAreaRight" fmla="*/ 751320 w 75096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646" h="698">
                <a:moveTo>
                  <a:pt x="508" y="357"/>
                </a:moveTo>
                <a:cubicBezTo>
                  <a:pt x="646" y="220"/>
                  <a:pt x="646" y="220"/>
                  <a:pt x="646" y="220"/>
                </a:cubicBezTo>
                <a:cubicBezTo>
                  <a:pt x="508" y="82"/>
                  <a:pt x="508" y="82"/>
                  <a:pt x="508" y="82"/>
                </a:cubicBezTo>
                <a:cubicBezTo>
                  <a:pt x="323" y="82"/>
                  <a:pt x="323" y="82"/>
                  <a:pt x="323" y="82"/>
                </a:cubicBezTo>
                <a:cubicBezTo>
                  <a:pt x="323" y="15"/>
                  <a:pt x="323" y="15"/>
                  <a:pt x="323" y="15"/>
                </a:cubicBezTo>
                <a:cubicBezTo>
                  <a:pt x="323" y="7"/>
                  <a:pt x="316" y="0"/>
                  <a:pt x="308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45" y="0"/>
                  <a:pt x="238" y="7"/>
                  <a:pt x="238" y="15"/>
                </a:cubicBezTo>
                <a:cubicBezTo>
                  <a:pt x="238" y="82"/>
                  <a:pt x="238" y="82"/>
                  <a:pt x="238" y="82"/>
                </a:cubicBezTo>
                <a:cubicBezTo>
                  <a:pt x="7" y="82"/>
                  <a:pt x="7" y="82"/>
                  <a:pt x="7" y="82"/>
                </a:cubicBezTo>
                <a:cubicBezTo>
                  <a:pt x="3" y="82"/>
                  <a:pt x="0" y="85"/>
                  <a:pt x="0" y="89"/>
                </a:cubicBezTo>
                <a:cubicBezTo>
                  <a:pt x="0" y="350"/>
                  <a:pt x="0" y="350"/>
                  <a:pt x="0" y="350"/>
                </a:cubicBezTo>
                <a:cubicBezTo>
                  <a:pt x="0" y="354"/>
                  <a:pt x="3" y="357"/>
                  <a:pt x="7" y="357"/>
                </a:cubicBezTo>
                <a:cubicBezTo>
                  <a:pt x="238" y="357"/>
                  <a:pt x="238" y="357"/>
                  <a:pt x="238" y="357"/>
                </a:cubicBezTo>
                <a:cubicBezTo>
                  <a:pt x="238" y="412"/>
                  <a:pt x="238" y="412"/>
                  <a:pt x="238" y="412"/>
                </a:cubicBezTo>
                <a:cubicBezTo>
                  <a:pt x="152" y="412"/>
                  <a:pt x="152" y="412"/>
                  <a:pt x="152" y="412"/>
                </a:cubicBezTo>
                <a:cubicBezTo>
                  <a:pt x="83" y="480"/>
                  <a:pt x="83" y="480"/>
                  <a:pt x="83" y="480"/>
                </a:cubicBezTo>
                <a:cubicBezTo>
                  <a:pt x="152" y="549"/>
                  <a:pt x="152" y="549"/>
                  <a:pt x="152" y="549"/>
                </a:cubicBezTo>
                <a:cubicBezTo>
                  <a:pt x="238" y="549"/>
                  <a:pt x="238" y="549"/>
                  <a:pt x="238" y="549"/>
                </a:cubicBezTo>
                <a:cubicBezTo>
                  <a:pt x="238" y="683"/>
                  <a:pt x="238" y="683"/>
                  <a:pt x="238" y="683"/>
                </a:cubicBezTo>
                <a:cubicBezTo>
                  <a:pt x="238" y="691"/>
                  <a:pt x="245" y="698"/>
                  <a:pt x="253" y="698"/>
                </a:cubicBezTo>
                <a:cubicBezTo>
                  <a:pt x="308" y="698"/>
                  <a:pt x="308" y="698"/>
                  <a:pt x="308" y="698"/>
                </a:cubicBezTo>
                <a:cubicBezTo>
                  <a:pt x="316" y="698"/>
                  <a:pt x="323" y="691"/>
                  <a:pt x="323" y="683"/>
                </a:cubicBezTo>
                <a:cubicBezTo>
                  <a:pt x="323" y="549"/>
                  <a:pt x="323" y="549"/>
                  <a:pt x="323" y="549"/>
                </a:cubicBezTo>
                <a:cubicBezTo>
                  <a:pt x="428" y="549"/>
                  <a:pt x="428" y="549"/>
                  <a:pt x="428" y="549"/>
                </a:cubicBezTo>
                <a:cubicBezTo>
                  <a:pt x="432" y="549"/>
                  <a:pt x="436" y="546"/>
                  <a:pt x="436" y="542"/>
                </a:cubicBezTo>
                <a:cubicBezTo>
                  <a:pt x="436" y="419"/>
                  <a:pt x="436" y="419"/>
                  <a:pt x="436" y="419"/>
                </a:cubicBezTo>
                <a:cubicBezTo>
                  <a:pt x="436" y="415"/>
                  <a:pt x="432" y="412"/>
                  <a:pt x="428" y="412"/>
                </a:cubicBezTo>
                <a:cubicBezTo>
                  <a:pt x="323" y="412"/>
                  <a:pt x="323" y="412"/>
                  <a:pt x="323" y="412"/>
                </a:cubicBezTo>
                <a:cubicBezTo>
                  <a:pt x="323" y="357"/>
                  <a:pt x="323" y="357"/>
                  <a:pt x="323" y="357"/>
                </a:cubicBezTo>
                <a:cubicBezTo>
                  <a:pt x="508" y="357"/>
                  <a:pt x="508" y="357"/>
                  <a:pt x="508" y="357"/>
                </a:cubicBezTo>
                <a:close/>
              </a:path>
            </a:pathLst>
          </a:custGeom>
          <a:solidFill>
            <a:srgbClr val="f2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文本框 315"/>
          <p:cNvSpPr/>
          <p:nvPr/>
        </p:nvSpPr>
        <p:spPr>
          <a:xfrm>
            <a:off x="8953200" y="1849680"/>
            <a:ext cx="4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09"/>
          <p:cNvSpPr/>
          <p:nvPr/>
        </p:nvSpPr>
        <p:spPr>
          <a:xfrm>
            <a:off x="1083600" y="3551760"/>
            <a:ext cx="750960" cy="810720"/>
          </a:xfrm>
          <a:custGeom>
            <a:avLst/>
            <a:gdLst>
              <a:gd name="textAreaLeft" fmla="*/ 0 w 750960"/>
              <a:gd name="textAreaRight" fmla="*/ 751320 w 75096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646" h="698">
                <a:moveTo>
                  <a:pt x="508" y="357"/>
                </a:moveTo>
                <a:cubicBezTo>
                  <a:pt x="646" y="220"/>
                  <a:pt x="646" y="220"/>
                  <a:pt x="646" y="220"/>
                </a:cubicBezTo>
                <a:cubicBezTo>
                  <a:pt x="508" y="82"/>
                  <a:pt x="508" y="82"/>
                  <a:pt x="508" y="82"/>
                </a:cubicBezTo>
                <a:cubicBezTo>
                  <a:pt x="323" y="82"/>
                  <a:pt x="323" y="82"/>
                  <a:pt x="323" y="82"/>
                </a:cubicBezTo>
                <a:cubicBezTo>
                  <a:pt x="323" y="15"/>
                  <a:pt x="323" y="15"/>
                  <a:pt x="323" y="15"/>
                </a:cubicBezTo>
                <a:cubicBezTo>
                  <a:pt x="323" y="7"/>
                  <a:pt x="316" y="0"/>
                  <a:pt x="308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45" y="0"/>
                  <a:pt x="238" y="7"/>
                  <a:pt x="238" y="15"/>
                </a:cubicBezTo>
                <a:cubicBezTo>
                  <a:pt x="238" y="82"/>
                  <a:pt x="238" y="82"/>
                  <a:pt x="238" y="82"/>
                </a:cubicBezTo>
                <a:cubicBezTo>
                  <a:pt x="7" y="82"/>
                  <a:pt x="7" y="82"/>
                  <a:pt x="7" y="82"/>
                </a:cubicBezTo>
                <a:cubicBezTo>
                  <a:pt x="3" y="82"/>
                  <a:pt x="0" y="85"/>
                  <a:pt x="0" y="89"/>
                </a:cubicBezTo>
                <a:cubicBezTo>
                  <a:pt x="0" y="350"/>
                  <a:pt x="0" y="350"/>
                  <a:pt x="0" y="350"/>
                </a:cubicBezTo>
                <a:cubicBezTo>
                  <a:pt x="0" y="354"/>
                  <a:pt x="3" y="357"/>
                  <a:pt x="7" y="357"/>
                </a:cubicBezTo>
                <a:cubicBezTo>
                  <a:pt x="238" y="357"/>
                  <a:pt x="238" y="357"/>
                  <a:pt x="238" y="357"/>
                </a:cubicBezTo>
                <a:cubicBezTo>
                  <a:pt x="238" y="412"/>
                  <a:pt x="238" y="412"/>
                  <a:pt x="238" y="412"/>
                </a:cubicBezTo>
                <a:cubicBezTo>
                  <a:pt x="152" y="412"/>
                  <a:pt x="152" y="412"/>
                  <a:pt x="152" y="412"/>
                </a:cubicBezTo>
                <a:cubicBezTo>
                  <a:pt x="83" y="480"/>
                  <a:pt x="83" y="480"/>
                  <a:pt x="83" y="480"/>
                </a:cubicBezTo>
                <a:cubicBezTo>
                  <a:pt x="152" y="549"/>
                  <a:pt x="152" y="549"/>
                  <a:pt x="152" y="549"/>
                </a:cubicBezTo>
                <a:cubicBezTo>
                  <a:pt x="238" y="549"/>
                  <a:pt x="238" y="549"/>
                  <a:pt x="238" y="549"/>
                </a:cubicBezTo>
                <a:cubicBezTo>
                  <a:pt x="238" y="683"/>
                  <a:pt x="238" y="683"/>
                  <a:pt x="238" y="683"/>
                </a:cubicBezTo>
                <a:cubicBezTo>
                  <a:pt x="238" y="691"/>
                  <a:pt x="245" y="698"/>
                  <a:pt x="253" y="698"/>
                </a:cubicBezTo>
                <a:cubicBezTo>
                  <a:pt x="308" y="698"/>
                  <a:pt x="308" y="698"/>
                  <a:pt x="308" y="698"/>
                </a:cubicBezTo>
                <a:cubicBezTo>
                  <a:pt x="316" y="698"/>
                  <a:pt x="323" y="691"/>
                  <a:pt x="323" y="683"/>
                </a:cubicBezTo>
                <a:cubicBezTo>
                  <a:pt x="323" y="549"/>
                  <a:pt x="323" y="549"/>
                  <a:pt x="323" y="549"/>
                </a:cubicBezTo>
                <a:cubicBezTo>
                  <a:pt x="428" y="549"/>
                  <a:pt x="428" y="549"/>
                  <a:pt x="428" y="549"/>
                </a:cubicBezTo>
                <a:cubicBezTo>
                  <a:pt x="432" y="549"/>
                  <a:pt x="436" y="546"/>
                  <a:pt x="436" y="542"/>
                </a:cubicBezTo>
                <a:cubicBezTo>
                  <a:pt x="436" y="419"/>
                  <a:pt x="436" y="419"/>
                  <a:pt x="436" y="419"/>
                </a:cubicBezTo>
                <a:cubicBezTo>
                  <a:pt x="436" y="415"/>
                  <a:pt x="432" y="412"/>
                  <a:pt x="428" y="412"/>
                </a:cubicBezTo>
                <a:cubicBezTo>
                  <a:pt x="323" y="412"/>
                  <a:pt x="323" y="412"/>
                  <a:pt x="323" y="412"/>
                </a:cubicBezTo>
                <a:cubicBezTo>
                  <a:pt x="323" y="357"/>
                  <a:pt x="323" y="357"/>
                  <a:pt x="323" y="357"/>
                </a:cubicBezTo>
                <a:cubicBezTo>
                  <a:pt x="508" y="357"/>
                  <a:pt x="508" y="357"/>
                  <a:pt x="508" y="357"/>
                </a:cubicBezTo>
                <a:close/>
              </a:path>
            </a:pathLst>
          </a:custGeom>
          <a:solidFill>
            <a:srgbClr val="f2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317"/>
          <p:cNvSpPr/>
          <p:nvPr/>
        </p:nvSpPr>
        <p:spPr>
          <a:xfrm>
            <a:off x="1252440" y="3637800"/>
            <a:ext cx="38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09"/>
          <p:cNvSpPr/>
          <p:nvPr/>
        </p:nvSpPr>
        <p:spPr>
          <a:xfrm>
            <a:off x="8819640" y="3546000"/>
            <a:ext cx="750960" cy="810720"/>
          </a:xfrm>
          <a:custGeom>
            <a:avLst/>
            <a:gdLst>
              <a:gd name="textAreaLeft" fmla="*/ 0 w 750960"/>
              <a:gd name="textAreaRight" fmla="*/ 751320 w 75096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646" h="698">
                <a:moveTo>
                  <a:pt x="508" y="357"/>
                </a:moveTo>
                <a:cubicBezTo>
                  <a:pt x="646" y="220"/>
                  <a:pt x="646" y="220"/>
                  <a:pt x="646" y="220"/>
                </a:cubicBezTo>
                <a:cubicBezTo>
                  <a:pt x="508" y="82"/>
                  <a:pt x="508" y="82"/>
                  <a:pt x="508" y="82"/>
                </a:cubicBezTo>
                <a:cubicBezTo>
                  <a:pt x="323" y="82"/>
                  <a:pt x="323" y="82"/>
                  <a:pt x="323" y="82"/>
                </a:cubicBezTo>
                <a:cubicBezTo>
                  <a:pt x="323" y="15"/>
                  <a:pt x="323" y="15"/>
                  <a:pt x="323" y="15"/>
                </a:cubicBezTo>
                <a:cubicBezTo>
                  <a:pt x="323" y="7"/>
                  <a:pt x="316" y="0"/>
                  <a:pt x="308" y="0"/>
                </a:cubicBezTo>
                <a:cubicBezTo>
                  <a:pt x="253" y="0"/>
                  <a:pt x="253" y="0"/>
                  <a:pt x="253" y="0"/>
                </a:cubicBezTo>
                <a:cubicBezTo>
                  <a:pt x="245" y="0"/>
                  <a:pt x="238" y="7"/>
                  <a:pt x="238" y="15"/>
                </a:cubicBezTo>
                <a:cubicBezTo>
                  <a:pt x="238" y="82"/>
                  <a:pt x="238" y="82"/>
                  <a:pt x="238" y="82"/>
                </a:cubicBezTo>
                <a:cubicBezTo>
                  <a:pt x="7" y="82"/>
                  <a:pt x="7" y="82"/>
                  <a:pt x="7" y="82"/>
                </a:cubicBezTo>
                <a:cubicBezTo>
                  <a:pt x="3" y="82"/>
                  <a:pt x="0" y="85"/>
                  <a:pt x="0" y="89"/>
                </a:cubicBezTo>
                <a:cubicBezTo>
                  <a:pt x="0" y="350"/>
                  <a:pt x="0" y="350"/>
                  <a:pt x="0" y="350"/>
                </a:cubicBezTo>
                <a:cubicBezTo>
                  <a:pt x="0" y="354"/>
                  <a:pt x="3" y="357"/>
                  <a:pt x="7" y="357"/>
                </a:cubicBezTo>
                <a:cubicBezTo>
                  <a:pt x="238" y="357"/>
                  <a:pt x="238" y="357"/>
                  <a:pt x="238" y="357"/>
                </a:cubicBezTo>
                <a:cubicBezTo>
                  <a:pt x="238" y="412"/>
                  <a:pt x="238" y="412"/>
                  <a:pt x="238" y="412"/>
                </a:cubicBezTo>
                <a:cubicBezTo>
                  <a:pt x="152" y="412"/>
                  <a:pt x="152" y="412"/>
                  <a:pt x="152" y="412"/>
                </a:cubicBezTo>
                <a:cubicBezTo>
                  <a:pt x="83" y="480"/>
                  <a:pt x="83" y="480"/>
                  <a:pt x="83" y="480"/>
                </a:cubicBezTo>
                <a:cubicBezTo>
                  <a:pt x="152" y="549"/>
                  <a:pt x="152" y="549"/>
                  <a:pt x="152" y="549"/>
                </a:cubicBezTo>
                <a:cubicBezTo>
                  <a:pt x="238" y="549"/>
                  <a:pt x="238" y="549"/>
                  <a:pt x="238" y="549"/>
                </a:cubicBezTo>
                <a:cubicBezTo>
                  <a:pt x="238" y="683"/>
                  <a:pt x="238" y="683"/>
                  <a:pt x="238" y="683"/>
                </a:cubicBezTo>
                <a:cubicBezTo>
                  <a:pt x="238" y="691"/>
                  <a:pt x="245" y="698"/>
                  <a:pt x="253" y="698"/>
                </a:cubicBezTo>
                <a:cubicBezTo>
                  <a:pt x="308" y="698"/>
                  <a:pt x="308" y="698"/>
                  <a:pt x="308" y="698"/>
                </a:cubicBezTo>
                <a:cubicBezTo>
                  <a:pt x="316" y="698"/>
                  <a:pt x="323" y="691"/>
                  <a:pt x="323" y="683"/>
                </a:cubicBezTo>
                <a:cubicBezTo>
                  <a:pt x="323" y="549"/>
                  <a:pt x="323" y="549"/>
                  <a:pt x="323" y="549"/>
                </a:cubicBezTo>
                <a:cubicBezTo>
                  <a:pt x="428" y="549"/>
                  <a:pt x="428" y="549"/>
                  <a:pt x="428" y="549"/>
                </a:cubicBezTo>
                <a:cubicBezTo>
                  <a:pt x="432" y="549"/>
                  <a:pt x="436" y="546"/>
                  <a:pt x="436" y="542"/>
                </a:cubicBezTo>
                <a:cubicBezTo>
                  <a:pt x="436" y="419"/>
                  <a:pt x="436" y="419"/>
                  <a:pt x="436" y="419"/>
                </a:cubicBezTo>
                <a:cubicBezTo>
                  <a:pt x="436" y="415"/>
                  <a:pt x="432" y="412"/>
                  <a:pt x="428" y="412"/>
                </a:cubicBezTo>
                <a:cubicBezTo>
                  <a:pt x="323" y="412"/>
                  <a:pt x="323" y="412"/>
                  <a:pt x="323" y="412"/>
                </a:cubicBezTo>
                <a:cubicBezTo>
                  <a:pt x="323" y="357"/>
                  <a:pt x="323" y="357"/>
                  <a:pt x="323" y="357"/>
                </a:cubicBezTo>
                <a:cubicBezTo>
                  <a:pt x="508" y="357"/>
                  <a:pt x="508" y="357"/>
                  <a:pt x="508" y="357"/>
                </a:cubicBezTo>
                <a:close/>
              </a:path>
            </a:pathLst>
          </a:custGeom>
          <a:solidFill>
            <a:srgbClr val="f27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319"/>
          <p:cNvSpPr/>
          <p:nvPr/>
        </p:nvSpPr>
        <p:spPr>
          <a:xfrm>
            <a:off x="8988840" y="3632400"/>
            <a:ext cx="38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23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244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文本框 331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9"/>
          <p:cNvSpPr/>
          <p:nvPr/>
        </p:nvSpPr>
        <p:spPr>
          <a:xfrm>
            <a:off x="2030400" y="181404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0"/>
          <p:cNvSpPr/>
          <p:nvPr/>
        </p:nvSpPr>
        <p:spPr>
          <a:xfrm>
            <a:off x="978840" y="2621520"/>
            <a:ext cx="2478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51"/>
          <p:cNvSpPr/>
          <p:nvPr/>
        </p:nvSpPr>
        <p:spPr>
          <a:xfrm>
            <a:off x="9778320" y="181404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2"/>
          <p:cNvSpPr/>
          <p:nvPr/>
        </p:nvSpPr>
        <p:spPr>
          <a:xfrm>
            <a:off x="8726760" y="2621520"/>
            <a:ext cx="2478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55"/>
          <p:cNvSpPr/>
          <p:nvPr/>
        </p:nvSpPr>
        <p:spPr>
          <a:xfrm>
            <a:off x="2030400" y="363672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6"/>
          <p:cNvSpPr/>
          <p:nvPr/>
        </p:nvSpPr>
        <p:spPr>
          <a:xfrm>
            <a:off x="978840" y="4444200"/>
            <a:ext cx="2478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7"/>
          <p:cNvSpPr/>
          <p:nvPr/>
        </p:nvSpPr>
        <p:spPr>
          <a:xfrm>
            <a:off x="9778320" y="3642120"/>
            <a:ext cx="14274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8"/>
          <p:cNvSpPr/>
          <p:nvPr/>
        </p:nvSpPr>
        <p:spPr>
          <a:xfrm>
            <a:off x="8726760" y="4449600"/>
            <a:ext cx="2478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文字介绍内容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86"/>
          <p:cNvSpPr/>
          <p:nvPr/>
        </p:nvSpPr>
        <p:spPr>
          <a:xfrm>
            <a:off x="7752240" y="984960"/>
            <a:ext cx="3383640" cy="96732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文本框 1"/>
          <p:cNvSpPr/>
          <p:nvPr/>
        </p:nvSpPr>
        <p:spPr>
          <a:xfrm>
            <a:off x="16556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63" name="组合 67"/>
          <p:cNvGrpSpPr/>
          <p:nvPr/>
        </p:nvGrpSpPr>
        <p:grpSpPr>
          <a:xfrm>
            <a:off x="5133600" y="997200"/>
            <a:ext cx="962280" cy="962280"/>
            <a:chOff x="5133600" y="997200"/>
            <a:chExt cx="962280" cy="962280"/>
          </a:xfrm>
        </p:grpSpPr>
        <p:grpSp>
          <p:nvGrpSpPr>
            <p:cNvPr id="264" name="组合 29"/>
            <p:cNvGrpSpPr/>
            <p:nvPr/>
          </p:nvGrpSpPr>
          <p:grpSpPr>
            <a:xfrm>
              <a:off x="5133600" y="997200"/>
              <a:ext cx="962280" cy="962280"/>
              <a:chOff x="5133600" y="997200"/>
              <a:chExt cx="962280" cy="962280"/>
            </a:xfrm>
          </p:grpSpPr>
          <p:sp>
            <p:nvSpPr>
              <p:cNvPr id="265" name="椭圆 30"/>
              <p:cNvSpPr/>
              <p:nvPr/>
            </p:nvSpPr>
            <p:spPr>
              <a:xfrm>
                <a:off x="5133600" y="997200"/>
                <a:ext cx="962280" cy="962280"/>
              </a:xfrm>
              <a:prstGeom prst="ellipse">
                <a:avLst/>
              </a:prstGeom>
              <a:solidFill>
                <a:srgbClr val="4e7da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" name="椭圆 31"/>
              <p:cNvSpPr/>
              <p:nvPr/>
            </p:nvSpPr>
            <p:spPr>
              <a:xfrm>
                <a:off x="5184720" y="1048320"/>
                <a:ext cx="859680" cy="859680"/>
              </a:xfrm>
              <a:prstGeom prst="ellipse">
                <a:avLst/>
              </a:prstGeom>
              <a:noFill/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pic>
          <p:nvPicPr>
            <p:cNvPr id="267" name="图片 32" descr=""/>
            <p:cNvPicPr/>
            <p:nvPr/>
          </p:nvPicPr>
          <p:blipFill>
            <a:blip r:embed="rId1"/>
            <a:stretch/>
          </p:blipFill>
          <p:spPr>
            <a:xfrm>
              <a:off x="5331960" y="1182600"/>
              <a:ext cx="591120" cy="59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组合 58"/>
          <p:cNvGrpSpPr/>
          <p:nvPr/>
        </p:nvGrpSpPr>
        <p:grpSpPr>
          <a:xfrm>
            <a:off x="5133600" y="3535560"/>
            <a:ext cx="962280" cy="962280"/>
            <a:chOff x="5133600" y="3535560"/>
            <a:chExt cx="962280" cy="962280"/>
          </a:xfrm>
        </p:grpSpPr>
        <p:grpSp>
          <p:nvGrpSpPr>
            <p:cNvPr id="269" name="组合 33"/>
            <p:cNvGrpSpPr/>
            <p:nvPr/>
          </p:nvGrpSpPr>
          <p:grpSpPr>
            <a:xfrm>
              <a:off x="5133600" y="3535560"/>
              <a:ext cx="962280" cy="962280"/>
              <a:chOff x="5133600" y="3535560"/>
              <a:chExt cx="962280" cy="962280"/>
            </a:xfrm>
          </p:grpSpPr>
          <p:sp>
            <p:nvSpPr>
              <p:cNvPr id="270" name="椭圆 34"/>
              <p:cNvSpPr/>
              <p:nvPr/>
            </p:nvSpPr>
            <p:spPr>
              <a:xfrm>
                <a:off x="5133600" y="3535560"/>
                <a:ext cx="962280" cy="962280"/>
              </a:xfrm>
              <a:prstGeom prst="ellipse">
                <a:avLst/>
              </a:prstGeom>
              <a:solidFill>
                <a:srgbClr val="eef26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1" name="椭圆 35"/>
              <p:cNvSpPr/>
              <p:nvPr/>
            </p:nvSpPr>
            <p:spPr>
              <a:xfrm>
                <a:off x="5184720" y="3586680"/>
                <a:ext cx="859680" cy="859680"/>
              </a:xfrm>
              <a:prstGeom prst="ellipse">
                <a:avLst/>
              </a:prstGeom>
              <a:solidFill>
                <a:srgbClr val="eef26d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72" name="矩形 42"/>
            <p:cNvSpPr/>
            <p:nvPr/>
          </p:nvSpPr>
          <p:spPr>
            <a:xfrm>
              <a:off x="5275800" y="3658680"/>
              <a:ext cx="709920" cy="715320"/>
            </a:xfrm>
            <a:prstGeom prst="rect">
              <a:avLst/>
            </a:prstGeom>
            <a:blipFill rotWithShape="0">
              <a:blip r:embed="rId2">
                <a:alphaModFix amt="70000"/>
              </a:blip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3" name="组合 60"/>
          <p:cNvGrpSpPr/>
          <p:nvPr/>
        </p:nvGrpSpPr>
        <p:grpSpPr>
          <a:xfrm>
            <a:off x="5133600" y="4804560"/>
            <a:ext cx="962280" cy="962280"/>
            <a:chOff x="5133600" y="4804560"/>
            <a:chExt cx="962280" cy="962280"/>
          </a:xfrm>
        </p:grpSpPr>
        <p:grpSp>
          <p:nvGrpSpPr>
            <p:cNvPr id="274" name="组合 39"/>
            <p:cNvGrpSpPr/>
            <p:nvPr/>
          </p:nvGrpSpPr>
          <p:grpSpPr>
            <a:xfrm>
              <a:off x="5133600" y="4804560"/>
              <a:ext cx="962280" cy="962280"/>
              <a:chOff x="5133600" y="4804560"/>
              <a:chExt cx="962280" cy="962280"/>
            </a:xfrm>
          </p:grpSpPr>
          <p:sp>
            <p:nvSpPr>
              <p:cNvPr id="275" name="椭圆 40"/>
              <p:cNvSpPr/>
              <p:nvPr/>
            </p:nvSpPr>
            <p:spPr>
              <a:xfrm>
                <a:off x="5133600" y="4804560"/>
                <a:ext cx="962280" cy="962280"/>
              </a:xfrm>
              <a:prstGeom prst="ellipse">
                <a:avLst/>
              </a:prstGeom>
              <a:solidFill>
                <a:srgbClr val="f245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6" name="椭圆 41"/>
              <p:cNvSpPr/>
              <p:nvPr/>
            </p:nvSpPr>
            <p:spPr>
              <a:xfrm>
                <a:off x="5184720" y="4855680"/>
                <a:ext cx="859680" cy="859680"/>
              </a:xfrm>
              <a:prstGeom prst="ellipse">
                <a:avLst/>
              </a:prstGeom>
              <a:solidFill>
                <a:srgbClr val="f24535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pic>
          <p:nvPicPr>
            <p:cNvPr id="277" name="图片 43" descr=""/>
            <p:cNvPicPr/>
            <p:nvPr/>
          </p:nvPicPr>
          <p:blipFill>
            <a:blip r:embed="rId3"/>
            <a:stretch/>
          </p:blipFill>
          <p:spPr>
            <a:xfrm>
              <a:off x="5257440" y="4928400"/>
              <a:ext cx="71460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组合 59"/>
          <p:cNvGrpSpPr/>
          <p:nvPr/>
        </p:nvGrpSpPr>
        <p:grpSpPr>
          <a:xfrm>
            <a:off x="5133600" y="2266200"/>
            <a:ext cx="962280" cy="962280"/>
            <a:chOff x="5133600" y="2266200"/>
            <a:chExt cx="962280" cy="962280"/>
          </a:xfrm>
        </p:grpSpPr>
        <p:grpSp>
          <p:nvGrpSpPr>
            <p:cNvPr id="279" name="组合 36"/>
            <p:cNvGrpSpPr/>
            <p:nvPr/>
          </p:nvGrpSpPr>
          <p:grpSpPr>
            <a:xfrm>
              <a:off x="5133600" y="2266200"/>
              <a:ext cx="962280" cy="962280"/>
              <a:chOff x="5133600" y="2266200"/>
              <a:chExt cx="962280" cy="962280"/>
            </a:xfrm>
          </p:grpSpPr>
          <p:sp>
            <p:nvSpPr>
              <p:cNvPr id="280" name="椭圆 37"/>
              <p:cNvSpPr/>
              <p:nvPr/>
            </p:nvSpPr>
            <p:spPr>
              <a:xfrm>
                <a:off x="5133600" y="2266200"/>
                <a:ext cx="962280" cy="962280"/>
              </a:xfrm>
              <a:prstGeom prst="ellipse">
                <a:avLst/>
              </a:prstGeom>
              <a:solidFill>
                <a:srgbClr val="f274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1" name="椭圆 38"/>
              <p:cNvSpPr/>
              <p:nvPr/>
            </p:nvSpPr>
            <p:spPr>
              <a:xfrm>
                <a:off x="5184720" y="2317320"/>
                <a:ext cx="859680" cy="859680"/>
              </a:xfrm>
              <a:prstGeom prst="ellipse">
                <a:avLst/>
              </a:prstGeom>
              <a:solidFill>
                <a:srgbClr val="f27405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pic>
          <p:nvPicPr>
            <p:cNvPr id="282" name="图片 44" descr=""/>
            <p:cNvPicPr/>
            <p:nvPr/>
          </p:nvPicPr>
          <p:blipFill>
            <a:blip r:embed="rId4"/>
            <a:stretch/>
          </p:blipFill>
          <p:spPr>
            <a:xfrm>
              <a:off x="5311800" y="2508840"/>
              <a:ext cx="605520" cy="477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83" name="直接连接符 62"/>
          <p:cNvCxnSpPr/>
          <p:nvPr/>
        </p:nvCxnSpPr>
        <p:spPr>
          <a:xfrm flipV="1">
            <a:off x="3696480" y="1649520"/>
            <a:ext cx="1424880" cy="996840"/>
          </a:xfrm>
          <a:prstGeom prst="straightConnector1">
            <a:avLst/>
          </a:prstGeom>
          <a:ln w="31750">
            <a:solidFill>
              <a:srgbClr val="5f89ae">
                <a:alpha val="75000"/>
              </a:srgbClr>
            </a:solidFill>
          </a:ln>
        </p:spPr>
      </p:cxnSp>
      <p:grpSp>
        <p:nvGrpSpPr>
          <p:cNvPr id="284" name="组合 64"/>
          <p:cNvGrpSpPr/>
          <p:nvPr/>
        </p:nvGrpSpPr>
        <p:grpSpPr>
          <a:xfrm>
            <a:off x="1065600" y="2041920"/>
            <a:ext cx="2762280" cy="2762280"/>
            <a:chOff x="1065600" y="2041920"/>
            <a:chExt cx="2762280" cy="2762280"/>
          </a:xfrm>
        </p:grpSpPr>
        <p:sp>
          <p:nvSpPr>
            <p:cNvPr id="285" name="椭圆 65"/>
            <p:cNvSpPr/>
            <p:nvPr/>
          </p:nvSpPr>
          <p:spPr>
            <a:xfrm>
              <a:off x="1065600" y="2041920"/>
              <a:ext cx="2762280" cy="2762280"/>
            </a:xfrm>
            <a:prstGeom prst="ellipse">
              <a:avLst/>
            </a:prstGeom>
            <a:solidFill>
              <a:srgbClr val="4e7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椭圆 66"/>
            <p:cNvSpPr/>
            <p:nvPr/>
          </p:nvSpPr>
          <p:spPr>
            <a:xfrm>
              <a:off x="1212480" y="2188800"/>
              <a:ext cx="2468520" cy="2468520"/>
            </a:xfrm>
            <a:prstGeom prst="ellipse">
              <a:avLst/>
            </a:pr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87" name="组合 56"/>
          <p:cNvGrpSpPr/>
          <p:nvPr/>
        </p:nvGrpSpPr>
        <p:grpSpPr>
          <a:xfrm>
            <a:off x="1506240" y="2986560"/>
            <a:ext cx="1881360" cy="873000"/>
            <a:chOff x="1506240" y="2986560"/>
            <a:chExt cx="1881360" cy="873000"/>
          </a:xfrm>
        </p:grpSpPr>
        <p:sp>
          <p:nvSpPr>
            <p:cNvPr id="288" name="Freeform 5"/>
            <p:cNvSpPr/>
            <p:nvPr/>
          </p:nvSpPr>
          <p:spPr>
            <a:xfrm>
              <a:off x="1506240" y="2986560"/>
              <a:ext cx="1881360" cy="776520"/>
            </a:xfrm>
            <a:custGeom>
              <a:avLst/>
              <a:gdLst>
                <a:gd name="textAreaLeft" fmla="*/ 0 w 1881360"/>
                <a:gd name="textAreaRight" fmla="*/ 1881720 w 18813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513" h="623">
                  <a:moveTo>
                    <a:pt x="1479" y="322"/>
                  </a:moveTo>
                  <a:cubicBezTo>
                    <a:pt x="1477" y="297"/>
                    <a:pt x="1475" y="268"/>
                    <a:pt x="1470" y="243"/>
                  </a:cubicBezTo>
                  <a:cubicBezTo>
                    <a:pt x="1467" y="226"/>
                    <a:pt x="1460" y="203"/>
                    <a:pt x="1436" y="203"/>
                  </a:cubicBezTo>
                  <a:cubicBezTo>
                    <a:pt x="1433" y="203"/>
                    <a:pt x="1431" y="203"/>
                    <a:pt x="1429" y="203"/>
                  </a:cubicBezTo>
                  <a:cubicBezTo>
                    <a:pt x="1427" y="203"/>
                    <a:pt x="1426" y="204"/>
                    <a:pt x="1423" y="204"/>
                  </a:cubicBezTo>
                  <a:cubicBezTo>
                    <a:pt x="1423" y="204"/>
                    <a:pt x="1422" y="203"/>
                    <a:pt x="1421" y="200"/>
                  </a:cubicBezTo>
                  <a:cubicBezTo>
                    <a:pt x="1414" y="180"/>
                    <a:pt x="1385" y="155"/>
                    <a:pt x="1347" y="125"/>
                  </a:cubicBezTo>
                  <a:cubicBezTo>
                    <a:pt x="1338" y="117"/>
                    <a:pt x="1327" y="108"/>
                    <a:pt x="1322" y="103"/>
                  </a:cubicBezTo>
                  <a:cubicBezTo>
                    <a:pt x="1324" y="91"/>
                    <a:pt x="1324" y="77"/>
                    <a:pt x="1315" y="67"/>
                  </a:cubicBezTo>
                  <a:cubicBezTo>
                    <a:pt x="1312" y="62"/>
                    <a:pt x="1304" y="56"/>
                    <a:pt x="1292" y="56"/>
                  </a:cubicBezTo>
                  <a:cubicBezTo>
                    <a:pt x="1290" y="56"/>
                    <a:pt x="1288" y="56"/>
                    <a:pt x="1283" y="57"/>
                  </a:cubicBezTo>
                  <a:cubicBezTo>
                    <a:pt x="1274" y="57"/>
                    <a:pt x="1256" y="53"/>
                    <a:pt x="1231" y="48"/>
                  </a:cubicBezTo>
                  <a:cubicBezTo>
                    <a:pt x="1166" y="34"/>
                    <a:pt x="1045" y="9"/>
                    <a:pt x="863" y="6"/>
                  </a:cubicBezTo>
                  <a:cubicBezTo>
                    <a:pt x="599" y="0"/>
                    <a:pt x="391" y="191"/>
                    <a:pt x="383" y="199"/>
                  </a:cubicBezTo>
                  <a:cubicBezTo>
                    <a:pt x="377" y="205"/>
                    <a:pt x="377" y="205"/>
                    <a:pt x="377" y="205"/>
                  </a:cubicBezTo>
                  <a:cubicBezTo>
                    <a:pt x="366" y="210"/>
                    <a:pt x="332" y="223"/>
                    <a:pt x="227" y="243"/>
                  </a:cubicBezTo>
                  <a:cubicBezTo>
                    <a:pt x="78" y="272"/>
                    <a:pt x="50" y="320"/>
                    <a:pt x="44" y="338"/>
                  </a:cubicBezTo>
                  <a:cubicBezTo>
                    <a:pt x="33" y="347"/>
                    <a:pt x="13" y="368"/>
                    <a:pt x="10" y="393"/>
                  </a:cubicBezTo>
                  <a:cubicBezTo>
                    <a:pt x="8" y="413"/>
                    <a:pt x="2" y="421"/>
                    <a:pt x="2" y="421"/>
                  </a:cubicBezTo>
                  <a:cubicBezTo>
                    <a:pt x="0" y="424"/>
                    <a:pt x="0" y="424"/>
                    <a:pt x="0" y="424"/>
                  </a:cubicBezTo>
                  <a:cubicBezTo>
                    <a:pt x="0" y="564"/>
                    <a:pt x="0" y="564"/>
                    <a:pt x="0" y="564"/>
                  </a:cubicBezTo>
                  <a:cubicBezTo>
                    <a:pt x="0" y="566"/>
                    <a:pt x="0" y="566"/>
                    <a:pt x="0" y="566"/>
                  </a:cubicBezTo>
                  <a:cubicBezTo>
                    <a:pt x="8" y="604"/>
                    <a:pt x="47" y="623"/>
                    <a:pt x="111" y="623"/>
                  </a:cubicBezTo>
                  <a:cubicBezTo>
                    <a:pt x="132" y="623"/>
                    <a:pt x="148" y="621"/>
                    <a:pt x="147" y="621"/>
                  </a:cubicBezTo>
                  <a:cubicBezTo>
                    <a:pt x="148" y="621"/>
                    <a:pt x="156" y="621"/>
                    <a:pt x="170" y="621"/>
                  </a:cubicBezTo>
                  <a:cubicBezTo>
                    <a:pt x="168" y="617"/>
                    <a:pt x="167" y="613"/>
                    <a:pt x="166" y="609"/>
                  </a:cubicBezTo>
                  <a:cubicBezTo>
                    <a:pt x="165" y="605"/>
                    <a:pt x="164" y="601"/>
                    <a:pt x="163" y="597"/>
                  </a:cubicBezTo>
                  <a:cubicBezTo>
                    <a:pt x="161" y="587"/>
                    <a:pt x="160" y="578"/>
                    <a:pt x="160" y="568"/>
                  </a:cubicBezTo>
                  <a:cubicBezTo>
                    <a:pt x="160" y="482"/>
                    <a:pt x="230" y="412"/>
                    <a:pt x="316" y="412"/>
                  </a:cubicBezTo>
                  <a:cubicBezTo>
                    <a:pt x="402" y="412"/>
                    <a:pt x="472" y="482"/>
                    <a:pt x="472" y="568"/>
                  </a:cubicBezTo>
                  <a:cubicBezTo>
                    <a:pt x="472" y="575"/>
                    <a:pt x="471" y="583"/>
                    <a:pt x="470" y="590"/>
                  </a:cubicBezTo>
                  <a:cubicBezTo>
                    <a:pt x="469" y="594"/>
                    <a:pt x="469" y="598"/>
                    <a:pt x="468" y="602"/>
                  </a:cubicBezTo>
                  <a:cubicBezTo>
                    <a:pt x="467" y="607"/>
                    <a:pt x="466" y="611"/>
                    <a:pt x="465" y="614"/>
                  </a:cubicBezTo>
                  <a:cubicBezTo>
                    <a:pt x="659" y="610"/>
                    <a:pt x="907" y="605"/>
                    <a:pt x="1099" y="600"/>
                  </a:cubicBezTo>
                  <a:cubicBezTo>
                    <a:pt x="1098" y="596"/>
                    <a:pt x="1097" y="592"/>
                    <a:pt x="1097" y="588"/>
                  </a:cubicBezTo>
                  <a:cubicBezTo>
                    <a:pt x="1096" y="584"/>
                    <a:pt x="1096" y="580"/>
                    <a:pt x="1096" y="576"/>
                  </a:cubicBezTo>
                  <a:cubicBezTo>
                    <a:pt x="1096" y="573"/>
                    <a:pt x="1095" y="570"/>
                    <a:pt x="1095" y="568"/>
                  </a:cubicBezTo>
                  <a:cubicBezTo>
                    <a:pt x="1095" y="482"/>
                    <a:pt x="1165" y="412"/>
                    <a:pt x="1251" y="412"/>
                  </a:cubicBezTo>
                  <a:cubicBezTo>
                    <a:pt x="1336" y="412"/>
                    <a:pt x="1405" y="480"/>
                    <a:pt x="1407" y="564"/>
                  </a:cubicBezTo>
                  <a:cubicBezTo>
                    <a:pt x="1407" y="565"/>
                    <a:pt x="1407" y="566"/>
                    <a:pt x="1407" y="568"/>
                  </a:cubicBezTo>
                  <a:cubicBezTo>
                    <a:pt x="1407" y="571"/>
                    <a:pt x="1407" y="574"/>
                    <a:pt x="1407" y="577"/>
                  </a:cubicBezTo>
                  <a:cubicBezTo>
                    <a:pt x="1406" y="581"/>
                    <a:pt x="1406" y="585"/>
                    <a:pt x="1406" y="589"/>
                  </a:cubicBezTo>
                  <a:cubicBezTo>
                    <a:pt x="1442" y="583"/>
                    <a:pt x="1470" y="564"/>
                    <a:pt x="1486" y="533"/>
                  </a:cubicBezTo>
                  <a:cubicBezTo>
                    <a:pt x="1513" y="479"/>
                    <a:pt x="1499" y="407"/>
                    <a:pt x="1489" y="392"/>
                  </a:cubicBezTo>
                  <a:cubicBezTo>
                    <a:pt x="1484" y="383"/>
                    <a:pt x="1481" y="351"/>
                    <a:pt x="1479" y="3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1735200" y="3530520"/>
              <a:ext cx="327960" cy="32904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264" h="264">
                  <a:moveTo>
                    <a:pt x="11" y="184"/>
                  </a:moveTo>
                  <a:cubicBezTo>
                    <a:pt x="31" y="231"/>
                    <a:pt x="78" y="264"/>
                    <a:pt x="132" y="264"/>
                  </a:cubicBezTo>
                  <a:cubicBezTo>
                    <a:pt x="188" y="264"/>
                    <a:pt x="236" y="228"/>
                    <a:pt x="255" y="179"/>
                  </a:cubicBezTo>
                  <a:cubicBezTo>
                    <a:pt x="256" y="175"/>
                    <a:pt x="258" y="171"/>
                    <a:pt x="259" y="167"/>
                  </a:cubicBezTo>
                  <a:cubicBezTo>
                    <a:pt x="260" y="163"/>
                    <a:pt x="261" y="159"/>
                    <a:pt x="262" y="155"/>
                  </a:cubicBezTo>
                  <a:cubicBezTo>
                    <a:pt x="263" y="147"/>
                    <a:pt x="264" y="140"/>
                    <a:pt x="264" y="132"/>
                  </a:cubicBezTo>
                  <a:cubicBezTo>
                    <a:pt x="264" y="59"/>
                    <a:pt x="205" y="0"/>
                    <a:pt x="132" y="0"/>
                  </a:cubicBezTo>
                  <a:cubicBezTo>
                    <a:pt x="59" y="0"/>
                    <a:pt x="0" y="59"/>
                    <a:pt x="0" y="132"/>
                  </a:cubicBezTo>
                  <a:cubicBezTo>
                    <a:pt x="0" y="141"/>
                    <a:pt x="1" y="151"/>
                    <a:pt x="3" y="160"/>
                  </a:cubicBezTo>
                  <a:cubicBezTo>
                    <a:pt x="4" y="164"/>
                    <a:pt x="5" y="168"/>
                    <a:pt x="7" y="172"/>
                  </a:cubicBezTo>
                  <a:cubicBezTo>
                    <a:pt x="8" y="176"/>
                    <a:pt x="9" y="180"/>
                    <a:pt x="11" y="18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2897640" y="3530520"/>
              <a:ext cx="327960" cy="32904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264" h="264">
                  <a:moveTo>
                    <a:pt x="4" y="163"/>
                  </a:moveTo>
                  <a:cubicBezTo>
                    <a:pt x="19" y="221"/>
                    <a:pt x="70" y="264"/>
                    <a:pt x="132" y="264"/>
                  </a:cubicBezTo>
                  <a:cubicBezTo>
                    <a:pt x="197" y="264"/>
                    <a:pt x="251" y="217"/>
                    <a:pt x="262" y="155"/>
                  </a:cubicBezTo>
                  <a:cubicBezTo>
                    <a:pt x="263" y="151"/>
                    <a:pt x="263" y="147"/>
                    <a:pt x="264" y="143"/>
                  </a:cubicBezTo>
                  <a:cubicBezTo>
                    <a:pt x="264" y="139"/>
                    <a:pt x="264" y="136"/>
                    <a:pt x="264" y="132"/>
                  </a:cubicBezTo>
                  <a:cubicBezTo>
                    <a:pt x="264" y="132"/>
                    <a:pt x="264" y="131"/>
                    <a:pt x="264" y="131"/>
                  </a:cubicBezTo>
                  <a:cubicBezTo>
                    <a:pt x="264" y="59"/>
                    <a:pt x="205" y="0"/>
                    <a:pt x="132" y="0"/>
                  </a:cubicBezTo>
                  <a:cubicBezTo>
                    <a:pt x="59" y="0"/>
                    <a:pt x="0" y="59"/>
                    <a:pt x="0" y="132"/>
                  </a:cubicBezTo>
                  <a:cubicBezTo>
                    <a:pt x="0" y="134"/>
                    <a:pt x="1" y="137"/>
                    <a:pt x="1" y="139"/>
                  </a:cubicBezTo>
                  <a:cubicBezTo>
                    <a:pt x="1" y="144"/>
                    <a:pt x="1" y="147"/>
                    <a:pt x="2" y="151"/>
                  </a:cubicBezTo>
                  <a:cubicBezTo>
                    <a:pt x="3" y="155"/>
                    <a:pt x="3" y="159"/>
                    <a:pt x="4" y="1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91" name="直接连接符 71"/>
          <p:cNvCxnSpPr>
            <a:endCxn id="280" idx="2"/>
          </p:cNvCxnSpPr>
          <p:nvPr/>
        </p:nvCxnSpPr>
        <p:spPr>
          <a:xfrm flipV="1">
            <a:off x="3808440" y="2781000"/>
            <a:ext cx="1271880" cy="205560"/>
          </a:xfrm>
          <a:prstGeom prst="straightConnector1">
            <a:avLst/>
          </a:prstGeom>
          <a:ln w="31750">
            <a:solidFill>
              <a:srgbClr val="f27405">
                <a:alpha val="75000"/>
              </a:srgbClr>
            </a:solidFill>
          </a:ln>
        </p:spPr>
      </p:cxnSp>
      <p:cxnSp>
        <p:nvCxnSpPr>
          <p:cNvPr id="292" name="直接连接符 73"/>
          <p:cNvCxnSpPr/>
          <p:nvPr/>
        </p:nvCxnSpPr>
        <p:spPr>
          <a:xfrm>
            <a:off x="3879360" y="3695040"/>
            <a:ext cx="1213560" cy="216720"/>
          </a:xfrm>
          <a:prstGeom prst="straightConnector1">
            <a:avLst/>
          </a:prstGeom>
          <a:ln w="31750">
            <a:solidFill>
              <a:srgbClr val="eef26d"/>
            </a:solidFill>
          </a:ln>
        </p:spPr>
      </p:cxnSp>
      <p:cxnSp>
        <p:nvCxnSpPr>
          <p:cNvPr id="293" name="直接连接符 77"/>
          <p:cNvCxnSpPr/>
          <p:nvPr/>
        </p:nvCxnSpPr>
        <p:spPr>
          <a:xfrm>
            <a:off x="3689640" y="4169520"/>
            <a:ext cx="1466640" cy="860040"/>
          </a:xfrm>
          <a:prstGeom prst="straightConnector1">
            <a:avLst/>
          </a:prstGeom>
          <a:ln w="31750">
            <a:solidFill>
              <a:srgbClr val="f67a6e">
                <a:alpha val="75000"/>
              </a:srgbClr>
            </a:solidFill>
          </a:ln>
        </p:spPr>
      </p:cxnSp>
      <p:sp>
        <p:nvSpPr>
          <p:cNvPr id="294" name="文本框 82"/>
          <p:cNvSpPr/>
          <p:nvPr/>
        </p:nvSpPr>
        <p:spPr>
          <a:xfrm>
            <a:off x="1350720" y="4822200"/>
            <a:ext cx="21924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介绍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83"/>
          <p:cNvSpPr/>
          <p:nvPr/>
        </p:nvSpPr>
        <p:spPr>
          <a:xfrm>
            <a:off x="7879680" y="1069560"/>
            <a:ext cx="2977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7"/>
          <p:cNvSpPr/>
          <p:nvPr/>
        </p:nvSpPr>
        <p:spPr>
          <a:xfrm>
            <a:off x="7752240" y="2261160"/>
            <a:ext cx="3394800" cy="967320"/>
          </a:xfrm>
          <a:prstGeom prst="rect">
            <a:avLst/>
          </a:prstGeom>
          <a:solidFill>
            <a:srgbClr val="f274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矩形 88"/>
          <p:cNvSpPr/>
          <p:nvPr/>
        </p:nvSpPr>
        <p:spPr>
          <a:xfrm>
            <a:off x="7752240" y="3530520"/>
            <a:ext cx="3394800" cy="967320"/>
          </a:xfrm>
          <a:prstGeom prst="rect">
            <a:avLst/>
          </a:prstGeom>
          <a:solidFill>
            <a:srgbClr val="eef2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89"/>
          <p:cNvSpPr/>
          <p:nvPr/>
        </p:nvSpPr>
        <p:spPr>
          <a:xfrm>
            <a:off x="7752240" y="4784040"/>
            <a:ext cx="3394800" cy="967320"/>
          </a:xfrm>
          <a:prstGeom prst="rect">
            <a:avLst/>
          </a:prstGeom>
          <a:solidFill>
            <a:srgbClr val="f24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9" name="组合 93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300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文本框 101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3"/>
          <p:cNvSpPr/>
          <p:nvPr/>
        </p:nvSpPr>
        <p:spPr>
          <a:xfrm>
            <a:off x="6329520" y="984960"/>
            <a:ext cx="1105920" cy="96732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文本框 54"/>
          <p:cNvSpPr/>
          <p:nvPr/>
        </p:nvSpPr>
        <p:spPr>
          <a:xfrm>
            <a:off x="6458760" y="942480"/>
            <a:ext cx="847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5"/>
          <p:cNvSpPr/>
          <p:nvPr/>
        </p:nvSpPr>
        <p:spPr>
          <a:xfrm>
            <a:off x="6329520" y="2297520"/>
            <a:ext cx="1105920" cy="967320"/>
          </a:xfrm>
          <a:prstGeom prst="rect">
            <a:avLst/>
          </a:prstGeom>
          <a:solidFill>
            <a:srgbClr val="f274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文本框 57"/>
          <p:cNvSpPr/>
          <p:nvPr/>
        </p:nvSpPr>
        <p:spPr>
          <a:xfrm>
            <a:off x="6458760" y="2255040"/>
            <a:ext cx="847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1"/>
          <p:cNvSpPr/>
          <p:nvPr/>
        </p:nvSpPr>
        <p:spPr>
          <a:xfrm>
            <a:off x="6329520" y="3573000"/>
            <a:ext cx="1105920" cy="967320"/>
          </a:xfrm>
          <a:prstGeom prst="rect">
            <a:avLst/>
          </a:prstGeom>
          <a:solidFill>
            <a:srgbClr val="eef26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文本框 63"/>
          <p:cNvSpPr/>
          <p:nvPr/>
        </p:nvSpPr>
        <p:spPr>
          <a:xfrm>
            <a:off x="6458760" y="3530520"/>
            <a:ext cx="847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8"/>
          <p:cNvSpPr/>
          <p:nvPr/>
        </p:nvSpPr>
        <p:spPr>
          <a:xfrm>
            <a:off x="6329520" y="4784040"/>
            <a:ext cx="1105920" cy="967320"/>
          </a:xfrm>
          <a:prstGeom prst="rect">
            <a:avLst/>
          </a:prstGeom>
          <a:solidFill>
            <a:srgbClr val="f245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文本框 69"/>
          <p:cNvSpPr/>
          <p:nvPr/>
        </p:nvSpPr>
        <p:spPr>
          <a:xfrm>
            <a:off x="6458760" y="4741560"/>
            <a:ext cx="847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70"/>
          <p:cNvSpPr/>
          <p:nvPr/>
        </p:nvSpPr>
        <p:spPr>
          <a:xfrm>
            <a:off x="7879680" y="2356200"/>
            <a:ext cx="2977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72"/>
          <p:cNvSpPr/>
          <p:nvPr/>
        </p:nvSpPr>
        <p:spPr>
          <a:xfrm>
            <a:off x="7879680" y="3625560"/>
            <a:ext cx="2977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74"/>
          <p:cNvSpPr/>
          <p:nvPr/>
        </p:nvSpPr>
        <p:spPr>
          <a:xfrm>
            <a:off x="7879680" y="4897080"/>
            <a:ext cx="29775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介绍内容文字介绍内容文字介绍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739440" y="6033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1"/>
          <p:cNvSpPr/>
          <p:nvPr/>
        </p:nvSpPr>
        <p:spPr>
          <a:xfrm>
            <a:off x="16556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322" name="图表 10"/>
          <p:cNvGraphicFramePr/>
          <p:nvPr/>
        </p:nvGraphicFramePr>
        <p:xfrm>
          <a:off x="1055880" y="1014120"/>
          <a:ext cx="10080000" cy="4968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323" name="组合 11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324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文本框 19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表格 2"/>
          <p:cNvGraphicFramePr/>
          <p:nvPr/>
        </p:nvGraphicFramePr>
        <p:xfrm>
          <a:off x="1055520" y="1982520"/>
          <a:ext cx="10080360" cy="3313440"/>
        </p:xfrm>
        <a:graphic>
          <a:graphicData uri="http://schemas.openxmlformats.org/drawingml/2006/table">
            <a:tbl>
              <a:tblPr/>
              <a:tblGrid>
                <a:gridCol w="2520000"/>
                <a:gridCol w="2520000"/>
                <a:gridCol w="2520000"/>
                <a:gridCol w="2520000"/>
              </a:tblGrid>
              <a:tr h="165672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blipFill rotWithShape="0">
                      <a:blip r:embed="rId1">
                        <a:alphaModFix amt="92000"/>
                      </a:blip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solidFill>
                      <a:srgbClr val="eef26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blipFill rotWithShape="0">
                      <a:blip r:embed="rId2">
                        <a:alphaModFix amt="92000"/>
                      </a:blip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solidFill>
                      <a:srgbClr val="f27405"/>
                    </a:solidFill>
                  </a:tcPr>
                </a:tc>
              </a:tr>
              <a:tr h="165672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solidFill>
                      <a:srgbClr val="4e7d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blipFill rotWithShape="0">
                      <a:blip r:embed="rId3">
                        <a:alphaModFix amt="92000"/>
                      </a:blip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solidFill>
                      <a:srgbClr val="f2453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noFill/>
                    </a:lnL>
                    <a:lnR w="18720">
                      <a:noFill/>
                    </a:lnR>
                    <a:lnT w="18720">
                      <a:noFill/>
                    </a:lnT>
                    <a:lnB w="18720">
                      <a:noFill/>
                    </a:lnB>
                    <a:blipFill rotWithShape="0">
                      <a:blip r:embed="rId4">
                        <a:alphaModFix amt="92000"/>
                      </a:blip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33" name="文本框 4"/>
          <p:cNvSpPr/>
          <p:nvPr/>
        </p:nvSpPr>
        <p:spPr>
          <a:xfrm>
            <a:off x="1655640" y="490680"/>
            <a:ext cx="389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单击添加标题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5"/>
          <p:cNvSpPr/>
          <p:nvPr/>
        </p:nvSpPr>
        <p:spPr>
          <a:xfrm>
            <a:off x="1055880" y="583560"/>
            <a:ext cx="436680" cy="324000"/>
          </a:xfrm>
          <a:prstGeom prst="rect">
            <a:avLst/>
          </a:prstGeom>
          <a:solidFill>
            <a:srgbClr val="4e7d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5" name="组合 11"/>
          <p:cNvGrpSpPr/>
          <p:nvPr/>
        </p:nvGrpSpPr>
        <p:grpSpPr>
          <a:xfrm>
            <a:off x="11147400" y="5792760"/>
            <a:ext cx="703800" cy="455400"/>
            <a:chOff x="11147400" y="5792760"/>
            <a:chExt cx="703800" cy="455400"/>
          </a:xfrm>
        </p:grpSpPr>
        <p:sp>
          <p:nvSpPr>
            <p:cNvPr id="336" name="AutoShape 3"/>
            <p:cNvSpPr/>
            <p:nvPr/>
          </p:nvSpPr>
          <p:spPr>
            <a:xfrm>
              <a:off x="11147400" y="5792760"/>
              <a:ext cx="70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"/>
            <p:cNvSpPr/>
            <p:nvPr/>
          </p:nvSpPr>
          <p:spPr>
            <a:xfrm>
              <a:off x="11408400" y="5792760"/>
              <a:ext cx="442800" cy="45540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913" h="1965">
                  <a:moveTo>
                    <a:pt x="1495" y="277"/>
                  </a:moveTo>
                  <a:cubicBezTo>
                    <a:pt x="1258" y="104"/>
                    <a:pt x="963" y="0"/>
                    <a:pt x="706" y="0"/>
                  </a:cubicBezTo>
                  <a:cubicBezTo>
                    <a:pt x="447" y="0"/>
                    <a:pt x="256" y="105"/>
                    <a:pt x="138" y="311"/>
                  </a:cubicBezTo>
                  <a:cubicBezTo>
                    <a:pt x="45" y="472"/>
                    <a:pt x="0" y="692"/>
                    <a:pt x="0" y="983"/>
                  </a:cubicBezTo>
                  <a:cubicBezTo>
                    <a:pt x="0" y="1274"/>
                    <a:pt x="45" y="1494"/>
                    <a:pt x="138" y="1655"/>
                  </a:cubicBezTo>
                  <a:cubicBezTo>
                    <a:pt x="256" y="1861"/>
                    <a:pt x="447" y="1965"/>
                    <a:pt x="706" y="1965"/>
                  </a:cubicBezTo>
                  <a:cubicBezTo>
                    <a:pt x="963" y="1965"/>
                    <a:pt x="1258" y="1862"/>
                    <a:pt x="1495" y="1688"/>
                  </a:cubicBezTo>
                  <a:cubicBezTo>
                    <a:pt x="1765" y="1491"/>
                    <a:pt x="1913" y="1240"/>
                    <a:pt x="1913" y="983"/>
                  </a:cubicBezTo>
                  <a:cubicBezTo>
                    <a:pt x="1913" y="725"/>
                    <a:pt x="1765" y="475"/>
                    <a:pt x="1495" y="277"/>
                  </a:cubicBezTo>
                  <a:close/>
                  <a:moveTo>
                    <a:pt x="1368" y="1514"/>
                  </a:moveTo>
                  <a:cubicBezTo>
                    <a:pt x="1170" y="1659"/>
                    <a:pt x="916" y="1750"/>
                    <a:pt x="706" y="1750"/>
                  </a:cubicBezTo>
                  <a:cubicBezTo>
                    <a:pt x="478" y="1750"/>
                    <a:pt x="215" y="1662"/>
                    <a:pt x="215" y="983"/>
                  </a:cubicBezTo>
                  <a:cubicBezTo>
                    <a:pt x="215" y="303"/>
                    <a:pt x="478" y="216"/>
                    <a:pt x="706" y="216"/>
                  </a:cubicBezTo>
                  <a:cubicBezTo>
                    <a:pt x="916" y="216"/>
                    <a:pt x="1170" y="306"/>
                    <a:pt x="1368" y="451"/>
                  </a:cubicBezTo>
                  <a:cubicBezTo>
                    <a:pt x="1577" y="605"/>
                    <a:pt x="1697" y="798"/>
                    <a:pt x="1697" y="983"/>
                  </a:cubicBezTo>
                  <a:cubicBezTo>
                    <a:pt x="1697" y="1167"/>
                    <a:pt x="1577" y="1361"/>
                    <a:pt x="1368" y="1514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6"/>
            <p:cNvSpPr/>
            <p:nvPr/>
          </p:nvSpPr>
          <p:spPr>
            <a:xfrm>
              <a:off x="11147400" y="581832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7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7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"/>
            <p:cNvSpPr/>
            <p:nvPr/>
          </p:nvSpPr>
          <p:spPr>
            <a:xfrm>
              <a:off x="11147400" y="590940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8"/>
            <p:cNvSpPr/>
            <p:nvPr/>
          </p:nvSpPr>
          <p:spPr>
            <a:xfrm>
              <a:off x="11147400" y="6000840"/>
              <a:ext cx="237960" cy="493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8" h="215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5"/>
                    <a:pt x="108" y="215"/>
                  </a:cubicBezTo>
                  <a:cubicBezTo>
                    <a:pt x="921" y="215"/>
                    <a:pt x="921" y="215"/>
                    <a:pt x="921" y="215"/>
                  </a:cubicBezTo>
                  <a:cubicBezTo>
                    <a:pt x="980" y="215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9"/>
            <p:cNvSpPr/>
            <p:nvPr/>
          </p:nvSpPr>
          <p:spPr>
            <a:xfrm>
              <a:off x="11147400" y="609156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11147400" y="6183000"/>
              <a:ext cx="237960" cy="4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28" h="216">
                  <a:moveTo>
                    <a:pt x="92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48" y="0"/>
                    <a:pt x="0" y="48"/>
                    <a:pt x="0" y="108"/>
                  </a:cubicBezTo>
                  <a:cubicBezTo>
                    <a:pt x="0" y="167"/>
                    <a:pt x="48" y="216"/>
                    <a:pt x="108" y="216"/>
                  </a:cubicBezTo>
                  <a:cubicBezTo>
                    <a:pt x="921" y="216"/>
                    <a:pt x="921" y="216"/>
                    <a:pt x="921" y="216"/>
                  </a:cubicBezTo>
                  <a:cubicBezTo>
                    <a:pt x="980" y="216"/>
                    <a:pt x="1028" y="167"/>
                    <a:pt x="1028" y="108"/>
                  </a:cubicBezTo>
                  <a:cubicBezTo>
                    <a:pt x="1028" y="48"/>
                    <a:pt x="980" y="0"/>
                    <a:pt x="921" y="0"/>
                  </a:cubicBezTo>
                  <a:close/>
                </a:path>
              </a:pathLst>
            </a:custGeom>
            <a:solidFill>
              <a:srgbClr val="4e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文本框 19"/>
          <p:cNvSpPr/>
          <p:nvPr/>
        </p:nvSpPr>
        <p:spPr>
          <a:xfrm>
            <a:off x="11412360" y="5877720"/>
            <a:ext cx="55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2" descr=""/>
          <p:cNvPicPr/>
          <p:nvPr/>
        </p:nvPicPr>
        <p:blipFill>
          <a:blip r:embed="rId1"/>
          <a:srcRect l="122" t="0" r="-122" b="15808"/>
          <a:stretch/>
        </p:blipFill>
        <p:spPr>
          <a:xfrm>
            <a:off x="0" y="0"/>
            <a:ext cx="12243960" cy="686520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Blur/>
                    </a14:imgEffect>
                  </a14:imgLayer>
                </a14:imgProps>
              </a:ext>
            </a:extLst>
          </a:blip>
          <a:srcRect l="122" t="37132" r="-122" b="38051"/>
          <a:stretch/>
        </p:blipFill>
        <p:spPr>
          <a:xfrm>
            <a:off x="0" y="3027960"/>
            <a:ext cx="12243960" cy="2023200"/>
          </a:xfrm>
          <a:prstGeom prst="rect">
            <a:avLst/>
          </a:prstGeom>
          <a:ln w="0">
            <a:noFill/>
          </a:ln>
        </p:spPr>
      </p:pic>
      <p:cxnSp>
        <p:nvCxnSpPr>
          <p:cNvPr id="346" name="直接连接符 5"/>
          <p:cNvCxnSpPr/>
          <p:nvPr/>
        </p:nvCxnSpPr>
        <p:spPr>
          <a:xfrm>
            <a:off x="0" y="3027960"/>
            <a:ext cx="12244320" cy="3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cxnSp>
        <p:nvCxnSpPr>
          <p:cNvPr id="347" name="直接连接符 6"/>
          <p:cNvCxnSpPr/>
          <p:nvPr/>
        </p:nvCxnSpPr>
        <p:spPr>
          <a:xfrm>
            <a:off x="0" y="5051520"/>
            <a:ext cx="12244320" cy="3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grpSp>
        <p:nvGrpSpPr>
          <p:cNvPr id="348" name="组合 7"/>
          <p:cNvGrpSpPr/>
          <p:nvPr/>
        </p:nvGrpSpPr>
        <p:grpSpPr>
          <a:xfrm>
            <a:off x="1056240" y="3454200"/>
            <a:ext cx="1213920" cy="1201680"/>
            <a:chOff x="1056240" y="3454200"/>
            <a:chExt cx="1213920" cy="1201680"/>
          </a:xfrm>
        </p:grpSpPr>
        <p:sp>
          <p:nvSpPr>
            <p:cNvPr id="349" name="任意多边形 8"/>
            <p:cNvSpPr/>
            <p:nvPr/>
          </p:nvSpPr>
          <p:spPr>
            <a:xfrm rot="10800000">
              <a:off x="1056240" y="3454200"/>
              <a:ext cx="1180080" cy="120168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0" name="任意多边形 9"/>
            <p:cNvSpPr/>
            <p:nvPr/>
          </p:nvSpPr>
          <p:spPr>
            <a:xfrm rot="10800000">
              <a:off x="1105920" y="3510000"/>
              <a:ext cx="1071000" cy="1090440"/>
            </a:xfrm>
            <a:custGeom>
              <a:avLst/>
              <a:gdLst>
                <a:gd name="textAreaLeft" fmla="*/ 0 w 1071000"/>
                <a:gd name="textAreaRight" fmla="*/ 1071360 w 1071000"/>
                <a:gd name="textAreaTop" fmla="*/ 0 h 1090440"/>
                <a:gd name="textAreaBottom" fmla="*/ 1090800 h 1090440"/>
              </a:gdLst>
              <a:ahLst/>
              <a:rect l="textAreaLeft" t="textAreaTop" r="textAreaRight" b="textAreaBottom"/>
              <a:pathLst>
                <a:path w="1092530" h="1112361">
                  <a:moveTo>
                    <a:pt x="782723" y="1112361"/>
                  </a:moveTo>
                  <a:lnTo>
                    <a:pt x="309807" y="1112361"/>
                  </a:lnTo>
                  <a:lnTo>
                    <a:pt x="0" y="802554"/>
                  </a:lnTo>
                  <a:lnTo>
                    <a:pt x="0" y="773241"/>
                  </a:lnTo>
                  <a:lnTo>
                    <a:pt x="0" y="339120"/>
                  </a:lnTo>
                  <a:lnTo>
                    <a:pt x="0" y="309807"/>
                  </a:lnTo>
                  <a:lnTo>
                    <a:pt x="309807" y="0"/>
                  </a:lnTo>
                  <a:lnTo>
                    <a:pt x="782723" y="0"/>
                  </a:lnTo>
                  <a:lnTo>
                    <a:pt x="1092530" y="309807"/>
                  </a:lnTo>
                  <a:lnTo>
                    <a:pt x="1092530" y="339120"/>
                  </a:lnTo>
                  <a:lnTo>
                    <a:pt x="1092530" y="773241"/>
                  </a:lnTo>
                  <a:lnTo>
                    <a:pt x="1092530" y="802554"/>
                  </a:lnTo>
                  <a:close/>
                </a:path>
              </a:pathLst>
            </a:custGeom>
            <a:solidFill>
              <a:srgbClr val="f24535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1" name="文本框 10"/>
            <p:cNvSpPr/>
            <p:nvPr/>
          </p:nvSpPr>
          <p:spPr>
            <a:xfrm>
              <a:off x="1162080" y="3762360"/>
              <a:ext cx="1108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51" strike="noStrike">
                  <a:solidFill>
                    <a:srgbClr val="ffffff"/>
                  </a:solidFill>
                  <a:latin typeface="Calibri"/>
                </a:rPr>
                <a:t>STO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文本框 11"/>
          <p:cNvSpPr/>
          <p:nvPr/>
        </p:nvSpPr>
        <p:spPr>
          <a:xfrm>
            <a:off x="8068320" y="359316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2"/>
          <p:cNvSpPr/>
          <p:nvPr/>
        </p:nvSpPr>
        <p:spPr>
          <a:xfrm>
            <a:off x="3642480" y="3593160"/>
            <a:ext cx="3597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39440" y="6033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  <Words>328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03:53:39Z</dcterms:created>
  <dc:creator>Windows 用户</dc:creator>
  <dc:description/>
  <dc:language>en-US</dc:language>
  <cp:lastModifiedBy>王玉清</cp:lastModifiedBy>
  <dcterms:modified xsi:type="dcterms:W3CDTF">2016-03-05T12:58:14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9</vt:r8>
  </property>
</Properties>
</file>