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7E7-1229-4E3E-A7D6-D0ED81A6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C11-1610-426E-A8E3-193D45D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D0B-AD42-4415-9ECF-09E88773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FDB-327A-49B6-921E-BCE4EC3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3E0-3099-42F6-ADC7-66465B0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402-6B3D-4D86-AC42-6B34E77E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E93-A389-4391-9AAD-00B7953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9EE-BC61-4339-BC49-D9E03ACC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5CB-7E9D-4A65-BC06-6B1D0A97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FE1-C6E9-49B7-842F-FF77E12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BBC-FABF-48A6-95A6-F8213E7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47A-FEB7-456A-A725-3426AC7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F6A-7398-444B-93C9-628AD131221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F81-DE21-4438-81C2-CAFA3FA348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768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79200" y="1238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汽车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263520" y="262260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cc"/>
                </a:solidFill>
                <a:latin typeface="Arial"/>
                <a:ea typeface="微软雅黑"/>
              </a:rPr>
              <a:t>观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8206560" y="4921200"/>
            <a:ext cx="7779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www.1ppt.com/moba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19B-9568-4C2F-AC64-962391D0E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56:4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