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2E3-25F5-4949-85BF-DDCBD496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E71-6B7A-4C7E-A9B8-F4AE6F61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5E9-744F-406A-8BA5-C1E6A6C4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0A1-6780-449E-8503-DA1C974D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99A-A4D6-4CD7-881A-AE4CCB65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3EF-3AE0-47FF-8117-AF35C8E5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AA5-1B2F-43FE-B02B-82A323EB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0A9-4416-4783-AE3B-47D4324B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1DE-9D2B-4F2D-B014-12D7C975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5B5-E50B-476A-A428-4A58F859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BF4-12A6-42CB-9F7E-898FF0A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0D9-E055-4F89-9D89-11E03DDF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3585FC-240F-41CE-9093-C8B0B49B930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hyperlink" Target="http://www.shutterstock.com/pic.mhtml?id=56619637&amp;rid=694447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shutterstock.com/pic.mhtml?id=56619637&amp;rid=694447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hyperlink" Target="http://www.shutterstock.com/pic.mhtml?id=56619637&amp;rid=694447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onfinder.com/icondetails/38724/128/heart_love_magnifier_search_icon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3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219320" y="1638360"/>
            <a:ext cx="7327440" cy="96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63760" y="2768760"/>
            <a:ext cx="2463480" cy="246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2064960" y="324432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造字工房悦黑体验版纤细体"/>
                <a:ea typeface="微软雅黑"/>
              </a:rPr>
              <a:t>企业管理工具通用</a:t>
            </a:r>
            <a:r>
              <a:rPr b="1" lang="en-US" sz="4000" spc="-1" strike="noStrike">
                <a:solidFill>
                  <a:srgbClr val="000000"/>
                </a:solidFill>
                <a:latin typeface="造字工房悦黑体验版纤细体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造字工房悦黑体验版纤细体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3796200" y="146052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和推广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5104440" y="24764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活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6539400" y="22478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实际完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3847320" y="29084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3885120" y="31240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3923280" y="33274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3948840" y="35434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4228200" y="4013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目标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6044400" y="41529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户行为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2191320" y="4089240"/>
            <a:ext cx="3440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围绕实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改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5587200" y="4229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了目标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4647240" y="42418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用户定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4786920" y="43689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设计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4316760" y="444492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套餐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5041080" y="44704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预测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4570920" y="45464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市场发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4825080" y="464832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有竞争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3906720" y="4724280"/>
            <a:ext cx="12290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定价具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等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4507560" y="48513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推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4990320" y="50673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标分析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3948840" y="524520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针对未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4952160" y="5372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中率不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6031440" y="548640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活动有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4736160" y="55497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传力度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4990320" y="56642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划与正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4532760" y="574056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品牌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5256720" y="57657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预估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6044400" y="5816520"/>
            <a:ext cx="153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反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5625000" y="58546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争对手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"/>
          <p:cNvSpPr/>
          <p:nvPr/>
        </p:nvSpPr>
        <p:spPr>
          <a:xfrm>
            <a:off x="4672800" y="5867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对客户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4394520" y="5931000"/>
            <a:ext cx="19425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计到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速响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5637960" y="59943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势没有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4583520" y="601992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没有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5180760" y="60706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竞争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5663160" y="61466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它问题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4608720" y="617220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对于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5168160" y="6222960"/>
            <a:ext cx="381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划执行的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8831520" y="6464160"/>
            <a:ext cx="205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4748760" y="101592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结束时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3250080" y="965160"/>
            <a:ext cx="3949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38160"/>
                <a:tab algn="l" pos="8892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活动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8160"/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启动时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8160"/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4247640" y="1409760"/>
            <a:ext cx="2296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划概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3491640" y="24512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6069600" y="23241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活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6939720" y="2222640"/>
            <a:ext cx="774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01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296480" y="2793960"/>
            <a:ext cx="240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  <a:tabLst>
                <a:tab algn="l" pos="381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-Z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-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3821040" y="2844720"/>
            <a:ext cx="279756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结经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目标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地引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力度大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现的营业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客户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够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宣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进行的其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确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品牌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4897800" y="6108840"/>
            <a:ext cx="14688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化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等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7295040" y="2133720"/>
            <a:ext cx="25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  <a:tabLst>
                <a:tab algn="l" pos="25560"/>
                <a:tab algn="l" pos="3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完成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25560"/>
                <a:tab algn="l" pos="381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+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5560"/>
                <a:tab algn="l" pos="3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+Y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7697880" y="2057400"/>
            <a:ext cx="288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99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"/>
          <p:cNvSpPr/>
          <p:nvPr/>
        </p:nvSpPr>
        <p:spPr>
          <a:xfrm>
            <a:off x="5523840" y="2438280"/>
            <a:ext cx="153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769680" y="190440"/>
            <a:ext cx="26892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7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建设经验交流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65240" y="6577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914760" y="190440"/>
            <a:ext cx="21956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企业品牌管理七步骤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58880" y="144792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549880" y="137160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429440" y="195588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3489480" y="346716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781800" y="476244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858200" y="5549760"/>
            <a:ext cx="8240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622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62244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品牌团队激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7375680" y="476244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3204000" y="3861000"/>
            <a:ext cx="2736000" cy="369000"/>
          </a:xfrm>
          <a:custGeom>
            <a:avLst/>
            <a:gdLst>
              <a:gd name="textAreaLeft" fmla="*/ 0 w 2736000"/>
              <a:gd name="textAreaRight" fmla="*/ 2736360 w 27360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736342" h="369328">
                <a:moveTo>
                  <a:pt x="0" y="369328"/>
                </a:moveTo>
                <a:lnTo>
                  <a:pt x="2736342" y="369328"/>
                </a:lnTo>
                <a:lnTo>
                  <a:pt x="2736342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6228360" y="3861000"/>
            <a:ext cx="2664000" cy="3690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664333" h="369328">
                <a:moveTo>
                  <a:pt x="0" y="369328"/>
                </a:moveTo>
                <a:lnTo>
                  <a:pt x="2664333" y="369328"/>
                </a:lnTo>
                <a:lnTo>
                  <a:pt x="2664333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251640" y="3861000"/>
            <a:ext cx="2664000" cy="3690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664333" h="369328">
                <a:moveTo>
                  <a:pt x="0" y="369328"/>
                </a:moveTo>
                <a:lnTo>
                  <a:pt x="2664333" y="369328"/>
                </a:lnTo>
                <a:lnTo>
                  <a:pt x="2664333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251640" y="836640"/>
            <a:ext cx="8712720" cy="645840"/>
          </a:xfrm>
          <a:custGeom>
            <a:avLst/>
            <a:gdLst>
              <a:gd name="textAreaLeft" fmla="*/ 0 w 8712720"/>
              <a:gd name="textAreaRight" fmla="*/ 8713080 w 871272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8712961" h="646328">
                <a:moveTo>
                  <a:pt x="0" y="646328"/>
                </a:moveTo>
                <a:lnTo>
                  <a:pt x="8712961" y="646328"/>
                </a:lnTo>
                <a:lnTo>
                  <a:pt x="8712961" y="0"/>
                </a:lnTo>
                <a:lnTo>
                  <a:pt x="0" y="0"/>
                </a:lnTo>
                <a:lnTo>
                  <a:pt x="0" y="646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479160" y="1893240"/>
            <a:ext cx="1173240" cy="12006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200600"/>
              <a:gd name="textAreaBottom" fmla="*/ 1200960 h 1200600"/>
            </a:gdLst>
            <a:ahLst/>
            <a:rect l="textAreaLeft" t="textAreaTop" r="textAreaRight" b="textAreaBottom"/>
            <a:pathLst>
              <a:path w="1173746" h="1200911">
                <a:moveTo>
                  <a:pt x="682383" y="1200911"/>
                </a:moveTo>
                <a:lnTo>
                  <a:pt x="300240" y="1037208"/>
                </a:lnTo>
                <a:lnTo>
                  <a:pt x="68237" y="750569"/>
                </a:lnTo>
                <a:lnTo>
                  <a:pt x="0" y="450341"/>
                </a:lnTo>
                <a:lnTo>
                  <a:pt x="95529" y="259207"/>
                </a:lnTo>
                <a:lnTo>
                  <a:pt x="395782" y="40894"/>
                </a:lnTo>
                <a:lnTo>
                  <a:pt x="614146" y="0"/>
                </a:lnTo>
                <a:lnTo>
                  <a:pt x="928001" y="81788"/>
                </a:lnTo>
                <a:lnTo>
                  <a:pt x="1064526" y="150113"/>
                </a:lnTo>
                <a:lnTo>
                  <a:pt x="1132725" y="368426"/>
                </a:lnTo>
                <a:lnTo>
                  <a:pt x="1173746" y="573151"/>
                </a:lnTo>
                <a:lnTo>
                  <a:pt x="1064526" y="777875"/>
                </a:lnTo>
                <a:lnTo>
                  <a:pt x="887107" y="1023492"/>
                </a:lnTo>
                <a:lnTo>
                  <a:pt x="723328" y="1119123"/>
                </a:lnTo>
                <a:lnTo>
                  <a:pt x="464019" y="1119123"/>
                </a:lnTo>
                <a:lnTo>
                  <a:pt x="682383" y="120091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473040" y="1887120"/>
            <a:ext cx="1186200" cy="1213200"/>
          </a:xfrm>
          <a:custGeom>
            <a:avLst/>
            <a:gdLst>
              <a:gd name="textAreaLeft" fmla="*/ 0 w 1186200"/>
              <a:gd name="textAreaRight" fmla="*/ 1186560 w 1186200"/>
              <a:gd name="textAreaTop" fmla="*/ 0 h 1213200"/>
              <a:gd name="textAreaBottom" fmla="*/ 1213560 h 1213200"/>
            </a:gdLst>
            <a:ahLst/>
            <a:rect l="textAreaLeft" t="textAreaTop" r="textAreaRight" b="textAreaBottom"/>
            <a:pathLst>
              <a:path w="1186446" h="1213611">
                <a:moveTo>
                  <a:pt x="688733" y="1207261"/>
                </a:moveTo>
                <a:lnTo>
                  <a:pt x="306590" y="1043558"/>
                </a:lnTo>
                <a:lnTo>
                  <a:pt x="74587" y="756919"/>
                </a:lnTo>
                <a:lnTo>
                  <a:pt x="6350" y="456691"/>
                </a:lnTo>
                <a:lnTo>
                  <a:pt x="101879" y="265557"/>
                </a:lnTo>
                <a:lnTo>
                  <a:pt x="402132" y="47244"/>
                </a:lnTo>
                <a:lnTo>
                  <a:pt x="620496" y="6350"/>
                </a:lnTo>
                <a:lnTo>
                  <a:pt x="934351" y="88138"/>
                </a:lnTo>
                <a:lnTo>
                  <a:pt x="1070876" y="156463"/>
                </a:lnTo>
                <a:lnTo>
                  <a:pt x="1139075" y="374776"/>
                </a:lnTo>
                <a:lnTo>
                  <a:pt x="1180096" y="579501"/>
                </a:lnTo>
                <a:lnTo>
                  <a:pt x="1070876" y="784225"/>
                </a:lnTo>
                <a:lnTo>
                  <a:pt x="893457" y="1029842"/>
                </a:lnTo>
                <a:lnTo>
                  <a:pt x="729678" y="1125473"/>
                </a:lnTo>
                <a:lnTo>
                  <a:pt x="470369" y="1125473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6452640" y="1893240"/>
            <a:ext cx="1173240" cy="12006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200600"/>
              <a:gd name="textAreaBottom" fmla="*/ 1200960 h 1200600"/>
            </a:gdLst>
            <a:ahLst/>
            <a:rect l="textAreaLeft" t="textAreaTop" r="textAreaRight" b="textAreaBottom"/>
            <a:pathLst>
              <a:path w="1173734" h="1200911">
                <a:moveTo>
                  <a:pt x="682371" y="1200911"/>
                </a:moveTo>
                <a:lnTo>
                  <a:pt x="300227" y="1037208"/>
                </a:lnTo>
                <a:lnTo>
                  <a:pt x="68199" y="750569"/>
                </a:lnTo>
                <a:lnTo>
                  <a:pt x="0" y="450341"/>
                </a:lnTo>
                <a:lnTo>
                  <a:pt x="95503" y="259207"/>
                </a:lnTo>
                <a:lnTo>
                  <a:pt x="395859" y="40894"/>
                </a:lnTo>
                <a:lnTo>
                  <a:pt x="614172" y="0"/>
                </a:lnTo>
                <a:lnTo>
                  <a:pt x="928115" y="81788"/>
                </a:lnTo>
                <a:lnTo>
                  <a:pt x="1064514" y="150113"/>
                </a:lnTo>
                <a:lnTo>
                  <a:pt x="1132840" y="368426"/>
                </a:lnTo>
                <a:lnTo>
                  <a:pt x="1173734" y="573151"/>
                </a:lnTo>
                <a:lnTo>
                  <a:pt x="1064514" y="777875"/>
                </a:lnTo>
                <a:lnTo>
                  <a:pt x="887095" y="1023492"/>
                </a:lnTo>
                <a:lnTo>
                  <a:pt x="723391" y="1119123"/>
                </a:lnTo>
                <a:lnTo>
                  <a:pt x="464058" y="1119123"/>
                </a:lnTo>
                <a:lnTo>
                  <a:pt x="682371" y="120091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6446160" y="1887120"/>
            <a:ext cx="1186200" cy="1213200"/>
          </a:xfrm>
          <a:custGeom>
            <a:avLst/>
            <a:gdLst>
              <a:gd name="textAreaLeft" fmla="*/ 0 w 1186200"/>
              <a:gd name="textAreaRight" fmla="*/ 1186560 w 1186200"/>
              <a:gd name="textAreaTop" fmla="*/ 0 h 1213200"/>
              <a:gd name="textAreaBottom" fmla="*/ 1213560 h 1213200"/>
            </a:gdLst>
            <a:ahLst/>
            <a:rect l="textAreaLeft" t="textAreaTop" r="textAreaRight" b="textAreaBottom"/>
            <a:pathLst>
              <a:path w="1186434" h="1213611">
                <a:moveTo>
                  <a:pt x="688721" y="1207261"/>
                </a:moveTo>
                <a:lnTo>
                  <a:pt x="306577" y="1043558"/>
                </a:lnTo>
                <a:lnTo>
                  <a:pt x="74549" y="756919"/>
                </a:lnTo>
                <a:lnTo>
                  <a:pt x="6350" y="456691"/>
                </a:lnTo>
                <a:lnTo>
                  <a:pt x="101853" y="265557"/>
                </a:lnTo>
                <a:lnTo>
                  <a:pt x="402209" y="47244"/>
                </a:lnTo>
                <a:lnTo>
                  <a:pt x="620522" y="6350"/>
                </a:lnTo>
                <a:lnTo>
                  <a:pt x="934465" y="88138"/>
                </a:lnTo>
                <a:lnTo>
                  <a:pt x="1070864" y="156463"/>
                </a:lnTo>
                <a:lnTo>
                  <a:pt x="1139190" y="374776"/>
                </a:lnTo>
                <a:lnTo>
                  <a:pt x="1180084" y="579501"/>
                </a:lnTo>
                <a:lnTo>
                  <a:pt x="1070864" y="784225"/>
                </a:lnTo>
                <a:lnTo>
                  <a:pt x="893445" y="1029842"/>
                </a:lnTo>
                <a:lnTo>
                  <a:pt x="729741" y="1125473"/>
                </a:lnTo>
                <a:lnTo>
                  <a:pt x="470408" y="1125473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7292520" y="2525040"/>
            <a:ext cx="340920" cy="367920"/>
          </a:xfrm>
          <a:custGeom>
            <a:avLst/>
            <a:gdLst>
              <a:gd name="textAreaLeft" fmla="*/ 0 w 340920"/>
              <a:gd name="textAreaRight" fmla="*/ 341280 w 34092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341122" h="368427">
                <a:moveTo>
                  <a:pt x="0" y="341122"/>
                </a:moveTo>
                <a:lnTo>
                  <a:pt x="81915" y="68198"/>
                </a:lnTo>
                <a:lnTo>
                  <a:pt x="259334" y="0"/>
                </a:lnTo>
                <a:lnTo>
                  <a:pt x="341122" y="204723"/>
                </a:lnTo>
                <a:lnTo>
                  <a:pt x="259334" y="368427"/>
                </a:lnTo>
                <a:lnTo>
                  <a:pt x="68199" y="327533"/>
                </a:lnTo>
                <a:lnTo>
                  <a:pt x="0" y="341122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238680" y="1688040"/>
            <a:ext cx="2689200" cy="45615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4561560"/>
              <a:gd name="textAreaBottom" fmla="*/ 4561920 h 4561560"/>
            </a:gdLst>
            <a:ahLst/>
            <a:rect l="textAreaLeft" t="textAreaTop" r="textAreaRight" b="textAreaBottom"/>
            <a:pathLst>
              <a:path w="2689733" h="4561967">
                <a:moveTo>
                  <a:pt x="12700" y="4549267"/>
                </a:moveTo>
                <a:lnTo>
                  <a:pt x="2677033" y="4549267"/>
                </a:lnTo>
                <a:lnTo>
                  <a:pt x="2677033" y="12700"/>
                </a:lnTo>
                <a:lnTo>
                  <a:pt x="12700" y="12700"/>
                </a:lnTo>
                <a:lnTo>
                  <a:pt x="12700" y="4549267"/>
                </a:lnTo>
              </a:path>
            </a:pathLst>
          </a:custGeom>
          <a:noFill/>
          <a:ln>
            <a:solidFill>
              <a:srgbClr val="7f7f7f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3191040" y="1688040"/>
            <a:ext cx="2761560" cy="4561560"/>
          </a:xfrm>
          <a:custGeom>
            <a:avLst/>
            <a:gdLst>
              <a:gd name="textAreaLeft" fmla="*/ 0 w 2761560"/>
              <a:gd name="textAreaRight" fmla="*/ 2761920 w 2761560"/>
              <a:gd name="textAreaTop" fmla="*/ 0 h 4561560"/>
              <a:gd name="textAreaBottom" fmla="*/ 4561920 h 4561560"/>
            </a:gdLst>
            <a:ahLst/>
            <a:rect l="textAreaLeft" t="textAreaTop" r="textAreaRight" b="textAreaBottom"/>
            <a:pathLst>
              <a:path w="2761742" h="4561967">
                <a:moveTo>
                  <a:pt x="12700" y="4549267"/>
                </a:moveTo>
                <a:lnTo>
                  <a:pt x="2749042" y="4549267"/>
                </a:lnTo>
                <a:lnTo>
                  <a:pt x="2749042" y="12700"/>
                </a:lnTo>
                <a:lnTo>
                  <a:pt x="12700" y="12700"/>
                </a:lnTo>
                <a:lnTo>
                  <a:pt x="12700" y="4549267"/>
                </a:lnTo>
              </a:path>
            </a:pathLst>
          </a:custGeom>
          <a:noFill/>
          <a:ln>
            <a:solidFill>
              <a:srgbClr val="7f7f7f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6215400" y="1688040"/>
            <a:ext cx="2689200" cy="45615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4561560"/>
              <a:gd name="textAreaBottom" fmla="*/ 4561920 h 4561560"/>
            </a:gdLst>
            <a:ahLst/>
            <a:rect l="textAreaLeft" t="textAreaTop" r="textAreaRight" b="textAreaBottom"/>
            <a:pathLst>
              <a:path w="2689733" h="4561967">
                <a:moveTo>
                  <a:pt x="12700" y="4549267"/>
                </a:moveTo>
                <a:lnTo>
                  <a:pt x="2677033" y="4549267"/>
                </a:lnTo>
                <a:lnTo>
                  <a:pt x="2677033" y="12700"/>
                </a:lnTo>
                <a:lnTo>
                  <a:pt x="12700" y="12700"/>
                </a:lnTo>
                <a:lnTo>
                  <a:pt x="12700" y="4549267"/>
                </a:lnTo>
              </a:path>
            </a:pathLst>
          </a:custGeom>
          <a:noFill/>
          <a:ln>
            <a:solidFill>
              <a:srgbClr val="7f7f7f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979640" y="1700640"/>
            <a:ext cx="935640" cy="1367640"/>
          </a:xfrm>
          <a:custGeom>
            <a:avLst/>
            <a:gdLst>
              <a:gd name="textAreaLeft" fmla="*/ 0 w 935640"/>
              <a:gd name="textAreaRight" fmla="*/ 936000 w 93564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936116" h="1368170">
                <a:moveTo>
                  <a:pt x="936116" y="0"/>
                </a:moveTo>
                <a:lnTo>
                  <a:pt x="936116" y="1368170"/>
                </a:lnTo>
                <a:lnTo>
                  <a:pt x="0" y="0"/>
                </a:lnTo>
                <a:lnTo>
                  <a:pt x="936116" y="0"/>
                </a:lnTo>
              </a:path>
            </a:pathLst>
          </a:custGeom>
          <a:solidFill>
            <a:srgbClr val="ffc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5004000" y="1700640"/>
            <a:ext cx="935640" cy="1367640"/>
          </a:xfrm>
          <a:custGeom>
            <a:avLst/>
            <a:gdLst>
              <a:gd name="textAreaLeft" fmla="*/ 0 w 935640"/>
              <a:gd name="textAreaRight" fmla="*/ 936000 w 93564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936117" h="1368170">
                <a:moveTo>
                  <a:pt x="936117" y="0"/>
                </a:moveTo>
                <a:lnTo>
                  <a:pt x="936117" y="1368170"/>
                </a:lnTo>
                <a:lnTo>
                  <a:pt x="0" y="0"/>
                </a:lnTo>
                <a:lnTo>
                  <a:pt x="936117" y="0"/>
                </a:lnTo>
              </a:path>
            </a:pathLst>
          </a:custGeom>
          <a:solidFill>
            <a:srgbClr val="ffc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7956360" y="1700640"/>
            <a:ext cx="935640" cy="1367640"/>
          </a:xfrm>
          <a:custGeom>
            <a:avLst/>
            <a:gdLst>
              <a:gd name="textAreaLeft" fmla="*/ 0 w 935640"/>
              <a:gd name="textAreaRight" fmla="*/ 936000 w 93564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936117" h="1368170">
                <a:moveTo>
                  <a:pt x="936117" y="0"/>
                </a:moveTo>
                <a:lnTo>
                  <a:pt x="936117" y="1368170"/>
                </a:lnTo>
                <a:lnTo>
                  <a:pt x="0" y="0"/>
                </a:lnTo>
                <a:lnTo>
                  <a:pt x="936117" y="0"/>
                </a:lnTo>
              </a:path>
            </a:pathLst>
          </a:custGeom>
          <a:solidFill>
            <a:srgbClr val="ffc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1536480" cy="190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03440" y="1905120"/>
            <a:ext cx="1536480" cy="189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62640" y="1828800"/>
            <a:ext cx="1536480" cy="190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3650400" y="5981760"/>
            <a:ext cx="5284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518148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哪些是我所喜闻乐见的事物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18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18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518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4040280" y="3873600"/>
            <a:ext cx="1189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用户劢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谁来评价我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想取悦戒影响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在工作和生活中有何障碍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什么对我有影响力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从哪里获得信息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那些人戒事是可信赖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7024680" y="3873600"/>
            <a:ext cx="118980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竞争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市面上目前有哪些竞争产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他们在多大程度上引起我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注意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使用他们有哪些好处和坏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获取他们是否困难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会如何考虑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060920" y="3873600"/>
            <a:ext cx="128124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用户自身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的身份是什么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想成为什么样的人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注重什么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如何定义成功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目前的生活和工作习惯如何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希望过怎样的生活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2778840" y="190440"/>
            <a:ext cx="34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  <a:tabLst>
                <a:tab algn="l" pos="152280"/>
              </a:tabLst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用户洞察和市场信息收集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从用户自身定位、用户劢机和市场需求三个方面，通过内外部数据分析、市场调研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方式搜集用户洞察和市场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909000" y="1816200"/>
            <a:ext cx="3654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600"/>
              </a:lnSpc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Arial Black"/>
                <a:hlinkClick r:id="rId8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2493720" y="1714680"/>
            <a:ext cx="244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101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归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01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感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0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610" spc="-1" strike="noStrike">
                <a:solidFill>
                  <a:srgbClr val="000000"/>
                </a:solidFill>
                <a:latin typeface="微软雅黑"/>
              </a:rPr>
              <a:t>素</a:t>
            </a:r>
            <a:endParaRPr b="0" lang="en-US" sz="16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8462520" y="1714680"/>
            <a:ext cx="244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要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5465520" y="1714680"/>
            <a:ext cx="244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动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要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2180160" y="1636920"/>
            <a:ext cx="4624200" cy="21960"/>
          </a:xfrm>
          <a:custGeom>
            <a:avLst/>
            <a:gdLst>
              <a:gd name="textAreaLeft" fmla="*/ 0 w 4624200"/>
              <a:gd name="textAreaRight" fmla="*/ 4624560 w 46242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624451" h="22225">
                <a:moveTo>
                  <a:pt x="6350" y="6350"/>
                </a:moveTo>
                <a:lnTo>
                  <a:pt x="4618100" y="6350"/>
                </a:lnTo>
              </a:path>
            </a:pathLst>
          </a:custGeom>
          <a:noFill/>
          <a:ln w="12700">
            <a:solidFill>
              <a:srgbClr val="00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1187640" y="97200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29" h="1440180">
                <a:moveTo>
                  <a:pt x="0" y="720090"/>
                </a:moveTo>
                <a:cubicBezTo>
                  <a:pt x="0" y="322325"/>
                  <a:pt x="322402" y="0"/>
                  <a:pt x="720039" y="0"/>
                </a:cubicBezTo>
                <a:cubicBezTo>
                  <a:pt x="720039" y="0"/>
                  <a:pt x="720039" y="0"/>
                  <a:pt x="720039" y="0"/>
                </a:cubicBezTo>
                <a:lnTo>
                  <a:pt x="720039" y="0"/>
                </a:lnTo>
                <a:cubicBezTo>
                  <a:pt x="1117803" y="0"/>
                  <a:pt x="1440129" y="322325"/>
                  <a:pt x="1440129" y="720090"/>
                </a:cubicBezTo>
                <a:cubicBezTo>
                  <a:pt x="1440129" y="720090"/>
                  <a:pt x="1440129" y="720090"/>
                  <a:pt x="1440129" y="720090"/>
                </a:cubicBezTo>
                <a:lnTo>
                  <a:pt x="1440129" y="720090"/>
                </a:lnTo>
                <a:cubicBezTo>
                  <a:pt x="1440129" y="1117727"/>
                  <a:pt x="1117803" y="1440180"/>
                  <a:pt x="720039" y="1440180"/>
                </a:cubicBezTo>
                <a:cubicBezTo>
                  <a:pt x="720039" y="1440180"/>
                  <a:pt x="720039" y="1440180"/>
                  <a:pt x="720039" y="1440180"/>
                </a:cubicBezTo>
                <a:lnTo>
                  <a:pt x="720039" y="1440180"/>
                </a:lnTo>
                <a:cubicBezTo>
                  <a:pt x="322402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1149480" y="933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29" h="1516380">
                <a:moveTo>
                  <a:pt x="38100" y="758190"/>
                </a:moveTo>
                <a:cubicBezTo>
                  <a:pt x="38100" y="360425"/>
                  <a:pt x="360502" y="38100"/>
                  <a:pt x="758139" y="38100"/>
                </a:cubicBezTo>
                <a:cubicBezTo>
                  <a:pt x="758139" y="38100"/>
                  <a:pt x="758139" y="38100"/>
                  <a:pt x="758139" y="38100"/>
                </a:cubicBezTo>
                <a:lnTo>
                  <a:pt x="758139" y="38100"/>
                </a:lnTo>
                <a:cubicBezTo>
                  <a:pt x="1155903" y="38100"/>
                  <a:pt x="1478229" y="360425"/>
                  <a:pt x="1478229" y="758190"/>
                </a:cubicBezTo>
                <a:cubicBezTo>
                  <a:pt x="1478229" y="758190"/>
                  <a:pt x="1478229" y="758190"/>
                  <a:pt x="1478229" y="758190"/>
                </a:cubicBezTo>
                <a:lnTo>
                  <a:pt x="1478229" y="758190"/>
                </a:lnTo>
                <a:cubicBezTo>
                  <a:pt x="1478229" y="1155827"/>
                  <a:pt x="1155903" y="1478280"/>
                  <a:pt x="758139" y="1478280"/>
                </a:cubicBezTo>
                <a:cubicBezTo>
                  <a:pt x="758139" y="1478280"/>
                  <a:pt x="758139" y="1478280"/>
                  <a:pt x="758139" y="1478280"/>
                </a:cubicBezTo>
                <a:lnTo>
                  <a:pt x="758139" y="1478280"/>
                </a:lnTo>
                <a:cubicBezTo>
                  <a:pt x="360502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3820320" y="972000"/>
            <a:ext cx="1440000" cy="14400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80" h="1440180">
                <a:moveTo>
                  <a:pt x="0" y="720090"/>
                </a:moveTo>
                <a:cubicBezTo>
                  <a:pt x="0" y="322325"/>
                  <a:pt x="322453" y="0"/>
                  <a:pt x="720090" y="0"/>
                </a:cubicBezTo>
                <a:cubicBezTo>
                  <a:pt x="720090" y="0"/>
                  <a:pt x="720090" y="0"/>
                  <a:pt x="720090" y="0"/>
                </a:cubicBezTo>
                <a:lnTo>
                  <a:pt x="720090" y="0"/>
                </a:lnTo>
                <a:cubicBezTo>
                  <a:pt x="1117853" y="0"/>
                  <a:pt x="1440179" y="322325"/>
                  <a:pt x="1440179" y="720090"/>
                </a:cubicBezTo>
                <a:cubicBezTo>
                  <a:pt x="1440179" y="720090"/>
                  <a:pt x="1440179" y="720090"/>
                  <a:pt x="1440179" y="720090"/>
                </a:cubicBezTo>
                <a:lnTo>
                  <a:pt x="1440179" y="720090"/>
                </a:lnTo>
                <a:cubicBezTo>
                  <a:pt x="1440179" y="1117727"/>
                  <a:pt x="1117853" y="1440180"/>
                  <a:pt x="720090" y="1440180"/>
                </a:cubicBezTo>
                <a:cubicBezTo>
                  <a:pt x="720090" y="1440180"/>
                  <a:pt x="720090" y="1440180"/>
                  <a:pt x="720090" y="1440180"/>
                </a:cubicBezTo>
                <a:lnTo>
                  <a:pt x="720090" y="1440180"/>
                </a:lnTo>
                <a:cubicBezTo>
                  <a:pt x="322453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3782160" y="933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80" h="1516380">
                <a:moveTo>
                  <a:pt x="38100" y="758190"/>
                </a:moveTo>
                <a:cubicBezTo>
                  <a:pt x="38100" y="360425"/>
                  <a:pt x="360553" y="38100"/>
                  <a:pt x="758190" y="38100"/>
                </a:cubicBezTo>
                <a:cubicBezTo>
                  <a:pt x="758190" y="38100"/>
                  <a:pt x="758190" y="38100"/>
                  <a:pt x="758190" y="38100"/>
                </a:cubicBezTo>
                <a:lnTo>
                  <a:pt x="758190" y="38100"/>
                </a:lnTo>
                <a:cubicBezTo>
                  <a:pt x="1155953" y="38100"/>
                  <a:pt x="1478279" y="360425"/>
                  <a:pt x="1478279" y="758190"/>
                </a:cubicBezTo>
                <a:cubicBezTo>
                  <a:pt x="1478279" y="758190"/>
                  <a:pt x="1478279" y="758190"/>
                  <a:pt x="1478279" y="758190"/>
                </a:cubicBezTo>
                <a:lnTo>
                  <a:pt x="1478279" y="758190"/>
                </a:lnTo>
                <a:cubicBezTo>
                  <a:pt x="1478279" y="1155827"/>
                  <a:pt x="1155953" y="1478280"/>
                  <a:pt x="758190" y="1478280"/>
                </a:cubicBezTo>
                <a:cubicBezTo>
                  <a:pt x="758190" y="1478280"/>
                  <a:pt x="758190" y="1478280"/>
                  <a:pt x="758190" y="1478280"/>
                </a:cubicBezTo>
                <a:lnTo>
                  <a:pt x="758190" y="1478280"/>
                </a:lnTo>
                <a:cubicBezTo>
                  <a:pt x="360553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6372360" y="972000"/>
            <a:ext cx="1440000" cy="14400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80" h="1440180">
                <a:moveTo>
                  <a:pt x="0" y="720090"/>
                </a:moveTo>
                <a:cubicBezTo>
                  <a:pt x="0" y="322325"/>
                  <a:pt x="322326" y="0"/>
                  <a:pt x="720090" y="0"/>
                </a:cubicBezTo>
                <a:cubicBezTo>
                  <a:pt x="720090" y="0"/>
                  <a:pt x="720090" y="0"/>
                  <a:pt x="720090" y="0"/>
                </a:cubicBezTo>
                <a:lnTo>
                  <a:pt x="720090" y="0"/>
                </a:lnTo>
                <a:cubicBezTo>
                  <a:pt x="1117727" y="0"/>
                  <a:pt x="1440180" y="322325"/>
                  <a:pt x="1440180" y="720090"/>
                </a:cubicBezTo>
                <a:cubicBezTo>
                  <a:pt x="1440180" y="720090"/>
                  <a:pt x="1440180" y="720090"/>
                  <a:pt x="1440180" y="720090"/>
                </a:cubicBezTo>
                <a:lnTo>
                  <a:pt x="1440180" y="720090"/>
                </a:lnTo>
                <a:cubicBezTo>
                  <a:pt x="1440180" y="1117727"/>
                  <a:pt x="1117727" y="1440180"/>
                  <a:pt x="720090" y="1440180"/>
                </a:cubicBezTo>
                <a:cubicBezTo>
                  <a:pt x="720090" y="1440180"/>
                  <a:pt x="720090" y="1440180"/>
                  <a:pt x="720090" y="1440180"/>
                </a:cubicBezTo>
                <a:lnTo>
                  <a:pt x="720090" y="1440180"/>
                </a:lnTo>
                <a:cubicBezTo>
                  <a:pt x="322326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6334200" y="933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80" h="1516380">
                <a:moveTo>
                  <a:pt x="38100" y="758190"/>
                </a:moveTo>
                <a:cubicBezTo>
                  <a:pt x="38100" y="360425"/>
                  <a:pt x="360426" y="38100"/>
                  <a:pt x="758190" y="38100"/>
                </a:cubicBezTo>
                <a:cubicBezTo>
                  <a:pt x="758190" y="38100"/>
                  <a:pt x="758190" y="38100"/>
                  <a:pt x="758190" y="38100"/>
                </a:cubicBezTo>
                <a:lnTo>
                  <a:pt x="758190" y="38100"/>
                </a:lnTo>
                <a:cubicBezTo>
                  <a:pt x="1155827" y="38100"/>
                  <a:pt x="1478280" y="360425"/>
                  <a:pt x="1478280" y="758190"/>
                </a:cubicBezTo>
                <a:cubicBezTo>
                  <a:pt x="1478280" y="758190"/>
                  <a:pt x="1478280" y="758190"/>
                  <a:pt x="1478280" y="758190"/>
                </a:cubicBezTo>
                <a:lnTo>
                  <a:pt x="1478280" y="758190"/>
                </a:lnTo>
                <a:cubicBezTo>
                  <a:pt x="1478280" y="1155827"/>
                  <a:pt x="1155827" y="1478280"/>
                  <a:pt x="758190" y="1478280"/>
                </a:cubicBezTo>
                <a:cubicBezTo>
                  <a:pt x="758190" y="1478280"/>
                  <a:pt x="758190" y="1478280"/>
                  <a:pt x="758190" y="1478280"/>
                </a:cubicBezTo>
                <a:lnTo>
                  <a:pt x="758190" y="1478280"/>
                </a:lnTo>
                <a:cubicBezTo>
                  <a:pt x="360426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1259640" y="402660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29" h="1440180">
                <a:moveTo>
                  <a:pt x="0" y="720090"/>
                </a:moveTo>
                <a:cubicBezTo>
                  <a:pt x="0" y="322453"/>
                  <a:pt x="322402" y="0"/>
                  <a:pt x="720039" y="0"/>
                </a:cubicBezTo>
                <a:cubicBezTo>
                  <a:pt x="720039" y="0"/>
                  <a:pt x="720039" y="0"/>
                  <a:pt x="720039" y="0"/>
                </a:cubicBezTo>
                <a:lnTo>
                  <a:pt x="720039" y="0"/>
                </a:lnTo>
                <a:cubicBezTo>
                  <a:pt x="1117803" y="0"/>
                  <a:pt x="1440129" y="322453"/>
                  <a:pt x="1440129" y="720090"/>
                </a:cubicBezTo>
                <a:cubicBezTo>
                  <a:pt x="1440129" y="720090"/>
                  <a:pt x="1440129" y="720090"/>
                  <a:pt x="1440129" y="720090"/>
                </a:cubicBezTo>
                <a:lnTo>
                  <a:pt x="1440129" y="720090"/>
                </a:lnTo>
                <a:cubicBezTo>
                  <a:pt x="1440129" y="1117727"/>
                  <a:pt x="1117803" y="1440180"/>
                  <a:pt x="720039" y="1440180"/>
                </a:cubicBezTo>
                <a:cubicBezTo>
                  <a:pt x="720039" y="1440180"/>
                  <a:pt x="720039" y="1440180"/>
                  <a:pt x="720039" y="1440180"/>
                </a:cubicBezTo>
                <a:lnTo>
                  <a:pt x="720039" y="1440180"/>
                </a:lnTo>
                <a:cubicBezTo>
                  <a:pt x="322402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221480" y="39884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29" h="1516380">
                <a:moveTo>
                  <a:pt x="38100" y="758190"/>
                </a:moveTo>
                <a:cubicBezTo>
                  <a:pt x="38100" y="360553"/>
                  <a:pt x="360502" y="38100"/>
                  <a:pt x="758139" y="38100"/>
                </a:cubicBezTo>
                <a:cubicBezTo>
                  <a:pt x="758139" y="38100"/>
                  <a:pt x="758139" y="38100"/>
                  <a:pt x="758139" y="38100"/>
                </a:cubicBezTo>
                <a:lnTo>
                  <a:pt x="758139" y="38100"/>
                </a:lnTo>
                <a:cubicBezTo>
                  <a:pt x="1155903" y="38100"/>
                  <a:pt x="1478229" y="360553"/>
                  <a:pt x="1478229" y="758190"/>
                </a:cubicBezTo>
                <a:cubicBezTo>
                  <a:pt x="1478229" y="758190"/>
                  <a:pt x="1478229" y="758190"/>
                  <a:pt x="1478229" y="758190"/>
                </a:cubicBezTo>
                <a:lnTo>
                  <a:pt x="1478229" y="758190"/>
                </a:lnTo>
                <a:cubicBezTo>
                  <a:pt x="1478229" y="1155827"/>
                  <a:pt x="1155903" y="1478280"/>
                  <a:pt x="758139" y="1478280"/>
                </a:cubicBezTo>
                <a:cubicBezTo>
                  <a:pt x="758139" y="1478280"/>
                  <a:pt x="758139" y="1478280"/>
                  <a:pt x="758139" y="1478280"/>
                </a:cubicBezTo>
                <a:lnTo>
                  <a:pt x="758139" y="1478280"/>
                </a:lnTo>
                <a:cubicBezTo>
                  <a:pt x="360502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444360" y="4032360"/>
            <a:ext cx="1439640" cy="1439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440179" h="1440053">
                <a:moveTo>
                  <a:pt x="0" y="719963"/>
                </a:moveTo>
                <a:cubicBezTo>
                  <a:pt x="0" y="322326"/>
                  <a:pt x="322325" y="0"/>
                  <a:pt x="720089" y="0"/>
                </a:cubicBezTo>
                <a:cubicBezTo>
                  <a:pt x="720089" y="0"/>
                  <a:pt x="720089" y="0"/>
                  <a:pt x="720089" y="0"/>
                </a:cubicBezTo>
                <a:lnTo>
                  <a:pt x="720089" y="0"/>
                </a:lnTo>
                <a:cubicBezTo>
                  <a:pt x="1117726" y="0"/>
                  <a:pt x="1440179" y="322326"/>
                  <a:pt x="1440179" y="719963"/>
                </a:cubicBezTo>
                <a:cubicBezTo>
                  <a:pt x="1440179" y="719963"/>
                  <a:pt x="1440179" y="719963"/>
                  <a:pt x="1440179" y="719963"/>
                </a:cubicBezTo>
                <a:lnTo>
                  <a:pt x="1440179" y="719963"/>
                </a:lnTo>
                <a:cubicBezTo>
                  <a:pt x="1440179" y="1117727"/>
                  <a:pt x="1117726" y="1440053"/>
                  <a:pt x="720089" y="1440053"/>
                </a:cubicBezTo>
                <a:cubicBezTo>
                  <a:pt x="720089" y="1440053"/>
                  <a:pt x="720089" y="1440053"/>
                  <a:pt x="720089" y="1440053"/>
                </a:cubicBezTo>
                <a:lnTo>
                  <a:pt x="720089" y="1440053"/>
                </a:lnTo>
                <a:cubicBezTo>
                  <a:pt x="322325" y="1440053"/>
                  <a:pt x="0" y="1117727"/>
                  <a:pt x="0" y="719963"/>
                </a:cubicBezTo>
                <a:cubicBezTo>
                  <a:pt x="0" y="719963"/>
                  <a:pt x="0" y="719963"/>
                  <a:pt x="0" y="71996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6406200" y="399456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79" h="1516253">
                <a:moveTo>
                  <a:pt x="38100" y="758063"/>
                </a:moveTo>
                <a:cubicBezTo>
                  <a:pt x="38100" y="360426"/>
                  <a:pt x="360425" y="38100"/>
                  <a:pt x="758189" y="38100"/>
                </a:cubicBezTo>
                <a:cubicBezTo>
                  <a:pt x="758189" y="38100"/>
                  <a:pt x="758189" y="38100"/>
                  <a:pt x="758189" y="38100"/>
                </a:cubicBezTo>
                <a:lnTo>
                  <a:pt x="758189" y="38100"/>
                </a:lnTo>
                <a:cubicBezTo>
                  <a:pt x="1155826" y="38100"/>
                  <a:pt x="1478279" y="360426"/>
                  <a:pt x="1478279" y="758063"/>
                </a:cubicBezTo>
                <a:cubicBezTo>
                  <a:pt x="1478279" y="758063"/>
                  <a:pt x="1478279" y="758063"/>
                  <a:pt x="1478279" y="758063"/>
                </a:cubicBezTo>
                <a:lnTo>
                  <a:pt x="1478279" y="758063"/>
                </a:lnTo>
                <a:cubicBezTo>
                  <a:pt x="1478279" y="1155827"/>
                  <a:pt x="1155826" y="1478153"/>
                  <a:pt x="758189" y="1478153"/>
                </a:cubicBezTo>
                <a:cubicBezTo>
                  <a:pt x="758189" y="1478153"/>
                  <a:pt x="758189" y="1478153"/>
                  <a:pt x="758189" y="1478153"/>
                </a:cubicBezTo>
                <a:lnTo>
                  <a:pt x="758189" y="1478153"/>
                </a:lnTo>
                <a:cubicBezTo>
                  <a:pt x="360425" y="1478153"/>
                  <a:pt x="38100" y="1155827"/>
                  <a:pt x="38100" y="758063"/>
                </a:cubicBezTo>
                <a:cubicBezTo>
                  <a:pt x="38100" y="758063"/>
                  <a:pt x="38100" y="758063"/>
                  <a:pt x="38100" y="758063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115640" y="5580360"/>
            <a:ext cx="1728000" cy="584280"/>
          </a:xfrm>
          <a:custGeom>
            <a:avLst/>
            <a:gdLst>
              <a:gd name="textAreaLeft" fmla="*/ 0 w 1728000"/>
              <a:gd name="textAreaRight" fmla="*/ 1728360 w 17280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728216" h="584771">
                <a:moveTo>
                  <a:pt x="0" y="584771"/>
                </a:moveTo>
                <a:lnTo>
                  <a:pt x="1728215" y="584771"/>
                </a:lnTo>
                <a:lnTo>
                  <a:pt x="1728215" y="0"/>
                </a:lnTo>
                <a:lnTo>
                  <a:pt x="0" y="0"/>
                </a:lnTo>
                <a:lnTo>
                  <a:pt x="0" y="58477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6300360" y="5589360"/>
            <a:ext cx="1872000" cy="58428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872234" h="584771">
                <a:moveTo>
                  <a:pt x="0" y="584771"/>
                </a:moveTo>
                <a:lnTo>
                  <a:pt x="1872234" y="584771"/>
                </a:lnTo>
                <a:lnTo>
                  <a:pt x="1872234" y="0"/>
                </a:lnTo>
                <a:lnTo>
                  <a:pt x="0" y="0"/>
                </a:lnTo>
                <a:lnTo>
                  <a:pt x="0" y="58477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1133280" y="249516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3006" h="22225">
                <a:moveTo>
                  <a:pt x="6350" y="6350"/>
                </a:moveTo>
                <a:lnTo>
                  <a:pt x="1596656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1133280" y="305388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3006" h="22225">
                <a:moveTo>
                  <a:pt x="6350" y="6350"/>
                </a:moveTo>
                <a:lnTo>
                  <a:pt x="1596656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3773520" y="249516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773520" y="305388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6293880" y="249516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6293880" y="305388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3276000" y="4509000"/>
            <a:ext cx="431640" cy="431640"/>
          </a:xfrm>
          <a:custGeom>
            <a:avLst/>
            <a:gdLst>
              <a:gd name="textAreaLeft" fmla="*/ 0 w 431640"/>
              <a:gd name="textAreaRight" fmla="*/ 432000 w 43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432054" h="432054">
                <a:moveTo>
                  <a:pt x="216027" y="432054"/>
                </a:moveTo>
                <a:lnTo>
                  <a:pt x="216027" y="323977"/>
                </a:lnTo>
                <a:lnTo>
                  <a:pt x="0" y="323977"/>
                </a:lnTo>
                <a:lnTo>
                  <a:pt x="0" y="107950"/>
                </a:lnTo>
                <a:lnTo>
                  <a:pt x="216027" y="107950"/>
                </a:lnTo>
                <a:lnTo>
                  <a:pt x="216027" y="0"/>
                </a:lnTo>
                <a:lnTo>
                  <a:pt x="432053" y="216027"/>
                </a:lnTo>
                <a:lnTo>
                  <a:pt x="216027" y="432054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3256920" y="4489920"/>
            <a:ext cx="469800" cy="469800"/>
          </a:xfrm>
          <a:custGeom>
            <a:avLst/>
            <a:gdLst>
              <a:gd name="textAreaLeft" fmla="*/ 0 w 469800"/>
              <a:gd name="textAreaRight" fmla="*/ 470160 w 4698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470154" h="470154">
                <a:moveTo>
                  <a:pt x="235077" y="451104"/>
                </a:moveTo>
                <a:lnTo>
                  <a:pt x="235077" y="343027"/>
                </a:lnTo>
                <a:lnTo>
                  <a:pt x="19050" y="343027"/>
                </a:lnTo>
                <a:lnTo>
                  <a:pt x="19050" y="127000"/>
                </a:lnTo>
                <a:lnTo>
                  <a:pt x="235077" y="127000"/>
                </a:lnTo>
                <a:lnTo>
                  <a:pt x="235077" y="19050"/>
                </a:lnTo>
                <a:lnTo>
                  <a:pt x="451103" y="235077"/>
                </a:lnTo>
                <a:lnTo>
                  <a:pt x="235077" y="451104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5652000" y="4509000"/>
            <a:ext cx="431640" cy="431640"/>
          </a:xfrm>
          <a:custGeom>
            <a:avLst/>
            <a:gdLst>
              <a:gd name="textAreaLeft" fmla="*/ 0 w 431640"/>
              <a:gd name="textAreaRight" fmla="*/ 432000 w 43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432054" h="432054">
                <a:moveTo>
                  <a:pt x="216027" y="432054"/>
                </a:moveTo>
                <a:lnTo>
                  <a:pt x="216027" y="323977"/>
                </a:lnTo>
                <a:lnTo>
                  <a:pt x="0" y="323977"/>
                </a:lnTo>
                <a:lnTo>
                  <a:pt x="0" y="107950"/>
                </a:lnTo>
                <a:lnTo>
                  <a:pt x="216027" y="107950"/>
                </a:lnTo>
                <a:lnTo>
                  <a:pt x="216027" y="0"/>
                </a:lnTo>
                <a:lnTo>
                  <a:pt x="432054" y="216027"/>
                </a:lnTo>
                <a:lnTo>
                  <a:pt x="216027" y="432054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5632920" y="4489920"/>
            <a:ext cx="469800" cy="469800"/>
          </a:xfrm>
          <a:custGeom>
            <a:avLst/>
            <a:gdLst>
              <a:gd name="textAreaLeft" fmla="*/ 0 w 469800"/>
              <a:gd name="textAreaRight" fmla="*/ 470160 w 4698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470154" h="470154">
                <a:moveTo>
                  <a:pt x="235077" y="451104"/>
                </a:moveTo>
                <a:lnTo>
                  <a:pt x="235077" y="343027"/>
                </a:lnTo>
                <a:lnTo>
                  <a:pt x="19050" y="343027"/>
                </a:lnTo>
                <a:lnTo>
                  <a:pt x="19050" y="127000"/>
                </a:lnTo>
                <a:lnTo>
                  <a:pt x="235077" y="127000"/>
                </a:lnTo>
                <a:lnTo>
                  <a:pt x="235077" y="19050"/>
                </a:lnTo>
                <a:lnTo>
                  <a:pt x="451104" y="235077"/>
                </a:lnTo>
                <a:lnTo>
                  <a:pt x="235077" y="451104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44520" y="1104840"/>
            <a:ext cx="1320480" cy="1320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3772080" y="914400"/>
            <a:ext cx="1510920" cy="151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4"/>
          <a:stretch/>
        </p:blipFill>
        <p:spPr>
          <a:xfrm>
            <a:off x="6502320" y="1104840"/>
            <a:ext cx="1180800" cy="1180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5"/>
          <a:stretch/>
        </p:blipFill>
        <p:spPr>
          <a:xfrm>
            <a:off x="1168560" y="3048120"/>
            <a:ext cx="101160" cy="125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6"/>
          <a:stretch/>
        </p:blipFill>
        <p:spPr>
          <a:xfrm>
            <a:off x="1397160" y="3048120"/>
            <a:ext cx="6426000" cy="262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7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966600" y="190440"/>
            <a:ext cx="35395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2-1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年度传播方案思路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4119120" y="2489040"/>
            <a:ext cx="98136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4316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竞争对手的市场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4316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传播劢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3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3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整体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452240" y="2502000"/>
            <a:ext cx="981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127080"/>
                <a:tab algn="l" pos="3301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用户使用行为的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27080"/>
                <a:tab algn="l" pos="3301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化和新需求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27080"/>
                <a:tab algn="l" pos="330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留给产品和品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27080"/>
                <a:tab algn="l" pos="330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的切入机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6676920" y="2502000"/>
            <a:ext cx="109836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13968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整个市场发展不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3968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类进化趋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39680"/>
              </a:tabLst>
            </a:pPr>
            <a:r>
              <a:rPr b="1" lang="zh-CN" sz="1610" spc="-1" strike="noStrike">
                <a:solidFill>
                  <a:srgbClr val="ffffff"/>
                </a:solidFill>
                <a:latin typeface="微软雅黑"/>
              </a:rPr>
              <a:t>整体目标实现方式、</a:t>
            </a:r>
            <a:endParaRPr b="0" lang="en-US" sz="16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途径、投入预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65240" y="749160"/>
            <a:ext cx="8876880" cy="604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1122840" y="190440"/>
            <a:ext cx="40273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2-2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年度传播方案撰写模板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65240" y="6577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1226520" y="5168880"/>
            <a:ext cx="12798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27936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如何应对？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用户访谈了解真实情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改善产品戒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增加接触点渠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扩大宣传，应对竞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5535000" y="4178160"/>
            <a:ext cx="85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是否仍能按原计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划完成既定目标？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5846400" y="5181480"/>
            <a:ext cx="15530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27936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品牌经理不上级协商，选择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延长期限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增加资源投入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调整计划内容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终止计划并制定补救方案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215480" y="3009960"/>
            <a:ext cx="9612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经理继续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切跟踪品牌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项目执行的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以及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769680" y="190440"/>
            <a:ext cx="26892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推广执行监控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783800" y="977760"/>
            <a:ext cx="18298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685800"/>
              </a:tabLst>
            </a:pP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品牌经理通过数据监测品牌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685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推广项目执行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595440" y="1054080"/>
            <a:ext cx="307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1" lang="en-US" sz="4009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5961960" y="977760"/>
            <a:ext cx="15249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762120"/>
              </a:tabLst>
            </a:pP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必要时对项目方案计划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76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进行调整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8379000" y="1054080"/>
            <a:ext cx="284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1" lang="en-US" sz="4009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1108800" y="3238560"/>
            <a:ext cx="29883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1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2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3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4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7f7f7f"/>
                </a:solidFill>
                <a:latin typeface="微软雅黑"/>
              </a:rPr>
              <a:t>品牌推广月份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79360"/>
                <a:tab algn="l" pos="558720"/>
                <a:tab algn="l" pos="144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79360"/>
                <a:tab algn="l" pos="558720"/>
                <a:tab algn="l" pos="144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为什么品牌推广后一个月业绩便快速下滑？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产品本身问题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接触点宣传没做好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竞争对手推出类似产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5837400" y="1866960"/>
            <a:ext cx="961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继续执行原计划丌变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4485600" y="3846600"/>
            <a:ext cx="56880" cy="2108880"/>
          </a:xfrm>
          <a:custGeom>
            <a:avLst/>
            <a:gdLst>
              <a:gd name="textAreaLeft" fmla="*/ 0 w 56880"/>
              <a:gd name="textAreaRight" fmla="*/ 57240 w 56880"/>
              <a:gd name="textAreaTop" fmla="*/ 0 h 2108880"/>
              <a:gd name="textAreaBottom" fmla="*/ 2109240 h 2108880"/>
            </a:gdLst>
            <a:ahLst/>
            <a:rect l="textAreaLeft" t="textAreaTop" r="textAreaRight" b="textAreaBottom"/>
            <a:pathLst>
              <a:path w="57150" h="2109165">
                <a:moveTo>
                  <a:pt x="14287" y="14287"/>
                </a:moveTo>
                <a:lnTo>
                  <a:pt x="14287" y="209487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827720" y="5074560"/>
            <a:ext cx="5342400" cy="810000"/>
          </a:xfrm>
          <a:custGeom>
            <a:avLst/>
            <a:gdLst>
              <a:gd name="textAreaLeft" fmla="*/ 0 w 5342400"/>
              <a:gd name="textAreaRight" fmla="*/ 5342760 w 5342400"/>
              <a:gd name="textAreaTop" fmla="*/ 0 h 810000"/>
              <a:gd name="textAreaBottom" fmla="*/ 810360 h 810000"/>
            </a:gdLst>
            <a:ahLst/>
            <a:rect l="textAreaLeft" t="textAreaTop" r="textAreaRight" b="textAreaBottom"/>
            <a:pathLst>
              <a:path w="5342763" h="810399">
                <a:moveTo>
                  <a:pt x="14287" y="769607"/>
                </a:moveTo>
                <a:lnTo>
                  <a:pt x="14287" y="14287"/>
                </a:lnTo>
                <a:lnTo>
                  <a:pt x="5328475" y="14287"/>
                </a:lnTo>
                <a:lnTo>
                  <a:pt x="5328475" y="796111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485600" y="2238480"/>
            <a:ext cx="56880" cy="2108880"/>
          </a:xfrm>
          <a:custGeom>
            <a:avLst/>
            <a:gdLst>
              <a:gd name="textAreaLeft" fmla="*/ 0 w 56880"/>
              <a:gd name="textAreaRight" fmla="*/ 57240 w 56880"/>
              <a:gd name="textAreaTop" fmla="*/ 0 h 2108880"/>
              <a:gd name="textAreaBottom" fmla="*/ 2109240 h 2108880"/>
            </a:gdLst>
            <a:ahLst/>
            <a:rect l="textAreaLeft" t="textAreaTop" r="textAreaRight" b="textAreaBottom"/>
            <a:pathLst>
              <a:path w="57150" h="2109216">
                <a:moveTo>
                  <a:pt x="14287" y="14287"/>
                </a:moveTo>
                <a:lnTo>
                  <a:pt x="14287" y="2094928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3765600" y="2278440"/>
            <a:ext cx="369720" cy="444600"/>
          </a:xfrm>
          <a:custGeom>
            <a:avLst/>
            <a:gdLst>
              <a:gd name="textAreaLeft" fmla="*/ 0 w 369720"/>
              <a:gd name="textAreaRight" fmla="*/ 370080 w 3697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70077" h="444880">
                <a:moveTo>
                  <a:pt x="355790" y="14287"/>
                </a:moveTo>
                <a:lnTo>
                  <a:pt x="14287" y="430593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4889160" y="2212200"/>
            <a:ext cx="385920" cy="478800"/>
          </a:xfrm>
          <a:custGeom>
            <a:avLst/>
            <a:gdLst>
              <a:gd name="textAreaLeft" fmla="*/ 0 w 385920"/>
              <a:gd name="textAreaRight" fmla="*/ 386280 w 385920"/>
              <a:gd name="textAreaTop" fmla="*/ 0 h 478800"/>
              <a:gd name="textAreaBottom" fmla="*/ 479160 h 478800"/>
            </a:gdLst>
            <a:ahLst/>
            <a:rect l="textAreaLeft" t="textAreaTop" r="textAreaRight" b="textAreaBottom"/>
            <a:pathLst>
              <a:path w="386334" h="479170">
                <a:moveTo>
                  <a:pt x="14287" y="14287"/>
                </a:moveTo>
                <a:lnTo>
                  <a:pt x="372046" y="464883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3179520" y="1469880"/>
            <a:ext cx="2546280" cy="56880"/>
          </a:xfrm>
          <a:custGeom>
            <a:avLst/>
            <a:gdLst>
              <a:gd name="textAreaLeft" fmla="*/ 0 w 2546280"/>
              <a:gd name="textAreaRight" fmla="*/ 2546640 w 25462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546476" h="57150">
                <a:moveTo>
                  <a:pt x="14287" y="14287"/>
                </a:moveTo>
                <a:lnTo>
                  <a:pt x="2532189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971640" y="137124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635" h="216027">
                <a:moveTo>
                  <a:pt x="0" y="108077"/>
                </a:moveTo>
                <a:cubicBezTo>
                  <a:pt x="0" y="48386"/>
                  <a:pt x="48361" y="0"/>
                  <a:pt x="108013" y="0"/>
                </a:cubicBezTo>
                <a:cubicBezTo>
                  <a:pt x="108013" y="0"/>
                  <a:pt x="108013" y="0"/>
                  <a:pt x="108013" y="0"/>
                </a:cubicBezTo>
                <a:lnTo>
                  <a:pt x="108013" y="0"/>
                </a:lnTo>
                <a:lnTo>
                  <a:pt x="935558" y="0"/>
                </a:lnTo>
                <a:lnTo>
                  <a:pt x="935558" y="0"/>
                </a:lnTo>
                <a:cubicBezTo>
                  <a:pt x="995248" y="0"/>
                  <a:pt x="1043635" y="48386"/>
                  <a:pt x="1043635" y="108077"/>
                </a:cubicBezTo>
                <a:cubicBezTo>
                  <a:pt x="1043635" y="108077"/>
                  <a:pt x="1043635" y="108077"/>
                  <a:pt x="1043635" y="108077"/>
                </a:cubicBezTo>
                <a:lnTo>
                  <a:pt x="1043635" y="108077"/>
                </a:lnTo>
                <a:lnTo>
                  <a:pt x="1043635" y="108077"/>
                </a:lnTo>
                <a:lnTo>
                  <a:pt x="1043635" y="108077"/>
                </a:lnTo>
                <a:cubicBezTo>
                  <a:pt x="1043635" y="167639"/>
                  <a:pt x="995248" y="216027"/>
                  <a:pt x="935558" y="216027"/>
                </a:cubicBezTo>
                <a:cubicBezTo>
                  <a:pt x="935558" y="216027"/>
                  <a:pt x="935558" y="216027"/>
                  <a:pt x="935558" y="216027"/>
                </a:cubicBezTo>
                <a:lnTo>
                  <a:pt x="935558" y="216027"/>
                </a:lnTo>
                <a:lnTo>
                  <a:pt x="108013" y="216027"/>
                </a:lnTo>
                <a:lnTo>
                  <a:pt x="108013" y="216027"/>
                </a:lnTo>
                <a:cubicBezTo>
                  <a:pt x="48361" y="216027"/>
                  <a:pt x="0" y="167639"/>
                  <a:pt x="0" y="108077"/>
                </a:cubicBezTo>
                <a:cubicBezTo>
                  <a:pt x="0" y="108077"/>
                  <a:pt x="0" y="108077"/>
                  <a:pt x="0" y="108077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1944360" y="252324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2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639"/>
                  <a:pt x="995172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639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1763640" y="29916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686" h="216026">
                <a:moveTo>
                  <a:pt x="0" y="107950"/>
                </a:moveTo>
                <a:cubicBezTo>
                  <a:pt x="0" y="48260"/>
                  <a:pt x="48386" y="0"/>
                  <a:pt x="108077" y="0"/>
                </a:cubicBezTo>
                <a:cubicBezTo>
                  <a:pt x="108077" y="0"/>
                  <a:pt x="108077" y="0"/>
                  <a:pt x="108077" y="0"/>
                </a:cubicBezTo>
                <a:lnTo>
                  <a:pt x="108077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299" y="0"/>
                  <a:pt x="1043686" y="48260"/>
                  <a:pt x="1043686" y="107950"/>
                </a:cubicBezTo>
                <a:cubicBezTo>
                  <a:pt x="1043686" y="107950"/>
                  <a:pt x="1043686" y="107950"/>
                  <a:pt x="1043686" y="107950"/>
                </a:cubicBezTo>
                <a:lnTo>
                  <a:pt x="1043686" y="107950"/>
                </a:lnTo>
                <a:lnTo>
                  <a:pt x="1043686" y="107950"/>
                </a:lnTo>
                <a:lnTo>
                  <a:pt x="1043686" y="107950"/>
                </a:lnTo>
                <a:cubicBezTo>
                  <a:pt x="1043686" y="167639"/>
                  <a:pt x="995299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8077" y="216026"/>
                </a:lnTo>
                <a:lnTo>
                  <a:pt x="108077" y="216026"/>
                </a:lnTo>
                <a:cubicBezTo>
                  <a:pt x="48386" y="216026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944360" y="34596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7">
                <a:moveTo>
                  <a:pt x="0" y="108077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2" y="0"/>
                  <a:pt x="1043558" y="48386"/>
                  <a:pt x="1043558" y="108077"/>
                </a:cubicBezTo>
                <a:cubicBezTo>
                  <a:pt x="1043558" y="108077"/>
                  <a:pt x="1043558" y="108077"/>
                  <a:pt x="1043558" y="108077"/>
                </a:cubicBezTo>
                <a:lnTo>
                  <a:pt x="1043558" y="108077"/>
                </a:lnTo>
                <a:lnTo>
                  <a:pt x="1043558" y="108077"/>
                </a:lnTo>
                <a:lnTo>
                  <a:pt x="1043558" y="108077"/>
                </a:lnTo>
                <a:cubicBezTo>
                  <a:pt x="1043558" y="167640"/>
                  <a:pt x="995172" y="216027"/>
                  <a:pt x="935608" y="216027"/>
                </a:cubicBezTo>
                <a:cubicBezTo>
                  <a:pt x="935608" y="216027"/>
                  <a:pt x="935608" y="216027"/>
                  <a:pt x="935608" y="216027"/>
                </a:cubicBezTo>
                <a:lnTo>
                  <a:pt x="935608" y="216027"/>
                </a:lnTo>
                <a:lnTo>
                  <a:pt x="107950" y="216027"/>
                </a:lnTo>
                <a:lnTo>
                  <a:pt x="107950" y="216027"/>
                </a:lnTo>
                <a:cubicBezTo>
                  <a:pt x="48386" y="216027"/>
                  <a:pt x="0" y="167640"/>
                  <a:pt x="0" y="108077"/>
                </a:cubicBezTo>
                <a:cubicBezTo>
                  <a:pt x="0" y="108077"/>
                  <a:pt x="0" y="108077"/>
                  <a:pt x="0" y="108077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7092360" y="3038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7">
                <a:moveTo>
                  <a:pt x="0" y="107950"/>
                </a:moveTo>
                <a:cubicBezTo>
                  <a:pt x="0" y="48386"/>
                  <a:pt x="48259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39"/>
                  <a:pt x="995171" y="216027"/>
                  <a:pt x="935608" y="216027"/>
                </a:cubicBezTo>
                <a:cubicBezTo>
                  <a:pt x="935608" y="216027"/>
                  <a:pt x="935608" y="216027"/>
                  <a:pt x="935608" y="216027"/>
                </a:cubicBezTo>
                <a:lnTo>
                  <a:pt x="935608" y="216027"/>
                </a:lnTo>
                <a:lnTo>
                  <a:pt x="107950" y="216027"/>
                </a:lnTo>
                <a:lnTo>
                  <a:pt x="107950" y="216027"/>
                </a:lnTo>
                <a:cubicBezTo>
                  <a:pt x="48259" y="216027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6048720" y="3686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686" h="216027">
                <a:moveTo>
                  <a:pt x="0" y="107950"/>
                </a:moveTo>
                <a:cubicBezTo>
                  <a:pt x="0" y="48386"/>
                  <a:pt x="48386" y="0"/>
                  <a:pt x="108077" y="0"/>
                </a:cubicBezTo>
                <a:cubicBezTo>
                  <a:pt x="108077" y="0"/>
                  <a:pt x="108077" y="0"/>
                  <a:pt x="108077" y="0"/>
                </a:cubicBezTo>
                <a:lnTo>
                  <a:pt x="108077" y="0"/>
                </a:lnTo>
                <a:lnTo>
                  <a:pt x="935609" y="0"/>
                </a:lnTo>
                <a:lnTo>
                  <a:pt x="935609" y="0"/>
                </a:lnTo>
                <a:cubicBezTo>
                  <a:pt x="995299" y="0"/>
                  <a:pt x="1043686" y="48386"/>
                  <a:pt x="1043686" y="107950"/>
                </a:cubicBezTo>
                <a:cubicBezTo>
                  <a:pt x="1043686" y="107950"/>
                  <a:pt x="1043686" y="107950"/>
                  <a:pt x="1043686" y="107950"/>
                </a:cubicBezTo>
                <a:lnTo>
                  <a:pt x="1043686" y="107950"/>
                </a:lnTo>
                <a:lnTo>
                  <a:pt x="1043686" y="107950"/>
                </a:lnTo>
                <a:lnTo>
                  <a:pt x="1043686" y="107950"/>
                </a:lnTo>
                <a:cubicBezTo>
                  <a:pt x="1043686" y="167640"/>
                  <a:pt x="995299" y="216027"/>
                  <a:pt x="935609" y="216027"/>
                </a:cubicBezTo>
                <a:cubicBezTo>
                  <a:pt x="935609" y="216027"/>
                  <a:pt x="935609" y="216027"/>
                  <a:pt x="935609" y="216027"/>
                </a:cubicBezTo>
                <a:lnTo>
                  <a:pt x="935609" y="216027"/>
                </a:lnTo>
                <a:lnTo>
                  <a:pt x="108077" y="216027"/>
                </a:lnTo>
                <a:lnTo>
                  <a:pt x="108077" y="216027"/>
                </a:lnTo>
                <a:cubicBezTo>
                  <a:pt x="48386" y="216027"/>
                  <a:pt x="0" y="167640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6588360" y="3362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766"/>
                  <a:pt x="995171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766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6876360" y="94896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7">
                <a:moveTo>
                  <a:pt x="0" y="107950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40"/>
                  <a:pt x="995171" y="216027"/>
                  <a:pt x="935608" y="216027"/>
                </a:cubicBezTo>
                <a:cubicBezTo>
                  <a:pt x="935608" y="216027"/>
                  <a:pt x="935608" y="216027"/>
                  <a:pt x="935608" y="216027"/>
                </a:cubicBezTo>
                <a:lnTo>
                  <a:pt x="935608" y="216027"/>
                </a:lnTo>
                <a:lnTo>
                  <a:pt x="107950" y="216027"/>
                </a:lnTo>
                <a:lnTo>
                  <a:pt x="107950" y="216027"/>
                </a:lnTo>
                <a:cubicBezTo>
                  <a:pt x="48386" y="216027"/>
                  <a:pt x="0" y="167640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7020360" y="138168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5900">
                <a:moveTo>
                  <a:pt x="0" y="107950"/>
                </a:moveTo>
                <a:cubicBezTo>
                  <a:pt x="0" y="48259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259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39"/>
                  <a:pt x="995171" y="215900"/>
                  <a:pt x="935608" y="215900"/>
                </a:cubicBezTo>
                <a:cubicBezTo>
                  <a:pt x="935608" y="215900"/>
                  <a:pt x="935608" y="215900"/>
                  <a:pt x="935608" y="215900"/>
                </a:cubicBezTo>
                <a:lnTo>
                  <a:pt x="935608" y="215900"/>
                </a:lnTo>
                <a:lnTo>
                  <a:pt x="107950" y="215900"/>
                </a:lnTo>
                <a:lnTo>
                  <a:pt x="107950" y="215900"/>
                </a:lnTo>
                <a:cubicBezTo>
                  <a:pt x="48386" y="215900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6876360" y="1814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639"/>
                  <a:pt x="995171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639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6588360" y="2714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5900">
                <a:moveTo>
                  <a:pt x="0" y="107950"/>
                </a:moveTo>
                <a:cubicBezTo>
                  <a:pt x="0" y="48259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259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39"/>
                  <a:pt x="995171" y="215900"/>
                  <a:pt x="935608" y="215900"/>
                </a:cubicBezTo>
                <a:cubicBezTo>
                  <a:pt x="935608" y="215900"/>
                  <a:pt x="935608" y="215900"/>
                  <a:pt x="935608" y="215900"/>
                </a:cubicBezTo>
                <a:lnTo>
                  <a:pt x="935608" y="215900"/>
                </a:lnTo>
                <a:lnTo>
                  <a:pt x="107950" y="215900"/>
                </a:lnTo>
                <a:lnTo>
                  <a:pt x="107950" y="215900"/>
                </a:lnTo>
                <a:cubicBezTo>
                  <a:pt x="48386" y="215900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6084360" y="2390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639"/>
                  <a:pt x="995171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639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3780000" y="1052640"/>
            <a:ext cx="1439640" cy="1439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440179" h="1440179">
                <a:moveTo>
                  <a:pt x="0" y="720089"/>
                </a:moveTo>
                <a:cubicBezTo>
                  <a:pt x="0" y="322452"/>
                  <a:pt x="322452" y="0"/>
                  <a:pt x="720089" y="0"/>
                </a:cubicBezTo>
                <a:cubicBezTo>
                  <a:pt x="720089" y="0"/>
                  <a:pt x="720089" y="0"/>
                  <a:pt x="720089" y="0"/>
                </a:cubicBezTo>
                <a:lnTo>
                  <a:pt x="720089" y="0"/>
                </a:lnTo>
                <a:cubicBezTo>
                  <a:pt x="1117727" y="0"/>
                  <a:pt x="1440179" y="322452"/>
                  <a:pt x="1440179" y="720089"/>
                </a:cubicBezTo>
                <a:cubicBezTo>
                  <a:pt x="1440179" y="720089"/>
                  <a:pt x="1440179" y="720089"/>
                  <a:pt x="1440179" y="720089"/>
                </a:cubicBezTo>
                <a:lnTo>
                  <a:pt x="1440179" y="720089"/>
                </a:lnTo>
                <a:cubicBezTo>
                  <a:pt x="1440179" y="1117854"/>
                  <a:pt x="1117727" y="1440179"/>
                  <a:pt x="720089" y="1440179"/>
                </a:cubicBezTo>
                <a:cubicBezTo>
                  <a:pt x="720089" y="1440179"/>
                  <a:pt x="720089" y="1440179"/>
                  <a:pt x="720089" y="1440179"/>
                </a:cubicBezTo>
                <a:lnTo>
                  <a:pt x="720089" y="1440179"/>
                </a:lnTo>
                <a:cubicBezTo>
                  <a:pt x="322452" y="1440179"/>
                  <a:pt x="0" y="1117854"/>
                  <a:pt x="0" y="720089"/>
                </a:cubicBezTo>
                <a:cubicBezTo>
                  <a:pt x="0" y="720089"/>
                  <a:pt x="0" y="720089"/>
                  <a:pt x="0" y="72008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3741840" y="101448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79" h="1516379">
                <a:moveTo>
                  <a:pt x="38100" y="758189"/>
                </a:moveTo>
                <a:cubicBezTo>
                  <a:pt x="38100" y="360552"/>
                  <a:pt x="360552" y="38100"/>
                  <a:pt x="758189" y="38100"/>
                </a:cubicBezTo>
                <a:cubicBezTo>
                  <a:pt x="758189" y="38100"/>
                  <a:pt x="758189" y="38100"/>
                  <a:pt x="758189" y="38100"/>
                </a:cubicBezTo>
                <a:lnTo>
                  <a:pt x="758189" y="38100"/>
                </a:lnTo>
                <a:cubicBezTo>
                  <a:pt x="1155827" y="38100"/>
                  <a:pt x="1478279" y="360552"/>
                  <a:pt x="1478279" y="758189"/>
                </a:cubicBezTo>
                <a:cubicBezTo>
                  <a:pt x="1478279" y="758189"/>
                  <a:pt x="1478279" y="758189"/>
                  <a:pt x="1478279" y="758189"/>
                </a:cubicBezTo>
                <a:lnTo>
                  <a:pt x="1478279" y="758189"/>
                </a:lnTo>
                <a:cubicBezTo>
                  <a:pt x="1478279" y="1155954"/>
                  <a:pt x="1155827" y="1478279"/>
                  <a:pt x="758189" y="1478279"/>
                </a:cubicBezTo>
                <a:cubicBezTo>
                  <a:pt x="758189" y="1478279"/>
                  <a:pt x="758189" y="1478279"/>
                  <a:pt x="758189" y="1478279"/>
                </a:cubicBezTo>
                <a:lnTo>
                  <a:pt x="758189" y="1478279"/>
                </a:lnTo>
                <a:cubicBezTo>
                  <a:pt x="360552" y="1478279"/>
                  <a:pt x="38100" y="1155954"/>
                  <a:pt x="38100" y="758189"/>
                </a:cubicBezTo>
                <a:cubicBezTo>
                  <a:pt x="38100" y="758189"/>
                  <a:pt x="38100" y="758189"/>
                  <a:pt x="38100" y="758189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3780000" y="413964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79" h="1440180">
                <a:moveTo>
                  <a:pt x="0" y="720090"/>
                </a:moveTo>
                <a:cubicBezTo>
                  <a:pt x="0" y="322326"/>
                  <a:pt x="322452" y="0"/>
                  <a:pt x="720089" y="0"/>
                </a:cubicBezTo>
                <a:cubicBezTo>
                  <a:pt x="720089" y="0"/>
                  <a:pt x="720089" y="0"/>
                  <a:pt x="720089" y="0"/>
                </a:cubicBezTo>
                <a:lnTo>
                  <a:pt x="720089" y="0"/>
                </a:lnTo>
                <a:cubicBezTo>
                  <a:pt x="1117727" y="0"/>
                  <a:pt x="1440179" y="322326"/>
                  <a:pt x="1440179" y="720090"/>
                </a:cubicBezTo>
                <a:cubicBezTo>
                  <a:pt x="1440179" y="720090"/>
                  <a:pt x="1440179" y="720090"/>
                  <a:pt x="1440179" y="720090"/>
                </a:cubicBezTo>
                <a:lnTo>
                  <a:pt x="1440179" y="720090"/>
                </a:lnTo>
                <a:cubicBezTo>
                  <a:pt x="1440179" y="1117727"/>
                  <a:pt x="1117727" y="1440179"/>
                  <a:pt x="720089" y="1440179"/>
                </a:cubicBezTo>
                <a:cubicBezTo>
                  <a:pt x="720089" y="1440179"/>
                  <a:pt x="720089" y="1440179"/>
                  <a:pt x="720089" y="1440179"/>
                </a:cubicBezTo>
                <a:lnTo>
                  <a:pt x="720089" y="1440179"/>
                </a:lnTo>
                <a:cubicBezTo>
                  <a:pt x="322452" y="1440179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3741840" y="4101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79" h="1516380">
                <a:moveTo>
                  <a:pt x="38100" y="758190"/>
                </a:moveTo>
                <a:cubicBezTo>
                  <a:pt x="38100" y="360426"/>
                  <a:pt x="360552" y="38100"/>
                  <a:pt x="758189" y="38100"/>
                </a:cubicBezTo>
                <a:cubicBezTo>
                  <a:pt x="758189" y="38100"/>
                  <a:pt x="758189" y="38100"/>
                  <a:pt x="758189" y="38100"/>
                </a:cubicBezTo>
                <a:lnTo>
                  <a:pt x="758189" y="38100"/>
                </a:lnTo>
                <a:cubicBezTo>
                  <a:pt x="1155827" y="38100"/>
                  <a:pt x="1478279" y="360426"/>
                  <a:pt x="1478279" y="758190"/>
                </a:cubicBezTo>
                <a:cubicBezTo>
                  <a:pt x="1478279" y="758190"/>
                  <a:pt x="1478279" y="758190"/>
                  <a:pt x="1478279" y="758190"/>
                </a:cubicBezTo>
                <a:lnTo>
                  <a:pt x="1478279" y="758190"/>
                </a:lnTo>
                <a:cubicBezTo>
                  <a:pt x="1478279" y="1155827"/>
                  <a:pt x="1155827" y="1478279"/>
                  <a:pt x="758189" y="1478279"/>
                </a:cubicBezTo>
                <a:cubicBezTo>
                  <a:pt x="758189" y="1478279"/>
                  <a:pt x="758189" y="1478279"/>
                  <a:pt x="758189" y="1478279"/>
                </a:cubicBezTo>
                <a:lnTo>
                  <a:pt x="758189" y="1478279"/>
                </a:lnTo>
                <a:cubicBezTo>
                  <a:pt x="360552" y="1478279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1920600" y="1469880"/>
            <a:ext cx="319680" cy="56880"/>
          </a:xfrm>
          <a:custGeom>
            <a:avLst/>
            <a:gdLst>
              <a:gd name="textAreaLeft" fmla="*/ 0 w 319680"/>
              <a:gd name="textAreaRight" fmla="*/ 320040 w 3196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20040" h="57150">
                <a:moveTo>
                  <a:pt x="14287" y="14287"/>
                </a:moveTo>
                <a:lnTo>
                  <a:pt x="305752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6465960" y="1032480"/>
            <a:ext cx="439200" cy="56880"/>
          </a:xfrm>
          <a:custGeom>
            <a:avLst/>
            <a:gdLst>
              <a:gd name="textAreaLeft" fmla="*/ 0 w 439200"/>
              <a:gd name="textAreaRight" fmla="*/ 439560 w 439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39419" h="57150">
                <a:moveTo>
                  <a:pt x="14287" y="14287"/>
                </a:moveTo>
                <a:lnTo>
                  <a:pt x="425132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6717960" y="1456920"/>
            <a:ext cx="346320" cy="56880"/>
          </a:xfrm>
          <a:custGeom>
            <a:avLst/>
            <a:gdLst>
              <a:gd name="textAreaLeft" fmla="*/ 0 w 346320"/>
              <a:gd name="textAreaRight" fmla="*/ 346680 w 3463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46583" h="57150">
                <a:moveTo>
                  <a:pt x="14287" y="14287"/>
                </a:moveTo>
                <a:lnTo>
                  <a:pt x="332295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6439320" y="1933920"/>
            <a:ext cx="465480" cy="56880"/>
          </a:xfrm>
          <a:custGeom>
            <a:avLst/>
            <a:gdLst>
              <a:gd name="textAreaLeft" fmla="*/ 0 w 465480"/>
              <a:gd name="textAreaRight" fmla="*/ 465840 w 4654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65962" h="57150">
                <a:moveTo>
                  <a:pt x="14287" y="14287"/>
                </a:moveTo>
                <a:lnTo>
                  <a:pt x="451675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2954160" y="2622960"/>
            <a:ext cx="187200" cy="94680"/>
          </a:xfrm>
          <a:custGeom>
            <a:avLst/>
            <a:gdLst>
              <a:gd name="textAreaLeft" fmla="*/ 0 w 187200"/>
              <a:gd name="textAreaRight" fmla="*/ 187560 w 187200"/>
              <a:gd name="textAreaTop" fmla="*/ 0 h 94680"/>
              <a:gd name="textAreaBottom" fmla="*/ 95040 h 94680"/>
            </a:gdLst>
            <a:ahLst/>
            <a:rect l="textAreaLeft" t="textAreaTop" r="textAreaRight" b="textAreaBottom"/>
            <a:pathLst>
              <a:path w="187579" h="94868">
                <a:moveTo>
                  <a:pt x="173291" y="80581"/>
                </a:moveTo>
                <a:lnTo>
                  <a:pt x="14287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2728800" y="3086640"/>
            <a:ext cx="226800" cy="56880"/>
          </a:xfrm>
          <a:custGeom>
            <a:avLst/>
            <a:gdLst>
              <a:gd name="textAreaLeft" fmla="*/ 0 w 226800"/>
              <a:gd name="textAreaRight" fmla="*/ 227160 w 226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7329" h="57150">
                <a:moveTo>
                  <a:pt x="213042" y="14287"/>
                </a:moveTo>
                <a:lnTo>
                  <a:pt x="14287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2954160" y="3431160"/>
            <a:ext cx="147600" cy="108000"/>
          </a:xfrm>
          <a:custGeom>
            <a:avLst/>
            <a:gdLst>
              <a:gd name="textAreaLeft" fmla="*/ 0 w 147600"/>
              <a:gd name="textAreaRight" fmla="*/ 147960 w 147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7828" h="108204">
                <a:moveTo>
                  <a:pt x="133540" y="14287"/>
                </a:moveTo>
                <a:lnTo>
                  <a:pt x="14287" y="93916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5883120" y="2503440"/>
            <a:ext cx="253440" cy="213840"/>
          </a:xfrm>
          <a:custGeom>
            <a:avLst/>
            <a:gdLst>
              <a:gd name="textAreaLeft" fmla="*/ 0 w 253440"/>
              <a:gd name="textAreaRight" fmla="*/ 253800 w 25344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253872" h="214122">
                <a:moveTo>
                  <a:pt x="14287" y="199834"/>
                </a:moveTo>
                <a:lnTo>
                  <a:pt x="239585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6002280" y="2808360"/>
            <a:ext cx="637920" cy="187200"/>
          </a:xfrm>
          <a:custGeom>
            <a:avLst/>
            <a:gdLst>
              <a:gd name="textAreaLeft" fmla="*/ 0 w 637920"/>
              <a:gd name="textAreaRight" fmla="*/ 638280 w 6379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638175" h="187579">
                <a:moveTo>
                  <a:pt x="14287" y="173291"/>
                </a:moveTo>
                <a:lnTo>
                  <a:pt x="623887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6015240" y="3126600"/>
            <a:ext cx="1101600" cy="5688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101978" h="57150">
                <a:moveTo>
                  <a:pt x="14287" y="14287"/>
                </a:moveTo>
                <a:lnTo>
                  <a:pt x="1087691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5922720" y="3298680"/>
            <a:ext cx="717480" cy="187200"/>
          </a:xfrm>
          <a:custGeom>
            <a:avLst/>
            <a:gdLst>
              <a:gd name="textAreaLeft" fmla="*/ 0 w 717480"/>
              <a:gd name="textAreaRight" fmla="*/ 717840 w 7174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17676" h="187579">
                <a:moveTo>
                  <a:pt x="14287" y="14287"/>
                </a:moveTo>
                <a:lnTo>
                  <a:pt x="14287" y="14287"/>
                </a:lnTo>
                <a:lnTo>
                  <a:pt x="703389" y="173291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5750280" y="3524040"/>
            <a:ext cx="333000" cy="240120"/>
          </a:xfrm>
          <a:custGeom>
            <a:avLst/>
            <a:gdLst>
              <a:gd name="textAreaLeft" fmla="*/ 0 w 333000"/>
              <a:gd name="textAreaRight" fmla="*/ 333360 w 333000"/>
              <a:gd name="textAreaTop" fmla="*/ 0 h 240120"/>
              <a:gd name="textAreaBottom" fmla="*/ 240480 h 240120"/>
            </a:gdLst>
            <a:ahLst/>
            <a:rect l="textAreaLeft" t="textAreaTop" r="textAreaRight" b="textAreaBottom"/>
            <a:pathLst>
              <a:path w="333375" h="240538">
                <a:moveTo>
                  <a:pt x="14287" y="14287"/>
                </a:moveTo>
                <a:lnTo>
                  <a:pt x="319087" y="226250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2195640" y="98064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6" h="1008126">
                <a:moveTo>
                  <a:pt x="0" y="504063"/>
                </a:moveTo>
                <a:cubicBezTo>
                  <a:pt x="0" y="225678"/>
                  <a:pt x="225679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6" y="225678"/>
                  <a:pt x="1008126" y="504063"/>
                </a:cubicBezTo>
                <a:cubicBezTo>
                  <a:pt x="1008126" y="504063"/>
                  <a:pt x="1008126" y="504063"/>
                  <a:pt x="1008126" y="504063"/>
                </a:cubicBezTo>
                <a:lnTo>
                  <a:pt x="1008126" y="504063"/>
                </a:lnTo>
                <a:cubicBezTo>
                  <a:pt x="1008126" y="782447"/>
                  <a:pt x="782447" y="1008126"/>
                  <a:pt x="504063" y="1008126"/>
                </a:cubicBezTo>
                <a:cubicBezTo>
                  <a:pt x="504063" y="1008126"/>
                  <a:pt x="504063" y="1008126"/>
                  <a:pt x="504063" y="1008126"/>
                </a:cubicBezTo>
                <a:lnTo>
                  <a:pt x="504063" y="1008126"/>
                </a:lnTo>
                <a:cubicBezTo>
                  <a:pt x="225679" y="1008126"/>
                  <a:pt x="0" y="782447"/>
                  <a:pt x="0" y="504063"/>
                </a:cubicBezTo>
                <a:cubicBezTo>
                  <a:pt x="0" y="504063"/>
                  <a:pt x="0" y="504063"/>
                  <a:pt x="0" y="50406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2157480" y="94248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6" h="1084326">
                <a:moveTo>
                  <a:pt x="38100" y="542163"/>
                </a:moveTo>
                <a:cubicBezTo>
                  <a:pt x="38100" y="263778"/>
                  <a:pt x="263779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6" y="263778"/>
                  <a:pt x="1046226" y="542163"/>
                </a:cubicBezTo>
                <a:cubicBezTo>
                  <a:pt x="1046226" y="542163"/>
                  <a:pt x="1046226" y="542163"/>
                  <a:pt x="1046226" y="542163"/>
                </a:cubicBezTo>
                <a:lnTo>
                  <a:pt x="1046226" y="542163"/>
                </a:lnTo>
                <a:cubicBezTo>
                  <a:pt x="1046226" y="820547"/>
                  <a:pt x="820547" y="1046226"/>
                  <a:pt x="542163" y="1046226"/>
                </a:cubicBezTo>
                <a:cubicBezTo>
                  <a:pt x="542163" y="1046226"/>
                  <a:pt x="542163" y="1046226"/>
                  <a:pt x="542163" y="1046226"/>
                </a:cubicBezTo>
                <a:lnTo>
                  <a:pt x="542163" y="1046226"/>
                </a:lnTo>
                <a:cubicBezTo>
                  <a:pt x="263779" y="1046226"/>
                  <a:pt x="38100" y="820547"/>
                  <a:pt x="38100" y="542163"/>
                </a:cubicBezTo>
                <a:cubicBezTo>
                  <a:pt x="38100" y="542163"/>
                  <a:pt x="38100" y="542163"/>
                  <a:pt x="38100" y="542163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2987640" y="256500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6" h="1008125">
                <a:moveTo>
                  <a:pt x="0" y="504062"/>
                </a:moveTo>
                <a:cubicBezTo>
                  <a:pt x="0" y="225678"/>
                  <a:pt x="225679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6" y="225678"/>
                  <a:pt x="1008126" y="504062"/>
                </a:cubicBezTo>
                <a:cubicBezTo>
                  <a:pt x="1008126" y="504062"/>
                  <a:pt x="1008126" y="504062"/>
                  <a:pt x="1008126" y="504062"/>
                </a:cubicBezTo>
                <a:lnTo>
                  <a:pt x="1008126" y="504062"/>
                </a:lnTo>
                <a:cubicBezTo>
                  <a:pt x="1008126" y="782447"/>
                  <a:pt x="782447" y="1008125"/>
                  <a:pt x="504063" y="1008125"/>
                </a:cubicBezTo>
                <a:cubicBezTo>
                  <a:pt x="504063" y="1008125"/>
                  <a:pt x="504063" y="1008125"/>
                  <a:pt x="504063" y="1008125"/>
                </a:cubicBezTo>
                <a:lnTo>
                  <a:pt x="504063" y="1008125"/>
                </a:lnTo>
                <a:cubicBezTo>
                  <a:pt x="225679" y="1008125"/>
                  <a:pt x="0" y="782447"/>
                  <a:pt x="0" y="504062"/>
                </a:cubicBezTo>
                <a:cubicBezTo>
                  <a:pt x="0" y="504062"/>
                  <a:pt x="0" y="504062"/>
                  <a:pt x="0" y="504062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2949840" y="252684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6" h="1084325">
                <a:moveTo>
                  <a:pt x="38100" y="542162"/>
                </a:moveTo>
                <a:cubicBezTo>
                  <a:pt x="38100" y="263778"/>
                  <a:pt x="263779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6" y="263778"/>
                  <a:pt x="1046226" y="542162"/>
                </a:cubicBezTo>
                <a:cubicBezTo>
                  <a:pt x="1046226" y="542162"/>
                  <a:pt x="1046226" y="542162"/>
                  <a:pt x="1046226" y="542162"/>
                </a:cubicBezTo>
                <a:lnTo>
                  <a:pt x="1046226" y="542162"/>
                </a:lnTo>
                <a:cubicBezTo>
                  <a:pt x="1046226" y="820547"/>
                  <a:pt x="820547" y="1046225"/>
                  <a:pt x="542163" y="1046225"/>
                </a:cubicBezTo>
                <a:cubicBezTo>
                  <a:pt x="542163" y="1046225"/>
                  <a:pt x="542163" y="1046225"/>
                  <a:pt x="542163" y="1046225"/>
                </a:cubicBezTo>
                <a:lnTo>
                  <a:pt x="542163" y="1046225"/>
                </a:lnTo>
                <a:cubicBezTo>
                  <a:pt x="263779" y="1046225"/>
                  <a:pt x="38100" y="820547"/>
                  <a:pt x="38100" y="542162"/>
                </a:cubicBezTo>
                <a:cubicBezTo>
                  <a:pt x="38100" y="542162"/>
                  <a:pt x="38100" y="542162"/>
                  <a:pt x="38100" y="542162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5724000" y="98064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5" h="1008126">
                <a:moveTo>
                  <a:pt x="0" y="504063"/>
                </a:moveTo>
                <a:cubicBezTo>
                  <a:pt x="0" y="225678"/>
                  <a:pt x="225678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5" y="225678"/>
                  <a:pt x="1008125" y="504063"/>
                </a:cubicBezTo>
                <a:cubicBezTo>
                  <a:pt x="1008125" y="504063"/>
                  <a:pt x="1008125" y="504063"/>
                  <a:pt x="1008125" y="504063"/>
                </a:cubicBezTo>
                <a:lnTo>
                  <a:pt x="1008125" y="504063"/>
                </a:lnTo>
                <a:cubicBezTo>
                  <a:pt x="1008125" y="782447"/>
                  <a:pt x="782447" y="1008126"/>
                  <a:pt x="504063" y="1008126"/>
                </a:cubicBezTo>
                <a:cubicBezTo>
                  <a:pt x="504063" y="1008126"/>
                  <a:pt x="504063" y="1008126"/>
                  <a:pt x="504063" y="1008126"/>
                </a:cubicBezTo>
                <a:lnTo>
                  <a:pt x="504063" y="1008126"/>
                </a:lnTo>
                <a:cubicBezTo>
                  <a:pt x="225678" y="1008126"/>
                  <a:pt x="0" y="782447"/>
                  <a:pt x="0" y="504063"/>
                </a:cubicBezTo>
                <a:cubicBezTo>
                  <a:pt x="0" y="504063"/>
                  <a:pt x="0" y="504063"/>
                  <a:pt x="0" y="50406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5686200" y="94248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5" h="1084326">
                <a:moveTo>
                  <a:pt x="38100" y="542163"/>
                </a:moveTo>
                <a:cubicBezTo>
                  <a:pt x="38100" y="263778"/>
                  <a:pt x="263778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5" y="263778"/>
                  <a:pt x="1046225" y="542163"/>
                </a:cubicBezTo>
                <a:cubicBezTo>
                  <a:pt x="1046225" y="542163"/>
                  <a:pt x="1046225" y="542163"/>
                  <a:pt x="1046225" y="542163"/>
                </a:cubicBezTo>
                <a:lnTo>
                  <a:pt x="1046225" y="542163"/>
                </a:lnTo>
                <a:cubicBezTo>
                  <a:pt x="1046225" y="820547"/>
                  <a:pt x="820547" y="1046226"/>
                  <a:pt x="542163" y="1046226"/>
                </a:cubicBezTo>
                <a:cubicBezTo>
                  <a:pt x="542163" y="1046226"/>
                  <a:pt x="542163" y="1046226"/>
                  <a:pt x="542163" y="1046226"/>
                </a:cubicBezTo>
                <a:lnTo>
                  <a:pt x="542163" y="1046226"/>
                </a:lnTo>
                <a:cubicBezTo>
                  <a:pt x="263778" y="1046226"/>
                  <a:pt x="38100" y="820547"/>
                  <a:pt x="38100" y="542163"/>
                </a:cubicBezTo>
                <a:cubicBezTo>
                  <a:pt x="38100" y="542163"/>
                  <a:pt x="38100" y="542163"/>
                  <a:pt x="38100" y="542163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5004000" y="256500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6" h="1008125">
                <a:moveTo>
                  <a:pt x="0" y="504062"/>
                </a:moveTo>
                <a:cubicBezTo>
                  <a:pt x="0" y="225678"/>
                  <a:pt x="225679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6" y="225678"/>
                  <a:pt x="1008126" y="504062"/>
                </a:cubicBezTo>
                <a:cubicBezTo>
                  <a:pt x="1008126" y="504062"/>
                  <a:pt x="1008126" y="504062"/>
                  <a:pt x="1008126" y="504062"/>
                </a:cubicBezTo>
                <a:lnTo>
                  <a:pt x="1008126" y="504062"/>
                </a:lnTo>
                <a:cubicBezTo>
                  <a:pt x="1008126" y="782447"/>
                  <a:pt x="782447" y="1008125"/>
                  <a:pt x="504063" y="1008125"/>
                </a:cubicBezTo>
                <a:cubicBezTo>
                  <a:pt x="504063" y="1008125"/>
                  <a:pt x="504063" y="1008125"/>
                  <a:pt x="504063" y="1008125"/>
                </a:cubicBezTo>
                <a:lnTo>
                  <a:pt x="504063" y="1008125"/>
                </a:lnTo>
                <a:cubicBezTo>
                  <a:pt x="225679" y="1008125"/>
                  <a:pt x="0" y="782447"/>
                  <a:pt x="0" y="504062"/>
                </a:cubicBezTo>
                <a:cubicBezTo>
                  <a:pt x="0" y="504062"/>
                  <a:pt x="0" y="504062"/>
                  <a:pt x="0" y="504062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4965840" y="252684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6" h="1084325">
                <a:moveTo>
                  <a:pt x="38100" y="542162"/>
                </a:moveTo>
                <a:cubicBezTo>
                  <a:pt x="38100" y="263778"/>
                  <a:pt x="263779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6" y="263778"/>
                  <a:pt x="1046226" y="542162"/>
                </a:cubicBezTo>
                <a:cubicBezTo>
                  <a:pt x="1046226" y="542162"/>
                  <a:pt x="1046226" y="542162"/>
                  <a:pt x="1046226" y="542162"/>
                </a:cubicBezTo>
                <a:lnTo>
                  <a:pt x="1046226" y="542162"/>
                </a:lnTo>
                <a:cubicBezTo>
                  <a:pt x="1046226" y="820547"/>
                  <a:pt x="820547" y="1046225"/>
                  <a:pt x="542163" y="1046225"/>
                </a:cubicBezTo>
                <a:cubicBezTo>
                  <a:pt x="542163" y="1046225"/>
                  <a:pt x="542163" y="1046225"/>
                  <a:pt x="542163" y="1046225"/>
                </a:cubicBezTo>
                <a:lnTo>
                  <a:pt x="542163" y="1046225"/>
                </a:lnTo>
                <a:cubicBezTo>
                  <a:pt x="263779" y="1046225"/>
                  <a:pt x="38100" y="820547"/>
                  <a:pt x="38100" y="542162"/>
                </a:cubicBezTo>
                <a:cubicBezTo>
                  <a:pt x="38100" y="542162"/>
                  <a:pt x="38100" y="542162"/>
                  <a:pt x="38100" y="542162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755640" y="5868000"/>
            <a:ext cx="2160000" cy="35964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160219" h="360032">
                <a:moveTo>
                  <a:pt x="0" y="180009"/>
                </a:moveTo>
                <a:cubicBezTo>
                  <a:pt x="0" y="80594"/>
                  <a:pt x="80594" y="0"/>
                  <a:pt x="180022" y="0"/>
                </a:cubicBezTo>
                <a:cubicBezTo>
                  <a:pt x="180022" y="0"/>
                  <a:pt x="180022" y="0"/>
                  <a:pt x="180022" y="0"/>
                </a:cubicBezTo>
                <a:lnTo>
                  <a:pt x="180022" y="0"/>
                </a:lnTo>
                <a:lnTo>
                  <a:pt x="1980260" y="0"/>
                </a:lnTo>
                <a:lnTo>
                  <a:pt x="1980260" y="0"/>
                </a:lnTo>
                <a:cubicBezTo>
                  <a:pt x="2079701" y="0"/>
                  <a:pt x="2160219" y="80594"/>
                  <a:pt x="2160219" y="180009"/>
                </a:cubicBezTo>
                <a:cubicBezTo>
                  <a:pt x="2160219" y="180009"/>
                  <a:pt x="2160219" y="180009"/>
                  <a:pt x="2160219" y="180009"/>
                </a:cubicBezTo>
                <a:lnTo>
                  <a:pt x="2160219" y="180009"/>
                </a:lnTo>
                <a:lnTo>
                  <a:pt x="2160219" y="180009"/>
                </a:lnTo>
                <a:lnTo>
                  <a:pt x="2160219" y="180009"/>
                </a:lnTo>
                <a:cubicBezTo>
                  <a:pt x="2160219" y="279438"/>
                  <a:pt x="2079701" y="360032"/>
                  <a:pt x="1980260" y="360032"/>
                </a:cubicBezTo>
                <a:cubicBezTo>
                  <a:pt x="1980260" y="360032"/>
                  <a:pt x="1980260" y="360032"/>
                  <a:pt x="1980260" y="360032"/>
                </a:cubicBezTo>
                <a:lnTo>
                  <a:pt x="1980260" y="360032"/>
                </a:lnTo>
                <a:lnTo>
                  <a:pt x="180022" y="360032"/>
                </a:lnTo>
                <a:lnTo>
                  <a:pt x="180022" y="360032"/>
                </a:lnTo>
                <a:cubicBezTo>
                  <a:pt x="80594" y="360032"/>
                  <a:pt x="0" y="279438"/>
                  <a:pt x="0" y="180009"/>
                </a:cubicBezTo>
                <a:cubicBezTo>
                  <a:pt x="0" y="180009"/>
                  <a:pt x="0" y="180009"/>
                  <a:pt x="0" y="180009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3420000" y="5868000"/>
            <a:ext cx="2160000" cy="35964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160270" h="360032">
                <a:moveTo>
                  <a:pt x="0" y="180009"/>
                </a:moveTo>
                <a:cubicBezTo>
                  <a:pt x="0" y="80594"/>
                  <a:pt x="80645" y="0"/>
                  <a:pt x="180085" y="0"/>
                </a:cubicBezTo>
                <a:cubicBezTo>
                  <a:pt x="180085" y="0"/>
                  <a:pt x="180085" y="0"/>
                  <a:pt x="180085" y="0"/>
                </a:cubicBezTo>
                <a:lnTo>
                  <a:pt x="180085" y="0"/>
                </a:lnTo>
                <a:lnTo>
                  <a:pt x="1980184" y="0"/>
                </a:lnTo>
                <a:lnTo>
                  <a:pt x="1980184" y="0"/>
                </a:lnTo>
                <a:cubicBezTo>
                  <a:pt x="2079625" y="0"/>
                  <a:pt x="2160270" y="80594"/>
                  <a:pt x="2160270" y="180009"/>
                </a:cubicBezTo>
                <a:cubicBezTo>
                  <a:pt x="2160270" y="180009"/>
                  <a:pt x="2160270" y="180009"/>
                  <a:pt x="2160270" y="180009"/>
                </a:cubicBezTo>
                <a:lnTo>
                  <a:pt x="2160270" y="180009"/>
                </a:lnTo>
                <a:lnTo>
                  <a:pt x="2160270" y="180009"/>
                </a:lnTo>
                <a:lnTo>
                  <a:pt x="2160270" y="180009"/>
                </a:lnTo>
                <a:cubicBezTo>
                  <a:pt x="2160270" y="279438"/>
                  <a:pt x="2079625" y="360032"/>
                  <a:pt x="1980184" y="360032"/>
                </a:cubicBezTo>
                <a:cubicBezTo>
                  <a:pt x="1980184" y="360032"/>
                  <a:pt x="1980184" y="360032"/>
                  <a:pt x="1980184" y="360032"/>
                </a:cubicBezTo>
                <a:lnTo>
                  <a:pt x="1980184" y="360032"/>
                </a:lnTo>
                <a:lnTo>
                  <a:pt x="180085" y="360032"/>
                </a:lnTo>
                <a:lnTo>
                  <a:pt x="180085" y="360032"/>
                </a:lnTo>
                <a:cubicBezTo>
                  <a:pt x="80645" y="360032"/>
                  <a:pt x="0" y="279438"/>
                  <a:pt x="0" y="180009"/>
                </a:cubicBezTo>
                <a:cubicBezTo>
                  <a:pt x="0" y="180009"/>
                  <a:pt x="0" y="180009"/>
                  <a:pt x="0" y="180009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084360" y="5868000"/>
            <a:ext cx="2160000" cy="35964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160269" h="360032">
                <a:moveTo>
                  <a:pt x="0" y="180009"/>
                </a:moveTo>
                <a:cubicBezTo>
                  <a:pt x="0" y="80594"/>
                  <a:pt x="80517" y="0"/>
                  <a:pt x="179958" y="0"/>
                </a:cubicBezTo>
                <a:cubicBezTo>
                  <a:pt x="179958" y="0"/>
                  <a:pt x="179958" y="0"/>
                  <a:pt x="179958" y="0"/>
                </a:cubicBezTo>
                <a:lnTo>
                  <a:pt x="179958" y="0"/>
                </a:lnTo>
                <a:lnTo>
                  <a:pt x="1980183" y="0"/>
                </a:lnTo>
                <a:lnTo>
                  <a:pt x="1980183" y="0"/>
                </a:lnTo>
                <a:cubicBezTo>
                  <a:pt x="2079625" y="0"/>
                  <a:pt x="2160269" y="80594"/>
                  <a:pt x="2160269" y="180009"/>
                </a:cubicBezTo>
                <a:cubicBezTo>
                  <a:pt x="2160269" y="180009"/>
                  <a:pt x="2160269" y="180009"/>
                  <a:pt x="2160269" y="180009"/>
                </a:cubicBezTo>
                <a:lnTo>
                  <a:pt x="2160269" y="180009"/>
                </a:lnTo>
                <a:lnTo>
                  <a:pt x="2160269" y="180009"/>
                </a:lnTo>
                <a:lnTo>
                  <a:pt x="2160269" y="180009"/>
                </a:lnTo>
                <a:cubicBezTo>
                  <a:pt x="2160269" y="279438"/>
                  <a:pt x="2079625" y="360032"/>
                  <a:pt x="1980183" y="360032"/>
                </a:cubicBezTo>
                <a:cubicBezTo>
                  <a:pt x="1980183" y="360032"/>
                  <a:pt x="1980183" y="360032"/>
                  <a:pt x="1980183" y="360032"/>
                </a:cubicBezTo>
                <a:lnTo>
                  <a:pt x="1980183" y="360032"/>
                </a:lnTo>
                <a:lnTo>
                  <a:pt x="179958" y="360032"/>
                </a:lnTo>
                <a:lnTo>
                  <a:pt x="179958" y="360032"/>
                </a:lnTo>
                <a:cubicBezTo>
                  <a:pt x="80517" y="360032"/>
                  <a:pt x="0" y="279438"/>
                  <a:pt x="0" y="180009"/>
                </a:cubicBezTo>
                <a:cubicBezTo>
                  <a:pt x="0" y="180009"/>
                  <a:pt x="0" y="180009"/>
                  <a:pt x="0" y="180009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3492360" y="762120"/>
            <a:ext cx="2006280" cy="200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3492360" y="3860640"/>
            <a:ext cx="2006280" cy="200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444600" y="190440"/>
            <a:ext cx="17136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评估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256400" y="1371600"/>
            <a:ext cx="4582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整体认知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2034360" y="2514600"/>
            <a:ext cx="66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177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1778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2212200" y="3454560"/>
            <a:ext cx="489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7515000" y="3035160"/>
            <a:ext cx="183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适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6473520" y="3683160"/>
            <a:ext cx="183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喜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7019640" y="3352680"/>
            <a:ext cx="183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信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7146720" y="939960"/>
            <a:ext cx="488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152280"/>
                <a:tab algn="l" pos="3049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继续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  <a:tab algn="l" pos="30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52280"/>
                <a:tab algn="l" pos="30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放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  <a:tab algn="l" pos="30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52280"/>
                <a:tab algn="l" pos="30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推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7035120" y="2705040"/>
            <a:ext cx="153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一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6465960" y="2387520"/>
            <a:ext cx="2754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丌喜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4149360" y="1257480"/>
            <a:ext cx="641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90440"/>
              </a:tabLst>
            </a:pP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影响力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4149360" y="4356000"/>
            <a:ext cx="641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90440"/>
              </a:tabLst>
            </a:pP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健康度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2460600" y="1143000"/>
            <a:ext cx="412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14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认知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3341880" y="276876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联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5361120" y="276876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偏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5989680" y="1181160"/>
            <a:ext cx="415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396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1310040" y="5892840"/>
            <a:ext cx="961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目标市场占有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195440" y="5892840"/>
            <a:ext cx="549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品牌纯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6737760" y="5892840"/>
            <a:ext cx="824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消费者增长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525960" y="190440"/>
            <a:ext cx="19576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跨部门合作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2339640" y="2205000"/>
            <a:ext cx="4536360" cy="2664000"/>
          </a:xfrm>
          <a:custGeom>
            <a:avLst/>
            <a:gdLst>
              <a:gd name="textAreaLeft" fmla="*/ 0 w 4536360"/>
              <a:gd name="textAreaRight" fmla="*/ 4536720 w 453636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w="4536567" h="2664332">
                <a:moveTo>
                  <a:pt x="0" y="2664332"/>
                </a:moveTo>
                <a:lnTo>
                  <a:pt x="4536567" y="2664332"/>
                </a:lnTo>
                <a:lnTo>
                  <a:pt x="4536567" y="0"/>
                </a:lnTo>
                <a:lnTo>
                  <a:pt x="0" y="0"/>
                </a:lnTo>
                <a:lnTo>
                  <a:pt x="0" y="266433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2327040" y="2192040"/>
            <a:ext cx="4561560" cy="2689200"/>
          </a:xfrm>
          <a:custGeom>
            <a:avLst/>
            <a:gdLst>
              <a:gd name="textAreaLeft" fmla="*/ 0 w 4561560"/>
              <a:gd name="textAreaRight" fmla="*/ 4561920 w 4561560"/>
              <a:gd name="textAreaTop" fmla="*/ 0 h 2689200"/>
              <a:gd name="textAreaBottom" fmla="*/ 2689560 h 2689200"/>
            </a:gdLst>
            <a:ahLst/>
            <a:rect l="textAreaLeft" t="textAreaTop" r="textAreaRight" b="textAreaBottom"/>
            <a:pathLst>
              <a:path w="4561967" h="2689732">
                <a:moveTo>
                  <a:pt x="12700" y="2677032"/>
                </a:moveTo>
                <a:lnTo>
                  <a:pt x="4549267" y="2677032"/>
                </a:lnTo>
                <a:lnTo>
                  <a:pt x="4549267" y="12700"/>
                </a:lnTo>
                <a:lnTo>
                  <a:pt x="12700" y="12700"/>
                </a:lnTo>
                <a:lnTo>
                  <a:pt x="12700" y="2677032"/>
                </a:lnTo>
              </a:path>
            </a:pathLst>
          </a:cu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683640" y="1412640"/>
            <a:ext cx="2031120" cy="369000"/>
          </a:xfrm>
          <a:custGeom>
            <a:avLst/>
            <a:gdLst>
              <a:gd name="textAreaLeft" fmla="*/ 0 w 2031120"/>
              <a:gd name="textAreaRight" fmla="*/ 2031480 w 203112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031364" h="369328">
                <a:moveTo>
                  <a:pt x="0" y="369328"/>
                </a:moveTo>
                <a:lnTo>
                  <a:pt x="2031365" y="369328"/>
                </a:lnTo>
                <a:lnTo>
                  <a:pt x="2031365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3391920" y="1412640"/>
            <a:ext cx="2043720" cy="369000"/>
          </a:xfrm>
          <a:custGeom>
            <a:avLst/>
            <a:gdLst>
              <a:gd name="textAreaLeft" fmla="*/ 0 w 2043720"/>
              <a:gd name="textAreaRight" fmla="*/ 2044080 w 204372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044192" h="369328">
                <a:moveTo>
                  <a:pt x="0" y="369328"/>
                </a:moveTo>
                <a:lnTo>
                  <a:pt x="2044192" y="369328"/>
                </a:lnTo>
                <a:lnTo>
                  <a:pt x="2044192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6285240" y="1412640"/>
            <a:ext cx="2031120" cy="369000"/>
          </a:xfrm>
          <a:custGeom>
            <a:avLst/>
            <a:gdLst>
              <a:gd name="textAreaLeft" fmla="*/ 0 w 2031120"/>
              <a:gd name="textAreaRight" fmla="*/ 2031480 w 203112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031365" h="369328">
                <a:moveTo>
                  <a:pt x="0" y="369328"/>
                </a:moveTo>
                <a:lnTo>
                  <a:pt x="2031365" y="369328"/>
                </a:lnTo>
                <a:lnTo>
                  <a:pt x="2031365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6247080" y="1374480"/>
            <a:ext cx="2107080" cy="445320"/>
          </a:xfrm>
          <a:custGeom>
            <a:avLst/>
            <a:gdLst>
              <a:gd name="textAreaLeft" fmla="*/ 0 w 2107080"/>
              <a:gd name="textAreaRight" fmla="*/ 2107440 w 2107080"/>
              <a:gd name="textAreaTop" fmla="*/ 0 h 445320"/>
              <a:gd name="textAreaBottom" fmla="*/ 445680 h 445320"/>
            </a:gdLst>
            <a:ahLst/>
            <a:rect l="textAreaLeft" t="textAreaTop" r="textAreaRight" b="textAreaBottom"/>
            <a:pathLst>
              <a:path w="2107565" h="445528">
                <a:moveTo>
                  <a:pt x="38100" y="407428"/>
                </a:moveTo>
                <a:lnTo>
                  <a:pt x="2069465" y="407428"/>
                </a:lnTo>
                <a:lnTo>
                  <a:pt x="2069465" y="38100"/>
                </a:lnTo>
                <a:lnTo>
                  <a:pt x="38100" y="38100"/>
                </a:lnTo>
                <a:lnTo>
                  <a:pt x="38100" y="407428"/>
                </a:ln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2411640" y="2277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2411640" y="3861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2411640" y="4437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2411640" y="3357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2411640" y="2853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7236360" y="3789360"/>
            <a:ext cx="1151280" cy="1361880"/>
          </a:xfrm>
          <a:custGeom>
            <a:avLst/>
            <a:gdLst>
              <a:gd name="textAreaLeft" fmla="*/ 0 w 1151280"/>
              <a:gd name="textAreaRight" fmla="*/ 1151640 w 1151280"/>
              <a:gd name="textAreaTop" fmla="*/ 0 h 1361880"/>
              <a:gd name="textAreaBottom" fmla="*/ 1362240 h 1361880"/>
            </a:gdLst>
            <a:ahLst/>
            <a:rect l="textAreaLeft" t="textAreaTop" r="textAreaRight" b="textAreaBottom"/>
            <a:pathLst>
              <a:path w="1151724" h="1362231">
                <a:moveTo>
                  <a:pt x="176853" y="1362231"/>
                </a:moveTo>
                <a:lnTo>
                  <a:pt x="221939" y="1030380"/>
                </a:lnTo>
                <a:lnTo>
                  <a:pt x="221939" y="1030380"/>
                </a:lnTo>
                <a:cubicBezTo>
                  <a:pt x="-29140" y="834926"/>
                  <a:pt x="-74098" y="472976"/>
                  <a:pt x="121354" y="221898"/>
                </a:cubicBezTo>
                <a:cubicBezTo>
                  <a:pt x="316807" y="-29054"/>
                  <a:pt x="678757" y="-74138"/>
                  <a:pt x="929709" y="121314"/>
                </a:cubicBezTo>
                <a:cubicBezTo>
                  <a:pt x="1180789" y="316767"/>
                  <a:pt x="1225874" y="678717"/>
                  <a:pt x="1030420" y="929795"/>
                </a:cubicBezTo>
                <a:cubicBezTo>
                  <a:pt x="886149" y="1115089"/>
                  <a:pt x="643832" y="1194210"/>
                  <a:pt x="417900" y="1129820"/>
                </a:cubicBezTo>
                <a:lnTo>
                  <a:pt x="176853" y="136223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7217640" y="3770280"/>
            <a:ext cx="1189440" cy="1400040"/>
          </a:xfrm>
          <a:custGeom>
            <a:avLst/>
            <a:gdLst>
              <a:gd name="textAreaLeft" fmla="*/ 0 w 1189440"/>
              <a:gd name="textAreaRight" fmla="*/ 1189800 w 1189440"/>
              <a:gd name="textAreaTop" fmla="*/ 0 h 1400040"/>
              <a:gd name="textAreaBottom" fmla="*/ 1400400 h 1400040"/>
            </a:gdLst>
            <a:ahLst/>
            <a:rect l="textAreaLeft" t="textAreaTop" r="textAreaRight" b="textAreaBottom"/>
            <a:pathLst>
              <a:path w="1189824" h="1400331">
                <a:moveTo>
                  <a:pt x="195903" y="1381281"/>
                </a:moveTo>
                <a:lnTo>
                  <a:pt x="240989" y="1049430"/>
                </a:lnTo>
                <a:lnTo>
                  <a:pt x="240989" y="1049430"/>
                </a:lnTo>
                <a:cubicBezTo>
                  <a:pt x="-10090" y="853976"/>
                  <a:pt x="-55048" y="492026"/>
                  <a:pt x="140404" y="240948"/>
                </a:cubicBezTo>
                <a:cubicBezTo>
                  <a:pt x="335857" y="-10004"/>
                  <a:pt x="697807" y="-55088"/>
                  <a:pt x="948759" y="140364"/>
                </a:cubicBezTo>
                <a:cubicBezTo>
                  <a:pt x="1199839" y="335817"/>
                  <a:pt x="1244924" y="697767"/>
                  <a:pt x="1049470" y="948845"/>
                </a:cubicBezTo>
                <a:cubicBezTo>
                  <a:pt x="905199" y="1134139"/>
                  <a:pt x="662882" y="1213260"/>
                  <a:pt x="436950" y="1148870"/>
                </a:cubicBezTo>
                <a:lnTo>
                  <a:pt x="195903" y="1381281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307880" cy="151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606960" y="190440"/>
            <a:ext cx="2201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团队激励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869040" y="5194440"/>
            <a:ext cx="80661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79628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精神奖励，如点名表扬、优秀个人列席公司高层会议等，也是团队激励的有效手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796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139760" y="1434960"/>
            <a:ext cx="109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品牌发展指标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6740280" y="1434960"/>
            <a:ext cx="109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经理考评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3765960" y="1473120"/>
            <a:ext cx="1256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0414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团队管理指标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  <a:tabLst>
                <a:tab algn="l" pos="104148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晋升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tabLst>
                <a:tab algn="l" pos="104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奖金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2566080" y="2882880"/>
            <a:ext cx="214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优秀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良好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3531240" y="2882880"/>
            <a:ext cx="214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最快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较快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4411080" y="2882880"/>
            <a:ext cx="651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X%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年薪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X%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年薪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5549400" y="2882880"/>
            <a:ext cx="940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工资涨幅</a:t>
            </a: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1.X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工资涨幅</a:t>
            </a: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1.0X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2566080" y="3936960"/>
            <a:ext cx="214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0152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中等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0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差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3527280" y="3936960"/>
            <a:ext cx="222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1448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正常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无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4411080" y="3936960"/>
            <a:ext cx="651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368280"/>
              </a:tabLst>
            </a:pP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X%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年薪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8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8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68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无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5629320" y="3936960"/>
            <a:ext cx="641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正常工资增长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无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2884320" y="1231920"/>
            <a:ext cx="263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700"/>
              </a:lnSpc>
            </a:pPr>
            <a:r>
              <a:rPr b="0" lang="en-US" sz="3600" spc="-1" strike="noStrike">
                <a:solidFill>
                  <a:srgbClr val="7f7f7f"/>
                </a:solidFill>
                <a:latin typeface="Arial Blac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5799240" y="1231920"/>
            <a:ext cx="42768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700"/>
              </a:lnSpc>
            </a:pPr>
            <a:r>
              <a:rPr b="0" lang="en-US" sz="3600" spc="-1" strike="noStrike">
                <a:solidFill>
                  <a:srgbClr val="7f7f7f"/>
                </a:solidFill>
                <a:latin typeface="Arial Black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工资增长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7626600" y="3975120"/>
            <a:ext cx="366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我个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觉得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扯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15</Words>
  <Paragraphs>3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王玉清</cp:lastModifiedBy>
  <dcterms:modified xsi:type="dcterms:W3CDTF">2016-03-06T04:40:49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