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3494-E092-494F-81E3-D2CF58D0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83012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9600" y="3829320"/>
            <a:ext cx="83012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85B5-F5C3-4857-8E71-20D3D547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960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336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3C8F-5310-4BF6-8F11-7F5D3048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6160" y="96696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080" y="96696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9600" y="382932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6160" y="382932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080" y="382932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1C2D-F085-4267-A70F-B0E08D829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46C9-EF67-4077-8487-85B1BF04B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9600" y="966960"/>
            <a:ext cx="8301240" cy="54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9a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855F-8C38-4936-AE3F-64165769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830124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64AD-8061-48C3-8134-A0193FFA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2E93-3478-47B0-96F3-577030D7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14C1-5DFE-401C-946F-6235FBD3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9600" y="-11160"/>
            <a:ext cx="831060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9a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606B-0461-4A1F-8147-EFA1813C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960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85FE-98B3-4172-8234-D11FB66F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9600" y="966960"/>
            <a:ext cx="8301240" cy="54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9a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78F5-3CF9-4273-A23C-6045B1BC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336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4A92-0566-4613-9896-652EE89A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9600" y="3829320"/>
            <a:ext cx="83012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A6B0-DEA1-45D9-81B8-1F3B447C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83012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9600" y="3829320"/>
            <a:ext cx="83012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D3D8-D42A-4E8D-986F-0D32EE4F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960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336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F0FF-4ED1-4581-BDF6-78427BFE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6160" y="96696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3080" y="96696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9600" y="382932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6160" y="382932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3080" y="382932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C960-79FB-4675-A91B-653845054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83274-CD9C-454D-A27D-9F1F72F8C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9600" y="966960"/>
            <a:ext cx="8301240" cy="54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9a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43422-3332-44B1-B0E3-57449E9D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830124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E7B01-4841-4D30-9530-9EEAAD61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7E220-2CF6-47C8-97CB-A1CCFDE3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3CBB0-4CBF-4A48-A24B-FF028DC3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830124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6558-F7DA-4B60-AC84-8CD6E4F0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99600" y="-11160"/>
            <a:ext cx="831060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9a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A074C-1FA5-4389-83A2-A770885E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9960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7617E-89F1-4B46-B14D-D9812275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336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5A0E0-DE35-4204-9A74-E08609A6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99600" y="3829320"/>
            <a:ext cx="83012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C6225-9D4E-4CB6-B3C4-B91F6BF6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83012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9600" y="3829320"/>
            <a:ext cx="83012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081D9-E905-4DC2-A5BE-172B51C3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9960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336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DA41F-3936-48DE-860B-C5CB5CB7B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06160" y="96696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13080" y="96696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99600" y="382932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06160" y="382932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13080" y="382932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CA518-D01C-4205-8F2D-B3737D8D5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79110-2224-4D12-93C3-E988D77FC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99600" y="966960"/>
            <a:ext cx="8301240" cy="54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9a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B9F54-58C7-49B2-9603-88BE4EA2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830124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2CD7E-F905-40FF-B3D3-CF3B216C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F7C1-EC97-4DAD-BA89-3B75C187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78065-B541-4E16-AE43-454F0F37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AAD1F-6507-44AF-BC2C-20F12BB6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99600" y="-11160"/>
            <a:ext cx="831060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9a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B95F9-6FC6-4C50-AC23-C55B2126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960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88860-8A9B-4599-8F46-6FB9AD53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5336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83632-97EF-4220-991F-DF1EEE06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9600" y="3829320"/>
            <a:ext cx="83012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1FD7A-7312-4773-91DE-40C3F9F4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83012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99600" y="3829320"/>
            <a:ext cx="83012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E8D8F-946B-46E0-8592-12AA6146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9960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5336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667BA-0104-4124-B118-CFE1115E7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06160" y="96696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13080" y="96696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99600" y="382932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06160" y="382932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13080" y="382932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BA9A2-3D5E-4724-8724-8957164B4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401F-8CF0-4137-9E91-77960D3B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9600" y="-11160"/>
            <a:ext cx="831060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9a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D2C9-1B9E-424D-9538-024EC0F8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960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32CE-0E81-4ED6-B1A6-61D6ECAA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336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7D82-84B9-49EF-B9B1-64DD6FCE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9600" y="3829320"/>
            <a:ext cx="83012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B676-74D4-4B7F-9886-376D2818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Click to edit the outline text format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Second Outline Level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 lvl="2" marL="1143000" indent="-22860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Third Outline Level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Fourth Outline Level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Fifth Outline Level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Sixth Outline Level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Seventh Outline Level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890C-267D-4367-BEAA-B5F45050D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4D4E-59F9-4193-9F21-45C424540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组合 11"/>
          <p:cNvGrpSpPr/>
          <p:nvPr/>
        </p:nvGrpSpPr>
        <p:grpSpPr>
          <a:xfrm>
            <a:off x="-36360" y="-27000"/>
            <a:ext cx="9180360" cy="6977160"/>
            <a:chOff x="-36360" y="-27000"/>
            <a:chExt cx="9180360" cy="6977160"/>
          </a:xfrm>
        </p:grpSpPr>
        <p:grpSp>
          <p:nvGrpSpPr>
            <p:cNvPr id="82" name="组合 9"/>
            <p:cNvGrpSpPr/>
            <p:nvPr/>
          </p:nvGrpSpPr>
          <p:grpSpPr>
            <a:xfrm>
              <a:off x="-36360" y="-27000"/>
              <a:ext cx="9180360" cy="6977160"/>
              <a:chOff x="-36360" y="-27000"/>
              <a:chExt cx="9180360" cy="6977160"/>
            </a:xfrm>
          </p:grpSpPr>
          <p:pic>
            <p:nvPicPr>
              <p:cNvPr id="83" name="图片 6" descr=""/>
              <p:cNvPicPr/>
              <p:nvPr/>
            </p:nvPicPr>
            <p:blipFill>
              <a:blip r:embed="rId2"/>
              <a:stretch/>
            </p:blipFill>
            <p:spPr>
              <a:xfrm>
                <a:off x="-36360" y="-27000"/>
                <a:ext cx="9178920" cy="697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直接连接符 7"/>
              <p:cNvSpPr/>
              <p:nvPr/>
            </p:nvSpPr>
            <p:spPr>
              <a:xfrm>
                <a:off x="-36360" y="692280"/>
                <a:ext cx="91803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直接连接符 8"/>
              <p:cNvSpPr/>
              <p:nvPr/>
            </p:nvSpPr>
            <p:spPr>
              <a:xfrm>
                <a:off x="-36360" y="6685200"/>
                <a:ext cx="91803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矩形 10"/>
            <p:cNvSpPr/>
            <p:nvPr/>
          </p:nvSpPr>
          <p:spPr>
            <a:xfrm>
              <a:off x="-36360" y="766440"/>
              <a:ext cx="9180360" cy="583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e6c0b"/>
                </a:solidFill>
                <a:latin typeface="Arial Black"/>
              </a:rPr>
              <a:t>Click to edit the title text format</a:t>
            </a: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99600" y="966960"/>
            <a:ext cx="830124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d6a21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6c0b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dfdc9a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6c0b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4345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6c0b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4345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6c0b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345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6c0b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345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6c0b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345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6c0b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3949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949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3949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9038-7383-4E30-B626-1DAC9A4A7852}" type="slidenum">
              <a:rPr b="0" lang="zh-CN" sz="1200" spc="-1" strike="noStrike">
                <a:solidFill>
                  <a:srgbClr val="93949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12" descr=""/>
          <p:cNvPicPr/>
          <p:nvPr/>
        </p:nvPicPr>
        <p:blipFill>
          <a:blip r:embed="rId2"/>
          <a:stretch/>
        </p:blipFill>
        <p:spPr>
          <a:xfrm>
            <a:off x="-36360" y="-27000"/>
            <a:ext cx="9178920" cy="69771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3524400"/>
            <a:ext cx="777240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e6c0b"/>
                </a:solidFill>
                <a:latin typeface="Arial Black"/>
              </a:rPr>
              <a:t>Click to edit the title text format</a:t>
            </a:r>
            <a:endParaRPr b="1" lang="en-US" sz="36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3949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949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3949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DE5D-5D04-4282-A509-F6142B1F06AF}" type="slidenum">
              <a:rPr b="0" lang="zh-CN" sz="1200" spc="-1" strike="noStrike">
                <a:solidFill>
                  <a:srgbClr val="93949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9a0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cb9a0f"/>
              </a:solidFill>
              <a:latin typeface="Arial"/>
            </a:endParaRPr>
          </a:p>
          <a:p>
            <a:pPr lvl="1" indent="0" algn="ctr"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d7d7d"/>
                </a:solidFill>
                <a:latin typeface="幼圆"/>
              </a:rPr>
              <a:t>Second Outline Level</a:t>
            </a:r>
            <a:endParaRPr b="0" lang="en-US" sz="1600" spc="-1" strike="noStrike">
              <a:solidFill>
                <a:srgbClr val="7d7d7d"/>
              </a:solidFill>
              <a:latin typeface="幼圆"/>
            </a:endParaRPr>
          </a:p>
          <a:p>
            <a:pPr lvl="2" marL="914400" algn="ctr">
              <a:lnSpc>
                <a:spcPct val="90000"/>
              </a:lnSpc>
              <a:spcBef>
                <a:spcPts val="499"/>
              </a:spcBef>
              <a:buClr>
                <a:srgbClr val="434547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547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34547"/>
              </a:solidFill>
              <a:latin typeface="Calibri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434547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547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434547"/>
              </a:solidFill>
              <a:latin typeface="Calibri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434547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547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434547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4345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547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434547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4345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547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434547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360440" y="4689360"/>
            <a:ext cx="7794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b9a0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cb9a0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343560" y="4800600"/>
            <a:ext cx="2743200" cy="1324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371600" y="3524400"/>
            <a:ext cx="777240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e6c0b"/>
                </a:solidFill>
                <a:latin typeface="Arial Black"/>
              </a:rPr>
              <a:t> </a:t>
            </a:r>
            <a:endParaRPr b="1" lang="en-US" sz="36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6553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23760" y="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市场分析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e6c0b"/>
                </a:solidFill>
                <a:latin typeface="Arial Black"/>
                <a:ea typeface="宋体"/>
              </a:rPr>
              <a:t>Your Topic Goes Here</a:t>
            </a: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830124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d6a21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6c0b"/>
                </a:solidFill>
                <a:latin typeface="Arial"/>
                <a:ea typeface="宋体"/>
              </a:rPr>
              <a:t>Your subtopics go here</a:t>
            </a: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400800" y="4827600"/>
            <a:ext cx="27432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3524400"/>
            <a:ext cx="777240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e6c0b"/>
                </a:solidFill>
                <a:latin typeface="Arial Black"/>
                <a:ea typeface="宋体"/>
              </a:rPr>
              <a:t>Transitional Page</a:t>
            </a:r>
            <a:endParaRPr b="1" lang="en-US" sz="36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60440" y="4689360"/>
            <a:ext cx="7794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9a0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8720" y="134136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0f0"/>
                </a:solidFill>
                <a:uFillTx/>
                <a:latin typeface="Times New Roman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434547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e6c0b"/>
                </a:solidFill>
                <a:latin typeface="Arial Black"/>
                <a:ea typeface="宋体"/>
              </a:rPr>
              <a:t>Your Topic Goes Here</a:t>
            </a: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830124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d6a21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6c0b"/>
                </a:solidFill>
                <a:latin typeface="Arial"/>
                <a:ea typeface="宋体"/>
              </a:rPr>
              <a:t>Your subtopics go here</a:t>
            </a: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400800" y="4827600"/>
            <a:ext cx="27432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e6c0b"/>
                </a:solidFill>
                <a:latin typeface="Arial Black"/>
              </a:rPr>
              <a:t>使用规范说明</a:t>
            </a: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34547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2B641-20FE-49D2-B22C-A9BA179BD0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1T19:48:2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0:48:33Z</dcterms:modified>
  <cp:revision>3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