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87080" y="990360"/>
            <a:ext cx="2438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cd"/>
                </a:solidFill>
                <a:latin typeface="Microsoft Sans Serif"/>
                <a:ea typeface="宋体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298600" y="620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蔬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Slide master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2205000"/>
            <a:ext cx="80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素材库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http://www.eeppt.com/sucai/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Print master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c3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5:24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22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