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2D1-038F-4FBE-B037-BE99BA8F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E5E-EF7D-431A-9736-F4DD5D0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6D3-50CA-4DC4-91CB-9300EBF6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11B-9FA4-4846-BE33-D0ADF8D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3AA-4AE5-4801-B46B-F706387E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F1E-E0C7-41BA-9B09-64C1330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677-D684-40F3-ACBD-33762F8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7EA-D938-4AFE-BB1C-AD451FFB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DB1-CB60-45D2-B3FB-A83FC6D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6E4-57ED-4238-BB8E-4FF9619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EB7-D62C-4827-9593-3DE40FE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685-5654-42EB-AEE8-C35D306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12E809-2982-4132-9DF9-D2DD614968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hyperlink" Target="https://itunes.apple.com/us/app/microsoft-outlook/id951937596?mt=8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hyperlink" Target="https://www.teuxdeux.com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hyperlink" Target="http://www.appxy.com/tinysca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hyperlink" Target="https://evernote.com/products/scannable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s://www.waze.com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2.jpeg"/><Relationship Id="rId5" Type="http://schemas.openxmlformats.org/officeDocument/2006/relationships/hyperlink" Target="https://lastpass.com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2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hyperlink" Target="https://itunes.apple.com/us/app/pomodoro-timer-focus-on-your/id703145045?mt=8" TargetMode="External"/><Relationship Id="rId4" Type="http://schemas.openxmlformats.org/officeDocument/2006/relationships/hyperlink" Target="https://itunes.apple.com/us/app/pomodoro-timer-focus-on-your/id703145045?mt=8" TargetMode="External"/><Relationship Id="rId5" Type="http://schemas.openxmlformats.org/officeDocument/2006/relationships/hyperlink" Target="https://itunes.apple.com/us/app/pomodoro-timer-focus-on-your/id703145045?mt=8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31920" y="2387520"/>
            <a:ext cx="6832080" cy="1409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8805600" y="5397480"/>
            <a:ext cx="13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Segoe U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608480" y="2527200"/>
            <a:ext cx="60285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301"/>
              </a:lnSpc>
            </a:pPr>
            <a:r>
              <a:rPr b="1" lang="en-US" sz="4960" spc="-1" strike="noStrike">
                <a:solidFill>
                  <a:srgbClr val="92d050"/>
                </a:solidFill>
                <a:latin typeface="Segoe UI"/>
              </a:rPr>
              <a:t>APPS</a:t>
            </a:r>
            <a:r>
              <a:rPr b="0" lang="en-US" sz="496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60" spc="-1" strike="noStrike">
                <a:solidFill>
                  <a:srgbClr val="92d050"/>
                </a:solidFill>
                <a:latin typeface="Segoe UI"/>
              </a:rPr>
              <a:t>FOR</a:t>
            </a:r>
            <a:r>
              <a:rPr b="0" lang="en-US" sz="496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60" spc="-1" strike="noStrike">
                <a:solidFill>
                  <a:srgbClr val="92d050"/>
                </a:solidFill>
                <a:latin typeface="Segoe UI"/>
              </a:rPr>
              <a:t>LAWYERS</a:t>
            </a:r>
            <a:endParaRPr b="0" lang="en-US" sz="49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>
            <a:hlinkClick r:id="rId2"/>
          </p:cNvPr>
          <p:cNvSpPr/>
          <p:nvPr/>
        </p:nvSpPr>
        <p:spPr>
          <a:xfrm>
            <a:off x="762120" y="0"/>
            <a:ext cx="7619400" cy="4945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910080" y="2053080"/>
            <a:ext cx="777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536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222280" y="918360"/>
            <a:ext cx="5037840" cy="10440"/>
          </a:xfrm>
          <a:custGeom>
            <a:avLst/>
            <a:gdLst>
              <a:gd name="textAreaLeft" fmla="*/ 0 w 5037840"/>
              <a:gd name="textAreaRight" fmla="*/ 5038200 w 5037840"/>
              <a:gd name="textAreaTop" fmla="*/ 0 h 10440"/>
              <a:gd name="textAreaBottom" fmla="*/ 10800 h 10440"/>
            </a:gdLst>
            <a:ahLst/>
            <a:rect l="textAreaLeft" t="textAreaTop" r="textAreaRight" b="textAreaBottom"/>
            <a:pathLst>
              <a:path w="5038344" h="10668">
                <a:moveTo>
                  <a:pt x="0" y="0"/>
                </a:moveTo>
                <a:lnTo>
                  <a:pt x="1259585" y="0"/>
                </a:lnTo>
                <a:lnTo>
                  <a:pt x="2519171" y="0"/>
                </a:lnTo>
                <a:lnTo>
                  <a:pt x="3778758" y="0"/>
                </a:lnTo>
                <a:lnTo>
                  <a:pt x="5038344" y="0"/>
                </a:lnTo>
                <a:lnTo>
                  <a:pt x="5038344" y="10668"/>
                </a:lnTo>
                <a:lnTo>
                  <a:pt x="3778758" y="10668"/>
                </a:lnTo>
                <a:lnTo>
                  <a:pt x="2519171" y="10668"/>
                </a:lnTo>
                <a:lnTo>
                  <a:pt x="1259585" y="10668"/>
                </a:lnTo>
                <a:lnTo>
                  <a:pt x="0" y="10668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39520" cy="138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2031840" y="1346040"/>
            <a:ext cx="6819480" cy="3911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221200" y="762120"/>
            <a:ext cx="50317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35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itunes.apple.com/us/app/microsoft-outlook/id951937596?mt=8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3006360" y="5112720"/>
            <a:ext cx="3085560" cy="16560"/>
          </a:xfrm>
          <a:custGeom>
            <a:avLst/>
            <a:gdLst>
              <a:gd name="textAreaLeft" fmla="*/ 0 w 3085560"/>
              <a:gd name="textAreaRight" fmla="*/ 3085920 w 308556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3086099" h="16764">
                <a:moveTo>
                  <a:pt x="0" y="0"/>
                </a:moveTo>
                <a:lnTo>
                  <a:pt x="771524" y="0"/>
                </a:lnTo>
                <a:lnTo>
                  <a:pt x="1543049" y="0"/>
                </a:lnTo>
                <a:lnTo>
                  <a:pt x="2314574" y="0"/>
                </a:lnTo>
                <a:lnTo>
                  <a:pt x="3086099" y="0"/>
                </a:lnTo>
                <a:lnTo>
                  <a:pt x="3086099" y="16764"/>
                </a:lnTo>
                <a:lnTo>
                  <a:pt x="2314574" y="16764"/>
                </a:lnTo>
                <a:lnTo>
                  <a:pt x="1543049" y="16764"/>
                </a:lnTo>
                <a:lnTo>
                  <a:pt x="771524" y="16764"/>
                </a:lnTo>
                <a:lnTo>
                  <a:pt x="0" y="16764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17640" y="444600"/>
            <a:ext cx="3454200" cy="104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58720" y="1562040"/>
            <a:ext cx="8305560" cy="30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1922760" y="1638360"/>
            <a:ext cx="531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99"/>
              </a:lnSpc>
            </a:pP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L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Elega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view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Segoe UI"/>
              </a:rPr>
              <a:t>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2994120" y="4876920"/>
            <a:ext cx="3079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www.teuxdeux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2714040" y="1321200"/>
            <a:ext cx="3599280" cy="25560"/>
          </a:xfrm>
          <a:custGeom>
            <a:avLst/>
            <a:gdLst>
              <a:gd name="textAreaLeft" fmla="*/ 0 w 3599280"/>
              <a:gd name="textAreaRight" fmla="*/ 3599640 w 35992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599688" h="25908">
                <a:moveTo>
                  <a:pt x="0" y="0"/>
                </a:moveTo>
                <a:lnTo>
                  <a:pt x="899922" y="0"/>
                </a:lnTo>
                <a:lnTo>
                  <a:pt x="1799844" y="0"/>
                </a:lnTo>
                <a:lnTo>
                  <a:pt x="2699766" y="0"/>
                </a:lnTo>
                <a:lnTo>
                  <a:pt x="3599688" y="0"/>
                </a:lnTo>
                <a:lnTo>
                  <a:pt x="3599688" y="25908"/>
                </a:lnTo>
                <a:lnTo>
                  <a:pt x="2699766" y="25908"/>
                </a:lnTo>
                <a:lnTo>
                  <a:pt x="1799844" y="25908"/>
                </a:lnTo>
                <a:lnTo>
                  <a:pt x="899922" y="25908"/>
                </a:lnTo>
                <a:lnTo>
                  <a:pt x="0" y="25908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93840" y="330120"/>
            <a:ext cx="1650600" cy="166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4991040" y="1943280"/>
            <a:ext cx="3911400" cy="3314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2707560" y="787320"/>
            <a:ext cx="3588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Segoe UI"/>
              </a:rPr>
              <a:t>WWW.BOX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786240" y="2222640"/>
            <a:ext cx="33544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Similar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to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Drop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Box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Better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security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771120" y="3098880"/>
            <a:ext cx="3918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Set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expiration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dates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on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03120" y="3454560"/>
            <a:ext cx="628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files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809640" y="3886200"/>
            <a:ext cx="2596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Control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access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783360" y="4317840"/>
            <a:ext cx="367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1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Supports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all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file</a:t>
            </a:r>
            <a:r>
              <a:rPr b="0" lang="en-US" sz="26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10" spc="-1" strike="noStrike">
                <a:solidFill>
                  <a:srgbClr val="632523"/>
                </a:solidFill>
                <a:latin typeface="Segoe UI"/>
              </a:rPr>
              <a:t>types</a:t>
            </a:r>
            <a:endParaRPr b="0" lang="en-US" sz="2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>
            <a:hlinkClick r:id="rId4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2796480" y="4899600"/>
            <a:ext cx="3599280" cy="16560"/>
          </a:xfrm>
          <a:custGeom>
            <a:avLst/>
            <a:gdLst>
              <a:gd name="textAreaLeft" fmla="*/ 0 w 3599280"/>
              <a:gd name="textAreaRight" fmla="*/ 3599640 w 359928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3599688" h="16764">
                <a:moveTo>
                  <a:pt x="0" y="0"/>
                </a:moveTo>
                <a:lnTo>
                  <a:pt x="899922" y="0"/>
                </a:lnTo>
                <a:lnTo>
                  <a:pt x="1799844" y="0"/>
                </a:lnTo>
                <a:lnTo>
                  <a:pt x="2699766" y="0"/>
                </a:lnTo>
                <a:lnTo>
                  <a:pt x="3599688" y="0"/>
                </a:lnTo>
                <a:lnTo>
                  <a:pt x="3599688" y="16763"/>
                </a:lnTo>
                <a:lnTo>
                  <a:pt x="2699766" y="16763"/>
                </a:lnTo>
                <a:lnTo>
                  <a:pt x="1799844" y="16763"/>
                </a:lnTo>
                <a:lnTo>
                  <a:pt x="899922" y="16763"/>
                </a:lnTo>
                <a:lnTo>
                  <a:pt x="0" y="16763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355680"/>
            <a:ext cx="9143640" cy="4101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885960" y="431640"/>
            <a:ext cx="749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S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docum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ph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Segoe UI"/>
              </a:rPr>
              <a:t>tablet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2792880" y="4660920"/>
            <a:ext cx="3596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ppxy.com/tinyscan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">
            <a:hlinkClick r:id="rId4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876240" y="685800"/>
            <a:ext cx="7505280" cy="424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673200" y="495360"/>
            <a:ext cx="8102160" cy="4825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>
            <a:hlinkClick r:id="rId4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308560" y="1994040"/>
            <a:ext cx="1739520" cy="1460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5410080" y="3670200"/>
            <a:ext cx="1726920" cy="116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7302600" y="596880"/>
            <a:ext cx="1498320" cy="1777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5"/>
          <a:stretch/>
        </p:blipFill>
        <p:spPr>
          <a:xfrm>
            <a:off x="7201080" y="2717640"/>
            <a:ext cx="1701360" cy="1549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657360" y="1689120"/>
            <a:ext cx="11988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99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077840" y="1739880"/>
            <a:ext cx="414360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Kee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no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Sa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emai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b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pro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Cli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resear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we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Organiz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though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629640" y="3390840"/>
            <a:ext cx="33627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431640"/>
                <a:tab algn="l" pos="1473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in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noteboo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431640"/>
                <a:tab algn="l" pos="1473120"/>
              </a:tabLst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Reco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voi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mem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431640"/>
                <a:tab algn="l" pos="1473120"/>
              </a:tabLst>
            </a:pPr>
            <a:r>
              <a:rPr b="0" lang="en-US" sz="2700" spc="-1" strike="noStrike">
                <a:solidFill>
                  <a:srgbClr val="4a452a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S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Busin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4a452a"/>
                </a:solidFill>
                <a:latin typeface="Calibri"/>
              </a:rPr>
              <a:t>C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431640"/>
                <a:tab algn="l" pos="1473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714600" y="965160"/>
            <a:ext cx="3815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400"/>
              </a:lnSpc>
            </a:pPr>
            <a:r>
              <a:rPr b="0" lang="en-US" sz="5400" spc="-1" strike="noStrike">
                <a:solidFill>
                  <a:srgbClr val="4f81bd"/>
                </a:solidFill>
                <a:latin typeface="Calibri"/>
              </a:rPr>
              <a:t>Evernot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4f81bd"/>
                </a:solidFill>
                <a:latin typeface="Calibri"/>
              </a:rPr>
              <a:t>ca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>
            <a:hlinkClick r:id="rId6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206360" y="330120"/>
            <a:ext cx="6590880" cy="1180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1447920" y="457200"/>
            <a:ext cx="60451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100" spc="-1" strike="noStrike">
                <a:solidFill>
                  <a:srgbClr val="9bbb59"/>
                </a:solidFill>
                <a:latin typeface="Segoe UI"/>
              </a:rPr>
              <a:t>EVERNOTE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100" spc="-1" strike="noStrike">
                <a:solidFill>
                  <a:srgbClr val="9bbb59"/>
                </a:solidFill>
                <a:latin typeface="Segoe UI"/>
              </a:rPr>
              <a:t>NOTEBOOK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467640" y="1536840"/>
            <a:ext cx="405576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457200"/>
                <a:tab algn="l" pos="1574640"/>
              </a:tabLst>
            </a:pPr>
            <a:r>
              <a:rPr b="1" lang="en-US" sz="2790" spc="-1" strike="noStrike">
                <a:solidFill>
                  <a:srgbClr val="4f81bd"/>
                </a:solidFill>
                <a:latin typeface="Segoe UI"/>
              </a:rPr>
              <a:t>Creat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Segoe UI"/>
              </a:rPr>
              <a:t>a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Segoe UI"/>
              </a:rPr>
              <a:t>not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Segoe UI"/>
              </a:rPr>
              <a:t>book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Segoe UI"/>
              </a:rPr>
              <a:t>for: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Segoe UI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  <a:tab algn="l" pos="157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457200"/>
                <a:tab algn="l" pos="157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5028840" y="1638360"/>
            <a:ext cx="372168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200"/>
              </a:lnSpc>
              <a:tabLst>
                <a:tab algn="l" pos="457200"/>
              </a:tabLst>
            </a:pPr>
            <a:r>
              <a:rPr b="1" lang="en-US" sz="3209" spc="-1" strike="noStrike">
                <a:solidFill>
                  <a:srgbClr val="4f81bd"/>
                </a:solidFill>
                <a:latin typeface="Calibri"/>
              </a:rPr>
              <a:t>Add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Calibri"/>
              </a:rPr>
              <a:t>to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Calibri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Calibri"/>
              </a:rPr>
              <a:t>notebook: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9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365760" y="2016000"/>
            <a:ext cx="994680" cy="22680"/>
          </a:xfrm>
          <a:custGeom>
            <a:avLst/>
            <a:gdLst>
              <a:gd name="textAreaLeft" fmla="*/ 0 w 994680"/>
              <a:gd name="textAreaRight" fmla="*/ 995040 w 994680"/>
              <a:gd name="textAreaTop" fmla="*/ 0 h 22680"/>
              <a:gd name="textAreaBottom" fmla="*/ 23040 h 22680"/>
            </a:gdLst>
            <a:ahLst/>
            <a:rect l="textAreaLeft" t="textAreaTop" r="textAreaRight" b="textAreaBottom"/>
            <a:pathLst>
              <a:path w="995172" h="22860">
                <a:moveTo>
                  <a:pt x="0" y="0"/>
                </a:moveTo>
                <a:lnTo>
                  <a:pt x="497586" y="0"/>
                </a:lnTo>
                <a:lnTo>
                  <a:pt x="995172" y="0"/>
                </a:lnTo>
                <a:lnTo>
                  <a:pt x="995172" y="22860"/>
                </a:lnTo>
                <a:lnTo>
                  <a:pt x="497586" y="22860"/>
                </a:lnTo>
                <a:lnTo>
                  <a:pt x="0" y="22860"/>
                </a:lnTo>
                <a:lnTo>
                  <a:pt x="0" y="0"/>
                </a:lnTo>
              </a:path>
            </a:pathLst>
          </a:custGeom>
          <a:solidFill>
            <a:srgbClr val="6325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2677680" y="1190160"/>
            <a:ext cx="4469400" cy="16560"/>
          </a:xfrm>
          <a:custGeom>
            <a:avLst/>
            <a:gdLst>
              <a:gd name="textAreaLeft" fmla="*/ 0 w 4469400"/>
              <a:gd name="textAreaRight" fmla="*/ 4469760 w 446940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4469891" h="16763">
                <a:moveTo>
                  <a:pt x="0" y="0"/>
                </a:moveTo>
                <a:lnTo>
                  <a:pt x="1117472" y="0"/>
                </a:lnTo>
                <a:lnTo>
                  <a:pt x="2234946" y="0"/>
                </a:lnTo>
                <a:lnTo>
                  <a:pt x="3352419" y="0"/>
                </a:lnTo>
                <a:lnTo>
                  <a:pt x="4469891" y="0"/>
                </a:lnTo>
                <a:lnTo>
                  <a:pt x="4469891" y="16763"/>
                </a:lnTo>
                <a:lnTo>
                  <a:pt x="3352419" y="16763"/>
                </a:lnTo>
                <a:lnTo>
                  <a:pt x="2234946" y="16763"/>
                </a:lnTo>
                <a:lnTo>
                  <a:pt x="1117472" y="16763"/>
                </a:lnTo>
                <a:lnTo>
                  <a:pt x="0" y="16763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419040" y="127080"/>
            <a:ext cx="1980720" cy="1498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3263760" y="1663560"/>
            <a:ext cx="5879880" cy="39621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353520" y="1714680"/>
            <a:ext cx="9946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2700" spc="-1" strike="noStrike">
                <a:solidFill>
                  <a:srgbClr val="632523"/>
                </a:solidFill>
                <a:latin typeface="Calibri"/>
              </a:rPr>
              <a:t>Turn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50280" y="2133720"/>
            <a:ext cx="1915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Receipt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into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348120" y="2552760"/>
            <a:ext cx="2377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46680" y="3403440"/>
            <a:ext cx="2189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Paper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into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PDF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46680" y="4267080"/>
            <a:ext cx="2850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Busines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Card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4f81bd"/>
                </a:solidFill>
                <a:latin typeface="Calibri"/>
              </a:rPr>
              <a:t>into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665440" y="965160"/>
            <a:ext cx="446040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evernote.com/products/scannabl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6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35400" cy="4444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07720" y="520560"/>
            <a:ext cx="5102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1" lang="en-US" sz="3600" spc="-1" strike="noStrike">
                <a:solidFill>
                  <a:srgbClr val="9bbb59"/>
                </a:solidFill>
                <a:latin typeface="Segoe UI"/>
              </a:rPr>
              <a:t>PR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bbb59"/>
                </a:solidFill>
                <a:latin typeface="Segoe UI"/>
              </a:rPr>
              <a:t>$5.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bbb59"/>
                </a:solidFill>
                <a:latin typeface="Segoe UI"/>
              </a:rPr>
              <a:t>P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bbb59"/>
                </a:solidFill>
                <a:latin typeface="Segoe UI"/>
              </a:rPr>
              <a:t>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>
            <a:hlinkClick r:id="rId2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35520" y="545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403200" y="1914840"/>
            <a:ext cx="1458000" cy="299880"/>
          </a:xfrm>
          <a:custGeom>
            <a:avLst/>
            <a:gdLst>
              <a:gd name="textAreaLeft" fmla="*/ 0 w 1458000"/>
              <a:gd name="textAreaRight" fmla="*/ 1458360 w 14580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458468" h="300227">
                <a:moveTo>
                  <a:pt x="0" y="300227"/>
                </a:moveTo>
                <a:lnTo>
                  <a:pt x="1458468" y="300227"/>
                </a:lnTo>
                <a:lnTo>
                  <a:pt x="1458468" y="0"/>
                </a:lnTo>
                <a:lnTo>
                  <a:pt x="0" y="0"/>
                </a:lnTo>
                <a:lnTo>
                  <a:pt x="0" y="30022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390240" y="1901880"/>
            <a:ext cx="1483920" cy="325800"/>
          </a:xfrm>
          <a:custGeom>
            <a:avLst/>
            <a:gdLst>
              <a:gd name="textAreaLeft" fmla="*/ 0 w 1483920"/>
              <a:gd name="textAreaRight" fmla="*/ 1484280 w 1483920"/>
              <a:gd name="textAreaTop" fmla="*/ 0 h 325800"/>
              <a:gd name="textAreaBottom" fmla="*/ 326160 h 325800"/>
            </a:gdLst>
            <a:ahLst/>
            <a:rect l="textAreaLeft" t="textAreaTop" r="textAreaRight" b="textAreaBottom"/>
            <a:pathLst>
              <a:path w="1484376" h="326136">
                <a:moveTo>
                  <a:pt x="12954" y="313182"/>
                </a:moveTo>
                <a:lnTo>
                  <a:pt x="1471422" y="313182"/>
                </a:lnTo>
                <a:lnTo>
                  <a:pt x="1471422" y="12954"/>
                </a:lnTo>
                <a:lnTo>
                  <a:pt x="12954" y="12954"/>
                </a:lnTo>
                <a:lnTo>
                  <a:pt x="12954" y="313182"/>
                </a:lnTo>
              </a:path>
            </a:pathLst>
          </a:custGeom>
          <a:noFill/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230200" y="1914840"/>
            <a:ext cx="1458000" cy="299880"/>
          </a:xfrm>
          <a:custGeom>
            <a:avLst/>
            <a:gdLst>
              <a:gd name="textAreaLeft" fmla="*/ 0 w 1458000"/>
              <a:gd name="textAreaRight" fmla="*/ 1458360 w 14580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458467" h="300227">
                <a:moveTo>
                  <a:pt x="0" y="300227"/>
                </a:moveTo>
                <a:lnTo>
                  <a:pt x="1458467" y="300227"/>
                </a:lnTo>
                <a:lnTo>
                  <a:pt x="1458467" y="0"/>
                </a:lnTo>
                <a:lnTo>
                  <a:pt x="0" y="0"/>
                </a:lnTo>
                <a:lnTo>
                  <a:pt x="0" y="30022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2217240" y="1901880"/>
            <a:ext cx="1483920" cy="325800"/>
          </a:xfrm>
          <a:custGeom>
            <a:avLst/>
            <a:gdLst>
              <a:gd name="textAreaLeft" fmla="*/ 0 w 1483920"/>
              <a:gd name="textAreaRight" fmla="*/ 1484280 w 1483920"/>
              <a:gd name="textAreaTop" fmla="*/ 0 h 325800"/>
              <a:gd name="textAreaBottom" fmla="*/ 326160 h 325800"/>
            </a:gdLst>
            <a:ahLst/>
            <a:rect l="textAreaLeft" t="textAreaTop" r="textAreaRight" b="textAreaBottom"/>
            <a:pathLst>
              <a:path w="1484375" h="326136">
                <a:moveTo>
                  <a:pt x="12954" y="313182"/>
                </a:moveTo>
                <a:lnTo>
                  <a:pt x="1471422" y="313182"/>
                </a:lnTo>
                <a:lnTo>
                  <a:pt x="1471422" y="12954"/>
                </a:lnTo>
                <a:lnTo>
                  <a:pt x="12954" y="12954"/>
                </a:lnTo>
                <a:lnTo>
                  <a:pt x="12954" y="313182"/>
                </a:lnTo>
              </a:path>
            </a:pathLst>
          </a:custGeom>
          <a:noFill/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4057560" y="1663560"/>
            <a:ext cx="1458000" cy="552960"/>
          </a:xfrm>
          <a:custGeom>
            <a:avLst/>
            <a:gdLst>
              <a:gd name="textAreaLeft" fmla="*/ 0 w 1458000"/>
              <a:gd name="textAreaRight" fmla="*/ 1458360 w 1458000"/>
              <a:gd name="textAreaTop" fmla="*/ 0 h 552960"/>
              <a:gd name="textAreaBottom" fmla="*/ 553320 h 552960"/>
            </a:gdLst>
            <a:ahLst/>
            <a:rect l="textAreaLeft" t="textAreaTop" r="textAreaRight" b="textAreaBottom"/>
            <a:pathLst>
              <a:path w="1458467" h="553211">
                <a:moveTo>
                  <a:pt x="0" y="553211"/>
                </a:moveTo>
                <a:lnTo>
                  <a:pt x="1458467" y="553211"/>
                </a:lnTo>
                <a:lnTo>
                  <a:pt x="1458467" y="0"/>
                </a:lnTo>
                <a:lnTo>
                  <a:pt x="0" y="0"/>
                </a:lnTo>
                <a:lnTo>
                  <a:pt x="0" y="55321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4044600" y="1650600"/>
            <a:ext cx="1483920" cy="578880"/>
          </a:xfrm>
          <a:custGeom>
            <a:avLst/>
            <a:gdLst>
              <a:gd name="textAreaLeft" fmla="*/ 0 w 1483920"/>
              <a:gd name="textAreaRight" fmla="*/ 1484280 w 1483920"/>
              <a:gd name="textAreaTop" fmla="*/ 0 h 578880"/>
              <a:gd name="textAreaBottom" fmla="*/ 579240 h 578880"/>
            </a:gdLst>
            <a:ahLst/>
            <a:rect l="textAreaLeft" t="textAreaTop" r="textAreaRight" b="textAreaBottom"/>
            <a:pathLst>
              <a:path w="1484375" h="579119">
                <a:moveTo>
                  <a:pt x="12953" y="566166"/>
                </a:moveTo>
                <a:lnTo>
                  <a:pt x="1471421" y="566166"/>
                </a:lnTo>
                <a:lnTo>
                  <a:pt x="1471421" y="12954"/>
                </a:lnTo>
                <a:lnTo>
                  <a:pt x="12953" y="12954"/>
                </a:lnTo>
                <a:lnTo>
                  <a:pt x="12953" y="566166"/>
                </a:lnTo>
              </a:path>
            </a:pathLst>
          </a:custGeom>
          <a:noFill/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5884920" y="724680"/>
            <a:ext cx="2945520" cy="2192760"/>
          </a:xfrm>
          <a:custGeom>
            <a:avLst/>
            <a:gdLst>
              <a:gd name="textAreaLeft" fmla="*/ 0 w 2945520"/>
              <a:gd name="textAreaRight" fmla="*/ 2945880 w 2945520"/>
              <a:gd name="textAreaTop" fmla="*/ 0 h 2192760"/>
              <a:gd name="textAreaBottom" fmla="*/ 2193120 h 2192760"/>
            </a:gdLst>
            <a:ahLst/>
            <a:rect l="textAreaLeft" t="textAreaTop" r="textAreaRight" b="textAreaBottom"/>
            <a:pathLst>
              <a:path w="2945892" h="2193036">
                <a:moveTo>
                  <a:pt x="0" y="2193036"/>
                </a:moveTo>
                <a:lnTo>
                  <a:pt x="2945892" y="2193036"/>
                </a:lnTo>
                <a:lnTo>
                  <a:pt x="2945892" y="0"/>
                </a:lnTo>
                <a:lnTo>
                  <a:pt x="0" y="0"/>
                </a:lnTo>
                <a:lnTo>
                  <a:pt x="0" y="219303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5871960" y="711720"/>
            <a:ext cx="2971440" cy="2218680"/>
          </a:xfrm>
          <a:custGeom>
            <a:avLst/>
            <a:gdLst>
              <a:gd name="textAreaLeft" fmla="*/ 0 w 2971440"/>
              <a:gd name="textAreaRight" fmla="*/ 2971800 w 2971440"/>
              <a:gd name="textAreaTop" fmla="*/ 0 h 2218680"/>
              <a:gd name="textAreaBottom" fmla="*/ 2219040 h 2218680"/>
            </a:gdLst>
            <a:ahLst/>
            <a:rect l="textAreaLeft" t="textAreaTop" r="textAreaRight" b="textAreaBottom"/>
            <a:pathLst>
              <a:path w="2971800" h="2218944">
                <a:moveTo>
                  <a:pt x="12953" y="2205990"/>
                </a:moveTo>
                <a:lnTo>
                  <a:pt x="2958846" y="2205990"/>
                </a:lnTo>
                <a:lnTo>
                  <a:pt x="2958846" y="12954"/>
                </a:lnTo>
                <a:lnTo>
                  <a:pt x="12953" y="12954"/>
                </a:lnTo>
                <a:lnTo>
                  <a:pt x="12953" y="2205990"/>
                </a:lnTo>
              </a:path>
            </a:pathLst>
          </a:custGeom>
          <a:noFill/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5884920" y="3067200"/>
            <a:ext cx="2945520" cy="1960920"/>
          </a:xfrm>
          <a:custGeom>
            <a:avLst/>
            <a:gdLst>
              <a:gd name="textAreaLeft" fmla="*/ 0 w 2945520"/>
              <a:gd name="textAreaRight" fmla="*/ 2945880 w 2945520"/>
              <a:gd name="textAreaTop" fmla="*/ 0 h 1960920"/>
              <a:gd name="textAreaBottom" fmla="*/ 1961280 h 1960920"/>
            </a:gdLst>
            <a:ahLst/>
            <a:rect l="textAreaLeft" t="textAreaTop" r="textAreaRight" b="textAreaBottom"/>
            <a:pathLst>
              <a:path w="2945892" h="1961388">
                <a:moveTo>
                  <a:pt x="0" y="1961388"/>
                </a:moveTo>
                <a:lnTo>
                  <a:pt x="2945892" y="1961388"/>
                </a:lnTo>
                <a:lnTo>
                  <a:pt x="2945892" y="0"/>
                </a:lnTo>
                <a:lnTo>
                  <a:pt x="0" y="0"/>
                </a:lnTo>
                <a:lnTo>
                  <a:pt x="0" y="19613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5871960" y="3054240"/>
            <a:ext cx="2971440" cy="1986840"/>
          </a:xfrm>
          <a:custGeom>
            <a:avLst/>
            <a:gdLst>
              <a:gd name="textAreaLeft" fmla="*/ 0 w 2971440"/>
              <a:gd name="textAreaRight" fmla="*/ 2971800 w 2971440"/>
              <a:gd name="textAreaTop" fmla="*/ 0 h 1986840"/>
              <a:gd name="textAreaBottom" fmla="*/ 1987200 h 1986840"/>
            </a:gdLst>
            <a:ahLst/>
            <a:rect l="textAreaLeft" t="textAreaTop" r="textAreaRight" b="textAreaBottom"/>
            <a:pathLst>
              <a:path w="2971800" h="1987295">
                <a:moveTo>
                  <a:pt x="12953" y="1974342"/>
                </a:moveTo>
                <a:lnTo>
                  <a:pt x="2958846" y="1974342"/>
                </a:lnTo>
                <a:lnTo>
                  <a:pt x="2958846" y="12954"/>
                </a:lnTo>
                <a:lnTo>
                  <a:pt x="12953" y="12954"/>
                </a:lnTo>
                <a:lnTo>
                  <a:pt x="12953" y="1974342"/>
                </a:lnTo>
              </a:path>
            </a:pathLst>
          </a:custGeom>
          <a:noFill/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66760" y="406440"/>
            <a:ext cx="5346360" cy="439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470520" y="1981080"/>
            <a:ext cx="10148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350" spc="-1" strike="noStrike">
                <a:solidFill>
                  <a:srgbClr val="9bbb59"/>
                </a:solidFill>
                <a:latin typeface="Calibri"/>
              </a:rPr>
              <a:t>Do</a:t>
            </a:r>
            <a:r>
              <a:rPr b="0" lang="en-US" sz="13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50" spc="-1" strike="noStrike">
                <a:solidFill>
                  <a:srgbClr val="9bbb59"/>
                </a:solidFill>
                <a:latin typeface="Calibri"/>
              </a:rPr>
              <a:t>not</a:t>
            </a:r>
            <a:r>
              <a:rPr b="0" lang="en-US" sz="13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50" spc="-1" strike="noStrike">
                <a:solidFill>
                  <a:srgbClr val="9bbb59"/>
                </a:solidFill>
                <a:latin typeface="Calibri"/>
              </a:rPr>
              <a:t>disturb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826360" y="1981080"/>
            <a:ext cx="2527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350" spc="-1" strike="noStrike">
                <a:solidFill>
                  <a:srgbClr val="9bbb59"/>
                </a:solidFill>
                <a:latin typeface="Calibri"/>
              </a:rPr>
              <a:t>ETA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504000" y="495360"/>
            <a:ext cx="484596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  <a:tabLst>
                <a:tab algn="l" pos="101520"/>
                <a:tab algn="l" pos="3695760"/>
              </a:tabLst>
            </a:pP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LEVERAG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SIRI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A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YOUR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101520"/>
                <a:tab algn="l" pos="369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PERSONAL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9" spc="-1" strike="noStrike">
                <a:solidFill>
                  <a:srgbClr val="4f81bd"/>
                </a:solidFill>
                <a:latin typeface="Segoe UI"/>
              </a:rPr>
              <a:t>ASSISTANT!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  <a:tab algn="l" pos="369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01520"/>
                <a:tab algn="l" pos="369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Wh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t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464360" y="1968480"/>
            <a:ext cx="621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$__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964120" y="800280"/>
            <a:ext cx="255024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5416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54160"/>
              </a:tabLst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1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Rea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m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las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email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254160"/>
              </a:tabLst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2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An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ne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emai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fro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m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bo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today?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5968800" y="1968480"/>
            <a:ext cx="2400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3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Sh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emai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fro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Ker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5964120" y="2197080"/>
            <a:ext cx="23083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yesterday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254160"/>
              </a:tabLst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4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Sh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ne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mai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bo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t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Sm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Cas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5416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5966640" y="3619440"/>
            <a:ext cx="1443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6302880" y="3619440"/>
            <a:ext cx="2418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Schedu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conferenc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c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Catheri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tomorr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PM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Schedu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mee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Se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2113560" y="4533840"/>
            <a:ext cx="655524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417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bo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ne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cquisi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17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4f81bd"/>
                </a:solidFill>
                <a:latin typeface="Calibri"/>
              </a:rPr>
              <a:t>PM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17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17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17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17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4178160"/>
              </a:tabLst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6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0" y="658440"/>
            <a:ext cx="9143640" cy="46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46800"/>
              <a:gd name="textAreaBottom" fmla="*/ 47160 h 46800"/>
            </a:gdLst>
            <a:ahLst/>
            <a:rect l="textAreaLeft" t="textAreaTop" r="textAreaRight" b="textAreaBottom"/>
            <a:pathLst>
              <a:path w="9144000" h="47244">
                <a:moveTo>
                  <a:pt x="0" y="23622"/>
                </a:moveTo>
                <a:lnTo>
                  <a:pt x="9144000" y="23622"/>
                </a:lnTo>
              </a:path>
            </a:pathLst>
          </a:custGeom>
          <a:noFill/>
          <a:ln w="38100">
            <a:solidFill>
              <a:srgbClr val="d9d9d9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0" y="705600"/>
            <a:ext cx="9143640" cy="333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32520"/>
              <a:gd name="textAreaBottom" fmla="*/ 3332880 h 3332520"/>
            </a:gdLst>
            <a:ahLst/>
            <a:rect l="textAreaLeft" t="textAreaTop" r="textAreaRight" b="textAreaBottom"/>
            <a:pathLst>
              <a:path w="9144000" h="3332988">
                <a:moveTo>
                  <a:pt x="0" y="3332987"/>
                </a:moveTo>
                <a:lnTo>
                  <a:pt x="9144000" y="3332987"/>
                </a:lnTo>
                <a:lnTo>
                  <a:pt x="9144000" y="0"/>
                </a:lnTo>
                <a:lnTo>
                  <a:pt x="0" y="0"/>
                </a:lnTo>
                <a:lnTo>
                  <a:pt x="0" y="333298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0" y="3989880"/>
            <a:ext cx="9143640" cy="482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48240"/>
              <a:gd name="textAreaBottom" fmla="*/ 48600 h 48240"/>
            </a:gdLst>
            <a:ahLst/>
            <a:rect l="textAreaLeft" t="textAreaTop" r="textAreaRight" b="textAreaBottom"/>
            <a:pathLst>
              <a:path w="9144000" h="48767">
                <a:moveTo>
                  <a:pt x="0" y="24384"/>
                </a:moveTo>
                <a:lnTo>
                  <a:pt x="9144000" y="24384"/>
                </a:lnTo>
              </a:path>
            </a:pathLst>
          </a:custGeom>
          <a:noFill/>
          <a:ln w="38100">
            <a:solidFill>
              <a:srgbClr val="d9d9d9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3283200" y="3595680"/>
            <a:ext cx="2576880" cy="10440"/>
          </a:xfrm>
          <a:custGeom>
            <a:avLst/>
            <a:gdLst>
              <a:gd name="textAreaLeft" fmla="*/ 0 w 2576880"/>
              <a:gd name="textAreaRight" fmla="*/ 2577240 w 2576880"/>
              <a:gd name="textAreaTop" fmla="*/ 0 h 10440"/>
              <a:gd name="textAreaBottom" fmla="*/ 10800 h 10440"/>
            </a:gdLst>
            <a:ahLst/>
            <a:rect l="textAreaLeft" t="textAreaTop" r="textAreaRight" b="textAreaBottom"/>
            <a:pathLst>
              <a:path w="2577084" h="10667">
                <a:moveTo>
                  <a:pt x="0" y="0"/>
                </a:moveTo>
                <a:lnTo>
                  <a:pt x="1288541" y="0"/>
                </a:lnTo>
                <a:lnTo>
                  <a:pt x="2577084" y="0"/>
                </a:lnTo>
                <a:lnTo>
                  <a:pt x="2577084" y="10667"/>
                </a:lnTo>
                <a:lnTo>
                  <a:pt x="1288541" y="10667"/>
                </a:lnTo>
                <a:lnTo>
                  <a:pt x="0" y="10667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832120" y="977760"/>
            <a:ext cx="3492000" cy="533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722320" y="1638360"/>
            <a:ext cx="367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700" spc="-1" strike="noStrike">
                <a:solidFill>
                  <a:srgbClr val="595959"/>
                </a:solidFill>
                <a:latin typeface="Segoe UI"/>
              </a:rPr>
              <a:t>Chelsey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595959"/>
                </a:solidFill>
                <a:latin typeface="Segoe UI"/>
              </a:rPr>
              <a:t>Lambe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471040" y="2286000"/>
            <a:ext cx="4188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Vic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President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Clien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Commun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904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Co-Chair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AB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G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Solo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Technolog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Gree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684600" y="2844720"/>
            <a:ext cx="1761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312-667-176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783600" y="3137040"/>
            <a:ext cx="1563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847-702-277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95959"/>
                </a:solidFill>
                <a:latin typeface="Segoe UI"/>
              </a:rPr>
              <a:t>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3863160" y="3619440"/>
            <a:ext cx="1404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i="1" lang="en-US" sz="1410" spc="-1" strike="noStrike">
                <a:solidFill>
                  <a:srgbClr val="e46c0a"/>
                </a:solidFill>
                <a:latin typeface="Segoe UI"/>
              </a:rPr>
              <a:t>@ChelseyLambert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2027880" y="1958400"/>
            <a:ext cx="3286800" cy="18000"/>
          </a:xfrm>
          <a:custGeom>
            <a:avLst/>
            <a:gdLst>
              <a:gd name="textAreaLeft" fmla="*/ 0 w 3286800"/>
              <a:gd name="textAreaRight" fmla="*/ 3287160 w 3286800"/>
              <a:gd name="textAreaTop" fmla="*/ 0 h 18000"/>
              <a:gd name="textAreaBottom" fmla="*/ 18360 h 18000"/>
            </a:gdLst>
            <a:ahLst/>
            <a:rect l="textAreaLeft" t="textAreaTop" r="textAreaRight" b="textAreaBottom"/>
            <a:pathLst>
              <a:path w="3287267" h="18288">
                <a:moveTo>
                  <a:pt x="0" y="0"/>
                </a:moveTo>
                <a:lnTo>
                  <a:pt x="821817" y="0"/>
                </a:lnTo>
                <a:lnTo>
                  <a:pt x="1643634" y="0"/>
                </a:lnTo>
                <a:lnTo>
                  <a:pt x="2465451" y="0"/>
                </a:lnTo>
                <a:lnTo>
                  <a:pt x="3287267" y="0"/>
                </a:lnTo>
                <a:lnTo>
                  <a:pt x="3287267" y="18288"/>
                </a:lnTo>
                <a:lnTo>
                  <a:pt x="2465451" y="18288"/>
                </a:lnTo>
                <a:lnTo>
                  <a:pt x="1643634" y="18288"/>
                </a:lnTo>
                <a:lnTo>
                  <a:pt x="821817" y="18288"/>
                </a:lnTo>
                <a:lnTo>
                  <a:pt x="0" y="18288"/>
                </a:lnTo>
                <a:lnTo>
                  <a:pt x="0" y="0"/>
                </a:lnTo>
              </a:path>
            </a:pathLst>
          </a:custGeom>
          <a:solidFill>
            <a:srgbClr val="4f81b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994760" y="2101680"/>
            <a:ext cx="3541320" cy="2608560"/>
          </a:xfrm>
          <a:custGeom>
            <a:avLst/>
            <a:gdLst>
              <a:gd name="textAreaLeft" fmla="*/ 0 w 3541320"/>
              <a:gd name="textAreaRight" fmla="*/ 3541680 w 3541320"/>
              <a:gd name="textAreaTop" fmla="*/ 0 h 2608560"/>
              <a:gd name="textAreaBottom" fmla="*/ 2608920 h 2608560"/>
            </a:gdLst>
            <a:ahLst/>
            <a:rect l="textAreaLeft" t="textAreaTop" r="textAreaRight" b="textAreaBottom"/>
            <a:pathLst>
              <a:path w="3541776" h="2609088">
                <a:moveTo>
                  <a:pt x="0" y="2609088"/>
                </a:moveTo>
                <a:lnTo>
                  <a:pt x="3541775" y="2609088"/>
                </a:lnTo>
                <a:lnTo>
                  <a:pt x="3541775" y="0"/>
                </a:lnTo>
                <a:lnTo>
                  <a:pt x="0" y="0"/>
                </a:lnTo>
                <a:lnTo>
                  <a:pt x="0" y="26090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5746680" y="1958400"/>
            <a:ext cx="2716920" cy="18000"/>
          </a:xfrm>
          <a:custGeom>
            <a:avLst/>
            <a:gdLst>
              <a:gd name="textAreaLeft" fmla="*/ 0 w 2716920"/>
              <a:gd name="textAreaRight" fmla="*/ 2717280 w 2716920"/>
              <a:gd name="textAreaTop" fmla="*/ 0 h 18000"/>
              <a:gd name="textAreaBottom" fmla="*/ 18360 h 18000"/>
            </a:gdLst>
            <a:ahLst/>
            <a:rect l="textAreaLeft" t="textAreaTop" r="textAreaRight" b="textAreaBottom"/>
            <a:pathLst>
              <a:path w="2717292" h="18288">
                <a:moveTo>
                  <a:pt x="0" y="0"/>
                </a:moveTo>
                <a:lnTo>
                  <a:pt x="679323" y="0"/>
                </a:lnTo>
                <a:lnTo>
                  <a:pt x="1358645" y="0"/>
                </a:lnTo>
                <a:lnTo>
                  <a:pt x="2037969" y="0"/>
                </a:lnTo>
                <a:lnTo>
                  <a:pt x="2717292" y="0"/>
                </a:lnTo>
                <a:lnTo>
                  <a:pt x="2717292" y="18288"/>
                </a:lnTo>
                <a:lnTo>
                  <a:pt x="2037969" y="18288"/>
                </a:lnTo>
                <a:lnTo>
                  <a:pt x="1358645" y="18288"/>
                </a:lnTo>
                <a:lnTo>
                  <a:pt x="679323" y="18288"/>
                </a:lnTo>
                <a:lnTo>
                  <a:pt x="0" y="18288"/>
                </a:lnTo>
                <a:lnTo>
                  <a:pt x="0" y="0"/>
                </a:lnTo>
              </a:path>
            </a:pathLst>
          </a:custGeom>
          <a:solidFill>
            <a:srgbClr val="4f81b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698080" y="2101680"/>
            <a:ext cx="3102480" cy="2608560"/>
          </a:xfrm>
          <a:custGeom>
            <a:avLst/>
            <a:gdLst>
              <a:gd name="textAreaLeft" fmla="*/ 0 w 3102480"/>
              <a:gd name="textAreaRight" fmla="*/ 3102840 w 3102480"/>
              <a:gd name="textAreaTop" fmla="*/ 0 h 2608560"/>
              <a:gd name="textAreaBottom" fmla="*/ 2608920 h 2608560"/>
            </a:gdLst>
            <a:ahLst/>
            <a:rect l="textAreaLeft" t="textAreaTop" r="textAreaRight" b="textAreaBottom"/>
            <a:pathLst>
              <a:path w="3102864" h="2609088">
                <a:moveTo>
                  <a:pt x="0" y="2609088"/>
                </a:moveTo>
                <a:lnTo>
                  <a:pt x="3102864" y="2609088"/>
                </a:lnTo>
                <a:lnTo>
                  <a:pt x="3102864" y="0"/>
                </a:lnTo>
                <a:lnTo>
                  <a:pt x="0" y="0"/>
                </a:lnTo>
                <a:lnTo>
                  <a:pt x="0" y="26090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673840" cy="4419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526320" y="393840"/>
            <a:ext cx="795096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801"/>
              </a:lnSpc>
              <a:tabLst>
                <a:tab algn="l" pos="3098880"/>
              </a:tabLst>
            </a:pP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DEFI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RELATIONSHIP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S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SIR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ACT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309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79646"/>
                </a:solidFill>
                <a:latin typeface="Segoe UI"/>
              </a:rPr>
              <a:t>WOR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1908720" y="1600200"/>
            <a:ext cx="359892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99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1.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“Call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me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Chelsey”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2.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My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husband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is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‘Mark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Wahlberg’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3.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My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brother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is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‘Alexander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Lambert’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4.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‘Nancy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Lambert’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is</a:t>
            </a:r>
            <a:r>
              <a:rPr b="0" lang="en-US" sz="21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my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90" spc="-1" strike="noStrike">
                <a:solidFill>
                  <a:srgbClr val="4f6228"/>
                </a:solidFill>
                <a:latin typeface="Segoe UI"/>
              </a:rPr>
              <a:t>mom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3360"/>
                <a:tab algn="l" pos="114480"/>
                <a:tab algn="l" pos="40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63360"/>
                <a:tab algn="l" pos="114480"/>
                <a:tab algn="l" pos="40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5651640" y="1600200"/>
            <a:ext cx="30607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99"/>
              </a:lnSpc>
              <a:tabLst>
                <a:tab algn="l" pos="50760"/>
                <a:tab algn="l" pos="3938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f81bd"/>
                </a:solidFill>
                <a:latin typeface="Segoe UI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g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person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“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Chelse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Inv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husb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din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6: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to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M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‘I’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ru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Segoe UI"/>
              </a:rPr>
              <a:t>lat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88920" y="0"/>
            <a:ext cx="3746160" cy="5333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3"/>
          <a:stretch/>
        </p:blipFill>
        <p:spPr>
          <a:xfrm>
            <a:off x="4152960" y="368280"/>
            <a:ext cx="2387160" cy="5168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4"/>
          <a:stretch/>
        </p:blipFill>
        <p:spPr>
          <a:xfrm>
            <a:off x="6756480" y="393840"/>
            <a:ext cx="2387160" cy="51433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540360" y="127080"/>
            <a:ext cx="27932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699"/>
              </a:lnSpc>
            </a:pPr>
            <a:r>
              <a:rPr b="1" lang="en-US" sz="6000" spc="-1" strike="noStrike">
                <a:solidFill>
                  <a:srgbClr val="f79646"/>
                </a:solidFill>
                <a:latin typeface="Segoe UI"/>
              </a:rPr>
              <a:t>TRA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0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5420520" y="1520280"/>
            <a:ext cx="2631600" cy="16560"/>
          </a:xfrm>
          <a:custGeom>
            <a:avLst/>
            <a:gdLst>
              <a:gd name="textAreaLeft" fmla="*/ 0 w 2631600"/>
              <a:gd name="textAreaRight" fmla="*/ 2631960 w 263160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2631947" h="16763">
                <a:moveTo>
                  <a:pt x="0" y="0"/>
                </a:moveTo>
                <a:lnTo>
                  <a:pt x="657986" y="0"/>
                </a:lnTo>
                <a:lnTo>
                  <a:pt x="1315973" y="0"/>
                </a:lnTo>
                <a:lnTo>
                  <a:pt x="1973960" y="0"/>
                </a:lnTo>
                <a:lnTo>
                  <a:pt x="2631947" y="0"/>
                </a:lnTo>
                <a:lnTo>
                  <a:pt x="2631947" y="16763"/>
                </a:lnTo>
                <a:lnTo>
                  <a:pt x="1973960" y="16763"/>
                </a:lnTo>
                <a:lnTo>
                  <a:pt x="1315973" y="16763"/>
                </a:lnTo>
                <a:lnTo>
                  <a:pt x="657986" y="16763"/>
                </a:lnTo>
                <a:lnTo>
                  <a:pt x="0" y="16763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0" y="139680"/>
            <a:ext cx="9143640" cy="55242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258480" y="2590920"/>
            <a:ext cx="42454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BETTER</a:t>
            </a:r>
            <a:r>
              <a:rPr b="0" lang="en-US" sz="405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DRIVING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734760" y="3213000"/>
            <a:ext cx="32929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  <a:tabLst>
                <a:tab algn="l" pos="101520"/>
              </a:tabLst>
            </a:pP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DIRECTIONS,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AND</a:t>
            </a:r>
            <a:r>
              <a:rPr b="0" lang="en-US" sz="405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ROUTE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1112040" y="4444920"/>
            <a:ext cx="2512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059" spc="-1" strike="noStrike">
                <a:solidFill>
                  <a:srgbClr val="4f81bd"/>
                </a:solidFill>
                <a:latin typeface="Segoe UI"/>
              </a:rPr>
              <a:t>SHARING!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5410800" y="1282680"/>
            <a:ext cx="2626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waze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1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575640" y="3587400"/>
            <a:ext cx="2325240" cy="16560"/>
          </a:xfrm>
          <a:custGeom>
            <a:avLst/>
            <a:gdLst>
              <a:gd name="textAreaLeft" fmla="*/ 0 w 2325240"/>
              <a:gd name="textAreaRight" fmla="*/ 2325600 w 232524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2325636" h="16764">
                <a:moveTo>
                  <a:pt x="0" y="0"/>
                </a:moveTo>
                <a:lnTo>
                  <a:pt x="581405" y="0"/>
                </a:lnTo>
                <a:lnTo>
                  <a:pt x="1162824" y="0"/>
                </a:lnTo>
                <a:lnTo>
                  <a:pt x="1744230" y="0"/>
                </a:lnTo>
                <a:lnTo>
                  <a:pt x="2325636" y="0"/>
                </a:lnTo>
                <a:lnTo>
                  <a:pt x="2325636" y="16764"/>
                </a:lnTo>
                <a:lnTo>
                  <a:pt x="1744230" y="16764"/>
                </a:lnTo>
                <a:lnTo>
                  <a:pt x="1162824" y="16764"/>
                </a:lnTo>
                <a:lnTo>
                  <a:pt x="581405" y="16764"/>
                </a:lnTo>
                <a:lnTo>
                  <a:pt x="0" y="16764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2781360" y="647640"/>
            <a:ext cx="3708000" cy="1383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19040" y="2171880"/>
            <a:ext cx="3403080" cy="863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3975120" y="2387520"/>
            <a:ext cx="4736880" cy="2349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3131640" y="787320"/>
            <a:ext cx="295632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301"/>
              </a:lnSpc>
            </a:pPr>
            <a:r>
              <a:rPr b="1" lang="en-US" sz="4900" spc="-1" strike="noStrike">
                <a:solidFill>
                  <a:srgbClr val="4bacc6"/>
                </a:solidFill>
                <a:latin typeface="Segoe UI"/>
              </a:rPr>
              <a:t>SECURIT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573840" y="3352680"/>
            <a:ext cx="2319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lastpass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2">
            <a:hlinkClick r:id="rId6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7080" y="647640"/>
            <a:ext cx="8915040" cy="786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95360" y="2298600"/>
            <a:ext cx="8127720" cy="218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3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248760" y="723960"/>
            <a:ext cx="8608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CHAR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IPH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FAS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AIRPLA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4f81bd"/>
                </a:solidFill>
                <a:latin typeface="Segoe UI"/>
              </a:rPr>
              <a:t>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769680" y="1600200"/>
            <a:ext cx="7604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</a:pP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Or…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endur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th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longest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5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minute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of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your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79646"/>
                </a:solidFill>
                <a:latin typeface="Segoe UI"/>
              </a:rPr>
              <a:t>life!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0">
            <a:hlinkClick r:id="rId4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3504960" y="1968480"/>
            <a:ext cx="227340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301"/>
              </a:lnSpc>
            </a:pPr>
            <a:r>
              <a:rPr b="1" lang="en-US" sz="8010" spc="-1" strike="noStrike">
                <a:solidFill>
                  <a:srgbClr val="f79646"/>
                </a:solidFill>
                <a:latin typeface="Segoe UI"/>
              </a:rPr>
              <a:t>Q&amp;A</a:t>
            </a:r>
            <a:endParaRPr b="0" lang="en-US" sz="80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7">
            <a:hlinkClick r:id="rId2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35520" y="545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2303640" y="2006640"/>
            <a:ext cx="4650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600"/>
              </a:lnSpc>
            </a:pPr>
            <a:r>
              <a:rPr b="1" lang="en-US" sz="5900" spc="-1" strike="noStrike">
                <a:solidFill>
                  <a:srgbClr val="4f81bd"/>
                </a:solidFill>
                <a:latin typeface="Segoe UI"/>
              </a:rPr>
              <a:t>THANK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900" spc="-1" strike="noStrike">
                <a:solidFill>
                  <a:srgbClr val="4f81bd"/>
                </a:solidFill>
                <a:latin typeface="Segoe UI"/>
              </a:rPr>
              <a:t>YOU!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">
            <a:hlinkClick r:id="rId2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65160" y="1994040"/>
            <a:ext cx="7441920" cy="152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85200" y="2146320"/>
            <a:ext cx="6738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00"/>
              </a:lnSpc>
            </a:pPr>
            <a:r>
              <a:rPr b="1" lang="en-US" sz="5400" spc="-1" strike="noStrike">
                <a:solidFill>
                  <a:srgbClr val="4f81bd"/>
                </a:solidFill>
                <a:latin typeface="Segoe UI"/>
              </a:rPr>
              <a:t>ATTORNE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4f81bd"/>
                </a:solidFill>
                <a:latin typeface="Segoe UI"/>
              </a:rPr>
              <a:t>SPECIF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4165200" cy="447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838760" y="1574640"/>
            <a:ext cx="1701360" cy="297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7213680" y="1574640"/>
            <a:ext cx="1701360" cy="2971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58720" y="507960"/>
            <a:ext cx="1485720" cy="147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58720" y="2298600"/>
            <a:ext cx="3771720" cy="283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406760" y="1727280"/>
            <a:ext cx="4736880" cy="3796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851560" y="558720"/>
            <a:ext cx="4393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059" spc="-1" strike="noStrike">
                <a:solidFill>
                  <a:srgbClr val="4bacc6"/>
                </a:solidFill>
                <a:latin typeface="Segoe UI"/>
              </a:rPr>
              <a:t>TRIAL</a:t>
            </a:r>
            <a:r>
              <a:rPr b="0" lang="en-US" sz="405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59" spc="-1" strike="noStrike">
                <a:solidFill>
                  <a:srgbClr val="4bacc6"/>
                </a:solidFill>
                <a:latin typeface="Segoe UI"/>
              </a:rPr>
              <a:t>PAD</a:t>
            </a:r>
            <a:r>
              <a:rPr b="0" lang="en-US" sz="405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59" spc="-1" strike="noStrike">
                <a:solidFill>
                  <a:srgbClr val="4bacc6"/>
                </a:solidFill>
                <a:latin typeface="Segoe UI"/>
              </a:rPr>
              <a:t>$89.99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>
            <a:hlinkClick r:id="rId5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2986200" y="1098720"/>
            <a:ext cx="3160440" cy="30240"/>
          </a:xfrm>
          <a:custGeom>
            <a:avLst/>
            <a:gdLst>
              <a:gd name="textAreaLeft" fmla="*/ 0 w 3160440"/>
              <a:gd name="textAreaRight" fmla="*/ 3160800 w 3160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160775" h="30480">
                <a:moveTo>
                  <a:pt x="0" y="0"/>
                </a:moveTo>
                <a:lnTo>
                  <a:pt x="1580387" y="0"/>
                </a:lnTo>
                <a:lnTo>
                  <a:pt x="3160775" y="0"/>
                </a:lnTo>
                <a:lnTo>
                  <a:pt x="3160775" y="30480"/>
                </a:lnTo>
                <a:lnTo>
                  <a:pt x="1580387" y="30480"/>
                </a:lnTo>
                <a:lnTo>
                  <a:pt x="0" y="3048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4400" bIns="-14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924360" y="1219320"/>
            <a:ext cx="4901760" cy="3771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967840" y="495360"/>
            <a:ext cx="3195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059" spc="-1" strike="noStrike">
                <a:solidFill>
                  <a:srgbClr val="0000ff"/>
                </a:solidFill>
                <a:latin typeface="Segoe UI"/>
              </a:rPr>
              <a:t>TIME59.COM</a:t>
            </a:r>
            <a:endParaRPr b="0" lang="en-US" sz="405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721440" y="1663560"/>
            <a:ext cx="1062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060560" y="1714680"/>
            <a:ext cx="252648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Tr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Man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Man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701640" y="3174840"/>
            <a:ext cx="269856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  <a:tabLst>
                <a:tab algn="l" pos="343080"/>
                <a:tab algn="l" pos="558720"/>
                <a:tab algn="l" pos="140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343080"/>
                <a:tab algn="l" pos="558720"/>
                <a:tab algn="l" pos="1409760"/>
              </a:tabLst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L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Invo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  <a:tabLst>
                <a:tab algn="l" pos="343080"/>
                <a:tab algn="l" pos="558720"/>
                <a:tab algn="l" pos="140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$99.9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43080"/>
                <a:tab algn="l" pos="558720"/>
                <a:tab algn="l" pos="140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43080"/>
                <a:tab algn="l" pos="558720"/>
                <a:tab algn="l" pos="140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1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77840" y="13968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409760" y="2349360"/>
            <a:ext cx="7416360" cy="292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727720" y="825480"/>
            <a:ext cx="5796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DIC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MESSAGE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EMAI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469800"/>
              </a:tabLst>
            </a:pP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TEXT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&amp;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DOCUMENT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O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TH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90" spc="-1" strike="noStrike">
                <a:solidFill>
                  <a:srgbClr val="000000"/>
                </a:solidFill>
                <a:latin typeface="Segoe UI"/>
              </a:rPr>
              <a:t>GO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8805600" y="5397480"/>
            <a:ext cx="13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Segoe U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>
            <a:hlinkClick r:id="rId4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600200" y="2108160"/>
            <a:ext cx="5854320" cy="153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954080" y="2260440"/>
            <a:ext cx="5095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00"/>
              </a:lnSpc>
            </a:pPr>
            <a:r>
              <a:rPr b="1" lang="en-US" sz="5400" spc="-1" strike="noStrike">
                <a:solidFill>
                  <a:srgbClr val="4f81bd"/>
                </a:solidFill>
                <a:latin typeface="Segoe UI"/>
              </a:rPr>
              <a:t>PRODUC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>
            <a:hlinkClick r:id="rId3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35520" y="545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0" y="0"/>
            <a:ext cx="9143640" cy="5714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714640"/>
              <a:gd name="textAreaBottom" fmla="*/ 5715000 h 5714640"/>
            </a:gdLst>
            <a:ahLst/>
            <a:rect l="textAreaLeft" t="textAreaTop" r="textAreaRight" b="textAreaBottom"/>
            <a:pathLst>
              <a:path w="9144000" h="5715000">
                <a:moveTo>
                  <a:pt x="0" y="5715000"/>
                </a:moveTo>
                <a:lnTo>
                  <a:pt x="9144000" y="5715000"/>
                </a:lnTo>
                <a:lnTo>
                  <a:pt x="9144000" y="0"/>
                </a:lnTo>
                <a:lnTo>
                  <a:pt x="0" y="0"/>
                </a:lnTo>
                <a:lnTo>
                  <a:pt x="0" y="5715000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720" y="5379120"/>
            <a:ext cx="9143640" cy="3366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144000" h="336803">
                <a:moveTo>
                  <a:pt x="0" y="336803"/>
                </a:moveTo>
                <a:lnTo>
                  <a:pt x="9143999" y="336803"/>
                </a:lnTo>
                <a:lnTo>
                  <a:pt x="9143999" y="0"/>
                </a:lnTo>
                <a:lnTo>
                  <a:pt x="0" y="0"/>
                </a:lnTo>
                <a:lnTo>
                  <a:pt x="0" y="33680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-12240" y="5366160"/>
            <a:ext cx="9169560" cy="362520"/>
          </a:xfrm>
          <a:custGeom>
            <a:avLst/>
            <a:gdLst>
              <a:gd name="textAreaLeft" fmla="*/ 0 w 9169560"/>
              <a:gd name="textAreaRight" fmla="*/ 9169920 w 9169560"/>
              <a:gd name="textAreaTop" fmla="*/ 0 h 362520"/>
              <a:gd name="textAreaBottom" fmla="*/ 362880 h 362520"/>
            </a:gdLst>
            <a:ahLst/>
            <a:rect l="textAreaLeft" t="textAreaTop" r="textAreaRight" b="textAreaBottom"/>
            <a:pathLst>
              <a:path w="9169907" h="362711">
                <a:moveTo>
                  <a:pt x="12953" y="349757"/>
                </a:moveTo>
                <a:lnTo>
                  <a:pt x="9156953" y="349757"/>
                </a:lnTo>
                <a:lnTo>
                  <a:pt x="9156953" y="12953"/>
                </a:lnTo>
                <a:lnTo>
                  <a:pt x="12953" y="12953"/>
                </a:lnTo>
                <a:lnTo>
                  <a:pt x="12953" y="349757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426600" y="4262760"/>
            <a:ext cx="2540160" cy="10440"/>
          </a:xfrm>
          <a:custGeom>
            <a:avLst/>
            <a:gdLst>
              <a:gd name="textAreaLeft" fmla="*/ 0 w 2540160"/>
              <a:gd name="textAreaRight" fmla="*/ 2540520 w 2540160"/>
              <a:gd name="textAreaTop" fmla="*/ 0 h 10440"/>
              <a:gd name="textAreaBottom" fmla="*/ 10800 h 10440"/>
            </a:gdLst>
            <a:ahLst/>
            <a:rect l="textAreaLeft" t="textAreaTop" r="textAreaRight" b="textAreaBottom"/>
            <a:pathLst>
              <a:path w="2540508" h="10667">
                <a:moveTo>
                  <a:pt x="0" y="0"/>
                </a:moveTo>
                <a:lnTo>
                  <a:pt x="635127" y="0"/>
                </a:lnTo>
                <a:lnTo>
                  <a:pt x="1270253" y="0"/>
                </a:lnTo>
                <a:lnTo>
                  <a:pt x="1905381" y="0"/>
                </a:lnTo>
                <a:lnTo>
                  <a:pt x="2540508" y="0"/>
                </a:lnTo>
                <a:lnTo>
                  <a:pt x="2540508" y="10667"/>
                </a:lnTo>
                <a:lnTo>
                  <a:pt x="1905381" y="10667"/>
                </a:lnTo>
                <a:lnTo>
                  <a:pt x="1270253" y="10667"/>
                </a:lnTo>
                <a:lnTo>
                  <a:pt x="635127" y="10667"/>
                </a:lnTo>
                <a:lnTo>
                  <a:pt x="0" y="10667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26600" y="4468320"/>
            <a:ext cx="1698840" cy="1044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0440"/>
              <a:gd name="textAreaBottom" fmla="*/ 10800 h 10440"/>
            </a:gdLst>
            <a:ahLst/>
            <a:rect l="textAreaLeft" t="textAreaTop" r="textAreaRight" b="textAreaBottom"/>
            <a:pathLst>
              <a:path w="1699259" h="10667">
                <a:moveTo>
                  <a:pt x="0" y="0"/>
                </a:moveTo>
                <a:lnTo>
                  <a:pt x="566419" y="0"/>
                </a:lnTo>
                <a:lnTo>
                  <a:pt x="1132840" y="0"/>
                </a:lnTo>
                <a:lnTo>
                  <a:pt x="1699259" y="0"/>
                </a:lnTo>
                <a:lnTo>
                  <a:pt x="1699259" y="10667"/>
                </a:lnTo>
                <a:lnTo>
                  <a:pt x="1132840" y="10667"/>
                </a:lnTo>
                <a:lnTo>
                  <a:pt x="566419" y="10667"/>
                </a:lnTo>
                <a:lnTo>
                  <a:pt x="0" y="10667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26600" y="4674240"/>
            <a:ext cx="1739880" cy="1044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10440"/>
              <a:gd name="textAreaBottom" fmla="*/ 10800 h 10440"/>
            </a:gdLst>
            <a:ahLst/>
            <a:rect l="textAreaLeft" t="textAreaTop" r="textAreaRight" b="textAreaBottom"/>
            <a:pathLst>
              <a:path w="1740408" h="10667">
                <a:moveTo>
                  <a:pt x="0" y="0"/>
                </a:moveTo>
                <a:lnTo>
                  <a:pt x="580136" y="0"/>
                </a:lnTo>
                <a:lnTo>
                  <a:pt x="1160272" y="0"/>
                </a:lnTo>
                <a:lnTo>
                  <a:pt x="1740408" y="0"/>
                </a:lnTo>
                <a:lnTo>
                  <a:pt x="1740408" y="10667"/>
                </a:lnTo>
                <a:lnTo>
                  <a:pt x="1160272" y="10667"/>
                </a:lnTo>
                <a:lnTo>
                  <a:pt x="580136" y="10667"/>
                </a:lnTo>
                <a:lnTo>
                  <a:pt x="0" y="10667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76240" y="419040"/>
            <a:ext cx="7480080" cy="485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57200" y="5423040"/>
            <a:ext cx="1460160" cy="240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2111400" y="5473800"/>
            <a:ext cx="1288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900" spc="-1" strike="noStrike">
                <a:solidFill>
                  <a:srgbClr val="bfbfbf"/>
                </a:solidFill>
                <a:latin typeface="Segoe UI"/>
              </a:rPr>
              <a:t>WWW.SMOKEBALL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951560" y="533520"/>
            <a:ext cx="53168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199"/>
              </a:lnSpc>
            </a:pPr>
            <a:r>
              <a:rPr b="1" lang="en-US" sz="4100" spc="-1" strike="noStrike">
                <a:solidFill>
                  <a:srgbClr val="4bacc6"/>
                </a:solidFill>
                <a:latin typeface="Segoe UI"/>
              </a:rPr>
              <a:t>POMORDORO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100" spc="-1" strike="noStrike">
                <a:solidFill>
                  <a:srgbClr val="4bacc6"/>
                </a:solidFill>
                <a:latin typeface="Segoe UI"/>
              </a:rPr>
              <a:t>TIM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413280" y="4114800"/>
            <a:ext cx="253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35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itunes.apple.com/us/app/po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35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odoro-timer-focus-on-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36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your/id703145045?mt=8</a:t>
            </a:r>
            <a:endParaRPr b="0" lang="en-US" sz="13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>
            <a:hlinkClick r:id="rId6"/>
          </p:cNvPr>
          <p:cNvSpPr/>
          <p:nvPr/>
        </p:nvSpPr>
        <p:spPr>
          <a:xfrm>
            <a:off x="762120" y="0"/>
            <a:ext cx="7619400" cy="571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336</Words>
  <Paragraphs>2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王玉清</cp:lastModifiedBy>
  <dcterms:modified xsi:type="dcterms:W3CDTF">2016-03-07T02:58:52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26</vt:r8>
  </property>
</Properties>
</file>