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hdphoto6.wdp" ContentType="image/vnd.ms-photo"/>
  <Override PartName="/ppt/media/image6.png" ContentType="image/png"/>
  <Override PartName="/ppt/media/hdphoto5.wdp" ContentType="image/vnd.ms-photo"/>
  <Override PartName="/ppt/media/image5.png" ContentType="image/png"/>
  <Override PartName="/ppt/media/hdphoto4.wdp" ContentType="image/vnd.ms-photo"/>
  <Override PartName="/ppt/media/image4.png" ContentType="image/png"/>
  <Override PartName="/ppt/media/hdphoto3.wdp" ContentType="image/vnd.ms-photo"/>
  <Override PartName="/ppt/media/image3.png" ContentType="image/png"/>
  <Override PartName="/ppt/media/hdphoto9.wdp" ContentType="image/vnd.ms-photo"/>
  <Override PartName="/ppt/media/hdphoto2.wdp" ContentType="image/vnd.ms-photo"/>
  <Override PartName="/ppt/media/image2.png" ContentType="image/png"/>
  <Override PartName="/ppt/media/hdphoto8.wdp" ContentType="image/vnd.ms-photo"/>
  <Override PartName="/ppt/media/hdphoto13.wdp" ContentType="image/vnd.ms-photo"/>
  <Override PartName="/ppt/media/image13.png" ContentType="image/png"/>
  <Override PartName="/ppt/media/image8.png" ContentType="image/png"/>
  <Override PartName="/ppt/media/hdphoto1.wdp" ContentType="image/vnd.ms-photo"/>
  <Override PartName="/ppt/media/hdphoto12.wdp" ContentType="image/vnd.ms-photo"/>
  <Override PartName="/ppt/media/image12.png" ContentType="image/png"/>
  <Override PartName="/ppt/media/image11.png" ContentType="image/png"/>
  <Override PartName="/ppt/media/hdphoto11.wdp" ContentType="image/vnd.ms-photo"/>
  <Override PartName="/ppt/media/image10.png" ContentType="image/png"/>
  <Override PartName="/ppt/media/hdphoto10.wdp" ContentType="image/vnd.ms-photo"/>
  <Override PartName="/ppt/media/image9.png" ContentType="image/png"/>
  <Override PartName="/ppt/media/hdphoto7.wdp" ContentType="image/vnd.ms-photo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BF3-6A63-46A7-81D4-070115AD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497-B038-4AF7-AE8D-688727A6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81A-2D0D-41EE-B287-A47C1ADD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222-F481-4D1F-BA24-1FA9FA25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026-EC95-4311-9C9C-E1B792BF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250-59D0-4ED7-A35D-253E83F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8B5-CAD0-447A-907F-5FCA47B4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2E0-E83B-4399-9BB9-BE936B41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B0F-AC24-447B-AA93-FC7B5617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99E-43C2-4C2B-933C-0EB80BC5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E5F-EDBA-422D-82A6-DD3A4A9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025-A841-4018-B48C-BBE4A7BC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ACE9A0-5878-4C78-BE57-E35722E0DE66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microsoft.com/office/2007/relationships/hdphoto" Target="../media/hdphoto10.wdp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microsoft.com/office/2007/relationships/hdphoto" Target="../media/hdphoto11.wdp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microsoft.com/office/2007/relationships/hdphoto" Target="../media/hdphoto12.wdp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microsoft.com/office/2007/relationships/hdphoto" Target="../media/hdphoto13.wdp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microsoft.com/office/2007/relationships/hdphoto" Target="../media/hdphoto4.wdp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5.wdp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6.wdp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7.wdp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#blogid=624700f90100sy53&amp;url=http://s2.sinaimg.cn/orignal/624700f9ga168017bd011" TargetMode="External"/><Relationship Id="rId2" Type="http://schemas.openxmlformats.org/officeDocument/2006/relationships/image" Target="../media/image8.png"/><Relationship Id="rId3" Type="http://schemas.microsoft.com/office/2007/relationships/hdphoto" Target="../media/hdphoto8.wdp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microsoft.com/office/2007/relationships/hdphoto" Target="../media/hdphoto9.wdp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12191760" cy="730836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2910600" y="3003840"/>
            <a:ext cx="619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世界名画大图排版简约通用</a:t>
            </a:r>
            <a:r>
              <a:rPr b="0" lang="en-US" sz="4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4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8484840" y="5533200"/>
            <a:ext cx="1581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秋千》弗拉戈纳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-71640" y="-1135080"/>
            <a:ext cx="12334680" cy="91278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5852880" y="3731760"/>
            <a:ext cx="532908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199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，让同事刮目相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学会了职场技能，也能免费拿本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8268480" y="5533200"/>
            <a:ext cx="227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蒂尔普教授的解剖课》伦勃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869"/>
          <a:stretch/>
        </p:blipFill>
        <p:spPr>
          <a:xfrm>
            <a:off x="-1037880" y="-1473120"/>
            <a:ext cx="14848920" cy="1068876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46274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7018920" y="2581200"/>
            <a:ext cx="383868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其实，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这个不大不小的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还有很多很多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7721280" y="5869440"/>
            <a:ext cx="311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被囚禁的马里尤斯》让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热尔曼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鲁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-52920"/>
            <a:ext cx="12191760" cy="696348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8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5404680" y="3731760"/>
            <a:ext cx="521028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命运，就是如此难以抉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曹将 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or 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嘉文钱？这是个问题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9346680" y="5533200"/>
            <a:ext cx="1734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世纪》米开朗基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869"/>
          <a:stretch/>
        </p:blipFill>
        <p:spPr>
          <a:xfrm>
            <a:off x="-2142720" y="-2616120"/>
            <a:ext cx="14848920" cy="1068876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 rot="10800000">
            <a:off x="-2484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64313"/>
                </a:srgbClr>
              </a:gs>
              <a:gs pos="100000">
                <a:srgbClr val="0d0d0d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2391840" y="2945520"/>
            <a:ext cx="44438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来吧，我们欢迎你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起学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/Word/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职场技能，一起吐槽一起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116440" y="5869440"/>
            <a:ext cx="311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被囚禁的马里尤斯》让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热尔曼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鲁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3495"/>
          <a:stretch/>
        </p:blipFill>
        <p:spPr>
          <a:xfrm>
            <a:off x="0" y="-399960"/>
            <a:ext cx="7162560" cy="837828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70196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6092640" y="2581200"/>
            <a:ext cx="5076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学习就要行动，不能等明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过了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24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点就没优惠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9148680" y="5869440"/>
            <a:ext cx="1668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哭泣的女人》毕加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136"/>
          <a:stretch/>
        </p:blipFill>
        <p:spPr>
          <a:xfrm>
            <a:off x="-1250640" y="-1216440"/>
            <a:ext cx="10056600" cy="959220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39000">
                <a:srgbClr val="0d0d0d">
                  <a:alpha val="70196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180120" y="2581200"/>
            <a:ext cx="47988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老板，对不起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还需要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2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小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9235800" y="5869440"/>
            <a:ext cx="1429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意外归来 》列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13676" b="39255"/>
          <a:stretch/>
        </p:blipFill>
        <p:spPr>
          <a:xfrm>
            <a:off x="-7675200" y="-691560"/>
            <a:ext cx="20277360" cy="932004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823080" y="2862360"/>
            <a:ext cx="34729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199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如果你连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都做不好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分分钟就“挂”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365840" y="0"/>
            <a:ext cx="10047240" cy="82839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61176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823080" y="2862360"/>
            <a:ext cx="34729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199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如果你连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都做不好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分分钟就“挂”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9113760" y="5533200"/>
            <a:ext cx="1618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圣方济教堂壁画 乔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167"/>
          <a:stretch/>
        </p:blipFill>
        <p:spPr>
          <a:xfrm>
            <a:off x="0" y="-3423600"/>
            <a:ext cx="8502120" cy="1029384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27000">
                <a:srgbClr val="0d0d0d"/>
              </a:gs>
              <a:gs pos="100000">
                <a:srgbClr val="0d0d0d">
                  <a:alpha val="61176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7703280" y="2581200"/>
            <a:ext cx="347292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会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，加班加到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shi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祝你“不加班儿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8743680" y="5869440"/>
            <a:ext cx="2354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马拉之死》雅克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路易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15139" t="0" r="5258" b="37074"/>
          <a:stretch/>
        </p:blipFill>
        <p:spPr>
          <a:xfrm>
            <a:off x="-1032480" y="-350280"/>
            <a:ext cx="13223880" cy="7625520"/>
          </a:xfrm>
          <a:prstGeom prst="rect">
            <a:avLst/>
          </a:prstGeom>
          <a:ln w="0">
            <a:noFill/>
          </a:ln>
        </p:spPr>
      </p:pic>
      <p:sp>
        <p:nvSpPr>
          <p:cNvPr id="63" name="矩形 5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76078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6598080" y="2581200"/>
            <a:ext cx="445428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大促又来了，课程好居然还送书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快来和秋叶学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8186400" y="5869440"/>
            <a:ext cx="2686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自由引导人民》 欧仁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拉克罗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-48240" y="-699480"/>
            <a:ext cx="12272760" cy="9204480"/>
          </a:xfrm>
          <a:prstGeom prst="rect">
            <a:avLst/>
          </a:prstGeom>
          <a:ln w="0">
            <a:noFill/>
          </a:ln>
        </p:spPr>
      </p:pic>
      <p:sp>
        <p:nvSpPr>
          <p:cNvPr id="67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1895760" y="1566360"/>
            <a:ext cx="60087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学好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，不做单身狗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汪汪汪！双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大促，跟秋叶学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居然还送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10791000" y="5533200"/>
            <a:ext cx="508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你一生要知道的74幅世界名画，每一幅都凝结了大师们的心血">
            <a:hlinkClick r:id="rId1"/>
          </p:cNvPr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991"/>
          <a:stretch/>
        </p:blipFill>
        <p:spPr>
          <a:xfrm>
            <a:off x="4026960" y="-38160"/>
            <a:ext cx="9421920" cy="6895800"/>
          </a:xfrm>
          <a:prstGeom prst="rect">
            <a:avLst/>
          </a:prstGeom>
          <a:ln w="0">
            <a:noFill/>
          </a:ln>
        </p:spPr>
      </p:pic>
      <p:sp>
        <p:nvSpPr>
          <p:cNvPr id="71" name="矩形 3"/>
          <p:cNvSpPr/>
          <p:nvPr/>
        </p:nvSpPr>
        <p:spPr>
          <a:xfrm rot="10800000">
            <a:off x="-2484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64313"/>
                </a:srgbClr>
              </a:gs>
              <a:gs pos="100000">
                <a:srgbClr val="0d0d0d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1718280" y="2581200"/>
            <a:ext cx="463716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群殴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欢迎你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美美的柒柒女神，虐的你不能自理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1932120" y="5869440"/>
            <a:ext cx="182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无名女郎》克拉姆斯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6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8242"/>
          <a:stretch/>
        </p:blipFill>
        <p:spPr>
          <a:xfrm>
            <a:off x="-29160" y="-1083240"/>
            <a:ext cx="12250080" cy="8280000"/>
          </a:xfrm>
          <a:prstGeom prst="rect">
            <a:avLst/>
          </a:prstGeom>
          <a:ln w="0">
            <a:noFill/>
          </a:ln>
        </p:spPr>
      </p:pic>
      <p:sp>
        <p:nvSpPr>
          <p:cNvPr id="75" name="矩形 7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340600" y="3731760"/>
            <a:ext cx="626940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再给我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69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，学学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讲得辣么好，居然还送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9117000" y="5533200"/>
            <a:ext cx="1668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女占卜师》卡拉瓦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  <Words>296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06:33:53Z</dcterms:created>
  <dc:creator>刘哲涛</dc:creator>
  <dc:description/>
  <dc:language>en-US</dc:language>
  <cp:lastModifiedBy>王玉清</cp:lastModifiedBy>
  <dcterms:modified xsi:type="dcterms:W3CDTF">2016-02-23T02:27:20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宽屏</vt:lpwstr>
  </property>
  <property fmtid="{D5CDD505-2E9C-101B-9397-08002B2CF9AE}" pid="4" name="Slides">
    <vt:r8>14</vt:r8>
  </property>
</Properties>
</file>