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23E-07F8-47E8-8ACE-32963C0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F88-36FD-44F3-B590-7707D891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432-5125-41B9-AFEC-4098C9BD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DF2-7CA4-4484-97C5-2BF4C4A5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FCE-F91E-4F66-B4B5-5CF2F3F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A3C-A2FA-4126-A0A7-D5D80E7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23E-F6B7-4DA5-B5AF-8BD86C8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8BE-F81F-4649-9549-A47ABFB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15E-D081-4296-8ADB-6484026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A6B-0AAA-43F7-BAC4-9A10B99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D7C-9C4F-480D-A69D-59A39B2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8A6-77D7-47CF-876A-E1D2AD2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29F0CC-A9C0-435C-8A2D-FE72F1D7D9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1594" t="31424" r="957" b="12463"/>
          <a:stretch/>
        </p:blipFill>
        <p:spPr>
          <a:xfrm>
            <a:off x="0" y="0"/>
            <a:ext cx="1219176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0" y="2786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上最美的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事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rcRect l="0" t="8068" r="0" b="759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觉醒来发现还可以睡上几小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" descr=""/>
          <p:cNvPicPr/>
          <p:nvPr/>
        </p:nvPicPr>
        <p:blipFill>
          <a:blip r:embed="rId1"/>
          <a:srcRect l="990" t="2516" r="999" b="38381"/>
          <a:stretch/>
        </p:blipFill>
        <p:spPr>
          <a:xfrm>
            <a:off x="-24840" y="-24840"/>
            <a:ext cx="12405960" cy="696888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冬天里暖和的被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rcRect l="825" t="4969" r="662" b="3971"/>
          <a:stretch/>
        </p:blipFill>
        <p:spPr>
          <a:xfrm>
            <a:off x="0" y="0"/>
            <a:ext cx="12191760" cy="698472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1799" t="12437" r="990" b="14715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日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650" t="13789" r="687" b="48677"/>
          <a:stretch/>
        </p:blipFill>
        <p:spPr>
          <a:xfrm>
            <a:off x="0" y="-50760"/>
            <a:ext cx="12191760" cy="693324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很在乎的那个人牵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1088" t="2718" r="1611" b="13924"/>
          <a:stretch/>
        </p:blipFill>
        <p:spPr>
          <a:xfrm>
            <a:off x="0" y="-101520"/>
            <a:ext cx="12191760" cy="700992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躺在床上听屋外的雨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rcRect l="0" t="2933" r="0" b="13220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看到那个人心里七上八下的感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602000" y="322560"/>
            <a:ext cx="9248040" cy="653508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夜不眠与室友聊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15585"/>
          <a:stretch/>
        </p:blipFill>
        <p:spPr>
          <a:xfrm>
            <a:off x="0" y="0"/>
            <a:ext cx="12191760" cy="686628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信任的眼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8800" y="6280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rcRect l="0" t="0" r="0" b="9477"/>
          <a:stretch/>
        </p:blipFill>
        <p:spPr>
          <a:xfrm>
            <a:off x="0" y="0"/>
            <a:ext cx="12191760" cy="688932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0" y="5387040"/>
            <a:ext cx="12191760" cy="131148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觉的时候，太阳照在身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9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16:14:59Z</dcterms:created>
  <dc:creator>admin</dc:creator>
  <dc:description/>
  <dc:language>en-US</dc:language>
  <cp:lastModifiedBy>王玉清</cp:lastModifiedBy>
  <dcterms:modified xsi:type="dcterms:W3CDTF">2016-02-23T03:42:35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