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E8C-4347-40CA-A7F3-EC4AF779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069-3CFC-4789-B922-CB48733A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69B-67EB-4E4F-9202-6E0E2DE2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029-A96E-41F2-8AE9-6E5E5E63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05C-5B76-4742-A25A-09CF9FE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28A-B11D-48C5-932C-E402BC89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178-EEED-4D5D-9477-321FAC57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D9A-DBAD-47B5-B87C-A51C43F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751-EAA5-44AE-BD22-196D275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111-3165-4F85-A099-5DAEBBB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C44-EEA0-40DE-BEB6-13A021C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FBD-6196-4AB2-8D6F-B172BCF5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8E49-FE9E-45D6-8A50-8C31AE40FB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03640" y="1571760"/>
            <a:ext cx="63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箭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86240" y="235728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355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854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854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26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211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436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068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855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a</cp:lastModifiedBy>
  <dcterms:modified xsi:type="dcterms:W3CDTF">2015-07-25T02:46:21Z</dcterms:modified>
  <cp:revision>69</cp:revision>
  <dc:subject/>
  <dc:title>www.pptbz.com</dc:title>
</cp:coreProperties>
</file>